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31.jpeg" ContentType="image/jpeg"/>
  <Override PartName="/ppt/media/image24.png" ContentType="image/png"/>
  <Override PartName="/ppt/media/image1.png" ContentType="image/png"/>
  <Override PartName="/ppt/media/image2.wmf" ContentType="image/x-wmf"/>
  <Override PartName="/ppt/media/image29.png" ContentType="image/png"/>
  <Override PartName="/ppt/media/image27.png" ContentType="image/png"/>
  <Override PartName="/ppt/media/image30.wmf" ContentType="image/x-wmf"/>
  <Override PartName="/ppt/media/image13.png" ContentType="image/png"/>
  <Override PartName="/ppt/media/image41.png" ContentType="image/png"/>
  <Override PartName="/ppt/media/image10.gif" ContentType="image/gif"/>
  <Override PartName="/ppt/media/image47.gif" ContentType="image/gif"/>
  <Override PartName="/ppt/media/image36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8.png" ContentType="image/png"/>
  <Override PartName="/ppt/media/image48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396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65320" y="684000"/>
            <a:ext cx="4665600" cy="34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30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396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6243-0EBE-458F-9D75-13DFC6118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8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5600" cy="3498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30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009800" y="695160"/>
          <a:ext cx="4663800" cy="348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695160"/>
                    <a:ext cx="4663800" cy="34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1476360" y="4562640"/>
            <a:ext cx="4275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TG number that is currently sending and receiving FAFSA and ISIR correction data for your destination point. Click on Nex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Identifier Information for the DPA who is assigned to the TG number that transmits FAFSA and ISIR correction data for your school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“Add a new FAA User” from the menu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BA4-FD6C-4C83-A3C4-61DF0093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439812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925-5A82-456C-B8BA-0419BAC4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88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094-3D22-43C9-ACFD-C299EB45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84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620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84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620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6AA-F061-4FE5-B84E-7CF3F36F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8C8-EEB5-4FB5-824A-15CA889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88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439812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88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84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6200" y="220968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84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6200" y="4398120"/>
            <a:ext cx="25030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F02-263E-429C-8C26-91A5C54D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5C4-DD79-4EDC-9C7D-74ADE5C0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928-9B0D-40C7-89EC-46CE1BE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A07-C3C1-49FF-9C5C-369953E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69F-EC05-4024-8C15-5F3BB11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880" y="439812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2BD-BD01-49DA-9393-B155CB3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880" y="2209680"/>
            <a:ext cx="379368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398120"/>
            <a:ext cx="7774200" cy="19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007-5C58-40CF-AD96-D04867B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3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3080" y="76320"/>
          <a:ext cx="1376280" cy="7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0" y="76320"/>
                    <a:ext cx="13762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8640" y="63993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39936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8AE-AC22-415E-87B0-461E0645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3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3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4560" y="4648320"/>
            <a:ext cx="472572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1600" y="533520"/>
          <a:ext cx="2520720" cy="13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1600" y="533520"/>
                    <a:ext cx="25207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24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24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8912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A Access to CPS Online and the ISIR Data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61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1641600"/>
          <a:ext cx="845820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41600"/>
                    <a:ext cx="845820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7315200" y="990720"/>
            <a:ext cx="1447920" cy="1143000"/>
          </a:xfrm>
          <a:prstGeom prst="wedgeRectCallout">
            <a:avLst>
              <a:gd name="adj1" fmla="val -68421"/>
              <a:gd name="adj2" fmla="val 7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t schedule of maintenance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0666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838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AA Access Home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975600">
            <a:off x="6171840" y="1828800"/>
            <a:ext cx="5446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3300"/>
                </a:solidFill>
                <a:latin typeface="Arial Narrow"/>
              </a:rPr>
              <a:t>New</a:t>
            </a:r>
            <a:endParaRPr b="0" lang="en-US" sz="1600" spc="1" strike="noStrike">
              <a:ln w="9360">
                <a:solidFill>
                  <a:srgbClr val="cc0000"/>
                </a:solidFill>
                <a:miter/>
              </a:ln>
              <a:solidFill>
                <a:srgbClr val="ff3300"/>
              </a:solidFill>
              <a:latin typeface="Arial Narrow"/>
              <a:ea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E1F-FEEA-4D65-AAE6-86B95F4F61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Login Scree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447920"/>
          <a:ext cx="83059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059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92D-0775-429D-8566-156F2EE2DD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Login Scree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633680"/>
          <a:ext cx="7925040" cy="52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3680"/>
                    <a:ext cx="792504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2120" y="2895480"/>
            <a:ext cx="457200" cy="3962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429000"/>
            <a:ext cx="914400" cy="1219320"/>
          </a:xfrm>
          <a:prstGeom prst="wedgeRectCallout">
            <a:avLst>
              <a:gd name="adj1" fmla="val 37500"/>
              <a:gd name="adj2" fmla="val 61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A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nu from which to cho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095880"/>
            <a:ext cx="304560" cy="228600"/>
          </a:xfrm>
          <a:prstGeom prst="star5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6629400"/>
            <a:ext cx="228600" cy="228600"/>
          </a:xfrm>
          <a:prstGeom prst="star5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297-FCF2-4AAB-8741-4910786031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Login Scree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4920" y="1523880"/>
          <a:ext cx="8153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153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257800" y="2895480"/>
            <a:ext cx="2209680" cy="304920"/>
          </a:xfrm>
          <a:prstGeom prst="wedgeRectCallout">
            <a:avLst>
              <a:gd name="adj1" fmla="val 58189"/>
              <a:gd name="adj2" fmla="val 3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r Destination C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352680"/>
            <a:ext cx="2361960" cy="304920"/>
          </a:xfrm>
          <a:prstGeom prst="wedgeRectCallout">
            <a:avLst>
              <a:gd name="adj1" fmla="val 60888"/>
              <a:gd name="adj2" fmla="val -114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r Federal School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889-5241-422C-9871-DBCBE5A2E9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Enhanc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77742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 help search feature similar to the one available in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Idle Session Message when session is idle for 2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8609040" cy="1604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713720" y="3200400"/>
            <a:ext cx="112536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772400" y="1600200"/>
            <a:ext cx="990720" cy="800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2895480" y="6172200"/>
            <a:ext cx="60984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81F-8C50-4D77-857C-38C9654078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Enhanc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required to enter the TG when entering the TG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" y="3505320"/>
            <a:ext cx="8077320" cy="2589120"/>
            <a:chOff x="228600" y="3505320"/>
            <a:chExt cx="8077320" cy="2589120"/>
          </a:xfrm>
        </p:grpSpPr>
        <p:graphicFrame>
          <p:nvGraphicFramePr>
            <p:cNvPr id="156" name=""/>
            <p:cNvGraphicFramePr/>
            <p:nvPr/>
          </p:nvGraphicFramePr>
          <p:xfrm>
            <a:off x="5257800" y="3505320"/>
            <a:ext cx="3048120" cy="25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505320"/>
                      <a:ext cx="3048120" cy="25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228600" y="3657600"/>
            <a:ext cx="6095880" cy="24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3657600"/>
                      <a:ext cx="6095880" cy="24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0" name=""/>
          <p:cNvSpPr/>
          <p:nvPr/>
        </p:nvSpPr>
        <p:spPr>
          <a:xfrm>
            <a:off x="6478560" y="3505320"/>
            <a:ext cx="2436840" cy="763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7315200" y="914400"/>
            <a:ext cx="120024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86A-1747-473D-9E06-29BEFFB648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5080" y="2742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Application and Correction Entry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C74-46B8-424A-8531-0E8A00809A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treamlined Entry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884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data from EDExpress       pre-filled into initial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the Ste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Step 1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 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Step 2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 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Step 3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 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Step 4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 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5" action="ppaction://hlinksldjump"/>
              </a:rPr>
              <a:t>Step 5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6" action="ppaction://hlinksldjump"/>
              </a:rPr>
              <a:t> Step 6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7" action="ppaction://hlinksldjump"/>
              </a:rPr>
              <a:t> Step 7</a:t>
            </a:r>
            <a:r>
              <a:rPr b="0" lang="en-US" sz="2100" spc="-1" strike="noStrike" u="sng">
                <a:solidFill>
                  <a:srgbClr val="cc0000"/>
                </a:solidFill>
                <a:uFillTx/>
                <a:latin typeface="Arial"/>
              </a:rPr>
              <a:t> | </a:t>
            </a:r>
            <a:r>
              <a:rPr b="0" lang="en-US" sz="2100" spc="-1" strike="noStrike" u="sng">
                <a:solidFill>
                  <a:srgbClr val="003399"/>
                </a:solidFill>
                <a:uFillTx/>
                <a:latin typeface="Arial"/>
                <a:hlinkClick r:id="rId8" action="ppaction://hlinksldjump"/>
              </a:rPr>
              <a:t>Bott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935-A025-4898-9F7C-36087F896BD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treamlined Entry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7742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he Student and Parent Taxes Paid Calculation buttons to the bottom of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3809880"/>
          <a:ext cx="857556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9880"/>
                    <a:ext cx="857556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048120" y="4648320"/>
            <a:ext cx="480060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C48-F331-4A39-9AFD-1B5AB5C2C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arified Inpu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field labels updated to indicate entry forma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DD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-coded an “A” in front of the ARN field to make it clearer that only the numbers should be entered in this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C43-EA68-4D2C-90A4-E96B4D51D6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FAA Access to CPS On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on Student Aid Internet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Access Functions and Updates for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8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nd Correction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8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8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8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8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BB8-2023-4EF0-B488-8A0C333BF0BE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arified Inpu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840" y="2065320"/>
          <a:ext cx="9110520" cy="39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065320"/>
                    <a:ext cx="911052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676520" y="2133720"/>
            <a:ext cx="1143000" cy="455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486400"/>
            <a:ext cx="11415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494240"/>
            <a:ext cx="1371600" cy="6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3886200"/>
            <a:ext cx="1676520" cy="38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1447920"/>
            <a:ext cx="990360" cy="685800"/>
          </a:xfrm>
          <a:prstGeom prst="wedgeRectCallout">
            <a:avLst>
              <a:gd name="adj1" fmla="val -41828"/>
              <a:gd name="adj2" fmla="val 69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886200"/>
            <a:ext cx="838080" cy="531720"/>
          </a:xfrm>
          <a:prstGeom prst="wedgeRectCallout">
            <a:avLst>
              <a:gd name="adj1" fmla="val -42615"/>
              <a:gd name="adj2" fmla="val 872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106960"/>
            <a:ext cx="838080" cy="453960"/>
          </a:xfrm>
          <a:prstGeom prst="wedgeRectCallout">
            <a:avLst>
              <a:gd name="adj1" fmla="val -59467"/>
              <a:gd name="adj2" fmla="val 87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FC8-B76D-49C5-9853-D1619D8A74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ponse Updat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link to the interactive Drug Worksheet next to the Dru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ields with a selectable list of responses are now prefaced with the numeric equivalent of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he choices for Questions 33 and 71 (Type of Tax Return Filed) from 12 to 4 to match the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filled answer to Question #48, based on D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E8D-C200-4C6C-B50D-4F6672BF39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98400" y="1438200"/>
          <a:ext cx="789804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438200"/>
                    <a:ext cx="789804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ponse Updat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6249960"/>
            <a:ext cx="1751040" cy="37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058840"/>
            <a:ext cx="3886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297080"/>
            <a:ext cx="2590920" cy="453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2058840"/>
            <a:ext cx="1370160" cy="684360"/>
          </a:xfrm>
          <a:prstGeom prst="wedgeRectCallout">
            <a:avLst>
              <a:gd name="adj1" fmla="val 73958"/>
              <a:gd name="adj2" fmla="val 620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faced with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762120"/>
            <a:ext cx="1754280" cy="533160"/>
          </a:xfrm>
          <a:prstGeom prst="wedgeRectCallout">
            <a:avLst>
              <a:gd name="adj1" fmla="val -52625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to interactive drug work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1600200"/>
            <a:ext cx="1371600" cy="685800"/>
          </a:xfrm>
          <a:prstGeom prst="wedgeRectCallout">
            <a:avLst>
              <a:gd name="adj1" fmla="val -93402"/>
              <a:gd name="adj2" fmla="val 1064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d choices to match FA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5715000"/>
            <a:ext cx="1447920" cy="534960"/>
          </a:xfrm>
          <a:prstGeom prst="wedgeRectCallout">
            <a:avLst>
              <a:gd name="adj1" fmla="val 77194"/>
              <a:gd name="adj2" fmla="val 794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-fill based on D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E3E-15A4-4B04-B2A2-243D7CDADE2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5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av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8640" y="2133360"/>
            <a:ext cx="830448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ave message replaces Save Successfu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3736800"/>
          <a:ext cx="835812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736800"/>
                    <a:ext cx="835812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981080" y="3962520"/>
            <a:ext cx="34290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3048120"/>
            <a:ext cx="2286000" cy="685800"/>
          </a:xfrm>
          <a:prstGeom prst="wedgeRoundRectCallout">
            <a:avLst>
              <a:gd name="adj1" fmla="val -43518"/>
              <a:gd name="adj2" fmla="val 7222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pplication was successfully sa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608-825F-4C68-AEF6-898F56B4999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3 and 12 (taxes paid is greater than or equal to AGI) can only be overridden by an F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le rejects have new button labels to provide better guidan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 chang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 chang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BC3-839F-4B05-A97E-F1832920458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1765440"/>
          <a:ext cx="762012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5440"/>
                    <a:ext cx="762012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781680" y="3124080"/>
            <a:ext cx="1447920" cy="214560"/>
          </a:xfrm>
          <a:prstGeom prst="rect">
            <a:avLst/>
          </a:pr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3657600"/>
            <a:ext cx="1295280" cy="914400"/>
          </a:xfrm>
          <a:prstGeom prst="wedgeRoundRectCallout">
            <a:avLst>
              <a:gd name="adj1" fmla="val -18750"/>
              <a:gd name="adj2" fmla="val -94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ly a last name was giv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609480"/>
            <a:ext cx="2209680" cy="1295640"/>
          </a:xfrm>
          <a:prstGeom prst="cloudCallout">
            <a:avLst>
              <a:gd name="adj1" fmla="val -62930"/>
              <a:gd name="adj2" fmla="val 632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rror message appears indicating what is w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876920"/>
            <a:ext cx="1600200" cy="1218960"/>
          </a:xfrm>
          <a:prstGeom prst="wedgeRoundRectCallout">
            <a:avLst>
              <a:gd name="adj1" fmla="val 35120"/>
              <a:gd name="adj2" fmla="val 638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pportunity to say Answer is correct or change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C69-D6E8-4662-89B8-7A124085CB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rrection Entry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better instructions at top of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column to display the values for the transaction being corrected with Transaction Number showing in colum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ird column in which to make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column now us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to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9AE-73F1-4421-92ED-381D0D7A745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37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rrection Entry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447920"/>
          <a:ext cx="876312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7631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3505320"/>
            <a:ext cx="2440080" cy="609480"/>
          </a:xfrm>
          <a:prstGeom prst="wedgeRoundRectCallout">
            <a:avLst>
              <a:gd name="adj1" fmla="val -89949"/>
              <a:gd name="adj2" fmla="val 17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ed separate column for making cor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4114800"/>
            <a:ext cx="2590920" cy="303120"/>
          </a:xfrm>
          <a:prstGeom prst="wedgeRoundRectCallout">
            <a:avLst>
              <a:gd name="adj1" fmla="val 3245"/>
              <a:gd name="adj2" fmla="val 164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action #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8600"/>
            <a:ext cx="2590920" cy="1830240"/>
          </a:xfrm>
          <a:prstGeom prst="cloudCallout">
            <a:avLst>
              <a:gd name="adj1" fmla="val -48898"/>
              <a:gd name="adj2" fmla="val 7786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Provide instructions on how to use this correction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058840"/>
            <a:ext cx="306360" cy="243540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5400"/>
              <a:gd name="textAreaBottom" fmla="*/ 2372040 h 243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136"/>
                </a:lnTo>
                <a:cubicBezTo>
                  <a:pt x="10800" y="4036"/>
                  <a:pt x="5400" y="4936"/>
                  <a:pt x="0" y="4936"/>
                </a:cubicBezTo>
                <a:cubicBezTo>
                  <a:pt x="5400" y="4936"/>
                  <a:pt x="10800" y="5836"/>
                  <a:pt x="10800" y="67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4114800"/>
            <a:ext cx="2209680" cy="304920"/>
          </a:xfrm>
          <a:prstGeom prst="wedgeRoundRectCallout">
            <a:avLst>
              <a:gd name="adj1" fmla="val 1435"/>
              <a:gd name="adj2" fmla="val 80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r this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BD4-6011-4922-8DC2-F1F751B433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List Chang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page that lists only the fields that were changed or confi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ed by selecting the List Changes but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2200" y="3736800"/>
          <a:ext cx="8575560" cy="20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3736800"/>
                    <a:ext cx="8575560" cy="20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4494240"/>
            <a:ext cx="2438640" cy="6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AFB-14B2-4248-A4B0-D5FAC8BBCF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List Chang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365120"/>
          <a:ext cx="8382240" cy="538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65120"/>
                    <a:ext cx="8382240" cy="53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1676520"/>
            <a:ext cx="525780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90880" y="1173240"/>
            <a:ext cx="657000" cy="473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0DF-2856-4496-B553-E453302B98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is FAA Access to CPS Online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system which allows FAAs to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Inqui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/Correction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2T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D06496_" descr=""/>
          <p:cNvPicPr/>
          <p:nvPr/>
        </p:nvPicPr>
        <p:blipFill>
          <a:blip r:embed="rId1"/>
          <a:stretch/>
        </p:blipFill>
        <p:spPr>
          <a:xfrm>
            <a:off x="7162920" y="533520"/>
            <a:ext cx="1560240" cy="16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FEA-9B67-41C5-B4C7-F3826A36AB67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rrecting School Codes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values for School Codes and Housing Plans are pre-filled in the Enter Correct Valu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corre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ess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filled to prevent con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nger required to provide Housing Plans that are blank for colleges other tha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337-ACDE-410B-871D-EDDF2DC54F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rrecting School Cod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8120" y="1679400"/>
          <a:ext cx="8885520" cy="471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679400"/>
                    <a:ext cx="8885520" cy="47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792760" y="1981080"/>
            <a:ext cx="2054160" cy="3810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762120"/>
            <a:ext cx="1981080" cy="761760"/>
          </a:xfrm>
          <a:prstGeom prst="wedgeRoundRectCallout">
            <a:avLst>
              <a:gd name="adj1" fmla="val -146472"/>
              <a:gd name="adj2" fmla="val 11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though pre-filled, instructed to enter Correc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A7F-0895-4DF6-93F5-984809C6A73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implified Submission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the separate certification page that displayed after selecting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dded a Submit button to the Run Final Check Succes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324480" y="4495680"/>
          <a:ext cx="129564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495680"/>
                    <a:ext cx="12956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A17-531A-403B-8999-A0FE9D96E33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5080" y="2742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Verification Tool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62F-CF11-4C5F-B867-70230C14154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erification To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ed from Verification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 Calculate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 Differenc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messages when a correction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w link into Correction Entry to submit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34C-0257-4974-B10B-B7ECFA685D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752480" y="380880"/>
            <a:ext cx="6781680" cy="6476400"/>
            <a:chOff x="1752480" y="380880"/>
            <a:chExt cx="6781680" cy="6476400"/>
          </a:xfrm>
        </p:grpSpPr>
        <p:graphicFrame>
          <p:nvGraphicFramePr>
            <p:cNvPr id="244" name=""/>
            <p:cNvGraphicFramePr/>
            <p:nvPr/>
          </p:nvGraphicFramePr>
          <p:xfrm>
            <a:off x="1752480" y="380880"/>
            <a:ext cx="6781680" cy="446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80880"/>
                      <a:ext cx="6781680" cy="44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1752480" y="4825800"/>
            <a:ext cx="6781680" cy="203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825800"/>
                      <a:ext cx="6781680" cy="203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8" name=""/>
          <p:cNvSpPr/>
          <p:nvPr/>
        </p:nvSpPr>
        <p:spPr>
          <a:xfrm>
            <a:off x="7391520" y="1600200"/>
            <a:ext cx="1371600" cy="45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5334120"/>
            <a:ext cx="3430800" cy="1065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655308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6173640"/>
            <a:ext cx="1067040" cy="37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04920"/>
            <a:ext cx="1525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0"/>
            <a:ext cx="1220760" cy="304920"/>
          </a:xfrm>
          <a:prstGeom prst="wedgeRectCallout">
            <a:avLst>
              <a:gd name="adj1" fmla="val -56509"/>
              <a:gd name="adj2" fmla="val 104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914400"/>
            <a:ext cx="1600200" cy="609480"/>
          </a:xfrm>
          <a:prstGeom prst="wedgeRoundRectCallout">
            <a:avLst>
              <a:gd name="adj1" fmla="val 38194"/>
              <a:gd name="adj2" fmla="val 8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ces Column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5334120"/>
            <a:ext cx="1066680" cy="839520"/>
          </a:xfrm>
          <a:prstGeom prst="wedgeRoundRectCallout">
            <a:avLst>
              <a:gd name="adj1" fmla="val -30356"/>
              <a:gd name="adj2" fmla="val 62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Calculate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494240"/>
            <a:ext cx="1523880" cy="612720"/>
          </a:xfrm>
          <a:prstGeom prst="wedgeRoundRectCallout">
            <a:avLst>
              <a:gd name="adj1" fmla="val 72916"/>
              <a:gd name="adj2" fmla="val 124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rections on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14D-B6BD-4129-9B07-405F8FA1D9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65080" y="2742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tudent Inquiry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C62-8814-4ED3-AB61-ADA785EE797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tudent Inquiry Updat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the Print Summary option to follow the FAA Informatio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comment text displays instead of SAR comment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427640" y="2065320"/>
          <a:ext cx="44798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065320"/>
                    <a:ext cx="44798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09880" y="5106960"/>
            <a:ext cx="3429000" cy="1370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E82-32F0-49EE-A000-7D2C13690D5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AA Signatur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plication Status Check within student Inquiry to allow FAAs to submit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ignature Status indicates that student and/or parent signatures is missing from a transaction, the FAA can access a pag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 a Signature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524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mit a signature flag for the student and/or par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s on Signature Status for 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914-3FF9-483D-9EED-A10126E7D97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AA Signatur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14400" y="1301760"/>
          <a:ext cx="731520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01760"/>
                    <a:ext cx="731520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334120" y="457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Links to Application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2743200"/>
            <a:ext cx="221004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752480"/>
            <a:ext cx="1371600" cy="1295640"/>
          </a:xfrm>
          <a:prstGeom prst="wedgeEllipseCallout">
            <a:avLst>
              <a:gd name="adj1" fmla="val 71064"/>
              <a:gd name="adj2" fmla="val 366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lls you if signature is mi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D51-E9EB-4A1C-9148-7338D494040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nrollment 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tudent Aid Internet Gateway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21E-DF80-4821-845A-705244E68BF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9448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AA Signatures</a:t>
            </a:r>
            <a:br>
              <a:rPr sz="3200"/>
            </a:br>
            <a:r>
              <a:rPr b="0" lang="en-US" sz="2100" spc="-1" strike="noStrike">
                <a:solidFill>
                  <a:srgbClr val="003366"/>
                </a:solidFill>
                <a:latin typeface="Arial Black"/>
              </a:rPr>
              <a:t>(Option to view/print Signature Page/select Signature Flag)</a:t>
            </a:r>
            <a:endParaRPr b="0" lang="en-US" sz="21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2286000"/>
          <a:ext cx="853416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53416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7772400" y="2971800"/>
            <a:ext cx="1371600" cy="1143000"/>
          </a:xfrm>
          <a:prstGeom prst="wedgeRoundRectCallout">
            <a:avLst>
              <a:gd name="adj1" fmla="val -43518"/>
              <a:gd name="adj2" fmla="val 8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port signature to CPS, select correct 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2514600"/>
            <a:ext cx="1752480" cy="762120"/>
          </a:xfrm>
          <a:prstGeom prst="wedgeRoundRectCallout">
            <a:avLst>
              <a:gd name="adj1" fmla="val -43518"/>
              <a:gd name="adj2" fmla="val 67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collect a signature, print Signatur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6095880"/>
            <a:ext cx="1752840" cy="304920"/>
          </a:xfrm>
          <a:prstGeom prst="wedgeRoundRectCallout">
            <a:avLst>
              <a:gd name="adj1" fmla="val 59874"/>
              <a:gd name="adj2" fmla="val -8385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n, 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045960" y="3050640"/>
            <a:ext cx="1524960" cy="299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074200" y="4185360"/>
            <a:ext cx="443520" cy="7732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962-36A8-4C26-AAE1-DBFB9BF4422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FAA Signatures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printable Signature page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905120" y="1395360"/>
          <a:ext cx="5562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95360"/>
                    <a:ext cx="5562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724280" y="6553080"/>
            <a:ext cx="2514600" cy="304920"/>
          </a:xfrm>
          <a:prstGeom prst="wedgeRectCallout">
            <a:avLst>
              <a:gd name="adj1" fmla="val -60416"/>
              <a:gd name="adj2" fmla="val 26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st keep on file at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6019920"/>
            <a:ext cx="52578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FA3-03D4-44DF-9D3E-9F8FE47B9D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07080" y="3108240"/>
            <a:ext cx="312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omp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472-0A3D-46CD-A5DC-2328649A42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ompar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Student Inquiry that allows the FAA to view and compare two transactions for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a Difference column that can be used to sort all differences to the top of the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vailable into Student Inquiry for the individual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057400" cy="15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E03-C921-4CC2-B201-7E140C79AB1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Transactions Page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1501920"/>
            <a:ext cx="6858000" cy="5356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95280" y="457200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95288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24080"/>
            <a:ext cx="1066680" cy="1600200"/>
          </a:xfrm>
          <a:prstGeom prst="wedgeRectCallout">
            <a:avLst>
              <a:gd name="adj1" fmla="val 66962"/>
              <a:gd name="adj2" fmla="val 4900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ut a check in the box of the ISIRs you wish to comp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C43-750B-4F06-9AA7-D2F81CE9E5C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Top of Compare Page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2600" y="1911240"/>
          <a:ext cx="9117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911240"/>
                    <a:ext cx="9117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3505320" y="4268880"/>
            <a:ext cx="1904760" cy="4554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4268880"/>
            <a:ext cx="1677960" cy="4554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804-C168-4AEB-9646-AD98A7DDF82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120" y="2209680"/>
            <a:ext cx="7774200" cy="4189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952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Bottom of Compare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04920" y="1419120"/>
          <a:ext cx="8610480" cy="543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19120"/>
                    <a:ext cx="86104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8153280" y="2362320"/>
            <a:ext cx="533520" cy="304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3124080"/>
            <a:ext cx="533520" cy="304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59A-044D-4E71-A126-E5BE53D565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Sorted by Differences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1482840"/>
          <a:ext cx="8534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82840"/>
                    <a:ext cx="8534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772400" y="3124080"/>
            <a:ext cx="106668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286000"/>
            <a:ext cx="1447920" cy="762120"/>
          </a:xfrm>
          <a:prstGeom prst="wedgeRoundRectCallout">
            <a:avLst>
              <a:gd name="adj1" fmla="val -20064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ed by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2971800"/>
            <a:ext cx="1828800" cy="304920"/>
          </a:xfrm>
          <a:prstGeom prst="wedgeRectCallout">
            <a:avLst>
              <a:gd name="adj1" fmla="val -66925"/>
              <a:gd name="adj2" fmla="val 85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 by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48E-5D9E-47FE-A3A2-966A61B90B0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665080" y="2742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</a:rPr>
              <a:t>ISIR Request</a:t>
            </a:r>
            <a:endParaRPr b="0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3EA-3A23-432D-B9C6-59282BD93DD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can request ISIRs from CPS using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s have option to continue receiving all ISIRs automatically or receiving only the ISIRs they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quest used for Duplicate, Year to Date and Federal Data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j0082303%5B1%5D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397160" cy="18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EA7-6305-4349-84F3-1444B12CA45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nrolling New FAA Us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A at the school sets up all FAA Users on the Student Aid Internet Gateway Enrollment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A provides their own st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s “Add new FAA Us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up FA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uplicate DP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ustomize access by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F7C-7CD5-46FD-ABBD-CD0C02DC8696}" type="slidenum">
              <a:t>5</a:t>
            </a:fld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Request Enrollmen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IR delivery method option provided under the CPS Serv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is automatic daily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PA may change option at any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 who select automatic daily receipt can also request ISIRs at any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819520" y="1523880"/>
            <a:ext cx="6324480" cy="5029200"/>
            <a:chOff x="2819520" y="1523880"/>
            <a:chExt cx="6324480" cy="5029200"/>
          </a:xfrm>
        </p:grpSpPr>
        <p:graphicFrame>
          <p:nvGraphicFramePr>
            <p:cNvPr id="319" name=""/>
            <p:cNvGraphicFramePr/>
            <p:nvPr/>
          </p:nvGraphicFramePr>
          <p:xfrm>
            <a:off x="2819520" y="5410080"/>
            <a:ext cx="632448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5410080"/>
                      <a:ext cx="632448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"/>
            <p:cNvGraphicFramePr/>
            <p:nvPr/>
          </p:nvGraphicFramePr>
          <p:xfrm>
            <a:off x="2819520" y="1523880"/>
            <a:ext cx="6324480" cy="395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1523880"/>
                      <a:ext cx="632448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3" name=""/>
          <p:cNvSpPr/>
          <p:nvPr/>
        </p:nvSpPr>
        <p:spPr>
          <a:xfrm>
            <a:off x="7238880" y="6095880"/>
            <a:ext cx="190512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2E2-F72B-439D-9BED-7EC6847997D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Request Enhanc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enter multiple requests eac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Title field to each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is included in the first record of the ISIR file resulting from th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 option to allow destinations to request the ISIRs resulting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mitted by their school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33A-3C08-4D5D-AA71-31ACFC1818A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in Menu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2973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ons available on ISIR Request me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/Edi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049560" y="2631960"/>
          <a:ext cx="609444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560" y="2631960"/>
                    <a:ext cx="60944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478560" y="4876920"/>
            <a:ext cx="2665440" cy="76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3124080"/>
            <a:ext cx="25146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911-E0E4-427F-A4F1-D8709602385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381024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724280" y="2209680"/>
            <a:ext cx="381024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process date, receipt date, or dat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ion Criteri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 rot="975600">
            <a:off x="306000" y="5714640"/>
            <a:ext cx="531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cc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61C-1708-4C79-901A-1E9C079323B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81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ion Criteri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74720" y="1608120"/>
          <a:ext cx="7442280" cy="50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608120"/>
                    <a:ext cx="74422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80880" y="3430440"/>
            <a:ext cx="2362320" cy="379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781320" y="2819520"/>
            <a:ext cx="762120" cy="610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AFC-574E-41AB-B3DB-0F2CE3F2C45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ion Criteri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01880" y="1554120"/>
          <a:ext cx="7138800" cy="529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554120"/>
                    <a:ext cx="71388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838080" y="2971800"/>
            <a:ext cx="4116600" cy="609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FD6-37C7-4543-A446-703A003C4BF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SN Fi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12720" y="1523880"/>
          <a:ext cx="853128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523880"/>
                    <a:ext cx="853128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095880" y="2286000"/>
            <a:ext cx="1828800" cy="1143000"/>
          </a:xfrm>
          <a:prstGeom prst="wedgeRectCallout">
            <a:avLst>
              <a:gd name="adj1" fmla="val -61111"/>
              <a:gd name="adj2" fmla="val 70972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nter name of file or select name from 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905120"/>
            <a:ext cx="5715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F6C-E04D-4790-91CD-F70A12C8C73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nter SS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38080" y="1278000"/>
          <a:ext cx="7925040" cy="55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78000"/>
                    <a:ext cx="792504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6324480" y="3276720"/>
            <a:ext cx="2362320" cy="304560"/>
          </a:xfrm>
          <a:prstGeom prst="wedgeRectCallout">
            <a:avLst>
              <a:gd name="adj1" fmla="val -43819"/>
              <a:gd name="adj2" fmla="val 187500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 Transaction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3200400"/>
            <a:ext cx="1828800" cy="380880"/>
          </a:xfrm>
          <a:prstGeom prst="wedgeRectCallout">
            <a:avLst>
              <a:gd name="adj1" fmla="val -82986"/>
              <a:gd name="adj2" fmla="val 225000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ter N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81080" y="3276720"/>
            <a:ext cx="1676520" cy="304560"/>
          </a:xfrm>
          <a:prstGeom prst="wedgeRectCallout">
            <a:avLst>
              <a:gd name="adj1" fmla="val -71402"/>
              <a:gd name="adj2" fmla="val 222916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ter SS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1752480"/>
            <a:ext cx="2438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3EA-5F02-4201-9DF2-2266B60E64E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 Sch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80880" y="1523880"/>
          <a:ext cx="82296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2362320"/>
            <a:ext cx="2286000" cy="1600200"/>
          </a:xfrm>
          <a:prstGeom prst="wedgeEllipseCallout">
            <a:avLst>
              <a:gd name="adj1" fmla="val -50555"/>
              <a:gd name="adj2" fmla="val 443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f you have more than one school, you can choose from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1981080"/>
            <a:ext cx="213336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868-CDB0-4568-A856-8CDFC09EEE0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election Criteria Confirm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838080" y="1751040"/>
          <a:ext cx="762012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1040"/>
                    <a:ext cx="76201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8120" y="2133720"/>
            <a:ext cx="2057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961-46FD-4A5C-B63A-E883A4D139D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How Does the DPA Enroll FAA Users?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6360" y="2058840"/>
            <a:ext cx="350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he Student Aid Internet Gateway On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Enroll for FAA Online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62520" y="1905120"/>
          <a:ext cx="4647960" cy="46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05120"/>
                    <a:ext cx="464796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D1D-E272-44FA-8B1F-2ACF312C9AEC}" type="slidenum">
              <a:t>6</a:t>
            </a:fld>
          </a:p>
        </p:txBody>
      </p:sp>
    </p:spTree>
  </p:cSld>
  <p:transition>
    <p:cover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2979720" y="1684440"/>
          <a:ext cx="583740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684440"/>
                    <a:ext cx="583740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heck Request Statu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21337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67480" y="4648320"/>
            <a:ext cx="1676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2971800"/>
            <a:ext cx="2895480" cy="609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D7F-72EA-4A52-BA6B-308D5B72D17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ery Requir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6868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2127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se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6336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following the next CPS comput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6336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futur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720" indent="-2127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imit on number of times an ISIR i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2127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IR Request sh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6336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of all pend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6336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no queries pending, the status of all qu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d on the last process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2C8-6989-4EA8-AF13-C4D5CA031EC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cords for one or more schoo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rocessing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ant any ISIRs until X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544-486E-4C64-B5F8-FCC4DDA9589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ual Examples Requested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with SSN Requ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Criteria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to Evaluate (Process/Transaction/Comple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9ED-6B95-449B-8000-A26854AEF60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er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, files of requested ISIRs are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mailboxes in ISRF06OP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4D8-8BDD-4801-9BAC-971F6B39CBB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665080" y="27428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School’s Responsibility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6AD-6840-449F-A912-84980F16BA1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ushed” ISI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-generated transactions (NSLDS post-screening, DHS automated secondary confirmation, reproces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4C9-2248-4CB6-A499-EAE2495C77A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Responsibiliti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5438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and review all of the ISIRs that are automatically pushed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SIRs for all of the students who have enrolled at you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21E-A6C7-4E4F-A716-B298DB0EE38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dditional Information and Resour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to CPS Online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 Enrollment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sawebenroll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C91-47C2-48D1-900E-91CD7BCB27CE}" type="slidenum">
              <a:t>68</a:t>
            </a:fld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emo Site for FAFSA on the Web and FAA Ac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8640" y="2209680"/>
            <a:ext cx="82267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For FAA’s to learn and to tra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sadownload.ed.gov/CPSTestSys0405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clip0004" descr=""/>
          <p:cNvPicPr/>
          <p:nvPr/>
        </p:nvPicPr>
        <p:blipFill>
          <a:blip r:embed="rId1"/>
          <a:stretch/>
        </p:blipFill>
        <p:spPr>
          <a:xfrm>
            <a:off x="6553080" y="2773440"/>
            <a:ext cx="1600200" cy="10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262-0036-416A-94E2-139EEF908D31}" type="slidenum">
              <a:t>69</a:t>
            </a:fld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936720"/>
          <a:ext cx="861048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61048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743200" y="2363760"/>
            <a:ext cx="3198960" cy="379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2520" y="2281320"/>
            <a:ext cx="1066680" cy="23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 rot="975600">
            <a:off x="6400800" y="3885840"/>
            <a:ext cx="39996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975600">
            <a:off x="2133360" y="3962160"/>
            <a:ext cx="3999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276720"/>
            <a:ext cx="1297080" cy="379440"/>
          </a:xfrm>
          <a:prstGeom prst="wedgeRectCallout">
            <a:avLst>
              <a:gd name="adj1" fmla="val -64337"/>
              <a:gd name="adj2" fmla="val 941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3430440"/>
            <a:ext cx="990720" cy="303480"/>
          </a:xfrm>
          <a:prstGeom prst="wedgeRectCallout">
            <a:avLst>
              <a:gd name="adj1" fmla="val -66347"/>
              <a:gd name="adj2" fmla="val 947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808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04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nrolling New FAA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923-372E-4D9D-AC81-2A6B33D2409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7774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584-6E76-414E-BE39-ADB9D10C24D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estions and Com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Title IV on the Web (R2T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FC6-D3AF-4671-B74F-334F888F44CC}" type="slidenum">
              <a:t>71</a:t>
            </a:fld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Right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7742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-only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udent Inquiry/Application and Correction E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ble to enter and save applications and correc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00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ub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with Write access can review and 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A0B-F924-4B11-B423-4E13398E1F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472428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FAA Access to CPS Online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nhancements for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2005-2006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09C-A902-4456-8717-2CCAF2C6AC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37:16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6557648</vt:r8>
  </property>
  <property fmtid="{D5CDD505-2E9C-101B-9397-08002B2CF9AE}" pid="3" name="_AuthorEmail">
    <vt:lpwstr>eric.smith@pearson.com</vt:lpwstr>
  </property>
  <property fmtid="{D5CDD505-2E9C-101B-9397-08002B2CF9AE}" pid="4" name="_AuthorEmailDisplayName">
    <vt:lpwstr>Smith, Eric M.</vt:lpwstr>
  </property>
  <property fmtid="{D5CDD505-2E9C-101B-9397-08002B2CF9AE}" pid="5" name="_EmailSubject">
    <vt:lpwstr>EAC Presentations for FAA Access</vt:lpwstr>
  </property>
  <property fmtid="{D5CDD505-2E9C-101B-9397-08002B2CF9AE}" pid="6" name="_PreviousAdHocReviewCycleID">
    <vt:r8>37910050</vt:r8>
  </property>
</Properties>
</file>