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2A7-7CE6-4A84-8920-7955DED0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96F-8E24-41C3-9E41-0B09B03D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346-8187-4BCE-887C-75AFE931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CC57-BC89-4D64-8662-EA63CCE0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C8A-E9A7-4F5B-8C59-C1920B39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86B-3724-4A78-BC3B-4627646A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448-122C-4A94-B77F-BC47B128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047-1CA7-4042-AF5C-BEDD18D4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C87-BC1A-4461-A868-528413C4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C9C-88FF-42DD-AA5A-73F50594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018-EDC0-4DA7-801F-770D1A1C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540-8F6C-4918-BF2C-222F9A3A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0719-3623-40EF-A41B-319C780AB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fap.ed.gov/fregisters/fr12122003.html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fap.ed.gov/dpcletters/CB0314.html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fap.ed.gov/dpcletters/gen0106.html" TargetMode="Externa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fap.ed.gov/dpcletters/cb0312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FEL, Direct Loan, and Perkins Loan Policy Issues of Interest to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m Mo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l McLar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#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Additional Unsubsidized Loan Eligibility for Dependent Student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ent Student Eligible Only I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ineligible for PLUS due to adverse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likely precluded from borrowing PLUS under documented exceptional circum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use of endorser for PLUS elig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9FD-6376-4F64-AF8D-3F56992D82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Additional Unsubsidized Loan Eligibility for Dependent Student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for certifying/originating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’s unwillingness to borrow PLUS does not qualify the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O’s belief that parent should not borrow PLUS does not qualify the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parent must be denied.  However, if both apply and one is eligible, the dependent is in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E19-32FC-4306-9909-ABC9F7C89C9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Additional Unsubsidized Loan Eligibility for Dependent Student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for certifying/originating inclu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se credit denial in one year is not  applicable in subsequent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S eligibility or dependent eligibility can happen any time in academic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1889-661A-4F2C-B9BF-EC11F130F49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Additional Unsubsidized Loan Eligibility for Dependent Student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ed “Exceptional”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ulatory Examples; Not an Exhaustive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arcerated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Whereabouts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F70-F5D0-4D49-ACF3-BBDA81A2792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Additional Unsubsidized Loan Eligibility for Dependent Student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with limited income – low earnings, public assistance, or disability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EL Program – Documented evidence lender has or will deny a PLUS loan due to income-to-debt, ability to repay, or other credi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 Program – School documents inability to pay due to income-to-debt ratio, existing debt burden, or limited in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BA5-766A-480C-AD57-90926625BC9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Exercising Professional Judgment in Declining/Reducing Loan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-by-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explanation to student of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iscrimination – race, sex, color, income, religion, national origin, age, handicapped status, or choice of lender or guaranty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5AB-6B98-4C3A-B50B-F5EC8964E3F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Exercising Professional Judgment in Declining/Reducing Loan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licy of covering school charge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mandatory” use of preferred l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se of required credit 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oan without Pell eligibility determination and application (if applicable); No unsub loan without subsidized eligibility and application ($ tole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8199-CEC0-4E73-9525-324A6BAA06A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Late Disbursemen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34 CFR 668.164(g)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must have had a period of eligibility before &lt; half-time or withdra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orrower subject to 30-day delay must complete 3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second disbursement only if successfully completed the period of enro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ion/origination must take plus while borrower still enrolled and otherwise eligible; for Perkins, awarding must tak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R/SAR with official E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for FFEL/DL limited to documented educationa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EFE-D25E-4F7F-AE9B-61DEC1E3979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Late Disbursemen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34 CFR 668.164(g)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fra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 days after date of withdrawal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 days after date of in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120 days – with Secretary’s approval if student not at 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8A4-4B99-49EC-B240-6FE36734FE5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Late Disbursemen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34 CFR 668.164(g)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120-day 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’s name and OP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person’s name, title, phone and fax numbers, and e-mai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’s name and SSN (and parent’s name and SSN for PL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and amount of Title IV to be disbur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nation of why the disbursement was not made, including why it was not the student’s 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25A5-4851-4995-9C9D-BDFF67F2628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verview of Issu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EL and Direct Loa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” Teacher Loan Forgiveness Pro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n Eligibility and Certificati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Unsubsidized Stafford for Dependent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Judgment in Reducing or Refusing to Cer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Disburseme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969-988C-4794-9BD5-C92142DF1ED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Late Disbursemen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34 CFR 668.164(g)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120-day 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ell Gr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d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period begin and end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student completed the payment period or withdrew from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FFEL and Direct Lo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type (sub, unsub, or PL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e the loan was certified or orig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period begin and end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698-93F0-42D3-8397-F53A43B7007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Late Disbursemen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34 CFR 668.164(g)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120-day 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FFEL and Direct Lo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the student complete the loan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udent did not complete the loan period, on what date did the student cease to be enrolled at least half-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the first disbursement of the loan or is it a second or subsequent disburs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nder’s name, for F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d ID, for Direct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DE1-5E3F-41B3-A6F1-6494B7D3B1C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Late Disbursemen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34 CFR 668.164(g)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 School Relations Ce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Disbursement Requ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77)  623-50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notifies school by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79B-C747-49B8-8941-AAC5B857454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Post-TPD Discharge Eligibility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1, 2000: Regulations changed eligibility for Post-TPD Discharge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requirements vary depending upon date of TPD Dis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July 1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r after July 1, 2001 and before July 1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r after July 1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ISIR Codes an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18D-F039-487B-9A05-A64573E2821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Post-TPD Discharge Eligibility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before July 1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ion from physician that borrower can engage in substantial gainful activity (i.e., no longer TP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E: Need one pe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statement acknowledging no discharge of new loan for pre-existing conditions unless substantial deter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E: Need each lo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E2C-6DB4-4C72-A587-FF59FC45591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Post-TPD Discharge Eligibility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on or after July 1, 2001 and before July 1, 2002 with new loan request within 3 years of TPD d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Acknowledgemen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ffirmation of Discharged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3 years from TPD date only certification and borrower acknowledgemen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4E2-81D4-4C2B-848A-6365CA60FEA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Post-TPD Discharge Eligibility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ffi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SIR Discharge Date is within 3 years of new loan request, contact holder to identify 3 years from TPD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affirmed, requires new promissory note or signed repayment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ertify/originate before holder confirms reaffi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efaulted prior to discharge, reaffirmed loan retains  default status and satisfactory repayment arrangements*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SRA also applies during conditional period for conditional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CFB-105F-4ED7-B67C-2C61EBC5531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Post-TPD Discharge Eligibility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on or after July 1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inal discharge granted – same as before July 1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“conditional” discharg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 certification and borrower acknowledgement for new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acknowledgement that neither new loan nor conditionally discharged loan are dischargeable now or in the future based on pre-existing condition unless substantial deter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resumes on conditional loan and prior status a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A090-5BA5-4C4A-AD68-D2F51BFAD42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7621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Eligibility After Bankruptcy Filing 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ruptcy Reform Act of 1994 – (Pub L. 103-39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nial of grant or loan to a person who has filed or received a discharge in bankrupt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8 Amendments to 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bankruptcy discharge to borrowers in repayment for seven years; borrowers must prove undue har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984-79EE-4AB9-9D70-C9EC9D6A2FC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Eligibility After Bankruptcy Filing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operational treatment for eligibility of borrowers who have filed for bankrupt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Loans [DLB-04-14 (May 2004), 04-17 (June 2004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nger closing out MPNs for filing borrowers and requiring new MPNs; no longer rejecting disbursements after f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pplicable to FFEL and Perkins borr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approach based on decision that loans and disbursements under MPN are clearly identifiable by date before and after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ing borrowers in default remain ineligible without satisfactory repayment arrangements; voluntary SRA does not violate “stay of collec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8C9-8F8C-44A7-A9CC-8C7E90506E9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verview of Issues (cont.)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Title IV Lo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gibility after Total and Permanent       Disability Dis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gibility after Bankruptcy Fil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Disaster Gui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OES Act and No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4C1-F1A4-43BD-9633-DE47D17A423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General Disaster Guidance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-04-04, February 200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guidance for Federal-declared dis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s 2003-2004 SFA Handbook and Disaster Letter 99-28, August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ial declaratio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“in-school” status for borrowers whose attendance is interru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contact with ED’s case management team for borrowers in repayment or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 04-09, September 2004: Notice to extend various school reporting deadlines for Hurricane Affected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C30-E446-45BC-B1B1-8754DE953D2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EROES Federal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gister Noti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ES Bill (P.L. 108-76, Aug. 18, 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zed  ED to publish FR notice of waivers/mods to HEA &amp; program regs for applicants &amp; recipients of TIV w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erving on active duty during war or military operation/national eme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erforming qualifying National Guard duty during a war or military operation/national eme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0C0-898F-4ADF-BFD4-0BF67356E60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EROES Federal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gister Noti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zes waivers/modifications to HEA &amp; program regs for applicants and recipients of TIV w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e or are employed in a disaste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ered direct economic hardship because of a war or national eme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2C4-6108-4D2D-B3C1-C830C8709D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391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EROES Federal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gister Noti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 Notice published Dec. 12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ifap.ed.gov/fregisters/fr1212200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es all military service from Title IV borrower’s initial grac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loan holders to keep affected individuals in an “in-school” status or “in-school” def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s collection on defaulted loans while borrower is an affected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FD1-0B25-4863-B919-9BD2DE67CF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6858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EROES Federal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gister Noti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service does not interrupt service required for loan cance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service does not interrupt required consecutive payments to rehabilitate or make satisfactory repayments arrangements to regain eligibility or consolidate a Title IV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001-05D5-4FE3-80CB-E9992209B19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EROES Federal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gister Noti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s written request, written agreement and supporting documentation for initial periods of forbearance for Perkins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documentation beyond initial forbearance for Perkins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s of forbearance for Perkins borrowers do not count against 3 year li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D54-ED42-495B-8EF0-CE071391222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EROES Federal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gister Noti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ves supporting documentation for initial periods of forbearance for FFEL/DL borr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documentation beyond initial forbearance for FFEL/DL borr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53E-4906-41EB-9E4D-C76040C605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EROES Federal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gister Noti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erkins, FFEL and DL borrowers eligible for a military defer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 service as an affected individual does not count against 3 year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s supporting documentation for initial periods of military def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documentation beyond initial period of military def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00F-06F8-4207-9372-8A1149F3A9B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OMB’s Perkins Loan Program Assessment Rating (PART)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Performance &amp; Results Act requires all Federal programs to have measurable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’s Management Council developed 5-point plan to improve efficiency &amp; effectiveness of Feder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B developed Program Assessment Rating tool (PART) to assess the effectiveness of Feder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294-CF6B-4894-AD5F-832318CAB1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OMB’s Perkins Loan Program Assessment Rating (PART)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consists of 30 weighted questions divided into 4 se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Purpose an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B issues rating for each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sults released each year as part of the President’s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E0D-0530-49C4-B9E6-B5865EE7FC4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verview of Issues (cont.)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kins Lo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N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iti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ignment and Cohort Calc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036-D25A-4CE7-A766-BCE698BF69D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7621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OMB’s Perkins Loan Program Assessment Rating (PART)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Perkins Loan Program rated in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was deemed redundant and duplicative due to existence of FFEL and Direct Loa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request was eliminated from the President’s FY05 budget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ing Perkins on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:  Thursday, December 2 Versailles 1 &amp; 2, 4:45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59F-0D50-4FC4-A8AB-2BDEC12E88D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kins Loan Program Budget/Appropriatio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ident’s FY05 Budget Request (AY 05-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CC: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llation:  $66,66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se FY05 Appropriations (AY 05-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CC: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llation:  $66,66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ate FY05 Appropriation (AY 05-06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CC:  $98,764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llation:  $66,66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aintains FY 2004 (AY 04-05) fund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652-50E2-46DE-95FF-019931C545E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kins Loan Program Budget/Appropriatio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ess passed Omnibus Appropriations Bill – HR 4814 – on November 20, 2004 funding 13 Federal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&amp; Senate Final Conference Perkins Loan Appropriation (AY 05-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CC: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llation: $66,131,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8D1-ACDC-4BAB-BAD1-882B90CFF9E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kins Loan Program MPN Implement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Guid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r Colleague Letter CB-03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ifap.ed.gov/dpcletters/CB0314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-2005 FSA Handbook, Vol. 6, Chap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d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used for all new loans on or after November 1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FC0-8B3A-4972-973E-D7069D263B3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kins Loan Program MPN Implement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kins MPN does not change the lend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borrower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a signed prom note covers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loan disclosures/notices under Sec. 674.16(a) &amp; Sec. 668.165(a) (can be provided electronically through a secur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, service and col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9AA-89FB-49DE-BD81-FC7D8B4F9CD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kins Loan Program MPN Implement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use of MP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may choose annual or multi-yea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note:  Borrower signs once each year for all loans made tha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year:  Borrower signs one MPN for all loans made until note exp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 may choose annual note if s/he notifies school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D18-8296-4736-86C3-CE6CC6F7762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kins Loan Program MPN Implement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N Expiration Provisions-No further loans made under MPN after earlies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te the school receives borrower’s written request for no further MPN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months after signature date if no disbursement has been made under M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years after the signature date or date of school’s receipt of M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EE6-5CFB-43A8-BA6E-AEAE55BE964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kins Loan Program MPN Implement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N format and text cannot be changed [except bracketed tex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N requires subsidiary record of disbursements and adjustments for enforcemen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lectronic MPN in accordance with ED E-signature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r Colleague GEN-01-06, May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ifap.ed.gov/dpcletters/gen0106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9BD-4865-4BD7-A814-14BFF2144E5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D Perkins Loan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rogram Initiativ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NSLDS Data Quality Initiative and Federal Perkins Loan Compliance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schools with high volumes of aged defaulted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consistency/quality of Perkins Loan NSLDS reporting and due di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administrative capability and recommend improvements/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1C8-7FB2-4113-8D27-13D87A2018A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ssignment of Defaulted Perkins Loa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EASY TO ASSIGN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form redesigned for easier batch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documentation streaml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electronic process instit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ifap.ed.gov/dpcletters/cb031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5D2-73A1-4D86-B7E1-4CE553CDB29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New” Teacher Loan Forgiveness Provision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.R. 5186 – Taxpayer-Teacher Protections Act of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n forgiveness of up to $5,000 if teac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s five years in an elementary or secondary school with 30% or more Title I enroll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highly qualifi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4DA-403F-4914-9A87-B9D6032B93E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onsolidation &amp; Perkins Loan Cohort Default Rat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 CFR 674.5(b) – Defines cohort default rate as the percentage of current and former stud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who enter repayment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n award year and default before the end of the following award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rowers who consolidate in their grace period do not enter repayment and aren’t included in calculation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266-5F67-493C-AA99-5A0418ED0B7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m Mor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202-502-78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: 202-502-78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Pamela.Moran@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l McLar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202-502-78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: 202-502-78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Gail.McLarnon@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946E-F6E7-4D43-8A11-18BD35417A0D}" type="slidenum">
              <a:t>51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New” Teacher Loan Forgiveness Provision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ly Qualified” teachers a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se who are fully certified or passed a state licensing exam and are licensed by State in which teacher te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teachers who hold a B.A. and pass a rigorous state test demonstrating knowledge and teaching skills; secondary teachers also must complete major, graduate degree, or coursework equivalent to a major in teaching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teachers who demonstrate competence in subject areas in which they teach based on uniform state stand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870-9184-46FC-9890-5C3A6F6B7A8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New” Teacher Loan Forgiveness Provision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8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an forgiveness up to $17,500 if teacher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above requirements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es special education in elementary or secondary school 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es math or science in secondary sch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F4D-0CB6-48CD-98EF-E1ECDA7DA2F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New” Teacher Loan Forgiveness Provision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8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eachers who began qualifying service   before new law was enacted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285840"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have to meet the new requirements to get the $5,000, b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285840"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t meet the new requirements to get the $17,5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5E6-0EDE-47B1-870A-84123979186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New” Teacher Loan Forgiveness Provision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ediate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CL summarizing provisions is under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application form to be revi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DD7-9B80-4969-92BB-81F887482A7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2:33:46Z</dcterms:modified>
  <cp:revision>59</cp:revision>
  <dc:subject/>
  <dc:title>PowerPoint Presentation</dc:title>
</cp:coreProperties>
</file>