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C34-6F95-42BF-9741-C9032A41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66B-7871-4930-96B4-E1C6C43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03E-BDB9-4BF4-8337-BEBA07FC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A69-4B54-4729-9EC2-4D6DBBE6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73D-CE8B-453D-850B-62CA288A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F58-671D-44DA-90FD-3361BF0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0A5-20C5-4514-A898-4C0742C1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3AF-BA59-4A4D-8B24-F8C3711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7F-99F2-4A0B-BEA1-9C7FA7D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482-BCC2-46DB-B2FE-C9DF43F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C39-D753-4AE1-9068-9E3A862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830-C3D5-449E-81BE-80BD7A7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1473-4734-4957-B7A8-97DCB3A9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fap.ed.gov/fregisters/fr12122003.html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CB0314.html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gen0106.html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fap.ed.gov/dpcletters/cb0312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FEL, Direct Loan, and Perkins Loan Policy Issues of Interest to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m Mo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#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ent Student Eligible Only I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ineligible for PLUS due to adverse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likely precluded from borrowing PLUS under documented exception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use of endorser for PLUS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4A0-C355-402E-9EE9-A673E216EB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’s unwillingness to borrow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O’s belief that parent should not borrow PLUS does not qualify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parent must be denied.  However, if both apply and one is eligible, the dependent is in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D5A-5460-43EF-AF38-F67D1FA2AF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certifying/originating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se credit denial in one year is not  applicable in subsequent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eligibility or dependent eligibility can happen any time in academic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3ED-30E0-46C3-AA20-85C7885DFC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ed “Exceptional”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Examples; Not an Exhaustive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rcerated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hereabout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F3F-766B-4A06-B02F-1EE7C7578F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Additional Unsubsidized Loan Eligibility for Dependent Stud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with limited income – low earnings, public assistance, or disabilit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 Program – Documented evidence lender has or will deny a PLUS loan due to income-to-debt, ability to repay, or other cred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Program – School documents inability to pay due to income-to-debt ratio, existing debt burden, or limited in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47F-B263-4A1D-A022-98109C8F2D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xercising Professional Judgment in Declining/Reducing Loa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by-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explanation to student of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rimination – race, sex, color, income, religion, national origin, age, handicapped status, or choice of lender or guaranty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D0C-1D1E-4F79-9B9D-88D0E92319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xercising Professional Judgment in Declining/Reducing Loa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y of covering school char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mandatory” use of preferred l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se of required credit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an without Pell eligibility determination and application (if applicable); No unsub loan without subsidized eligibility and application ($ tole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8D7-D63F-4254-84F5-6B5988FF66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must have had a period of eligibility before &lt; half-time or withd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orrower subject to 30-day delay must complete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econd disbursement only if successfully completed the period of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/origination must take plus while borrower still enrolled and otherwise eligible; for Perkins, awarding must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/SAR with official E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for FFEL/DL limited to documented education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2F8-BC2C-41AE-931E-B13671FF87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fr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date of withdrawal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days after date of in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120 days – with Secretary’s approval if student not at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512-A883-4E84-BB86-EBD3EBB166A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name and OP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person’s name, title, phone and fax numbers, and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name and SSN (and parent’s name and SSN for P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d amount of Title IV to be disbu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of why the disbursement was not made, including why it was not the student’s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ED1-5A53-4EEA-9831-321BCC545B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EL and Direct Loa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” Teacher Loan Forgiveness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Eligibility and Certific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Unsubsidized Stafford for Dependent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Judgment in Reducing or Refusing to Cer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Disburse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9C1-0902-463C-807E-54FDE9ECE05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ell Gr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period begin and 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student completed the payment period or withdrew from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FEL and Direct Lo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type (sub, unsub, or P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e the loan was certified or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period begin and end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6E0-DC52-4FD2-ACA6-B955B0DF5A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120-day 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FEL and Direct Lo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student complete the loan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udent did not complete the loan period, on what date did the student cease to be enrolled at least half-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the first disbursement of the loan or is it a second or subsequent disbur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der’s name, for F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ID, for Direct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9D0-000A-4E74-86FC-64DF0261A6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ate Disbursement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34 CFR 668.164(g)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chool Relations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Disbursement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77)  623-5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notifies school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3DB-2667-4868-A495-721450D3F2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, 2000: Regulations changed eligibility for Post-TPD Discharge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requirements vary depending upon date of TPD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1 and before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r after July 1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ISIR Code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083-9CCC-4297-8382-FEDE82F7122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before July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from physician that borrower can engage in substantial gainful activity (i.e., no longer TP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Need one p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statement acknowledging no discharge of new loan for pre-existing conditions unless substantial deter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Need each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7CD-1014-408E-A5A9-6FA0B28E18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1 and before July 1, 2002 with new loan request within 3 years of TPD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 of Discharge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years from TPD date only certification and borrower acknowledge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828-51B1-4CAC-9601-E2259035CA9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f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SIR Discharge Date is within 3 years of new loan request, contact holder to identify 3 years from TP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affirmed, requires new promissory note or signed repay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ertify/originate before holder confirms reaf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efaulted prior to discharge, reaffirmed loan retains  default status and satisfactory repayment arrangements*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RA also applies during conditional period for conditional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64D-429B-4BD9-A073-E2F5C3BF972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Post-TPD Discharge Eligibility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n or after July 1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inal discharge granted – same as before July 1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conditional” discharg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certification and borrower acknowledgement for new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 acknowledgement that neither new loan nor conditionally discharged loan are dischargeable now or in the future based on pre-existing condition unless substantial deter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resumes on conditional loan and prior status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975-1035-432E-BE14-1B4CE2C9911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Eligibility After Bankruptcy Filing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ruptcy Reform Act of 1994 – (Pub L. 103-3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nial of grant or loan to a person who has filed or received a discharge in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Amendments to 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bankruptcy discharge to borrowers in repayment for seven years; borrowers must prove undue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EA3-F3C6-4CD7-88FE-4E386E2841A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ligibility After Bankruptcy Filing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operational treatment for eligibility of borrowers who have filed for bankrupt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Loans [DLB-04-14 (May 2004), 04-17 (June 2004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nger closing out MPNs for filing borrowers and requiring new MPNs; no longer rejecting disbursements after 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pplicable to FFEL and Perkins borr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approach based on decision that loans and disbursements under MPN are clearly identifiable by date before and after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ng borrowers in default remain ineligible without satisfactory repayment arrangements; voluntary SRA does not violate “stay of colle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614-31B1-4AB2-87D3-AE203C3240F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 (cont.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itle IV 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after Total and Permanent       Disability Dis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after Bankruptcy Fi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isaster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OES Act and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608-A3BD-4772-94EB-8BAF88347E5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General Disaster Guidance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-04-04, February 200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guidance for Federal-declared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s 2003-2004 SFA Handbook and Disaster Letter 99-28, August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ial declarati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“in-school” status for borrowers whose attendance is interru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ntact with ED’s case management team for borrowers in repayment or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 04-09, September 2004: Notice to extend various school reporting deadlines for Hurricane Affecte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501-1195-4C78-91D1-69C3B75CAE5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ES Bill (P.L. 108-76, Aug. 18, 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ed  ED to publish FR notice of waivers/mods to HEA &amp; program regs for applicants &amp; recipients of TIV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rving on active duty during war or military operation/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erforming qualifying National Guard duty during a war or military operation/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3E5-5F30-4E12-9E1F-062739217AA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zes waivers/modifications to HEA &amp; program regs for applicants and recipients of TIV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 or are employed in a disast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ed direct economic hardship because of a war or national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157-C2EB-420B-8F8B-ADCDE04171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 Notice published Dec. 12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fregisters/fr121220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s all military service from Title IV borrower’s initial grac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n holders to keep affected individuals in an “in-school” status or “in-school”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collection on defaulted loans while borrower is an affected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D6B-1C36-4DAE-B7D2-447A67FC1A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service does not interrupt service required for loan canc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service does not interrupt required consecutive payments to rehabilitate or make satisfactory repayments arrangements to regain eligibility or consolidate a Title IV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6C9-4897-422F-870B-455DBB72F3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written request, written agreement and supporting documentation for initial periods of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forbearance for Perkins bor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forbearance for Perkins borrowers do not count against 3 year li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97B-AF1E-4C38-9BBF-20DEC7CE6C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ves supporting documentation for initial periods of forbearance for FFEL/DL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documentation beyond initial forbearance for FFEL/DL borr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0F7-3333-42E0-B309-958A355D0C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EROES Federal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gister Noti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erkins, FFEL and DL borrowers eligible for a military defer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ervice as an affected individual does not count against 3 year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s supporting documentation for initial periods of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documentation beyond initial period of military def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0BD-995B-4B31-BCF6-222662581B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Performance &amp; Results Act requires all Federal programs to have measurable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’s Management Council developed 5-point plan to improve efficiency &amp;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developed Program Assessment Rating tool (PART) to assess the effectiveness of Feder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E7F-8443-4FC7-816F-36E4699068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consists of 30 weighted questions divided into 4 s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Purpose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B issues rating for each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s released each year as part of the President’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ADB-B510-4D61-ABD8-504CCE12D7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verview of Issues (cont.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kins L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N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gnment and Cohort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989-E75E-40E6-9A68-CBB260EAB27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OMB’s Perkins Loan Program Assessment Rating (PART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erkins Loan Program rated in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was deemed redundant and duplicative due to existence of FFEL and Direct Loa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request was eliminated from the President’s FY05 budge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ing Perkins on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:  Thursday, December 2 Versailles 1 &amp; 2, 4:45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BED-ABED-4F4A-BD6A-094CA0758C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Budget/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’s FY05 Budget Request (AY 05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 FY05 Appropriations (AY 05-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ate FY05 Appropriation (AY 05-06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CC:  $98,764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llation:  $66,6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aintains FY 2004 (AY 04-05) fund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F3B-F4FC-457E-9FE6-8FC569319A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Budget/Appropri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passed Omnibus Appropriations Bill – HR 4814 – on November 20, 2004 funding 13 Feder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&amp; Senate Final Conference Perkins Loan Appropriation (AY 05-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CC: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lation: $66,131,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5DE-8827-43DD-B1BD-4407D29B26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Guid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CB-03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CB0314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FSA Handbook, Vol. 6, Chap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used for all new loans on or after November 1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715-3857-4A67-B60A-828862C182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ins MPN does not change the lend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borrower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 signed prom note covers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an disclosures/notices under Sec. 674.16(a) &amp; Sec. 668.165(a) (can be provided electronically through a secu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, service and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DD5-B291-463B-ADD4-B9B8AD94FD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use of M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may choose annual or multi-yea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note:  Borrower signs once each year for all loans made tha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year:  Borrower signs one MPN for all loans made until note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 may choose annual note if s/he notifies school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31E-5637-4E72-BD3B-900ACBC9DB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N Expiration Provisions-No further loans made under MPN after earlie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e the school receives borrower’s written request for no further MPN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months after signature date if no disbursement has been made under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ars after the signature date or date of school’s receipt of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40C-F1BA-40A0-B669-7BA3F4ECAD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rkins Loan Program MPN Implement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 format and text cannot be changed [except bracketed tex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 requires subsidiary record of disbursements and adjustments for enforc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nic MPN in accordance with ED E-signatur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r Colleague GEN-01-06, Ma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gen010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A57-2622-4C34-A0F7-96EAB26BE5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D Perkins Loan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Initiativ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NSLDS Data Quality Initiative and Federal Perkins Loan Complianc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chools with high volumes of aged defaulted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nsistency/quality of Perkins Loan NSLDS reporting and due di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administrative capability and recommend improvements/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0FC-9C7A-47B6-882E-50D041099C0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ssignment of Defaulted Perkins Loa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EASY TO ASSIGN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form redesigned for easier batch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documentation stream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electronic process instit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ifap.ed.gov/dpcletters/cb031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682-051F-43FC-8F23-5BF76608E80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.R. 5186 – Taxpayer-Teacher Protections Act of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forgiveness of up to $5,000 if teac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five years in an elementary or secondary school with 30% or more Title I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highly qualifi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7E5-8436-4FBF-B536-ED368AD2145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onsolidation &amp; Perkins Loan Cohort Default Rat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CFR 674.5(b) – Defines cohort default rate as the percentage of current and former stud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who enter repayment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 award year and default before the end of the following awar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s who consolidate in their grace period do not enter repayment and aren’t included in calculation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935-DDEA-43DC-AEE9-E5F1F9467F2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m Mo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502-7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202-502-7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Pamela.Moran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l McLar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202-502-78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202-502-7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Gail.McLarnon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8B3-5CD5-4EA8-841A-DAB6F08062C9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Qualified” teachers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who are fully certified or passed a state licensing exam and are licensed by State in which teacher te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teachers who hold a B.A. and pass a rigorous state test demonstrating knowledge and teaching skills; secondary teachers also must complete major, graduate degree, or coursework equivalent to a major in teaching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eachers who demonstrate competence in subject areas in which they teach based on uniform state stand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6BB-9861-46DB-9B6C-A311AC96FD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8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an forgiveness up to $17,500 if teac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above requirements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s special education in elementary or secondary school 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s math or science in secondary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154-4C69-4960-98D2-FD46F58DE0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8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achers who began qualifying service   before new law was enacted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have to meet the new requirements to get the $5,000, 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meet the new requirements to get the $17,5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ADA-224A-42DA-8A21-39E67980937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New” Teacher Loan Forgiveness Provision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diate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CL summarizing provisions is und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application form to be revi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81F-EB88-40F8-AE1F-144283520B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33:46Z</dcterms:modified>
  <cp:revision>59</cp:revision>
  <dc:subject/>
  <dc:title>PowerPoint Presentation</dc:title>
</cp:coreProperties>
</file>