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D4C-0965-4022-BFE2-6E869DF6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C0C-7905-4916-B3E8-48719965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105-54CA-4332-83DA-4BE5A170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3C9-8BE9-459F-B054-5079BB5E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FC6-8E58-4688-940F-75B9BD37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B9B-C55F-490A-BCBC-1EE1DA1C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DB61-F3E8-4FB2-A8EE-9EA288E9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B3C-3806-4F39-B0D6-4B649164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721-8073-4803-B716-D1DBB3CA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FA6-B7CD-4236-927D-7763D2B1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DE5-4AF2-4862-98EC-8620FD85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D26-3427-474F-B932-C5BA6905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9906-570B-45E6-84EF-7FBDDCB0B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zaudit.ed.gov/" TargetMode="External"/><Relationship Id="rId2" Type="http://schemas.openxmlformats.org/officeDocument/2006/relationships/hyperlink" Target="http://www.ifap.ed.gov/" TargetMode="External"/><Relationship Id="rId3" Type="http://schemas.openxmlformats.org/officeDocument/2006/relationships/hyperlink" Target="http://www.ifap.ed.gov/" TargetMode="Externa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zaudit.ed.gov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 EZ in eZ-Aud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 B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4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 Know Your Users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You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Entry:  Enters data into eZ-Audit, attaches 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er:  Reviews and approves submission prior to submitting to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users a username and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all users sign the Rules of Behavio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C0B-3756-401A-97C2-77FF75EEAD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 Preparing to Submit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udit prepared and ready to sub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tatements and/or Compliance Audit must be converted to a 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s must be scan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 must be on auditor’s lett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PDF on hard drive or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Audit Firm’s 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22C-0154-49CA-A97D-91DD3A51D8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 Types of Submission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FYE Annual Sub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articipating institutions submitting annual financial statements and compliance audi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k will list the fiscal year end (FYE) that is d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FYE annual submission must be received prior to submitting current F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1D6-339B-45B7-B10B-410B84FEDC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 Types of Submission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Sub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r/Change in Ow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Fiscal Year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b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ut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tion/Wa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17A-2F11-4DAD-BAD8-D24B642398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Types of Submission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34" name="Institution%20HomePage%201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45820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2280" y="3581280"/>
            <a:ext cx="2667240" cy="28958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7E1C-0B17-40B9-B907-886BB4A068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 Entering Data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financial statements and/or compliance audit to enter summary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emplates do not match financial statements, enter zero (0) i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help – Definitions of accounting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checks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s sa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2BC-E109-4CBF-BC08-99209BD7E0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 Entering Data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39" name="Balance%20Sheet1" descr=""/>
          <p:cNvPicPr/>
          <p:nvPr/>
        </p:nvPicPr>
        <p:blipFill>
          <a:blip r:embed="rId1"/>
          <a:stretch/>
        </p:blipFill>
        <p:spPr>
          <a:xfrm>
            <a:off x="0" y="1933560"/>
            <a:ext cx="8686800" cy="467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F350-57C4-4195-94AB-3181B35CE8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 Entering Data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Gro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considers a school group a group of schools whereby a single school within the group submits financial statements and/or a compliance audit covering multiple OPE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school group information prior to starting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y eZ-Audit Help Desk of discrepa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DF0F-A88A-4004-9D74-D8A6007169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aking it EZ – Completeness Checklis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point to ensure that all necessary documentation and/or data is provided with your sub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Contact Information (just in case we have qu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dditional Comments (Is there something else you want us to know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AD29-4AB4-46EE-A89F-82D84D3EED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aking it EZ – Completeness Checklis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45" name="Checklist1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790120" cy="3124080"/>
          </a:xfrm>
          <a:prstGeom prst="rect">
            <a:avLst/>
          </a:prstGeom>
          <a:ln w="0">
            <a:noFill/>
          </a:ln>
        </p:spPr>
      </p:pic>
      <p:pic>
        <p:nvPicPr>
          <p:cNvPr id="146" name="Completeness%20Checklist2" descr=""/>
          <p:cNvPicPr/>
          <p:nvPr/>
        </p:nvPicPr>
        <p:blipFill>
          <a:blip r:embed="rId2"/>
          <a:stretch/>
        </p:blipFill>
        <p:spPr>
          <a:xfrm>
            <a:off x="457200" y="5181480"/>
            <a:ext cx="84582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052-D3F3-481A-A202-464692BA87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What is eZ-Audit?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Z-Audit is a web-based application that allows you to submit your financial statements and compliance audits electronically to the Department of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961-B409-40B6-A116-B773D38E6B4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 Uploading PDF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load PDF of financial statements and/or compliance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 for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ttachment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ed Financial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ance A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(Public and Not-For-Profit Schools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ve Ac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and pro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CAD8-6449-429C-9B25-28F333A5E1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aking it EZ – Uploading PDF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50" name="Upload%20Page1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83908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26D-D302-4D5F-AD9A-8ADC0E3898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- Submitting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t the “Submit to ED” b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eive instant acknowledge of rece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585858"/>
                </a:solidFill>
                <a:latin typeface="Arial"/>
              </a:rPr>
              <a:t>Your FYE 12/31/2003 Annual Submission submitted on 10/15/2004 12:44:08 has been received. Review of your submission has not yet started.</a:t>
            </a:r>
            <a:r>
              <a:rPr b="0" lang="en-US" sz="3200" spc="-1" strike="noStrike">
                <a:solidFill>
                  <a:srgbClr val="585858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9BE1-E04B-40F6-8347-38C77CD6E9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- Submitting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54" name="SubmittoED" descr=""/>
          <p:cNvPicPr/>
          <p:nvPr/>
        </p:nvPicPr>
        <p:blipFill>
          <a:blip r:embed="rId1"/>
          <a:stretch/>
        </p:blipFill>
        <p:spPr>
          <a:xfrm>
            <a:off x="152280" y="2076480"/>
            <a:ext cx="8763120" cy="4324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971800" y="5410080"/>
            <a:ext cx="60948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DDD3-A4C1-436E-A798-E08071F23B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Making it EZ – Resubmission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b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fied by 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-up emails sent every 15 days up to 45 days until resubmission is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posted to Institution Hom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required to update the portion of submission deemed 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07C-226E-4D5E-AAA6-46F26B7CEA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Keeping it EZ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s of submissions available 24/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Submission Due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Submission Receipt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due Not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status (complete or incompl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8E8-7E10-46EE-B354-C1605E17CB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Keeping it EZ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Audit Determination Letter was sent on mm/dd/yyy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Letter of Credit was received on mm/dd/yyy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AA1-1496-4D28-899E-4449BD411C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Keeping it EZ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users hav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ol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username and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have a new Institution Administrator, a new registration letter must be sub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Password (expires every 90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1D6F-7AFD-484B-897A-5E3B887F3A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Keeping it EZ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sit our websites for updates on eZ-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Z-Audit (</a:t>
            </a:r>
            <a:r>
              <a:rPr b="0" lang="en-US" sz="36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www.ezaudit.ed.go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AP (</a:t>
            </a:r>
            <a:r>
              <a:rPr b="0" lang="en-US" sz="36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www.ifap.ed.</a:t>
            </a:r>
            <a:r>
              <a:rPr b="0" lang="en-US" sz="36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go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go to Publications, Audit Guidance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6C5-E82E-4CB3-9C2E-1DDE016B6B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Keeping it EZ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 to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ly Asked Questions (F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Creating an eZ-Audit Sub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ubmiss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a 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83C-5857-4F4C-8897-A152EA247B8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Why eZ-Audit?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d you know that FSA receives over 13,000 financial statements and compliance audits annual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you ever been told that your financial statements and/or compliance audits have been lost?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you ever just wanted to know the status of your repor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E1E-462F-4385-B21B-3C864390666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Z-Audit Help Desk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 Comments, Technical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Monday – 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:00 a.m to 5:00 p.m. (Eastern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877-263-07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fsaezaudit@ed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E85-4DCE-4B81-88E8-6AFA8E84C05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Questions and Answer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Appreciate Your Feedback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hank you for using eZ-Audit!!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E83-2BAF-44B7-AF3C-65CFFDCA3A1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What are the Benefits to eZ-Audit?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ant acknowledgement of receipt – no more lost financial statements and compliance audi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mission process should take less than 1 ho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s of Submissions accessible on-line 24/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49D-7B30-4469-B63C-2E39B8B850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Z-Audit Fact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Z-Audit went live on April 1, 20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,860 Registe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s of 9/30/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,378 Submiss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ceived 4/1/03 – 9/30/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,826 Incomplete Submi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ceived 4/1/03 – 9/30/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7FE-426C-4F5F-8D87-E2EF4DC859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 Past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03" name="BD07153_" descr=""/>
          <p:cNvPicPr/>
          <p:nvPr/>
        </p:nvPicPr>
        <p:blipFill>
          <a:blip r:embed="rId1"/>
          <a:stretch/>
        </p:blipFill>
        <p:spPr>
          <a:xfrm>
            <a:off x="304920" y="4903920"/>
            <a:ext cx="1646280" cy="1801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2120" y="2514600"/>
            <a:ext cx="77324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, copy, and mail aud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Calling – “We did not receive your audit” More copies to mak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Calling – “It’s been two weeks, did you receive it, is it completed y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E03254_" descr=""/>
          <p:cNvPicPr/>
          <p:nvPr/>
        </p:nvPicPr>
        <p:blipFill>
          <a:blip r:embed="rId2"/>
          <a:stretch/>
        </p:blipFill>
        <p:spPr>
          <a:xfrm>
            <a:off x="533520" y="3505320"/>
            <a:ext cx="1406520" cy="1268280"/>
          </a:xfrm>
          <a:prstGeom prst="rect">
            <a:avLst/>
          </a:prstGeom>
          <a:ln w="0">
            <a:noFill/>
          </a:ln>
        </p:spPr>
      </p:pic>
      <p:pic>
        <p:nvPicPr>
          <p:cNvPr id="106" name="PE01616_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1695600" cy="150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EAD-5B9C-41DA-A78B-E4A8621426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 Present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2212920" y="2309760"/>
            <a:ext cx="688932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ailing, simply enter data in eZ-Audit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eems easy, but I still have ques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ceived it, but it was not that eas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 no, I have to resubmi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ting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D06790_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1355760" cy="1120680"/>
          </a:xfrm>
          <a:prstGeom prst="rect">
            <a:avLst/>
          </a:prstGeom>
          <a:ln w="0">
            <a:noFill/>
          </a:ln>
        </p:spPr>
      </p:pic>
      <p:pic>
        <p:nvPicPr>
          <p:cNvPr id="110" name="PE03254_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1406520" cy="1268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4648320"/>
            <a:ext cx="990360" cy="914400"/>
          </a:xfrm>
          <a:prstGeom prst="uturnArrow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06790_" descr=""/>
          <p:cNvPicPr/>
          <p:nvPr/>
        </p:nvPicPr>
        <p:blipFill>
          <a:blip r:embed="rId3"/>
          <a:stretch/>
        </p:blipFill>
        <p:spPr>
          <a:xfrm>
            <a:off x="533520" y="5715000"/>
            <a:ext cx="1295280" cy="106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73D-5306-41AD-ABF9-24EB4CBF95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 Future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2286000"/>
            <a:ext cx="38102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ap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and check your status on-li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easy!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E01616_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2438280" cy="1547640"/>
          </a:xfrm>
          <a:prstGeom prst="rect">
            <a:avLst/>
          </a:prstGeom>
          <a:ln w="0">
            <a:noFill/>
          </a:ln>
        </p:spPr>
      </p:pic>
      <p:pic>
        <p:nvPicPr>
          <p:cNvPr id="116" name="PE01616_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2438280" cy="1547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3520" y="1828800"/>
            <a:ext cx="1828800" cy="1447920"/>
          </a:xfrm>
          <a:prstGeom prst="noSmoking">
            <a:avLst>
              <a:gd name="adj" fmla="val 12500"/>
            </a:avLst>
          </a:pr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D06790_" descr=""/>
          <p:cNvPicPr/>
          <p:nvPr/>
        </p:nvPicPr>
        <p:blipFill>
          <a:blip r:embed="rId3"/>
          <a:stretch/>
        </p:blipFill>
        <p:spPr>
          <a:xfrm>
            <a:off x="914400" y="5334120"/>
            <a:ext cx="1295280" cy="1069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2920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85800" y="3505320"/>
            <a:ext cx="1603440" cy="1350720"/>
            <a:chOff x="685800" y="3505320"/>
            <a:chExt cx="1603440" cy="1350720"/>
          </a:xfrm>
        </p:grpSpPr>
        <p:pic>
          <p:nvPicPr>
            <p:cNvPr id="121" name="BS00580_" descr=""/>
            <p:cNvPicPr/>
            <p:nvPr/>
          </p:nvPicPr>
          <p:blipFill>
            <a:blip r:embed="rId4"/>
            <a:stretch/>
          </p:blipFill>
          <p:spPr>
            <a:xfrm>
              <a:off x="685800" y="3505320"/>
              <a:ext cx="1603440" cy="13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ed_logo_test" descr=""/>
            <p:cNvPicPr/>
            <p:nvPr/>
          </p:nvPicPr>
          <p:blipFill>
            <a:blip r:embed="rId5"/>
            <a:stretch/>
          </p:blipFill>
          <p:spPr>
            <a:xfrm>
              <a:off x="1219320" y="3733920"/>
              <a:ext cx="45720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53B-96DD-4E17-8DFC-65C247F737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Getting Started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your Institution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nd manages access to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s usernames and 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s security information regarding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your registration letter and send to     eZ-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 Username and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via email to Institution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n to 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www.ezaudit.ed.go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nd verify registration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A30-65D5-4ED9-A163-134E38E37F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2:29:55Z</dcterms:modified>
  <cp:revision>93</cp:revision>
  <dc:subject/>
  <dc:title>PowerPoint Presentation</dc:title>
</cp:coreProperties>
</file>