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BC0E-6917-46F8-B8BA-7CD8A334C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09DA-5C2E-45F4-B76E-95904647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DB5C-C2C9-4ABA-86B4-6E1F4782B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09EB-8412-42DB-8DA2-5593E436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99F3-E8CD-483A-ADFD-02A967EB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2E29-9638-47F6-992E-DE7BBE90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53A9-D6F3-41E7-9549-3A6FD3DE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DEDD-ECE5-4A35-9AD2-9C12EDDC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B094-C7F4-4D57-BD59-5DDB8927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8F5C-F6B5-4C2C-B40D-CE8DB153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53DA-69B8-4B37-AFFA-5F6B085F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34E6-E7F7-47DF-9543-5F7F657E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781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762120"/>
            <a:ext cx="8305920" cy="7617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905120"/>
            <a:ext cx="4724640" cy="1522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6320" y="76320"/>
          <a:ext cx="1371600" cy="7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76320"/>
                    <a:ext cx="13716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06C1-0DA0-4BD2-A966-66079E2A5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0"/>
            <a:ext cx="1447920" cy="6705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666880"/>
            <a:ext cx="8229600" cy="762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4648320"/>
            <a:ext cx="4724280" cy="15228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324480" y="533520"/>
          <a:ext cx="2514600" cy="135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533520"/>
                    <a:ext cx="251460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zaudit.ed.gov/" TargetMode="External"/><Relationship Id="rId2" Type="http://schemas.openxmlformats.org/officeDocument/2006/relationships/hyperlink" Target="http://www.ifap.ed.gov/" TargetMode="External"/><Relationship Id="rId3" Type="http://schemas.openxmlformats.org/officeDocument/2006/relationships/hyperlink" Target="http://www.ifap.ed.gov/" TargetMode="External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zaudit.ed.gov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t the EZ in eZ-Aud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920" y="5029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 B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6858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ssion 4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Making it EZ – Know Your Users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You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Entry:  Enters data into eZ-Audit, attaches 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er:  Reviews and approves submission prior to submitting to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 users a username and pass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all users sign the Rules of Behavio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786D-41AC-49D6-93F9-44A4B34060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Making it EZ – Preparing to Submit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udit prepared and ready to sub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tatements and/or Compliance Audit must be converted to a 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tures must be scan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s must be on auditor’s lett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PDF on hard drive or desk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 Audit Firm’s 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93B5-DCDF-4051-A09F-65FB5AC4F1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Making it EZ – Types of Submissions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FYE Annual Sub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participating institutions submitting annual financial statements and compliance audit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nk will list the fiscal year end (FYE) that is d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 FYE annual submission must be received prior to submitting current F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7A91-5FD2-4F6A-9488-E0957A1400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Making it EZ – Types of Submissions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Sub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er/Change in Owne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Fiscal Year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b Au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out Au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tion/Wa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831C-C877-47C7-B5EA-BF509BB370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Making it EZ –Types of Submissions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134" name="Institution%20HomePage%201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458200" cy="4525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2280" y="3581280"/>
            <a:ext cx="2667240" cy="289584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1472-E90F-41FA-9ADA-06C66D7432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Making it EZ – Entering Data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your financial statements and/or compliance audit to enter summary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emplates do not match financial statements, enter zero (0) in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 to help – Definitions of accounting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 checks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sions sa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3222-CD93-4E2B-952E-B509697755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Making it EZ – Entering Data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139" name="Balance%20Sheet1" descr=""/>
          <p:cNvPicPr/>
          <p:nvPr/>
        </p:nvPicPr>
        <p:blipFill>
          <a:blip r:embed="rId1"/>
          <a:stretch/>
        </p:blipFill>
        <p:spPr>
          <a:xfrm>
            <a:off x="0" y="1933560"/>
            <a:ext cx="8686800" cy="467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E24B-29BA-4FCB-9701-E348C2047F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Making it EZ – Entering Data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Grou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 considers a school group a group of schools whereby a single school within the group submits financial statements and/or a compliance audit covering multiple OPE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school group information prior to starting sub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fy eZ-Audit Help Desk of discrepa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257B-7E68-45B3-B30D-549501DAE7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Making it EZ – Completeness Checklis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point to ensure that all necessary documentation and/or data is provided with your sub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Contact Information (just in case we have ques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dditional Comments (Is there something else you want us to know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364F-84EE-46AF-AB82-9A1AE18A72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Making it EZ – Completeness Checklis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145" name="Checklist1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8790120" cy="3124080"/>
          </a:xfrm>
          <a:prstGeom prst="rect">
            <a:avLst/>
          </a:prstGeom>
          <a:ln w="0">
            <a:noFill/>
          </a:ln>
        </p:spPr>
      </p:pic>
      <p:pic>
        <p:nvPicPr>
          <p:cNvPr id="146" name="Completeness%20Checklist2" descr=""/>
          <p:cNvPicPr/>
          <p:nvPr/>
        </p:nvPicPr>
        <p:blipFill>
          <a:blip r:embed="rId2"/>
          <a:stretch/>
        </p:blipFill>
        <p:spPr>
          <a:xfrm>
            <a:off x="457200" y="5181480"/>
            <a:ext cx="845820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49F0-231F-4732-8321-47330E9736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What is eZ-Audit?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Z-Audit is a web-based application that allows you to submit your financial statements and compliance audits electronically to the Department of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8735-1E6D-4147-8900-903A3BBFDA0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Making it EZ – Uploading PDF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load PDF of financial statements and/or compliance au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wse for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attachment ty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ted Financial 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iance Aud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(Public and Not-For-Profit Schools on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ive Action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and proc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892C-50CA-4B5C-A513-059F996D13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Making it EZ – Uploading PDF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150" name="Upload%20Page1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83908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BC48-79E4-4AC2-9CBE-805A8B58E1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Making it EZ - Submitting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t the “Submit to ED” but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eive instant acknowledge of rece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8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585858"/>
                </a:solidFill>
                <a:latin typeface="Arial"/>
              </a:rPr>
              <a:t>Your FYE 12/31/2003 Annual Submission submitted on 10/15/2004 12:44:08 has been received. Review of your submission has not yet started.</a:t>
            </a:r>
            <a:r>
              <a:rPr b="0" lang="en-US" sz="3200" spc="-1" strike="noStrike">
                <a:solidFill>
                  <a:srgbClr val="585858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8FEB-F0A9-462C-8B97-8950A2F37C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Making it EZ - Submitting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154" name="SubmittoED" descr=""/>
          <p:cNvPicPr/>
          <p:nvPr/>
        </p:nvPicPr>
        <p:blipFill>
          <a:blip r:embed="rId1"/>
          <a:stretch/>
        </p:blipFill>
        <p:spPr>
          <a:xfrm>
            <a:off x="152280" y="2076480"/>
            <a:ext cx="8763120" cy="43243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971800" y="5410080"/>
            <a:ext cx="609480" cy="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7938-B1A5-4C19-B80E-B79B3D46EF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Making it EZ – Resubmission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b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fied by e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-up emails sent every 15 days up to 45 days until resubmission is rece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er posted to Institution Home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required to update the portion of submission deemed in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21CF-154C-41D5-A197-5981380E8C0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Keeping it EZ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us of submissions available 24/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Submission Due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Submission Receipt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due Not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status (complete or incomple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EF25-B77B-4E43-B463-DB14B62BB7E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Keeping it EZ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Audit Determination Letter was sent on mm/dd/yyy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Letter of Credit was received on mm/dd/yyy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0911-6796-4F8F-82E9-454B7AAB577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Keeping it EZ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users have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old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 username and pass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have a new Institution Administrator, a new registration letter must be submi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Password (expires every 90 da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A052-AE45-4EAE-806B-91888B1FFC0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Keeping it EZ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sit our websites for updates on eZ-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Z-Audit (</a:t>
            </a:r>
            <a:r>
              <a:rPr b="0" lang="en-US" sz="36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www.ezaudit.ed.gov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AP (</a:t>
            </a:r>
            <a:r>
              <a:rPr b="0" lang="en-US" sz="3600" spc="-1" strike="noStrike" u="sng">
                <a:solidFill>
                  <a:srgbClr val="003399"/>
                </a:solidFill>
                <a:uFillTx/>
                <a:latin typeface="Arial"/>
                <a:hlinkClick r:id="rId2"/>
              </a:rPr>
              <a:t>www.ifap.ed.</a:t>
            </a:r>
            <a:r>
              <a:rPr b="0" lang="en-US" sz="3600" spc="-1" strike="noStrike" u="sng">
                <a:solidFill>
                  <a:srgbClr val="003399"/>
                </a:solidFill>
                <a:uFillTx/>
                <a:latin typeface="Arial"/>
                <a:hlinkClick r:id="rId3"/>
              </a:rPr>
              <a:t>gov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go to Publications, Audit Guidance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7E53-35A0-47CF-B8CE-3B66645762C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Keeping it EZ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er to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tly Asked Questions (F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to Creating an eZ-Audit Sub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Submission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a 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line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7C8D-C9AC-4B18-B923-BD47D7C230D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Why eZ-Audit?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d you know that FSA receives over 13,000 financial statements and compliance audits annuall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 you ever been told that your financial statements and/or compliance audits have been lost?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 you ever just wanted to know the status of your repor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3285-99F0-478C-A97D-6F7E1B94AE0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eZ-Audit Help Desk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, Comments, Technical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 Monday – Fri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:00 a.m to 5:00 p.m. (Eastern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877-263-07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: fsaezaudit@ed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4144-BEF3-48C2-9D56-1A7E27CE7C3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Questions and Answer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Appreciate Your Feedback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Thank you for using eZ-Audit!!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ADC5-F47A-4F0E-95F8-EC04A14B709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What are the Benefits to eZ-Audit?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tant acknowledgement of receipt – no more lost financial statements and compliance audit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bmission process should take less than 1 hou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us of Submissions accessible on-line 24/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055F-A211-4823-AEAB-09F183EF77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eZ-Audit Facts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Z-Audit went live on April 1, 20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,860 Register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s of 9/30/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,378 Submiss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ceived 4/1/03 – 9/30/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,826 Incomplete Submiss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Received 4/1/03 – 9/30/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1EF0-EC3D-4C62-B015-FF08F39C7B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The Past</a:t>
            </a: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103" name="BD07153_" descr=""/>
          <p:cNvPicPr/>
          <p:nvPr/>
        </p:nvPicPr>
        <p:blipFill>
          <a:blip r:embed="rId1"/>
          <a:stretch/>
        </p:blipFill>
        <p:spPr>
          <a:xfrm>
            <a:off x="304920" y="4903920"/>
            <a:ext cx="1646280" cy="1801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62120" y="2514600"/>
            <a:ext cx="773244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, copy, and mail aud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 Calling – “We did not receive your audit” More copies to mak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Calling – “It’s been two weeks, did you receive it, is it completed ye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E03254_" descr=""/>
          <p:cNvPicPr/>
          <p:nvPr/>
        </p:nvPicPr>
        <p:blipFill>
          <a:blip r:embed="rId2"/>
          <a:stretch/>
        </p:blipFill>
        <p:spPr>
          <a:xfrm>
            <a:off x="533520" y="3505320"/>
            <a:ext cx="1406520" cy="1268280"/>
          </a:xfrm>
          <a:prstGeom prst="rect">
            <a:avLst/>
          </a:prstGeom>
          <a:ln w="0">
            <a:noFill/>
          </a:ln>
        </p:spPr>
      </p:pic>
      <p:pic>
        <p:nvPicPr>
          <p:cNvPr id="106" name="PE01616_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1695600" cy="150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2C29-E0A4-4640-996D-C56C0EF9A0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The Present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2212920" y="2309760"/>
            <a:ext cx="688932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ailing, simply enter data in eZ-Audit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eems easy, but I still have ques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received it, but it was not that eas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h no, I have to resubmi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ting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BD06790_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1355760" cy="1120680"/>
          </a:xfrm>
          <a:prstGeom prst="rect">
            <a:avLst/>
          </a:prstGeom>
          <a:ln w="0">
            <a:noFill/>
          </a:ln>
        </p:spPr>
      </p:pic>
      <p:pic>
        <p:nvPicPr>
          <p:cNvPr id="110" name="PE03254_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1406520" cy="1268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2120" y="4648320"/>
            <a:ext cx="990360" cy="914400"/>
          </a:xfrm>
          <a:prstGeom prst="uturnArrow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D06790_" descr=""/>
          <p:cNvPicPr/>
          <p:nvPr/>
        </p:nvPicPr>
        <p:blipFill>
          <a:blip r:embed="rId3"/>
          <a:stretch/>
        </p:blipFill>
        <p:spPr>
          <a:xfrm>
            <a:off x="533520" y="5715000"/>
            <a:ext cx="1295280" cy="106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ECF9-4E48-4AA9-8F97-BC2049D493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The Future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2286000"/>
            <a:ext cx="381024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ap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 and check your status on-lin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easy!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E01616_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2438280" cy="1547640"/>
          </a:xfrm>
          <a:prstGeom prst="rect">
            <a:avLst/>
          </a:prstGeom>
          <a:ln w="0">
            <a:noFill/>
          </a:ln>
        </p:spPr>
      </p:pic>
      <p:pic>
        <p:nvPicPr>
          <p:cNvPr id="116" name="PE01616_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2438280" cy="1547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33520" y="1828800"/>
            <a:ext cx="1828800" cy="1447920"/>
          </a:xfrm>
          <a:prstGeom prst="noSmoking">
            <a:avLst>
              <a:gd name="adj" fmla="val 12500"/>
            </a:avLst>
          </a:prstGeom>
          <a:solidFill>
            <a:srgbClr val="cc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BD06790_" descr=""/>
          <p:cNvPicPr/>
          <p:nvPr/>
        </p:nvPicPr>
        <p:blipFill>
          <a:blip r:embed="rId3"/>
          <a:stretch/>
        </p:blipFill>
        <p:spPr>
          <a:xfrm>
            <a:off x="914400" y="5334120"/>
            <a:ext cx="1295280" cy="1069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12920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85800" y="3505320"/>
            <a:ext cx="1603440" cy="1350720"/>
            <a:chOff x="685800" y="3505320"/>
            <a:chExt cx="1603440" cy="1350720"/>
          </a:xfrm>
        </p:grpSpPr>
        <p:pic>
          <p:nvPicPr>
            <p:cNvPr id="121" name="BS00580_" descr=""/>
            <p:cNvPicPr/>
            <p:nvPr/>
          </p:nvPicPr>
          <p:blipFill>
            <a:blip r:embed="rId4"/>
            <a:stretch/>
          </p:blipFill>
          <p:spPr>
            <a:xfrm>
              <a:off x="685800" y="3505320"/>
              <a:ext cx="1603440" cy="135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ed_logo_test" descr=""/>
            <p:cNvPicPr/>
            <p:nvPr/>
          </p:nvPicPr>
          <p:blipFill>
            <a:blip r:embed="rId5"/>
            <a:stretch/>
          </p:blipFill>
          <p:spPr>
            <a:xfrm>
              <a:off x="1219320" y="3733920"/>
              <a:ext cx="457200" cy="3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F4E6-AD0C-48B4-ABF2-55EB082C5F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Getting Started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your Institution Admini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nd manages access to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ts usernames and pass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s security information regarding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your registration letter and send to     eZ-Au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 Username and Pass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 via email to Institution Admini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n to </a:t>
            </a: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www.ezaudit.ed.gov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nd verify registration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AC4A-8FF4-49CD-9B38-53E395D487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6:11:26Z</dcterms:created>
  <dc:creator>jennifer.do</dc:creator>
  <dc:description/>
  <dc:language>en-US</dc:language>
  <cp:lastModifiedBy>jennifer.do</cp:lastModifiedBy>
  <dcterms:modified xsi:type="dcterms:W3CDTF">2004-12-14T22:29:55Z</dcterms:modified>
  <cp:revision>93</cp:revision>
  <dc:subject/>
  <dc:title>PowerPoint Presentation</dc:title>
</cp:coreProperties>
</file>