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825-7525-415E-AF13-900B92FE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9F4-A7AB-4AE8-89EC-C4904921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ED4-3FCD-4311-B70D-3D397C64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136-49AB-489C-82C7-2F1D81BB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A7E-31CB-43E3-90C7-7D3BF66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B6C-3D9B-45FB-A6A2-EEE2EAFC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F8D-F5B8-451F-B484-12111DF1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731-6294-4783-8B91-71DEC383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E97-ED87-44FA-90B4-01C4D0D0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624-0E49-42F5-885C-0416E13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845-470D-43EB-9814-09FCDB8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11B-ED56-49BC-BB84-7FD10FC3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CC9C-63C6-480D-B246-CB0ACC457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pesc.org/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Kristi_blabaum@educaid.com" TargetMode="External"/><Relationship Id="rId2" Type="http://schemas.openxmlformats.org/officeDocument/2006/relationships/hyperlink" Target="mailto:Kristi_blabaum@educaid.com" TargetMode="External"/><Relationship Id="rId3" Type="http://schemas.openxmlformats.org/officeDocument/2006/relationships/hyperlink" Target="mailto:Kristi_blabaum@educaid.com" TargetMode="External"/><Relationship Id="rId4" Type="http://schemas.openxmlformats.org/officeDocument/2006/relationships/hyperlink" Target="mailto:Kristi_blabaum@educaid.com" TargetMode="External"/><Relationship Id="rId5" Type="http://schemas.openxmlformats.org/officeDocument/2006/relationships/hyperlink" Target="mailto:Kristi_blabaum@educaid.com" TargetMode="External"/><Relationship Id="rId6" Type="http://schemas.openxmlformats.org/officeDocument/2006/relationships/hyperlink" Target="mailto:kshiflet@usafunds.org" TargetMode="External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Record: CommonLine 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sti Blab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 Shifl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usiness Require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current CommonLine 5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flexibility of FFELP processing for our schoo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ulate CR:COD where applicable.  Structure, processing, and naming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ross industry data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5EB-7DFD-45AA-9AFF-1FDC4617A0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Key Differe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mats, new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Period Start and End dates are now referred to as 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AwardBeginDat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FinancialAwardEndDat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are used when possible to represent information. For example, US Citizen value (1) is now “Citiz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udent - multipl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trailer or reconciliation at the documen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CB6-FD89-48F0-A8ED-A9342DC76F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Key Differences - continued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rds sorted by attending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“Requests” can be sent in the sam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ports School Assigned ID - student/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CA6-3E82-4859-B338-5159E4A1B7C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Record Structur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ord Structure - building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 (header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ended school (students are group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 (personal data – name, SSN, addres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n (application data – loan period, gra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leve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(loan data – certified amou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nd dates, person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for borrowers who are not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tudent, co-sign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(disb.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5FD-7A4E-49BB-B497-2C7284EC54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R COD Document Structur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120" y="1371600"/>
            <a:ext cx="7619760" cy="5105160"/>
            <a:chOff x="762120" y="1371600"/>
            <a:chExt cx="7619760" cy="5105160"/>
          </a:xfrm>
        </p:grpSpPr>
        <p:sp>
          <p:nvSpPr>
            <p:cNvPr id="124" name=""/>
            <p:cNvSpPr/>
            <p:nvPr/>
          </p:nvSpPr>
          <p:spPr>
            <a:xfrm>
              <a:off x="6015600" y="6107760"/>
              <a:ext cx="236592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42360" y="6107760"/>
              <a:ext cx="117288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62400" y="6107760"/>
              <a:ext cx="147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62080" y="6107760"/>
              <a:ext cx="130032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610776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5600" y="5738400"/>
              <a:ext cx="23659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42360" y="5738400"/>
              <a:ext cx="117288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62400" y="5738400"/>
              <a:ext cx="147996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62080" y="573840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573840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5600" y="5369040"/>
              <a:ext cx="236592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42360" y="5369040"/>
              <a:ext cx="117288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62400" y="5369040"/>
              <a:ext cx="147996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62080" y="5369040"/>
              <a:ext cx="130032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536904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5600" y="4999680"/>
              <a:ext cx="2365920" cy="369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2360" y="4999680"/>
              <a:ext cx="1172880" cy="369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62400" y="4999680"/>
              <a:ext cx="147996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62080" y="499968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499968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15600" y="4293000"/>
              <a:ext cx="23659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42360" y="4293000"/>
              <a:ext cx="1172880" cy="706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62400" y="4293000"/>
              <a:ext cx="1479960" cy="706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62080" y="4293000"/>
              <a:ext cx="1300320" cy="706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20" y="4293000"/>
              <a:ext cx="1299960" cy="706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5600" y="3587040"/>
              <a:ext cx="236592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42360" y="3587040"/>
              <a:ext cx="1172880" cy="705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3587040"/>
              <a:ext cx="1479960" cy="705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62080" y="3587040"/>
              <a:ext cx="1300320" cy="70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3587040"/>
              <a:ext cx="1299960" cy="7059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42360" y="3217680"/>
              <a:ext cx="3539160" cy="369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rd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62400" y="3217680"/>
              <a:ext cx="147996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2080" y="321768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120" y="321768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42360" y="2848680"/>
              <a:ext cx="3539160" cy="36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2400" y="2848680"/>
              <a:ext cx="147996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62080" y="2848680"/>
              <a:ext cx="130032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284868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5600" y="2478960"/>
              <a:ext cx="236592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62400" y="2478960"/>
              <a:ext cx="265320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62080" y="247896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47896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5600" y="2109960"/>
              <a:ext cx="236592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42360" y="2109960"/>
              <a:ext cx="117288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62080" y="2109960"/>
              <a:ext cx="278028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210996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5600" y="1740600"/>
              <a:ext cx="236592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42360" y="1740600"/>
              <a:ext cx="117288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62080" y="1740600"/>
              <a:ext cx="278028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174060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5600" y="1371600"/>
              <a:ext cx="236592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42360" y="1371600"/>
              <a:ext cx="117288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62400" y="1371600"/>
              <a:ext cx="147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20" y="1371600"/>
              <a:ext cx="260028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120" y="1371600"/>
              <a:ext cx="7619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6476760"/>
              <a:ext cx="7619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2120" y="1371600"/>
              <a:ext cx="0" cy="5105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1880" y="1371600"/>
              <a:ext cx="0" cy="5105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62080" y="1740600"/>
              <a:ext cx="631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62080" y="2109960"/>
              <a:ext cx="631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62080" y="1740600"/>
              <a:ext cx="0" cy="4367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62400" y="2478960"/>
              <a:ext cx="5019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2400" y="2478960"/>
              <a:ext cx="0" cy="3259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42360" y="2848680"/>
              <a:ext cx="3539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2360" y="3217680"/>
              <a:ext cx="3539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2360" y="2848680"/>
              <a:ext cx="0" cy="2520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15600" y="3587040"/>
              <a:ext cx="2365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5600" y="4293000"/>
              <a:ext cx="2365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0" y="3587040"/>
              <a:ext cx="0" cy="141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5600" y="4999680"/>
              <a:ext cx="2365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42360" y="5369040"/>
              <a:ext cx="3539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62400" y="5738400"/>
              <a:ext cx="5019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2080" y="6107760"/>
              <a:ext cx="631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47C-2CDF-4CF2-952F-739B665734D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Document Structur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1371600"/>
            <a:ext cx="7619760" cy="5105160"/>
            <a:chOff x="762120" y="1371600"/>
            <a:chExt cx="7619760" cy="5105160"/>
          </a:xfrm>
        </p:grpSpPr>
        <p:sp>
          <p:nvSpPr>
            <p:cNvPr id="200" name=""/>
            <p:cNvSpPr/>
            <p:nvPr/>
          </p:nvSpPr>
          <p:spPr>
            <a:xfrm>
              <a:off x="6015600" y="6107760"/>
              <a:ext cx="236592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2360" y="6107760"/>
              <a:ext cx="117288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62400" y="6107760"/>
              <a:ext cx="147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62080" y="6107760"/>
              <a:ext cx="130032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120" y="610776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15600" y="5738400"/>
              <a:ext cx="23659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42360" y="5738400"/>
              <a:ext cx="117288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2400" y="5738400"/>
              <a:ext cx="147996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62080" y="573840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73840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5600" y="5369040"/>
              <a:ext cx="236592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42360" y="5369040"/>
              <a:ext cx="117288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62400" y="5369040"/>
              <a:ext cx="147996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62080" y="5369040"/>
              <a:ext cx="130032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120" y="536904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15600" y="4999680"/>
              <a:ext cx="2365920" cy="369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42360" y="4999680"/>
              <a:ext cx="1172880" cy="369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2400" y="4999680"/>
              <a:ext cx="147996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62080" y="499968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499968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5600" y="4293000"/>
              <a:ext cx="23659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42360" y="4293000"/>
              <a:ext cx="1172880" cy="706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62400" y="4293000"/>
              <a:ext cx="1479960" cy="706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62080" y="4293000"/>
              <a:ext cx="1300320" cy="706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20" y="4293000"/>
              <a:ext cx="1299960" cy="706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15600" y="3587040"/>
              <a:ext cx="236592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42360" y="3587040"/>
              <a:ext cx="1172880" cy="705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62400" y="3587040"/>
              <a:ext cx="1479960" cy="705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62080" y="3587040"/>
              <a:ext cx="1300320" cy="70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3587040"/>
              <a:ext cx="1299960" cy="7059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42360" y="3217680"/>
              <a:ext cx="3539160" cy="369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rd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2400" y="3217680"/>
              <a:ext cx="147996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62080" y="321768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321768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42360" y="2848680"/>
              <a:ext cx="3539160" cy="36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62400" y="2848680"/>
              <a:ext cx="1479960" cy="369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62080" y="2848680"/>
              <a:ext cx="130032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284868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5600" y="2478960"/>
              <a:ext cx="236592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62400" y="2478960"/>
              <a:ext cx="2653200" cy="369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62080" y="2478960"/>
              <a:ext cx="1300320" cy="36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20" y="247896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5600" y="2109960"/>
              <a:ext cx="236592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42360" y="2109960"/>
              <a:ext cx="117288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62080" y="2109960"/>
              <a:ext cx="2780280" cy="36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2109960"/>
              <a:ext cx="129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15600" y="1740600"/>
              <a:ext cx="236592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42360" y="1740600"/>
              <a:ext cx="117288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2080" y="1740600"/>
              <a:ext cx="278028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120" y="1740600"/>
              <a:ext cx="1299960" cy="36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5600" y="1371600"/>
              <a:ext cx="236592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42360" y="1371600"/>
              <a:ext cx="117288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2400" y="1371600"/>
              <a:ext cx="147996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371600"/>
              <a:ext cx="2600280" cy="36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1371600"/>
              <a:ext cx="7619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6476760"/>
              <a:ext cx="7619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371600"/>
              <a:ext cx="0" cy="5105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1880" y="1371600"/>
              <a:ext cx="0" cy="5105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62080" y="1740600"/>
              <a:ext cx="631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62080" y="2109960"/>
              <a:ext cx="631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62080" y="1740600"/>
              <a:ext cx="0" cy="4367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2400" y="2478960"/>
              <a:ext cx="5019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62400" y="2478960"/>
              <a:ext cx="0" cy="3259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42360" y="2848680"/>
              <a:ext cx="3539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42360" y="3217680"/>
              <a:ext cx="3539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42360" y="2848680"/>
              <a:ext cx="0" cy="2520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5600" y="3587040"/>
              <a:ext cx="2365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5600" y="4293000"/>
              <a:ext cx="2365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5600" y="3587040"/>
              <a:ext cx="0" cy="1412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15600" y="4999680"/>
              <a:ext cx="23659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2360" y="5369040"/>
              <a:ext cx="3539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62400" y="5738400"/>
              <a:ext cx="50191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62080" y="6107760"/>
              <a:ext cx="631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791-E49C-4F87-A794-2864976715C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XML Structur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7524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ommonRecor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DocumentInformation&gt;&lt;/DocumentInform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AttendedSchoo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Stud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Loan&gt;&lt;/Loa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Award&gt;&lt;/Awar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Disbursement&gt;&lt;/Disburse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Stud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AttendedSchoo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CommonRecor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365-C606-4393-87BE-5F898A8BBD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Supported Process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a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an Reprint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an Termina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an Certifica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-guarantee Correction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-guarantee Chang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bursemen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98D-D0A4-4022-8E90-7D61BF1A041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Loan Reques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usiness Process - New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quests are combined in on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@1, @4, @7, @8 record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Record Type Indicators (A, C, R,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”: Loan Request (reprints, terminates and pre-guarantee corrections) and/or Post-Guarantee Change Requ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”: Loan Reques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”: Change Reques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A6A-5076-4252-B0D6-BB618D4B1FE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Loan Reques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ditional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Day Override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pass credit statu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data for Pre-guarantee Corrections, Reprint and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Amounts can be passed for Stafford and PLUS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AA2-B406-4C34-87A6-C5C9CFC5C9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ssion Objectiv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/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fferences from Comm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:C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’s Next  - Steps and 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D65-5B50-4AE5-83A4-2278478F5F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Change Reques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Borrowe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Level Cod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ward Perio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ion D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R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FCF-C049-46BC-BF26-314C1AAA9F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Change Reques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disbursemen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D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Disbursement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Disbursement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/Partial Disbursement Increase and/or Rein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and Releas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D8F-EAAE-428D-8557-3B907414849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Change Reques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Reallocation with Post-disbursement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Reallocation with Loan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Increase and Disbursement Addition or Disbursement D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78E-4171-4699-8CE3-A89FF18F95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Change Reques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disbursemen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Disbursement Re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Disbursement Re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Disbursement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Disbursement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or Partial Disbursement Rein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withdrawal Return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withdrawal Return of Funds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D08-2428-4FF9-82A7-538E89B2095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Change Reques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 Process - New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ori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updates with one record - no more @1-05, @1-07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changed data elements need to b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p to the recipient to determine the intent of the requ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change per element per student may be requested in each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be easier for SIS and FAMS providers to design and program the chang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400-16B4-49CD-A7D2-C24E9B3A287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Response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3 Response Formats now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n image of the student and loan data on the service provider’s system at the time the response is created plus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ata tags and values sent in the original change request plus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sponse data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Data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Status of th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errors identified during processing of th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EFA-0C96-467B-9B5C-943264CD750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Response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usiness Process - New Structure and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ed Error Codes to be more COD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e format override capability -&lt;FullResponse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are associated with each individual block of the request document  - not to th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 may accept one block of the student’s loan request, while rejecting other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mited error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02C-C901-45A5-AD0F-5FCED87314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Disbursement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Business Process - New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parate Document Types for Disbursement Roster, Forecasts and Acknowledgem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Acknowledgement contains response data and has it’s own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D9C-A04B-45EE-96E6-D723F0C039D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llabor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ngineering required highly cooperative collaboration betwee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CHELP Electronic Standards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le for the creation and maintenance of standards for the electronic exchange of information for FFELP and alternative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e industry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Secondary Electronic Standards Council (PESC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n umbrella organization for all wishing to support electronic standards in highe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artment of Education F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721-6ADE-4FEB-B9F0-858F5BB8B4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Progress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llaboration continues to move us for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hools, The College Board, Datatel, Oracle, PeopleSoft, SCT Corp., and Sigma Systems have all indicated their support of the new CR:C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nders, guarantors, and servicers have also indicated their support and intent to implement the new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1B9-9397-4BBA-9A9A-14E5AF8F8BD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Define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on Record: CommonLine (CR: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new XML-based electronic data exchange standard for FFELP and alternative loan origination and disbursement process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62A-5BC1-42F4-BE4C-FE8AA0F1F16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Docu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Guide development proceeded at an accelerated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ation published – Jul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ion 5 has now been pu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ation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onents Data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c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381-BA4E-4ECB-8E88-CD19B17C556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Docu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lementation Guide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finitions and vali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Document Element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standard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rosswalk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16D-201C-420F-8E90-A91E8687664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Next Steps for FFELP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tune and finalize schema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tune and update the documentation  - version 1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solve reported issu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going training, education, and 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FFELP community transition to the new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41F-76FF-4FBA-999D-D38E8251C0E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R:C Test Too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es format, content and provide cross field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 provide common validation of the interpretation and programming of the Implementation Guide and to certify participant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Request  -  Availabl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– Available 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Certification – Availabl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ment – Availabl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– November/Dec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CC6-E6C2-4B09-BAFB-EF598FF8D9F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ata Transport Standa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FELP Community has initiated a collaborative effort, managed under PESC, with software providers, FSA, ELM, lenders, guarantors, and servicers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ntify standard transport tools and protoc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can be employed as a standard across higher education for the batch and real-time electronic exchange of data.  Particularly important because of the large data payloads resulting from the use of XML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185-182C-4A3E-8181-E5A3A5F076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ata Transport Standa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process expectation (immediate, deferred,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data (XML, flat file, imag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business process (transcripts, loan requests, loan counseling, inquiries, funding, updat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system (Java, .net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(2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0AA-415D-483D-9079-6EA6AC22F27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ata Transport Standa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 Data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arante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cost and technology not a b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ilize ope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interoperability – platform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set payload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223-57E1-48B9-A339-C34CF7983FF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ata Transport Standa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ference implementation has been accomp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operability between .net and Java has been 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sues have been 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spects of the standard are being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to publish standard in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B28-5A0D-4198-992B-C56F079E476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mplementation – FAMS Vendor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ic Standards Committee has been in close touch with College Board, Datatel, PeopleSoft, Oracle, SCT, Sigma for their p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re in various stages of analysis and are forecasting production implementations between Late Fall ’04 and Spring ’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19F-4BC8-46B4-9BCC-B971C8F840D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mplementation – Lenders, Guarantors, Servicer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enders, guarantors, and servicers are planning schedules parallel to the vendor timelin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re too early in analysis to determine if their implementation strategy will be all-in or phase-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hase-in, most would implement in lifecycl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phase-ins appear to be over months rather than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370-84AA-41F1-9977-97F4EC8389B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nvergence-Historical Perspectiv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P was pursuing implementation of  CommonLine 5.0 - Flat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ame time SIS and FAMS vendors were implementing FSA’s new COD Common Record XM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2001, began to consider the benefits of converging CommonLine and Common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2, convergence proposal approved by the Electronics Standards Committee (E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C76-2E0E-4FF4-9B58-3262689157B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this means for schoo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ith a FAM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y in touch with your vendor for updates on their implementation plans and your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your vendors to continue their development of CR:C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that do their own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all of the documentation available online for your IT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d training if more is schedu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0A5-9578-4CF5-AEC8-935E5124B6D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hat this means for service provider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will continue to support their current versions of CommonLine flat 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grade systems to support the CR:C XML proces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 CR:C XM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ing a system that supports CR: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 XML to flat file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rosswalks provided for trans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733-B86A-44AF-A700-B45829E3371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ome Considerations for Sch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 vendors and service providers for the functions that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implement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processes are important to you and find out which are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ethods will be used to send and receive data f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loans are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4A3-49E2-4FDD-A0C6-194AB202288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ome Considerations for School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sbursement options are o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rocessing benefits that you can derive from CRC and factor them into your planning for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closely at your expectations for chang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CRC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0E4-6D4D-4460-BC77-AD55A61FFA6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nformation Sourc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HELP - The CR:C Implementation Guide is available at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www.nchelp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– COD news, technical documentation, updates, etc. at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www.ifap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C – XML Technical Specifications, Data Dictionaries, Schemas, assistance and approvals, etc. at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pesc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 and Repository – Current schema, dictionary, etc.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www.fsaxmlregistry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943-A1BA-4F8E-AB9F-CE8836795D1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sti Blaba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0-529-0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Kristi_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blabaum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@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educaid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 Shiflet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7-806-1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kshiflet@usafund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ACF-8A20-4798-8E49-0189FE3A2C7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e welcome your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???????????????????????????????????????????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???????????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???????????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?????????????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?????????????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0A5-EECE-4608-A60D-4DE07CA29C6C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nvergence - Eff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FELP community, through NCHELP’s ESC and PESC, has invested heavily in the convergence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Common Data Dictionary across hig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similar XML sch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processing concepts where appropriate and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F18-1C88-44D0-A022-2B7C296BB1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ata Dictionar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names and characteristics of  data to ensure 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3505320"/>
          <a:ext cx="7924680" cy="27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9246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45D-9715-46E5-8AB5-F4209D24F3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XML Schem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inary English, definitions related to Schema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agrammatic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position of constituents in a pattern or according to a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e or systematic arr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XML terms it describes and constrains the content and sequence of content of XML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19B-F576-42E6-AE3A-AD872FBC3E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enefits of XML and CR:C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chools to use one Record structure between disparate databases or different systems - COD, CL, Meteor, Transcrip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lines the automation of Application and Disbursemen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Change Processes from  Transaction-based to End Result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is 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A27-B370-4944-BB05-F8657388C8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Benefits - continue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cord: CommonLine can suppo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’s XML record struc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let’s you se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the data nee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process being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 is designed to mee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S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AB8-E8E0-4FBB-A78A-DEB8D1B3A4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07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9925189</vt:r8>
  </property>
  <property fmtid="{D5CDD505-2E9C-101B-9397-08002B2CF9AE}" pid="3" name="_AuthorEmail">
    <vt:lpwstr>rk94273@imcnam.ssmb.com</vt:lpwstr>
  </property>
  <property fmtid="{D5CDD505-2E9C-101B-9397-08002B2CF9AE}" pid="4" name="_AuthorEmailDisplayName">
    <vt:lpwstr>King, Robert L</vt:lpwstr>
  </property>
  <property fmtid="{D5CDD505-2E9C-101B-9397-08002B2CF9AE}" pid="5" name="_EmailSubject">
    <vt:lpwstr>EAC Presentation</vt:lpwstr>
  </property>
  <property fmtid="{D5CDD505-2E9C-101B-9397-08002B2CF9AE}" pid="6" name="_ReviewingToolsShownOnce">
    <vt:lpwstr/>
  </property>
</Properties>
</file>