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1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2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9360"/>
            <a:ext cx="514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9080"/>
            <a:ext cx="30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397A-58BA-4775-91DA-EAFF0A634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7BF-E55F-479A-93BE-79E5D98D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86A-C004-40B7-8BC4-9190C96C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6DA-CB15-40AA-9EE3-487D8A2F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FAC-C442-4C7F-9C1E-2A02EC2B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AD9-531A-4520-93D1-A4C2898C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C2C-8C79-46F8-9F4D-1B442FD2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A6E-31D0-4877-A1A5-0BD6BA11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8A7-75A5-4CBC-880E-DF12B97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675-3268-4D09-93D6-53A84866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660-4A70-4EAA-8D6D-EA0F98B8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DE6-817D-494A-A419-B7892894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17D-B96A-473F-8D5E-7BB492BE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0C01-A0A5-406D-9DF5-4B7C9638A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www.barrysclipart.com/barrysclipart.com/showphoto.php?photo=28481&amp;papass=&amp;sort=1&amp;thecat=156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hyperlink" Target="http://www.barrysclipart.com/barrysclipart.com/showphoto.php?photo=27425&amp;papass=&amp;sort=1&amp;thecat=174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barrysclipart.com/barrysclipart.com/showphoto.php?photo=28481&amp;papass=&amp;sort=1&amp;thecat=156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 Me the Money:  How to Get &amp; Maintain Funding for Pell Grants, Campus-Based and Direct L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ony La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othy Dor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Karayia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mayne Co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143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Administrative Cost Allowance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 for every recipient award calc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y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, August, Aug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-2005 =  March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232-07D1-4C3E-B4BC-BDD28644DB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ngoing Pell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Funding/Student Dat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Funding/Student Data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S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/Business Office = ED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Reconciliation &amp; Closeout by Sept 30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2A5-E622-4095-8922-3D4385A7C2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ngoing Pell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Deadline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eptember 3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Relie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5BC-23B4-4E3F-B09C-F72A50CEDD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Funding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        CFL    =    Disb Records  =      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D)            (COD)               (GAPS)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3505320"/>
          <a:ext cx="8381880" cy="2514600"/>
        </p:xfrm>
        <a:graphic>
          <a:graphicData uri="http://schemas.openxmlformats.org/drawingml/2006/table">
            <a:tbl>
              <a:tblPr/>
              <a:tblGrid>
                <a:gridCol w="1295280"/>
                <a:gridCol w="2057400"/>
                <a:gridCol w="2743200"/>
                <a:gridCol w="22860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109-010D-43D7-80F6-6C15205EB1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Reconciliation Too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Year to Dat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Reconcili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Pending Disburse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E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Web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34F-5A5E-4DB2-8109-E3A77F8079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Negative Available Balan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2286000"/>
          <a:ext cx="7315200" cy="4097160"/>
        </p:xfrm>
        <a:graphic>
          <a:graphicData uri="http://schemas.openxmlformats.org/drawingml/2006/table">
            <a:tbl>
              <a:tblPr/>
              <a:tblGrid>
                <a:gridCol w="3200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 Balance in G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,000 in disbursement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 negative disburs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995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,00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FD5-66BB-4265-9136-4FA27E4BCF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How to Resolve Negative Balan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nd the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draw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C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4A7-A097-4900-9F89-9DE306013F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Award Year Funding Calendar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      -  Initial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 30    -  End of Fiscal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         -  Reduce to Disbursem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    -  1st ACA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-Aug  -  “W” Verification R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         -  2nd ACA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5EC-9E12-4122-BECE-A7D31E470C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Award Year Funding Calendar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 30    -  Award Year Close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-May  -  Administrative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        -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A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     - Reduction to GAPS drawd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d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F56-7D6B-49C7-92A8-C6454CEA0A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Calendar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2005 – 2006 Award Year</a:t>
            </a:r>
            <a:r>
              <a:rPr b="1" i="1" lang="en-US" sz="3600" spc="-1" strike="noStrike">
                <a:solidFill>
                  <a:srgbClr val="003366"/>
                </a:solidFill>
                <a:latin typeface="Arial Black"/>
              </a:rPr>
              <a:t>  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AP On the Web Available 8/1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ocation Form Due 8/20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al Awards Issued 9/15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AP &amp; Combined Certification Due 10/1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AP Edit Corrections Due 12/15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27B-F0D2-4BC4-A62A-C6E5739561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scussion Outlin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, Campus-Based, &amp; Direct Loan funds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refund and adjustment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7A7-0796-410C-B382-47C789B76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Calendar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2005 – 2006 Award Year (cont’d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wards Posted 2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-Use Waiver Request Due 2/1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Colleges Application Agreement Due 3/1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-Use Waiver Notification Issued 3/15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wards Issued 4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001-8AA7-4D70-9084-270872C7B9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Calendar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2005 – 2006 Award Year (cont’d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Service Waiver Request Due 4/30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-Out of Awards Posted 5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 Payments Issued 6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. Share Waiver Notification Issued 6/30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s Available for Draw Down 7/1/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D22-6385-4B2B-B83A-D9C3F0EC8A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Guarantee – The minimum award based on prior participation - barring pen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Need – Calculation based on tuition, enrollment &amp; eligible aid applica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Share – How much of the appropriation a school would receive based on its need compared to all other schools’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4D9-9662-4A97-B448-82A10483F3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Share Shortfall - amount by which Fair Share exceeds Adjusted Base Guara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use Penalty – Amount of previous year unexpended funds (if over 10% of total a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268-3F5B-4ACA-BA0D-5C29B0BCA8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ormula (Perkins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Approp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’s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Base Guarantee (reduced by reduction fa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058-0648-447A-A35B-E154A95772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 (Perkins –cont’d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Rate &gt; 25% - no funds aw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Guarantee + Fair Share - Underuse Penalty (OR) + Underuse Penal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F62-15AA-4704-9849-5F51A57FF1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 (FWS)</a:t>
            </a:r>
            <a:r>
              <a:rPr b="0" lang="en-US" sz="3600" spc="-1" strike="noStrike">
                <a:solidFill>
                  <a:srgbClr val="c1c1c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Approp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’s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Base Guara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5E3-E5C4-426C-B50A-9929AA3831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Funding Formula (FWS  – cont’d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Pro Rata and additional FWS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Guarantee + Fair Share – Underuse Penalty (OR) + Underuse Penal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36B-0828-443F-8FD4-96C119F3A6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ormula (FSEOG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Approp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’s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Base Guara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6D7-3D31-4D83-865A-E208F5C0CE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Programs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ormula (FSEOG)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-2000 Pro 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Guarantee + Fair Share – Underuse Penalty (OR) + Underuse Penal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ADD-0FE4-43E1-9320-483B0ED372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ogram Offices and GAP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ay Cash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aroun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3E8-4608-4B08-A90D-B97F41F7EF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ampus-Based Appropriation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47640" y="1981080"/>
            <a:ext cx="7848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EO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kins/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-200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770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98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65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-200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760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04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66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-200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725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11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67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-200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691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11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6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-200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631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34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-2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$619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7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E61-C9A5-4DCF-B257-52BF431567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aiver Processing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use Penalty Wa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ine 2/11/05 request via FI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II/V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application thru web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ed.gov/about/offices/list/ope/idues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ver Notification of FWS/FSEO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Share req – 6/30/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Service Wa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cd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ine for submission 5/21/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151-170E-4108-8C1B-A5472C44F0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ference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AP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bfisap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us-Based Call Center (877) 801-7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CBFOB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Pos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ifap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 Site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pin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id Internet Gateway 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fsawebenroll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BB1-E417-4FB1-B0CB-DACF0EB19A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Funds Control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 = obli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not limited by obligation but related to disbursemen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L increases as school submits disbursement records tim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980720" y="22096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601-8F89-4E06-9F38-BF23B44C6B4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CFL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in Febr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records drive CF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drawdowns should be substantiated within 3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374-5260-407A-AAC6-F9D5BBF231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560" y="456840"/>
            <a:ext cx="5819760" cy="11430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Example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art I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(04-05 Award Year) = $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draws $3M  on 5/1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ilable balance = $2M.  (5M-3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t. Of Substantiated cash = $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t. Of Unsubstantiated cash = $3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051680" y="990720"/>
          <a:ext cx="2092320" cy="26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990720"/>
                    <a:ext cx="2092320" cy="26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CA4-1E15-494F-A6C3-FA7721BB852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68880" y="6477120"/>
            <a:ext cx="289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Example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art II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459000" y="2057400"/>
            <a:ext cx="833724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rmAutofit fontScale="99000"/>
          </a:bodyPr>
          <a:p>
            <a:pPr marL="3312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reports $2M in disburs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 records on 5/10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spcBef>
                <a:spcPts val="7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l’s CFL increased to $7M (5+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spcBef>
                <a:spcPts val="7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available balance = $4M.  (7M-3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4880" indent="0">
              <a:spcBef>
                <a:spcPts val="774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t. Of Substantiated cash = $2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84880" indent="0">
              <a:spcBef>
                <a:spcPts val="774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mt. Of Unsubstantiated cash = $1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554880" y="1143000"/>
          <a:ext cx="213984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4880" y="1143000"/>
                    <a:ext cx="213984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B5D-85F0-42E7-AF49-566B12C7670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68880" y="6477120"/>
            <a:ext cx="289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Example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art III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reports $1M in disburs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 records on 5/20/0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624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l’s CFL increased to $8M (5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available balance = $5M.  (8M-3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675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t. Of Substantiated cash = $3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675"/>
              </a:spcBef>
              <a:buNone/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t. Of Unsubstantiated cash = $0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080120" y="838080"/>
          <a:ext cx="207828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0120" y="838080"/>
                    <a:ext cx="207828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517-D835-40FB-BC52-6B7B9754C7C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Direct Loan Reconciliation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ECB Equation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51784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1760" y="2517840"/>
            <a:ext cx="1554120" cy="138096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0000" y="251784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27240" y="277776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25696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960" y="4410000"/>
            <a:ext cx="1554120" cy="13813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466992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8600" y="4410000"/>
            <a:ext cx="1554120" cy="1381320"/>
          </a:xfrm>
          <a:prstGeom prst="rect">
            <a:avLst/>
          </a:prstGeom>
          <a:noFill/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84720" y="4669920"/>
            <a:ext cx="5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85960" y="4410000"/>
            <a:ext cx="1554120" cy="138132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79360" y="446220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9040" y="2505240"/>
            <a:ext cx="1554120" cy="138096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62800" y="2557080"/>
            <a:ext cx="58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519-6734-4AB4-887A-02029F7EF9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Reconcili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Funding/Student Data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Funding/Student Data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S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A /Business Office = ED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Reconcil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28A-228F-4C7D-9A76-2081E602EA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low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1579680" cy="1981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3504960" cy="1612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281952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3052800">
            <a:off x="6147000" y="3466440"/>
            <a:ext cx="1415880" cy="580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horiz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65372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5029200"/>
            <a:ext cx="190512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awdow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68840" y="3359160"/>
            <a:ext cx="1015560" cy="10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79600" y="3094560"/>
            <a:ext cx="994680" cy="127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8937800">
            <a:off x="1981080" y="3919320"/>
            <a:ext cx="213372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bursement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5638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5867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1dollar4-thumb" descr="dollar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00680" y="5972040"/>
            <a:ext cx="799920" cy="600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57800" y="685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ll and 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FA1-5C77-49DD-8B49-395710F6E70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Processing  Examp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      Disbursement      =     Net Draws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D)                      (GA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90720" y="3809880"/>
          <a:ext cx="7238880" cy="2311560"/>
        </p:xfrm>
        <a:graphic>
          <a:graphicData uri="http://schemas.openxmlformats.org/drawingml/2006/table">
            <a:tbl>
              <a:tblPr/>
              <a:tblGrid>
                <a:gridCol w="1523880"/>
                <a:gridCol w="3301920"/>
                <a:gridCol w="24130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,6,2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5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819520" y="563868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$6,250,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563868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$6,250,0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5638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97F-1EDB-4B38-9F71-42E53B5C404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rect Loan Reconciliation Too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chool Account Statement (SAS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Web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6F9-B43C-4168-A349-D69CB4D38BD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L SAS Report - Examp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752480"/>
            <a:ext cx="8915400" cy="57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S Year –To-Date Cash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Code:  G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Bal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et C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ed Disburs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9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ed Adjus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$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ooked Disburs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8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ing Cash 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3048120"/>
            <a:ext cx="373392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4572000"/>
            <a:ext cx="3657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715000" y="6248520"/>
            <a:ext cx="1752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5986440"/>
            <a:ext cx="12952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0D3-E81A-420C-BDB5-DD26F9FF42A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chool Funding Info Web Screen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924200"/>
            <a:ext cx="9144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DUCATION UNIVERS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Funding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Direct Loa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ward Yea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05-0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 CF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56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 CF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200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vailable Balanc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15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Cash &gt; NAP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0.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NAP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185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Net Drawdown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$185,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Disbursement To Drawdown Rati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1.000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5867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62485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5486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5029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5C5-8302-4FCF-8CDF-8564F347FC4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APS Functionality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award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ccess: What it looks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rocessed De-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E94-2E97-4BAB-9778-48B726930DD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APS Award Number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DA prefix (ex: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DA suffix (ex: 268, 0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 program identifier (ex: K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identifier (2003-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ion identifier (ex: 22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  =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268K042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  =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063P032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-Based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007A032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2A5-CAD4-4A87-A940-A5DAEC9150E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GAPS Acces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03200" y="16765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5 user IDs of each access per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form off e-payment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 completed form to G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2-205-07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87B-D53B-4E64-BE97-C5B21E0A985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85720" y="8380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iew-Only Log I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895480"/>
            <a:ext cx="2971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17C-19AB-4DCB-BC92-283100807C1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iew-Only Main Menu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2971800"/>
            <a:ext cx="3124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9F6-B1E5-4E2B-80B1-CDCF147EFD3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iew Access: Payment Reque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0D7-9027-498C-B9D1-CD8EBF126AE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Flow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1579680" cy="198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819520" cy="1981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43000" y="65372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4572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029200"/>
            <a:ext cx="190512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awdow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01880" y="2893320"/>
            <a:ext cx="996840" cy="10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1workstation94-thumb" descr="workstation9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16002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75800">
            <a:off x="3657600" y="1905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200400"/>
            <a:ext cx="2362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05000">
            <a:off x="5486040" y="3429000"/>
            <a:ext cx="1523880" cy="33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horiza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8720000">
            <a:off x="1905120" y="3809880"/>
            <a:ext cx="166680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5638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90920" y="5867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914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mpus-B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dollar4-thumb" descr="dollar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5972040"/>
            <a:ext cx="799920" cy="60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ED0-8FD3-4F48-A9DB-A07984B56127}" type="slidenum">
              <a:t>5</a:t>
            </a:fld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iew Access: Payment Reque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3124080"/>
            <a:ext cx="2514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09680" y="3886200"/>
            <a:ext cx="8384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5029200"/>
            <a:ext cx="121896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8D5-8D2C-4068-8D26-AC55BCF9C31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ll Access: Payment Reques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38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1E8-6043-4007-BBF6-D5982C4EF6E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5720" y="11430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APS Report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Activity by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Activity b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267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 Balance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1F0-66AE-4E6E-B4AD-34B401883EB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lect “Activity Report”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25909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90920" y="39625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2CD-A54B-4FA1-BD5D-EF343129BEF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tivity Report Selection Scree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590920" y="4114800"/>
            <a:ext cx="10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77920" y="4114800"/>
            <a:ext cx="1371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4CC-AF5E-4E09-884A-40EDD75738B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85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tivity Report - Cumulative Summar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251460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324080" y="3692520"/>
            <a:ext cx="2257200" cy="128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CC7-6EBD-4EB6-AE64-5639D8FC3CD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8572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ctivity Report - Record Detail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654200" y="2971800"/>
            <a:ext cx="83808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3016080"/>
            <a:ext cx="609480" cy="5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166-72DC-4577-B60A-777F53BF6EB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elect “Award Balance Report”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90920" y="46483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91C-F651-439E-AC23-F5E84C0C5DC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Award Balance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454-753E-4E7C-B46F-96668C633DB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nprocessed De-Oblig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-  A negative Authorization (obligation) sent from COD to GAPS that is not processed in GAPS due to lack of available balance in GAPS.  Instead of creating a negative balance, GAPS holds the negative obligation until a positive authorization/refund/or adjustment creates enough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7BB-7C89-426F-B937-E168A10CF91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unding Terminolog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= Current Funding Level (CF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us-Based/GAPS =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/Campus-Based (ESOA) = Obl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ed/Actual Disbursements (NAP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EC7-781C-46D2-9289-1A484D4BF29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nprocessed De-Obligation: Repor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47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3CA-1E13-4E86-9012-47A908094DD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D:  How it adds up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uthorizations = $98,2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Payments = $94,2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Balance = $ 4,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Authorizations = $-46,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 = (42,0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56E-1F8D-40D5-99F3-C4AC01B3D09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3200" y="4038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Helpdesk: 1-888-336-8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l:  1-800-474-72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-Based:  1-877-801-7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:  1-800-848-0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65760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F2D-2471-4DB3-95E3-2D0071D5FCA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990720" y="18288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64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9B3-E4BA-4DF8-8845-F36794CF989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Grant  CFL Proces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22096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FL created in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data drive C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 drawdown should not exceed C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Release Indicator  (D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Day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180-DC62-470C-829D-14C322B7ED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Daily CFL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submit disburs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Over-award Process (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5FB-4939-48BB-B134-CE87E96A20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ell Global CFL Reduction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level of disbursement data (Febru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for “W” Verification (Apr-Au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to GAPS drawdown (end of second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F47-ECD5-436E-891B-32F84E81B8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06:52Z</dcterms:modified>
  <cp:revision>139</cp:revision>
  <dc:subject/>
  <dc:title>PowerPoint Presentation</dc:title>
</cp:coreProperties>
</file>