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2.png" ContentType="image/png"/>
  <Override PartName="/ppt/media/image7.wmf" ContentType="image/x-wmf"/>
  <Override PartName="/ppt/media/image11.png" ContentType="image/png"/>
  <Override PartName="/ppt/media/image8.wmf" ContentType="image/x-wmf"/>
  <Override PartName="/ppt/media/image13.png" ContentType="image/png"/>
  <Override PartName="/ppt/media/image6.jpeg" ContentType="image/jpeg"/>
  <Override PartName="/ppt/media/image10.png" ContentType="image/png"/>
  <Override PartName="/ppt/media/image9.wmf" ContentType="image/x-wmf"/>
  <Override PartName="/ppt/media/image14.png" ContentType="image/png"/>
  <Override PartName="/ppt/media/image22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4560" y="4419360"/>
            <a:ext cx="514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5"/>
          </p:nvPr>
        </p:nvSpPr>
        <p:spPr>
          <a:xfrm>
            <a:off x="0" y="8839080"/>
            <a:ext cx="303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9080"/>
            <a:ext cx="303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F908-D3B0-4B4A-ABAB-BBC135027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97188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97188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97188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D0C4-AC5A-422C-B2A2-F1C5C2963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D454-C560-41BF-B253-D6FD0CC9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89C0-434B-4D9C-8254-FF70D0C52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7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6512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29AB-4084-4BB7-919C-ACC6E68F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7621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4E3C-A1A4-4C97-923D-0FF26442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7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86512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195D-51F6-4C46-8B0B-867BC12D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14EE-6215-4640-9D67-18859BC5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B85D-C41C-42A4-B767-BB2EF307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120" y="7621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469E-EB13-476F-8792-218A7811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AA1E-5FB3-4C1A-9295-D7E7ED66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E5BE-F2F1-49A6-BD6F-C2CD2055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61DC-DB7B-4BB8-9CB7-30B095BD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0"/>
            <a:ext cx="1447920" cy="6781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762120"/>
            <a:ext cx="8305920" cy="7617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1905120"/>
            <a:ext cx="4724640" cy="1522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6320" y="76320"/>
          <a:ext cx="1371600" cy="73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76320"/>
                    <a:ext cx="13716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C761-E2ED-4E60-A4EA-E3D4432FA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0"/>
            <a:ext cx="1447920" cy="6705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efefe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2666880"/>
            <a:ext cx="8229600" cy="762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4648320"/>
            <a:ext cx="4724280" cy="15228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324480" y="533520"/>
          <a:ext cx="2514600" cy="135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533520"/>
                    <a:ext cx="2514600" cy="13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hyperlink" Target="http://www.barrysclipart.com/barrysclipart.com/showphoto.php?photo=28481&amp;papass=&amp;sort=1&amp;thecat=156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hyperlink" Target="http://www.barrysclipart.com/barrysclipart.com/showphoto.php?photo=27425&amp;papass=&amp;sort=1&amp;thecat=174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www.barrysclipart.com/barrysclipart.com/showphoto.php?photo=28481&amp;papass=&amp;sort=1&amp;thecat=156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w Me the Money:  How to Get &amp; Maintain Funding for Pell Grants, Campus-Based and Direct Lo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792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hony La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rothy Dors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rge Karayia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mayne Co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11430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ssion 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ell Administrative Cost Allowance</a:t>
            </a: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5 for every recipient award calcu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pay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, August, Aug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-2005 =  March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ust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ust 200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9E82-34E4-42FF-8254-14D27389AD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Ongoing Pell Reconciliatio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Funding/Student Data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 Funding/Student Data  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PS C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A /Business Office = ED Depar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hly Reconciliation &amp; Closeout by Sept 30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B32C-787F-44F0-A027-60EDEFD749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Ongoing Pell Reconciliatio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Deadline Adjus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September 3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ve Relie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3847-ABDB-4399-9157-BA8E9DB0C1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ell Funding Reconciliatio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        CFL    =    Disb Records  =       C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D)            (COD)               (GAPS)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57200" y="3505320"/>
          <a:ext cx="8381880" cy="2514600"/>
        </p:xfrm>
        <a:graphic>
          <a:graphicData uri="http://schemas.openxmlformats.org/drawingml/2006/table">
            <a:tbl>
              <a:tblPr/>
              <a:tblGrid>
                <a:gridCol w="1295280"/>
                <a:gridCol w="2057400"/>
                <a:gridCol w="2743200"/>
                <a:gridCol w="228600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79C4-D6C2-4DB5-8372-91095BEDFD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ell Reconciliation Tool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Year to Dat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Reconciliatio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Pending Disburse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ES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Web Scre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PS Web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9D8A-E4C1-4595-BF37-67E8820008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Negative Available Balance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14400" y="2286000"/>
          <a:ext cx="7315200" cy="4097160"/>
        </p:xfrm>
        <a:graphic>
          <a:graphicData uri="http://schemas.openxmlformats.org/drawingml/2006/table">
            <a:tbl>
              <a:tblPr/>
              <a:tblGrid>
                <a:gridCol w="3200400"/>
                <a:gridCol w="2057400"/>
                <a:gridCol w="20574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F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ilable Balance in GA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,000,000 in disbursement rec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,000 negative disburs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,995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5,00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0205-E571-4397-B8CA-38E0EB9F7B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How to Resolve Negative Balance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und the C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 the draw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the CF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D2DF-98C9-499D-AB87-E242A48302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ell Award Year Funding Calendar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      -  Initial Author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 30    -  End of Fiscal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         -  Reduce to Disbursemen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    -  1st ACA Pa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-Aug  -  “W” Verification Red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         -  2nd ACA Pa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2530-6E55-4187-9D27-66C4B520CF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ell Award Year Funding Calendar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0769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 30    -  Award Year Close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-May  -  Administrative Rel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         - 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A Pa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     - Reduction to GAPS drawdow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d"/>
                </a:solidFill>
                <a:latin typeface="Wingdings"/>
                <a:ea typeface="Wingdings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1EBE-A23B-46EF-8E6F-C57B3C8864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ampus-Based Calendar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2005 – 2006 Award Year</a:t>
            </a:r>
            <a:r>
              <a:rPr b="1" i="1" lang="en-US" sz="3600" spc="-1" strike="noStrike">
                <a:solidFill>
                  <a:srgbClr val="003366"/>
                </a:solidFill>
                <a:latin typeface="Arial Black"/>
              </a:rPr>
              <a:t>  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AP On the Web Available 8/1/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location Form Due 8/20/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lemental Awards Issued 9/15/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AP &amp; Combined Certification Due 10/1/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AP Edit Corrections Due 12/15/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74FA-B075-41BD-A1DE-F7CD1D4AB1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Discussion Outlin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ing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ll, Campus-Based, &amp; Direct Loan funds pro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PS refund and adjustment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7C9D-9249-494B-B5B3-F69043E653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ampus-Based Calendar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2005 – 2006 Award Year (cont’d)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360" y="2209680"/>
            <a:ext cx="8839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tative Awards Posted 2/1/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-Use Waiver Request Due 2/11/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Colleges Application Agreement Due 3/11/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-Use Waiver Notification Issued 3/15/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Awards Issued 4/1/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BE2F-0E11-4803-BCD0-8891D0DD1B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ampus-Based Calendar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2005 – 2006 Award Year (cont’d)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Service Waiver Request Due 4/30/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-Out of Awards Posted 5/1/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 Payments Issued 6/1/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. Share Waiver Notification Issued 6/30/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s Available for Draw Down 7/1/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1A4D-520A-436F-93FE-8C8ACCDBF8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ampus-Based Programs Funding Formula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05740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 Guarantee – The minimum award based on prior participation - barring penal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ion Need – Calculation based on tuition, enrollment &amp; eligible aid applican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 Share – How much of the appropriation a school would receive based on its need compared to all other schools’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5D98-534E-488E-984A-77334FE09D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ampus-Based Programs Funding Formula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 Share Shortfall - amount by which Fair Share exceeds Adjusted Base Guaran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use Penalty – Amount of previous year unexpended funds (if over 10% of total aw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A40E-B74B-409F-B60A-94F647071F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ampus-Based Programs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Funding Formula (Perkins)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2666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Approp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ion’s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9-2000 Base Guarantee (reduced by reduction fac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2141-C900-45D9-868D-E50F48296B1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76212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ampus-Based Programs Funding Formula (Perkins –cont’d)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2666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ault Rate &gt; 25% - no funds awar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 Guarantee + Fair Share - Underuse Penalty (OR) + Underuse Penalty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8CEC-FF75-4FEC-B90B-5EAA3739252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ampus-Based Programs Funding Formula (FWS)</a:t>
            </a:r>
            <a:r>
              <a:rPr b="0" lang="en-US" sz="3600" spc="-1" strike="noStrike">
                <a:solidFill>
                  <a:srgbClr val="c1c1c1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Approp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ion’s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9-2000 Base Guaran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4904-96A9-4604-8C02-8804E1CBECD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ampus-Based Programs Funding Formula (FWS  – cont’d)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2666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9-2000 Pro Rata and additional FWS f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 Guarantee + Fair Share – Underuse Penalty (OR) + Underuse Penalty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63F2-B7F9-4E32-B8B5-B18548ACEC5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ampus-Based Programs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Funding Formula (FSEOG)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2666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Approp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ion’s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9-2000 Base Guaran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8109-DB22-4292-8930-B36B7A4DC38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ampus-Based Programs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Funding Formula (FSEOG)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2666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9-2000 Pro R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 Guarantee + Fair Share – Underuse Penalty (OR) + Underuse Penalty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D21A-F9AA-478B-89B9-B26D9A80CB8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rogram Offices and GAP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Off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ing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Day Cash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around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5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77C9-AA01-4A18-9A44-82FEDAB3C5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ampus-Based Appropriation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7" name=""/>
          <p:cNvSpPr/>
          <p:nvPr/>
        </p:nvSpPr>
        <p:spPr>
          <a:xfrm>
            <a:off x="647640" y="1981080"/>
            <a:ext cx="784872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W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SEO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kins/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-2005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$770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998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65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3-200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$760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.004B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66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2-200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$725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.011B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67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1-200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$691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.011B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60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0-200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$631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934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30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9-2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$619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70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30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8C66-E938-48DD-B2D3-42946ED2315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Waiver Processing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use Penalty Wa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c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cd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dline 2/11/05 request via FIS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 III/V Elig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c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cd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application thru websi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ed.gov/about/offices/list/ope/idues/index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c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cd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ver Notification of FWS/FSEO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itutional Share req – 6/30/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Service Wa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c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cd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dline for submission 5/21/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81F9-1F63-4971-9881-7CC0ED69499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Reference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AP On Th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bfisap.ed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pus-Based Call Center (877) 801-71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 CBFOB@ED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AP Pos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ifap.ed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N Site 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pin.ed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Aid Internet Gateway Enroll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fsawebenroll.ed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4623-2DF0-46FA-90FA-7DB16EB55A2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Direct Loan Funds Control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FL  = oblig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FL not limited by obligation but related to disbursement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FL increases as school submits disbursement records tim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980720" y="22096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C1AE-8AD6-4934-8677-098FD861B988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Direct Loan CFL Proces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CFL created in Febru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bursement records drive CF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PS drawdowns should be substantiated within 30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3563-0C1A-49E0-97AB-EC9E97FFBE3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7315200" y="647712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88560" tIns="43560" bIns="4356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560" y="456840"/>
            <a:ext cx="5819760" cy="11430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chool Example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art I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240" y="243828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CFL (04-05 Award Year) = $5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draws $3M  on 5/1/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vailable balance = $2M.  (5M-3M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mt. Of Substantiated cash = $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mt. Of Unsubstantiated cash = $3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7051680" y="990720"/>
          <a:ext cx="2092320" cy="26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51680" y="990720"/>
                    <a:ext cx="2092320" cy="26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5855-3A96-4FA8-A273-BE80C3D9DCC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315200" y="647712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88560" tIns="43560" bIns="4356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68880" y="6477120"/>
            <a:ext cx="289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88560" tIns="43560" bIns="4356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37920" y="6858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chool Example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art II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-459000" y="2057400"/>
            <a:ext cx="8337240" cy="41148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rmAutofit fontScale="99000"/>
          </a:bodyPr>
          <a:p>
            <a:pPr marL="331200" indent="0">
              <a:spcBef>
                <a:spcPts val="799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reports $2M in disburse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0">
              <a:spcBef>
                <a:spcPts val="799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 records on 5/10/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0">
              <a:spcBef>
                <a:spcPts val="799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0">
              <a:spcBef>
                <a:spcPts val="70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l’s CFL increased to $7M (5+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200" indent="0">
              <a:spcBef>
                <a:spcPts val="70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’s available balance = $4M.  (7M-3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4880" indent="0">
              <a:spcBef>
                <a:spcPts val="774"/>
              </a:spcBef>
              <a:buNone/>
              <a:tabLst>
                <a:tab algn="l" pos="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mt. Of Substantiated cash = $2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884880" indent="0">
              <a:spcBef>
                <a:spcPts val="774"/>
              </a:spcBef>
              <a:buNone/>
              <a:tabLst>
                <a:tab algn="l" pos="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mt. Of Unsubstantiated cash = $1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554880" y="1143000"/>
          <a:ext cx="2139840" cy="26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4880" y="1143000"/>
                    <a:ext cx="213984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67CA-D7DB-42EB-9B05-4C6AD2F6AEEE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7315200" y="647712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88560" tIns="43560" bIns="4356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68880" y="6477120"/>
            <a:ext cx="289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88560" tIns="43560" bIns="4356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7920" y="6858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chool Example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art III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8337600" cy="41148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rmAutofit/>
          </a:bodyPr>
          <a:p>
            <a:pPr marL="334800" indent="0">
              <a:spcBef>
                <a:spcPts val="799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reports $1M in disburse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 records on 5/20/0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624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0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l’s CFL increased to $8M (5+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0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’s available balance = $5M.  (8M-3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675"/>
              </a:spcBef>
              <a:buNone/>
              <a:tabLst>
                <a:tab algn="l" pos="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mt. Of Substantiated cash = $3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675"/>
              </a:spcBef>
              <a:buNone/>
              <a:tabLst>
                <a:tab algn="l" pos="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mt. Of Unsubstantiated cash = $0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7080120" y="838080"/>
          <a:ext cx="2078280" cy="26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0120" y="838080"/>
                    <a:ext cx="2078280" cy="26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7B11-8CBD-4EAC-9E19-32394DA1360A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6705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Direct Loan Reconciliation 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ECB Equation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533520" y="2517840"/>
            <a:ext cx="1554120" cy="1380960"/>
          </a:xfrm>
          <a:prstGeom prst="rect">
            <a:avLst/>
          </a:prstGeom>
          <a:noFill/>
          <a:ln w="1015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gi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1760" y="2517840"/>
            <a:ext cx="1554120" cy="1380960"/>
          </a:xfrm>
          <a:prstGeom prst="rect">
            <a:avLst/>
          </a:prstGeom>
          <a:noFill/>
          <a:ln w="1015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i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50000" y="2517840"/>
            <a:ext cx="1554120" cy="1380960"/>
          </a:xfrm>
          <a:prstGeom prst="rect">
            <a:avLst/>
          </a:prstGeom>
          <a:noFill/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un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127240" y="2777760"/>
            <a:ext cx="58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43400" y="2569680"/>
            <a:ext cx="58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03960" y="4410000"/>
            <a:ext cx="1554120" cy="13813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80000" y="4669920"/>
            <a:ext cx="58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08600" y="4410000"/>
            <a:ext cx="1554120" cy="1381320"/>
          </a:xfrm>
          <a:prstGeom prst="rect">
            <a:avLst/>
          </a:prstGeom>
          <a:noFill/>
          <a:ln w="1015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wn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just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84720" y="4669920"/>
            <a:ext cx="58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85960" y="4410000"/>
            <a:ext cx="1554120" cy="1381320"/>
          </a:xfrm>
          <a:prstGeom prst="rect">
            <a:avLst/>
          </a:prstGeom>
          <a:noFill/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just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79360" y="4462200"/>
            <a:ext cx="58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169040" y="2505240"/>
            <a:ext cx="1554120" cy="1380960"/>
          </a:xfrm>
          <a:prstGeom prst="rect">
            <a:avLst/>
          </a:prstGeom>
          <a:noFill/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burse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562800" y="2557080"/>
            <a:ext cx="58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1239-8B76-4E2D-AA6D-EF057939E5D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19320" y="76212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Direct Loan Reconciliatio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Funding/Student Data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 Funding/Student Data  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PS C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A /Business Office = ED Depar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hly Reconcili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15F0-4ADA-411C-BECC-207F4AE3565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68580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Funding Flow 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14400" y="4495680"/>
            <a:ext cx="1579680" cy="1981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048120" y="1371600"/>
            <a:ext cx="3504960" cy="1612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943600" y="4572000"/>
            <a:ext cx="2819520" cy="1981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rot="3052800">
            <a:off x="6147000" y="3466440"/>
            <a:ext cx="1415880" cy="5806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uthoriza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65372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H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8006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A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1523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5029200"/>
            <a:ext cx="1905120" cy="337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rawdown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968840" y="3359160"/>
            <a:ext cx="1015560" cy="105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79600" y="3094560"/>
            <a:ext cx="994680" cy="127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8937800">
            <a:off x="1981080" y="3919320"/>
            <a:ext cx="213372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bursement Rec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66880" y="56386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590920" y="58672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1dollar4-thumb" descr="dollar4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000680" y="5972040"/>
            <a:ext cx="799920" cy="600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257800" y="6858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ll and D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1902-9BC8-4AAF-8A19-C92B602ADC0A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Direct Loan Processing  Exampl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      Disbursement      =     Net Draws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D)                      (GA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990720" y="3809880"/>
          <a:ext cx="7238880" cy="2311560"/>
        </p:xfrm>
        <a:graphic>
          <a:graphicData uri="http://schemas.openxmlformats.org/drawingml/2006/table">
            <a:tbl>
              <a:tblPr/>
              <a:tblGrid>
                <a:gridCol w="1523880"/>
                <a:gridCol w="3301920"/>
                <a:gridCol w="241308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,6,25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,5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"/>
          <p:cNvSpPr/>
          <p:nvPr/>
        </p:nvSpPr>
        <p:spPr>
          <a:xfrm>
            <a:off x="2819520" y="5638680"/>
            <a:ext cx="2209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$6,250,00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67280" y="5638680"/>
            <a:ext cx="2057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$6,250,00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66680" y="5638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s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9D66-1EAD-4A27-B51E-D99456BEDFF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Direct Loan Reconciliation Tool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Loan School Account Statement (SAS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Web Scre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PS Web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F32B-5292-4603-99BC-253F299D622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DL SAS Report - Exampl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" y="1752480"/>
            <a:ext cx="8915400" cy="57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S Year –To-Date Cash 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 Code:  G11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ning Bala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Receip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1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u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Net Ca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ed Disburs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9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ed Adjust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$1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Booked Disburs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8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ing Cash Bal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2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81480" y="3048120"/>
            <a:ext cx="373392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57800" y="4572000"/>
            <a:ext cx="3657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5715000" y="6248520"/>
            <a:ext cx="1752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5986440"/>
            <a:ext cx="12952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2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9CA9-AC0D-457F-A7A5-8010220BB99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6705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chool Funding Info Web Screen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45" name=""/>
          <p:cNvSpPr/>
          <p:nvPr/>
        </p:nvSpPr>
        <p:spPr>
          <a:xfrm>
            <a:off x="533520" y="1924200"/>
            <a:ext cx="9144000" cy="49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DUCATION UNIVERSI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Funding Inf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     Direct Loa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Award Yea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  05-06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Initial CF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$56,0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Current CF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$200,0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Available Balanc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$15,0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Cash &gt; NAP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$0.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NAP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$185,0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Net Drawdown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$185,0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Disbursement To Drawdown Rati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1.000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191120" y="58672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76920" y="62485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67080" y="54864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0" y="50292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6975-CEAC-4FEE-9280-C1C8D3DF1AD6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9144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GAPS Functionality</a:t>
            </a: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PS award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Access: What it looks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processed De-oblig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C1A2-DFDC-40FC-A532-B0A68837A061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GAPS Award Number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FDA prefix (ex: 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FDA suffix (ex: 268, 06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 program identifier (ex: K, 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 identifier (2003-200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ion identifier (ex: 224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L  =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268K0422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ll  =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063P0322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pus-Based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007A0322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BC47-7C18-4931-9636-4C08718B348D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GAPS Access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03200" y="1676520"/>
            <a:ext cx="8336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 5 user IDs of each access per 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load form off e-payment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x completed form to GA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2-205-072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E169-24D1-4D5B-8CCA-A65FA4DFB07E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85720" y="8380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View-Only Log I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2895480"/>
            <a:ext cx="29718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552A-77E1-4937-BF29-E9C8DE408DEE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922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View-Only Main Menu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60" name=""/>
          <p:cNvSpPr/>
          <p:nvPr/>
        </p:nvSpPr>
        <p:spPr>
          <a:xfrm>
            <a:off x="2971800" y="2971800"/>
            <a:ext cx="31240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6607-ED27-44C5-AA60-CDE4A1E548E3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View Access: Payment Reques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2118-0337-4213-98AD-14A3D56121AC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91440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Funding Flow 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14400" y="4495680"/>
            <a:ext cx="1579680" cy="1981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819520" cy="1981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143000" y="65372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H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34320" y="45720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A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71800" y="5029200"/>
            <a:ext cx="1905120" cy="337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rawdown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901880" y="2893320"/>
            <a:ext cx="996840" cy="10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1workstation94-thumb" descr="workstation94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95480" y="1600200"/>
            <a:ext cx="2057400" cy="15429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 rot="175800">
            <a:off x="3657600" y="19051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S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3200400"/>
            <a:ext cx="23623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605000">
            <a:off x="5486040" y="3429000"/>
            <a:ext cx="1523880" cy="3373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uthoriza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8720000">
            <a:off x="1905120" y="3809880"/>
            <a:ext cx="1666800" cy="337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ication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56386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590920" y="58672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05520" y="914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mpus-Bas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1dollar4-thumb" descr="dollar4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000680" y="5972040"/>
            <a:ext cx="799920" cy="60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2DDC-881F-4F52-81D4-27D5980FA150}" type="slidenum">
              <a:t>5</a:t>
            </a:fld>
          </a:p>
        </p:txBody>
      </p:sp>
    </p:spTree>
  </p:cSld>
  <p:transition spd="med">
    <p:fade thruBlk="true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View Access: Payment Reques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3124080"/>
            <a:ext cx="2514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2209680" y="3886200"/>
            <a:ext cx="83844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76520" y="5029200"/>
            <a:ext cx="121896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0A62-1153-45A4-AAD9-83B3B6A948C5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Full Access: Payment Reques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38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9FAF-2637-48C1-9ADA-4EA1F1B24718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85720" y="11430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GAPS Report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mulative Activity by a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 Activity by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42670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rd Balance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7E0D-5471-4722-9EDB-C6B3FE252BEF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2640" y="9144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elect “Activity Report”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259092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1911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590920" y="3962520"/>
            <a:ext cx="9903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FF4C-725B-431B-8ADA-D9A5425B493A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Activity Report Selection Scree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3434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2590920" y="4114800"/>
            <a:ext cx="10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77920" y="4114800"/>
            <a:ext cx="1371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226B-92A3-4B39-9102-90CBF5188CA0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85720" y="4572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Activity Report - Cumulative Summary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1600200" y="2514600"/>
            <a:ext cx="9144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4197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324080" y="3692520"/>
            <a:ext cx="2257200" cy="1285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C59F-E44B-4903-A3F4-593F76E8A847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8572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Activity Report - Record Detail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3434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654200" y="2971800"/>
            <a:ext cx="83808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28800" y="3016080"/>
            <a:ext cx="609480" cy="5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9870-C669-4507-A271-F2D3BE766446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elect “Award Balance Report”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590920" y="4648320"/>
            <a:ext cx="9903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03FF-B25A-4DEC-9883-E82C0E28A7D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Award Balance Repor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CC3F-6E54-4C97-BC86-648527D3436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Unprocessed De-Obligatio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-  A negative Authorization (obligation) sent from COD to GAPS that is not processed in GAPS due to lack of available balance in GAPS.  Instead of creating a negative balance, GAPS holds the negative obligation until a positive authorization/refund/or adjustment creates enough ba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6E65-17DF-4115-AA27-FF930C262985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Funding Terminology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ing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 = Current Funding Level (CF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pus-Based/GAPS = Autho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ll/Campus-Based (ESOA) = Obl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r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cipated/Actual Disbursements (NAP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an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F10F-F95E-42DF-AF0C-A7B26D7617B5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Unprocessed De-Obligation: Repor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8" name=""/>
          <p:cNvSpPr/>
          <p:nvPr/>
        </p:nvSpPr>
        <p:spPr>
          <a:xfrm>
            <a:off x="18288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47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398A-9600-46BD-AFB0-8466E1B9FB4E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UD:  How it adds up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Authorizations = $98,2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Payments = $94,2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le Balance = $ 4,0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ative Authorizations = $-46,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 = (42,07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B8E4-5972-475D-BC4D-CAFF9175C9C5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ontact Informatio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03200" y="403848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PS Helpdesk: 1-888-336-89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ll:  1-800-474-72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pus-Based:  1-877-801-71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Loan:  1-800-848-09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5257800" y="685800"/>
            <a:ext cx="3657600" cy="32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98B7-A6EF-4789-B57D-76C6C0980389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990720" y="1828800"/>
            <a:ext cx="7315200" cy="304812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32056"/>
              </a:avLst>
            </a:prstTxWarp>
            <a:noAutofit/>
          </a:bodyPr>
          <a:p>
            <a:pPr marL="343080" indent="-343080">
              <a:spcBef>
                <a:spcPts val="3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648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3756-E05C-4A8D-BEB4-15631A34A18C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5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ell Grant  CFL Proces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5360" y="220968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CFL created in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bursement data drive CF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PS drawdown should not exceed CF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bursement Release Indicator  (DRI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Day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A26F-3B49-4090-9C59-1024231836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ell Daily CFL Adjustment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Gene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submit disbursemen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P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Over-award Process (PO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E7EC-46EF-43DF-88E9-4DF3683089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ell Global CFL Reduction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tion to level of disbursement data (Februa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tion for “W” Verification (Apr-Au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tion to GAPS drawdown (end of second y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8E47-AC0F-4493-93F3-B93981EB44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16:11:26Z</dcterms:created>
  <dc:creator>jennifer.do</dc:creator>
  <dc:description/>
  <dc:language>en-US</dc:language>
  <cp:lastModifiedBy>jennifer.do</cp:lastModifiedBy>
  <dcterms:modified xsi:type="dcterms:W3CDTF">2004-12-14T22:06:52Z</dcterms:modified>
  <cp:revision>139</cp:revision>
  <dc:subject/>
  <dc:title>PowerPoint Presentation</dc:title>
</cp:coreProperties>
</file>