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C16-CA37-4CA8-A9F7-394AE771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BB3-E9A8-455D-8818-7223071F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8DA-2DF9-46B9-8262-789C705B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416-8664-4C5F-8A62-F12F89B5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8DC-31FB-4ED8-9143-5282AEC5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54D-E9BC-40DC-B748-C08735EA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C17-9203-4289-8E81-CB3AFF0D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7D4-50D2-4BB3-AFAD-B8A7A70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76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840-9417-46B3-922E-EFA9B50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4CC-9C73-4599-979E-1256D9AF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216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82B-9389-4BAF-B91D-C8E7C63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7B8-E12C-48CF-8232-B712A1A4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7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762120"/>
            <a:ext cx="8305920" cy="761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905120"/>
            <a:ext cx="4724640" cy="1522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76320"/>
          <a:ext cx="1371600" cy="7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371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436F-676A-4A3E-B0E1-146070BA4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0"/>
            <a:ext cx="1447920" cy="6705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efefe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8229600" cy="762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648320"/>
            <a:ext cx="4724280" cy="1522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24480" y="533520"/>
          <a:ext cx="2514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52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CPSSAIG@ed.gov" TargetMode="External"/><Relationship Id="rId2" Type="http://schemas.openxmlformats.org/officeDocument/2006/relationships/hyperlink" Target="mailto:CPSSAIG@ed.go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 an EDExpress Direct Loan Release 2.0 Super Us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B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g Baldw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5410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air Databas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048120"/>
            <a:ext cx="609840" cy="228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A72-4CAB-40D7-834C-3326DAE0C4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151920"/>
            <a:ext cx="5867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erify your Databas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685800"/>
            <a:ext cx="1143000" cy="228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478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39862" r="0" b="39163"/>
          <a:stretch/>
        </p:blipFill>
        <p:spPr>
          <a:xfrm>
            <a:off x="152280" y="2286000"/>
            <a:ext cx="8991720" cy="23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ED3-9F03-4142-BD07-C21A053A70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9448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lobal Setup tab: Time Saver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752480"/>
            <a:ext cx="914400" cy="3812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A1C-AD3C-46DB-A4BB-F7B22B960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05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lobal Default Syste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106668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057400"/>
            <a:ext cx="198108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505320"/>
            <a:ext cx="1447560" cy="3045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952880"/>
            <a:ext cx="144792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C51-F6B7-4054-A7A3-2E3211BF4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OD Setup tab-Disb Profile Cod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43200"/>
            <a:ext cx="228600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828800"/>
            <a:ext cx="13716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645-32ED-4195-8746-7379EEF1F4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rid Functionalit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209680"/>
            <a:ext cx="5105520" cy="3049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A4B-90D8-4F8A-8844-81CD614409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ight Click in Column Head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2362320"/>
            <a:ext cx="1371600" cy="53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46A-4B1E-437B-ABEA-44B9AA39C9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Grid Functionality:  Find….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295280"/>
            <a:ext cx="205740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133720"/>
            <a:ext cx="1981080" cy="152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19320" y="4038120"/>
            <a:ext cx="91440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9C3-58CC-4B4C-A241-F26B5804F8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ick Sort Ascending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1295280"/>
            <a:ext cx="144792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58A-E1B5-4106-83E5-39586502B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ort Grid to Fi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3505320"/>
            <a:ext cx="17528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E91-D464-47E8-B05D-121E4527F4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bjective: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391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ssion will highlight selected 2004-2005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Express Release 2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atures that will be of great benefit to those users looking for ways to simplify Direct Loan processing and take advantage of the powerful features EDExpress has to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942-C276-4BE7-9FEF-B02B19B46F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5640" y="15228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Export Grid to Fil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86200"/>
            <a:ext cx="144792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362320" y="4267080"/>
            <a:ext cx="1523880" cy="1828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E71-8AD5-4869-9565-89F1191B88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09720" y="30492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Voila! 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F78-12D6-47B8-87E2-FD47579337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52680" y="22824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set Passw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1295280"/>
            <a:ext cx="2971800" cy="2286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52280" y="0"/>
            <a:ext cx="2743200" cy="228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9F8-B020-4C52-BFD4-256D099516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48320" y="1522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set Passw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8A9-B7E2-452B-AA45-CBF7B51CDC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Direct Loan Multiple Entr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175-0647-4316-882C-504F1CA44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15 Fields To Make Your Job Easier!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D40-0160-4FD8-B2D9-9A96EBB9CB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162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RI Unchecked:  Update                      Anticipated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RI Checked:  Update Actua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133720"/>
            <a:ext cx="2971800" cy="533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638320" y="1371600"/>
            <a:ext cx="221004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67400" y="4279680"/>
            <a:ext cx="1391040" cy="1041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1F8-A6C7-4088-A0B1-4A1E0DE011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 Anticipate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1828800"/>
            <a:ext cx="381240" cy="1676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1905120"/>
            <a:ext cx="609480" cy="609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2BC-DE3F-40AF-83DE-C9DDF5D979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   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ing Anticipate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400440" y="3505320"/>
            <a:ext cx="114300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0" y="2742840"/>
            <a:ext cx="6858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95280" y="4572000"/>
            <a:ext cx="274320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486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028840" y="5943600"/>
            <a:ext cx="167652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248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6FC-514C-45FC-A171-13E37FD028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 Anticipated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1447920"/>
            <a:ext cx="457200" cy="21333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3886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ate or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477120" y="2895480"/>
            <a:ext cx="121896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665-D24D-41F6-9A27-E456EDF5C4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Objective for today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d peek inside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 if you don’t understand every step; it will come with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B8B-003A-4630-A63F-491F6BD58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1640" y="-3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Update Actual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19560" y="1295280"/>
            <a:ext cx="198108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2057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553080" y="3124080"/>
            <a:ext cx="1981440" cy="1143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429000"/>
            <a:ext cx="1981080" cy="76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962520"/>
            <a:ext cx="762120" cy="1752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FEC-4EEA-4EED-A9D5-626DD5ACEE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553080" y="380880"/>
            <a:ext cx="381240" cy="1752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”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rcRect l="11331" t="3209" r="8902" b="33892"/>
          <a:stretch/>
        </p:blipFill>
        <p:spPr>
          <a:xfrm>
            <a:off x="1066680" y="2362320"/>
            <a:ext cx="7239240" cy="426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2209680" y="4038480"/>
            <a:ext cx="3200400" cy="152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4419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croll Over.  Blank means “Use Anticipated Dates and Amoun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592-6E08-4BFF-8DFB-EB67B4AC72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47242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oops!  Picked one previously updated.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914400"/>
            <a:ext cx="24386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05520" y="2819160"/>
            <a:ext cx="1218960" cy="1904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774-B274-4DFE-8AF3-08B81FFFCC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isbursement Date vs Action Dat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133720"/>
            <a:ext cx="838080" cy="1066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666880"/>
            <a:ext cx="1066680" cy="3812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666880"/>
            <a:ext cx="1067040" cy="3049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B98-4F43-4175-955B-55E7C7D660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10456" t="19484" r="10113" b="19274"/>
          <a:stretch/>
        </p:blipFill>
        <p:spPr>
          <a:xfrm>
            <a:off x="1066680" y="243828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49528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ownward Adjustmen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2133720"/>
            <a:ext cx="990360" cy="1904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E5E-C32F-41E6-BE43-9302BD9F9E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53337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Success!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123-9923-4553-AA16-57EE0104B3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his Disbursement Record will go to COD in the next Common Rec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905120"/>
            <a:ext cx="6781680" cy="1600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293-B66D-4C49-985D-7ABC653989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Make a Mistake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523880"/>
            <a:ext cx="327672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B73-D54F-46B7-81AA-D996AF436B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hoose “Blank” Disb. Number to Deselect a Record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240048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10434" t="19444" r="10261" b="19444"/>
          <a:stretch/>
        </p:blipFill>
        <p:spPr>
          <a:xfrm>
            <a:off x="914400" y="35053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029200" y="3733920"/>
            <a:ext cx="3352680" cy="533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5181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ter choosing blank, click on any field.  Values change.  “0” means Do Not Update.  Blue Disappears. Record is de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09880" y="4114440"/>
            <a:ext cx="1981440" cy="1066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DB3-3713-4501-97D4-5BE6B328D8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Quality Assurance Component of Direct Loan Program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1A3-0E2E-4848-A935-5CD26D841A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will cover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Global Functions Affecting Direct Loans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Setup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16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214-3A62-4FD1-9E02-EB55B5CCC9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ocument Activity (COD Common Record)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number of days for the period between a C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’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creation d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ts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response 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must be exceeded to print on the Document Activity report. Valid values range from 00 to 99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D41-D70C-4C99-8F43-2D407FE70F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Print List; Exceptions Only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2057400"/>
            <a:ext cx="160020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114800"/>
            <a:ext cx="2362320" cy="609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AE5-E394-498B-80C5-51F6ECADF11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olerance Exceptions Only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4724280"/>
            <a:ext cx="3733920" cy="762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1143000"/>
            <a:ext cx="221004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B43-B991-4561-98B5-874FA1D499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DL Tools:  QA Report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1981080"/>
            <a:ext cx="2895480" cy="1143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37720" y="228240"/>
            <a:ext cx="304920" cy="1600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EF9-144A-4EE0-93FE-74D362220E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Who has the next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Feel Like You Know A Little More?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Setup t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Functionalit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burse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530-D9D1-402B-B695-240DB682A9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covered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ultiple E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Disbur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DRI to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date and/or amount, then update D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nticipated Disbur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djustments to Ac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1640" y="22096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isbursement Profile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one code to work for PELL and 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w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ction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 to monitor 30 day reporting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lera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EDExpress Reports to evaluate your processing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330-2CA1-40E5-82E0-6D34BEBB1B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Technical Assistanc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PS/SAIG Technical Sup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 800 330-5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CPSSAIG@ed.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D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 800 848-0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ODsupport@acs-in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898-D588-4206-B2D0-04A70CF0A1B7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7621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will cover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ltiple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DRI to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date and/or amount, then update D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Anticipated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Adjustments to Actual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B2C-D8C9-4C48-87C2-3A53EE9EE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What we will cover: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isbursement Profil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ne code to work for PELL and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ction 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 to monitor 30 day reporting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ole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DExpress Reports to evaluate your process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C5E-0624-4E8D-95D7-8C1224969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43040" y="15228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ear Locks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914400"/>
            <a:ext cx="1066680" cy="380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D83-E7DD-4E5A-A32D-70B958D8CD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heck Record to Clear Lock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523880"/>
            <a:ext cx="1447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AD8-E4DF-4E16-947C-554185B8D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Repair Databas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520"/>
            <a:ext cx="1981080" cy="228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7E0-D528-4977-9985-8A5A3D4A9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6:11:26Z</dcterms:created>
  <dc:creator>jennifer.do</dc:creator>
  <dc:description/>
  <dc:language>en-US</dc:language>
  <cp:lastModifiedBy>jennifer.do</cp:lastModifiedBy>
  <dcterms:modified xsi:type="dcterms:W3CDTF">2004-12-14T22:01:24Z</dcterms:modified>
  <cp:revision>54</cp:revision>
  <dc:subject/>
  <dc:title>PowerPoint Presentation</dc:title>
</cp:coreProperties>
</file>