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61C7-6072-4CC1-9845-1948F3A4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ADA4-63D2-4621-BE47-8928A2A4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2CCE-4B88-427E-92F7-9B6516BA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5ED4-521D-42B6-84C5-CA8ABE74B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9C71-2317-47A0-A292-A88B9E75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212B-5C0E-403D-8E78-D8CCFAB8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48B1-8461-4357-BA36-402DD88B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E12C-7068-4EC9-9192-12FAD21D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6CAC-5D3E-40F4-8F22-4968DB76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2A5B-4EE1-49FC-B5E3-D07EBBBF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8E17-E505-41A9-AE63-CB4E290D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9C41-5E69-44F2-B58A-20247BBF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781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762120"/>
            <a:ext cx="8305920" cy="7617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905120"/>
            <a:ext cx="4724640" cy="1522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6320" y="76320"/>
          <a:ext cx="1371600" cy="7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76320"/>
                    <a:ext cx="13716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FD59-65ED-4A60-82B6-DF7675CAF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0"/>
            <a:ext cx="1447920" cy="6705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666880"/>
            <a:ext cx="8229600" cy="762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4648320"/>
            <a:ext cx="4724280" cy="15228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324480" y="533520"/>
          <a:ext cx="2514600" cy="135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533520"/>
                    <a:ext cx="251460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mailto:CPSSAIG@ed.gov" TargetMode="External"/><Relationship Id="rId2" Type="http://schemas.openxmlformats.org/officeDocument/2006/relationships/hyperlink" Target="mailto:CPSSAIG@ed.gov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 an EDExpress Direct Loan Release 2.0 Super User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92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b Be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g Baldw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6858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ssion 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00400" y="152280"/>
            <a:ext cx="5410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Repair Databas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3048120"/>
            <a:ext cx="609840" cy="22860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B3B2-2EDC-4AE4-998D-D8402C13FC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76720" y="151920"/>
            <a:ext cx="5867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Verify your Databas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1905120" y="685800"/>
            <a:ext cx="1143000" cy="2286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4788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0" t="39862" r="0" b="39163"/>
          <a:stretch/>
        </p:blipFill>
        <p:spPr>
          <a:xfrm>
            <a:off x="152280" y="2286000"/>
            <a:ext cx="8991720" cy="232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51F0-A9F6-4756-8989-5505FBDD48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94485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Global Setup tab: Time Savers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1752480"/>
            <a:ext cx="914400" cy="3812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7061-6839-4D72-8217-170F28C699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7057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Global Default System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143000"/>
            <a:ext cx="1066680" cy="4572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2057400"/>
            <a:ext cx="1981080" cy="4572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3505320"/>
            <a:ext cx="1447560" cy="30456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4952880"/>
            <a:ext cx="1447920" cy="3049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DC21-0E6A-4967-9D67-86D68B14ED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83822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OD Setup tab-Disb Profile Cod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743200"/>
            <a:ext cx="2286000" cy="3808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86600" y="1828800"/>
            <a:ext cx="1371600" cy="4572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B3C7-D168-4A69-AA9F-E06FF580A6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971800" y="2286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Grid Functionality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2209680"/>
            <a:ext cx="5105520" cy="3049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DE74-3554-474C-9FED-4E835DA47C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Right Click in Column Heading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1523880" y="2362320"/>
            <a:ext cx="1371600" cy="5331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E260-3FB9-45B7-B4AF-1A898BDF50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Grid Functionality:  Find…..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1295280"/>
            <a:ext cx="2057400" cy="3812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133720"/>
            <a:ext cx="1981080" cy="1522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219320" y="4038120"/>
            <a:ext cx="914400" cy="1143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35B5-B326-4BE0-ADB1-F73F7453A2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05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Quick Sort Ascending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1295280"/>
            <a:ext cx="1447920" cy="9907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1374-A735-4C59-B0E2-FEDB399669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Export Grid to Fil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4724280" y="3505320"/>
            <a:ext cx="1752840" cy="6858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A005-09E1-4A82-B7F8-3A7DD86DF2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Objective:</a:t>
            </a: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7391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ession will highlight selected 2004-2005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DExpress Release 2.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atures that will be of great benefit to those users looking for ways to simplify Direct Loan processing and take advantage of the powerful features EDExpress has to off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4785-F9C7-437F-957B-B25195E54D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5640" y="152280"/>
            <a:ext cx="6248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Export Grid to Fil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2895480" y="3886200"/>
            <a:ext cx="1447920" cy="5335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362320" y="4267080"/>
            <a:ext cx="1523880" cy="1828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954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C777-A5E5-46BA-ABEC-75ADF138FF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09720" y="304920"/>
            <a:ext cx="3505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Voila! 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AB9E-C582-44AC-9305-B4E0EE3463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352680" y="228240"/>
            <a:ext cx="5639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Reset Password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2819520" y="1295280"/>
            <a:ext cx="2971800" cy="22860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-152280" y="0"/>
            <a:ext cx="2743200" cy="2286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FFAB-7BDA-401B-88DF-9D58F7AFA0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48320" y="152280"/>
            <a:ext cx="4495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Reset Password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E385-02CF-4967-BFB1-F01A97E495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3523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Direct Loan Multiple Entry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39CB-EE5E-4BA8-A1EA-60547D06718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15 Fields To Make Your Job Easier!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8623-E13F-42E5-88BA-0C39887A7D3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162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DRI Unchecked:  Update                      Anticipateds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DRI Checked:  Update Actual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2133720"/>
            <a:ext cx="2971800" cy="53316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638320" y="1371600"/>
            <a:ext cx="2210040" cy="9907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467400" y="4279680"/>
            <a:ext cx="1391040" cy="1041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607F-4341-4B26-9612-3F9E5D43459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19520" y="1522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Update Anticipated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1828800"/>
            <a:ext cx="381240" cy="16765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1905120"/>
            <a:ext cx="609480" cy="6094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C246-8B9E-47D8-8B09-FB2D542484F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                  </a:t>
            </a: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Updating Anticipated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400440" y="3505320"/>
            <a:ext cx="1143000" cy="838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012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0" y="2742840"/>
            <a:ext cx="685800" cy="304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295280" y="4572000"/>
            <a:ext cx="2743200" cy="9907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5486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5028840" y="5943600"/>
            <a:ext cx="1676520" cy="5335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05720" y="6248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406B-BA97-40C6-A5A1-0F870DE38B5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7760" y="1519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Update Anticipated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5181480" y="1447920"/>
            <a:ext cx="457200" cy="213336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3886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ate or A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477120" y="2895480"/>
            <a:ext cx="1218960" cy="914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FC3F-3581-4704-A7F2-11D0BBE66BC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Objective for today: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d peek inside the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worry if you don’t understand every step; it will come with practi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A326-2EC6-4A66-9783-549E088C4F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1640" y="-360"/>
            <a:ext cx="4419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Update Actual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6019560" y="1295280"/>
            <a:ext cx="1981080" cy="914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05920" y="20574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00100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6553080" y="3124080"/>
            <a:ext cx="1981440" cy="1143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0592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3429000"/>
            <a:ext cx="1981080" cy="763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200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3962520"/>
            <a:ext cx="762120" cy="17524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276A-2E6E-4089-BFBC-72B8CD46A1C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553080" y="380880"/>
            <a:ext cx="381240" cy="17528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34320" y="990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”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rcRect l="11331" t="3209" r="8902" b="33892"/>
          <a:stretch/>
        </p:blipFill>
        <p:spPr>
          <a:xfrm>
            <a:off x="1066680" y="2362320"/>
            <a:ext cx="7239240" cy="42670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 flipV="1">
            <a:off x="2209680" y="4038480"/>
            <a:ext cx="3200400" cy="152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5120" y="441972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croll Over.  Blank means “Use Anticipated Dates and Amount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EBA8-132A-462B-9216-8AD782BB670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472428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Whoops!  Picked one previously updated.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914400"/>
            <a:ext cx="2438640" cy="6858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5105520" y="2819160"/>
            <a:ext cx="1218960" cy="19047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E557-CE32-4337-B910-1F43DD51356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Disbursement Date vs Action Dat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2133720"/>
            <a:ext cx="838080" cy="10666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2666880"/>
            <a:ext cx="1066680" cy="3812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2666880"/>
            <a:ext cx="1067040" cy="3049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15DB-50A8-43FE-9437-07D3236FDE8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rcRect l="10456" t="19484" r="10113" b="19274"/>
          <a:stretch/>
        </p:blipFill>
        <p:spPr>
          <a:xfrm>
            <a:off x="1066680" y="2438280"/>
            <a:ext cx="7315200" cy="4419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95280" y="4952880"/>
            <a:ext cx="70106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Downward Adjustmen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23" name=""/>
          <p:cNvSpPr/>
          <p:nvPr/>
        </p:nvSpPr>
        <p:spPr>
          <a:xfrm>
            <a:off x="6248520" y="2133720"/>
            <a:ext cx="990360" cy="190476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9D38-1A7B-4EE8-8731-EE172549CCB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99840" y="53337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uccess!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BF0A-1196-40EC-B693-0E85FEA76BB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This Disbursement Record will go to COD in the next Common Record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905120"/>
            <a:ext cx="6781680" cy="16002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9F85-EBFF-443F-BF5B-3FBBB10D0EB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733920" y="15192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Make a Mistake?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4724280" y="1523880"/>
            <a:ext cx="3276720" cy="5335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A4D4-60FD-4765-BC28-35CBD3076C6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hoose “Blank” Disb. Number to Deselect a Record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34" name=""/>
          <p:cNvSpPr/>
          <p:nvPr/>
        </p:nvSpPr>
        <p:spPr>
          <a:xfrm>
            <a:off x="240048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rcRect l="10434" t="19444" r="10261" b="19444"/>
          <a:stretch/>
        </p:blipFill>
        <p:spPr>
          <a:xfrm>
            <a:off x="914400" y="3505320"/>
            <a:ext cx="7315200" cy="33526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5029200" y="3733920"/>
            <a:ext cx="3352680" cy="53316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47920" y="51814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fter choosing blank, click on any field.  Values change.  “0” means Do Not Update.  Blue Disappears. Record is desel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809880" y="4114440"/>
            <a:ext cx="1981440" cy="10666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4136-A92F-4305-A54D-42F10A02015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Quality Assurance Component of Direct Loan Program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7748-1CFE-488D-AFA5-1810A999E01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What we will cover: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Global Functions Affecting Direct Loans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3124080"/>
            <a:ext cx="38102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air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 Setup ta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1640" y="312408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bursement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t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2390-28B9-46B7-B7D9-CF5F015C1C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33360" y="456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Document Activity (COD Common Record)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the number of days for the period between a CO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’s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creation d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its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response 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must be exceeded to print on the Document Activity report. Valid values range from 00 to 99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D29A-20CE-4CEC-9EB6-0A842205B6A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rint List; Exceptions Only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45" name=""/>
          <p:cNvSpPr/>
          <p:nvPr/>
        </p:nvSpPr>
        <p:spPr>
          <a:xfrm>
            <a:off x="1752480" y="2057400"/>
            <a:ext cx="1600200" cy="6858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3880" y="4114800"/>
            <a:ext cx="2362320" cy="6094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A97F-E9E1-4869-B70B-D53414CAD86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Tolerance Exceptions Only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49" name=""/>
          <p:cNvSpPr/>
          <p:nvPr/>
        </p:nvSpPr>
        <p:spPr>
          <a:xfrm>
            <a:off x="4114800" y="4724280"/>
            <a:ext cx="3733920" cy="7621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1143000"/>
            <a:ext cx="2210040" cy="6858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AED9-2AF7-4EAF-8D12-88484581457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0560" y="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DL Tools:  QA Repor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3" name=""/>
          <p:cNvSpPr/>
          <p:nvPr/>
        </p:nvSpPr>
        <p:spPr>
          <a:xfrm>
            <a:off x="1676520" y="1981080"/>
            <a:ext cx="2895480" cy="11430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837720" y="228240"/>
            <a:ext cx="304920" cy="1600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5727-51B1-4E22-9945-FEE74EC4707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Who has the next Ques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44792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Feel Like You Know A Little More?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10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air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 Setup ta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1640" y="274320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 Functionality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bursement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t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0925-CE78-4FFA-B64F-43C9E9E5EF5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38280" y="76212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What we covered: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10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ultiple Ent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 Disburs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DRI to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y date and/or amount, then update D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nticipated Disburs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Adjustments to Act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1640" y="22096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Disbursement Profile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one code to work for PELL and 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new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ction 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eld to monitor 30 day reporting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oleranc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EDExpress Reports to evaluate your processing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A29B-E9A4-4EDC-A6F7-A00D111ACE8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Technical Assistanc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PS/SAIG Technical Supp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:  800 330-59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:  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CPSSAIG@ed.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2"/>
              </a:rPr>
              <a:t>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D Customer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:  800 848-09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:  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CODsupport@acs-inc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08B5-5AA5-44B0-ADEC-718034E3C4FB}" type="slidenum">
              <a:t>47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666520" y="76212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What we will cover: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Loan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ultiple Ent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 Disburs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DRI to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 date and/or amount, then update D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Anticipated Disburs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Adjustments to Actual Disburs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D0F1-063C-44CB-A862-F0380B7A45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040" y="7621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What we will cover: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Loan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Disbursement Profile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one code to work for PELL and 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ew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ction 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eld to monitor 30 day reporting requ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oleranc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EDExpress Reports to evaluate your processing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A5F4-1DFF-49E0-B348-08101D66C1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43040" y="15228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lear Lock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914400"/>
            <a:ext cx="1066680" cy="3808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E86B-6377-4C0D-B6F4-8F17DB0888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7238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heck Record to Clear Lock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1523880"/>
            <a:ext cx="1447920" cy="8384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67FB-BB04-46A2-A687-CA9FA1F624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66720" y="15192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Repair Databas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533520"/>
            <a:ext cx="1981080" cy="2286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A817-0DD9-4D2D-BFAA-823049B8FB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6:11:26Z</dcterms:created>
  <dc:creator>jennifer.do</dc:creator>
  <dc:description/>
  <dc:language>en-US</dc:language>
  <cp:lastModifiedBy>jennifer.do</cp:lastModifiedBy>
  <dcterms:modified xsi:type="dcterms:W3CDTF">2004-12-14T22:01:24Z</dcterms:modified>
  <cp:revision>54</cp:revision>
  <dc:subject/>
  <dc:title>PowerPoint Presentation</dc:title>
</cp:coreProperties>
</file>