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6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8D1-1074-43CA-AB90-5DCD5D5B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84-5B88-40AB-B4EB-A72AC309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CDE-2D0E-4B2E-824F-6E4E0639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8DB-848A-48E4-82DA-AA160D9C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72C-5AAA-4D65-A725-35A3F448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8DB-19A2-4EBC-AC21-7B2D7E9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3DD-6A73-4351-BE51-227166B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CFF-E466-4178-8126-00F07A54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572-E194-417C-99C1-71621513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987-10AA-404B-B74D-BE9E71D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85F-4305-4EC2-89E8-F4A9574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4E8-4660-4388-BAF5-F396FB6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89B-5288-414D-A446-E600B88D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5228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ally.smith@veryspeedy.ne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 : Moving Beyond – Flat Files to XML Common Recor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od M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bara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etrius Wi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schools will be required to process as FULL Participants using the XML Common Record in AY 2005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1752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ull-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049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ommon Record (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438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outing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124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52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Phase-in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286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B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248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R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3886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200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CF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Fla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066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962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Unsubstantiated 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952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T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Document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172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Substantiated c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4864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Rece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F0B-1899-4ABD-ACD6-B7FC30557688}" type="slidenum">
              <a:t>11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6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3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0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entr" presetID="6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2" nodeType="withEffect" fill="hold" presetClass="entr" presetID="3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9" nodeType="withEffect" fill="hold" presetClass="entr" presetID="3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2" nodeType="with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9" nodeType="with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9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entr" presetID="3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entr" presetID="3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8" nodeType="withEffect" fill="hold" presetClass="entr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0405298927382031979SallyASmith0203INDL2222222FP417HalperRoadFortWayn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46807AllenUSA2197446947USA2197446947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Comic Sans MS"/>
                <a:hlinkClick r:id="rId1"/>
              </a:rPr>
              <a:t>sally.smith@veryspeedy.ne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E9A-064F-4AB2-A2EF-6A2E61EBEC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 Process Flat Fil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&amp; separate “batches” of unique &amp; separate “like-type”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C49-DD1E-4AEE-BCF9-4F7F185922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Concept…No More Records As We Know Th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Origination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Origin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Disbursem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Common Record transporting Origination and or Disbursement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C6B-0A06-42E9-AE62-04D1241192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20574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hicle that transports Pell Grant and Direct Loan award data to the CO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cument that uses common data elements, edits, definitions an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entr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is Common Record Thing Any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A90-9A74-4DD7-ABC5-ED75D0F02B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057400"/>
            <a:ext cx="81532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ocument can report multiple awards for multiple students/borrowers for multiple award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locks are reus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d in E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is Common Record Thing Any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87B-0E42-492B-9703-0D341A20C0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14800" y="4572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ML Terms – Tags and Element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LastName&gt; &lt;/LastNa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854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tart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886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nd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33720" y="3200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648320" y="32004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4382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514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858000" y="281952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5146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impl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007-3402-407E-B735-B24BF671F0C0}" type="slidenum">
              <a:t>17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1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2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mon Record – A Logical Grouping Of Complex Ele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=“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entifier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State&gt;IN&lt;/DriversLicenseSt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iversLicenseNumber&gt;DL2222222&lt;/DriversLicenseNumb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riversLice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Sally&lt;/FirstNam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iddleInitial&gt;A&lt;/MiddleIniti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tac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Line&gt;417 Hapler Road&lt;/AddressLine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City&gt;Fort Wayne&lt;/AddressCi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StateProvinceCode&gt;IN&lt;/AddressStateProvince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ddressPostalCode&gt;46807&lt;/AddressPostalCod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tac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2514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impl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391160" y="2666880"/>
            <a:ext cx="152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2860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9092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812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80060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098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2578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omplex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B38-1F69-41F6-BA47-9EA6EA6320DE}" type="slidenum">
              <a:t>18</a:t>
            </a:fld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19720" y="762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onRecor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cumentID&gt;2004-08-29T09:09:09.0011111111&lt;/Document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reatedDateTime&gt;2004-08-29T17:20:01.00&lt;/CreatedDate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hool EntityID="1111111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st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D EntityID="000000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estina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portingSchool EntityID="1111111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portedFinancialSumma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portedFinancialSumma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ttendedSchool EntityID="2222222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123456789” BirthDate=”1985-01-01” LastName=”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19810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89548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oc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006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ntity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A35-F07F-4387-B0F8-686599D796FD}" type="slidenum">
              <a:t>19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It all began in…</a:t>
            </a:r>
            <a:endParaRPr b="0" lang="en-US" sz="5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2057400"/>
            <a:ext cx="80773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2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489-583F-4ACF-B4BC-93E140A7C2A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19720" y="762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7668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123456789” BirthDate=”1985-01-01” LastName=”SMITH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e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el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udent SSN=”987654321” BirthDate=”1982-02-20” LastName=”JON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Un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LUnsubsidiz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66688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05120"/>
            <a:ext cx="457200" cy="4419360"/>
          </a:xfrm>
          <a:custGeom>
            <a:avLst/>
            <a:gdLst>
              <a:gd name="textAreaLeft" fmla="*/ 0 w 457200"/>
              <a:gd name="textAreaRight" fmla="*/ 164880 w 45720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733920"/>
            <a:ext cx="129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er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1240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ward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ward 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343400"/>
            <a:ext cx="381240" cy="121932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DD1-A4DF-4B63-9B43-8955423A5AA8}" type="slidenum">
              <a:t>20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2640" y="22831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 Number="0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Amount&gt;2025&lt;/DisbursementAmou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Date&gt;2005-01-15&lt;/DisbursementD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ReleaseIndicator&gt;false&lt;/DisbursementReleaseIndica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SequenceNumber&gt;1&lt;/DisbursementSequenc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ymentPeriodStartDate xsi:nil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Of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36232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32280"/>
            <a:ext cx="121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Di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79320" y="2392920"/>
            <a:ext cx="7088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the appropriat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C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with the bad…in with the g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10552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981080"/>
            <a:ext cx="79250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your CR has validated successfully against the appropriate xML schema and will be processed and ed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generated e-mail to notify you of CR that does not (invalid form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no student award data edi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409-826A-42B8-8750-9E65A6485E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105520" y="762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81080"/>
            <a:ext cx="79250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onReco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cumentID&gt;2004-03-18T09:09:09.0012345678&lt;/DocumentI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reatedDateTime&gt;2004-03-18T09:20:01.00&lt;/CreatedDateTime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D EntityID="00000001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stin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chool EntityID="12345678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estin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ceipt&gt;2004-03-18T09:21:00.00&lt;/Rece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mmonRecor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44A-3451-435E-B65D-E6C0C0E9327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60020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generates a complex response element for each major block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449-8E0F-4AC5-B9E7-55AFAA67E6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00200"/>
            <a:ext cx="86868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ed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1DB-1A8C-4ECC-BC46-3F88225A17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5880" y="65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600200"/>
            <a:ext cx="8686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returns all original tags submitted AND rejected data elements and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returns only the rejected data and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96C-BBB6-4A8A-A1C7-BB1E108790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92640" y="1872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 Number="0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Amount&gt;2025&lt;/DisbursementAmou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Date&gt;2005-01-15&lt;/DisbursementD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ReleaseIndicator&gt;false&lt;/DisbursementReleaseIndica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isbursementSequenceNumber&gt;1&lt;/DisbursementSequenceNumb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ymentPeriodStartDate xsi:nil="tru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spon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sponseCode&gt;A&lt;/ResponseCod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Disburs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96252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Response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66920" y="4267080"/>
            <a:ext cx="304920" cy="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10080" y="609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1981080"/>
            <a:ext cx="62485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(EdExpress users must receive full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87E-7F95-4CE1-823B-6EEB706067C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66680" y="380880"/>
            <a:ext cx="75438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rigination and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sbursement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632-2E49-440A-8F58-545529761CB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638680" y="685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1981080"/>
            <a:ext cx="62485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year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Y and program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A4E-C6CD-45D3-A035-B1108FAC9FE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19920" y="685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24852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 schools can 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5B6-8908-4A46-A6B6-EF0BAD3AFCE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94360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981080"/>
            <a:ext cx="6248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data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/L data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data fro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CF3-CB3C-4675-BF92-FAD3FC14850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638680" y="609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981080"/>
            <a:ext cx="62485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v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B13-373B-4866-B80E-87F0601851C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Website-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or to Logging I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791320" y="3809880"/>
            <a:ext cx="320040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ch Searc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 summar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ollar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6386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ttps://cod.ed.g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1828800"/>
            <a:ext cx="28954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ool 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dollar to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328-04C9-43D7-9D1A-01BDD59026D9}" type="slidenum">
              <a:t>34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oking for more Information?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64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5880" y="2666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2743200"/>
            <a:ext cx="335268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of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 and CPS/SAIG quick    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nline change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343400"/>
            <a:ext cx="4724280" cy="3049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2FE-418B-4199-84AB-F73144DC5351}" type="slidenum">
              <a:t>35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41360" y="3197160"/>
            <a:ext cx="29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Hel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819520"/>
            <a:ext cx="304920" cy="228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966-A969-4CDA-9EC3-D755A72BB1E7}" type="slidenum">
              <a:t>3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52280" y="-380880"/>
            <a:ext cx="10210680" cy="7619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5029200"/>
            <a:ext cx="4191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chool 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posted by your System Administrator for your schoo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590920"/>
            <a:ext cx="4038480" cy="1904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4987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Log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6DB-F90B-40AD-B877-D5737EE3CE38}" type="slidenum">
              <a:t>37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67280" y="236232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son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9B3-9F73-4405-A162-118D0413EEE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20320" cy="761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14400" y="5257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ew Person Detai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5D7-B15F-4D1B-908F-A01F06BDC15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04920" y="1676520"/>
            <a:ext cx="84582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D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52F-4FDE-4740-BB3F-8D2A93F6CC75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62120" y="5105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ward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1523880"/>
            <a:ext cx="4572000" cy="58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mes R Buchan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999919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4/15/1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1A4-E725-4EA1-9E8B-2F8E0B39827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40381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nt Sear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46F-C1E9-4CDD-84D9-86B894A730D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43434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e Cod and CPS Data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9E5-0281-40CE-8DC5-478117A165E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51055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Search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92E-075F-4188-85F8-9CA421C104E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10080" y="21337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ool  Sear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key featur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F70-B13B-446A-8BD6-E737906DD17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11125080" cy="7620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72200" y="327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20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11A-E454-46AA-9BF4-489159B3335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666880" y="6019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rching by SS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5B4-DDFF-4684-945F-A9482DE718E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620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943600" y="2743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ing the Re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FA4-E244-48DB-94D1-ABB9E2C6858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086600" y="1219320"/>
            <a:ext cx="1828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yo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14479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14479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1219320"/>
            <a:ext cx="1676520" cy="457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53D-9DF0-4380-9573-F1F5E3223CC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95880" y="1295280"/>
            <a:ext cx="1905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60948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77F-DCAE-4CE9-A15D-140A987B795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</a:rPr>
              <a:t>COD went liv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981080"/>
            <a:ext cx="83055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RIL 29, 2002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25800" cy="12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44A-19B0-4EAA-A291-7C3FB3B556C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95280" y="39625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ward Search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933-D837-4A9C-8294-C4A04A4483B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14400" y="3962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es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630-4A3F-4987-A6C5-2B0D19441BB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ewing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805120" y="4724280"/>
            <a:ext cx="444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ll and Direct Loan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/Name/Date of Birth Change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ng Disbursement Li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ed Disbursement List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080" y="2895480"/>
            <a:ext cx="2611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 day warning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ctive Loan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plicate Borrowe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2971800"/>
            <a:ext cx="2895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 Statu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ll Pop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EB5-1753-4CC1-827C-ED80625DB5AC}" type="slidenum">
              <a:t>52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Loan Servic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E42-CC35-4144-BEBC-3385930C5D6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21337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r M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F45-B981-4504-8F50-86A78590FD5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word mainten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dminist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ing your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ctivating/Reactivating a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C75-65D3-4C41-8D48-EF5516F411E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120" y="5486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ate new user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0B6-7C0F-45F0-BE7F-F691D76E270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85800" y="4876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nging Your Pass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180-6273-4EA6-AEE5-75E64ABF1E3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d Simul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2743200"/>
            <a:ext cx="1523880" cy="228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A0B-C8CB-4DF1-A154-FFB744A3A7D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Simulation Lesson Menu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C71-D818-458F-B039-7B98B16050C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 Black"/>
              </a:rPr>
              <a:t>An Opportunity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integration of commo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using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better fund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better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2305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A46-2917-462C-80B1-7C13DAE5504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re Informatio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FAP Website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www.IFAP.ed.gov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mon Origination and Disbursemen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nouncements and Frequently Ask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Technical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L Bulle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680-080A-47D1-947F-ABA191C004E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TD Batches Processed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 of October 12, 2004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78000" y="1371600"/>
          <a:ext cx="83880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71600"/>
                    <a:ext cx="8388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EAC_swoosh_small" descr=""/>
          <p:cNvPicPr/>
          <p:nvPr/>
        </p:nvPicPr>
        <p:blipFill>
          <a:blip r:embed="rId3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4C8-0215-43DD-A0B3-5C416F79AFD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Pell Grant Awar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d Disbursem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8756640" cy="53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756640" cy="53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EAC_swoosh_small" descr=""/>
          <p:cNvPicPr/>
          <p:nvPr/>
        </p:nvPicPr>
        <p:blipFill>
          <a:blip r:embed="rId3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900-6905-4CFF-B546-10988AF0305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Processing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rect Loan Awards and Disbursements</a:t>
            </a: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5" name="EAC_swoosh_small" descr=""/>
          <p:cNvPicPr/>
          <p:nvPr/>
        </p:nvPicPr>
        <p:blipFill>
          <a:blip r:embed="rId1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0" y="1219320"/>
          <a:ext cx="879948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87994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E73-BEB0-49F7-ACA0-28A8301788B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520" y="9144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D Customer Servic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ll Year End Proc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r 2002-2003 approximately 5,191 schools have completed year end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chools continue to reconcile their schools account for 2003-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otential Overaward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uring the 2003-2004 Award Year a total of 1,094 schools encountered a POP.  For the 2004-2005 Award Year 225 schools encountered P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ct Loan Close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 total of 552 have closed out for the 2002-2003 Award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8 Schools are currently at a zero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EAC_swoosh_small" descr=""/>
          <p:cNvPicPr/>
          <p:nvPr/>
        </p:nvPicPr>
        <p:blipFill>
          <a:blip r:embed="rId1"/>
          <a:stretch/>
        </p:blipFill>
        <p:spPr>
          <a:xfrm>
            <a:off x="0" y="152280"/>
            <a:ext cx="231444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C48-C6AC-48E8-AF8E-0F4B57E76F1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97180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D Customer Servic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hind the Sc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f 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t the COD School Relations Center to support Customer Service effo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s  have gained a great deal of knowledge and experience over the past few years.  CSRs are eager and ready to build relationships directly with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are tracked on the COD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tickets are opened if a CSR can’t provide a resolution during the phone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Rs now have a “Reminder” queue to track all call backs to schools with an open reference ti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mo is recorded for all schools or students who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Rs also code each contact for trending and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497-B68E-4237-8274-866F739F92C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4304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ore Information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sit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 and Frequently Ask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 Bullet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9A9-2B6E-43B9-BFFD-42268A9E5CB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-360" y="3733560"/>
            <a:ext cx="4419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848-0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0" y="373356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Pel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800-474-7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title"/>
          </p:nvPr>
        </p:nvSpPr>
        <p:spPr>
          <a:xfrm>
            <a:off x="0" y="4952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il questions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DSupport@acs-inc.com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6094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ustomer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1592280" cy="1569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95360" y="2238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2438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F73-9EBB-4903-AFD7-87B26977CDE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COD Sessions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5320" y="2155680"/>
            <a:ext cx="865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7 Navagating the 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8 COD:  What’s New for Direct Loan Processing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 COD:  What’s New for Pell Processing for 2005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5 COD Open Forum:  Questions &amp;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F0E-8D80-467A-9DA1-51BCF09F48F6}" type="slidenum">
              <a:t>68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 YOU transmit data to CO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f your school submits data using the COD Common Record Layout in XML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 are considered a FULL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f your school submits data using Pell Grant/Direct Loan Record Layouts in fixed-length, flat file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 are considered a PHASE-IN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45:4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3821241</vt:r8>
  </property>
  <property fmtid="{D5CDD505-2E9C-101B-9397-08002B2CF9AE}" pid="3" name="_AuthorEmail">
    <vt:lpwstr>david.s.kwon@accenture.com</vt:lpwstr>
  </property>
  <property fmtid="{D5CDD505-2E9C-101B-9397-08002B2CF9AE}" pid="4" name="_AuthorEmailDisplayName">
    <vt:lpwstr>Kwon, David S.</vt:lpwstr>
  </property>
  <property fmtid="{D5CDD505-2E9C-101B-9397-08002B2CF9AE}" pid="5" name="_EmailSubject">
    <vt:lpwstr>Updated EAC Session #20 Presentation</vt:lpwstr>
  </property>
  <property fmtid="{D5CDD505-2E9C-101B-9397-08002B2CF9AE}" pid="6" name="_NewReviewCycle">
    <vt:lpwstr/>
  </property>
</Properties>
</file>