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11.png" ContentType="image/png"/>
  <Override PartName="/ppt/media/image6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2.wmf" ContentType="image/x-wmf"/>
  <Override PartName="/ppt/media/image12.png" ContentType="image/png"/>
  <Override PartName="/ppt/media/image10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820-B277-491B-9916-76C6453F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A3D-5471-4675-945D-C3D1084D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350-41BB-4D97-8556-25513E84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EF0-F09F-4879-848A-89884304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4AE-1262-4A35-9184-2368D6DF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4CB-3D55-40DB-8121-1AEE5E66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425-F0EB-452D-9F6D-C6099747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B08-039F-4608-A128-AEB9AF37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BBF-7FB5-4FBB-B4D9-FE83C07E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704-D0F2-4C57-B3C4-2C468CC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CAC-873C-4334-BA03-8FA37323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818-903A-4F4E-851A-F6699C5D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2F91-52D2-4FCA-A75F-9778FE9EE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15228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sally.smith@veryspeedy.ne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 : Moving Beyond – Flat Files to XML Common Recor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od M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bara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etrius Wi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schools will be required to process as FULL Participants using the XML Common Record in AY 2005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1752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Full-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30492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Common Record (C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4382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Routing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3124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152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Phase-in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2860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B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62485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CR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38862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200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CF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Flat-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066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3962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Unsubstantiated c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9528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T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Document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6172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ubstantiated c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54864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Rece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09B-04EA-4486-AE06-1DBD56D71EC6}" type="slidenum">
              <a:t>11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29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6" nodeType="withEffect" fill="hold" presetClass="entr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3" nodeType="withEffect" fill="hold" presetClass="entr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3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0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4" nodeType="withEffect" fill="hold" presetClass="entr" presetID="6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8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2" nodeType="withEffect" fill="hold" presetClass="entr" presetID="3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9" nodeType="withEffect" fill="hold" presetClass="entr" presetID="3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evt="end">
                                        <p:tn val="69"/>
                                      </p:cond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7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2" nodeType="withEffect" fill="hold" presetClass="entr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9" nodeType="withEffect" fill="hold" presetClass="entr" presetID="4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99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9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0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7" nodeType="withEffect" fill="hold" presetClass="entr" presetID="39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4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8" nodeType="withEffect" fill="hold" presetClass="entr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38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7920" y="5335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at Fil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0405298927382031979SallyASmith0203INDL2222222FP417HalperRoadFortWayn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46807AllenUSA2197446947USA2197446947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Comic Sans MS"/>
                <a:hlinkClick r:id="rId1"/>
              </a:rPr>
              <a:t>sally.smith@veryspeedy.ne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525-5F11-42F0-BCCB-0A579D66A91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5335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 Process Flat Fil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43828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&amp; separate “batches” of unique &amp; separate “like-type”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CEE-1BD6-4238-80E7-6AD3CB929CA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Concept…No More Records As We Know Them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Origination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Origina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Disbursement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Disburse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 Common Record transporting Origination and or Disbursement dat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601-A823-47F1-A64D-747875CC7D2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20574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hicle that transports Pell Grant and Direct Loan award data to the CO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cument that uses common data elements, edits, definitions and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entr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286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This Common Record Thing Anyw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E7A-C2CC-40DA-A981-78967199928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057400"/>
            <a:ext cx="81532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ocument can report multiple awards for multiple students/borrowers for multiple award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blocks are reus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d in E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bl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uage (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2286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This Common Record Thing Anyw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9BF-E4C5-4964-9568-17C77BDEE83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14800" y="45720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 Terms – Tags and Elements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astName&gt; &lt;/LastNa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854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tart 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3886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End 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33720" y="320040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48320" y="320040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2438280"/>
            <a:ext cx="76320" cy="83844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5146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858000" y="281952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25146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impl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37E-BFBC-406B-BD25-9337F92A15FE}" type="slidenum">
              <a:t>17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1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2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mon Record – A Logical Grouping Of Complex Ele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=“Smith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dentifier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riversLicens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riversLicenseState&gt;IN&lt;/DriversLicenseSt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riversLicenseNumber&gt;DL2222222&lt;/DriversLicenseNumb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riversLicens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irstName&gt;Sally&lt;/FirstNam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iddleInitial&gt;A&lt;/MiddleIniti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ntac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ddressLine&gt;417 Hapler Road&lt;/AddressLine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ddressCity&gt;Fort Wayne&lt;/AddressCi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ddressStateProvinceCode&gt;IN&lt;/AddressStateProvinceC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ddressPostalCode&gt;46807&lt;/AddressPostalCod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Contac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2514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impl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391160" y="2666880"/>
            <a:ext cx="152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28600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9092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omplex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581280"/>
            <a:ext cx="304560" cy="99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800600"/>
            <a:ext cx="380880" cy="1523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8098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omplex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25780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omplex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488-F273-4E05-A408-A675796EB518}" type="slidenum">
              <a:t>18</a:t>
            </a:fld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19720" y="7621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s Of Dat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onRecor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ocumentID&gt;2004-08-29T09:09:09.0011111111&lt;/Document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reatedDateTime&gt;2004-08-29T17:20:01.00&lt;/CreatedDate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our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chool EntityID="11111111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our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stina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D EntityID="00000001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estina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portingSchool EntityID="11111111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portedFinancialSummar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ReportedFinancialSummar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ttendedSchool EntityID="2222222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udent SSN=”123456789” BirthDate=”1985-01-01” LastName=”SMITH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198108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895480"/>
            <a:ext cx="457200" cy="2514600"/>
          </a:xfrm>
          <a:custGeom>
            <a:avLst/>
            <a:gdLst>
              <a:gd name="textAreaLeft" fmla="*/ 0 w 457200"/>
              <a:gd name="textAreaRight" fmla="*/ 164880 w 4572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2178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oc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006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Entity 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062-814E-4D4B-9CFF-803B31BF297C}" type="slidenum">
              <a:t>19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 Black"/>
              </a:rPr>
              <a:t>It all began in…</a:t>
            </a:r>
            <a:endParaRPr b="0" lang="en-US" sz="5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2057400"/>
            <a:ext cx="80773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02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9A5-68D0-4845-BB79-1CC0E0EF027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19720" y="7621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s Of Dat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76680" y="18288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ud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udent SSN=”123456789” BirthDate=”1985-01-01” LastName=”SMITH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el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el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LSubsidiz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LSubsidiz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tud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udent SSN=”987654321” BirthDate=”1982-02-20” LastName=”JONES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LSubsidiz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LSubsidiz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LUnsubsidiz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LUnsubsidiz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tud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66688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1905120"/>
            <a:ext cx="457200" cy="4419360"/>
          </a:xfrm>
          <a:custGeom>
            <a:avLst/>
            <a:gdLst>
              <a:gd name="textAreaLeft" fmla="*/ 0 w 457200"/>
              <a:gd name="textAreaRight" fmla="*/ 164880 w 457200"/>
              <a:gd name="textAreaTop" fmla="*/ 115200 h 4419360"/>
              <a:gd name="textAreaBottom" fmla="*/ 43041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733920"/>
            <a:ext cx="1295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ers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1240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ward 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ward 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4343400"/>
            <a:ext cx="381240" cy="1219320"/>
          </a:xfrm>
          <a:custGeom>
            <a:avLst/>
            <a:gdLst>
              <a:gd name="textAreaLeft" fmla="*/ 0 w 381240"/>
              <a:gd name="textAreaRight" fmla="*/ 137520 w 3812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69A-4E9A-4001-ADB2-F6F244F00422}" type="slidenum">
              <a:t>20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2640" y="22831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isburs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 Number="02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Amount&gt;2025&lt;/DisbursementAmou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Date&gt;2005-01-15&lt;/DisbursementD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ReleaseIndicator&gt;false&lt;/DisbursementReleaseIndicato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SequenceNumber&gt;1&lt;/DisbursementSequenceNumb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ymentPeriodStartDate xsi:nil="true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isburs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57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s Of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36232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032280"/>
            <a:ext cx="1219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Di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79320" y="2392920"/>
            <a:ext cx="7088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st the appropriat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CP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with the bad…in with the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57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Happens Nex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10552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ip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981080"/>
            <a:ext cx="79250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you your CR has validated successfully against the appropriate xML schema and will be processed and ed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generated e-mail to notify you of CR that does not (invalid form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s no student award data edi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27F-7402-45A6-A30C-858AC71699F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10552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ip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981080"/>
            <a:ext cx="79250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onRecor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ocumentID&gt;2004-03-18T09:09:09.0012345678&lt;/DocumentI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reatedDateTime&gt;2004-03-18T09:20:01.00&lt;/CreatedDateTime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our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D EntityID="00000001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our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stin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chool EntityID="12345678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estin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ceipt&gt;2004-03-18T09:21:00.00&lt;/Rece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CommonRecor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DF5-912A-451C-90A1-28C296CAB51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5880" y="654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60020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generates a complex response element for each major block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D7C-5FBD-4F8B-BF4E-91ECCF14690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5880" y="654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600200"/>
            <a:ext cx="86868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ed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356-555A-4FF6-A8E1-02CC7C0ABB0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5880" y="654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600200"/>
            <a:ext cx="8686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returns all original tags submitted AND rejected data elements and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returns only the rejected data and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3E5-4CEF-4DEB-8F05-F54390AEF0D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92640" y="1872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isburs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 Number="02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Amount&gt;2025&lt;/DisbursementAmou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Date&gt;2005-01-15&lt;/DisbursementD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ReleaseIndicator&gt;false&lt;/DisbursementReleaseIndicato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SequenceNumber&gt;1&lt;/DisbursementSequenceNumb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ymentPeriodStartDate xsi:nil="true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spo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sponseCode&gt;A&lt;/ResponseCod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isburs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7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96252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Response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866920" y="4267080"/>
            <a:ext cx="304920" cy="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410080" y="609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1981080"/>
            <a:ext cx="62485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o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(EdExpress users must receive full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A86-4AE9-4CD2-9E03-6105F2643CC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66680" y="380880"/>
            <a:ext cx="75438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igination and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sbursement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9F3-A86D-4546-B58F-BFFB527C10B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638680" y="685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1981080"/>
            <a:ext cx="624852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 year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Y and program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B75-CBAD-4B31-BD18-7C23F6046FD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19920" y="685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981080"/>
            <a:ext cx="624852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 schools can cre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F9B-CB4E-4D74-A91B-3263B92574A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94360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981080"/>
            <a:ext cx="6248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 data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/L data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data fro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13E-4D3F-4808-8D2C-AB14279D9D3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638680" y="6094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981080"/>
            <a:ext cx="62485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v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2C2-DF66-4728-84FC-704A52065A6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D Website-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or to Logging I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791320" y="3809880"/>
            <a:ext cx="320040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ch Search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ch summary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dollar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6386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ttps://cod.ed.go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1828800"/>
            <a:ext cx="28954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ool Sea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dollar 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48C-EC00-436F-8A08-CD90305D7F2B}" type="slidenum">
              <a:t>34</a:t>
            </a:fld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oking for more Information?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64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5880" y="2666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2743200"/>
            <a:ext cx="3352680" cy="34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of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 and CPS/SAIG quick    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Q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 online change auth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343400"/>
            <a:ext cx="4724280" cy="3049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008-C1D0-4D44-80F5-30F4E2FA2D9C}" type="slidenum">
              <a:t>35</a:t>
            </a:fld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41360" y="3197160"/>
            <a:ext cx="29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Hel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2819520"/>
            <a:ext cx="304920" cy="2286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62F-0C5E-4060-A13C-1D4E59E9E20C}" type="slidenum">
              <a:t>36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-152280" y="-380880"/>
            <a:ext cx="10210680" cy="7619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5029200"/>
            <a:ext cx="4191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school 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posted by your System Administrator for your school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590920"/>
            <a:ext cx="4038480" cy="1904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249876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Log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CF3-88F6-470B-9380-A2877A83D336}" type="slidenum">
              <a:t>37</a:t>
            </a:fld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867280" y="236232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son Men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C1F-2E58-404D-9746-5B0A039F94D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220320" cy="7619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14400" y="52578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ew Person Detai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A5E-8341-428A-81AF-32A6618B0A3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04920" y="1676520"/>
            <a:ext cx="84582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D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8E5-3FB1-46D7-9FCA-EBE43273477E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62120" y="51055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ward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1523880"/>
            <a:ext cx="4572000" cy="585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mes R Buchan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999919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04/15/19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1ED-43BA-40A1-BAF8-16E1AB7ED95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40381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licant Search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BA5-E7CA-45EB-A6DD-CF65EDD96DD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43434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are Cod and CPS Data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DFC-9E3F-4F8E-82F1-FF0359BDC9C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51055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hool Search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0A7-9C57-4AC3-A197-C842A8A7DCE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372600" cy="70102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410080" y="213372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hool  Searc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 key feature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3A5-D6B9-416A-AAD9-80F5276647B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762120"/>
            <a:ext cx="11125080" cy="7620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72200" y="3276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3200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F3B-C4FD-49B5-83B3-2D6D47667D6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666880" y="60199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arching by SS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9C0-0C30-4E75-9F75-BA4128313F8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620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943600" y="2743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earching the Re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AF5-FA14-4195-B3AD-B6BD0FBEDA7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086600" y="1219320"/>
            <a:ext cx="1828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yo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144792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144792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1219320"/>
            <a:ext cx="1676520" cy="4572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BFC-FBFE-45AF-9F70-8ECB8481737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095880" y="1295280"/>
            <a:ext cx="1905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i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60948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930-6268-4BEC-B89C-2784B05E228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 Black"/>
              </a:rPr>
              <a:t>COD went live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981080"/>
            <a:ext cx="830556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RIL 29, 2002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25800" cy="12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CA5-21CE-4B50-AE62-C3CDEA7EF16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95280" y="396252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ward Search Men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C13-B563-4997-94D0-F01730103D3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914400" y="3962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es Men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0A7-FB56-469D-BDB7-041D99B2950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ewing rep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805120" y="4724280"/>
            <a:ext cx="444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ll and Direct Loan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/Name/Date of Birth Change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ng Disbursement List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ed Disbursement List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080" y="2895480"/>
            <a:ext cx="2611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 day warning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active Loan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plicate Borrowe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2971800"/>
            <a:ext cx="2895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ification Status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ll Pop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222-2BC6-4E5D-AA54-37E4F9F0B909}" type="slidenum">
              <a:t>52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Loan Servic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26F-CADA-4B93-9246-27791CAE7CF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21337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r Men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1DB-1233-4FA9-8374-060C7047465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337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word mainten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administ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tting your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ctivating/Reactivating a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4EF-B8C2-4872-8421-4212251FEE3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52120" y="5486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te new user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D37-C9A6-4103-B3E7-63BF8E31908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85800" y="4876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nging Your Pass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6A6-19BA-4B02-8D11-36E046EDC1F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d Simul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43000" y="2743200"/>
            <a:ext cx="1523880" cy="2286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74D-AE69-46F1-99FD-E39048835CE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d Simulation Lesson Menu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A01-9FB1-410E-86D9-4F46C72F672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 Black"/>
              </a:rPr>
              <a:t>An Opportunity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integration of commo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using new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better fund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better custom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23056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E63-0469-4201-A588-234EF2C8853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ore Information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AP Website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www.IFAP.ed.gov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mon Origination and Disbursemen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nouncements and Frequently Ask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D Technica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L Bullet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BC7-D05D-4562-BA09-B5C6A025104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90560" y="304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D Processing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TD Batches Processed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 of October 12, 2004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78000" y="1371600"/>
          <a:ext cx="838800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371600"/>
                    <a:ext cx="83880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9" name="EAC_swoosh_small" descr=""/>
          <p:cNvPicPr/>
          <p:nvPr/>
        </p:nvPicPr>
        <p:blipFill>
          <a:blip r:embed="rId3"/>
          <a:stretch/>
        </p:blipFill>
        <p:spPr>
          <a:xfrm>
            <a:off x="0" y="152280"/>
            <a:ext cx="2314440" cy="12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21D-814E-4F31-BF3A-A6D9DB6BC2F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D Processing-Pell Grant Awar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d Disbursem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8756640" cy="53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756640" cy="53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EAC_swoosh_small" descr=""/>
          <p:cNvPicPr/>
          <p:nvPr/>
        </p:nvPicPr>
        <p:blipFill>
          <a:blip r:embed="rId3"/>
          <a:stretch/>
        </p:blipFill>
        <p:spPr>
          <a:xfrm>
            <a:off x="0" y="152280"/>
            <a:ext cx="2314440" cy="12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995-DD12-4F43-86CE-E3553E86F27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D Processing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rect Loan Awards and Disbursem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85" name="EAC_swoosh_small" descr=""/>
          <p:cNvPicPr/>
          <p:nvPr/>
        </p:nvPicPr>
        <p:blipFill>
          <a:blip r:embed="rId1"/>
          <a:stretch/>
        </p:blipFill>
        <p:spPr>
          <a:xfrm>
            <a:off x="0" y="152280"/>
            <a:ext cx="2314440" cy="12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0" y="1219320"/>
          <a:ext cx="8799480" cy="49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19320"/>
                    <a:ext cx="879948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D27-BD78-42E8-9C58-DA94CD12218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52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D Customer Servic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ll Year End Proces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r 2002-2003 approximately 5,191 schools have completed year end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chools continue to reconcile their schools account for 2003-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otential Overaward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uring the 2003-2004 Award Year a total of 1,094 schools encountered a POP.  For the 2004-2005 Award Year 225 schools encountered P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rect Loan Closeo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 total of 552 have closed out for the 2002-2003 Award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28 Schools are currently at a zero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EAC_swoosh_small" descr=""/>
          <p:cNvPicPr/>
          <p:nvPr/>
        </p:nvPicPr>
        <p:blipFill>
          <a:blip r:embed="rId1"/>
          <a:stretch/>
        </p:blipFill>
        <p:spPr>
          <a:xfrm>
            <a:off x="0" y="152280"/>
            <a:ext cx="2314440" cy="12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262-C322-4E87-8DF0-7827B1B460A2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971800" y="6858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D Customer Servic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hind the Sc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f 9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at the COD School Relations Center to support Customer Service effor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Rs  have gained a great deal of knowledge and experience over the past few years.  CSRs are eager and ready to build relationships directly with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are tracked on the COD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tickets are opened if a CSR can’t provide a resolution during the phone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Rs now have a “Reminder” queue to track all call backs to schools with an open reference ti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mo is recorded for all schools or students who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Rs also code each contact for trending and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4C7-E0EB-40B0-A739-BAE53ACB2CB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4304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ore Information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Website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ww.IFAP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Origination and Disbursemen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ments and Frequently Ask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Technical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 Bullet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64D-B31C-4C16-BEC5-52B41080DB31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-360" y="3733560"/>
            <a:ext cx="4419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00-848-0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0" y="373356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Pell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00-474-72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title"/>
          </p:nvPr>
        </p:nvSpPr>
        <p:spPr>
          <a:xfrm>
            <a:off x="0" y="4952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il questions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DSupport@acs-inc.com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6094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ustomer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1592280" cy="15699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95360" y="2238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2438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21B-FEF8-46E4-9089-D87D6A7CEE3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00400" y="837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COD Sessions: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5320" y="2155680"/>
            <a:ext cx="865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7 Navagating the 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8 COD:  What’s New for Direct Loan Processing 2005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9 COD:  What’s New for Pell Processing for 2005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45 COD Open Forum:  Questions &amp;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74D-8630-4C87-83CD-B0D5D20C8178}" type="slidenum">
              <a:t>68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do YOU transmit data to CO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f your school submits data using the COD Common Record Layout in XML forma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00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 are considered a FULL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f your school submits data using Pell Grant/Direct Loan Record Layouts in fixed-length, flat file forma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 are considered a PHASE-IN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1:45:41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3821241</vt:r8>
  </property>
  <property fmtid="{D5CDD505-2E9C-101B-9397-08002B2CF9AE}" pid="3" name="_AuthorEmail">
    <vt:lpwstr>david.s.kwon@accenture.com</vt:lpwstr>
  </property>
  <property fmtid="{D5CDD505-2E9C-101B-9397-08002B2CF9AE}" pid="4" name="_AuthorEmailDisplayName">
    <vt:lpwstr>Kwon, David S.</vt:lpwstr>
  </property>
  <property fmtid="{D5CDD505-2E9C-101B-9397-08002B2CF9AE}" pid="5" name="_EmailSubject">
    <vt:lpwstr>Updated EAC Session #20 Presentation</vt:lpwstr>
  </property>
  <property fmtid="{D5CDD505-2E9C-101B-9397-08002B2CF9AE}" pid="6" name="_NewReviewCycle">
    <vt:lpwstr/>
  </property>
</Properties>
</file>