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34B-F424-4709-AA07-262D8A59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72B-15C9-4E9C-B188-F6DE8C1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F19-AF87-4D02-802F-57648C89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6B5-2EEC-44A9-8AE8-72EB4910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7D3-144B-4E3B-983D-1C3F2CC0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680-D9D0-4316-9943-E257BB46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BCF-E1F3-4CB1-86B7-8953E630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A30-6F5E-48C6-A327-4D03ABAA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2FB-CF12-48F0-A6BB-8BBA53C0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8BC-176F-4FAF-934F-036DA74B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828-97A2-43C9-BBA4-07A2077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F71-3A3C-43DB-A42B-A07E5F4E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B079-45A3-4D3A-BA2E-A1A1EBB2D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.gov/FSA/COD/2004/v2.0d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.gov/legislation/FedRegister/other/2004-3/091404b.html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ifap.ed.gov/eannouncements/1126UpdateContacInfoinCODSys.html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CODSupport@acs-inc.com" TargetMode="External"/><Relationship Id="rId2" Type="http://schemas.openxmlformats.org/officeDocument/2006/relationships/hyperlink" Target="mailto:CODSupport@acs-inc.com" TargetMode="External"/><Relationship Id="rId3" Type="http://schemas.openxmlformats.org/officeDocument/2006/relationships/hyperlink" Target="mailto:CODSupport@acs-inc.com" TargetMode="External"/><Relationship Id="rId4" Type="http://schemas.openxmlformats.org/officeDocument/2006/relationships/hyperlink" Target="mailto:CODSupport@acs-inc.com" TargetMode="External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fap.ed.gov/eannouncements/0806CODFullParticReq0506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3c.org/" TargetMode="External"/><Relationship Id="rId2" Type="http://schemas.openxmlformats.org/officeDocument/2006/relationships/hyperlink" Target="http://www.ebxml.org/" TargetMode="External"/><Relationship Id="rId3" Type="http://schemas.openxmlformats.org/officeDocument/2006/relationships/hyperlink" Target="http://www.oasis-open.org/" TargetMode="External"/><Relationship Id="rId4" Type="http://schemas.openxmlformats.org/officeDocument/2006/relationships/hyperlink" Target="http://www.xml.com/" TargetMode="External"/><Relationship Id="rId5" Type="http://schemas.openxmlformats.org/officeDocument/2006/relationships/hyperlink" Target="http://sys-con.com/xml/" TargetMode="External"/><Relationship Id="rId6" Type="http://schemas.openxmlformats.org/officeDocument/2006/relationships/hyperlink" Target="http://www.xfront.com/" TargetMode="External"/><Relationship Id="rId7" Type="http://schemas.openxmlformats.org/officeDocument/2006/relationships/hyperlink" Target="mailto:Holly.Hyland@ed.gov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New for Direct Loan Processing for 2005-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 Mason, Cheryl Markiewic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Merrill, Ron Acker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84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XML – Schema Processing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05/06, the COD Common Record schema will not change.  COD will continue to use our existing Common Record schema v2.0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is modifying how it populates the namespace attribute in the Common Record tag in Common Record Response docu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640" y="4967280"/>
            <a:ext cx="85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onRec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n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  <a:hlinkClick r:id="rId1"/>
              </a:rPr>
              <a:t>http://www.ed.gov/FSA/COD/2004/v2.0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7DA-A68D-4096-A84A-98B5DF7920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561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XML – Schema Processing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return in Common Record Response documents the value that was submitted to COD in the Namespace attribute, essentially “echo-ing” back the Name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ystem-generated responses, COD will populate the Namespace attribute with the latest version of the XML Schema released for each award ye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-2004 2.0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-2005 2.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-2006 2.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239-02B6-4C8A-84E0-F1C00D3639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2018880"/>
            <a:ext cx="77724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Promissory Note (MPN) 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425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3201840"/>
            <a:ext cx="6172200" cy="5018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A72-FC3F-4EA4-9EEF-0AA4712DD8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 Link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02860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not link a MPN to a loan if the loan amount and all actual and anticipated disbursements equal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initiate a MPN linking process when an award amount on an unlinked award is increased from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will receive an Unsolicited Promissory Note acknowledgement when the increased award is lin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nge will apply to ALL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761-5685-47CA-B571-EB6EE3646C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560" y="762120"/>
            <a:ext cx="9133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 Inactivity/Expiration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095200"/>
            <a:ext cx="80280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generate three separate non-award year specific reports notifying schools when an MPN is about to or has expi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N Discharg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ired MP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Ns Due to Expir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ports will be available in the following forma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length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-de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-de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6A8-0380-44D2-9922-8713B7C27E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 Discharge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notify schools of MPNs that have become inactive within the last 30 days due to discharges for Death and Unauthorized Sig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all Schools with loans linked to the MPNs, as well as the Schools that created the MPNs listed in the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BCB-6E43-402F-BEA7-A33E485D50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 Discharge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Attended Schools’ Newsbox on the COD web site and Reporting Schools’ SAIG mailbox on a weekly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 – MPNDIS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7DE-6808-4833-B769-F0512BE6C3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pired MPN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78771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notify schools of inactive MPNs within the last 30 days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wards linked within a year of the receipt 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ctual disbursements on a linked award within a year of the receipt 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years passing since the receipt 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US loan linked with an Endor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BFB-87A9-4433-A1BF-806604345B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pired MPN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all Schools with loans linked to the MPNs, as well as the Schools that created the MPNs listed in the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Attended Schools’ Newsbox on the COD web site and Reporting Schools’ SAIG mailbox on a weekly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 – MPNIN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144-50A4-49D0-A672-226291334E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s Due to Expire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notify schools of MPNs that will expire within the next 60 days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wards linked within a year of the receipt 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ctual disbursements on a linked award within a year of the receipt 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years passing since the receipt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C84-EFB1-497F-8310-0C5B29BCB8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9782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Year Phase-In Recor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tinued Phase-In Messag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Markup Language (XML) Schema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951200"/>
            <a:ext cx="6019560" cy="4982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8D7-1C6E-47B2-A2E7-9AFAE33974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8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s Due to Expire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all Schools with loans linked to the MPNs, as well as the Schools that created the MPNs listed in the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Schools’ Newsbox on the COD web site on a monthly basis, and Reporting Schools’ SAIG mailbox on a monthly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 – MPNEXP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C1B-B24A-4F79-8FFD-8FDF9F92D3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45960" y="1949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Detai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611520"/>
            <a:ext cx="6172200" cy="5018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E78-CBE9-413B-BB32-A74122FD2E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27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pplicant Detail Web Pag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nt Detail Web page will display the new and revised valid values for the 2005-2006 CPS Abbreviated Applicant File (AA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pendency Override “Professional Judgment” Indicator field will be added to the Applicant Detail Web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04C-8629-4A6F-AE30-1289A2A724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1302" t="19877" r="4224" b="2046"/>
          <a:stretch/>
        </p:blipFill>
        <p:spPr>
          <a:xfrm>
            <a:off x="755640" y="0"/>
            <a:ext cx="7931160" cy="6886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79800" y="5929200"/>
            <a:ext cx="3744720" cy="338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5E9-C686-40B5-87A4-C12588A0EF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45960" y="189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N Change 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Edit 0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Address 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mbursement Analyst 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700440"/>
            <a:ext cx="6172200" cy="5018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F81-1C16-4F57-BE2D-0BCFF722CB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2520" y="794880"/>
            <a:ext cx="7947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ject Edit 121 - SSN Chang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 Change Request Rejected as Person is also a PLUS borrower”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ject Edit 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will be returned when an SSN change is submitted on any award typ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is also a PLUS borrowe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award is greater than zero and is not yet fully disbu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dit will apply to ALL award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BE2-4005-473D-8FCF-2380592545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Full Participants, Prior Year Pell Phase-In Participants (Edit 332/996) and Prior Year Direct Loan Phase-In Participants (Origination/Change Edit 83/99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jected, schools must cancel the loan and resubmit with the correct SS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60160" y="882720"/>
            <a:ext cx="794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ject Edit 121 - SSN Chang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121-B7F8-46B2-8B69-BEA8A82F8C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761760"/>
            <a:ext cx="872496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ject Edit 122 - PLUS Loan Increase After SSN Chang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162160"/>
            <a:ext cx="77724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o PLUS loan award amount rejected”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ject Edit 1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allow an SSN change for a PLUS borrow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 PLUS loan award amount is equal to zero is inactive or fully disbur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22 will be returned when a school submits an increase to a PLUS loan award amount and the person has had an SSN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FE9-15FB-4880-BF80-B662E33577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69720" y="2043000"/>
            <a:ext cx="8469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dit will apply to ALL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pply to Full Participants, Prior Year Direct Loan Phase-In Participants (Origination/Change Edit 19/99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jected, schools must cancel the loan and resubmit with the correct SS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19040" y="761760"/>
            <a:ext cx="872496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ject Edit 122 - PLUS Loan Increase After SSN Chang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A7D-A0EB-4028-8F5D-8491D913BE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dified Edit 055 – Warning Edi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Information Received 30 Days or more after Date of Disbursemen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055 will be returned when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Sequence Number = 01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Information received and processed more than 30 days later than the Disbursement Date reported on the recor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Release Indicator (DRI) =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odified edit will apply to ALL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nge was made in response to school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C0C-6DC3-4B12-A0C2-254CF9E08D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ll Participa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schools will be required to process as Full Participants using the XML Common Record in 05/0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19904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D20-856F-4B56-B342-22E282B978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ject Edit 021 - Complete Address Required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16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is incomplete”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ject Edit 0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mplete address is not submitted on the incoming records, COD will check if a complete address exists on the COD database or in C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021 will be returned if a complete address cannot be found for the student/borr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– Direct Loan Sub/Unsub, Direct Loan PLUS Borrowers, and Pell G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BA3-4075-4C27-AB96-881DCB06DA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dit will apply to ALL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pply to Full Participants, Prior Year Pell Phase-In Participants (Edit 397), and Prior Year Direct Loan Phase-In Participants (Origination Edits 02, 20 and 5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jected, schools must update and resubmit complete address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66480" y="762120"/>
            <a:ext cx="8777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ject Edit 021 - Complete Address Required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FEB-0AD9-44CA-B06C-521B2014EA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9520" y="744480"/>
            <a:ext cx="884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arning Edit 120 - Complete Address Processing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9670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address; complete address exists on COD.  For Direct Loan PLUS only, student address is incomplete”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 Edit 1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20 will be returned for Direct Loan Sub/Unsub and Pell Grant if a complete address is not submitted on the incoming record but is found in CPS or in the COD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09C-648D-4F35-B1E8-E9E4D99AC6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20 will be returned for Direct Loan PLUS if a complete student address does not exist on the incoming record, in CPS or in the COD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dit will apply to ALL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pply to Full Participants and Prior Year Pell Grant Phase-in Participants (Edit 39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99520" y="779040"/>
            <a:ext cx="8844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arning Edit 120 - Complete Address Processing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57A-C456-477D-A3D5-373BA1D1DE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18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mplete Address Criteri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1080" y="2209320"/>
            <a:ext cx="87771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 address is defin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mestic address must contain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StateProvince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Postal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eign address must contain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Country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If COD pulls AddressCountryCode for a foreign address from CPS, the record will re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EBA-32A3-469A-A23F-87EC666A09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010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imbursement and Heightened Cash Monitoring Reject Messag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95560"/>
          <a:ext cx="8458200" cy="4219560"/>
        </p:xfrm>
        <a:graphic>
          <a:graphicData uri="http://schemas.openxmlformats.org/drawingml/2006/table">
            <a:tbl>
              <a:tblPr/>
              <a:tblGrid>
                <a:gridCol w="709560"/>
                <a:gridCol w="3786480"/>
                <a:gridCol w="39621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Edi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Before 2005-200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2005-2006 and Forwar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adequate/Missing/Eligibility Inform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Eligibility Issu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adequate/Missing Fiscal Inform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correct Calculation(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adequate/Missing Award or Disbursing Inform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Already Being Fund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Not Meeting Reporting Requirem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mproper Package Submis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Failure to Comply with Requirem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complete Student Process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adequate or Missing Documen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Missing Documen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954440" y="6319800"/>
            <a:ext cx="50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These Edits will apply for all Award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FA7-7C09-41E7-A5A0-22B586685F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960" y="19749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4687920"/>
            <a:ext cx="6172200" cy="50148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A7E-FCE7-4100-85A1-B55C39B109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Publica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ew updated versions of thes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 Loan Basics for Par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US Ba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 Loan Basics for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L Ba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ance Counseling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t Counseling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n be ordered through the COD School Relations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2CA-DD42-4C16-B62F-340EE7825F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45600" y="1974960"/>
            <a:ext cx="846468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Customer Satisfaction Index (ACSI)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4933800"/>
            <a:ext cx="6172200" cy="5018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B91-80DB-4FD1-B8EF-D0238B60293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perts Availab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31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Customer Service Representatives are your connection to the expe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867-11C7-47B7-AB14-66BBB5D769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utreach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1080" y="2085840"/>
            <a:ext cx="8062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Rea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has begun an outreach program to ensure all Phase-In schools will be XML compliant in 05/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dditional information, please refer to the  Federal Register announcement issued on 9/14/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www.ed.gov/legislation/FedRegister/other/2004-3/091404b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870-2D62-4008-AF1B-E04477D1D8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utreach Eff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 School Relations Center performs outreach via phone and e-mail to schoo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e-mail is sent to Financial Aid Administrato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has increased the use of e-mail as a means to communicate with schools. We encourage schools to review their contact information in COD to ensure it is cur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the following IFAP announcement 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www.ifap.ed.gov/eannouncements/1126UpdateContacInfoinCODSys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44D-2DC7-415B-9EC5-D534C92605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utreach Eff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Customer Service proactively monitors the processing and reporting of disbursements for the Pell Grant and Direct Loan progr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 email sent weekly with subject title “School Monitoring Outreach” with statu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Grant Unsubstantiated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Unsubstantiated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Grant Potential Over award Situations (P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oked Direc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BDF-818E-4820-B2ED-A957D067B2F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utreach Eff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ith Direct Loan PLUS records that have a pended credit check in COD are contacted to obtain additional information in order to proceed with the credit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Award Year Clos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Bulleti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3FC-4D58-416C-B7C7-0DC1BB35C1E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urvey Resul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7378"/>
          <a:stretch/>
        </p:blipFill>
        <p:spPr>
          <a:xfrm>
            <a:off x="812880" y="2073240"/>
            <a:ext cx="7410240" cy="4603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rcRect l="0" t="93490" r="0" b="0"/>
          <a:stretch/>
        </p:blipFill>
        <p:spPr>
          <a:xfrm>
            <a:off x="1204920" y="6534000"/>
            <a:ext cx="6630840" cy="324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6719760" y="3073320"/>
            <a:ext cx="516240" cy="449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013080" y="5504040"/>
            <a:ext cx="515880" cy="448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514400" y="4530600"/>
            <a:ext cx="515880" cy="449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1840" y="1457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CE7-5542-4010-A6CA-AB97072D57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urvey Resul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81000" y="2093760"/>
            <a:ext cx="7251840" cy="4764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33240" y="1496880"/>
            <a:ext cx="47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Represen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775120" y="1784520"/>
            <a:ext cx="515880" cy="448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C2C-44F1-429C-944E-64A729454A0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urvey Resul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60400" y="2095560"/>
            <a:ext cx="7316640" cy="4719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28560" y="15001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149520" y="1830240"/>
            <a:ext cx="515880" cy="449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FC9-1B62-41D5-9FD0-53F8D56061A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eedback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800-848-0978 - Direc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800-474-7268 (4P-Grant) - Federal Pell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CODSuppor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ac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-in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74D-ADC2-40D0-A826-51A90D91EAF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re about Direct Loa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6 Direct Loans:  Balancing the Books for 2003-2004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7 Direct Loans:  Reconciliation, Putting the Pieces Together – A Case Stu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21 EDExpress/COD Processing from a Direct Loan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24 Become an EDExpress Direct Loan Release 2.0 Super-Us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D76-4847-4EFE-BE18-F2C43BAEE1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re about CO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17 Navigating the COD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19 COD:  What’s New for Pell Processing 2005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20 COD:  Moving Beyond Flat to XML Commo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5 COD Open Forum: 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F4C-B3C0-484B-B2BF-DB5A95827ED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ave you signed up yet?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-In Schools must mail or fax a Full Participant Request Letter to the COD School Relations Center as soon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dditional information, please refer to the IFAP Electronic Announcement issued on 8/6/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www.ifap.ed.gov/eannouncements/0806CODFullParticReq0506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DB9-8EBC-4AB6-AEC4-2066E884D7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76120" y="1985760"/>
            <a:ext cx="8639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XML can be found in the following refer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w3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www.ebxm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www.oasis-ope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www.xm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Journal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5"/>
              </a:rPr>
              <a:t>http://sys-con.com/xm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6"/>
              </a:rPr>
              <a:t>www.xfro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COD School Relations Center 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7"/>
              </a:rPr>
              <a:t>Holly.Hyland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f you need XML As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XML Resour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78D-8774-40F8-B8A8-F41ACA38CC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5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hase-In Record Process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not process Phase-In Participant fixed-length, flat-file records for 05/06 award year and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continue to process applicable Direct Loan and Pell Phase-In Participant records for prior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continue to produce reports in the same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006-CADC-4A44-9ABC-7E81B91507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scontinued Phase-In Message Class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2514600"/>
          <a:ext cx="8001000" cy="3467160"/>
        </p:xfrm>
        <a:graphic>
          <a:graphicData uri="http://schemas.openxmlformats.org/drawingml/2006/table">
            <a:tbl>
              <a:tblPr/>
              <a:tblGrid>
                <a:gridCol w="1905120"/>
                <a:gridCol w="3048120"/>
                <a:gridCol w="3047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 will not accept the following message 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 will not return the following message 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L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F06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06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06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F06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A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C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F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F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C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AFB-51B3-4E9A-A9F8-B00E9728E6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425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832120"/>
            <a:ext cx="7402680" cy="5810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224-0874-4CA5-B16B-ADFDF13A46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1:41:28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24306283</vt:r8>
  </property>
  <property fmtid="{D5CDD505-2E9C-101B-9397-08002B2CF9AE}" pid="3" name="_AuthorEmail">
    <vt:lpwstr>ellen.t.mclaughlin@accenture.com</vt:lpwstr>
  </property>
  <property fmtid="{D5CDD505-2E9C-101B-9397-08002B2CF9AE}" pid="4" name="_AuthorEmailDisplayName">
    <vt:lpwstr>Mclaughlin, Ellen T.</vt:lpwstr>
  </property>
  <property fmtid="{D5CDD505-2E9C-101B-9397-08002B2CF9AE}" pid="5" name="_EmailSubject">
    <vt:lpwstr>Presentations for Orlando EAC</vt:lpwstr>
  </property>
  <property fmtid="{D5CDD505-2E9C-101B-9397-08002B2CF9AE}" pid="6" name="_NewReviewCycle">
    <vt:lpwstr/>
  </property>
</Properties>
</file>