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9F6-F62B-481F-936F-A9B15064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12D-F6D2-4286-AA9A-9523BBD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20A-6F58-4095-9FAD-DBA17ECB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130-7BDC-4A7C-A11F-527F036F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7FC-37EA-4252-AB22-C85A5D8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D0C-C12C-4A4B-997E-47E4045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AFF-E7CF-42BB-8B48-D837EED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C2B-56F2-4375-A5E5-574FCDD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FFF-8979-47B8-BFE5-341665E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0FE-F4C2-4560-98DA-BE853E12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7C7-93AF-4A1E-97F8-D260BA8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FE9-347C-42A0-9072-D9881B7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950-4DEA-4D7E-B61F-1BDD929A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.gov/FSA/COD/2004/v2.0d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.gov/legislation/FedRegister/other/2004-3/091404b.html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ifap.ed.gov/eannouncements/1126UpdateContacInfoinCODSys.html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CODSupport@acs-inc.com" TargetMode="External"/><Relationship Id="rId2" Type="http://schemas.openxmlformats.org/officeDocument/2006/relationships/hyperlink" Target="mailto:CODSupport@acs-inc.com" TargetMode="External"/><Relationship Id="rId3" Type="http://schemas.openxmlformats.org/officeDocument/2006/relationships/hyperlink" Target="mailto:CODSupport@acs-inc.com" TargetMode="External"/><Relationship Id="rId4" Type="http://schemas.openxmlformats.org/officeDocument/2006/relationships/hyperlink" Target="mailto:CODSupport@acs-inc.com" TargetMode="External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fap.ed.gov/eannouncements/0806CODFullParticReq0506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3c.org/" TargetMode="External"/><Relationship Id="rId2" Type="http://schemas.openxmlformats.org/officeDocument/2006/relationships/hyperlink" Target="http://www.ebxml.org/" TargetMode="External"/><Relationship Id="rId3" Type="http://schemas.openxmlformats.org/officeDocument/2006/relationships/hyperlink" Target="http://www.oasis-open.org/" TargetMode="External"/><Relationship Id="rId4" Type="http://schemas.openxmlformats.org/officeDocument/2006/relationships/hyperlink" Target="http://www.xml.com/" TargetMode="External"/><Relationship Id="rId5" Type="http://schemas.openxmlformats.org/officeDocument/2006/relationships/hyperlink" Target="http://sys-con.com/xml/" TargetMode="External"/><Relationship Id="rId6" Type="http://schemas.openxmlformats.org/officeDocument/2006/relationships/hyperlink" Target="http://www.xfront.com/" TargetMode="External"/><Relationship Id="rId7" Type="http://schemas.openxmlformats.org/officeDocument/2006/relationships/hyperlink" Target="mailto:Holly.Hyland@ed.gov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New for Direct Loan Processing for 2005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Mason, Cheryl Markiewicz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Merrill, Ron Acker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84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– Schema Processing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05/06, the COD Common Record schema will not change.  COD will continue to use our existing Common Record schema v2.0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is modifying how it populates the namespace attribute in the Common Record tag in Common Record Response docu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640" y="4967280"/>
            <a:ext cx="85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mon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n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  <a:hlinkClick r:id="rId1"/>
              </a:rPr>
              <a:t>http://www.ed.gov/FSA/COD/2004/v2.0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7DE-8773-48AA-9614-E34FBC0456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561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– Schema Processing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return in Common Record Response documents the value that was submitted to COD in the Namespace attribute, essentially “echo-ing” back the Name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ystem-generated responses, COD will populate the Namespace attribute with the latest version of the XML Schema released for each award ye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 2.0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2005 2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-2006 2.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8EB-8B70-4F42-A6D6-88C61E065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201888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missory Note (MPN) 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425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0184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FE5-FC0F-4BCE-AB65-8034367230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Link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0286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not link a MPN to a loan if the loan amount and all actual and anticipated disbursements equal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initiate a MPN linking process when an award amount on an unlinked award is increased from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will receive an Unsolicited Promissory Note acknowledgement when the increased award is lin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ECF-5574-47D1-AD83-D9B8257E1F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560" y="762120"/>
            <a:ext cx="913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Inactivity/Expiration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095200"/>
            <a:ext cx="80280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generate three separate non-award year specific reports notifying schools when an MPN is about to or has exp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 Discharg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ired MP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Ns Due to Expir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ports will be available in the following forma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length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-de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-de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2E8-731E-4D43-B579-D8B026DD5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Discharg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MPNs that have become inactive within the last 30 days due to discharges for Death and Unauthorized Sig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651-84F4-4016-9D64-E8D61BA34C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 Discharg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ttended Schools’ Newsbox on the COD web site and Reporting Schools’ SAIG mailbox on a week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DIS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970-5084-4353-AB2E-8BE972C590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ired MPN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787716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inactive MPNs within the last 30 days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wards linke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ual disbursements on a linked awar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years passing since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US loan linked with an Endor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BE4-9F83-4D34-AB15-5403AAA7CD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ired MPN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ttended Schools’ Newsbox on the COD web site and Reporting Schools’ SAIG mailbox on a week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IN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B2D-1D8B-41AE-ADC1-7E74223AE1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s Due to Expir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notify schools of MPNs that will expire within the next 60 days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wards linke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ual disbursements on a linked award within a year of the receipt 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years passing since the receipt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CD2-D1AA-43F9-A687-1387532AE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9782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Year Phase-In Recor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ed Phase-In Messag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Markup Language (XML) Schema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951200"/>
            <a:ext cx="6019560" cy="4982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62F-4FCA-46C9-9C60-CFF655B2E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8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PNs Due to Expir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all Schools with loans linked to the MPNs, as well as the Schools that created the MPNs listed in the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ort will be sent to Schools’ Newsbox on the COD web site on a monthly basis, and Reporting Schools’ SAIG mailbox on a monthly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Class – MPNEX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690-CA5A-4812-B274-BCF90D7CA4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45960" y="1949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nt Detai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61152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001-47CA-40BE-9C57-DA35396B4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27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pplicant Detail Web Pag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nt Detail Web page will display the new and revised valid values for the 2005-2006 CPS Abbreviated Applicant File (AA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endency Override “Professional Judgment” Indicator field will be added to the Applicant Detail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34B-3C24-4187-BAD6-E84DF5CAAC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302" t="19877" r="4224" b="2046"/>
          <a:stretch/>
        </p:blipFill>
        <p:spPr>
          <a:xfrm>
            <a:off x="755640" y="0"/>
            <a:ext cx="7931160" cy="68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79800" y="5929200"/>
            <a:ext cx="3744720" cy="338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C33-89C9-433D-87D6-3C5D8E15BA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45960" y="1898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N Change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Edit 0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ddress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ment Analyst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0044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C80-7BDC-4216-97A0-4F5D0177F5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2520" y="794880"/>
            <a:ext cx="7947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 Edit 121 - SSN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 Change Request Rejected as Person is also a PLUS borrower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will be returned when an SSN change is submitted on any award typ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is also a PLUS borrowe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award is greater than zero and is not yet fully disbu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D09-4A38-45F4-BD87-01FD1D44B9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Full Participants, Prior Year Pell Phase-In Participants (Edit 332/996) and Prior Year Direct Loan Phase-In Participants (Origination/Change Edit 83/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cancel the loan and resubmit with the correct SS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60160" y="882720"/>
            <a:ext cx="794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ject Edit 121 - SSN Chang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3CA-A37F-4A5B-BFDC-629C43073B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761760"/>
            <a:ext cx="87249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122 - PLUS Loan Increase After SSN Chang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162160"/>
            <a:ext cx="77724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o PLUS loan award amount rejected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allow an SSN change for a PLUS borrow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 PLUS loan award amount is equal to zero is inactive or fully disbur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2 will be returned when a school submits an increase to a PLUS loan award amount and the person has had an SS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163-3E6F-4E25-AE82-E29F4E5692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69720" y="2043000"/>
            <a:ext cx="8469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, Prior Year Direct Loan Phase-In Participants (Origination/Change Edit 19/99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cancel the loan and resubmit with the correct SS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19040" y="761760"/>
            <a:ext cx="87249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122 - PLUS Loan Increase After SSN Chang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245-954D-4ADA-B46C-9B213D406D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dified Edit 055 – Warning Edi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Information Received 30 Days or more after Date of Disbursemen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055 will be returned when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quence Number = 0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Information received and processed more than 30 days later than the Disbursement Date reported on the record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Release Indicator (DRI) = tr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ified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 was made in response to school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621-E95C-4FF8-8875-C08B8510B3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ll Participa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schools will be required to process as Full Participants using the XML Common Record in 05/0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1990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EFE-48FD-4ECF-AF5C-37F12FFA5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021 - Complete Address Required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16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is incomplete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Edit 0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mplete address is not submitted on the incoming records, COD will check if a complete address exists on the COD database or in 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021 will be returned if a complete address cannot be found for the student/borr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– Direct Loan Sub/Unsub, Direct Loan PLUS Borrowers, and Pell G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B1C-9A9B-4700-998C-599D737219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, Prior Year Pell Phase-In Participants (Edit 397), and Prior Year Direct Loan Phase-In Participants (Origination Edits 02, 20 and 5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jected, schools must update and resubmit complete address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66480" y="762120"/>
            <a:ext cx="8777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ject Edit 021 - Complete Address Required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565-61E8-44C4-B759-203140F4B0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9520" y="744480"/>
            <a:ext cx="884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arning Edit 120 - Complete Address Process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9670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address; complete address exists on COD.  For Direct Loan PLUS only, student address is incomplete”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Edit 1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0 will be returned for Direct Loan Sub/Unsub and Pell Grant if a complete address is not submitted on the incoming record but is found in CPS or in the COD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0B3-B0D1-4120-893E-9482074582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20 will be returned for Direct Loan PLUS if a complete student address does not exist on the incoming record, in CPS or in the COD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dit will apply to ALL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pply to Full Participants and Prior Year Pell Grant Phase-in Participants (Edit 3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99520" y="779040"/>
            <a:ext cx="8844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arning Edit 120 - Complete Address Processing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B37-D5EE-450B-A22A-AF52CCCD84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18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mplete Address Criteria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1080" y="2209320"/>
            <a:ext cx="87771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address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mestic address must contai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StateProvinc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Postal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eign address must contain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ountry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If COD pulls AddressCountryCode for a foreign address from CPS, the record will re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A26-C3DA-4DDB-9592-5014FD00E2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010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imbursement and Heightened Cash Monitoring Reject Message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95560"/>
          <a:ext cx="8458200" cy="4219560"/>
        </p:xfrm>
        <a:graphic>
          <a:graphicData uri="http://schemas.openxmlformats.org/drawingml/2006/table">
            <a:tbl>
              <a:tblPr/>
              <a:tblGrid>
                <a:gridCol w="709560"/>
                <a:gridCol w="3786480"/>
                <a:gridCol w="396216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Edi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Before 2005-20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2005-2006 and Forwar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/Eligibility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Eligibility Issu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 Fiscal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correct Calculation(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/Missing Award or Disbursing Inform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Already Being Fund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Not Meeting Reporting Requi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mproper Package Submis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Failure to Comply with Requi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complete Student Process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08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Inadequate or Missing Documen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3e3e5c"/>
                          </a:solidFill>
                          <a:latin typeface="Arial"/>
                        </a:rPr>
                        <a:t>Missing Documen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54440" y="6319800"/>
            <a:ext cx="50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hese Edits will apply for all Award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B04-DB92-493F-B44B-588C249D7A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960" y="19749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687920"/>
            <a:ext cx="6172200" cy="50148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25C-58CD-4995-9C76-565AC318FC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Publica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ew updated versions of thes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Loan Basics for Pa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US Ba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Loan Basics for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L Ba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ance Counsel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 Counsel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be ordered through the COD School Relations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F7F-6A62-49D9-9586-63DC6984CE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45600" y="1974960"/>
            <a:ext cx="84646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ustomer Satisfaction Index (ACSI)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933800"/>
            <a:ext cx="6172200" cy="5018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E66-576D-4DD6-9C88-5CA741331C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erts Availab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31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Customer Service Representatives are your connection to the expe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C69-CC0F-4FE9-B615-670C0316B4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1080" y="208584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has begun an outreach program to ensure all Phase-In schools will be XML compliant in 05/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information, please refer to the  Federal Register announcement issued on 9/14/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ed.gov/legislation/FedRegister/other/2004-3/091404b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7DB-6D13-470F-A39E-8A6CCD6660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 School Relations Center performs outreach via phone and e-mail to schoo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e-mail is sent to Financial Aid Administrato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has increased the use of e-mail as a means to communicate with schools. We encourage schools to review their contact information in COD to ensure it is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following IFAP announcement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ifap.ed.gov/eannouncements/1126UpdateContacInfoinCODSys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E45-3AF1-4746-B960-43A53D942B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Customer Service proactively monitors the processing and reporting of disbursements for the Pell Grant and Direct Loan pro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er email sent weekly with subject title “School Monitoring Outreach” with statu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Grant Unsubstantiate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Unsubstantiated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Grant Potential Over award Situations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oked Direc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9E4-57A7-4998-8095-6920A1C5C0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utreach Eff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th Direct Loan PLUS records that have a pended credit check in COD are contacted to obtain additional information in order to proceed with the credit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Award Year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 Bulleti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8E6-C3AE-4595-AC37-E3494122A6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7378"/>
          <a:stretch/>
        </p:blipFill>
        <p:spPr>
          <a:xfrm>
            <a:off x="812880" y="2073240"/>
            <a:ext cx="7410240" cy="460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0" t="93490" r="0" b="0"/>
          <a:stretch/>
        </p:blipFill>
        <p:spPr>
          <a:xfrm>
            <a:off x="1204920" y="6534000"/>
            <a:ext cx="6630840" cy="32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6719760" y="3073320"/>
            <a:ext cx="51624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13080" y="5504040"/>
            <a:ext cx="515880" cy="448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514400" y="4530600"/>
            <a:ext cx="51588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1840" y="1457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EDF-282D-46E3-81C5-CFE395297A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81000" y="2093760"/>
            <a:ext cx="7251840" cy="4764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3240" y="1496880"/>
            <a:ext cx="47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Represen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75120" y="1784520"/>
            <a:ext cx="515880" cy="448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7CF-8BB2-4190-A439-565AB4C533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rvey Resul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60400" y="2095560"/>
            <a:ext cx="7316640" cy="4719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28560" y="1500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149520" y="1830240"/>
            <a:ext cx="515880" cy="449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643-C57E-440B-B4B8-FC954B3230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eedback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00-848-0978 - 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800-474-7268 (4P-Grant) - Federal Pell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CODSupport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acs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6DC-5FD2-4D3A-954F-7A4241DDB60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re about Direct Loa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6 Direct Loans:  Balancing the Books for 2003-2004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 Direct Loans:  Reconciliation, Putting the Pieces Together – A Case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1 EDExpress/COD Processing from a Direct Lo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4 Become an EDExpress Direct Loan Release 2.0 Super-Us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11A-34EF-44AD-B29A-B53D633D4F3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ore about CO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17 Navigating the COD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19 COD:  What’s New for Pell Processing 2005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0 COD:  Moving Beyond Flat to XML Comm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5 COD Open Forum: 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A25-F720-4539-91AC-6563B5F153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ave you signed up yet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-In Schools must mail or fax a Full Participant Request Letter to the COD School Relations Center as soon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dditional information, please refer to the IFAP Electronic Announcement issued on 8/6/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ifap.ed.gov/eannouncements/0806CODFullParticReq0506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824-AE7E-4F3D-B661-44BCEECAB1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76120" y="1985760"/>
            <a:ext cx="863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XML can be found in the following re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w3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www.ebxm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www.oasis-ope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www.xm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Journal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http://sys-con.com/x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www.xfro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COD School Relations Center 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Holly.Hyland@ed.gov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f you need XML As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XML Resour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6D0-3C76-43AE-841D-C8556B2EF2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5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hase-In Record Process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not process Phase-In Participant fixed-length, flat-file records for 05/06 award year and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continue to process applicable Direct Loan and Pell Phase-In Participant records for prior award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ill continue to produce reports in the same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847-B7F7-4CD1-BDF8-5D4B11A1D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continued Phase-In Message Class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2514600"/>
          <a:ext cx="8001000" cy="3467160"/>
        </p:xfrm>
        <a:graphic>
          <a:graphicData uri="http://schemas.openxmlformats.org/drawingml/2006/table">
            <a:tbl>
              <a:tblPr/>
              <a:tblGrid>
                <a:gridCol w="1905120"/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will not accept the following message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will not return the following message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F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D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F06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A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D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C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F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F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C06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E6E-EEF6-4FB6-81B2-A2043D50C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Schem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or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425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32120"/>
            <a:ext cx="7402680" cy="58104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t Topic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9F5-C4C7-41D7-ABC2-505B73636D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1:41:28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24306283</vt:r8>
  </property>
  <property fmtid="{D5CDD505-2E9C-101B-9397-08002B2CF9AE}" pid="3" name="_AuthorEmail">
    <vt:lpwstr>ellen.t.mclaughlin@accenture.com</vt:lpwstr>
  </property>
  <property fmtid="{D5CDD505-2E9C-101B-9397-08002B2CF9AE}" pid="4" name="_AuthorEmailDisplayName">
    <vt:lpwstr>Mclaughlin, Ellen T.</vt:lpwstr>
  </property>
  <property fmtid="{D5CDD505-2E9C-101B-9397-08002B2CF9AE}" pid="5" name="_EmailSubject">
    <vt:lpwstr>Presentations for Orlando EAC</vt:lpwstr>
  </property>
  <property fmtid="{D5CDD505-2E9C-101B-9397-08002B2CF9AE}" pid="6" name="_NewReviewCycle">
    <vt:lpwstr/>
  </property>
</Properties>
</file>