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D5DF-75AC-4345-A67F-3C7522CD6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09480" y="43992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214A-6A3C-4073-A1ED-53451C763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948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9216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F5B3-AB91-42DA-A7AF-8360B8B1F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748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86512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0948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748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86512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878A-C746-44EA-8F16-BE866307C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09120" y="762120"/>
            <a:ext cx="670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A36E-FFB0-4E23-8CA9-50B4B12FF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9216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43992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43992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9216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748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86512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748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86512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861D-5663-4B6F-9774-937E95284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97F0-3772-46C0-B4DB-70AB6AF48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F4D0-28DA-4344-8C61-C51FBE9FF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09120" y="762120"/>
            <a:ext cx="670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A0DA-B147-4444-A070-798B00D11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406F-D873-4013-AECD-9FDA712F1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9216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70C6-3739-42B8-A5AC-B2EC44C38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09480" y="43992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4089-B8BE-4A6B-812D-7A97B9A92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828800"/>
            <a:ext cx="9144000" cy="502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380880" y="0"/>
            <a:ext cx="1447920" cy="67816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38080" y="762120"/>
            <a:ext cx="8305920" cy="76176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280" y="1905120"/>
            <a:ext cx="4724640" cy="1522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" name=""/>
          <p:cNvGraphicFramePr/>
          <p:nvPr/>
        </p:nvGraphicFramePr>
        <p:xfrm>
          <a:off x="76320" y="76320"/>
          <a:ext cx="1371600" cy="739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320" y="76320"/>
                    <a:ext cx="1371600" cy="73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7162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5E8F1-484C-416F-AD2A-31C749B8C6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28800"/>
            <a:ext cx="9144000" cy="502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0"/>
            <a:ext cx="1447920" cy="670572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fefefe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14400" y="2666880"/>
            <a:ext cx="8229600" cy="76212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0" y="4648320"/>
            <a:ext cx="4724280" cy="15228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6324480" y="533520"/>
          <a:ext cx="2514600" cy="1355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324480" y="533520"/>
                    <a:ext cx="2514600" cy="13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fap.ed.gov/" TargetMode="External"/><Relationship Id="rId2" Type="http://schemas.openxmlformats.org/officeDocument/2006/relationships/hyperlink" Target="http://ifap.ed.gov/" TargetMode="External"/><Relationship Id="rId3" Type="http://schemas.openxmlformats.org/officeDocument/2006/relationships/hyperlink" Target="http://ifap.ed.gov/" TargetMode="External"/><Relationship Id="rId4" Type="http://schemas.openxmlformats.org/officeDocument/2006/relationships/hyperlink" Target="http://ifap.ed.gov/" TargetMode="Externa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005-2006 Institutional Student Information Record (ISIR) Upd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447920" y="5029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i H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erlene McInto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52280" y="685800"/>
            <a:ext cx="3657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ssion 1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ISIR Request Selection Criteria 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2133360"/>
            <a:ext cx="3733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SN/Name ID (manually enter or provide SSN fi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hoo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nsaction number: first, last, all, specific, or greater than X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ligibility stat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eteran stat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800600" y="2133720"/>
            <a:ext cx="4038480" cy="48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Wingdings"/>
                <a:ea typeface="Wingdings"/>
              </a:rPr>
              <a:t></a:t>
            </a: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pendency statu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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rad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Wingdings"/>
                <a:ea typeface="Wingdings"/>
              </a:rPr>
              <a:t></a:t>
            </a: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FC rang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Wingdings"/>
                <a:ea typeface="Wingdings"/>
              </a:rPr>
              <a:t></a:t>
            </a: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e Range for                                                                  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cess date, receipt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e, or date complete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Wingdings"/>
                <a:ea typeface="Wingdings"/>
              </a:rPr>
              <a:t></a:t>
            </a: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erification statu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Wingdings"/>
                <a:ea typeface="Wingdings"/>
              </a:rPr>
              <a:t></a:t>
            </a: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bination of thes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9287-A5B8-4DEA-96F2-A5E3C2BB0BE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ISIR Datamart cont.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447560" y="2209680"/>
            <a:ext cx="69339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On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ne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query option for 2005-2006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orrec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submitted by the destination point/schoo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an combine with the other op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ttend ISIR Datamart sessions (#5 or #49) for more informatio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0880" y="1905120"/>
            <a:ext cx="1067040" cy="144756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7DC2-7D0F-48FC-96A0-DA2DAA2664B8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CPS Edit Changes 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ject E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Rejects for Name not matching SSA database (SSN Match flag = 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 – Stu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 – Fa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– M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verified but no overri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j0183406" descr=""/>
          <p:cNvPicPr/>
          <p:nvPr/>
        </p:nvPicPr>
        <p:blipFill>
          <a:blip r:embed="rId1"/>
          <a:stretch/>
        </p:blipFill>
        <p:spPr>
          <a:xfrm>
            <a:off x="6553080" y="1371600"/>
            <a:ext cx="1293840" cy="123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B970-D751-434C-8DC0-ADBFE2BF4251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CPS Edit Changes cont.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Reject Edits cont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Rejects for all zeroes in Parents’ SSN but reported as a tax f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 – Fa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 - Mo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verified and also have override c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4C93-0E73-4D23-AEE1-F193AE8A69CC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CPS Edit Changes cont.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Reject Edits co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ject 12 for taxes equal to or greater than AGI will only apply to 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ject 3 added for student’s with taxes equal to or greater than AG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rejects will have override codes for FAA use on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7776-F761-4357-A9C4-1D3865FAE560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CPS Edit Changes cont.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rning E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edit/comment when student’s/father’s earned income is equal to spouse’s/ mother’s earned in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edits/comments for double reporting same amount in more than one income fi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rning message also added to FAFSA on the Web for stud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C544-C0E7-427E-B77E-5F166E7135F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CPS Edit Changes cont.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rning Edits co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flag for applicants selected for verification on transaction 02 or higher (Verification Selection Change Fla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flag for status change from rejected to EFC calculated, or EFC calculated to rejected (Reject Status Change Fla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F1C9-DEE3-4C30-A818-3930D7CDCBB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CPS Database Matches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significant changes to NSLDS or Selective Service mat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 Match – match flag will be reset when Veteran status is corrected to No or bla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further action requi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9EBD-3D16-4356-9556-099A49C4AB4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CPS Database Matches cont.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 Match – change to processing of records when status is not confirm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atch flags 2 and 3, will no longer assume Veteran status question to 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atch flags 2, 3, and 4, will set comment and SAR C flag if record is independent only because of VA 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 implement in January 05 for both 04-05 and 05-06 cyc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010280" y="762120"/>
            <a:ext cx="1067040" cy="144756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2054-7ACC-4D15-A499-9D87D182943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CPS Database Matches cont.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120" y="22096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partment of Homeland Security (DHS) Mat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rds will be resent if Alien Registration Number is corrected and record was previously confirm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systems generated transaction for Secondary Confirmation results of ‘Y’ if Primary match flag is ‘Y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further action requ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77B1-4E60-461E-BECA-052AC789C5D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Agenda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5-2006 ISIR Record Chang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S Edit Chang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S Database Match Cha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S Test System Inform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j0234050" descr=""/>
          <p:cNvPicPr/>
          <p:nvPr/>
        </p:nvPicPr>
        <p:blipFill>
          <a:blip r:embed="rId1"/>
          <a:stretch/>
        </p:blipFill>
        <p:spPr>
          <a:xfrm>
            <a:off x="6934320" y="990720"/>
            <a:ext cx="1752480" cy="1520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AF51-B2A2-4D61-9204-908FE7638A8B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CPS Database Matches cont.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cial Security Administration Mat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rejects if name is inconsistent with SSA records (D, E, and 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ame is incorrect, CPS correction must be made to change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ame is correct, CPS correction must be made to verify name, and SSA should be contacted to correct their data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B9FC-573F-43F7-9829-95FA0E4123F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CPS Database Matches cont.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SA Death Master File Mat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of SSNs associated with deceased persons – updated week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 match processed records against weekly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match found, resend record to SSA to confirm 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781680" y="1295280"/>
            <a:ext cx="1067040" cy="144792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3EBC-FC4B-4E01-90B3-EAAE5B85B59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CPS Database Matches cont.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SA Death Master File Match co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deceased status is not confirmed, no further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deceased status is confirmed, system generated ISIR sent to school for follow up – data source/type code 5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SAR sent to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B83B-63DD-4644-A759-D2746AC6069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CPS Database Matches cont.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SA Death Master File Match co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also used to determine eligibility for Renewal Application proces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 match against PIN database will be conducted and PINs will be disabled for matching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C467-0FC2-4D69-ADB4-DE4AD2B3D93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CPS Test System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a mechanism for you to ensure you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 meets the specifications fo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facing with the CPS and for calculating correct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s you to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  <a:tab algn="l" pos="7613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test applications and corr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  <a:tab algn="l" pos="7613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receive ISIR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28F0-6EFA-4F9E-9C86-62FEE0AC34A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CPS Test System cont.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 available for testing with the CPS from November 22, 2004 through August 20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Guide posted to IFAP in early Nove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ssage will be issued when test system goes live for your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02F7-7BED-4950-B198-4E7BC37485A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CPS Test System cont.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 Developer Specifications – draft issued in September, updates will be issued if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files will be available in early Nove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parate input and output files will be posted for testing specifications versus testing trans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D378-C24A-4D07-8317-1F6FFD718E0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CPS Test System cont.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ember - CPS is still in test until FSA accepts system and production starts on January 3, 20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IR Comments in flat text file avail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 to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sadownload.ed.gov/CPSTestSys0506.h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2FD1-FF27-4759-AA20-8BD54C22405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EDE Technical Reference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ailable at www.fsadownload.ed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References and 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2005-2006 under Electronic Data Exchange Technical Re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0BB3-70BB-46D8-87E4-C779BA5A636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Technical Assistance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2209680"/>
            <a:ext cx="83818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appreciate your feedback and comment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CPS/SAIG Technical Suppor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be reached 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one: 1-800-330-594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x: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319-665-766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cpssaig@pearson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00D7-7992-4046-B190-7C878ED20A21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ISIR Changes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94920" y="22096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ft ISIR record layout available on IFAP (</a:t>
            </a:r>
            <a:r>
              <a:rPr b="0" lang="en-US" sz="3200" spc="-1" strike="noStrike" u="sng">
                <a:solidFill>
                  <a:srgbClr val="0033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3200" spc="-1" strike="noStrike" u="sng">
                <a:solidFill>
                  <a:srgbClr val="003399"/>
                </a:solidFill>
                <a:uFillTx/>
                <a:latin typeface="Arial"/>
                <a:hlinkClick r:id="rId2"/>
              </a:rPr>
              <a:t>ifap</a:t>
            </a:r>
            <a:r>
              <a:rPr b="0" lang="en-US" sz="3200" spc="-1" strike="noStrike" u="sng">
                <a:solidFill>
                  <a:srgbClr val="003399"/>
                </a:solidFill>
                <a:uFillTx/>
                <a:latin typeface="Arial"/>
                <a:hlinkClick r:id="rId3"/>
              </a:rPr>
              <a:t>.ed.</a:t>
            </a:r>
            <a:r>
              <a:rPr b="0" lang="en-US" sz="3200" spc="-1" strike="noStrike" u="sng">
                <a:solidFill>
                  <a:srgbClr val="003399"/>
                </a:solidFill>
                <a:uFillTx/>
                <a:latin typeface="Arial"/>
                <a:hlinkClick r:id="rId4"/>
              </a:rPr>
              <a:t>go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IR record layout will follow order of questions on FAF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FAFSA data element changes!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at file only format for 05-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2280" y="4343400"/>
            <a:ext cx="1219320" cy="457200"/>
          </a:xfrm>
          <a:prstGeom prst="lightningBol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B2D8-E9D5-4F16-9CD6-666FDCE3AA12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ISIR Changes cont.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e fields incremen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adian province codes added to valid State co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new NSLDS Postscreening reason co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 - Active Bankrupt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 - PLUS Master Prom Note status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B67A-C1EA-4565-B9D6-292790D9F05D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ISIR Changes cont.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hanges to Data Source/Type cod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Will continue to use two digit numeric/alpha c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dded codes for Spanish Renewal FAFSA on the We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D547-ADEC-44FE-B1D9-3D768F753BF9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ISIR Changes cont.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hanges to Data Source/Type cod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dded codes for current types of system- generated records, i.e. Drug Abuse Hold release and reprocess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ed codes for new system-generated records for Social Security Administration Death File Ma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eleted System-Generated Indica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63DB-ABEC-4169-9022-466FAFC1E612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ISIR Changes cont.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dded new Reject Override co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dded new flags associated with Pushed ISI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Reject Status Change Fla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Verification Selection Change Fla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C91C-9773-4DA4-A516-8A7E69014A37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ISIR Changes cont.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hanges to Message Class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dded separate message class for system generated record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IGSG06O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Will use current pushed corrections message class for all corrections submitted by destination point (IGCO06O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leted daily corrections message class (IDCO05O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0" y="1523880"/>
            <a:ext cx="1066680" cy="144792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1DB8-E5FE-4A09-BB19-774130549DAE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ISIR Datamart  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ll ISIR data stored in datamart for retrieval and distribu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FAA Access used to interface with the datamart and request ISI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No longer limited to one request per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itle can be submitted with request for trac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BS00580_" descr=""/>
          <p:cNvPicPr/>
          <p:nvPr/>
        </p:nvPicPr>
        <p:blipFill>
          <a:blip r:embed="rId1"/>
          <a:stretch/>
        </p:blipFill>
        <p:spPr>
          <a:xfrm>
            <a:off x="7391520" y="5105520"/>
            <a:ext cx="1603080" cy="135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12E8-0390-4550-B80E-5407E031FE2C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5T16:11:26Z</dcterms:created>
  <dc:creator>jennifer.do</dc:creator>
  <dc:description/>
  <dc:language>en-US</dc:language>
  <cp:lastModifiedBy>jennifer.do</cp:lastModifiedBy>
  <dcterms:modified xsi:type="dcterms:W3CDTF">2004-12-14T21:35:21Z</dcterms:modified>
  <cp:revision>35</cp:revision>
  <dc:subject/>
  <dc:title>PowerPoint Presentation</dc:title>
</cp:coreProperties>
</file>