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CDCB-EB81-4FA1-9D38-AB538BE9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875B-DE40-4D14-B527-D170F35A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02FB-1A99-465E-BD8D-C80B2706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F23C-D0BF-435B-9932-A82A3AB41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9299-479D-4A7B-940C-483DB181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312D-D48F-436D-A6D6-F860CF51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CC10-C003-4E53-8E56-8AB8ECF6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7762-A892-4C4C-8979-AF19946D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83A7-AFB9-4B8F-B5EB-9CDBAD21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2699-0BA6-41F2-B0AA-02487283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5DF3-15EF-41AE-8744-4578958D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532F-3288-49DD-A59A-7231971B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781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762120"/>
            <a:ext cx="8305920" cy="7617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905120"/>
            <a:ext cx="4724640" cy="1522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6320" y="76320"/>
          <a:ext cx="1371600" cy="7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76320"/>
                    <a:ext cx="13716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D234-6615-4600-B92B-E37800A0D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0"/>
            <a:ext cx="1447920" cy="6705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666880"/>
            <a:ext cx="8229600" cy="762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4648320"/>
            <a:ext cx="4724280" cy="15228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324480" y="533520"/>
          <a:ext cx="2514600" cy="135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533520"/>
                    <a:ext cx="251460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fap.ed.gov/" TargetMode="External"/><Relationship Id="rId2" Type="http://schemas.openxmlformats.org/officeDocument/2006/relationships/hyperlink" Target="http://ifap.ed.gov/" TargetMode="External"/><Relationship Id="rId3" Type="http://schemas.openxmlformats.org/officeDocument/2006/relationships/hyperlink" Target="http://ifap.ed.gov/" TargetMode="External"/><Relationship Id="rId4" Type="http://schemas.openxmlformats.org/officeDocument/2006/relationships/hyperlink" Target="http://ifap.ed.gov/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05-2006 Institutional Student Information Record (ISIR) 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92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i H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rlene McInto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6858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ssion 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ISIR Request Selection Criteria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3733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SN/Name ID (manually enter or provide SSN fi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oo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action number: first, last, all, specific, or greater than 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igibility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teran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4038480" cy="48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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endency stat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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d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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FC ran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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e Range for                            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ss date, receip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e, or date comple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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ification stat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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ation of the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B052-A6BD-48FD-843B-0E455BD32EA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ISIR Datamart cont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47560" y="2209680"/>
            <a:ext cx="69339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n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query option for 2005-200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rr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ubmitted by the destination point/scho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an combine with the other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ttend ISIR Datamart sessions (#5 or #49) for more inform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905120"/>
            <a:ext cx="1067040" cy="14475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1BB9-3C37-4473-BF46-3A3FCAF9F43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PS Edit Changes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ject 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Rejects for Name not matching SSA database (SSN Match flag =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–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– F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– M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verified but no overr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j0183406" descr=""/>
          <p:cNvPicPr/>
          <p:nvPr/>
        </p:nvPicPr>
        <p:blipFill>
          <a:blip r:embed="rId1"/>
          <a:stretch/>
        </p:blipFill>
        <p:spPr>
          <a:xfrm>
            <a:off x="6553080" y="1371600"/>
            <a:ext cx="1293840" cy="123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1CEF-E676-47AC-ACA9-337624AE5DC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PS Edit Changes cont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ject Edits con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Rejects for all zeroes in Parents’ SSN but reported as a tax f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– F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- M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verified and also have override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3216-0B99-4250-A8E6-2FA1E561293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PS Edit Changes cont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ject Edits 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 12 for taxes equal to or greater than AGI will only apply to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 3 added for student’s with taxes equal to or greater than A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rejects will have override codes for FAA use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7541-8ECB-4BD6-8DFB-F6D6EF5AA84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PS Edit Changes cont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ning 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edit/comment when student’s/father’s earned income is equal to spouse’s/ mother’s earned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edits/comments for double reporting same amount in more than one income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ning message also added to FAFSA on the Web for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8A2E-9276-4228-A8EA-2DE44AC29F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PS Edit Changes cont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ning Edits 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flag for applicants selected for verification on transaction 02 or higher (Verification Selection Change Fla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flag for status change from rejected to EFC calculated, or EFC calculated to rejected (Reject Status Change Fla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7022-9588-479B-8FEC-9D449C34E6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PS Database Match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ignificant changes to NSLDS or Selective Service m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 Match – match flag will be reset when Veteran status is corrected to No or bl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further ac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52F7-5728-40E2-86FB-4EABAB578F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PS Database Matches cont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 Match – change to processing of records when status is not confirm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atch flags 2 and 3, will no longer assume Veteran status question to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atch flags 2, 3, and 4, will set comment and SAR C flag if record is independent only because of VA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implement in January 05 for both 04-05 and 05-06 cyc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10280" y="762120"/>
            <a:ext cx="1067040" cy="14475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6508-00F3-42C5-A700-B0F80DB49E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PS Database Matches cont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artment of Homeland Security (DHS) M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s will be resent if Alien Registration Number is corrected and record was previously confi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ystems generated transaction for Secondary Confirmation results of ‘Y’ if Primary match flag is ‘Y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further action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5606-D1E6-424D-BE45-1EAC0BC598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5-2006 ISIR Record Chan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S Edit Chan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S Database Match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S Test System Infor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j0234050" descr=""/>
          <p:cNvPicPr/>
          <p:nvPr/>
        </p:nvPicPr>
        <p:blipFill>
          <a:blip r:embed="rId1"/>
          <a:stretch/>
        </p:blipFill>
        <p:spPr>
          <a:xfrm>
            <a:off x="6934320" y="990720"/>
            <a:ext cx="1752480" cy="152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37C6-9800-4BBA-BB85-3987754DBDC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PS Database Matches cont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ecurity Administration M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rejects if name is inconsistent with SSA records (D, E, and 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ame is incorrect, CPS correction must be made to chang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ame is correct, CPS correction must be made to verify name, and SSA should be contacted to correct their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7C65-DE63-46BF-8801-51C5292347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PS Database Matches cont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A Death Master File Mat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of SSNs associated with deceased persons – updated wee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match processed records against weekly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atch found, resend record to SSA to confirm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81680" y="1295280"/>
            <a:ext cx="1067040" cy="14479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1461-389E-45A9-8870-EB0F744708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PS Database Matches cont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A Death Master File Match 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deceased status is not confirmed, no further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deceased status is confirmed, system generated ISIR sent to school for follow up – data source/type code 5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AR sent to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8FBC-873E-408E-A1E2-37FA2F5E66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PS Database Matches cont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A Death Master File Match 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also used to determine eligibility for Renewal Application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match against PIN database will be conducted and PINs will be disabled for matching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FF97-DE74-471C-A6A1-34286A0EFE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PS Test System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mechanism for you to ensure you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meets the specifications f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ing with the CPS and for calculating correc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you 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est applications and cor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eceive ISI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F359-0397-488E-B131-FCAC28D22DE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PS Test System cont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available for testing with the CPS from November 22, 2004 through August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Guide posted to IFAP in early Nov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 will be issued when test system goes live for you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2D9C-FC8B-40B5-9E70-8DB4F163C59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PS Test System cont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Developer Specifications – draft issued in September, updates will be issued if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files will be available in early Nov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e input and output files will be posted for testing specifications versus testing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AF72-4EDA-457D-A090-7FE7D261444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PS Test System cont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- CPS is still in test until FSA accepts system and production starts on January 3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IR Comments in flat text fil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adownload.ed.gov/CPSTestSys0506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8D0E-5C73-484E-9034-FCB8E289BD6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EDE Technical Referenc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 at www.fsadownload.ed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References and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2005-2006 under Electronic Data Exchange Technical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091B-42BE-4C53-9E6B-6FC5024D9C5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Technical Assistanc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reciate your feedback and comment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PS/SAIG Technical Supp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reached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: 1-800-330-59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x: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19-665-766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pssaig@pearso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CA46-33FB-4FEE-ABDE-56525EB0131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ISIR Chang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2096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 ISIR record layout available on IFAP (</a:t>
            </a:r>
            <a:r>
              <a:rPr b="0" lang="en-US" sz="32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3399"/>
                </a:solidFill>
                <a:uFillTx/>
                <a:latin typeface="Arial"/>
                <a:hlinkClick r:id="rId2"/>
              </a:rPr>
              <a:t>ifap</a:t>
            </a:r>
            <a:r>
              <a:rPr b="0" lang="en-US" sz="3200" spc="-1" strike="noStrike" u="sng">
                <a:solidFill>
                  <a:srgbClr val="003399"/>
                </a:solidFill>
                <a:uFillTx/>
                <a:latin typeface="Arial"/>
                <a:hlinkClick r:id="rId3"/>
              </a:rPr>
              <a:t>.ed.</a:t>
            </a:r>
            <a:r>
              <a:rPr b="0" lang="en-US" sz="3200" spc="-1" strike="noStrike" u="sng">
                <a:solidFill>
                  <a:srgbClr val="003399"/>
                </a:solidFill>
                <a:uFillTx/>
                <a:latin typeface="Arial"/>
                <a:hlinkClick r:id="rId4"/>
              </a:rPr>
              <a:t>go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IR record layout will follow order of questions on FAF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FAFSA data element changes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t file only format for 05-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4343400"/>
            <a:ext cx="1219320" cy="4572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8F82-5796-4CA6-ADA8-5D13EECD877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ISIR Changes cont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 fields increm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ian province codes added to valid State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new NSLDS Postscreening reason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 - Active Bankrupt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- PLUS Master Prom Note status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1202-6653-4250-9C8B-701DB35A225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ISIR Changes cont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hanges to Data Source/Type co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ill continue to use two digit numeric/alpha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dded codes for Spanish Renewal FAFSA on the We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EF4A-11B5-434D-A6C1-23784DA49C0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ISIR Changes cont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hanges to Data Source/Type co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dded codes for current types of system- generated records, i.e. Drug Abuse Hold release and reproces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codes for new system-generated records for Social Security Administration Death File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d System-Generated Indic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1B9F-8765-4074-B24A-9FCE51950EF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ISIR Changes cont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dded new Reject Override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dded new flags associated with Pushed ISI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ject Status Change Fl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erification Selection Change Fl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41D1-245D-47B8-AD32-DAC0BF99B60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ISIR Changes cont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hanges to Message Clas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dded separate message class for system generated recor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GSG06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ill use current pushed corrections message class for all corrections submitted by destination point (IGCO06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d daily corrections message class (IDCO05O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1523880"/>
            <a:ext cx="1066680" cy="14479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27D1-5C81-4E59-9C05-52615F6C592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ISIR Datamart 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ll ISIR data stored in datamart for retrieval and distrib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AA Access used to interface with the datamart and request IS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o longer limited to one request per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tle can be submitted with request for 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BS00580_" descr=""/>
          <p:cNvPicPr/>
          <p:nvPr/>
        </p:nvPicPr>
        <p:blipFill>
          <a:blip r:embed="rId1"/>
          <a:stretch/>
        </p:blipFill>
        <p:spPr>
          <a:xfrm>
            <a:off x="7391520" y="5105520"/>
            <a:ext cx="1603080" cy="135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2C24-DA7D-43EB-9CE2-CA6A517EC66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6:11:26Z</dcterms:created>
  <dc:creator>jennifer.do</dc:creator>
  <dc:description/>
  <dc:language>en-US</dc:language>
  <cp:lastModifiedBy>jennifer.do</cp:lastModifiedBy>
  <dcterms:modified xsi:type="dcterms:W3CDTF">2004-12-14T21:35:21Z</dcterms:modified>
  <cp:revision>35</cp:revision>
  <dc:subject/>
  <dc:title>PowerPoint Presentation</dc:title>
</cp:coreProperties>
</file>