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D62B-82A1-46F6-B8DA-C584A4B22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8FB8-E827-4DC7-8C5E-F72D57BEE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2F5-DD06-4B9E-9636-14379A40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333-8954-4A3F-8F5D-F61DD0CD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3C0-3126-4C98-9C03-A53089F0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E9F-34E6-4C15-919F-31A96CFE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F89-9337-4F2D-A067-3092DE45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3D2-5666-4731-9F6D-93C02C3F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1E3-20EE-4688-BCDC-D01CAE7C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DA5-5785-4FD0-9897-BB3E92F6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774-539C-4793-AE71-167FFD2F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B20-7E6E-43FA-96FC-DE25C1FA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CFB-F605-472E-8377-FF5D5C64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9C1-60F3-46D3-981E-5D05DD29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5F7F-B899-4D08-9F2F-1F11BB587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SLDS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 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 Benn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SLDS Communic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Referenc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ment Reporting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Monitoring User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Perkins Data Provider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Partner/Colleague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EAB-EF92-44D5-BF54-8376206879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SLDS Communic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ESSAGES via SA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Download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vid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, Error Code and Field Code File (T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999-82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LDS@pearso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004-88DA-49D7-9D36-1E8F6B0C7C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cess Managemen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Every 90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Using NSLDS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952880" y="3886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814-6178-4546-89E5-2B3D528BF25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cess Managemen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Passwor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3124080"/>
          <a:ext cx="868680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124080"/>
                    <a:ext cx="868680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405240" y="4976640"/>
            <a:ext cx="2057400" cy="38124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2743200"/>
            <a:ext cx="914400" cy="20574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C14-A199-45F5-9A2B-D6CF56116FD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371600" y="2316240"/>
          <a:ext cx="563868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16240"/>
                    <a:ext cx="563868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cess Managemen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1B7-2ADF-45C9-B163-011138392F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cess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971800"/>
            <a:ext cx="65534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Reset Every 90 D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Reset Using NSLDS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tive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5D2-F80A-46D0-9D4E-C6C600A07E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76720" y="3505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cess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019240"/>
            <a:ext cx="65534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IV Aid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Elig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 Overpayment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ment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User ID and 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Privacy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C5A-F9CD-46D0-B3E7-02D829BF3A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Report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orkgroup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eting October 19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Issues/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ciliation with NS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Monthly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 Schedules Available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F74-4C6D-4DE6-AD85-E81A87E551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Report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981080"/>
          <a:ext cx="731376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3137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819520" y="2558880"/>
            <a:ext cx="2057400" cy="3049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9480" y="3681360"/>
            <a:ext cx="7391160" cy="2719080"/>
            <a:chOff x="609480" y="3681360"/>
            <a:chExt cx="7391160" cy="2719080"/>
          </a:xfrm>
        </p:grpSpPr>
        <p:graphicFrame>
          <p:nvGraphicFramePr>
            <p:cNvPr id="167" name=""/>
            <p:cNvGraphicFramePr/>
            <p:nvPr/>
          </p:nvGraphicFramePr>
          <p:xfrm>
            <a:off x="609480" y="3681360"/>
            <a:ext cx="7391160" cy="123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3681360"/>
                      <a:ext cx="7391160" cy="123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847800" y="4850280"/>
            <a:ext cx="7033320" cy="1550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7800" y="4850280"/>
                      <a:ext cx="7033320" cy="155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85E-4A8D-4C3C-90AC-3618BD545E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ransfer Student Monitor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 to Sign-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6 Schools Need to Sign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A Case Management Contacting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4267080"/>
          <a:ext cx="722952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267080"/>
                    <a:ext cx="722952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477120" y="3733920"/>
            <a:ext cx="228600" cy="12952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0DF-33FD-4045-8A78-291B805101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oday’s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kins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tudent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ort Defaul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f Loan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bility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eening/Post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590920"/>
            <a:ext cx="3352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 X 5 with NSLD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252-842D-4D84-97AF-1963831D11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ransfer Student Monitor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31760" y="2070000"/>
          <a:ext cx="69343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2070000"/>
                    <a:ext cx="69343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9F8-CA4F-4F63-8900-02CABC29D1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hort Default Rate(CDR) Tool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Loans Entering Re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Repayment Loan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taining CD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hort Default Rate Histo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R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ing Rehabilitated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C40-7D59-48AA-B482-4884446017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SLDS Storage of Balanc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cently Reported OPB/O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Database Changes to Storing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as of Each Fiscal Qu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Corresponding to Each Statu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Websit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Balance Remains on Summary/Detail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 for Retrieving Loan Balance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88C-739F-47D6-AB5E-546BFBEFBB5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SLDS Storage of Balances (cont.)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of maintaining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Loa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s Various Research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ortfoli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A67-44DD-4CA7-94DD-69BE2BD3E16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nditional Disability Discharge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, Discharge Reporting by Loan Data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Status of DI and DS for FFEL/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status with PI Discharge Type for Perk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Zero Bal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46E-F4D2-4154-8490-04D7141C55E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nditional Disability Discharge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553080" y="2057400"/>
            <a:ext cx="952200" cy="882720"/>
            <a:chOff x="6553080" y="2057400"/>
            <a:chExt cx="952200" cy="882720"/>
          </a:xfrm>
        </p:grpSpPr>
        <p:pic>
          <p:nvPicPr>
            <p:cNvPr id="191" name="multiple%20discharges" descr=""/>
            <p:cNvPicPr/>
            <p:nvPr/>
          </p:nvPicPr>
          <p:blipFill>
            <a:blip r:embed="rId1"/>
            <a:stretch/>
          </p:blipFill>
          <p:spPr>
            <a:xfrm>
              <a:off x="6729120" y="2057400"/>
              <a:ext cx="54936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553080" y="2513160"/>
              <a:ext cx="952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iple Dischar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047600" y="2368440"/>
            <a:ext cx="586764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ware of Disability Icon Ale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Research May Be Required for Determining Appropriate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15200" y="2895480"/>
            <a:ext cx="838080" cy="812520"/>
            <a:chOff x="7315200" y="2895480"/>
            <a:chExt cx="838080" cy="812520"/>
          </a:xfrm>
        </p:grpSpPr>
        <p:sp>
          <p:nvSpPr>
            <p:cNvPr id="196" name=""/>
            <p:cNvSpPr/>
            <p:nvPr/>
          </p:nvSpPr>
          <p:spPr>
            <a:xfrm>
              <a:off x="7315200" y="2895480"/>
              <a:ext cx="838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br>
                <a:rPr sz="24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manent Discha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alert" descr="Warning"/>
            <p:cNvPicPr/>
            <p:nvPr/>
          </p:nvPicPr>
          <p:blipFill>
            <a:blip r:embed="rId2"/>
            <a:stretch/>
          </p:blipFill>
          <p:spPr>
            <a:xfrm>
              <a:off x="7467480" y="3228840"/>
              <a:ext cx="549360" cy="47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438960" y="4221000"/>
            <a:ext cx="799920" cy="960480"/>
            <a:chOff x="6438960" y="4221000"/>
            <a:chExt cx="799920" cy="960480"/>
          </a:xfrm>
        </p:grpSpPr>
        <p:sp>
          <p:nvSpPr>
            <p:cNvPr id="200" name=""/>
            <p:cNvSpPr/>
            <p:nvPr/>
          </p:nvSpPr>
          <p:spPr>
            <a:xfrm>
              <a:off x="6438960" y="4221000"/>
              <a:ext cx="7999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br>
                <a:rPr sz="24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ffirm Discha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alert" descr="Warning"/>
            <p:cNvPicPr/>
            <p:nvPr/>
          </p:nvPicPr>
          <p:blipFill>
            <a:blip r:embed="rId3"/>
            <a:stretch/>
          </p:blipFill>
          <p:spPr>
            <a:xfrm>
              <a:off x="6553080" y="4572000"/>
              <a:ext cx="5493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648320" y="5105520"/>
            <a:ext cx="952560" cy="1112760"/>
            <a:chOff x="4648320" y="5105520"/>
            <a:chExt cx="952560" cy="1112760"/>
          </a:xfrm>
        </p:grpSpPr>
        <p:sp>
          <p:nvSpPr>
            <p:cNvPr id="204" name=""/>
            <p:cNvSpPr/>
            <p:nvPr/>
          </p:nvSpPr>
          <p:spPr>
            <a:xfrm>
              <a:off x="4648320" y="5105520"/>
              <a:ext cx="95256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br>
                <a:rPr sz="24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harged De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alert" descr="Warning"/>
            <p:cNvPicPr/>
            <p:nvPr/>
          </p:nvPicPr>
          <p:blipFill>
            <a:blip r:embed="rId4"/>
            <a:stretch/>
          </p:blipFill>
          <p:spPr>
            <a:xfrm>
              <a:off x="4838760" y="5105520"/>
              <a:ext cx="549360" cy="47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1523880" y="4114800"/>
            <a:ext cx="3048120" cy="2742120"/>
            <a:chOff x="1523880" y="4114800"/>
            <a:chExt cx="3048120" cy="2742120"/>
          </a:xfrm>
        </p:grpSpPr>
        <p:sp>
          <p:nvSpPr>
            <p:cNvPr id="207" name=""/>
            <p:cNvSpPr/>
            <p:nvPr/>
          </p:nvSpPr>
          <p:spPr>
            <a:xfrm>
              <a:off x="1523880" y="4114800"/>
              <a:ext cx="3048120" cy="27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2640" rIns="1142640" tIns="914040" bIns="914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ition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cha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alert" descr="Warning"/>
            <p:cNvPicPr/>
            <p:nvPr/>
          </p:nvPicPr>
          <p:blipFill>
            <a:blip r:embed="rId5"/>
            <a:stretch/>
          </p:blipFill>
          <p:spPr>
            <a:xfrm>
              <a:off x="2711520" y="4991040"/>
              <a:ext cx="5493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498-6D3F-4A3A-810F-FAD908AE36C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nditional Disability Discharge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DTS Will Begin Reporting Monthl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During Their Condition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ures for Permanently Discharged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Will Alert Community When Process is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ABC-F09F-4996-BED5-72BD3C15F69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escreening/Postscreen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creening Reason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Active Bankruptcy En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PLUS Master Promissory Note Status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AE0-C3E6-401D-BF79-B1953EA98B8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volution of NSLDS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886200"/>
            <a:ext cx="8153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8440" y="141120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ade of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7200" y="2895480"/>
            <a:ext cx="863640" cy="2874960"/>
            <a:chOff x="457200" y="2895480"/>
            <a:chExt cx="863640" cy="2874960"/>
          </a:xfrm>
        </p:grpSpPr>
        <p:sp>
          <p:nvSpPr>
            <p:cNvPr id="217" name=""/>
            <p:cNvSpPr/>
            <p:nvPr/>
          </p:nvSpPr>
          <p:spPr>
            <a:xfrm>
              <a:off x="457200" y="28954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350532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317160" y="486576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325520" y="2895480"/>
            <a:ext cx="872640" cy="3963600"/>
            <a:chOff x="1325520" y="2895480"/>
            <a:chExt cx="872640" cy="3963600"/>
          </a:xfrm>
        </p:grpSpPr>
        <p:sp>
          <p:nvSpPr>
            <p:cNvPr id="221" name=""/>
            <p:cNvSpPr/>
            <p:nvPr/>
          </p:nvSpPr>
          <p:spPr>
            <a:xfrm>
              <a:off x="1757160" y="350532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25520" y="28954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456120" y="511704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hool Perkins Dat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00320" y="2895480"/>
            <a:ext cx="863640" cy="3348720"/>
            <a:chOff x="2200320" y="2895480"/>
            <a:chExt cx="863640" cy="3348720"/>
          </a:xfrm>
        </p:grpSpPr>
        <p:sp>
          <p:nvSpPr>
            <p:cNvPr id="225" name=""/>
            <p:cNvSpPr/>
            <p:nvPr/>
          </p:nvSpPr>
          <p:spPr>
            <a:xfrm>
              <a:off x="2606760" y="350532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00320" y="28954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1799640" y="5155200"/>
              <a:ext cx="171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SCR D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068640" y="2895480"/>
            <a:ext cx="863640" cy="3881160"/>
            <a:chOff x="3068640" y="2895480"/>
            <a:chExt cx="863640" cy="3881160"/>
          </a:xfrm>
        </p:grpSpPr>
        <p:sp>
          <p:nvSpPr>
            <p:cNvPr id="229" name=""/>
            <p:cNvSpPr/>
            <p:nvPr/>
          </p:nvSpPr>
          <p:spPr>
            <a:xfrm>
              <a:off x="3449520" y="350532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68640" y="28954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600">
              <a:off x="2159640" y="5331600"/>
              <a:ext cx="24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SCR Repor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159160" y="2895480"/>
            <a:ext cx="857520" cy="2509200"/>
            <a:chOff x="5159160" y="2895480"/>
            <a:chExt cx="857520" cy="2509200"/>
          </a:xfrm>
        </p:grpSpPr>
        <p:sp>
          <p:nvSpPr>
            <p:cNvPr id="233" name=""/>
            <p:cNvSpPr/>
            <p:nvPr/>
          </p:nvSpPr>
          <p:spPr>
            <a:xfrm>
              <a:off x="5537520" y="350532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59160" y="28954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15600">
              <a:off x="5126760" y="476172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022800" y="2895480"/>
            <a:ext cx="1374480" cy="3850560"/>
            <a:chOff x="6022800" y="2895480"/>
            <a:chExt cx="1374480" cy="3850560"/>
          </a:xfrm>
        </p:grpSpPr>
        <p:sp>
          <p:nvSpPr>
            <p:cNvPr id="237" name=""/>
            <p:cNvSpPr/>
            <p:nvPr/>
          </p:nvSpPr>
          <p:spPr>
            <a:xfrm>
              <a:off x="6324480" y="350532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22800" y="28954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196400">
              <a:off x="5041440" y="5155920"/>
              <a:ext cx="278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rollment Repor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36600">
              <a:off x="5456520" y="506196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 Online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21600">
              <a:off x="6659640" y="431640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C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939840" y="2895480"/>
            <a:ext cx="857520" cy="3756240"/>
            <a:chOff x="3939840" y="2895480"/>
            <a:chExt cx="857520" cy="3756240"/>
          </a:xfrm>
        </p:grpSpPr>
        <p:sp>
          <p:nvSpPr>
            <p:cNvPr id="243" name=""/>
            <p:cNvSpPr/>
            <p:nvPr/>
          </p:nvSpPr>
          <p:spPr>
            <a:xfrm>
              <a:off x="4343400" y="351468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9840" y="28954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186200">
              <a:off x="3306600" y="523080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SLDS Webs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445160" y="2895480"/>
            <a:ext cx="857520" cy="3715200"/>
            <a:chOff x="7445160" y="2895480"/>
            <a:chExt cx="857520" cy="3715200"/>
          </a:xfrm>
        </p:grpSpPr>
        <p:sp>
          <p:nvSpPr>
            <p:cNvPr id="247" name=""/>
            <p:cNvSpPr/>
            <p:nvPr/>
          </p:nvSpPr>
          <p:spPr>
            <a:xfrm>
              <a:off x="7445160" y="28954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24680" y="358128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175400">
              <a:off x="6795360" y="5248440"/>
              <a:ext cx="22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SLDS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2B2-5141-4AF4-BA1D-BC5760E039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elebrating Suc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47920" y="16192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229600" y="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844-DA17-470C-BC10-6E89209826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 message from the Director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1CD-A348-47F3-AE46-BB06609304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LDS Customer Servi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800-999-82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@Pears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28F-5747-4E45-BFF6-41C2BA052D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SLDS Communic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02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2468520"/>
            <a:ext cx="762012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74D-7CD0-46FD-BA9E-485CF25F37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eb Messag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214200"/>
          <a:ext cx="9144000" cy="602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4200"/>
                    <a:ext cx="9144000" cy="602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flipH="1">
            <a:off x="3047760" y="3124080"/>
            <a:ext cx="2057400" cy="12956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895120" y="2895120"/>
            <a:ext cx="2210040" cy="2286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40" y="1752480"/>
            <a:ext cx="2895480" cy="18288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C85-3D5B-416A-BDDC-5B906CA057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SLDS Communic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19320" y="4419720"/>
          <a:ext cx="708660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19720"/>
                    <a:ext cx="708660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828800" y="3581280"/>
            <a:ext cx="380880" cy="6858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58128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86200" y="2438280"/>
          <a:ext cx="47242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438280"/>
                    <a:ext cx="4724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 flipV="1">
            <a:off x="1828800" y="3047760"/>
            <a:ext cx="2590920" cy="5331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A5D-4D98-4BF0-9724-965386F237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SLDS Communic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I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200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support_menu" descr=""/>
          <p:cNvPicPr/>
          <p:nvPr/>
        </p:nvPicPr>
        <p:blipFill>
          <a:blip r:embed="rId1"/>
          <a:stretch/>
        </p:blipFill>
        <p:spPr>
          <a:xfrm>
            <a:off x="2362320" y="4648320"/>
            <a:ext cx="3520800" cy="825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95480" y="3886200"/>
            <a:ext cx="1143000" cy="6094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C2E-70B9-4C64-AA63-28A2BF8FAB2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641-9D50-48CB-92CF-73085CA678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008840" cy="3504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SLDS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05740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2514600"/>
            <a:ext cx="533520" cy="45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A7F-5D92-4270-9151-B3EC95948C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1:04:50Z</dcterms:modified>
  <cp:revision>81</cp:revision>
  <dc:subject/>
  <dc:title>PowerPoint Presentation</dc:title>
</cp:coreProperties>
</file>