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24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226-1C4C-43A0-A410-F238A005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2C4-31DC-4D44-A69D-013D6B2C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950-02A2-41B5-B6E8-D648160B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DB4-EE99-42AF-AE87-515C69C4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69B-C9FE-4B29-A255-F2FC268D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C55-C270-43FD-A38A-6B7B7E42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8B1-E66F-485F-B40C-1D54C0EE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DE8-ED67-4B17-A945-E84868A9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69A-DD74-49DC-B68E-BA11B0E2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518-323C-4ACC-BB1F-B474D31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730-449A-4735-8BE4-EBC3998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53D-A450-44C3-9018-B453E4DF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6DB6-2EEA-4E5A-B924-D59C32ABC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2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4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 Loan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ancing the Books for 2003-200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Bey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ah Dup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ndy Jerr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naging Cash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sh Receip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990360" y="6019920"/>
            <a:ext cx="73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1-1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esting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 Pay – https://e-grants.ed.gov/gapsweb/, or GAPS Hotline at 888-336-89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ed Cash – Based on actual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iving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deposit to school bank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3D8-D3C2-4C1B-88CF-9882E35A313E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naging Cash – Timely Disbursement of Funds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ing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ly equal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day delay fo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 bor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600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1760" y="6019920"/>
            <a:ext cx="73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4-1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273-2118-4113-970A-4801741E9A2F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1560" y="2438280"/>
            <a:ext cx="70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the Money: How to Ge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Funding for Pell Grant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-Based, and Direct Lo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56480" y="123516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891-484A-4C5A-BFC5-7D8808EA52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naging Cash – Timely Disbursement of Funds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s must be disbursed to borrowers within 3 business day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600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1760" y="6019920"/>
            <a:ext cx="73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4-1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4A7-D205-4A27-BB87-4D0A0FAC83D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funds of Cash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more funds than disbu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Adjustment to Borrower’s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 – Returning or reusing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of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ally through GAP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e-grants.ed.gov/gapsweb/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– Mail to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D School Relations Cen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tn: Refunded Ca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.O. Box 900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agara Falls, NY 143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6324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248520" y="3624120"/>
            <a:ext cx="2666880" cy="2700360"/>
            <a:chOff x="6248520" y="3624120"/>
            <a:chExt cx="2666880" cy="27003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6705720" y="3624120"/>
              <a:ext cx="2022480" cy="18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6248520" y="4464000"/>
              <a:ext cx="2182680" cy="18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7543800" y="5226120"/>
              <a:ext cx="137160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7086600" y="3720960"/>
              <a:ext cx="1219320" cy="808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CAC-8307-47E3-8447-85E85A90D4AB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ayment to Servic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impact school’s cash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made by school or by borr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sent t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 S Department of Edu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 Loan Servicing Cen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TN:  Payment Cen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.O. Box 53026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lanta, GA 30353-0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 Please make sure you indicate clearly the student’s name and loan ID number and that this is a PAYMENT, not an adjustment, to the student’s loa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400800" y="3149640"/>
            <a:ext cx="1278000" cy="20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794-97E9-4103-A816-C1BD23123B20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porting Disbursement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&amp; Adjust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shed Cash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and acceptance of disburs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 is critical for Pushed Cash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NO Accepted Disbursement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O FUND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6095880"/>
            <a:ext cx="73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4-1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951-FB5B-47F8-8746-F85B2457D70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sbursement Adjust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at Borrower’s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s from date of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or recycling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6324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4-1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7BF-28C2-4F7B-9FBE-9DFA7EEB3C19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porting Disbursement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&amp; Adjust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wnward Adjustments to Borrower’s Accounts must be accompani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ing funds as a refund of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ing/Recycling funds for another eligible borr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6DB-871A-420E-83A2-A4518A0F4E8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ooking a Loa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ed vs. Unbooked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, MPN, Disbursement = Bo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s must book to transfer liability to the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859-981F-4E0F-BF4F-FA6E3C8B751A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e111d"/>
                </a:solidFill>
                <a:latin typeface="Times New Roman"/>
              </a:rPr>
              <a:t>Direct Loan Monthly Reconciliation</a:t>
            </a:r>
            <a:br>
              <a:rPr sz="3200"/>
            </a:br>
            <a:r>
              <a:rPr b="1" i="1" lang="en-US" sz="3200" spc="-1" strike="noStrike">
                <a:solidFill>
                  <a:srgbClr val="be111d"/>
                </a:solidFill>
                <a:latin typeface="Times New Roman"/>
              </a:rPr>
              <a:t>And Program Year Close Ou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362320"/>
            <a:ext cx="61722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fc42"/>
                </a:solidFill>
                <a:latin typeface="Arial"/>
              </a:rPr>
              <a:t>Rapid Reconcil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fc42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efc42"/>
                </a:solidFill>
                <a:latin typeface="Arial"/>
              </a:rPr>
              <a:t>and Program Close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362320"/>
            <a:ext cx="71262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Direct Loans:  Balancing the Boo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for 2002-2003 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2960" y="2286000"/>
            <a:ext cx="46306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13474"/>
                </a:solidFill>
                <a:latin typeface="Arial"/>
              </a:rPr>
              <a:t>COD and Direct Lo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13474"/>
                </a:solidFill>
                <a:latin typeface="Arial"/>
              </a:rPr>
              <a:t>Balancing the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38920" y="2362320"/>
            <a:ext cx="602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rect Loans: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ancing the Books for 2003-2004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7E1-3A29-4BF4-9F3D-2747FE88E4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6015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omputing Your ECB: The Direct Loan Cash Equa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49440" y="1917720"/>
            <a:ext cx="5970600" cy="1380960"/>
            <a:chOff x="649440" y="1917720"/>
            <a:chExt cx="5970600" cy="1380960"/>
          </a:xfrm>
        </p:grpSpPr>
        <p:sp>
          <p:nvSpPr>
            <p:cNvPr id="241" name=""/>
            <p:cNvSpPr/>
            <p:nvPr/>
          </p:nvSpPr>
          <p:spPr>
            <a:xfrm>
              <a:off x="649440" y="1917720"/>
              <a:ext cx="1554120" cy="1380960"/>
            </a:xfrm>
            <a:prstGeom prst="rect">
              <a:avLst/>
            </a:prstGeom>
            <a:noFill/>
            <a:ln w="1015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gin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57680" y="1917720"/>
              <a:ext cx="1554120" cy="1380960"/>
            </a:xfrm>
            <a:prstGeom prst="rect">
              <a:avLst/>
            </a:prstGeom>
            <a:noFill/>
            <a:ln w="1015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eip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65560" y="1917720"/>
              <a:ext cx="1554480" cy="1380960"/>
            </a:xfrm>
            <a:prstGeom prst="rect">
              <a:avLst/>
            </a:prstGeom>
            <a:noFill/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fund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243160" y="217764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59320" y="196956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95920" y="406980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02000" y="38620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5560" y="3809880"/>
            <a:ext cx="6148440" cy="1381320"/>
            <a:chOff x="1825560" y="3809880"/>
            <a:chExt cx="6148440" cy="1381320"/>
          </a:xfrm>
        </p:grpSpPr>
        <p:sp>
          <p:nvSpPr>
            <p:cNvPr id="249" name=""/>
            <p:cNvSpPr/>
            <p:nvPr/>
          </p:nvSpPr>
          <p:spPr>
            <a:xfrm>
              <a:off x="6419880" y="3809880"/>
              <a:ext cx="1554120" cy="1381320"/>
            </a:xfrm>
            <a:prstGeom prst="rect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08600" y="3809880"/>
              <a:ext cx="1554120" cy="1381320"/>
            </a:xfrm>
            <a:prstGeom prst="rect">
              <a:avLst/>
            </a:prstGeom>
            <a:noFill/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oo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-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nts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25560" y="3809880"/>
              <a:ext cx="1554120" cy="1381320"/>
            </a:xfrm>
            <a:prstGeom prst="rect">
              <a:avLst/>
            </a:prstGeom>
            <a:noFill/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oo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sburse-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219320" y="38620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60040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 Downward Adjustments are negative; upward adjustments are posi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409-EF2B-4C46-92FA-74F564AB68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omputing Your ECB: The Direct Loan Cash Equa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649440" y="3048120"/>
            <a:ext cx="155412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04812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oo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309996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84960" y="3057480"/>
            <a:ext cx="1554120" cy="13813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 Po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61000" y="331740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04812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oo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16400" y="31096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60040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 Downward Adjustments are negative; upward adjustments are posi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BD0-0186-4434-866B-3EE9CC0761A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nitoring Your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e – Finish What You Sta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5520" y="3276720"/>
            <a:ext cx="52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tor Your Cash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3640" y="426708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Your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2200" y="5257800"/>
            <a:ext cx="65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 Internal Reconcil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910-36CD-4BC9-82F7-432B1115EC60}" type="slidenum">
              <a:t>22</a:t>
            </a:fld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rganize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sh What You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your proces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you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all records have been sent to and accepted at 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managing timing issues to finish what you start within the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DD8-A26D-4E30-A199-6F952B03E196}" type="slidenum">
              <a:t>23</a:t>
            </a:fld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nitor Your Cash Flow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cash receipts are posted to the correc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requested funds have been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y with cash management tim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funds received are either disbursed or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correct addresses are used when returning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FC3-42DD-4F8D-84BE-EFD7F91578B1}" type="slidenum">
              <a:t>24</a:t>
            </a:fld>
          </a:p>
        </p:txBody>
      </p:sp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se Your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Day Warning Report (C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ed Status Report (EDExpress     or custo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127-46DA-4BED-8CF6-68D1D63D4DB8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se Your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nding Disbursement L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EDExpress: List - Edit-Only Disbursem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ded Disbursement L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EDExpress: List - Actual Disbursem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DB0-4389-4CF7-B3A5-462A3E813F0E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se Your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Disbursements – Booked and Unbooked Report (DL To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Summary Report (DL Tools – 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gers, Bank Statements, Cancelled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nternal Schoo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952-7F94-4FF6-B528-5EDA17514F5C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form Internal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Business Office/Financial records to Direct Lo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cedures/schedule for internal reconciliation and assign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based on overall cash/disbursement totals and/or student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shoot discrep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065-A6F5-4826-9A94-B712F0954BC3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nthly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Account Statement (S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the Department’s official ending cash balance for you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regulatory requirements for monthly reconciliation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d the first weekend of the month, with data through end of previous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S comes out with a number of options already selected by default but schools can customize many of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3E8-3EE6-4CC2-B666-541B04AA37F8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1371600"/>
            <a:ext cx="6705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y is the Monthly Reconciliation Process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nd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ogram Year Closeout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o Important?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DC7-A025-490B-BB1E-F41C52E9EDD2}" type="slidenum">
              <a:t>3</a:t>
            </a:fld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nthly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Account Statement and how schools should use this report is covered in Session 7, Direct Loans: Reconcili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 the Pieces Together - A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EDB-DECC-47DA-8813-84CE99A12469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ogram Year Closeou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utomated Process for Program Year Close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Confirmatio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Correspondence Scr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Informatio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General Scr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3B2-0A6D-4F17-AB12-2593C599964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alance Confirmation Screen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F35-4149-4773-BD70-4D579CF5D9A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alance Confirmation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E88-4E27-4EB7-A457-736F93760C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alance Confirmation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Year Program Closeou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the school’s current financial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updated every evening during the systems daily proc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Confirmation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chool 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COD’s ending cash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rs to agree or disagree to th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53F-79C8-40BC-99E4-DDB007B92F8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alance Confirmation Screen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use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throughout the year during monthly reconc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to confirm clos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 received a Zero Balance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02/03—If school has not been granted extended 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screen and indicate at the bottom you agree to the balance and fax to Customer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877-623-5082  attn: Reconc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4FC-8D81-4AE7-983E-6771DC44ED1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Correspondence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F44-078F-4889-835B-59E4AECE4A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Correspondence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64D-C522-44C2-94F9-CE7D630836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Correspondence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093-F47B-4BD5-ACCD-ED89BD3E34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Corresponde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out Correspo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Balance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sent to Financial Aid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Balance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sent to Financial Aid Administ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Warning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Letter sent to the President and Financial Aid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Year Closeout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Letter sent to the President and Financial Aid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310-8D75-476C-B6A8-E0E57EB374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54097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These are our ultimate Customers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01" name="Howard%20Graduate" descr=""/>
          <p:cNvPicPr/>
          <p:nvPr/>
        </p:nvPicPr>
        <p:blipFill>
          <a:blip r:embed="rId1"/>
          <a:stretch/>
        </p:blipFill>
        <p:spPr>
          <a:xfrm>
            <a:off x="0" y="1676520"/>
            <a:ext cx="2743200" cy="2361960"/>
          </a:xfrm>
          <a:prstGeom prst="rect">
            <a:avLst/>
          </a:prstGeom>
          <a:ln w="0">
            <a:noFill/>
          </a:ln>
        </p:spPr>
      </p:pic>
      <p:pic>
        <p:nvPicPr>
          <p:cNvPr id="102" name="NCC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grad1" descr=""/>
          <p:cNvPicPr/>
          <p:nvPr/>
        </p:nvPicPr>
        <p:blipFill>
          <a:blip r:embed="rId3"/>
          <a:stretch/>
        </p:blipFill>
        <p:spPr>
          <a:xfrm>
            <a:off x="3124080" y="2438280"/>
            <a:ext cx="2308320" cy="2819520"/>
          </a:xfrm>
          <a:prstGeom prst="rect">
            <a:avLst/>
          </a:prstGeom>
          <a:ln w="0">
            <a:noFill/>
          </a:ln>
        </p:spPr>
      </p:pic>
      <p:pic>
        <p:nvPicPr>
          <p:cNvPr id="104" name="Grads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2895480" cy="22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707-2B56-4A9D-A971-FE54DBBBD06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Correspondence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loseout Letters that schools may 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alance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for schools who have not confirmed closeout and the award year is closed and the school has a negative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o Zero Balance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when the school make an invalid attempt to confirm closeout or the school’s ending cash balance has changed after they confirm clos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2F3-D99C-431E-9F86-1BBF1E100E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Information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705720" y="5257800"/>
            <a:ext cx="976320" cy="301680"/>
          </a:xfrm>
          <a:prstGeom prst="leftArrow">
            <a:avLst>
              <a:gd name="adj1" fmla="val 50000"/>
              <a:gd name="adj2" fmla="val 8090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DF9-FB83-4782-BB8F-D2223385B49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Information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new fields for Program Year Close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School Confirmed Program Year Clos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Department of Ed Confirmed Program Year Clos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02/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e Date Department of Ed Confirmed Program Year Closeout will be populated due to current manu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97E-2F4E-4CDB-9B75-76B5E0A0801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General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302-F405-476A-BA40-6E0C01C2940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General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the begin and end dates of the extended processing that has been granted by F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the reason the school asked for extended proce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with COD system issues have a reason of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3A0-C0CC-4987-90AD-CAC8ABC090F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948680" y="457200"/>
            <a:ext cx="46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Happens Af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is Close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2176560"/>
            <a:ext cx="7102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out Letter is Genera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are shut of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will be reduced to Net Drawdowns/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018-F733-4A70-A6B5-F048D1B5EF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57200" y="2743200"/>
            <a:ext cx="7788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ill no longer accept any batches from the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will no longer allow a user to create/update informa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94760" y="838080"/>
            <a:ext cx="46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Happens Af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is Clos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4B5-E877-4F7E-81B8-49E82E9BD0D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ogram Year 2002/2003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ose Out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chools Closed – 7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chools Not Closed – 4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chool on Extended Processing - 3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240-1EAC-4871-8826-62584FD648C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dditional Inform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7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s: Reconciliatio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the Pieces Together 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2, 10:45 am -12:00 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3, 1:45 pm – 3:0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4, 1:15 pm – 2:30 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Custome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3A3-535C-4B2A-AEC6-AAA5CC3E9BA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828800" y="2400480"/>
            <a:ext cx="5562720" cy="18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Questions ???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D34-D833-4B8E-8837-5D22D13BD575}" type="slidenum">
              <a:t>49</a:t>
            </a:fld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4495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Picture of Student/Borrower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ceiving an incorrect bil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from The Direct Loan Payment Cente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3047760" cy="3733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304812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64A-1D23-4B10-AD4E-41F28BBCBA3E}" type="slidenum">
              <a:t>5</a:t>
            </a:fld>
          </a:p>
        </p:txBody>
      </p:sp>
    </p:spTree>
  </p:cSld>
  <p:transition spd="slow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68544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ummary of the Various Areas that Affect Reconciliation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59092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C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s and Adju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ing a Lo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Your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762-7299-4820-91A9-0048D349DCD3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understand monthly reconciliation, we must first understand the cash management life cycle and our own daily processing…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76212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naging Ca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FC2-FD58-49A1-BFBD-00054EB512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sh Management Life Cyc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724280" y="1752480"/>
          <a:ext cx="182880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52480"/>
                    <a:ext cx="18288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286000" y="3733920"/>
            <a:ext cx="164628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381800" y="4343400"/>
            <a:ext cx="847800" cy="1676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93080" y="4495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59436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806400" y="1785960"/>
            <a:ext cx="990720" cy="97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272736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sury/F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68560" y="22399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95480" y="2025720"/>
            <a:ext cx="1905120" cy="642600"/>
            <a:chOff x="2895480" y="2025720"/>
            <a:chExt cx="1905120" cy="642600"/>
          </a:xfrm>
        </p:grpSpPr>
        <p:sp>
          <p:nvSpPr>
            <p:cNvPr id="123" name=""/>
            <p:cNvSpPr/>
            <p:nvPr/>
          </p:nvSpPr>
          <p:spPr>
            <a:xfrm flipH="1">
              <a:off x="2895480" y="2362320"/>
              <a:ext cx="190512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20257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quest Fu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76520" y="2606760"/>
            <a:ext cx="3047760" cy="657000"/>
            <a:chOff x="1676520" y="2606760"/>
            <a:chExt cx="3047760" cy="657000"/>
          </a:xfrm>
        </p:grpSpPr>
        <p:sp>
          <p:nvSpPr>
            <p:cNvPr id="126" name=""/>
            <p:cNvSpPr/>
            <p:nvPr/>
          </p:nvSpPr>
          <p:spPr>
            <a:xfrm>
              <a:off x="1676520" y="2743200"/>
              <a:ext cx="304776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0640" y="289548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Cash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Receip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2819520" y="2606760"/>
              <a:ext cx="533160" cy="36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 flipH="1">
            <a:off x="1523880" y="2209680"/>
            <a:ext cx="609840" cy="1526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697000" y="2895480"/>
            <a:ext cx="1691640" cy="2316240"/>
            <a:chOff x="5697000" y="2895480"/>
            <a:chExt cx="1691640" cy="2316240"/>
          </a:xfrm>
        </p:grpSpPr>
        <p:sp>
          <p:nvSpPr>
            <p:cNvPr id="131" name=""/>
            <p:cNvSpPr/>
            <p:nvPr/>
          </p:nvSpPr>
          <p:spPr>
            <a:xfrm>
              <a:off x="6162840" y="2895480"/>
              <a:ext cx="1218960" cy="19051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3402000">
              <a:off x="5351760" y="3860280"/>
              <a:ext cx="23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Disburs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7"/>
            <a:stretch/>
          </p:blipFill>
          <p:spPr>
            <a:xfrm>
              <a:off x="6543720" y="3657600"/>
              <a:ext cx="533520" cy="3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6619680" y="2870280"/>
            <a:ext cx="1072800" cy="1549440"/>
            <a:chOff x="6619680" y="2870280"/>
            <a:chExt cx="1072800" cy="1549440"/>
          </a:xfrm>
        </p:grpSpPr>
        <p:sp>
          <p:nvSpPr>
            <p:cNvPr id="135" name=""/>
            <p:cNvSpPr/>
            <p:nvPr/>
          </p:nvSpPr>
          <p:spPr>
            <a:xfrm flipH="1" flipV="1">
              <a:off x="6619680" y="2870280"/>
              <a:ext cx="990360" cy="1549440"/>
            </a:xfrm>
            <a:prstGeom prst="line">
              <a:avLst/>
            </a:prstGeom>
            <a:ln w="572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3402000">
              <a:off x="6692400" y="328968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Arial"/>
                </a:rPr>
                <a:t>Chan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914400" y="5202360"/>
            <a:ext cx="1752480" cy="112212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295280" y="3048120"/>
            <a:ext cx="533520" cy="2133360"/>
            <a:chOff x="1295280" y="3048120"/>
            <a:chExt cx="533520" cy="2133360"/>
          </a:xfrm>
        </p:grpSpPr>
        <p:sp>
          <p:nvSpPr>
            <p:cNvPr id="139" name=""/>
            <p:cNvSpPr/>
            <p:nvPr/>
          </p:nvSpPr>
          <p:spPr>
            <a:xfrm flipH="1" flipV="1">
              <a:off x="1371240" y="3048120"/>
              <a:ext cx="228600" cy="21333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9"/>
            <a:stretch/>
          </p:blipFill>
          <p:spPr>
            <a:xfrm>
              <a:off x="1295280" y="4114800"/>
              <a:ext cx="533520" cy="3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3113280" y="2646360"/>
            <a:ext cx="2412000" cy="1537200"/>
            <a:chOff x="3113280" y="2646360"/>
            <a:chExt cx="2412000" cy="1537200"/>
          </a:xfrm>
        </p:grpSpPr>
        <p:sp>
          <p:nvSpPr>
            <p:cNvPr id="142" name=""/>
            <p:cNvSpPr/>
            <p:nvPr/>
          </p:nvSpPr>
          <p:spPr>
            <a:xfrm flipH="1">
              <a:off x="3733560" y="2895480"/>
              <a:ext cx="1447560" cy="990720"/>
            </a:xfrm>
            <a:prstGeom prst="line">
              <a:avLst/>
            </a:prstGeom>
            <a:ln w="57240">
              <a:solidFill>
                <a:srgbClr val="00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526400">
              <a:off x="3048120" y="318420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Disburs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529400">
              <a:off x="3840480" y="3331440"/>
              <a:ext cx="172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Adjust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374480" y="61722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666520" y="5334120"/>
            <a:ext cx="4953240" cy="1024560"/>
            <a:chOff x="2666520" y="5334120"/>
            <a:chExt cx="4953240" cy="1024560"/>
          </a:xfrm>
        </p:grpSpPr>
        <p:sp>
          <p:nvSpPr>
            <p:cNvPr id="147" name=""/>
            <p:cNvSpPr/>
            <p:nvPr/>
          </p:nvSpPr>
          <p:spPr>
            <a:xfrm flipH="1">
              <a:off x="2666520" y="5334120"/>
              <a:ext cx="4953240" cy="68580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0"/>
            <a:stretch/>
          </p:blipFill>
          <p:spPr>
            <a:xfrm>
              <a:off x="4495680" y="5562720"/>
              <a:ext cx="53352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1132600">
              <a:off x="4092480" y="579132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Pay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676520" y="1386000"/>
            <a:ext cx="4724280" cy="671400"/>
            <a:chOff x="1676520" y="1386000"/>
            <a:chExt cx="4724280" cy="671400"/>
          </a:xfrm>
        </p:grpSpPr>
        <p:sp>
          <p:nvSpPr>
            <p:cNvPr id="151" name=""/>
            <p:cNvSpPr/>
            <p:nvPr/>
          </p:nvSpPr>
          <p:spPr>
            <a:xfrm flipH="1">
              <a:off x="1676520" y="1905120"/>
              <a:ext cx="312408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1"/>
            <a:stretch/>
          </p:blipFill>
          <p:spPr>
            <a:xfrm>
              <a:off x="3657600" y="1687680"/>
              <a:ext cx="53352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895480" y="13860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Refund of Cash (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optimal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207160" y="2470320"/>
            <a:ext cx="403920" cy="1720800"/>
            <a:chOff x="2207160" y="2470320"/>
            <a:chExt cx="403920" cy="1720800"/>
          </a:xfrm>
        </p:grpSpPr>
        <p:sp>
          <p:nvSpPr>
            <p:cNvPr id="155" name=""/>
            <p:cNvSpPr/>
            <p:nvPr/>
          </p:nvSpPr>
          <p:spPr>
            <a:xfrm>
              <a:off x="2286000" y="2590920"/>
              <a:ext cx="0" cy="1600200"/>
            </a:xfrm>
            <a:prstGeom prst="line">
              <a:avLst/>
            </a:prstGeom>
            <a:ln w="57240">
              <a:solidFill>
                <a:srgbClr val="00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590920" y="2514240"/>
              <a:ext cx="0" cy="1523880"/>
            </a:xfrm>
            <a:prstGeom prst="line">
              <a:avLst/>
            </a:prstGeom>
            <a:ln w="57240">
              <a:solidFill>
                <a:srgbClr val="00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189200">
              <a:off x="1625400" y="305496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Cash Tr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19526400">
            <a:off x="1762200" y="5238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47440" y="4485240"/>
            <a:ext cx="1199520" cy="1226160"/>
            <a:chOff x="1747440" y="4485240"/>
            <a:chExt cx="1199520" cy="1226160"/>
          </a:xfrm>
        </p:grpSpPr>
        <p:sp>
          <p:nvSpPr>
            <p:cNvPr id="160" name=""/>
            <p:cNvSpPr/>
            <p:nvPr/>
          </p:nvSpPr>
          <p:spPr>
            <a:xfrm flipH="1">
              <a:off x="2080800" y="4572000"/>
              <a:ext cx="585720" cy="838080"/>
            </a:xfrm>
            <a:prstGeom prst="line">
              <a:avLst/>
            </a:prstGeom>
            <a:ln w="572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8242400">
              <a:off x="1885680" y="4686120"/>
              <a:ext cx="923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Boo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Loa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V="1">
            <a:off x="5410080" y="6477120"/>
            <a:ext cx="381240" cy="237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6248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ollow th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02120" y="6400800"/>
            <a:ext cx="533160" cy="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36720" y="62485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629400"/>
            <a:ext cx="533520" cy="0"/>
          </a:xfrm>
          <a:prstGeom prst="line">
            <a:avLst/>
          </a:prstGeom>
          <a:ln w="5724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76160" y="2895480"/>
            <a:ext cx="4343760" cy="1907280"/>
            <a:chOff x="1676160" y="2895480"/>
            <a:chExt cx="4343760" cy="1907280"/>
          </a:xfrm>
        </p:grpSpPr>
        <p:sp>
          <p:nvSpPr>
            <p:cNvPr id="168" name=""/>
            <p:cNvSpPr/>
            <p:nvPr/>
          </p:nvSpPr>
          <p:spPr>
            <a:xfrm flipH="1">
              <a:off x="3809880" y="4329000"/>
              <a:ext cx="182880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2"/>
            <a:stretch/>
          </p:blipFill>
          <p:spPr>
            <a:xfrm>
              <a:off x="4495680" y="4100400"/>
              <a:ext cx="533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809880" y="440388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Refund of Ca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638680" y="289548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676160" y="3048120"/>
              <a:ext cx="609480" cy="1295280"/>
              <a:chOff x="1676160" y="3048120"/>
              <a:chExt cx="609480" cy="129528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1676160" y="3048120"/>
                <a:ext cx="609480" cy="12952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76520" y="3429000"/>
                <a:ext cx="533160" cy="36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2143080" y="1557360"/>
            <a:ext cx="752400" cy="747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422760" y="2119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295280"/>
            <a:ext cx="4495680" cy="3581640"/>
          </a:xfrm>
          <a:prstGeom prst="rect">
            <a:avLst/>
          </a:prstGeom>
          <a:noFill/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D33-F018-4346-B8E8-683263562780}" type="slidenum">
              <a:t>8</a:t>
            </a:fld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4724280" y="1752480"/>
          <a:ext cx="182880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52480"/>
                    <a:ext cx="18288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286000" y="3733920"/>
            <a:ext cx="1646280" cy="914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93080" y="4495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143080" y="1557360"/>
            <a:ext cx="752400" cy="747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068560" y="22399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895480" y="2362320"/>
            <a:ext cx="1905120" cy="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2025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quest 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2743200"/>
            <a:ext cx="22860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0640" y="28954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as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Rece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2819520" y="2606760"/>
            <a:ext cx="533160" cy="369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3733560" y="2895480"/>
            <a:ext cx="1447560" cy="990720"/>
          </a:xfrm>
          <a:prstGeom prst="line">
            <a:avLst/>
          </a:prstGeom>
          <a:ln w="5724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9526400">
            <a:off x="3048120" y="318420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Disburs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9529400">
            <a:off x="3840480" y="333144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590920"/>
            <a:ext cx="0" cy="1600200"/>
          </a:xfrm>
          <a:prstGeom prst="line">
            <a:avLst/>
          </a:prstGeom>
          <a:ln w="5724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590920" y="2514240"/>
            <a:ext cx="0" cy="1523880"/>
          </a:xfrm>
          <a:prstGeom prst="line">
            <a:avLst/>
          </a:prstGeom>
          <a:ln w="5724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819160" y="1905120"/>
            <a:ext cx="198108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657600" y="1687680"/>
            <a:ext cx="533520" cy="369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95480" y="13860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fund of 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809880" y="4329000"/>
            <a:ext cx="18288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4495680" y="4100400"/>
            <a:ext cx="533520" cy="370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09880" y="44038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fund of 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638680" y="289548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189200">
            <a:off x="1625400" y="30549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sh Tr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sh Management Life Cyc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516744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nds of 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516744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6DE-4B41-4D64-8BC5-25DC315D7AC3}" type="slidenum">
              <a:t>9</a:t>
            </a:fld>
          </a:p>
        </p:txBody>
      </p:sp>
    </p:spTree>
  </p:cSld>
  <p:transition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0:50:03Z</dcterms:modified>
  <cp:revision>96</cp:revision>
  <dc:subject/>
  <dc:title>PowerPoint Presentation</dc:title>
</cp:coreProperties>
</file>