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image2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24.png" ContentType="image/png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204D-350F-4E59-A241-EC6AC734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549-E867-4226-B348-C02056C8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23B-5058-4331-AFD3-9BF9E1EE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B31-E07D-4883-A40F-BA07D9B8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AEF1-A604-4A7C-8B44-B53168CD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089-9B3D-4753-ACD8-BE17F03D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D598-2A79-410B-9EBB-7587A122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BD7-3467-41A8-A589-6DD18655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AAD3-8608-4430-8731-B1DB6C0E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48C-2669-4631-8B25-DEDB7A44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32A-4AA1-4828-92D5-63F21A22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8B1-ED79-4D2C-8AB0-4657AB0E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0E71-2447-45C7-8460-E9BB50AEF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648320"/>
            <a:ext cx="4724280" cy="1522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24480" y="53352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3352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image" Target="../media/image12.wmf"/><Relationship Id="rId13" Type="http://schemas.openxmlformats.org/officeDocument/2006/relationships/image" Target="../media/image12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4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rect Loan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lancing the Books for 2003-2004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Bey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400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ah Dup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ndy Jerr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anaging Cash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sh Receip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990360" y="6019920"/>
            <a:ext cx="73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or more information, review 34 CFR, 668.161-1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questing F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 Pay – https://e-grants.ed.gov/gapsweb/, or GAPS Hotline at 888-336-89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ed Cash – Based on actual disbur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eiving F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deposit to school bank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7D0-23D8-466C-AAF1-0DA543C13603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anaging Cash – Timely Disbursement of Funds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bursing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tially equal disbur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day delay for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 borr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Disbur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1600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1760" y="6019920"/>
            <a:ext cx="73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or more information, review 34 CFR, 668.164-1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BD5-A479-4C87-A1F4-D24226626287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1560" y="2438280"/>
            <a:ext cx="7043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Me the Money: How to Ge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Funding for Pell Grant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us-Based, and Direct Lo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56480" y="123516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CE5-C872-40ED-91C0-680385A672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anaging Cash – Timely Disbursement of Funds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s must be disbursed to borrowers within 3 business day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1600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1760" y="6019920"/>
            <a:ext cx="73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or more information, review 34 CFR, 668.164-1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286-616C-4AC8-B86F-AA685AC168A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funds of Cash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d more funds than disbu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 Adjustment to Borrower’s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ions – Returning or reusing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of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ally through GAP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ttp://e-grants.ed.gov/gapsweb/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– Mail to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D School Relations Cen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tn: Refunded Ca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.O. Box 900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iagara Falls, NY 143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6324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or more information, review 34 CFR, 668.1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248520" y="3624120"/>
            <a:ext cx="2666880" cy="2700360"/>
            <a:chOff x="6248520" y="3624120"/>
            <a:chExt cx="2666880" cy="270036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6705720" y="3624120"/>
              <a:ext cx="2022480" cy="18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6248520" y="4464000"/>
              <a:ext cx="2182680" cy="18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3"/>
            <a:stretch/>
          </p:blipFill>
          <p:spPr>
            <a:xfrm>
              <a:off x="7543800" y="5226120"/>
              <a:ext cx="1371600" cy="10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4"/>
            <a:stretch/>
          </p:blipFill>
          <p:spPr>
            <a:xfrm>
              <a:off x="7086600" y="3720960"/>
              <a:ext cx="1219320" cy="808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097-9DD1-419B-AD9F-708E78F20438}" type="slidenum">
              <a:t>14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ayment to Servicing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impact school’s cash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made by school or by borr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sent to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 S Department of Edu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 Loan Servicing Cen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TN:  Payment Cen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.O. Box 53026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lanta, GA 30353-02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te:  Please make sure you indicate clearly the student’s name and loan ID number and that this is a PAYMENT, not an adjustment, to the student’s loa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400800" y="3149640"/>
            <a:ext cx="1278000" cy="20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DB9D-80D6-4C7E-BF50-CAEA2F5FED4C}" type="slidenum">
              <a:t>15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porting Disbursement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&amp; Adjustmen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46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shed Cash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and acceptance of disburs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s is critical for Pushed Cash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NO Accepted Disbursement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NO FUND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6095880"/>
            <a:ext cx="73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or more information, review 34 CFR, 668.164-1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ABA-A4AB-477B-8A42-0C553823826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isbursement Adjustmen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ility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at Borrower’s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ing Adju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days from date of 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or recycling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6324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or more information, review 34 CFR, 668.164-1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A3F6-DB85-4192-9364-9EC029C5AD0E}" type="slidenum">
              <a:t>17</a:t>
            </a:fld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porting Disbursement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&amp; Adjustmen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46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wnward Adjustments to Borrower’s Accounts must be accompani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ing funds as a refund of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using/Recycling funds for another eligible borr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90D-D22D-4FC6-87D3-E81E112B773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Booking a Loa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24382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oked vs. Unbooked Disbur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rd, MPN, Disbursement = Boo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s must book to transfer liability to the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3CC-ACDB-42D3-B93C-D1A94CB2FC32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24379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e111d"/>
                </a:solidFill>
                <a:latin typeface="Times New Roman"/>
              </a:rPr>
              <a:t>Direct Loan Monthly Reconciliation</a:t>
            </a:r>
            <a:br>
              <a:rPr sz="3200"/>
            </a:br>
            <a:r>
              <a:rPr b="1" i="1" lang="en-US" sz="3200" spc="-1" strike="noStrike">
                <a:solidFill>
                  <a:srgbClr val="be111d"/>
                </a:solidFill>
                <a:latin typeface="Times New Roman"/>
              </a:rPr>
              <a:t>And Program Year Close Ou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362320"/>
            <a:ext cx="617220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efc42"/>
                </a:solidFill>
                <a:latin typeface="Arial"/>
              </a:rPr>
              <a:t>Rapid Reconcil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efc42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efc42"/>
                </a:solidFill>
                <a:latin typeface="Arial"/>
              </a:rPr>
              <a:t>and Program Close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362320"/>
            <a:ext cx="71262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Direct Loans:  Balancing the Boo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for 2002-2003 and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2960" y="2286000"/>
            <a:ext cx="463068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13474"/>
                </a:solidFill>
                <a:latin typeface="Arial"/>
              </a:rPr>
              <a:t>COD and Direct Loa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13474"/>
                </a:solidFill>
                <a:latin typeface="Arial"/>
              </a:rPr>
              <a:t>Balancing the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38920" y="2362320"/>
            <a:ext cx="602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rect Loans: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alancing the Books for 2003-2004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d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29F8-C1F2-4225-B4D0-5E7EA462AD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80720" y="228600"/>
            <a:ext cx="6015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omputing Your ECB: The Direct Loan Cash Equation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49440" y="1917720"/>
            <a:ext cx="5970600" cy="1380960"/>
            <a:chOff x="649440" y="1917720"/>
            <a:chExt cx="5970600" cy="1380960"/>
          </a:xfrm>
        </p:grpSpPr>
        <p:sp>
          <p:nvSpPr>
            <p:cNvPr id="241" name=""/>
            <p:cNvSpPr/>
            <p:nvPr/>
          </p:nvSpPr>
          <p:spPr>
            <a:xfrm>
              <a:off x="649440" y="1917720"/>
              <a:ext cx="1554120" cy="1380960"/>
            </a:xfrm>
            <a:prstGeom prst="rect">
              <a:avLst/>
            </a:prstGeom>
            <a:noFill/>
            <a:ln w="1015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gin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57680" y="1917720"/>
              <a:ext cx="1554120" cy="1380960"/>
            </a:xfrm>
            <a:prstGeom prst="rect">
              <a:avLst/>
            </a:prstGeom>
            <a:noFill/>
            <a:ln w="1015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eip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65560" y="1917720"/>
              <a:ext cx="1554480" cy="1380960"/>
            </a:xfrm>
            <a:prstGeom prst="rect">
              <a:avLst/>
            </a:prstGeom>
            <a:noFill/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fund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243160" y="2177640"/>
            <a:ext cx="5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59320" y="1969560"/>
            <a:ext cx="58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95920" y="4069800"/>
            <a:ext cx="5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02000" y="3862080"/>
            <a:ext cx="58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5560" y="3809880"/>
            <a:ext cx="6148440" cy="1381320"/>
            <a:chOff x="1825560" y="3809880"/>
            <a:chExt cx="6148440" cy="1381320"/>
          </a:xfrm>
        </p:grpSpPr>
        <p:sp>
          <p:nvSpPr>
            <p:cNvPr id="249" name=""/>
            <p:cNvSpPr/>
            <p:nvPr/>
          </p:nvSpPr>
          <p:spPr>
            <a:xfrm>
              <a:off x="6419880" y="3809880"/>
              <a:ext cx="1554120" cy="1381320"/>
            </a:xfrm>
            <a:prstGeom prst="rect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08600" y="3809880"/>
              <a:ext cx="1554120" cy="1381320"/>
            </a:xfrm>
            <a:prstGeom prst="rect">
              <a:avLst/>
            </a:prstGeom>
            <a:noFill/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oo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-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nts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25560" y="3809880"/>
              <a:ext cx="1554120" cy="1381320"/>
            </a:xfrm>
            <a:prstGeom prst="rect">
              <a:avLst/>
            </a:prstGeom>
            <a:noFill/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oo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sburse-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219320" y="3862080"/>
            <a:ext cx="58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60040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* Downward Adjustments are negative; upward adjustments are posi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7A37-1D6F-42D9-8F78-B66A20F624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omputing Your ECB: The Direct Loan Cash Equation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649440" y="3048120"/>
            <a:ext cx="1554120" cy="1380960"/>
          </a:xfrm>
          <a:prstGeom prst="rect">
            <a:avLst/>
          </a:prstGeom>
          <a:noFill/>
          <a:ln w="101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3048120"/>
            <a:ext cx="1554120" cy="138096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oo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3099960"/>
            <a:ext cx="58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84960" y="3057480"/>
            <a:ext cx="1554120" cy="13813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 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 Po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61000" y="3317400"/>
            <a:ext cx="5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3048120"/>
            <a:ext cx="1554120" cy="138096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oo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t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16400" y="3109680"/>
            <a:ext cx="58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60040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* Downward Adjustments are negative; upward adjustments are posi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756-D9DA-4DD8-808D-005477684CD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onitoring Your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e – Finish What You Star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5520" y="3276720"/>
            <a:ext cx="52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itor Your Cash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3640" y="4267080"/>
            <a:ext cx="39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Your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2200" y="5257800"/>
            <a:ext cx="65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 Internal Reconcil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478-65F1-4971-8880-59BD727B464B}" type="slidenum">
              <a:t>22</a:t>
            </a:fld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rganize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ish What You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your proces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you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all records have been sent to and accepted at C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managing timing issues to finish what you start within the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045-D8B8-4735-9D64-D738502D25E4}" type="slidenum">
              <a:t>23</a:t>
            </a:fld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onitor Your Cash Flow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cash receipts are posted to the correc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requested funds have been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y with cash management tim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funds received are either disbursed or retu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correct addresses are used when returning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7F3E-5F77-40D8-A1FA-E244CE4D2720}" type="slidenum">
              <a:t>24</a:t>
            </a:fld>
          </a:p>
        </p:txBody>
      </p:sp>
    </p:spTree>
  </p:cSld>
  <p:transition>
    <p:cut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se Your Repor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 Day Warning Report (C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ed Status Report (EDExpress     or custo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561B-472E-47FC-91DE-47DD2E3A1B35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se Your Repor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nding Disbursement L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EDExpress: List - Edit-Only Disbursemen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ded Disbursement L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EDExpress: List - Actual Disbursemen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4795-AFA9-4189-A273-06DB415DD7F4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se Your Repor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Disbursements – Booked and Unbooked Report (DL Too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Summary Report (DL Tools – op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gers, Bank Statements, Cancelled Che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nternal School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C49B-E2FD-4504-A8FB-BF6CA82FFE9A}" type="slidenum">
              <a:t>27</a:t>
            </a:fld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rform Internal Reconcili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Business Office/Financial records to Direct Loa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rocedures/schedule for internal reconciliation and assign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based on overall cash/disbursement totals and/or student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bleshoot discrepa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533-F89F-43BB-8E39-4ACAA774A165}" type="slidenum">
              <a:t>28</a:t>
            </a:fld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onthly Reconcili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Account Statement (S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the Department’s official ending cash balance for your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s regulatory requirements for monthly reconciliation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d the first weekend of the month, with data through end of previous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S comes out with a number of options already selected by default but schools can customize many of th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0C6-8271-44F0-B255-271F132E49B9}" type="slidenum">
              <a:t>29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1371600"/>
            <a:ext cx="6705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Why is the Monthly Reconciliation Process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nd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rogram Year Closeout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o Important?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EB61-3C8E-4225-8796-77B27594FD71}" type="slidenum">
              <a:t>3</a:t>
            </a:fld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onthly Reconcili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hool Account Statement and how schools should use this report is covered in Session 7, Direct Loans: Reconciliati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ing the Pieces Together - A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9461-9876-4871-8374-FCC76D350B7F}" type="slidenum">
              <a:t>30</a:t>
            </a:fld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rogram Year Closeou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utomated Process for Program Year Close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Confirmation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Correspondence Scr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Information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General Scr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spcBef>
                <a:spcPts val="700"/>
              </a:spcBef>
              <a:buNone/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7CF-8C0E-4211-B3B6-DE1A27157B5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Balance Confirmation Screen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235B-C252-47F5-B3BC-5B122F4F4E8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Balance Confirmation Scree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CA6-C200-4079-A428-FFD2DB6D69C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Balance Confirmation Scree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Year Program Closeou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the school’s current financial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updated every evening during the systems daily proce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Confirmation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school conta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COD’s ending cash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sers to agree or disagree to the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A9D-521C-4AE9-B423-070EDBEEA92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Balance Confirmation Screen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o use th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throughout the year during monthly reconc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to confirm close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have received a Zero Balance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02/03—If school has not been granted extended proce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the screen and indicate at the bottom you agree to the balance and fax to Customer Ser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877-623-5082  attn: Reconc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5CBA-3ACA-4D3A-9197-54741A8640B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Correspondence Scree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92EA-E908-431A-823B-34E3C786362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Correspondence Scree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EFF-24DD-45FB-B7DD-132A8F7FADB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Correspondence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1B23-5411-438F-ACC0-EA540C5F777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Corresponden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out Correspon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ing Balance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 sent to Financial Aid Admini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Balance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 sent to Financial Aid Administr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 Warning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er Letter sent to the President and Financial Aid Admini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Year Closeout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er Letter sent to the President and Financial Aid Admini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138-EA1A-4560-A3B6-C21D4537DFA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54097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These are our ultimate Customers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01" name="Howard%20Graduate" descr=""/>
          <p:cNvPicPr/>
          <p:nvPr/>
        </p:nvPicPr>
        <p:blipFill>
          <a:blip r:embed="rId1"/>
          <a:stretch/>
        </p:blipFill>
        <p:spPr>
          <a:xfrm>
            <a:off x="0" y="1676520"/>
            <a:ext cx="2743200" cy="2361960"/>
          </a:xfrm>
          <a:prstGeom prst="rect">
            <a:avLst/>
          </a:prstGeom>
          <a:ln w="0">
            <a:noFill/>
          </a:ln>
        </p:spPr>
      </p:pic>
      <p:pic>
        <p:nvPicPr>
          <p:cNvPr id="102" name="NCC" descr=""/>
          <p:cNvPicPr/>
          <p:nvPr/>
        </p:nvPicPr>
        <p:blipFill>
          <a:blip r:embed="rId2"/>
          <a:stretch/>
        </p:blipFill>
        <p:spPr>
          <a:xfrm>
            <a:off x="3048120" y="30492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grad1" descr=""/>
          <p:cNvPicPr/>
          <p:nvPr/>
        </p:nvPicPr>
        <p:blipFill>
          <a:blip r:embed="rId3"/>
          <a:stretch/>
        </p:blipFill>
        <p:spPr>
          <a:xfrm>
            <a:off x="3124080" y="2438280"/>
            <a:ext cx="2308320" cy="2819520"/>
          </a:xfrm>
          <a:prstGeom prst="rect">
            <a:avLst/>
          </a:prstGeom>
          <a:ln w="0">
            <a:noFill/>
          </a:ln>
        </p:spPr>
      </p:pic>
      <p:pic>
        <p:nvPicPr>
          <p:cNvPr id="104" name="Grads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2895480" cy="22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201-302B-4355-9C1A-7BC74C9FF6A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Correspondence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loseout Letters that schools may rece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alance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d for schools who have not confirmed closeout and the award year is closed and the school has a negative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o Zero Balance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d when the school make an invalid attempt to confirm closeout or the school’s ending cash balance has changed after they confirm close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C05A-D70C-45CE-8CFF-9E4895A46BF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unding Information Scree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705720" y="5257800"/>
            <a:ext cx="976320" cy="301680"/>
          </a:xfrm>
          <a:prstGeom prst="leftArrow">
            <a:avLst>
              <a:gd name="adj1" fmla="val 50000"/>
              <a:gd name="adj2" fmla="val 8090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524-8AE7-413C-85AD-92DA30A9562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unding Information Scree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new fields for Program Year Close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School Confirmed Program Year Clos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Department of Ed Confirmed Program Year Clos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02/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he Date Department of Ed Confirmed Program Year Closeout will be populated due to current manu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59C-8735-4BFD-9F88-DD891FCBF27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General Scree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EBF-1F65-4487-9506-D3428426382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General Scree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ed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the begin and end dates of the extended processing that has been granted by F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the reason the school asked for extended proces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with COD system issues have a reason of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3C33-AE12-4799-B473-66635CB29E4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948680" y="457200"/>
            <a:ext cx="464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What Happens Aft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is Closed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98560" y="2176560"/>
            <a:ext cx="7102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out Letter is Genera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are shut of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L will be reduced to Net Drawdowns/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45D-8C5F-49C9-8AF6-201ABE52A70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57200" y="2743200"/>
            <a:ext cx="7788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ill no longer accept any batches from the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b will no longer allow a user to create/update information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94760" y="838080"/>
            <a:ext cx="46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What Happens Aft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is Clos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0268-1B33-44EF-B412-45BE0AB6020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rogram Year 2002/2003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ose Out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chools Closed – 7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chools Not Closed – 4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chool on Extended Processing - 3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BDE-0153-417B-9A4E-A48B31254EA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dditional Inform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7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s: Reconciliation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ing the Pieces Together 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2, 10:45 am -12:00 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3, 1:45 pm – 3:00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4, 1:15 pm – 2:30 p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Customer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13D-11BE-4DEE-9AEB-A0DA046D168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828800" y="2400480"/>
            <a:ext cx="5562720" cy="186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Questions ????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7DBC-F2F4-436D-B4D0-F3B7985585E0}" type="slidenum">
              <a:t>49</a:t>
            </a:fld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4495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Picture of Student/Borrower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receiving an incorrect bill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from The Direct Loan Payment Center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3047760" cy="3733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00600" y="762120"/>
            <a:ext cx="304812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736-9BCC-4DFA-9D44-17C1B532A4AC}" type="slidenum">
              <a:t>5</a:t>
            </a:fld>
          </a:p>
        </p:txBody>
      </p:sp>
    </p:spTree>
  </p:cSld>
  <p:transition spd="slow"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68544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ummary of the Various Areas that Affect Reconciliation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2590920"/>
            <a:ext cx="685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ing C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bursements and Adjus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ing a Lo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Your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693-8066-43FA-858F-64F7F221299E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05740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understand monthly reconciliation, we must first understand the cash management life cycle and our own daily processing…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762120"/>
            <a:ext cx="50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anaging Ca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440B-F823-4A76-8895-36C8793F59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sh Management Life Cycl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724280" y="1752480"/>
          <a:ext cx="182880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52480"/>
                    <a:ext cx="182880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286000" y="3733920"/>
            <a:ext cx="1646280" cy="91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381800" y="4343400"/>
            <a:ext cx="847800" cy="1676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93080" y="44956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62920" y="59436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rr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806400" y="1785960"/>
            <a:ext cx="990720" cy="976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4920" y="272736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asury/F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68560" y="223992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895480" y="2025720"/>
            <a:ext cx="1905120" cy="642600"/>
            <a:chOff x="2895480" y="2025720"/>
            <a:chExt cx="1905120" cy="642600"/>
          </a:xfrm>
        </p:grpSpPr>
        <p:sp>
          <p:nvSpPr>
            <p:cNvPr id="123" name=""/>
            <p:cNvSpPr/>
            <p:nvPr/>
          </p:nvSpPr>
          <p:spPr>
            <a:xfrm flipH="1">
              <a:off x="2895480" y="2362320"/>
              <a:ext cx="190512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24080" y="20257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equest Fun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76520" y="2606760"/>
            <a:ext cx="3047760" cy="657000"/>
            <a:chOff x="1676520" y="2606760"/>
            <a:chExt cx="3047760" cy="657000"/>
          </a:xfrm>
        </p:grpSpPr>
        <p:sp>
          <p:nvSpPr>
            <p:cNvPr id="126" name=""/>
            <p:cNvSpPr/>
            <p:nvPr/>
          </p:nvSpPr>
          <p:spPr>
            <a:xfrm>
              <a:off x="1676520" y="2743200"/>
              <a:ext cx="304776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10640" y="2895480"/>
              <a:ext cx="175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Cash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Receip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6"/>
            <a:stretch/>
          </p:blipFill>
          <p:spPr>
            <a:xfrm>
              <a:off x="2819520" y="2606760"/>
              <a:ext cx="533160" cy="36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 flipH="1">
            <a:off x="1523880" y="2209680"/>
            <a:ext cx="609840" cy="15264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697000" y="2895480"/>
            <a:ext cx="1691640" cy="2316240"/>
            <a:chOff x="5697000" y="2895480"/>
            <a:chExt cx="1691640" cy="2316240"/>
          </a:xfrm>
        </p:grpSpPr>
        <p:sp>
          <p:nvSpPr>
            <p:cNvPr id="131" name=""/>
            <p:cNvSpPr/>
            <p:nvPr/>
          </p:nvSpPr>
          <p:spPr>
            <a:xfrm>
              <a:off x="6162840" y="2895480"/>
              <a:ext cx="1218960" cy="190512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3402000">
              <a:off x="5351760" y="3860280"/>
              <a:ext cx="23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</a:rPr>
                <a:t>Disburs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7"/>
            <a:stretch/>
          </p:blipFill>
          <p:spPr>
            <a:xfrm>
              <a:off x="6543720" y="3657600"/>
              <a:ext cx="533520" cy="36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6619680" y="2870280"/>
            <a:ext cx="1072800" cy="1549440"/>
            <a:chOff x="6619680" y="2870280"/>
            <a:chExt cx="1072800" cy="1549440"/>
          </a:xfrm>
        </p:grpSpPr>
        <p:sp>
          <p:nvSpPr>
            <p:cNvPr id="135" name=""/>
            <p:cNvSpPr/>
            <p:nvPr/>
          </p:nvSpPr>
          <p:spPr>
            <a:xfrm flipH="1" flipV="1">
              <a:off x="6619680" y="2870280"/>
              <a:ext cx="990360" cy="1549440"/>
            </a:xfrm>
            <a:prstGeom prst="line">
              <a:avLst/>
            </a:prstGeom>
            <a:ln w="5724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3402000">
              <a:off x="6692400" y="328968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3300"/>
                  </a:solidFill>
                  <a:latin typeface="Arial"/>
                </a:rPr>
                <a:t>Chan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914400" y="5202360"/>
            <a:ext cx="1752480" cy="112212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295280" y="3048120"/>
            <a:ext cx="533520" cy="2133360"/>
            <a:chOff x="1295280" y="3048120"/>
            <a:chExt cx="533520" cy="2133360"/>
          </a:xfrm>
        </p:grpSpPr>
        <p:sp>
          <p:nvSpPr>
            <p:cNvPr id="139" name=""/>
            <p:cNvSpPr/>
            <p:nvPr/>
          </p:nvSpPr>
          <p:spPr>
            <a:xfrm flipH="1" flipV="1">
              <a:off x="1371240" y="3048120"/>
              <a:ext cx="228600" cy="213336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9"/>
            <a:stretch/>
          </p:blipFill>
          <p:spPr>
            <a:xfrm>
              <a:off x="1295280" y="4114800"/>
              <a:ext cx="533520" cy="36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"/>
          <p:cNvGrpSpPr/>
          <p:nvPr/>
        </p:nvGrpSpPr>
        <p:grpSpPr>
          <a:xfrm>
            <a:off x="3113280" y="2646360"/>
            <a:ext cx="2412000" cy="1537200"/>
            <a:chOff x="3113280" y="2646360"/>
            <a:chExt cx="2412000" cy="1537200"/>
          </a:xfrm>
        </p:grpSpPr>
        <p:sp>
          <p:nvSpPr>
            <p:cNvPr id="142" name=""/>
            <p:cNvSpPr/>
            <p:nvPr/>
          </p:nvSpPr>
          <p:spPr>
            <a:xfrm flipH="1">
              <a:off x="3733560" y="2895480"/>
              <a:ext cx="1447560" cy="990720"/>
            </a:xfrm>
            <a:prstGeom prst="line">
              <a:avLst/>
            </a:prstGeom>
            <a:ln w="57240">
              <a:solidFill>
                <a:srgbClr val="0033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9526400">
              <a:off x="3048120" y="318420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Disburs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9529400">
              <a:off x="3840480" y="3331440"/>
              <a:ext cx="172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Adjust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374480" y="61722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666520" y="5334120"/>
            <a:ext cx="4953240" cy="1024560"/>
            <a:chOff x="2666520" y="5334120"/>
            <a:chExt cx="4953240" cy="1024560"/>
          </a:xfrm>
        </p:grpSpPr>
        <p:sp>
          <p:nvSpPr>
            <p:cNvPr id="147" name=""/>
            <p:cNvSpPr/>
            <p:nvPr/>
          </p:nvSpPr>
          <p:spPr>
            <a:xfrm flipH="1">
              <a:off x="2666520" y="5334120"/>
              <a:ext cx="4953240" cy="68580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0"/>
            <a:stretch/>
          </p:blipFill>
          <p:spPr>
            <a:xfrm>
              <a:off x="4495680" y="5562720"/>
              <a:ext cx="53352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rot="21132600">
              <a:off x="4092480" y="579132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Pay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676520" y="1386000"/>
            <a:ext cx="4724280" cy="671400"/>
            <a:chOff x="1676520" y="1386000"/>
            <a:chExt cx="4724280" cy="671400"/>
          </a:xfrm>
        </p:grpSpPr>
        <p:sp>
          <p:nvSpPr>
            <p:cNvPr id="151" name=""/>
            <p:cNvSpPr/>
            <p:nvPr/>
          </p:nvSpPr>
          <p:spPr>
            <a:xfrm flipH="1">
              <a:off x="1676520" y="1905120"/>
              <a:ext cx="312408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11"/>
            <a:stretch/>
          </p:blipFill>
          <p:spPr>
            <a:xfrm>
              <a:off x="3657600" y="1687680"/>
              <a:ext cx="53352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895480" y="13860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Refund of Cash (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optimal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207160" y="2470320"/>
            <a:ext cx="403920" cy="1720800"/>
            <a:chOff x="2207160" y="2470320"/>
            <a:chExt cx="403920" cy="1720800"/>
          </a:xfrm>
        </p:grpSpPr>
        <p:sp>
          <p:nvSpPr>
            <p:cNvPr id="155" name=""/>
            <p:cNvSpPr/>
            <p:nvPr/>
          </p:nvSpPr>
          <p:spPr>
            <a:xfrm>
              <a:off x="2286000" y="2590920"/>
              <a:ext cx="0" cy="1600200"/>
            </a:xfrm>
            <a:prstGeom prst="line">
              <a:avLst/>
            </a:prstGeom>
            <a:ln w="57240">
              <a:solidFill>
                <a:srgbClr val="0033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2590920" y="2514240"/>
              <a:ext cx="0" cy="1523880"/>
            </a:xfrm>
            <a:prstGeom prst="line">
              <a:avLst/>
            </a:prstGeom>
            <a:ln w="57240">
              <a:solidFill>
                <a:srgbClr val="0033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189200">
              <a:off x="1625400" y="3054960"/>
              <a:ext cx="15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Cash Tr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 rot="19526400">
            <a:off x="1762200" y="5238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747440" y="4485240"/>
            <a:ext cx="1199520" cy="1226160"/>
            <a:chOff x="1747440" y="4485240"/>
            <a:chExt cx="1199520" cy="1226160"/>
          </a:xfrm>
        </p:grpSpPr>
        <p:sp>
          <p:nvSpPr>
            <p:cNvPr id="160" name=""/>
            <p:cNvSpPr/>
            <p:nvPr/>
          </p:nvSpPr>
          <p:spPr>
            <a:xfrm flipH="1">
              <a:off x="2080800" y="4572000"/>
              <a:ext cx="585720" cy="838080"/>
            </a:xfrm>
            <a:prstGeom prst="line">
              <a:avLst/>
            </a:prstGeom>
            <a:ln w="5724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8242400">
              <a:off x="1885680" y="4686120"/>
              <a:ext cx="923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Boo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</a:rPr>
                <a:t>Loa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 flipV="1">
            <a:off x="5410080" y="6477120"/>
            <a:ext cx="381240" cy="2376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6248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ollow th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02120" y="6400800"/>
            <a:ext cx="533160" cy="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36720" y="62485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6629400"/>
            <a:ext cx="533520" cy="0"/>
          </a:xfrm>
          <a:prstGeom prst="line">
            <a:avLst/>
          </a:prstGeom>
          <a:ln w="57240">
            <a:solidFill>
              <a:srgbClr val="00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76160" y="2895480"/>
            <a:ext cx="4343760" cy="1907280"/>
            <a:chOff x="1676160" y="2895480"/>
            <a:chExt cx="4343760" cy="1907280"/>
          </a:xfrm>
        </p:grpSpPr>
        <p:sp>
          <p:nvSpPr>
            <p:cNvPr id="168" name=""/>
            <p:cNvSpPr/>
            <p:nvPr/>
          </p:nvSpPr>
          <p:spPr>
            <a:xfrm flipH="1">
              <a:off x="3809880" y="4329000"/>
              <a:ext cx="182880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12"/>
            <a:stretch/>
          </p:blipFill>
          <p:spPr>
            <a:xfrm>
              <a:off x="4495680" y="4100400"/>
              <a:ext cx="533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809880" y="440388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Refund of Ca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638680" y="289548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676160" y="3048120"/>
              <a:ext cx="609480" cy="1295280"/>
              <a:chOff x="1676160" y="3048120"/>
              <a:chExt cx="609480" cy="1295280"/>
            </a:xfrm>
          </p:grpSpPr>
          <p:sp>
            <p:nvSpPr>
              <p:cNvPr id="173" name=""/>
              <p:cNvSpPr/>
              <p:nvPr/>
            </p:nvSpPr>
            <p:spPr>
              <a:xfrm flipH="1" flipV="1">
                <a:off x="1676160" y="3048120"/>
                <a:ext cx="609480" cy="12952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676520" y="3429000"/>
                <a:ext cx="533160" cy="36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75" name="" descr=""/>
          <p:cNvPicPr/>
          <p:nvPr/>
        </p:nvPicPr>
        <p:blipFill>
          <a:blip r:embed="rId14"/>
          <a:stretch/>
        </p:blipFill>
        <p:spPr>
          <a:xfrm>
            <a:off x="2143080" y="1557360"/>
            <a:ext cx="752400" cy="747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422760" y="21193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1295280"/>
            <a:ext cx="4495680" cy="3581640"/>
          </a:xfrm>
          <a:prstGeom prst="rect">
            <a:avLst/>
          </a:prstGeom>
          <a:noFill/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E9FD-6B01-43C2-9B9E-27D5376F3150}" type="slidenum">
              <a:t>8</a:t>
            </a:fld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4724280" y="1752480"/>
          <a:ext cx="182880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52480"/>
                    <a:ext cx="182880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286000" y="3733920"/>
            <a:ext cx="1646280" cy="914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93080" y="44956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2143080" y="1557360"/>
            <a:ext cx="752400" cy="747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068560" y="223992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895480" y="2362320"/>
            <a:ext cx="1905120" cy="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2025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quest F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2743200"/>
            <a:ext cx="228600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0640" y="28954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ash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Recei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2819520" y="2606760"/>
            <a:ext cx="533160" cy="369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flipH="1">
            <a:off x="3733560" y="2895480"/>
            <a:ext cx="1447560" cy="990720"/>
          </a:xfrm>
          <a:prstGeom prst="line">
            <a:avLst/>
          </a:prstGeom>
          <a:ln w="57240">
            <a:solidFill>
              <a:srgbClr val="00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9526400">
            <a:off x="3048120" y="318420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Disburs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9529400">
            <a:off x="3840480" y="333144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Adju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2590920"/>
            <a:ext cx="0" cy="1600200"/>
          </a:xfrm>
          <a:prstGeom prst="line">
            <a:avLst/>
          </a:prstGeom>
          <a:ln w="57240">
            <a:solidFill>
              <a:srgbClr val="00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590920" y="2514240"/>
            <a:ext cx="0" cy="1523880"/>
          </a:xfrm>
          <a:prstGeom prst="line">
            <a:avLst/>
          </a:prstGeom>
          <a:ln w="57240">
            <a:solidFill>
              <a:srgbClr val="00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819160" y="1905120"/>
            <a:ext cx="198108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3657600" y="1687680"/>
            <a:ext cx="533520" cy="369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895480" y="13860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fund of 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809880" y="4329000"/>
            <a:ext cx="182880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4495680" y="4100400"/>
            <a:ext cx="533520" cy="3700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809880" y="44038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fund of 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638680" y="289548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189200">
            <a:off x="1625400" y="305496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ash Tr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sh Management Life Cycl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5167440"/>
            <a:ext cx="266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Rece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nds of 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516744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4D32-B8F6-45BE-B59C-F06E98F2249D}" type="slidenum">
              <a:t>9</a:t>
            </a:fld>
          </a:p>
        </p:txBody>
      </p:sp>
    </p:spTree>
  </p:cSld>
  <p:transition>
    <p:wipe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0:50:03Z</dcterms:modified>
  <cp:revision>96</cp:revision>
  <dc:subject/>
  <dc:title>PowerPoint Presentation</dc:title>
</cp:coreProperties>
</file>