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4.gif" ContentType="image/gif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13.png" ContentType="image/png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9948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04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4"/>
          </p:nvPr>
        </p:nvSpPr>
        <p:spPr>
          <a:xfrm>
            <a:off x="3963960" y="0"/>
            <a:ext cx="30304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65320" y="684000"/>
            <a:ext cx="4665600" cy="3498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32040" y="4411440"/>
            <a:ext cx="513072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Click to edit the notes forma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5"/>
          </p:nvPr>
        </p:nvSpPr>
        <p:spPr>
          <a:xfrm>
            <a:off x="0" y="8823240"/>
            <a:ext cx="30304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6"/>
          </p:nvPr>
        </p:nvSpPr>
        <p:spPr>
          <a:xfrm>
            <a:off x="3963960" y="8823240"/>
            <a:ext cx="30304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0ACA3-03B3-4807-AFAB-49A395D85C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3963960" y="8823240"/>
            <a:ext cx="30304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1BF2B-3381-4899-9DF2-BE6C696015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0" y="8823240"/>
            <a:ext cx="30304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0" y="0"/>
            <a:ext cx="30304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963960" y="0"/>
            <a:ext cx="30304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77920" y="69516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00200" y="4406760"/>
            <a:ext cx="5594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EE7D7-ADF1-4508-A06D-4D57B482C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09480" y="43992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9CF84-A256-4A97-96B9-AC85B0F0A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9216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9480" y="43992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92160" y="43992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C6004-7EB7-47C8-86E1-02054D516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7480" y="22096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865120" y="22096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09480" y="43992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7480" y="43992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865120" y="43992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43BDC-757D-4800-866B-C4F67845A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92160" y="22096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09120" y="762120"/>
            <a:ext cx="6705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92160" y="22096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43992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0948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476B5-A1DD-4CEF-9BCB-56E8C7CBD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9216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92160" y="43992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9216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43992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43992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9216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43992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92160" y="43992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7480" y="22096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865120" y="22096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43992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7480" y="43992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865120" y="43992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2FD5F-A752-4D0C-9E72-A3CEB8291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92160" y="22096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F6053-EF3F-429F-98F6-276D81D7A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23DD7-5B6E-4D33-9AAC-E9DD35DD5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09120" y="762120"/>
            <a:ext cx="6705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73919-A0CF-4E5A-B9F9-202B6569B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592160" y="22096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09480" y="43992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EDE93-AB97-4904-B15D-2BFFC77A4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9216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92160" y="43992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AE6A3-2B45-4ECE-8886-F08382FE7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9216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09480" y="43992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CFC7D-D139-47D4-B3EF-724931BB6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828800"/>
            <a:ext cx="9144000" cy="502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e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380880" y="0"/>
            <a:ext cx="1447920" cy="67816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e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838080" y="762120"/>
            <a:ext cx="8305920" cy="76176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280" y="1905120"/>
            <a:ext cx="4724640" cy="15228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" name=""/>
          <p:cNvGraphicFramePr/>
          <p:nvPr/>
        </p:nvGraphicFramePr>
        <p:xfrm>
          <a:off x="76320" y="76320"/>
          <a:ext cx="1371600" cy="739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320" y="76320"/>
                    <a:ext cx="1371600" cy="73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60948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457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71625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0D108-FC7B-40E2-94C6-675CE0BCFA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28800"/>
            <a:ext cx="9144000" cy="502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e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0"/>
            <a:ext cx="1447920" cy="670572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50000">
                <a:srgbClr val="fefefe"/>
              </a:gs>
              <a:gs pos="100000">
                <a:srgbClr val="cce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14400" y="2666880"/>
            <a:ext cx="8229600" cy="76212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86000" y="4648320"/>
            <a:ext cx="4724280" cy="15228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6324480" y="533520"/>
          <a:ext cx="2514600" cy="1355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324480" y="533520"/>
                    <a:ext cx="2514600" cy="135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AA Access to CPS Online for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DExpress Users - 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ands-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447920" y="5029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nger Klo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ic Smi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52280" y="685800"/>
            <a:ext cx="3657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ession 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Updated Responses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fields with a selectable list of responses are now prefaced with the numeric equivalent of the respo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uced the choices for questions 33 and 71 (Type of tax return filed) from 12 to 4 to match the FAF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95333-273C-41BB-8962-AE25E13876C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8" name=""/>
          <p:cNvGraphicFramePr/>
          <p:nvPr/>
        </p:nvGraphicFramePr>
        <p:xfrm>
          <a:off x="0" y="960480"/>
          <a:ext cx="8596440" cy="588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60480"/>
                    <a:ext cx="8596440" cy="588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" name=""/>
          <p:cNvSpPr/>
          <p:nvPr/>
        </p:nvSpPr>
        <p:spPr>
          <a:xfrm>
            <a:off x="3352680" y="1143000"/>
            <a:ext cx="1370160" cy="684360"/>
          </a:xfrm>
          <a:prstGeom prst="wedgeRectCallout">
            <a:avLst>
              <a:gd name="adj1" fmla="val 62050"/>
              <a:gd name="adj2" fmla="val 117981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refaced with numb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772400" y="228600"/>
            <a:ext cx="1371600" cy="685800"/>
          </a:xfrm>
          <a:prstGeom prst="wedgeRectCallout">
            <a:avLst>
              <a:gd name="adj1" fmla="val -84027"/>
              <a:gd name="adj2" fmla="val 261805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educed choices to match FAFS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76520" y="228600"/>
            <a:ext cx="518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 Black"/>
              </a:rPr>
              <a:t>Updated Respon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3049E-A09F-4780-A522-6CA5BB468AB8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480" y="76212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Redesigned Correction Entry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09120" y="1981080"/>
            <a:ext cx="85345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ed a column to display just the values being corr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now view the values as they appear on the selected ISIR transaction as well as the corrected val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ed a List Changes butt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the user to view a list of those values that have been corrected or confirm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can be pri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longer be required to provide Housing Pl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college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ther than your ow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hen making correction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57999-6310-472E-972C-9A3B0DFC337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380880" y="1447920"/>
          <a:ext cx="8763120" cy="486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447920"/>
                    <a:ext cx="8763120" cy="486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7" name=""/>
          <p:cNvSpPr/>
          <p:nvPr/>
        </p:nvSpPr>
        <p:spPr>
          <a:xfrm>
            <a:off x="6095880" y="3505320"/>
            <a:ext cx="2440080" cy="609480"/>
          </a:xfrm>
          <a:prstGeom prst="wedgeRoundRectCallout">
            <a:avLst>
              <a:gd name="adj1" fmla="val -89949"/>
              <a:gd name="adj2" fmla="val 1794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ded separate column for making correc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057400" y="4114800"/>
            <a:ext cx="2590920" cy="303120"/>
          </a:xfrm>
          <a:prstGeom prst="wedgeRoundRectCallout">
            <a:avLst>
              <a:gd name="adj1" fmla="val 3245"/>
              <a:gd name="adj2" fmla="val 16413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ransaction # Select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228600"/>
            <a:ext cx="2590920" cy="1830240"/>
          </a:xfrm>
          <a:prstGeom prst="cloudCallout">
            <a:avLst>
              <a:gd name="adj1" fmla="val -48898"/>
              <a:gd name="adj2" fmla="val 77865"/>
            </a:avLst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mic Sans MS"/>
              </a:rPr>
              <a:t>Provided instructions on how to use this correction p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2058840"/>
            <a:ext cx="306360" cy="2435400"/>
          </a:xfrm>
          <a:custGeom>
            <a:avLst/>
            <a:gdLst>
              <a:gd name="textAreaLeft" fmla="*/ 195840 w 306360"/>
              <a:gd name="textAreaRight" fmla="*/ 306360 w 306360"/>
              <a:gd name="textAreaTop" fmla="*/ 63360 h 2435400"/>
              <a:gd name="textAreaBottom" fmla="*/ 2372040 h 2435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3136"/>
                </a:lnTo>
                <a:cubicBezTo>
                  <a:pt x="10800" y="4036"/>
                  <a:pt x="5400" y="4936"/>
                  <a:pt x="0" y="4936"/>
                </a:cubicBezTo>
                <a:cubicBezTo>
                  <a:pt x="5400" y="4936"/>
                  <a:pt x="10800" y="5836"/>
                  <a:pt x="10800" y="6736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934320" y="4114800"/>
            <a:ext cx="2209680" cy="304920"/>
          </a:xfrm>
          <a:prstGeom prst="wedgeRoundRectCallout">
            <a:avLst>
              <a:gd name="adj1" fmla="val 1435"/>
              <a:gd name="adj2" fmla="val 8073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For this 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3200" y="685800"/>
            <a:ext cx="601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 Black"/>
              </a:rPr>
              <a:t>Redesigned Correction En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B2C36-D3C3-479C-8767-777CFEA99EBC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3" name=""/>
          <p:cNvGraphicFramePr/>
          <p:nvPr/>
        </p:nvGraphicFramePr>
        <p:xfrm>
          <a:off x="304920" y="1143000"/>
          <a:ext cx="8610480" cy="571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143000"/>
                    <a:ext cx="861048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67616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46" name=""/>
          <p:cNvSpPr/>
          <p:nvPr/>
        </p:nvSpPr>
        <p:spPr>
          <a:xfrm>
            <a:off x="1981080" y="380880"/>
            <a:ext cx="472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 Black"/>
              </a:rPr>
              <a:t>List Changes P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80880" y="1523880"/>
            <a:ext cx="5257800" cy="381240"/>
          </a:xfrm>
          <a:prstGeom prst="rect">
            <a:avLst/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5614920" y="1020240"/>
            <a:ext cx="657360" cy="47268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76520" y="2971800"/>
            <a:ext cx="1676160" cy="380880"/>
          </a:xfrm>
          <a:prstGeom prst="rect">
            <a:avLst/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BF550-9BDE-4552-B5A5-5C545731384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ISIR Compare 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ed a new ISIR Compare function to Student Inqui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ilar to the ISIR Review feature in EDExpres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plays more FAA fields than ISIR Re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s the ability to sort data so that all fields with differences appear at the top of the gr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6248520" y="380880"/>
            <a:ext cx="2057400" cy="1516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27D01-6F71-4B2B-B413-34A920F33BA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295280" y="1023840"/>
            <a:ext cx="7391520" cy="577548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1828800" y="380880"/>
            <a:ext cx="678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 Black"/>
              </a:rPr>
              <a:t>Student Inquiry-SAR Transa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124080"/>
            <a:ext cx="1066680" cy="1600200"/>
          </a:xfrm>
          <a:prstGeom prst="wedgeRectCallout">
            <a:avLst>
              <a:gd name="adj1" fmla="val 74106"/>
              <a:gd name="adj2" fmla="val 38291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Put a check in the box of the ISIRs you wish to compa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371600" y="4724280"/>
            <a:ext cx="304920" cy="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343400"/>
            <a:ext cx="304920" cy="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EF0C1-334A-454F-887D-926E8BE6AD7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09480" y="762120"/>
            <a:ext cx="7391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 Black"/>
              </a:rPr>
              <a:t>ISIR Compare </a:t>
            </a:r>
            <a:r>
              <a:rPr b="0" lang="en-US" sz="2400" spc="-1" strike="noStrike">
                <a:solidFill>
                  <a:srgbClr val="003366"/>
                </a:solidFill>
                <a:latin typeface="Arial Black"/>
              </a:rPr>
              <a:t>(Sorted by Differences)</a:t>
            </a:r>
            <a:endParaRPr b="0" lang="en-US" sz="2400" spc="-1" strike="noStrike">
              <a:solidFill>
                <a:srgbClr val="003366"/>
              </a:solidFill>
              <a:latin typeface="Arial Black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0" y="1530360"/>
          <a:ext cx="8534520" cy="532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530360"/>
                    <a:ext cx="8534520" cy="532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1" name=""/>
          <p:cNvSpPr/>
          <p:nvPr/>
        </p:nvSpPr>
        <p:spPr>
          <a:xfrm>
            <a:off x="7543800" y="3200400"/>
            <a:ext cx="1066680" cy="380880"/>
          </a:xfrm>
          <a:prstGeom prst="ellipse">
            <a:avLst/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96080" y="2286000"/>
            <a:ext cx="1447920" cy="762120"/>
          </a:xfrm>
          <a:prstGeom prst="wedgeRoundRectCallout">
            <a:avLst>
              <a:gd name="adj1" fmla="val -20064"/>
              <a:gd name="adj2" fmla="val 7000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mic Sans MS"/>
              </a:rPr>
              <a:t>Sorted by Differen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752480" y="3048120"/>
            <a:ext cx="1676520" cy="304560"/>
          </a:xfrm>
          <a:prstGeom prst="wedgeRectCallout">
            <a:avLst>
              <a:gd name="adj1" fmla="val -63921"/>
              <a:gd name="adj2" fmla="val 60416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mic Sans MS"/>
              </a:rPr>
              <a:t>Sort by fiel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791320" y="3200400"/>
            <a:ext cx="1447560" cy="380880"/>
          </a:xfrm>
          <a:prstGeom prst="ellipse">
            <a:avLst/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352680" y="3200400"/>
            <a:ext cx="1447920" cy="380880"/>
          </a:xfrm>
          <a:prstGeom prst="ellipse">
            <a:avLst/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C2012-AF77-4C13-8431-4675628944B6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09480" y="762120"/>
            <a:ext cx="8382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Enhanced Verification Tool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ed a Calculate butt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ed a Difference column to more easily identify those fields that are discrep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play message when a correction is requi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st now link into Correction Entry to submit correc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s that wish to maintain an electronic copy can save the printable version to a fi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s will no longer be required to submit corrections in order to leave the p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81688-FF73-4AC8-AAA7-CCA7EBBD7DF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" name=""/>
          <p:cNvGrpSpPr/>
          <p:nvPr/>
        </p:nvGrpSpPr>
        <p:grpSpPr>
          <a:xfrm>
            <a:off x="1752480" y="380880"/>
            <a:ext cx="6781680" cy="6476400"/>
            <a:chOff x="1752480" y="380880"/>
            <a:chExt cx="6781680" cy="6476400"/>
          </a:xfrm>
        </p:grpSpPr>
        <p:graphicFrame>
          <p:nvGraphicFramePr>
            <p:cNvPr id="169" name=""/>
            <p:cNvGraphicFramePr/>
            <p:nvPr/>
          </p:nvGraphicFramePr>
          <p:xfrm>
            <a:off x="1752480" y="380880"/>
            <a:ext cx="6781680" cy="44625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7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752480" y="380880"/>
                      <a:ext cx="6781680" cy="4462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71" name=""/>
            <p:cNvGraphicFramePr/>
            <p:nvPr/>
          </p:nvGraphicFramePr>
          <p:xfrm>
            <a:off x="1752480" y="4825800"/>
            <a:ext cx="6781680" cy="20314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752480" y="4825800"/>
                      <a:ext cx="6781680" cy="2031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73" name=""/>
          <p:cNvSpPr/>
          <p:nvPr/>
        </p:nvSpPr>
        <p:spPr>
          <a:xfrm>
            <a:off x="7391520" y="1600200"/>
            <a:ext cx="1371600" cy="4586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523880" y="5334120"/>
            <a:ext cx="3430800" cy="10652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400800" y="6553080"/>
            <a:ext cx="1523880" cy="3049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467480" y="6173640"/>
            <a:ext cx="1067040" cy="3794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23880" y="304920"/>
            <a:ext cx="1525680" cy="4572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0"/>
            <a:ext cx="1220760" cy="304920"/>
          </a:xfrm>
          <a:prstGeom prst="wedgeRectCallout">
            <a:avLst>
              <a:gd name="adj1" fmla="val -56509"/>
              <a:gd name="adj2" fmla="val 104689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New Na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553080" y="914400"/>
            <a:ext cx="1600200" cy="609480"/>
          </a:xfrm>
          <a:prstGeom prst="wedgeRoundRectCallout">
            <a:avLst>
              <a:gd name="adj1" fmla="val 38194"/>
              <a:gd name="adj2" fmla="val 8489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ifferences Column add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8077320" y="5334120"/>
            <a:ext cx="1066680" cy="839520"/>
          </a:xfrm>
          <a:prstGeom prst="wedgeRoundRectCallout">
            <a:avLst>
              <a:gd name="adj1" fmla="val -30356"/>
              <a:gd name="adj2" fmla="val 6268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New Calculate Butt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4494240"/>
            <a:ext cx="1523880" cy="612720"/>
          </a:xfrm>
          <a:prstGeom prst="wedgeRoundRectCallout">
            <a:avLst>
              <a:gd name="adj1" fmla="val 72916"/>
              <a:gd name="adj2" fmla="val 12448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irections on next ste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01CEF-F367-4F78-AA19-E8A21B08F534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Agenda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hancements to EDExpress and FAA Access for 2005-200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nds-on exerci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FC042-FD8E-4916-909E-0B1EBE163FE8}" type="slidenum">
              <a:t>2</a:t>
            </a:fld>
          </a:p>
        </p:txBody>
      </p:sp>
    </p:spTree>
  </p:cSld>
  <p:transition>
    <p:zoom dir="in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09480" y="76212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FAA Signatures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d Application Status Check within student Inquiry to allow FAAs to submit sign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Signature Status indicates that student and/or parent signatures is missing from a transaction, the FAA can access a page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 a Signature P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mit a signature flag for the student and/or par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mains on Signature Status for 14 d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D69AC-7FF5-4872-9462-D9EF880D58C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ISIR Datamart Query Title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09480" y="205704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ed a Title field to each requ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tle is included in the first record of the ISIR file resulting from the requ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on import of the ISIR file into EDExpress, the Import Edit Report will include the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066680" y="4267080"/>
          <a:ext cx="7086600" cy="2239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4267080"/>
                    <a:ext cx="7086600" cy="223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8" name=""/>
          <p:cNvSpPr/>
          <p:nvPr/>
        </p:nvSpPr>
        <p:spPr>
          <a:xfrm>
            <a:off x="2971800" y="5791320"/>
            <a:ext cx="5562720" cy="68580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B7E1D-1E39-49F3-8003-8E2C937D34E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Import ID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Express will create an Import ID for each ISIR file import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ort ID will print on the Import Edit Repor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ort ID can be used as selection criteria when printing ISIRs or lists of ISI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ort ID consists of the date and time that the import beg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B30E8-05E8-463A-A842-7E9AE5BB649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676160" y="2742840"/>
            <a:ext cx="556236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Additional Information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0BA2D-4CED-49FC-86E0-E6C04CF086F6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Demo Site for FAFSA on the Web and FAA Access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rpose: For FAAs to learn and to train sta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fafsademo.test.ed.g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Name:  </a:t>
            </a: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edde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ssword:  </a:t>
            </a: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fafsa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cumented in the 2004-2005 CPS Test System User Gu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1347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sadownload.ed.gov/CPSTestSys0405.h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clip0004" descr=""/>
          <p:cNvPicPr/>
          <p:nvPr/>
        </p:nvPicPr>
        <p:blipFill>
          <a:blip r:embed="rId1"/>
          <a:stretch/>
        </p:blipFill>
        <p:spPr>
          <a:xfrm>
            <a:off x="6553080" y="2773440"/>
            <a:ext cx="1600200" cy="1039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F1D5A-7207-48C3-BEC0-F5C336745665}" type="slidenum">
              <a:t>24</a:t>
            </a:fld>
          </a:p>
        </p:txBody>
      </p:sp>
    </p:spTree>
  </p:cSld>
  <p:transition>
    <p:cover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Technical Assistance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094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appreciate your feedback and comment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CPS/SAIG Technical Suppor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be reached a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one: 1-800-330-594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x: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319-665-766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-mail: </a:t>
            </a: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cpssaig@ed.g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3B50E-0C9B-4165-8894-34283B8E040F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Questions and Comments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more information while at the conferen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tend Session 49 – FAA Access to CPS Online and the ISIR Datam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e to the PC Lab for assistance wi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A Access to CPS On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IG Enroll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Exp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3F0A2-F2D3-4AA7-902D-9F659899F221}" type="slidenum">
              <a:t>26</a:t>
            </a:fld>
          </a:p>
        </p:txBody>
      </p:sp>
    </p:spTree>
  </p:cSld>
  <p:transition>
    <p:cover dir="l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676160" y="2742840"/>
            <a:ext cx="556236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Hands-on Exercises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67D60-1494-4464-AB51-9370909CC3FF}" type="slidenum">
              <a:t>27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676160" y="2742840"/>
            <a:ext cx="556236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 Black"/>
              </a:rPr>
              <a:t>EDExpress and FAA Access Enhancements for 2005-2006</a:t>
            </a: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AA821-3090-48FD-88CC-7122D3397F39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Securing FAA Identifiers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A’s SSN and DOB will be masked (will appear as asterisks) on the FAA login scre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1143000" y="2895480"/>
          <a:ext cx="688644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2895480"/>
                    <a:ext cx="688644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A6A99-D5C0-4F7D-966C-55593C3ADAC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Securing FAA Identifiers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4267080" y="2438280"/>
          <a:ext cx="3810240" cy="217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7080" y="2438280"/>
                    <a:ext cx="3810240" cy="217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" name=""/>
          <p:cNvSpPr/>
          <p:nvPr/>
        </p:nvSpPr>
        <p:spPr>
          <a:xfrm>
            <a:off x="4038480" y="2666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600200" y="5181480"/>
          <a:ext cx="6172200" cy="141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00200" y="5181480"/>
                    <a:ext cx="6172200" cy="141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3581280" y="4114800"/>
            <a:ext cx="4572000" cy="609480"/>
          </a:xfrm>
          <a:prstGeom prst="rect">
            <a:avLst/>
          </a:prstGeom>
          <a:solidFill>
            <a:srgbClr val="e9f7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62120" y="1981080"/>
            <a:ext cx="7635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33520" y="4114800"/>
            <a:ext cx="7924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1717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A authentication data has been encrypted within the EDExpress Access database ta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1981080"/>
            <a:ext cx="7635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DExpress Access Database has been password protec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7B3B3-5AB4-411E-9044-8419341A535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New Web links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ed links from EDExpress to the R2T4 and ISIR Analysis Tool home pag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an FAA provides authenticating data in EDExpress setup, the FAA will be able to link directly to the home pages, bypassing the FAA Access login pag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C23C4-0C4B-42D2-96A6-62E9BF9215C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7621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Pre-filling Demographic Data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mographic data from the open record in EDExpress is pre-filled into an initial FAF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linking to FAA Access via the FAFSA ta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ll not overwrite what is already in a Renewal or Correction FAF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7E93C-C68E-4DF0-B4F9-B2DC8892F80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480" y="76212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Accessing Saved Records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ords entered and saved prior to submission can now be retriev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going to FAA Access directly, 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linking to FAA Access through EDExp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ardless of whether the record was entered and saved from the EDExpress interface or directly into FAA Ac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6019D-4A99-4CE4-8FD7-A3EC8FEFA81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480" y="76212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Simplified Data Entry Process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d the number of keystrokes for those who use the keyboard to navigate through a record b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ting the initial cursor focus to the first entry fiel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moving the Step lin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ing the Student and Parent Taxes Paid Calculation buttons to the bottom of the p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-filling the “Born before?” question based on the Date of Birt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69351-0802-4202-BE02-9366F33DA18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5T16:11:26Z</dcterms:created>
  <dc:creator>jennifer.do</dc:creator>
  <dc:description/>
  <dc:language>en-US</dc:language>
  <cp:lastModifiedBy>jennifer.do</cp:lastModifiedBy>
  <dcterms:modified xsi:type="dcterms:W3CDTF">2004-12-14T20:48:40Z</dcterms:modified>
  <cp:revision>10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502788845</vt:r8>
  </property>
  <property fmtid="{D5CDD505-2E9C-101B-9397-08002B2CF9AE}" pid="3" name="_AuthorEmail">
    <vt:lpwstr>eric.smith@pearson.com</vt:lpwstr>
  </property>
  <property fmtid="{D5CDD505-2E9C-101B-9397-08002B2CF9AE}" pid="4" name="_AuthorEmailDisplayName">
    <vt:lpwstr>Smith, Eric M.</vt:lpwstr>
  </property>
  <property fmtid="{D5CDD505-2E9C-101B-9397-08002B2CF9AE}" pid="5" name="_EmailSubject">
    <vt:lpwstr>FAA Access Hands-on Session Presentation and Exercises</vt:lpwstr>
  </property>
</Properties>
</file>