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396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65320" y="684000"/>
            <a:ext cx="4665600" cy="34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2040" y="4411440"/>
            <a:ext cx="51307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396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5464-BED6-409F-9205-0E43A6AE8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6396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97A1-B280-4A2E-B519-DC5078F4F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396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AB2-443A-4784-92E5-8574483C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B50-E166-4F34-BB7F-994CAABD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6B9-CC10-4497-BDD3-D47A3494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8E7-6697-439E-B6EC-7C0DC4C6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FFC-2EDE-429A-9278-3A6DB9BA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2F2-152E-4655-B5F4-B71FBAD6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42E-BBDA-4B67-9229-007EAC17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CAB-31DB-4B75-AD3D-8FBF5CA0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05D-AE95-458B-96C4-F24C0F08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66A-244A-4EE5-A17F-C9DB690D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7C7-86E0-487A-80EA-376EC0F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958-518C-4EF2-9EFF-2208B03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7C1-5036-40F6-B10E-A9AD3D0D7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A Access to CPS Online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Express Users -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er K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ed Respons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ields with a selectable list of responses are now prefaced with the numeric equivalent of th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he choices for questions 33 and 71 (Type of tax return filed) from 12 to 4 to match the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278-7E11-41F1-AAC3-9458D4E345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960480"/>
          <a:ext cx="8596440" cy="58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60480"/>
                    <a:ext cx="859644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352680" y="1143000"/>
            <a:ext cx="1370160" cy="684360"/>
          </a:xfrm>
          <a:prstGeom prst="wedgeRectCallout">
            <a:avLst>
              <a:gd name="adj1" fmla="val 62050"/>
              <a:gd name="adj2" fmla="val 11798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faced with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28600"/>
            <a:ext cx="1371600" cy="685800"/>
          </a:xfrm>
          <a:prstGeom prst="wedgeRectCallout">
            <a:avLst>
              <a:gd name="adj1" fmla="val -84027"/>
              <a:gd name="adj2" fmla="val 2618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duced choices to match FA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Update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C24-DD2B-4741-9F07-0BB315D1DB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designed Correction Entr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column to display just the values being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w view the values as they appear on the selected ISIR transaction as well as the correct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List Changes but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user to view a list of those values that have been corrected or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can be pr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nger be required to provide Hous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lleg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han your 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making corr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3BC-47E7-499A-AE49-E83D479FCD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80880" y="1447920"/>
          <a:ext cx="876312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76312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095880" y="3505320"/>
            <a:ext cx="2440080" cy="609480"/>
          </a:xfrm>
          <a:prstGeom prst="wedgeRoundRectCallout">
            <a:avLst>
              <a:gd name="adj1" fmla="val -89949"/>
              <a:gd name="adj2" fmla="val 179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ed separate column for making corr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114800"/>
            <a:ext cx="2590920" cy="303120"/>
          </a:xfrm>
          <a:prstGeom prst="wedgeRoundRectCallout">
            <a:avLst>
              <a:gd name="adj1" fmla="val 3245"/>
              <a:gd name="adj2" fmla="val 164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action # 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2590920" cy="1830240"/>
          </a:xfrm>
          <a:prstGeom prst="cloudCallout">
            <a:avLst>
              <a:gd name="adj1" fmla="val -48898"/>
              <a:gd name="adj2" fmla="val 7786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Provided instructions on how to use this correction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58840"/>
            <a:ext cx="306360" cy="2435400"/>
          </a:xfrm>
          <a:custGeom>
            <a:avLst/>
            <a:gdLst>
              <a:gd name="textAreaLeft" fmla="*/ 195840 w 306360"/>
              <a:gd name="textAreaRight" fmla="*/ 306360 w 306360"/>
              <a:gd name="textAreaTop" fmla="*/ 63360 h 2435400"/>
              <a:gd name="textAreaBottom" fmla="*/ 2372040 h 243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136"/>
                </a:lnTo>
                <a:cubicBezTo>
                  <a:pt x="10800" y="4036"/>
                  <a:pt x="5400" y="4936"/>
                  <a:pt x="0" y="4936"/>
                </a:cubicBezTo>
                <a:cubicBezTo>
                  <a:pt x="5400" y="4936"/>
                  <a:pt x="10800" y="5836"/>
                  <a:pt x="10800" y="67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4114800"/>
            <a:ext cx="2209680" cy="304920"/>
          </a:xfrm>
          <a:prstGeom prst="wedgeRoundRectCallout">
            <a:avLst>
              <a:gd name="adj1" fmla="val 1435"/>
              <a:gd name="adj2" fmla="val 807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r this 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685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Redesigned Correction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AF6-ABD0-4BE5-9A76-862771C3C7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808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List Changes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523880"/>
            <a:ext cx="525780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614920" y="1020240"/>
            <a:ext cx="657360" cy="472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971800"/>
            <a:ext cx="167616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B19-2013-490C-9B90-E82C6D37A0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ompare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a new ISIR Compare function to Student 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the ISIR Review feature in EDExp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more FAA fields than ISI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ability to sort data so that all fields with differences appear at the top of th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057400" cy="15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CDA-CC6D-41FC-BB50-2516A3DBF1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023840"/>
            <a:ext cx="7391520" cy="5775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28800" y="3808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Student Inquiry-SA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24080"/>
            <a:ext cx="1066680" cy="1600200"/>
          </a:xfrm>
          <a:prstGeom prst="wedgeRectCallout">
            <a:avLst>
              <a:gd name="adj1" fmla="val 74106"/>
              <a:gd name="adj2" fmla="val 382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ut a check in the box of the ISIRs you wish to comp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4724280"/>
            <a:ext cx="304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343400"/>
            <a:ext cx="304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55C-2236-4C47-B955-9DDC2BE6ED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SIR Compare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(Sorted by Differences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530360"/>
          <a:ext cx="85345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30360"/>
                    <a:ext cx="85345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543800" y="3200400"/>
            <a:ext cx="106668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286000"/>
            <a:ext cx="1447920" cy="762120"/>
          </a:xfrm>
          <a:prstGeom prst="wedgeRoundRectCallout">
            <a:avLst>
              <a:gd name="adj1" fmla="val -20064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orted by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3048120"/>
            <a:ext cx="1676520" cy="304560"/>
          </a:xfrm>
          <a:prstGeom prst="wedgeRectCallout">
            <a:avLst>
              <a:gd name="adj1" fmla="val -63921"/>
              <a:gd name="adj2" fmla="val 604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ort by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3200400"/>
            <a:ext cx="144756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200400"/>
            <a:ext cx="144792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408-F5A6-430C-9D4E-187E1EC569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nhanced Verification Tool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 Calculat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 Difference column to more easily identify those fields that are discre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message when a correc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now link into Correction Entry to submit cor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hat wish to maintain an electronic copy can save the printable version to a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will no longer be required to submit corrections in order to leave th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771-1181-430E-84CD-8824570AE9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752480" y="380880"/>
            <a:ext cx="6781680" cy="6476400"/>
            <a:chOff x="1752480" y="380880"/>
            <a:chExt cx="6781680" cy="6476400"/>
          </a:xfrm>
        </p:grpSpPr>
        <p:graphicFrame>
          <p:nvGraphicFramePr>
            <p:cNvPr id="169" name=""/>
            <p:cNvGraphicFramePr/>
            <p:nvPr/>
          </p:nvGraphicFramePr>
          <p:xfrm>
            <a:off x="1752480" y="380880"/>
            <a:ext cx="6781680" cy="446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80880"/>
                      <a:ext cx="6781680" cy="44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1752480" y="4825800"/>
            <a:ext cx="6781680" cy="203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825800"/>
                      <a:ext cx="6781680" cy="203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3" name=""/>
          <p:cNvSpPr/>
          <p:nvPr/>
        </p:nvSpPr>
        <p:spPr>
          <a:xfrm>
            <a:off x="7391520" y="1600200"/>
            <a:ext cx="1371600" cy="458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5334120"/>
            <a:ext cx="3430800" cy="1065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6553080"/>
            <a:ext cx="15238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6173640"/>
            <a:ext cx="1067040" cy="379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04920"/>
            <a:ext cx="1525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0"/>
            <a:ext cx="1220760" cy="304920"/>
          </a:xfrm>
          <a:prstGeom prst="wedgeRectCallout">
            <a:avLst>
              <a:gd name="adj1" fmla="val -56509"/>
              <a:gd name="adj2" fmla="val 1046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w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914400"/>
            <a:ext cx="1600200" cy="609480"/>
          </a:xfrm>
          <a:prstGeom prst="wedgeRoundRectCallout">
            <a:avLst>
              <a:gd name="adj1" fmla="val 38194"/>
              <a:gd name="adj2" fmla="val 84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ces Column ad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5334120"/>
            <a:ext cx="1066680" cy="839520"/>
          </a:xfrm>
          <a:prstGeom prst="wedgeRoundRectCallout">
            <a:avLst>
              <a:gd name="adj1" fmla="val -30356"/>
              <a:gd name="adj2" fmla="val 62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w Calculate 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94240"/>
            <a:ext cx="1523880" cy="612720"/>
          </a:xfrm>
          <a:prstGeom prst="wedgeRoundRectCallout">
            <a:avLst>
              <a:gd name="adj1" fmla="val 72916"/>
              <a:gd name="adj2" fmla="val 124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rections on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BEE-A821-4D6C-B37F-F6444173206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EDExpress and FAA Access for 2005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-on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DFD-36ED-4F4B-B07B-E8DE4A841098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AA Signatur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pplication Status Check within student Inquiry to allow FAAs to submit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ignature Status indicates that student and/or parent signatures is missing from a transaction, the FAA can access a pag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 Signatur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a signature flag for the student and/or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s on Signature Status for 1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5BB-CB39-4F80-B596-7FD89934DF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Datamart Query Tit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Title field to each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is included in the first record of the ISIR file resulting from th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import of the ISIR file into EDExpress, the Import Edit Report will include the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4267080"/>
          <a:ext cx="708660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67080"/>
                    <a:ext cx="708660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971800" y="5791320"/>
            <a:ext cx="55627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610-F62E-4D60-A0D4-29010AC371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mport I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xpress will create an Import ID for each ISIR file impo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D will print on the Import Edit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D can be used as selection criteria when printing ISIRs or lists of 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D consists of the date and time that the import be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105-000D-4B31-8ABB-B8466BB60B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5562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dditional Inform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A54-8DFC-467A-B3D4-841E57135C1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emo Site for FAFSA on the Web and FAA Ac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For FAAs to learn and to train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afsademo.test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ame: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d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afsa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in the 2004-2005 CPS Test System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adownload.ed.gov/CPSTestSys0405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clip0004" descr=""/>
          <p:cNvPicPr/>
          <p:nvPr/>
        </p:nvPicPr>
        <p:blipFill>
          <a:blip r:embed="rId1"/>
          <a:stretch/>
        </p:blipFill>
        <p:spPr>
          <a:xfrm>
            <a:off x="6553080" y="2773440"/>
            <a:ext cx="1600200" cy="10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1FA-DC0A-4F56-A9AE-8CEB402FF950}" type="slidenum">
              <a:t>24</a:t>
            </a:fld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/SAIG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AF8-8145-48A5-9D9D-5BDC8967EA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estions and Com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information while at the con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Session 49 – FAA Access to CPS Online and the ISIR Data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to the PC Lab for assistanc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G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56E-6D9B-42D3-A229-C71A551C6413}" type="slidenum">
              <a:t>26</a:t>
            </a:fld>
          </a:p>
        </p:txBody>
      </p:sp>
    </p:spTree>
  </p:cSld>
  <p:transition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5562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ands-on Exercis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E28-39A9-4FF9-9D02-9B133ADE5948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5562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EDExpress and FAA Access Enhancements for 2005-2006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6A4-26A1-4A6D-AFA0-9AD74712FE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curing FAA Identifier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’s SSN and DOB will be masked (will appear as asterisks) on the FAA logi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2895480"/>
          <a:ext cx="68864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68864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379-E4E6-4581-ABD4-FFDD1CBFFF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curing FAA Identifier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2438280"/>
          <a:ext cx="38102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438280"/>
                    <a:ext cx="38102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0384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00200" y="5181480"/>
          <a:ext cx="6172200" cy="14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181480"/>
                    <a:ext cx="617220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581280" y="4114800"/>
            <a:ext cx="4572000" cy="609480"/>
          </a:xfrm>
          <a:prstGeom prst="rect">
            <a:avLst/>
          </a:prstGeom>
          <a:solidFill>
            <a:srgbClr val="e9f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981080"/>
            <a:ext cx="763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114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7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authentication data has been encrypted within the EDExpress Access database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DExpress Access Database has been password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CFC-3D06-4B1A-B0E4-4BCEF3FB99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ew Web link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links from EDExpress to the R2T4 and ISIR Analysis Tool home 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FAA provides authenticating data in EDExpress setup, the FAA will be able to link directly to the home pages, bypassing the FAA Access login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514-6462-45AF-9AB2-C7F81C9F2E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e-filling Demographic Dat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 data from the open record in EDExpress is pre-filled into an initial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inking to FAA Access via the FAFSA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overwrite what is already in a Renewal or Correction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F92-4BD2-42BF-9962-0FAE7D81F9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cessing Saved Record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s entered and saved prior to submission can now be retrie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going to FAA Access directly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linking to FAA Access through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whether the record was entered and saved from the EDExpress interface or directly into FA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BBC-CA23-40C8-8461-BDBB6000F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implified Data Entry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he number of keystrokes for those who use the keyboard to navigate through a recor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initial cursor focus to the first entry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the Ste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the Student and Parent Taxes Paid Calculation buttons to the bottom of th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filling the “Born before?” question based on the Date of Bi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23C-C0A9-4377-80D2-265042AC1E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0:48:40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02788845</vt:r8>
  </property>
  <property fmtid="{D5CDD505-2E9C-101B-9397-08002B2CF9AE}" pid="3" name="_AuthorEmail">
    <vt:lpwstr>eric.smith@pearson.com</vt:lpwstr>
  </property>
  <property fmtid="{D5CDD505-2E9C-101B-9397-08002B2CF9AE}" pid="4" name="_AuthorEmailDisplayName">
    <vt:lpwstr>Smith, Eric M.</vt:lpwstr>
  </property>
  <property fmtid="{D5CDD505-2E9C-101B-9397-08002B2CF9AE}" pid="5" name="_EmailSubject">
    <vt:lpwstr>FAA Access Hands-on Session Presentation and Exercises</vt:lpwstr>
  </property>
</Properties>
</file>