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1643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1640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0356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4059000" y="0"/>
            <a:ext cx="310356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206360" y="696600"/>
            <a:ext cx="4749840" cy="35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55440" y="4492440"/>
            <a:ext cx="5251320" cy="4259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-360" y="8983800"/>
            <a:ext cx="310356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4059000" y="8983800"/>
            <a:ext cx="310356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CA99C59-CCB0-4772-BD1A-A97DEE2B1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19320" y="685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55440" y="4492440"/>
            <a:ext cx="525132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4419720"/>
            <a:ext cx="4724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SAIG mailboxing system stores files in two separate databas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ssages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files in available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d files less than 10 days ol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 files up to 180 days ol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tored 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chive Databa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files received and 10 or more days 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3BD-71DD-4A2B-92B4-832D184F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B868-0E94-4236-8A1D-E0A53CE9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0801-8A77-4352-ADA3-B8E6A71F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9A7-4595-4BCC-BE7F-E22F4743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B022-94CF-47A4-895C-D7688B2E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BCCD-9327-4459-BB54-74774596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6FEB-89EF-4219-817D-C6887EE3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892F-5E3C-4E9F-9F08-465497FB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D3FD-1CB0-47FA-9D6F-69465F84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2A7E-C8C3-41FF-934D-173E2FBC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2767-2E01-42C6-8FE4-ACADE414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9435-8DFD-4886-86E8-3382C149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781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762120"/>
            <a:ext cx="8305920" cy="7617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905120"/>
            <a:ext cx="4724640" cy="1522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6320" y="76320"/>
          <a:ext cx="137160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76320"/>
                    <a:ext cx="13716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F663-15AE-4A91-AEEA-E5BBFC281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0"/>
            <a:ext cx="1447920" cy="6705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666880"/>
            <a:ext cx="822960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4648320"/>
            <a:ext cx="4724280" cy="1522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24480" y="533520"/>
          <a:ext cx="2514600" cy="13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33520"/>
                    <a:ext cx="25146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SaigComments@ed.gov" TargetMode="External"/><Relationship Id="rId2" Type="http://schemas.openxmlformats.org/officeDocument/2006/relationships/hyperlink" Target="mailto:cpssaig@ed.gov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 SAIG Tools: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EDconnect v6.02 Hands-on and TDCommunityManager (TDCM) Hands-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792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ydia M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e R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858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6705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Agenda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aging your mailb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connect v6.02 Hands-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DCM Hands-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9511-08AC-464D-BA35-0514FFB628F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Overview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aging your Transmi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 tra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ng transmission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ing trans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oring lost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BBBC-D4F2-4B78-AEFA-DED4A92CA4B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Understanding mailbox storag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259056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s Tab (TD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lbox Query View (EDconn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File View (EDconn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Log View (EDconn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724280" y="2133360"/>
            <a:ext cx="3810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ved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ve Tab (TD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520" y="2666880"/>
          <a:ext cx="3962160" cy="3733920"/>
        </p:xfrm>
        <a:graphic>
          <a:graphicData uri="http://schemas.openxmlformats.org/drawingml/2006/table">
            <a:tbl>
              <a:tblPr/>
              <a:tblGrid>
                <a:gridCol w="3962160"/>
              </a:tblGrid>
              <a:tr h="373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648320" y="2666880"/>
          <a:ext cx="3962160" cy="3733920"/>
        </p:xfrm>
        <a:graphic>
          <a:graphicData uri="http://schemas.openxmlformats.org/drawingml/2006/table">
            <a:tbl>
              <a:tblPr/>
              <a:tblGrid>
                <a:gridCol w="3962160"/>
              </a:tblGrid>
              <a:tr h="373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429000" y="5029200"/>
            <a:ext cx="380880" cy="37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895480" y="3200400"/>
            <a:ext cx="39384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DAD8-7DB5-4229-B0AE-33783586BB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-0.05333 C 0.081 -0.06533 0.102 -0.072 0.124 -0.072 C 0.149 -0.072 0.169 -0.06533 0.183 -0.05333 L 0.25 0 E">
                                      <p:cBhvr>
                                        <p:cTn id="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81481E-006 L 0.06701 -0.05325 C 0.08107 -0.06528 0.10208 -0.072 0.12396 -0.072 C 0.14896 -0.072 0.16892 -0.06528 0.18298 -0.05325 L 0.25 4.81481E-006 E">
                                      <p:cBhvr>
                                        <p:cTn id="10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EDconnect 6.02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Hands-on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tall v6.0 prior to installing v6.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tored ability to modify the message class file path and combine feature in Message Class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chive View renamed to Receive File 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945F-5769-4A0C-8BBA-F29D25DA49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DCommunityManager</a:t>
            </a: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(TDCM) – Hands on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209680"/>
            <a:ext cx="70866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0560" indent="-52056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 F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e cause of file transmission err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tore f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BBBA-B7CC-4459-A271-969D90F6F0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6705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echnical Assistance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ppreciate your feedback and commen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SaigComments@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Help ca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S/SAIG Technic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800-330-59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x: 319-665-76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2"/>
              </a:rPr>
              <a:t>cpssaig@ed.gov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45D1-2ABC-45BC-B06D-62B6E1872746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12-14T20:43:31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02947959</vt:r8>
  </property>
  <property fmtid="{D5CDD505-2E9C-101B-9397-08002B2CF9AE}" pid="3" name="_AuthorEmail">
    <vt:lpwstr>sue.rager@pearson.com</vt:lpwstr>
  </property>
  <property fmtid="{D5CDD505-2E9C-101B-9397-08002B2CF9AE}" pid="4" name="_AuthorEmailDisplayName">
    <vt:lpwstr>Rager, Sue</vt:lpwstr>
  </property>
  <property fmtid="{D5CDD505-2E9C-101B-9397-08002B2CF9AE}" pid="5" name="_EmailSubject">
    <vt:lpwstr>EAC pres and hands-on handout for SAIG</vt:lpwstr>
  </property>
</Properties>
</file>