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1640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035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4059000" y="0"/>
            <a:ext cx="31035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206360" y="69660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55440" y="4492440"/>
            <a:ext cx="5251320" cy="425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983800"/>
            <a:ext cx="31035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4059000" y="8983800"/>
            <a:ext cx="310356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5FF0449-2671-4B2C-84F3-72BEDB719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19320" y="685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55440" y="4492440"/>
            <a:ext cx="52513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4419720"/>
            <a:ext cx="4724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SAIG mailboxing system stores files in two separate databas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ssages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files in available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d files less than 10 days o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 files up to 180 days o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tored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chive Databa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files received and 10 or more days 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23C-2C3D-4B1A-AF77-515BA31F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C06-C7B1-469B-B83D-2F493790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E78-79D0-480C-892B-A3401264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8E6-9CE4-4431-B38F-75D92F8F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E02-4C88-4219-BA1B-931AA372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2D9-59A8-4937-BFFA-1164E9DB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F33F-8069-4580-B858-72C7C1D5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680-A7F6-49DA-AD5F-BB764B29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2D6-AA3D-4246-8DD9-51C121C3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F81-845B-4AE5-BD8B-36C831D1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8A3-11A2-4EDB-A71B-2B7C337A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CAB-9907-4F66-BA27-E60D0046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337E-6FCC-45C9-922A-1D4D669A3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SaigComments@ed.gov" TargetMode="External"/><Relationship Id="rId2" Type="http://schemas.openxmlformats.org/officeDocument/2006/relationships/hyperlink" Target="mailto:cpssaig@ed.gov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SAIG Tools: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EDconnect v6.02 Hands-on and TDCommunityManager (TDCM) Hands-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dia M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e R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Agenda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ing your mail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connect v6.02 Hands-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DCM Hands-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292-B33E-4C8D-B89D-7F6895AE885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ing your Trans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 tra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ng transmiss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ing 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ing los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C8F-A183-4A16-A154-5188532AEB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nderstanding mailbox storag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25905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s Tab (TD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box Query View (EDconn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File View (EDconn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Log View (EDconn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724280" y="2133360"/>
            <a:ext cx="3810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ve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ve Tab (TD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2666880"/>
          <a:ext cx="3962160" cy="3733920"/>
        </p:xfrm>
        <a:graphic>
          <a:graphicData uri="http://schemas.openxmlformats.org/drawingml/2006/table">
            <a:tbl>
              <a:tblPr/>
              <a:tblGrid>
                <a:gridCol w="396216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648320" y="2666880"/>
          <a:ext cx="3962160" cy="3733920"/>
        </p:xfrm>
        <a:graphic>
          <a:graphicData uri="http://schemas.openxmlformats.org/drawingml/2006/table">
            <a:tbl>
              <a:tblPr/>
              <a:tblGrid>
                <a:gridCol w="3962160"/>
              </a:tblGrid>
              <a:tr h="37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29000" y="5029200"/>
            <a:ext cx="380880" cy="37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9384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949-AF34-47DE-8038-87B55DED55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L 0.06701 -0.05325 C 0.08107 -0.06528 0.10208 -0.072 0.12396 -0.072 C 0.14896 -0.072 0.16892 -0.06528 0.18298 -0.05325 L 0.25 4.81481E-006 E">
                                      <p:cBhvr>
                                        <p:cTn id="1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Dconnect 6.02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Hands-o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all v6.0 prior to installing v6.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ored ability to modify the message class file path and combine feature in Message Class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ve View renamed to Receive File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C6B-570D-4BB5-8293-ABCFC0D17F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DCommunityManager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(TDCM) – Hands o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20968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5205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e cause of file transmission err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ore 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B8C-9246-4732-93D1-B72CE5A5BC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echnical Assistance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SaigComments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Help c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S/SAIG Technic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800-330-59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319-665-7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cpssaig@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083-B233-4CD2-824E-C3C2CE7C0815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0:43:31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02947959</vt:r8>
  </property>
  <property fmtid="{D5CDD505-2E9C-101B-9397-08002B2CF9AE}" pid="3" name="_AuthorEmail">
    <vt:lpwstr>sue.rager@pearson.com</vt:lpwstr>
  </property>
  <property fmtid="{D5CDD505-2E9C-101B-9397-08002B2CF9AE}" pid="4" name="_AuthorEmailDisplayName">
    <vt:lpwstr>Rager, Sue</vt:lpwstr>
  </property>
  <property fmtid="{D5CDD505-2E9C-101B-9397-08002B2CF9AE}" pid="5" name="_EmailSubject">
    <vt:lpwstr>EAC pres and hands-on handout for SAIG</vt:lpwstr>
  </property>
</Properties>
</file>