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D12-F6F7-4AD3-87EE-C439CE4F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8AD-3FD8-44FC-A386-8E56E2FC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480-C8C8-4A5C-A794-8CCBFDE5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44B-F237-46EC-92EA-153E4AC0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2E5-D2FD-4DF0-9B38-E97843AC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46D-5583-46E3-8375-C94FE8BB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3DE-7D11-4603-8773-FAEE43AF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6BEB-0E1E-4E07-AB42-C7CF7CE5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C9A-1CB7-46D1-9D3F-C496797D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E00-4D2C-4BBA-A7C0-0C7F1B94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ECE-D0A8-469A-8A9D-DCCBA612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60E0-4948-4D1F-9737-074B90D9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069E-1E55-40D0-965F-01A4D1AED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324480" y="15228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15228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ligcert.ed.gov/" TargetMode="External"/><Relationship Id="rId2" Type="http://schemas.openxmlformats.org/officeDocument/2006/relationships/hyperlink" Target="http://www.eligcert.ed.gov/" TargetMode="External"/><Relationship Id="rId3" Type="http://schemas.openxmlformats.org/officeDocument/2006/relationships/hyperlink" Target="http://www.eligcert.ed.gov/" TargetMode="External"/><Relationship Id="rId4" Type="http://schemas.openxmlformats.org/officeDocument/2006/relationships/hyperlink" Target="http://www.eligcert.ed.gov/" TargetMode="External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810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Federal Update</a:t>
            </a: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520" y="304776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n Madze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tsecondary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y J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eff B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deral Student 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0666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19320" y="838080"/>
            <a:ext cx="6781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Reauthor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133720"/>
            <a:ext cx="8382240" cy="56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49360" indent="-2349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.L. 108-366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tends the HEA through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ptember 30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0862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gned by the President on  October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49360" indent="-2349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49360" indent="-2349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.L. 108-409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es the Tax-exemp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pecial Allowance Rule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pands Teacher Lo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g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0862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gned by the President on October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E45-7FA9-42A9-B0B0-75195DD0A2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7621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Reauthor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House Pas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H.R. 438   –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Recruitment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Retention Act – July 9, 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H.R. 2211 –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Ready to Teach Act – July 9, 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H.R. 3076 –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Graduate Opportunities in Hig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 Act – October 23, 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H.R. 3077 –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Studies in Highe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 Act – October 21, 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3C1-E8D4-4FE2-A3C0-2BFF88121AE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7621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Reauthor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In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057400"/>
            <a:ext cx="762012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0" indent="-2286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0" indent="-2286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.R. 3039 – Expanding Opportunities   in Higher Education 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0" indent="-2286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0" indent="-2286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.R. 3311 – Affordability in Higher Education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0" indent="-2286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0" indent="-2286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.R. 4283 – College Access and Opportunity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9B8F-E365-47AA-B265-EAEA705A8EF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On the Horizo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347400" indent="-347400">
              <a:lnSpc>
                <a:spcPct val="9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-exempt Special Allow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9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Loan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9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Tax Tables for 2005-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9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ll Grant Payment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9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pus-Based A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9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EDS Redesign of Student Data:  Feasibility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310-53F7-4614-97A9-4F23CE79630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Default Rat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7C3-F128-42C4-9F0C-9853ABF64B34}" type="slidenum">
              <a:t>14</a:t>
            </a:fld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06560" y="1143000"/>
            <a:ext cx="51732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39760" y="1143000"/>
            <a:ext cx="5176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1143000"/>
            <a:ext cx="5158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73320" y="1143000"/>
            <a:ext cx="5158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57440" y="1143000"/>
            <a:ext cx="5158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06880" y="1143000"/>
            <a:ext cx="5158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0" y="1143000"/>
            <a:ext cx="5176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8640" y="1143000"/>
            <a:ext cx="5176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22760" y="1143000"/>
            <a:ext cx="5158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1143000"/>
            <a:ext cx="5158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6320" y="1143000"/>
            <a:ext cx="5158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05760" y="1143000"/>
            <a:ext cx="5158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88080" y="1143000"/>
            <a:ext cx="5176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21640" y="1143000"/>
            <a:ext cx="51732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91440" y="1143000"/>
            <a:ext cx="5176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228600"/>
            <a:ext cx="7543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National Student Loan Defaul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219320"/>
            <a:ext cx="79246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0    1991    1992    1993   1994   1995    1996    1997   1998    1999   2000    2001    2002   2003   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520" y="1776240"/>
          <a:ext cx="840240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76240"/>
                    <a:ext cx="84024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8051760" y="4653000"/>
            <a:ext cx="635040" cy="714240"/>
          </a:xfrm>
          <a:prstGeom prst="irregularSeal1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ctr">
            <a:noAutofit/>
          </a:bodyPr>
          <a:p>
            <a:pPr algn="ctr"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279000" y="2698560"/>
            <a:ext cx="3279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6640" tIns="13320" bIns="1332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8420-729F-4ACB-BD5E-3CC78DC1A29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Default Rate by Sector</a:t>
            </a: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 Black"/>
              </a:rPr>
              <a:t>(FY 2000-2002)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        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90720" y="2209680"/>
          <a:ext cx="7315200" cy="4059360"/>
        </p:xfrm>
        <a:graphic>
          <a:graphicData uri="http://schemas.openxmlformats.org/drawingml/2006/table">
            <a:tbl>
              <a:tblPr/>
              <a:tblGrid>
                <a:gridCol w="2465280"/>
                <a:gridCol w="1625760"/>
                <a:gridCol w="1652400"/>
                <a:gridCol w="1571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Typ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Y 2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Y 20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Y 200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– 2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– 4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– 2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– 4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riet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3CE-12C5-4938-98BB-1AD6615C921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18960" y="2514600"/>
            <a:ext cx="6629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CPS Policy Issu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E01-49F4-40C6-B13E-741CBBF16F20}" type="slidenum">
              <a:t>17</a:t>
            </a:fld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9320" y="199404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rimary EFC – EFC applicant is statutorily entitled t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26360" indent="-322200">
              <a:lnSpc>
                <a:spcPct val="95000"/>
              </a:lnSpc>
              <a:spcBef>
                <a:spcPts val="162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gular EFC – Uses all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6360" indent="-322200">
              <a:lnSpc>
                <a:spcPct val="90000"/>
              </a:lnSpc>
              <a:spcBef>
                <a:spcPts val="162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ified Needs Test EFC – Uses all data    except ass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6360" indent="-322200">
              <a:lnSpc>
                <a:spcPct val="90000"/>
              </a:lnSpc>
              <a:spcBef>
                <a:spcPts val="162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to Zero EFC – EFC equals zero regardless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63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f other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ary EFC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lculated when data on the application support an EFC calculation under the Simplified Needs Test (SNT) but there is sufficient asset data to calculate a ‘Regular” EF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43000" y="83772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Secondary EFC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AF9-8B53-49F2-8BA5-190D5348561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Secondary EFC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203184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74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ary EFC will still be reported on ISIR, but –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95000"/>
              </a:lnSpc>
              <a:spcBef>
                <a:spcPts val="162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y not be used to pay Title IV ai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95000"/>
              </a:lnSpc>
              <a:spcBef>
                <a:spcPts val="162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f flagged on COD record, will be igno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74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f student not eligible for SNT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or Auto Zero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spcBef>
                <a:spcPts val="675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rrections to records must be submitted to C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spcBef>
                <a:spcPts val="675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yment made on resultant transaction where regular EFC will be reported as primary EF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A32-C547-44AD-88FF-B8BF79C91B2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Agenda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7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ional Budget &amp; Legis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7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icy &amp; Operational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7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Analysis &amp; U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98D-0A37-4C59-AB08-A86E572A511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SSN Match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 requires match with 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that identifiers be 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e as 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ers flow through ai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FSA to CPS to ISIR to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to COD (Pell and DL) or FF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, COD, or FFEL to P-N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der (DL or FFEL) to Loa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B9B-6728-4C16-BB10-62DD5D7E283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228600" y="2209680"/>
          <a:ext cx="8686800" cy="3286080"/>
        </p:xfrm>
        <a:graphic>
          <a:graphicData uri="http://schemas.openxmlformats.org/drawingml/2006/table">
            <a:tbl>
              <a:tblPr/>
              <a:tblGrid>
                <a:gridCol w="4419720"/>
                <a:gridCol w="2133360"/>
                <a:gridCol w="2133720"/>
              </a:tblGrid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PS Process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-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5-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61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SN not in SSA database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Hard Reject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Hard Reje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SN for deceased pers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Hard Reject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Hard Reject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OB does not match S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erifiable Reject</a:t>
                      </a: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erifiable Reject*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ame does not match S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” Flag ISIR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erifiable Reject*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5800" y="5638680"/>
            <a:ext cx="7086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If verified, new transaction results in a “C” Flag IS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SSN Match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410-22EA-4B6E-A205-CC1C6490B4C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39320" y="199404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en no positive match with VA –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urrent (2004-05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PS changes Question 54 to ‘No’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tudent now depend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Usually reject – no parent signa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tudent provides proof (DD214) to FAA who does a dependency overr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143000" y="83772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Veteran’s Match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1C8-BF8B-4500-A540-646D292CB5E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9320" y="199404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en no positive match with VA –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New (2005-06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No change to Question 5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tudent remains independ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mment and ‘C’ Co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tudent provides proof (DD214) to FA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f no proof, FAA changes Question 5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arental signatures and data need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43000" y="83772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Veteran’s Match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035-C8EB-46F7-8415-503479A97DD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62120" y="2742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Recent Letters</a:t>
            </a:r>
            <a:r>
              <a:rPr b="1" lang="en-US" sz="54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805-54CB-4320-9DD9-07EE17DAB010}" type="slidenum">
              <a:t>24</a:t>
            </a:fld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Recent Letters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ampus Based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28600" y="21333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B-04-12 (Nov) FISAP Ed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B-04-11 (Sep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fault Reduction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B-04-10 (Sep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lemental Aw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B-04-09 (Jun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5-06 FIS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B-05-08 (Jun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3-04 CB Real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B-04-07 (May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erkins Loan Cancell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B-04-06 (Apr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2-03 Close Ou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B-04-05 (Mar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4-05 FWS C/S Wai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2AE-691D-4528-A61D-E32C9891BB1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Recent Letters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General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13 (Nov) Ordering FAF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12 (Nov) GEN-04-03 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11 (Oct) Reporting of Foreign G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10 (Sep) Use of ED-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09 (Sep) Recent Hurric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08 (Sep) Required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07 (Jul)  Ombudsman Contact Inf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06 (Jul)  XML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04 (Feb) Disaster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03 (Feb) Return of Title IV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95F-00CD-4D57-97D0-5EEB4A0CAE0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Foreign Gift Reporting</a:t>
            </a: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(GEN-04-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7FB-D947-4A28-84F8-4CC8F0F58BF7}" type="slidenum">
              <a:t>27</a:t>
            </a:fld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2193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Foreign Gift Reporting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06440" indent="-406440">
              <a:spcBef>
                <a:spcPts val="1162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43080">
              <a:lnSpc>
                <a:spcPct val="100000"/>
              </a:lnSpc>
              <a:spcBef>
                <a:spcPts val="286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quired by section 117 of the HE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43080">
              <a:lnSpc>
                <a:spcPct val="100000"/>
              </a:lnSpc>
              <a:spcBef>
                <a:spcPts val="13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dition of Title IV particip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162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Who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43080">
              <a:lnSpc>
                <a:spcPct val="100000"/>
              </a:lnSpc>
              <a:spcBef>
                <a:spcPts val="286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ll domestic institutions that offer a bachelor's degree or higher, or that offer a transfer program of not less than two years that is acceptable for credit toward a bachelor's degree, are required to repor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162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riggers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43080">
              <a:lnSpc>
                <a:spcPct val="100000"/>
              </a:lnSpc>
              <a:spcBef>
                <a:spcPts val="286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ust report if total of all gifts/contracts with a foreign source exceeds $250,000 in any calendar year or it is owned or controlled by a foreign sour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2362320" y="-914400"/>
            <a:ext cx="152280" cy="4876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84A-1B39-4473-A8F3-3817963CC42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2193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2362320" y="-914400"/>
            <a:ext cx="152280" cy="4876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Foreign Gift Reporting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406440">
              <a:spcBef>
                <a:spcPts val="1162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ct val="90000"/>
              </a:lnSpc>
              <a:spcBef>
                <a:spcPts val="286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o later than the January 31 or July 31, whichever is sooner, that immediately follows the activity that triggers the need for a repor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406440">
              <a:spcBef>
                <a:spcPts val="964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ct val="90000"/>
              </a:lnSpc>
              <a:spcBef>
                <a:spcPts val="286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e FSA's electronic application process (eAPP) (www.eligcert.ed.gov). Submit the report electronically and mail in the signature page to the address provid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406440">
              <a:spcBef>
                <a:spcPts val="964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re Information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ct val="90000"/>
              </a:lnSpc>
              <a:spcBef>
                <a:spcPts val="286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ase Management Team for your State. The telephone numbers for the Case Teams can be found at </a:t>
            </a:r>
            <a:r>
              <a:rPr b="0" lang="en-US" sz="23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3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eligcert</a:t>
            </a:r>
            <a:r>
              <a:rPr b="0" lang="en-US" sz="23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.ed.</a:t>
            </a:r>
            <a:r>
              <a:rPr b="0" lang="en-US" sz="23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g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285-DA0E-4ADF-B028-A0A9B522CA4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 Black"/>
              </a:rPr>
              <a:t>Program Budg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FY ’0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(2005-2006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DB3-BBAC-4825-AD92-1493852AB77E}" type="slidenum">
              <a:t>3</a:t>
            </a:fld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Use of P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(GEN-04-1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197-B771-4D01-AB5C-02E84CFC80D7}" type="slidenum">
              <a:t>30</a:t>
            </a:fld>
          </a:p>
        </p:txBody>
      </p:sp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Requesting and Using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an ED-PI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-PIN Use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part of electronic sig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access Privacy Act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or must be PIN-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be sent to PIN-Owner (email, USP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used by PIN-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EA3-41D6-4FE3-8DAD-4736F1E74C9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2362320"/>
            <a:ext cx="6324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102888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ED-PIN Compromised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93840">
              <a:lnSpc>
                <a:spcPct val="90000"/>
              </a:lnSpc>
              <a:spcBef>
                <a:spcPts val="14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02888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Issue ED-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93840">
              <a:lnSpc>
                <a:spcPct val="90000"/>
              </a:lnSpc>
              <a:spcBef>
                <a:spcPts val="14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02888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-Activate ED-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93840">
              <a:lnSpc>
                <a:spcPct val="90000"/>
              </a:lnSpc>
              <a:spcBef>
                <a:spcPts val="14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02888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alidate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427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102888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  <a:tab algn="l" pos="7010280"/>
                <a:tab algn="l" pos="7302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FS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427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102888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  <a:tab algn="l" pos="7010280"/>
                <a:tab algn="l" pos="7302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Requesting and Using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an ED-PI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F18-60DF-4B93-A357-4E58342D51F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System Requirem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(GEN-04-08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939-58C4-4098-A3CF-DE5D6C1D7D3E}" type="slidenum">
              <a:t>33</a:t>
            </a:fld>
          </a:p>
        </p:txBody>
      </p:sp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System Requirements 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ear Partner Letter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213336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um and Optimal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buNone/>
              <a:tabLst>
                <a:tab algn="l" pos="0"/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Desktop P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93840"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93840"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93840"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2005-2006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9384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schools use COD Common Record –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9384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schools must submit audits and financial statements using eZ-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5000"/>
              </a:lnSpc>
              <a:buNone/>
              <a:tabLst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2A7-2C55-485C-8C8C-873043E5FB7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2193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2361960" y="-838080"/>
            <a:ext cx="152640" cy="4876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System Requirements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inimu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pti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Compati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/AMD Compa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 GHz Spe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4 – 2.80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2 MB 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GB SD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 GB Hard Dr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 GB 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 Kbps Mod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L Line or High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5/1.44 MB Disk Dr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5/1.44 MB Disk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GA Moni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GA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Keyp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er Printer (8.5 x 1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er Printer (8.5 x 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x CD-ROM Dri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x CD-ROM Dr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460-01E8-403C-A5F2-874483AA7C3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System Requirements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Operating System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SA Support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91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91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XP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SA Supports Until July 1, 2006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91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91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98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91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SA Does Not Support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91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91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XP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9ED-3526-4AE7-A806-47CD7E01CE4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Compliance Initia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850-A4B7-4F1D-BE8A-6D54ABD5ADC0}" type="slidenum">
              <a:t>37</a:t>
            </a:fld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30481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ze data to detect unusual characteristics for indication of risk for non-comp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ct-find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el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oversight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7621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ompliance Initiat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2209680"/>
            <a:ext cx="723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INCREASE IN PROGRAM INTEGR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C19-4171-4E59-B348-8F734EDA5EE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3160" y="2133360"/>
            <a:ext cx="792468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97160" indent="-397440">
              <a:lnSpc>
                <a:spcPct val="90000"/>
              </a:lnSpc>
              <a:spcBef>
                <a:spcPts val="12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ederal Perkins Loans in default for ten or mor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7160" indent="-397440">
              <a:lnSpc>
                <a:spcPct val="90000"/>
              </a:lnSpc>
              <a:spcBef>
                <a:spcPts val="12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Dependency overrides or professional judgment exercised at rates substantially above the national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7160" indent="-397440">
              <a:lnSpc>
                <a:spcPct val="90000"/>
              </a:lnSpc>
              <a:spcBef>
                <a:spcPts val="12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losed School Loan Discharges paid to students where main location remains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7160" indent="-397440">
              <a:lnSpc>
                <a:spcPct val="90000"/>
              </a:lnSpc>
              <a:spcBef>
                <a:spcPts val="12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ame AGI reported on FAFSAs from year to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7621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ypes of Data Anoma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CC7-920D-4274-A96E-E43EF6081AE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705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FY ’05 Appropriations Statu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243792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703800" indent="-351720">
              <a:lnSpc>
                <a:spcPct val="95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52056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.J. Res. 10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ed by the Presid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tember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3800" indent="0">
              <a:lnSpc>
                <a:spcPct val="95000"/>
              </a:lnSpc>
              <a:buNone/>
              <a:tabLst>
                <a:tab algn="l" pos="0"/>
                <a:tab algn="l" pos="52056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3800" indent="-351720">
              <a:lnSpc>
                <a:spcPct val="95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52056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.R. 481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olidated Appropria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 Conference Repo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3800" indent="0">
              <a:lnSpc>
                <a:spcPct val="95000"/>
              </a:lnSpc>
              <a:buNone/>
              <a:tabLst>
                <a:tab algn="l" pos="0"/>
                <a:tab algn="l" pos="52056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3800" indent="-351720">
              <a:lnSpc>
                <a:spcPct val="95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52056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.J. Res. 11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 Signed by the Presid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E6E-A703-4858-B3BE-E7EC89A0DA0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31520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457200">
              <a:spcBef>
                <a:spcPts val="876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ges of applica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876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irst year Stafford Loans &gt;$2,6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876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tafford Loans not prorated for shor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876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No NSLDS Transfer Monitoring pro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876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7621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Data Anomalies 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1CD-689E-4107-8FAC-563172A01CF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Experimental Si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F50-6EA4-4173-836B-071DF1FE4D70}" type="slidenum">
              <a:t>41</a:t>
            </a:fld>
          </a:p>
        </p:txBody>
      </p:sp>
    </p:spTree>
  </p:cSld>
  <p:transition spd="med"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14400" y="2362320"/>
            <a:ext cx="693432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 limited number of institutions participate voluntarily as experimental sites to provide recommendations to the Secretary on the impact and effectiveness of proposed regulations or new management initia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762120"/>
            <a:ext cx="640080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xperimental Sites 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Section 487A(b) H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960-C0A1-4997-A8BC-1C2D8120CFE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12193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2361960" y="-838080"/>
            <a:ext cx="152640" cy="4876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1752480"/>
            <a:ext cx="850896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Experi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ility to Benefit 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eraward Toler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rance Loan Counse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t Loan Counse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Disbursement for Single Term Lo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rty-Day Del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an Fees in Cost of Attend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an Proration for Graduating Borrow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dit Title IV Aid to Institutional Char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dit Title IV Aid to Prior Term Char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6858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xperimental Si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879-4E79-419A-A389-748D60063A0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IRS Ma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E10-8C5B-42B7-A9CB-D3EDD6545683}" type="slidenum">
              <a:t>44</a:t>
            </a:fld>
          </a:p>
        </p:txBody>
      </p:sp>
    </p:spTree>
  </p:cSld>
  <p:transition spd="med"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90720" y="762120"/>
            <a:ext cx="744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 Black"/>
              </a:rPr>
              <a:t>IRS Match</a:t>
            </a: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4600" y="2286000"/>
            <a:ext cx="74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wo Words to Remember -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3320" y="4724280"/>
            <a:ext cx="724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3366"/>
                </a:solidFill>
                <a:latin typeface="Arial"/>
              </a:rPr>
              <a:t>“ </a:t>
            </a:r>
            <a:r>
              <a:rPr b="1" i="1" lang="en-US" sz="7200" spc="-1" strike="noStrike">
                <a:solidFill>
                  <a:srgbClr val="003366"/>
                </a:solidFill>
                <a:latin typeface="Arial"/>
              </a:rPr>
              <a:t>Collaboration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240" y="3276720"/>
            <a:ext cx="61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n-US" sz="7200" spc="-1" strike="noStrike">
                <a:solidFill>
                  <a:srgbClr val="003366"/>
                </a:solidFill>
                <a:latin typeface="Arial"/>
              </a:rPr>
              <a:t>Uncertainty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F77-4045-4C73-BF33-1332D4BD88B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What is the Legal Status of FAFSA – IRS Match?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49200" indent="-349200">
              <a:lnSpc>
                <a:spcPct val="75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8 Reauthorization Allowed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evenue Code Section 6103 must be a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12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R 3613 – the “Student Aid Streamlined Disclosure Act of 2003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38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ed November 21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38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use Ways and Means Subcommittee on Overs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38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itation to 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38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80B-244C-4140-8E3C-3BA8103FECA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Tax Filer Remind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A61-6C9E-4C26-B671-8E77907F5E3B}" type="slidenum">
              <a:t>47</a:t>
            </a:fld>
          </a:p>
        </p:txBody>
      </p:sp>
    </p:spTree>
  </p:cSld>
  <p:transition spd="med"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133720"/>
            <a:ext cx="82296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encourage applicants to update CPS with actual tax return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ly after April 15, 2004 - One-time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 if applicant provided email address Paper if no email address provi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7621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ax Filer Remin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8E0-8E6A-4229-A131-96983A07DA0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2280" y="1981080"/>
            <a:ext cx="8991720" cy="50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and/or parent where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457200">
              <a:lnSpc>
                <a:spcPct val="13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ted tax filer on latest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457200">
              <a:lnSpc>
                <a:spcPct val="13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selected for ver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457200">
              <a:lnSpc>
                <a:spcPct val="13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professional jud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457200">
              <a:lnSpc>
                <a:spcPct val="13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graduate/professional stu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457200">
              <a:lnSpc>
                <a:spcPct val="13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C $6,000 or 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7621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ax Filer Remin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EFF-E8DF-43B9-BDDB-AF0FAEC5A69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238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Title IV Program Budgets</a:t>
            </a:r>
            <a:br>
              <a:rPr sz="4000"/>
            </a:b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Appropriatio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2311560"/>
          <a:ext cx="8382240" cy="302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11560"/>
                    <a:ext cx="838224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38080" y="5653080"/>
            <a:ext cx="7696440" cy="7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28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President's FY 05 Budget Submi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28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5 Final Conference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A47-D144-4AA3-B3B5-EE4A9C14D14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2133720"/>
            <a:ext cx="822960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ssag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 FAFSA information with tax 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cor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1141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or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update if school has asked for 1040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7621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ax Filer Remin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247-A522-4780-B01B-51BA21CC1BBD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66B-064F-47B5-B0F4-45BCDDF7B68A}" type="slidenum">
              <a:t>51</a:t>
            </a:fld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Title IV Program Budgets</a:t>
            </a:r>
            <a:br>
              <a:rPr sz="4000"/>
            </a:b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Aid Availab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25040" cy="4012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14400" y="62485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President's FY 05 Budget Sub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2F9-C430-4A6E-9311-3A082DFD313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286000"/>
            <a:ext cx="84582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952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33 Million for “Enhanced Pell Grants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3952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Campus-Based Formula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3952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Needs of Distance Lear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3952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WS Community Service 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3952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y “Drug Eligibility”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395280">
              <a:lnSpc>
                <a:spcPct val="7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762120"/>
            <a:ext cx="7620120" cy="10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FY 2005 Budget Requ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Programmatic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88F-1381-41D4-B0D1-02B1241F2D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2155680"/>
            <a:ext cx="853452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hase Out Above-Market Special Allow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crease Teacher Loan Forgive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bursement Relief for Low CDR Schoo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crease Loan Limi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roaden Repayment O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tain Variable Interest R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quire Insurance F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serve $3 Billion for Other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762120"/>
            <a:ext cx="7620120" cy="10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FY 2005 Budget Requ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Programmatic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EE7C-FAA7-4C41-98EC-A0C1AFD9280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Reauthoriz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EA9-E59C-4119-9DE8-C23CCA10038E}" type="slidenum">
              <a:t>9</a:t>
            </a:fld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0:38:58Z</dcterms:modified>
  <cp:revision>65</cp:revision>
  <dc:subject/>
  <dc:title>PowerPoint Presentation</dc:title>
</cp:coreProperties>
</file>