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B1F-641B-4FE2-9953-A979E53A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A2E-82A5-4086-A0A3-DBDA42CF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44C-B1E5-4E5E-BE8A-0DF60830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E73-BD76-48A9-96DA-D37A654B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433-7FB7-41B7-ACE1-8F2F36C7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5FA-A7A2-4B18-9B20-6F7971A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80D-BA82-41BD-9172-C9E6930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602-6013-4DD4-B57E-2EE67D24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1AD-FE38-40B4-B5B4-ADC57B4A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352-A698-4240-8836-DEDB25A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4C2-2AE6-409F-86AA-75B23D7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F6A-D52F-4E07-84F9-6FA9299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5490-49C8-4904-9693-26E8D6190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324480" y="15228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15228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ligcert.ed.gov/" TargetMode="External"/><Relationship Id="rId2" Type="http://schemas.openxmlformats.org/officeDocument/2006/relationships/hyperlink" Target="http://www.eligcert.ed.gov/" TargetMode="External"/><Relationship Id="rId3" Type="http://schemas.openxmlformats.org/officeDocument/2006/relationships/hyperlink" Target="http://www.eligcert.ed.gov/" TargetMode="External"/><Relationship Id="rId4" Type="http://schemas.openxmlformats.org/officeDocument/2006/relationships/hyperlink" Target="http://www.eligcert.ed.gov/" TargetMode="Externa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810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Federal Update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520" y="3047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secondary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y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ff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deral Student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19320" y="838080"/>
            <a:ext cx="6781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133720"/>
            <a:ext cx="8382240" cy="56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49360" indent="-2349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.L. 108-366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 the HEA through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30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62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gned by the President on  Octo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49360" indent="-2349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49360" indent="-2349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.L. 108-409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s the Tax-exemp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 Allowance Rul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ands Teacher Lo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g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6280" indent="-3430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gned by the President on October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6DE-3E61-490B-9778-D8F3C4E9FE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7621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House Pas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438  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Recruitment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tention Act – July 9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2211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ady to Teach Act – July 9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076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Graduate Opportunities in Hig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 Act – October 23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077 –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Studies in Highe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 Act – October 21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536-8FE7-47E9-BBF4-5960AAB182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762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In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057400"/>
            <a:ext cx="762012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039 – Expanding Opportunities   in Higher Education 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.R. 3311 – Affordability in Higher Educatio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.R. 4283 – College Access and Opportunit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4D8-F822-4EFA-B45D-3AB8BE859A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On the Horiz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-exempt Special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Loan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Tax Tables for 2005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ll Grant Payment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pus-Based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9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EDS Redesign of Student Data:  Feasi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704-49CE-4B0E-AC95-F8B718A23E4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Default Rat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2D1-511E-4D6B-97E4-3BE8EE51CE0B}" type="slidenum">
              <a:t>14</a:t>
            </a:fld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06560" y="1143000"/>
            <a:ext cx="51732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3976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7332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5744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688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864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276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632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5760" y="1143000"/>
            <a:ext cx="5158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8808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1640" y="1143000"/>
            <a:ext cx="51732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91440" y="1143000"/>
            <a:ext cx="51768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28600"/>
            <a:ext cx="75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ational Student Loan Defaul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219320"/>
            <a:ext cx="79246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    1991    1992    1993   1994   1995    1996    1997   1998    1999   2000    2001    2002   2003  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776240"/>
          <a:ext cx="840240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76240"/>
                    <a:ext cx="84024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051760" y="4653000"/>
            <a:ext cx="635040" cy="714240"/>
          </a:xfrm>
          <a:prstGeom prst="irregularSeal1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13320" bIns="13320" anchor="ctr">
            <a:noAutofit/>
          </a:bodyPr>
          <a:p>
            <a:pPr algn="ctr"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279000" y="2698560"/>
            <a:ext cx="327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6640" tIns="13320" bIns="1332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C37-0AE4-4617-9138-4B6AE81010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Default Rate by Sector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 Black"/>
              </a:rPr>
              <a:t>(FY 2000-2002)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      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2209680"/>
          <a:ext cx="7315200" cy="4059360"/>
        </p:xfrm>
        <a:graphic>
          <a:graphicData uri="http://schemas.openxmlformats.org/drawingml/2006/table">
            <a:tbl>
              <a:tblPr/>
              <a:tblGrid>
                <a:gridCol w="2465280"/>
                <a:gridCol w="1625760"/>
                <a:gridCol w="1652400"/>
                <a:gridCol w="1571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Ty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Y 2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Y 20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Y 200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– 2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– 4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– 2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– 4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ie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C1E-DFBE-4EE1-B89D-BB344D901A4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CPS Policy Issu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0D8-B06F-477A-8097-41B34F9C7DD4}" type="slidenum">
              <a:t>17</a:t>
            </a:fld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9320" y="199404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rimary EFC – EFC applicant is statutorily entitled t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-322200">
              <a:lnSpc>
                <a:spcPct val="95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gular EFC – Uses al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-322200">
              <a:lnSpc>
                <a:spcPct val="90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ied Needs Test EFC – Uses all data    except as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-322200">
              <a:lnSpc>
                <a:spcPct val="90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o Zero EFC – EFC equals zero regardless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63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f othe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ary EFC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ulated when data on the application support an EFC calculation under the Simplified Needs Test (SNT) but there is sufficient asset data to calculate a ‘Regular” EF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econdary EFC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2B2-C318-476E-B8D9-C5BA8EE9003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econdary EFC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203184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77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ary EFC will still be reported on ISIR, but 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y not be used to pay Title IV a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162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f flagged on COD record, will be igno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77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f student not eligible for SNT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or Auto Zero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675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rrections to records must be submitted to C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675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yment made on resultant transaction where regular EFC will be reported as primary EF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415-9202-4C89-A2C7-56D38F004A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4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ional Budget &amp;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y &amp; Operation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7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Analysis &amp;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0B3-D121-41C5-9684-4B9698A39D2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SN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 requires match with 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that identifiers be 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as 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ers flow through ai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FSA to CPS to ISIR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to COD (Pell and DL) or FF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, COD, or FFEL to P-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der (DL or FFEL) to Loa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728-FA04-4703-8E28-5AE0C060E6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28600" y="2209680"/>
          <a:ext cx="8686800" cy="3286080"/>
        </p:xfrm>
        <a:graphic>
          <a:graphicData uri="http://schemas.openxmlformats.org/drawingml/2006/table">
            <a:tbl>
              <a:tblPr/>
              <a:tblGrid>
                <a:gridCol w="4419720"/>
                <a:gridCol w="2133360"/>
                <a:gridCol w="2133720"/>
              </a:tblGrid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PS Process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-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-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SN not in SSA database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SN for deceased pers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Hard Reject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OB does not match S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ifiable Reject</a:t>
                      </a: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ifiable Reject*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ame does not match S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” Flag ISIR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erifiable Reject*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5638680"/>
            <a:ext cx="7086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If verified, new transaction results in a “C” Flag IS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SN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191-D5E1-4917-8F36-6A09AAF0ADC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9320" y="199404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en no positive match with VA 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urrent (2004-05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PS changes Question 54 to ‘No’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now depen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Usually reject – no parent signa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provides proof (DD214) to FAA who does a dependency overr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Veteran’s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579-04AB-4172-BA2F-E3FD6590DE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9320" y="199404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en no positive match with VA –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ew (2005-06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No change to Question 5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remains indepen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nt and ‘C’ Co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tudent provides proof (DD214) to FA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f no proof, FAA changes Question 5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arental signatures and data need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43000" y="8377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Veteran’s Mat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0E6-48D5-44E1-AC08-5EFBA0B111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Recent Letters</a:t>
            </a:r>
            <a:r>
              <a:rPr b="1" lang="en-US" sz="5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C0B-CB51-4865-A3CC-C115B5FB55FF}" type="slidenum">
              <a:t>24</a:t>
            </a:fld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Recent Letters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ampus Based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2860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12 (Nov) FISAP Ed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11 (Sep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ault Reduction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10 (Sep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lemental 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9 (Jun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5-06 FIS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5-08 (Jun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3-04 CB Re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7 (May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rkins Loan Cancel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6 (Apr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2-03 Close Ou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B-04-05 (Mar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4-05 FWS C/S Wa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D6F-47D8-4042-80B1-5FE3AACAFEA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cent Letter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Genera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3 (Nov) Ordering FAF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2 (Nov) GEN-04-03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1 (Oct) Reporting of Foreign G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10 (Sep) Use of ED-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9 (Sep) Recent Hurric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8 (Sep) Require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7 (Jul)  Ombudsman Contact Inf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6 (Jul)  XM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4 (Feb) Disaster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-04-03 (Feb) Return of Title IV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992-8E51-4A64-A083-E369C3AB2AF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Foreign Gift Reporting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(GEN-04-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435-1DB9-4169-A166-8F21035BB0C3}" type="slidenum">
              <a:t>27</a:t>
            </a:fld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oreign Gift Repor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06440" indent="-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28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quired by section 117 of the H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13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dition of Title IV particip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28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 domestic institutions that offer a bachelor's degree or higher, or that offer a transfer program of not less than two years that is acceptable for credit toward a bachelor's degree, are required to repor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iggers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43080">
              <a:lnSpc>
                <a:spcPct val="100000"/>
              </a:lnSpc>
              <a:spcBef>
                <a:spcPts val="28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ust report if total of all gifts/contracts with a foreign source exceeds $250,000 in any calendar year or it is owned or controlled by a foreign sour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2362320" y="-914400"/>
            <a:ext cx="15228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AD4-B04B-4F6E-8C92-29AF41980B2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2362320" y="-914400"/>
            <a:ext cx="15228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oreign Gift Repor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406440">
              <a:spcBef>
                <a:spcPts val="1162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90000"/>
              </a:lnSpc>
              <a:spcBef>
                <a:spcPts val="286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 later than the January 31 or July 31, whichever is sooner, that immediately follows the activity that triggers the need for a repor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406440">
              <a:spcBef>
                <a:spcPts val="96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90000"/>
              </a:lnSpc>
              <a:spcBef>
                <a:spcPts val="286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e FSA's electronic application process (eAPP) (www.eligcert.ed.gov). Submit the report electronically and mail in the signature page to the address provid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406440">
              <a:spcBef>
                <a:spcPts val="96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re Informatio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90000"/>
              </a:lnSpc>
              <a:spcBef>
                <a:spcPts val="286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se Management Team for your State. The telephone numbers for the Case Teams can be found at 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eligcert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ed.</a:t>
            </a:r>
            <a:r>
              <a:rPr b="0" lang="en-US" sz="23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g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4B9-3CB9-48F7-A7EC-CD474C01F8C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 Black"/>
              </a:rPr>
              <a:t>Program Budg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FY ’0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(2005-2006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739-9694-4C28-A934-998F06F3C49D}" type="slidenum">
              <a:t>3</a:t>
            </a:fld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Use of P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(GEN-04-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8EB-2F70-40E5-9587-6BBF53D70ED6}" type="slidenum">
              <a:t>30</a:t>
            </a:fld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questing and Using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an ED-PI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-PIN Used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part of electronic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ccess Privacy Act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or must be PIN-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sent to PIN-Owner (email, USP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used by PIN-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3C1-EFDD-4E83-BB07-0E70DE9F3FB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362320"/>
            <a:ext cx="6324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ED-PIN Compromised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0000"/>
              </a:lnSpc>
              <a:spcBef>
                <a:spcPts val="14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Issue ED-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0000"/>
              </a:lnSpc>
              <a:spcBef>
                <a:spcPts val="14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-Activate ED-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0000"/>
              </a:lnSpc>
              <a:spcBef>
                <a:spcPts val="14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02888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alidat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427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102888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FS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427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102888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  <a:tab algn="l" pos="7010280"/>
                <a:tab algn="l" pos="7302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Requesting and Using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an ED-PI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845-7FBF-4C6B-90DB-48F677ACE30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System Requir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(GEN-04-0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6BD-B48C-4F93-87DE-A1A9699EA668}" type="slidenum">
              <a:t>33</a:t>
            </a:fld>
          </a:p>
        </p:txBody>
      </p:sp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ystem Requirements </a:t>
            </a:r>
            <a:br>
              <a:rPr sz="40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ear Partner Lette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um and Optimal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buNone/>
              <a:tabLst>
                <a:tab algn="l" pos="0"/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Desktop P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2005-2006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chools use COD Common Record –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9384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chools must submit audits and financial statements using eZ-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5000"/>
              </a:lnSpc>
              <a:buNone/>
              <a:tabLst>
                <a:tab algn="l" pos="97776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  <a:tab algn="l" pos="85215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D77-3CDC-42AB-A0B6-039DEBADE7E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361960" y="-838080"/>
            <a:ext cx="15264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System Requirement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nimu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Compat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AMD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 GHz Spe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– 2.80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2 MB 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GB SD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 GB Hard Dr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 GB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 Kbps M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 Line or High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/1.44 MB Disk Dr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/1.44 MB Disk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GA Moni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GA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Keyp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er Printer (8.5 x 1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er Printer (8.5 x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x CD-ROM Dr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x CD-ROM Dr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B8E-1324-4479-A79C-218D5D94983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System Requirement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Operating System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A Support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XP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A Supports Until July 1, 200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98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A Does Not Support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919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XP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2EC-0214-4741-8FB8-78F15578891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Compliance 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3DD-EE06-4BEF-9F7A-BD87736F00E1}" type="slidenum">
              <a:t>37</a:t>
            </a:fld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3048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data to detect unusual characteristics for indication of risk for non-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ct-fin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oversight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762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ompliance Initiat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20968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CREASE IN PROGRAM INTEGR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BB4-4E94-4ACA-B622-1441B2FBF8C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792468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ederal Perkins Loans in default for ten or mor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ependency overrides or professional judgment exercised at rates substantially above the national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losed School Loan Discharges paid to students where main location remain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397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ame AGI reported on FAFSAs from year t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ypes of Data Anoma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085-9550-4552-A504-224902B17DC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05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Y ’05 Appropriations Statu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703800" indent="-35172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J. Res. 10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ed by the Presi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0">
              <a:lnSpc>
                <a:spcPct val="95000"/>
              </a:lnSpc>
              <a:buNone/>
              <a:tabLst>
                <a:tab algn="l" pos="0"/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-35172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R. 48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olidated Appropri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 Conference Re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0">
              <a:lnSpc>
                <a:spcPct val="95000"/>
              </a:lnSpc>
              <a:buNone/>
              <a:tabLst>
                <a:tab algn="l" pos="0"/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800" indent="-35172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2056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J. Res. 11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Signed by the Presi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91F-971F-4413-8E95-5093AF67003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31520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ges of applica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irst year Stafford Loans &gt;$2,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tafford Loans not prorated for shor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No NSLDS Transfer Monitoring pro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876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ata Anomalies 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38D-F577-4180-BEF6-1988F9C3D2E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Experimental Si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5AE-E6BD-44E3-92ED-7F5C32D20010}" type="slidenum">
              <a:t>41</a:t>
            </a:fld>
          </a:p>
        </p:txBody>
      </p:sp>
    </p:spTree>
  </p:cSld>
  <p:transition spd="med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2362320"/>
            <a:ext cx="693432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limited number of institutions participate voluntarily as experimental sites to provide recommendations to the Secretary on the impact and effectiveness of proposed regulations or new management initi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762120"/>
            <a:ext cx="64008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erimental Sites 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Section 487A(b) H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7E8-94FF-4005-802E-AF56CD8835F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2361960" y="-838080"/>
            <a:ext cx="152640" cy="487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752480"/>
            <a:ext cx="850896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Benefit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ward Toler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rance Loan Counse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t Loan Counse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bursement for Single Term Lo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rty-Day De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an Fees in Cost of Attend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an Proration for Graduating Borrow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Title IV Aid to Institutional Char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064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dit Title IV Aid to Prior Term Char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6858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erimental Si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5F6-0A83-4149-9F90-9CB384A2046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IRS Ma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05F-EDEA-4739-9E35-4E3B0CB40F77}" type="slidenum">
              <a:t>44</a:t>
            </a:fld>
          </a:p>
        </p:txBody>
      </p:sp>
    </p:spTree>
  </p:cSld>
  <p:transition spd="med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90720" y="762120"/>
            <a:ext cx="744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 Black"/>
              </a:rPr>
              <a:t>IRS Match</a:t>
            </a: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4600" y="2286000"/>
            <a:ext cx="74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wo Words to Remember -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3320" y="472428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Collaboration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240" y="3276720"/>
            <a:ext cx="61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7200" spc="-1" strike="noStrike">
                <a:solidFill>
                  <a:srgbClr val="003366"/>
                </a:solidFill>
                <a:latin typeface="Arial"/>
              </a:rPr>
              <a:t>Uncertainty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FB1-1091-42FD-A90C-C58A70AD54C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 is the Legal Status of FAFSA – IRS Match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49200" indent="-349200">
              <a:lnSpc>
                <a:spcPct val="75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8 Reauthorization Allowed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evenue Code Section 6103 must be a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 3613 – the “Student Aid Streamlined Disclosure Act of 2003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d November 21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 Ways and Means Subcommittee on 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tation to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38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  <a:tab algn="l" pos="6718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EEF-3395-4249-B62E-63703C791C3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273-9173-488B-9EA1-D3D9E9CA0D04}" type="slidenum">
              <a:t>47</a:t>
            </a:fld>
          </a:p>
        </p:txBody>
      </p:sp>
    </p:spTree>
  </p:cSld>
  <p:transition spd="med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133720"/>
            <a:ext cx="82296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courage applicants to update CPS with actual tax retur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ly after April 15, 2004 - One-tim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 if applicant provided email address Paper if no email address provi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B63-678F-42AC-AF4D-9514C9853AD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1981080"/>
            <a:ext cx="899172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and/or parent where 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d tax filer on latest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selected for ve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ofessional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graduate/professional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457200">
              <a:lnSpc>
                <a:spcPct val="13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C $6,000 or 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689-77E7-4329-948B-D9DB23A5EA9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Title IV Program Budgets</a:t>
            </a:r>
            <a:br>
              <a:rPr sz="4000"/>
            </a:b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Appropri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2311560"/>
          <a:ext cx="8382240" cy="302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11560"/>
                    <a:ext cx="838224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38080" y="5653080"/>
            <a:ext cx="769644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ident's FY 05 Budget Sub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 Final Conference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9E4-17AD-4DE7-B68E-519BDCCD434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2133720"/>
            <a:ext cx="8229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FAFSA information with tax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cor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114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or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update if school has asked for 1040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ax Filer Remin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E1C-B39D-44CE-AC9E-DB6EDF5A976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1DF-6100-44E4-A6B8-8BB28BD17B9E}" type="slidenum">
              <a:t>51</a:t>
            </a:fld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Title IV Program Budgets</a:t>
            </a:r>
            <a:br>
              <a:rPr sz="4000"/>
            </a:b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Aid Availab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01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14400" y="62485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President's FY 05 Budget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D4E-83EE-4EF2-98F0-2927C98D87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286000"/>
            <a:ext cx="84582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33 Million for “Enhanced Pell Gran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Campus-Based Formula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 Needs of Distance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WS Community Service 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 “Drug Eligibility”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395280">
              <a:lnSpc>
                <a:spcPct val="7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762120"/>
            <a:ext cx="762012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FY 2005 Budget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Program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A2A-4102-4CCB-8F00-D24846E3C4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155680"/>
            <a:ext cx="853452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ase Out Above-Market Special Allow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 Teacher Loan Forgive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bursement Relief for Low CDR Sch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 Loan Lim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oaden Repayment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ain Variable Interest R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 Insurance F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938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erve $3 Billion for Other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762120"/>
            <a:ext cx="762012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Black"/>
              </a:rPr>
              <a:t>FY 2005 Budget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Programmati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2BC-FED7-44E6-903A-37D9ABD852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 Black"/>
              </a:rPr>
              <a:t>Reauthoriz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9E0-7CB4-4048-884A-4E75E8430EA4}" type="slidenum">
              <a:t>9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38:58Z</dcterms:modified>
  <cp:revision>65</cp:revision>
  <dc:subject/>
  <dc:title>PowerPoint Presentation</dc:title>
</cp:coreProperties>
</file>