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9856A-883A-47CE-A7AB-6DDAC50220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91E31-9323-426A-90D7-69BD9AA8B6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713B1-BF54-4415-98D1-F51D9EEF20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C14B3-8789-4E80-80BE-803840D566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676520" y="6091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C8D0F-1634-44F9-B0A8-AE1F0549F5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F9869-251A-4AD2-8146-7D79B7AC32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841D7-57FB-4BF6-B2D7-084D593D34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209D6-93A0-4C59-8184-D83CF51F7F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676520" y="6091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29AA4-BAF5-4E91-9FA4-CE481246FB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D66B0-EB2C-4B73-8F43-5FA3E483E1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603AF-67F2-4E5F-A706-5B5116B7A5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95041-0943-46C7-9FF4-7DCF209071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6320" y="50760"/>
            <a:ext cx="1600200" cy="86364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76520" y="304920"/>
            <a:ext cx="6781680" cy="7596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676520" y="380880"/>
            <a:ext cx="6781680" cy="7632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6072120"/>
            <a:ext cx="7848720" cy="88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6161040"/>
            <a:ext cx="7848720" cy="8748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14400" y="2209680"/>
            <a:ext cx="7467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-</a:t>
            </a:r>
            <a:fld id="{8457D506-435C-4476-A92A-114A88E3B3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823c8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823c86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447920" y="1676520"/>
            <a:ext cx="6933960" cy="3741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09480" y="622440"/>
            <a:ext cx="7848720" cy="8712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533520"/>
            <a:ext cx="7848720" cy="88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6072120"/>
            <a:ext cx="7848720" cy="88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6161040"/>
            <a:ext cx="7848720" cy="8748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23c8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23c8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23c8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33720" y="456840"/>
            <a:ext cx="681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PS Data Ed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FSA data is subjected to several types of data edits during processing to ensure data integr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its initially developed for paper filers but have been expanded and revised to include electronic f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2F6D5-7297-449A-8384-8CC5AF04346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057400" y="456840"/>
            <a:ext cx="688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PS Data Edits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its developed based on eligibility requirements, consistent responses to application questions, statistical data, correction behavior, policy issues, results of verification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evaluated and revised an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A2E88-11D2-4CAF-8FAB-7EB08C90E55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057400" y="456840"/>
            <a:ext cx="688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PS Data Edits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basic types of edits perform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n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55831-1EFB-4A94-9BDA-08271AA3B6D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33720" y="456840"/>
            <a:ext cx="681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PS Data Edits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vailable data to make reasonable assumptions for missing or inconsistent answ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processing to continue and EFC to be calculated for more applic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requires a correction if assumption is in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2BC99-FC7A-49EC-BDE2-981822C9030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696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PS Data Edits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tical data is missing or obvious errors are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correction to add or chang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verifiable – data must be changed (numeric cod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ifiable – data may be verified as correct or changed (alpha cod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1D487-9736-4E87-91AD-41F9083B531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04760" y="456840"/>
            <a:ext cx="704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PS Data Edits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jects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ject 5 – Date of Birth is missing; must be provided to continue processing and calculate EF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ject C – Taxes Paid is greater than or equal to 40% of AGI; data can be verified as correct or corrected to new value to continue processing and calculate EF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A4AA2-1F32-4577-8219-17F3B13FD2E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696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PS Data Edits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n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ed data is unusual but not severe enough to be rej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highlighted for applicant review; corrected if necess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 Independent student reports “No” to Legal dependents/Do you have children and number of family members is greater than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F8176-0EA6-4F34-9965-0307CE07767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696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PS Data Edits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ptions, rejects, and some warning edits are performed by electronic products (EDExpress and Web applications) to increase accuracy of data and reduce need for cor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F3C98-E691-4FC2-8330-5DE9E3D6807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PS Data Edits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vant changes for 2003-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reject for Dependent and no parent SSN reported (Reject 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rejects for Dependent and parent SSN reported is not in valid range (Reject D – Father, Reject E - Moth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reject for Taxes Paid is equal to or greater than 40% of AGI (Reject 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ied reject for Taxes Paid is equal to or greater than AGI (Reject 12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EB166-C42D-4B58-8C1C-B3B33D9C7FA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361960" y="456840"/>
            <a:ext cx="658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PS Verification Selection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uality Control studies conducted in the early 1980’s showed significant applicant erro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minimize applicant error, in 1986-87 ED implemented an integrated verification process for Title IV progra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PS edits developed to select applications with potential erro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urrent verification process not perfe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0D299-E013-4F75-BA98-3459DF4B2CE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ssion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2819520"/>
            <a:ext cx="8381880" cy="23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PS Edits and Verification Selection: Improving the Accuracy of Applicant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673E0-1C7C-4291-9A23-97C8B0DF60F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456840"/>
            <a:ext cx="6507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PS Verification Selection Process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ED/IRS Statistical Stu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2001 and 2002, ED and the IRS conducted joint statistical studies to 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e frequency of income misreporting on the FAFS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lculate Pell Grant awards that would have been awarded had IRS income been used in need analysi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timate extent of Pell Grant award err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16DF5-6B28-4D44-9970-BB5BFC3C404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5640" y="456840"/>
            <a:ext cx="66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PS Verification Selection Process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ED/IRS Statistical Stu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compared both students’ and parents’ FAFSA AGI and taxes paid information to I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S provided aggregated statistical tables to 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1E70D-D368-4B7E-95FC-925FDF6D6E0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61960" y="456840"/>
            <a:ext cx="658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PS Verification Selection Process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ED/IRS Statistical Stu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show significant -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repancies between FAFSA and IRS in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neous payments in the Federal Pell Grant Program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D4B63-C57B-472D-A318-CB6A6CABD82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5640" y="456840"/>
            <a:ext cx="66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PS Verification Selection Process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Development of Verification Selection Crite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nual Proc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selection criteria develop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ed to evaluate and strengthen the verification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orough statistical and empirical analysis per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CC631-5087-4C5D-904C-ED0FF6B47C3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5640" y="456840"/>
            <a:ext cx="66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PS Verification Selection Process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Development of Verification Selection Crite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of selecting minimum effective number of applicants who have the most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misallocated payments consider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B4AAE-B291-4763-B116-236A998ECFA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5640" y="456840"/>
            <a:ext cx="66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PS Verification Selection Process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Development of Verification Selection Crite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2 years applicant and payment data used in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IRS data from tax year 2000 added for development of 2003-2004 selection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9AED2-E768-4D72-8F19-6844B6D787A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14600" y="456840"/>
            <a:ext cx="64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PS Verification Selection Process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Development of Verification Selection Crite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e-related variables used as main predi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s calculation of estimated taxes and comparison to reported ta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BC6EA-9153-41A6-A124-366A3EDB888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5640" y="456840"/>
            <a:ext cx="66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PS Verification Selection Process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Development of Verification Selection Crite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Random and Immune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5% of applicants selected random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5% of applicants not selected even if criteria are met (held immune from sel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control groups to measure effectiveness of targeted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36A9A-7FD5-4F33-AA49-2AF18C17593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456840"/>
            <a:ext cx="6507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PS Verification Selection Process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07840" y="1828800"/>
            <a:ext cx="833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Development of Verification Selection Crite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nts excluded from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A sch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s who do 100% 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297ED-F477-47C5-8301-A3729FA4A3D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5640" y="456840"/>
            <a:ext cx="66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PS Verification Selection Process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36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Development of Verification Selection Crite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sis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d statistical procedure to Stepwise Linear Regression to produce error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equations produced using IRS data and applicant/payment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ations then integrated to define final criter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72872-BA8F-413D-BFEF-2E49B558C7A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336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ers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anne Saunders, F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i Hunt, ORC Macro/C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is this session f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levels of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09A52-F224-406F-8B08-F6D02CEBCCE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361960" y="456840"/>
            <a:ext cx="658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PS Verification Selection Process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Development of Verification Selection Crite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iteria defined for each dependency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3 for depen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1 for indepen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re for meeting each criteria determined by regression eq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76DD4-B5E9-4DB3-A34A-21BC94C5F03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61960" y="456840"/>
            <a:ext cx="658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PS Verification Selection Process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36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Development of Verification Selection Crite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ion based on score cut-off that selects 30% of applicants with the most potential error, and that error would result in significant change in grant a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ification Tracking Flag on ISIR gives relative score – higher number has higher prior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DEC45-0DB8-4AF7-9F1A-9576E1E748C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5640" y="456840"/>
            <a:ext cx="66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PS Verification Selection Process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336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30% Verification Limit Op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CPS selects fewer than 30% of school’s applications for federal aid, school must verify all selected applic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CPS selects more than 30%, school has options 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ify all applicants selected,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 verification to 30% of total number of federal aid applicants at the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6ABFE-0D6B-4711-BA50-0846A0C3011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61960" y="456840"/>
            <a:ext cx="658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PS Verification Selection Process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336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30% Verification Limit Op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 strongly encourages verification of all selected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s choosing to verify more than 30% can 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llow verification requirements outlined in the Application and Verification Guide for all selected applicants (see chapter 3), 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llow federal verification requirements for 30% of applicants, but use own procedures for those beyond 30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0B952-DA66-484A-AC14-A285973544E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361960" y="456840"/>
            <a:ext cx="658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lly Designed Ver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local sources of error and on the unique population of an individual school or cam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get resources on error prone populations where impact on EFC/Pell Grant eligibility is grea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IR Analysis Tool available to all schools to determine effectiveness of localized 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4CB45-BE0A-41A0-BDFD-A369BE2469E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ated S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ssion #8: Verification Applicant Information – School and Student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ssion #22: Tools for Sch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ssion #23: Using the ISIR Analysis Tool to Answer Your Institutional Verification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ssion #24: Take the ISIR Analysis Tool for a Test Dr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it the PC 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82E28-F584-48BE-83C4-81AEA006EEA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8120" y="533160"/>
            <a:ext cx="5943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295280" y="2133720"/>
            <a:ext cx="6477120" cy="33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Arial"/>
              </a:rPr>
              <a:t>We appreciate your feedback! Send your questions and suggestions to:</a:t>
            </a: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2000a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2000a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mail: fafsaweb@ncs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hone: 1-800-433-324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F34E7-C40E-4992-B371-7AF8793EDDE3}" type="slidenum">
              <a:t>36</a:t>
            </a:fld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Questions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334120" y="2209680"/>
            <a:ext cx="198108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C0D55-99A3-4812-B622-C5ABEF45506F}" type="slidenum">
              <a:t>37</a:t>
            </a:fld>
          </a:p>
        </p:txBody>
      </p:sp>
    </p:spTree>
  </p:cSld>
  <p:transition spd="slow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ing Accuracy of Applicant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S Data Integrity E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S Verification Selection Proc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9AC19-4184-4F97-9B4F-633A68E7D6F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roving Accuracy of Applicant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21333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tle IV Programs have significant and long- standing public and politica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than $10 Billion in Pell Grant al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than $50 Billion Total 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aintain this support we must ensure that money is spent properly – right money to right stud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73917-6843-45E6-8899-E5C505C8951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roving Accuracy of Applicant Data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 of Self-Repor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ections and updates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ing of estimated income required to meet institution and state dead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D1B30-78EE-456C-BBF0-C4635B789EE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roving Accuracy of Applicant Data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Tools for Ensuring 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S M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ion criteria refined using IRS match data and statistic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reach an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ical As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 Review Fo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4A9E0-8390-4BF0-AD77-DCE769C09CD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19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roving Accuracy of Applicant Data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IRS Ma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vision added to 1998 Higher Education Amendments authorizing ED to confirm with IRS AGI, taxes paid, number of exemptions, and tax filing status reported on FAFS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easury Department has determined that Internal Revenue Code (IRC) must be amended before IRS match with ED can be implement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14311-6FE3-4D1A-BBFF-66B3383FF79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76520" y="456840"/>
            <a:ext cx="726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roving Accuracy of Applicant Data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IRS Ma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S income match is one of ED’s top pri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 and Treasury drafted revised IRC language and forwarded to Con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age is pe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FFC7F-0996-4FBA-912B-A8B649D5489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0T18:53:46Z</dcterms:created>
  <dc:creator>Jeanne Henderson</dc:creator>
  <dc:description/>
  <dc:language>en-US</dc:language>
  <cp:lastModifiedBy>PAUL HILL, JR</cp:lastModifiedBy>
  <cp:lastPrinted>2002-09-20T18:59:28Z</cp:lastPrinted>
  <dcterms:modified xsi:type="dcterms:W3CDTF">2003-03-17T12:22:39Z</dcterms:modified>
  <cp:revision>39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597118785</vt:r8>
  </property>
  <property fmtid="{D5CDD505-2E9C-101B-9397-08002B2CF9AE}" pid="3" name="_AuthorEmail">
    <vt:lpwstr>Paul_Steinhauer@ncs.com</vt:lpwstr>
  </property>
  <property fmtid="{D5CDD505-2E9C-101B-9397-08002B2CF9AE}" pid="4" name="_AuthorEmailDisplayName">
    <vt:lpwstr>Steinhauer, Paul</vt:lpwstr>
  </property>
  <property fmtid="{D5CDD505-2E9C-101B-9397-08002B2CF9AE}" pid="5" name="_EmailSubject">
    <vt:lpwstr>EAC Sessions - Calling all creators</vt:lpwstr>
  </property>
  <property fmtid="{D5CDD505-2E9C-101B-9397-08002B2CF9AE}" pid="6" name="_PreviousAdHocReviewCycleID">
    <vt:r8>-1909312546</vt:r8>
  </property>
</Properties>
</file>