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68E7-0150-49F0-B386-353DAEB12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6288-E359-468E-8649-16BA0BA12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68CBF-74BA-4B8E-8F36-0D55D4A6B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A0B8-628B-4C5C-AA98-AA57D60DC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94D5-0A13-43BD-B878-4B6122E8B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FF7C-8401-4293-92EF-F7BB1AC28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761F-973A-41AB-B938-FECCB157D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F98E-B5F9-40E4-9032-419693AE3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18F0-AA88-4328-A7B2-E1EC91679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FC0A-EA40-4DAE-AE41-723C7FD84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AFFF-965B-457E-87D6-E09BE6D29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6ACC-8F82-4AD7-ABDE-C619CD2A7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220968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-</a:t>
            </a:r>
            <a:fld id="{26E74A63-E873-4556-9A87-9B30ADC14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8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FSA data is subjected to several types of data edits during processing to ensure data integ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s initially developed for paper filers but have been expanded and revised to include electronic f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731F-6E6A-42E5-8FE0-BBA6BF0E3A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400" y="45684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s developed based on eligibility requirements, consistent responses to application questions, statistical data, correction behavior, policy issues, results of verifica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evaluated and revised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B209-A5FB-4F42-88DA-B5B5EF8649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45684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basic types of edits perform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AF35-0FFB-4CD4-B849-C3612B9498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8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vailable data to make reasonable assumptions for missing or inconsistent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processing to continue and EFC to be calculated for more applic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quires a correction if assumption is in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1E10-032C-427C-A486-DD6F32C297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9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data is missing or obvious errors ar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correction to add or chang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verifiable – data must be changed (numeric co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able – data may be verified as correct or changed (alpha co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3E2C-5907-4C41-8046-514EA29722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704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5 – Date of Birth is missing; must be provided to continue processing and calculate E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C – Taxes Paid is greater than or equal to 40% of AGI; data can be verified as correct or corrected to new value to continue processing and calculate E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5E94-4D50-4E97-8D38-AB27814E2A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9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ed data is unusual but not severe enough to be re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highlighted for applicant review; corrected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Independent student reports “No” to Legal dependents/Do you have children and number of family members is greater tha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2370-B353-435E-BFF6-D0633682D8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9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, rejects, and some warning edits are performed by electronic products (EDExpress and Web applications) to increase accuracy of data and reduce need for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9F90-7213-43E4-94E1-2748428DDC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vant changes for 2003-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ject for Dependent and no parent SSN reported (Reject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jects for Dependent and parent SSN reported is not in valid range (Reject D – Father, Reject E - M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ject for Taxes Paid is equal to or greater than 40% of AGI (Reject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reject for Taxes Paid is equal to or greater than AGI (Reject 1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09C2-6541-4D94-8900-EA21CB25A9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lity Control studies conducted in the early 1980’s showed significant applicant erro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minimize applicant error, in 1986-87 ED implemented an integrated verification process for Title IV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PS edits developed to select applications with potential err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verification process not per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444F-4DAB-4DEF-A793-8BBEB90FE6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819520"/>
            <a:ext cx="838188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PS Edits and Verification Selection: Improving the Accuracy of Applican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1B5E-1C3B-4F24-BDD9-2FAF9F05FA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ED/IRS Statistical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1 and 2002, ED and the IRS conducted joint statistical studies to 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frequency of income misreporting on the FAF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e Pell Grant awards that would have been awarded had IRS income been used in need analys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e extent of Pell Grant award err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DD3D-EAB5-4EAD-B012-D350F335A6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ED/IRS Statistical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compared both students’ and parents’ FAFSA AGI and taxes paid information to 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 provided aggregated statistical tables to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9FD4-0138-4045-A894-37B325F67A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ED/IRS Statistical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show significant -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pancies between FAFSA and IRS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neous payments in the Federal Pell Grant Progra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E2C9-E778-4DD3-BDF1-670445DE41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election criteria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evaluate and strengthen the verification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ough statistical and empirical analysis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BA92-BBD0-4D05-9FAF-32DE116B99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of selecting minimum effective number of applicants who have the most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misallocated payments consid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2433-B538-42EB-98B0-5A010FABF3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2 years applicant and payment data used i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IRS data from tax year 2000 added for development of 2003-2004 selection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AEFD-91D4-4912-A94C-909A407CCE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4600" y="45684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-related variables used as main predi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calculation of estimated taxes and comparison to reported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E8CB-74C7-429C-B3B6-3C00D695AF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andom and Immun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% of applicants selected random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% of applicants not selected even if criteria are met (held immune from sel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control groups to measure effectiveness of targeted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973C-BD5D-4827-B36C-9A7D61C8B9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7840" y="18288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excluded from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A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who do 100%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7C20-EB99-4A93-9B10-A8E06225F0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36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statistical procedure to Stepwise Linear Regression to produce error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equations produced using IRS data and applicant/pay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s then integrated to define final cri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D0FA-ABB7-4214-B861-02D629D570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r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anne Saunders, 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i Hunt, ORC Macro/C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his session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evels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1130-7615-4BAB-BF5B-1D65A22C1A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a defined for each dependency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 for depen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1 for indepen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 for meeting each criteria determined by regression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1428-E133-437F-B9F4-DFB3DFAC5D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36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based on score cut-off that selects 30% of applicants with the most potential error, and that error would result in significant change in gran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Tracking Flag on ISIR gives relative score – higher number has higher prio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CC2F-41F6-491D-A703-88E4D621BF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30% Verification Limit 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PS selects fewer than 30% of school’s applications for federal aid, school must verify all selected applic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PS selects more than 30%, school has options 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all applicants selected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verification to 30% of total number of federal aid applicants at th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4831-9483-4DDA-BB7A-C9E318B93C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30% Verification Limit 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strongly encourages verification of all selecte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choosing to verify more than 30% can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 verification requirements outlined in the Application and Verification Guide for all selected applicants (see chapter 3),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 federal verification requirements for 30% of applicants, but use own procedures for those beyond 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F389-A092-4379-B4FB-58A8F85479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ly Designed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local sources of error and on the unique population of an individual school or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resources on error prone populations where impact on EFC/Pell Grant eligibility is grea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Analysis Tool available to all schools to determine effectiveness of localized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320D-D6BA-4E4D-9097-150390845C8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#8: Verification Applicant Information – School and Stud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#22: Tools for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#23: Using the ISIR Analysis Tool to Answer Your Institutional Verificatio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#24: Take the ISIR Analysis Tool for a Test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the PC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FB79-996A-4A9E-B363-D7F5EF92058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8120" y="5331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133720"/>
            <a:ext cx="6477120" cy="33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We appreciate your feedback! Send your questions and suggestions to: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mail: fafsaweb@nc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hone: 1-800-433-324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8F82-882D-4E37-9E2D-1577BC043639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estions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19810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41A5-333F-4286-8E58-7D423CFD0E30}" type="slidenum">
              <a:t>37</a:t>
            </a:fld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ing Accuracy of Applica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Data Integrity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Verification Selection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8795-2F46-4DDF-8A9C-0534861099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ing Accuracy of Applican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IV Programs have significant and long- standing public and politic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$10 Billion in Pell Grant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$50 Billion Tot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is support we must ensure that money is spent properly – right money to right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C82A-44B0-4456-8D2C-69B7D7E65A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ing Accuracy of Applicant Data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of Self-Repor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ions and updat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of estimated income required to meet institution and state dead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E3E9-5626-468F-A154-62E3185D3B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ing Accuracy of Applicant Data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Tools for Ensuring 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S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criteria refined using IRS match data and statist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Review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39F8-42A7-4278-8FF1-26FABD56AC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9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ing Accuracy of Applicant Data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IRS 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sion added to 1998 Higher Education Amendments authorizing ED to confirm with IRS AGI, taxes paid, number of exemptions, and tax filing status reported on FAF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sury Department has determined that Internal Revenue Code (IRC) must be amended before IRS match with ED can be implemen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DE2B-E0BB-422D-936F-6F79E394CD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ing Accuracy of Applicant Data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IRS 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 income match is one of ED’s top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and Treasury drafted revised IRC language and forwarded to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age is 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FCA6-03B0-4C28-834F-53205118B2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PAUL HILL, JR</cp:lastModifiedBy>
  <cp:lastPrinted>2002-09-20T18:59:28Z</cp:lastPrinted>
  <dcterms:modified xsi:type="dcterms:W3CDTF">2003-03-17T12:22:39Z</dcterms:modified>
  <cp:revision>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97118785</vt:r8>
  </property>
  <property fmtid="{D5CDD505-2E9C-101B-9397-08002B2CF9AE}" pid="3" name="_AuthorEmail">
    <vt:lpwstr>Paul_Steinhauer@ncs.com</vt:lpwstr>
  </property>
  <property fmtid="{D5CDD505-2E9C-101B-9397-08002B2CF9AE}" pid="4" name="_AuthorEmailDisplayName">
    <vt:lpwstr>Steinhauer, Paul</vt:lpwstr>
  </property>
  <property fmtid="{D5CDD505-2E9C-101B-9397-08002B2CF9AE}" pid="5" name="_EmailSubject">
    <vt:lpwstr>EAC Sessions - Calling all creators</vt:lpwstr>
  </property>
  <property fmtid="{D5CDD505-2E9C-101B-9397-08002B2CF9AE}" pid="6" name="_PreviousAdHocReviewCycleID">
    <vt:r8>-1909312546</vt:r8>
  </property>
</Properties>
</file>