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5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9.gif" ContentType="image/gif"/>
  <Override PartName="/ppt/media/image35.wmf" ContentType="image/x-wmf"/>
  <Override PartName="/ppt/media/image31.png" ContentType="image/png"/>
  <Override PartName="/ppt/media/image6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wmf" ContentType="image/x-wmf"/>
  <Override PartName="/ppt/media/image12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3B7-B5CA-40DC-90A6-729783F5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C1B-1467-48D6-A123-433646E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28A-F90B-47CB-B210-17CC5D6A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425-D0B3-4098-A235-24862170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82B-0F8B-4A8B-816E-FE393705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213-121C-460D-8EF1-81FE81CA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DA5-6140-4943-A97E-760C2E77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D86-E762-40D0-89F6-8CAEDFA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704-A2E5-4A36-B97C-163D73D9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76D-DEF4-4BF8-AC90-47731A6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E32-B8EC-45DA-8A40-0AF0983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511-0ADE-441F-96DF-FF6E425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8E8-ECA8-442D-8541-BF6647C4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23556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31332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1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ciliation Special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transaction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unds managem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-site support to school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APS and FMS exception research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run specialized ad hoc reports to help isolate problem records in a specific status o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06C-B818-498D-A149-496E3FC789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22240" y="685440"/>
            <a:ext cx="696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Service Sol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tracking of schools progress towards 30 day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to schools prior to the 30 day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to schools with cash &gt; accepted and posted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D92-67EF-4A4A-8484-230FFC4723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6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Servic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down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20-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014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works with schools to solve an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014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enters freeze cas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014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enters call for cas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8A2-B88C-41A6-9EB5-2FE03C0B57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6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Servic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imely and easily accessible web-ba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informat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nds of cash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activity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financial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ly Total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0C6-624B-4027-85D3-EB7218950E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ing Information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funding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EED-B5D2-4B14-91D5-464F77ED0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unds of Cash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fund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7FC-0C52-4814-919F-C74BC2A58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h Activity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ashact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161-8B48-4B2B-8433-8BDCF15972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8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Financial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UMMFIN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B25-261D-45F8-8966-B294EC540B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arly Totals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YEARLY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8229600" cy="40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FA3-02C9-48DE-96C3-25B84DA995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d-hoc Re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Receip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net dollar amount, last 30 days cash receipts, total net cash at school, net accepted disbursements, adjusted ending cash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Detai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isbursement date, gross, fee, net and rebates amounts, and sequence numbers for all disbursements accepted by C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dow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ate, amount, substantiated amounts and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E37-AFD6-462C-9324-4BCA0282F9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D and Direct Lo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lancing the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DDD-FC90-49EB-B190-4445955606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2860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lancing the Book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Can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DD6-4820-475E-B81A-D2C79EC08DA7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th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ay-to-day processing which complies with data reporting requirements and cash managemen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compute and track your Direct Loan ending cash balance (E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ng each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ing out each program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078680" y="4572000"/>
            <a:ext cx="1622520" cy="1303200"/>
            <a:chOff x="7078680" y="4572000"/>
            <a:chExt cx="1622520" cy="1303200"/>
          </a:xfrm>
        </p:grpSpPr>
        <p:pic>
          <p:nvPicPr>
            <p:cNvPr id="91" name="BS00554_" descr=""/>
            <p:cNvPicPr/>
            <p:nvPr/>
          </p:nvPicPr>
          <p:blipFill>
            <a:blip r:embed="rId1"/>
            <a:stretch/>
          </p:blipFill>
          <p:spPr>
            <a:xfrm>
              <a:off x="8153280" y="5164200"/>
              <a:ext cx="45720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BS00554_" descr=""/>
            <p:cNvPicPr/>
            <p:nvPr/>
          </p:nvPicPr>
          <p:blipFill>
            <a:blip r:embed="rId2"/>
            <a:stretch/>
          </p:blipFill>
          <p:spPr>
            <a:xfrm>
              <a:off x="7162920" y="4935600"/>
              <a:ext cx="457200" cy="3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7078680" y="4572000"/>
              <a:ext cx="1622520" cy="1303200"/>
              <a:chOff x="7078680" y="4572000"/>
              <a:chExt cx="1622520" cy="1303200"/>
            </a:xfrm>
          </p:grpSpPr>
          <p:sp>
            <p:nvSpPr>
              <p:cNvPr id="94" name=""/>
              <p:cNvSpPr/>
              <p:nvPr/>
            </p:nvSpPr>
            <p:spPr>
              <a:xfrm>
                <a:off x="7853400" y="4633920"/>
                <a:ext cx="49320" cy="1152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69200" y="5824440"/>
                <a:ext cx="1012680" cy="50760"/>
              </a:xfrm>
              <a:custGeom>
                <a:avLst/>
                <a:gdLst/>
                <a:ahLst/>
                <a:rect l="l" t="t" r="r" b="b"/>
                <a:pathLst>
                  <a:path w="638" h="32">
                    <a:moveTo>
                      <a:pt x="0" y="32"/>
                    </a:moveTo>
                    <a:lnTo>
                      <a:pt x="638" y="32"/>
                    </a:lnTo>
                    <a:lnTo>
                      <a:pt x="635" y="21"/>
                    </a:lnTo>
                    <a:lnTo>
                      <a:pt x="628" y="11"/>
                    </a:lnTo>
                    <a:lnTo>
                      <a:pt x="619" y="3"/>
                    </a:lnTo>
                    <a:lnTo>
                      <a:pt x="608" y="0"/>
                    </a:lnTo>
                    <a:lnTo>
                      <a:pt x="30" y="0"/>
                    </a:lnTo>
                    <a:lnTo>
                      <a:pt x="19" y="1"/>
                    </a:lnTo>
                    <a:lnTo>
                      <a:pt x="10" y="7"/>
                    </a:lnTo>
                    <a:lnTo>
                      <a:pt x="3" y="1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83320" y="5776920"/>
                <a:ext cx="78912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02480" y="5721120"/>
                <a:ext cx="57168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04320" y="5499000"/>
                <a:ext cx="596880" cy="31680"/>
              </a:xfrm>
              <a:custGeom>
                <a:avLst/>
                <a:gdLst/>
                <a:ahLst/>
                <a:rect l="l" t="t" r="r" b="b"/>
                <a:pathLst>
                  <a:path w="376" h="20">
                    <a:moveTo>
                      <a:pt x="376" y="19"/>
                    </a:moveTo>
                    <a:lnTo>
                      <a:pt x="376" y="0"/>
                    </a:lnTo>
                    <a:lnTo>
                      <a:pt x="0" y="3"/>
                    </a:lnTo>
                    <a:lnTo>
                      <a:pt x="0" y="20"/>
                    </a:lnTo>
                    <a:lnTo>
                      <a:pt x="37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74160" y="5516280"/>
                <a:ext cx="463320" cy="42840"/>
              </a:xfrm>
              <a:custGeom>
                <a:avLst/>
                <a:gdLst/>
                <a:ahLst/>
                <a:rect l="l" t="t" r="r" b="b"/>
                <a:pathLst>
                  <a:path w="292" h="27">
                    <a:moveTo>
                      <a:pt x="292" y="26"/>
                    </a:moveTo>
                    <a:lnTo>
                      <a:pt x="292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9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40760" y="5545080"/>
                <a:ext cx="338040" cy="46080"/>
              </a:xfrm>
              <a:custGeom>
                <a:avLst/>
                <a:gdLst/>
                <a:ahLst/>
                <a:rect l="l" t="t" r="r" b="b"/>
                <a:pathLst>
                  <a:path w="213" h="29">
                    <a:moveTo>
                      <a:pt x="213" y="0"/>
                    </a:moveTo>
                    <a:lnTo>
                      <a:pt x="0" y="2"/>
                    </a:lnTo>
                    <a:lnTo>
                      <a:pt x="4" y="12"/>
                    </a:lnTo>
                    <a:lnTo>
                      <a:pt x="11" y="20"/>
                    </a:lnTo>
                    <a:lnTo>
                      <a:pt x="20" y="26"/>
                    </a:lnTo>
                    <a:lnTo>
                      <a:pt x="29" y="29"/>
                    </a:lnTo>
                    <a:lnTo>
                      <a:pt x="185" y="29"/>
                    </a:lnTo>
                    <a:lnTo>
                      <a:pt x="194" y="26"/>
                    </a:lnTo>
                    <a:lnTo>
                      <a:pt x="203" y="20"/>
                    </a:lnTo>
                    <a:lnTo>
                      <a:pt x="210" y="1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21760" y="48672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22" y="61"/>
                    </a:moveTo>
                    <a:lnTo>
                      <a:pt x="34" y="62"/>
                    </a:lnTo>
                    <a:lnTo>
                      <a:pt x="46" y="59"/>
                    </a:lnTo>
                    <a:lnTo>
                      <a:pt x="55" y="52"/>
                    </a:lnTo>
                    <a:lnTo>
                      <a:pt x="61" y="41"/>
                    </a:lnTo>
                    <a:lnTo>
                      <a:pt x="62" y="29"/>
                    </a:lnTo>
                    <a:lnTo>
                      <a:pt x="59" y="17"/>
                    </a:lnTo>
                    <a:lnTo>
                      <a:pt x="52" y="8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8" y="11"/>
                    </a:lnTo>
                    <a:lnTo>
                      <a:pt x="2" y="21"/>
                    </a:lnTo>
                    <a:lnTo>
                      <a:pt x="0" y="33"/>
                    </a:lnTo>
                    <a:lnTo>
                      <a:pt x="3" y="46"/>
                    </a:lnTo>
                    <a:lnTo>
                      <a:pt x="11" y="55"/>
                    </a:lnTo>
                    <a:lnTo>
                      <a:pt x="22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50120" y="4722480"/>
                <a:ext cx="1054080" cy="276480"/>
              </a:xfrm>
              <a:custGeom>
                <a:avLst/>
                <a:gdLst/>
                <a:ahLst/>
                <a:rect l="l" t="t" r="r" b="b"/>
                <a:pathLst>
                  <a:path w="664" h="174">
                    <a:moveTo>
                      <a:pt x="326" y="100"/>
                    </a:moveTo>
                    <a:lnTo>
                      <a:pt x="319" y="99"/>
                    </a:lnTo>
                    <a:lnTo>
                      <a:pt x="310" y="96"/>
                    </a:lnTo>
                    <a:lnTo>
                      <a:pt x="298" y="93"/>
                    </a:lnTo>
                    <a:lnTo>
                      <a:pt x="283" y="87"/>
                    </a:lnTo>
                    <a:lnTo>
                      <a:pt x="264" y="74"/>
                    </a:lnTo>
                    <a:lnTo>
                      <a:pt x="248" y="68"/>
                    </a:lnTo>
                    <a:lnTo>
                      <a:pt x="231" y="64"/>
                    </a:lnTo>
                    <a:lnTo>
                      <a:pt x="215" y="62"/>
                    </a:lnTo>
                    <a:lnTo>
                      <a:pt x="198" y="64"/>
                    </a:lnTo>
                    <a:lnTo>
                      <a:pt x="181" y="67"/>
                    </a:lnTo>
                    <a:lnTo>
                      <a:pt x="162" y="71"/>
                    </a:lnTo>
                    <a:lnTo>
                      <a:pt x="140" y="76"/>
                    </a:lnTo>
                    <a:lnTo>
                      <a:pt x="118" y="79"/>
                    </a:lnTo>
                    <a:lnTo>
                      <a:pt x="97" y="79"/>
                    </a:lnTo>
                    <a:lnTo>
                      <a:pt x="77" y="76"/>
                    </a:lnTo>
                    <a:lnTo>
                      <a:pt x="59" y="70"/>
                    </a:lnTo>
                    <a:lnTo>
                      <a:pt x="42" y="59"/>
                    </a:lnTo>
                    <a:lnTo>
                      <a:pt x="25" y="47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7" y="15"/>
                    </a:lnTo>
                    <a:lnTo>
                      <a:pt x="13" y="17"/>
                    </a:lnTo>
                    <a:lnTo>
                      <a:pt x="21" y="18"/>
                    </a:lnTo>
                    <a:lnTo>
                      <a:pt x="30" y="21"/>
                    </a:lnTo>
                    <a:lnTo>
                      <a:pt x="62" y="29"/>
                    </a:lnTo>
                    <a:lnTo>
                      <a:pt x="89" y="32"/>
                    </a:lnTo>
                    <a:lnTo>
                      <a:pt x="112" y="29"/>
                    </a:lnTo>
                    <a:lnTo>
                      <a:pt x="131" y="23"/>
                    </a:lnTo>
                    <a:lnTo>
                      <a:pt x="149" y="15"/>
                    </a:lnTo>
                    <a:lnTo>
                      <a:pt x="166" y="9"/>
                    </a:lnTo>
                    <a:lnTo>
                      <a:pt x="183" y="3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9" y="0"/>
                    </a:lnTo>
                    <a:lnTo>
                      <a:pt x="227" y="0"/>
                    </a:lnTo>
                    <a:lnTo>
                      <a:pt x="233" y="2"/>
                    </a:lnTo>
                    <a:lnTo>
                      <a:pt x="239" y="3"/>
                    </a:lnTo>
                    <a:lnTo>
                      <a:pt x="245" y="5"/>
                    </a:lnTo>
                    <a:lnTo>
                      <a:pt x="251" y="8"/>
                    </a:lnTo>
                    <a:lnTo>
                      <a:pt x="261" y="14"/>
                    </a:lnTo>
                    <a:lnTo>
                      <a:pt x="272" y="18"/>
                    </a:lnTo>
                    <a:lnTo>
                      <a:pt x="281" y="23"/>
                    </a:lnTo>
                    <a:lnTo>
                      <a:pt x="293" y="27"/>
                    </a:lnTo>
                    <a:lnTo>
                      <a:pt x="304" y="32"/>
                    </a:lnTo>
                    <a:lnTo>
                      <a:pt x="314" y="35"/>
                    </a:lnTo>
                    <a:lnTo>
                      <a:pt x="326" y="38"/>
                    </a:lnTo>
                    <a:lnTo>
                      <a:pt x="339" y="41"/>
                    </a:lnTo>
                    <a:lnTo>
                      <a:pt x="351" y="43"/>
                    </a:lnTo>
                    <a:lnTo>
                      <a:pt x="364" y="44"/>
                    </a:lnTo>
                    <a:lnTo>
                      <a:pt x="375" y="46"/>
                    </a:lnTo>
                    <a:lnTo>
                      <a:pt x="387" y="47"/>
                    </a:lnTo>
                    <a:lnTo>
                      <a:pt x="399" y="47"/>
                    </a:lnTo>
                    <a:lnTo>
                      <a:pt x="410" y="47"/>
                    </a:lnTo>
                    <a:lnTo>
                      <a:pt x="422" y="47"/>
                    </a:lnTo>
                    <a:lnTo>
                      <a:pt x="432" y="46"/>
                    </a:lnTo>
                    <a:lnTo>
                      <a:pt x="438" y="46"/>
                    </a:lnTo>
                    <a:lnTo>
                      <a:pt x="446" y="46"/>
                    </a:lnTo>
                    <a:lnTo>
                      <a:pt x="452" y="46"/>
                    </a:lnTo>
                    <a:lnTo>
                      <a:pt x="460" y="47"/>
                    </a:lnTo>
                    <a:lnTo>
                      <a:pt x="466" y="49"/>
                    </a:lnTo>
                    <a:lnTo>
                      <a:pt x="472" y="52"/>
                    </a:lnTo>
                    <a:lnTo>
                      <a:pt x="478" y="53"/>
                    </a:lnTo>
                    <a:lnTo>
                      <a:pt x="484" y="56"/>
                    </a:lnTo>
                    <a:lnTo>
                      <a:pt x="499" y="65"/>
                    </a:lnTo>
                    <a:lnTo>
                      <a:pt x="511" y="77"/>
                    </a:lnTo>
                    <a:lnTo>
                      <a:pt x="525" y="90"/>
                    </a:lnTo>
                    <a:lnTo>
                      <a:pt x="538" y="103"/>
                    </a:lnTo>
                    <a:lnTo>
                      <a:pt x="553" y="117"/>
                    </a:lnTo>
                    <a:lnTo>
                      <a:pt x="575" y="127"/>
                    </a:lnTo>
                    <a:lnTo>
                      <a:pt x="600" y="137"/>
                    </a:lnTo>
                    <a:lnTo>
                      <a:pt x="634" y="141"/>
                    </a:lnTo>
                    <a:lnTo>
                      <a:pt x="643" y="143"/>
                    </a:lnTo>
                    <a:lnTo>
                      <a:pt x="649" y="144"/>
                    </a:lnTo>
                    <a:lnTo>
                      <a:pt x="655" y="146"/>
                    </a:lnTo>
                    <a:lnTo>
                      <a:pt x="664" y="147"/>
                    </a:lnTo>
                    <a:lnTo>
                      <a:pt x="646" y="159"/>
                    </a:lnTo>
                    <a:lnTo>
                      <a:pt x="626" y="168"/>
                    </a:lnTo>
                    <a:lnTo>
                      <a:pt x="608" y="173"/>
                    </a:lnTo>
                    <a:lnTo>
                      <a:pt x="588" y="174"/>
                    </a:lnTo>
                    <a:lnTo>
                      <a:pt x="569" y="173"/>
                    </a:lnTo>
                    <a:lnTo>
                      <a:pt x="549" y="168"/>
                    </a:lnTo>
                    <a:lnTo>
                      <a:pt x="529" y="161"/>
                    </a:lnTo>
                    <a:lnTo>
                      <a:pt x="510" y="150"/>
                    </a:lnTo>
                    <a:lnTo>
                      <a:pt x="491" y="138"/>
                    </a:lnTo>
                    <a:lnTo>
                      <a:pt x="476" y="126"/>
                    </a:lnTo>
                    <a:lnTo>
                      <a:pt x="461" y="117"/>
                    </a:lnTo>
                    <a:lnTo>
                      <a:pt x="446" y="109"/>
                    </a:lnTo>
                    <a:lnTo>
                      <a:pt x="429" y="103"/>
                    </a:lnTo>
                    <a:lnTo>
                      <a:pt x="413" y="102"/>
                    </a:lnTo>
                    <a:lnTo>
                      <a:pt x="395" y="102"/>
                    </a:lnTo>
                    <a:lnTo>
                      <a:pt x="373" y="105"/>
                    </a:lnTo>
                    <a:lnTo>
                      <a:pt x="367" y="106"/>
                    </a:lnTo>
                    <a:lnTo>
                      <a:pt x="363" y="106"/>
                    </a:lnTo>
                    <a:lnTo>
                      <a:pt x="358" y="106"/>
                    </a:lnTo>
                    <a:lnTo>
                      <a:pt x="352" y="105"/>
                    </a:lnTo>
                    <a:lnTo>
                      <a:pt x="348" y="105"/>
                    </a:lnTo>
                    <a:lnTo>
                      <a:pt x="342" y="103"/>
                    </a:lnTo>
                    <a:lnTo>
                      <a:pt x="334" y="102"/>
                    </a:lnTo>
                    <a:lnTo>
                      <a:pt x="32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45440" y="467172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28" y="61"/>
                    </a:moveTo>
                    <a:lnTo>
                      <a:pt x="16" y="58"/>
                    </a:lnTo>
                    <a:lnTo>
                      <a:pt x="7" y="52"/>
                    </a:lnTo>
                    <a:lnTo>
                      <a:pt x="1" y="41"/>
                    </a:lnTo>
                    <a:lnTo>
                      <a:pt x="0" y="29"/>
                    </a:lnTo>
                    <a:lnTo>
                      <a:pt x="3" y="17"/>
                    </a:lnTo>
                    <a:lnTo>
                      <a:pt x="10" y="8"/>
                    </a:lnTo>
                    <a:lnTo>
                      <a:pt x="19" y="2"/>
                    </a:lnTo>
                    <a:lnTo>
                      <a:pt x="31" y="0"/>
                    </a:lnTo>
                    <a:lnTo>
                      <a:pt x="44" y="3"/>
                    </a:lnTo>
                    <a:lnTo>
                      <a:pt x="53" y="11"/>
                    </a:lnTo>
                    <a:lnTo>
                      <a:pt x="59" y="22"/>
                    </a:lnTo>
                    <a:lnTo>
                      <a:pt x="60" y="34"/>
                    </a:lnTo>
                    <a:lnTo>
                      <a:pt x="57" y="46"/>
                    </a:lnTo>
                    <a:lnTo>
                      <a:pt x="51" y="53"/>
                    </a:lnTo>
                    <a:lnTo>
                      <a:pt x="41" y="59"/>
                    </a:lnTo>
                    <a:lnTo>
                      <a:pt x="2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78680" y="5314680"/>
                <a:ext cx="596880" cy="30240"/>
              </a:xfrm>
              <a:custGeom>
                <a:avLst/>
                <a:gdLst/>
                <a:ahLst/>
                <a:rect l="l" t="t" r="r" b="b"/>
                <a:pathLst>
                  <a:path w="376" h="19">
                    <a:moveTo>
                      <a:pt x="376" y="18"/>
                    </a:moveTo>
                    <a:lnTo>
                      <a:pt x="376" y="0"/>
                    </a:lnTo>
                    <a:lnTo>
                      <a:pt x="0" y="1"/>
                    </a:lnTo>
                    <a:lnTo>
                      <a:pt x="0" y="19"/>
                    </a:lnTo>
                    <a:lnTo>
                      <a:pt x="37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48520" y="5330520"/>
                <a:ext cx="463680" cy="44640"/>
              </a:xfrm>
              <a:custGeom>
                <a:avLst/>
                <a:gdLst/>
                <a:ahLst/>
                <a:rect l="l" t="t" r="r" b="b"/>
                <a:pathLst>
                  <a:path w="292" h="28">
                    <a:moveTo>
                      <a:pt x="292" y="26"/>
                    </a:moveTo>
                    <a:lnTo>
                      <a:pt x="292" y="0"/>
                    </a:lnTo>
                    <a:lnTo>
                      <a:pt x="0" y="2"/>
                    </a:lnTo>
                    <a:lnTo>
                      <a:pt x="0" y="28"/>
                    </a:lnTo>
                    <a:lnTo>
                      <a:pt x="29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18360" y="5360760"/>
                <a:ext cx="338040" cy="44640"/>
              </a:xfrm>
              <a:custGeom>
                <a:avLst/>
                <a:gdLst/>
                <a:ahLst/>
                <a:rect l="l" t="t" r="r" b="b"/>
                <a:pathLst>
                  <a:path w="213" h="28">
                    <a:moveTo>
                      <a:pt x="213" y="0"/>
                    </a:moveTo>
                    <a:lnTo>
                      <a:pt x="0" y="1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18" y="25"/>
                    </a:lnTo>
                    <a:lnTo>
                      <a:pt x="28" y="28"/>
                    </a:lnTo>
                    <a:lnTo>
                      <a:pt x="184" y="28"/>
                    </a:lnTo>
                    <a:lnTo>
                      <a:pt x="193" y="25"/>
                    </a:lnTo>
                    <a:lnTo>
                      <a:pt x="202" y="19"/>
                    </a:lnTo>
                    <a:lnTo>
                      <a:pt x="210" y="1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842240" y="457200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1" y="0"/>
                    </a:moveTo>
                    <a:lnTo>
                      <a:pt x="30" y="1"/>
                    </a:lnTo>
                    <a:lnTo>
                      <a:pt x="38" y="7"/>
                    </a:lnTo>
                    <a:lnTo>
                      <a:pt x="44" y="15"/>
                    </a:lnTo>
                    <a:lnTo>
                      <a:pt x="45" y="24"/>
                    </a:lnTo>
                    <a:lnTo>
                      <a:pt x="44" y="33"/>
                    </a:lnTo>
                    <a:lnTo>
                      <a:pt x="38" y="39"/>
                    </a:lnTo>
                    <a:lnTo>
                      <a:pt x="30" y="45"/>
                    </a:lnTo>
                    <a:lnTo>
                      <a:pt x="21" y="47"/>
                    </a:lnTo>
                    <a:lnTo>
                      <a:pt x="12" y="45"/>
                    </a:lnTo>
                    <a:lnTo>
                      <a:pt x="6" y="39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5"/>
                    </a:lnTo>
                    <a:lnTo>
                      <a:pt x="6" y="7"/>
                    </a:lnTo>
                    <a:lnTo>
                      <a:pt x="12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80320" y="4660920"/>
                <a:ext cx="198360" cy="317160"/>
              </a:xfrm>
              <a:custGeom>
                <a:avLst/>
                <a:gdLst/>
                <a:ahLst/>
                <a:rect l="l" t="t" r="r" b="b"/>
                <a:pathLst>
                  <a:path w="125" h="200">
                    <a:moveTo>
                      <a:pt x="60" y="200"/>
                    </a:moveTo>
                    <a:lnTo>
                      <a:pt x="51" y="200"/>
                    </a:lnTo>
                    <a:lnTo>
                      <a:pt x="42" y="198"/>
                    </a:lnTo>
                    <a:lnTo>
                      <a:pt x="34" y="197"/>
                    </a:lnTo>
                    <a:lnTo>
                      <a:pt x="28" y="194"/>
                    </a:lnTo>
                    <a:lnTo>
                      <a:pt x="22" y="191"/>
                    </a:lnTo>
                    <a:lnTo>
                      <a:pt x="16" y="186"/>
                    </a:lnTo>
                    <a:lnTo>
                      <a:pt x="12" y="180"/>
                    </a:lnTo>
                    <a:lnTo>
                      <a:pt x="9" y="174"/>
                    </a:lnTo>
                    <a:lnTo>
                      <a:pt x="3" y="162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3" y="118"/>
                    </a:lnTo>
                    <a:lnTo>
                      <a:pt x="9" y="101"/>
                    </a:lnTo>
                    <a:lnTo>
                      <a:pt x="15" y="83"/>
                    </a:lnTo>
                    <a:lnTo>
                      <a:pt x="24" y="66"/>
                    </a:lnTo>
                    <a:lnTo>
                      <a:pt x="31" y="50"/>
                    </a:lnTo>
                    <a:lnTo>
                      <a:pt x="40" y="33"/>
                    </a:lnTo>
                    <a:lnTo>
                      <a:pt x="51" y="16"/>
                    </a:lnTo>
                    <a:lnTo>
                      <a:pt x="59" y="4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74" y="16"/>
                    </a:lnTo>
                    <a:lnTo>
                      <a:pt x="84" y="33"/>
                    </a:lnTo>
                    <a:lnTo>
                      <a:pt x="93" y="50"/>
                    </a:lnTo>
                    <a:lnTo>
                      <a:pt x="101" y="66"/>
                    </a:lnTo>
                    <a:lnTo>
                      <a:pt x="108" y="83"/>
                    </a:lnTo>
                    <a:lnTo>
                      <a:pt x="116" y="101"/>
                    </a:lnTo>
                    <a:lnTo>
                      <a:pt x="121" y="118"/>
                    </a:lnTo>
                    <a:lnTo>
                      <a:pt x="124" y="133"/>
                    </a:lnTo>
                    <a:lnTo>
                      <a:pt x="125" y="148"/>
                    </a:lnTo>
                    <a:lnTo>
                      <a:pt x="122" y="162"/>
                    </a:lnTo>
                    <a:lnTo>
                      <a:pt x="116" y="174"/>
                    </a:lnTo>
                    <a:lnTo>
                      <a:pt x="111" y="180"/>
                    </a:lnTo>
                    <a:lnTo>
                      <a:pt x="107" y="186"/>
                    </a:lnTo>
                    <a:lnTo>
                      <a:pt x="102" y="191"/>
                    </a:lnTo>
                    <a:lnTo>
                      <a:pt x="96" y="194"/>
                    </a:lnTo>
                    <a:lnTo>
                      <a:pt x="89" y="197"/>
                    </a:lnTo>
                    <a:lnTo>
                      <a:pt x="81" y="198"/>
                    </a:lnTo>
                    <a:lnTo>
                      <a:pt x="72" y="200"/>
                    </a:lnTo>
                    <a:lnTo>
                      <a:pt x="62" y="200"/>
                    </a:lnTo>
                    <a:lnTo>
                      <a:pt x="6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08760" y="5357520"/>
                <a:ext cx="131760" cy="346320"/>
              </a:xfrm>
              <a:custGeom>
                <a:avLst/>
                <a:gdLst/>
                <a:ahLst/>
                <a:rect l="l" t="t" r="r" b="b"/>
                <a:pathLst>
                  <a:path w="83" h="218">
                    <a:moveTo>
                      <a:pt x="41" y="218"/>
                    </a:moveTo>
                    <a:lnTo>
                      <a:pt x="57" y="209"/>
                    </a:lnTo>
                    <a:lnTo>
                      <a:pt x="71" y="186"/>
                    </a:lnTo>
                    <a:lnTo>
                      <a:pt x="80" y="152"/>
                    </a:lnTo>
                    <a:lnTo>
                      <a:pt x="83" y="109"/>
                    </a:lnTo>
                    <a:lnTo>
                      <a:pt x="80" y="67"/>
                    </a:lnTo>
                    <a:lnTo>
                      <a:pt x="71" y="32"/>
                    </a:lnTo>
                    <a:lnTo>
                      <a:pt x="57" y="9"/>
                    </a:lnTo>
                    <a:lnTo>
                      <a:pt x="41" y="0"/>
                    </a:lnTo>
                    <a:lnTo>
                      <a:pt x="24" y="9"/>
                    </a:lnTo>
                    <a:lnTo>
                      <a:pt x="12" y="32"/>
                    </a:lnTo>
                    <a:lnTo>
                      <a:pt x="3" y="67"/>
                    </a:lnTo>
                    <a:lnTo>
                      <a:pt x="0" y="109"/>
                    </a:lnTo>
                    <a:lnTo>
                      <a:pt x="3" y="152"/>
                    </a:lnTo>
                    <a:lnTo>
                      <a:pt x="12" y="186"/>
                    </a:lnTo>
                    <a:lnTo>
                      <a:pt x="24" y="209"/>
                    </a:lnTo>
                    <a:lnTo>
                      <a:pt x="41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27840" y="5670360"/>
                <a:ext cx="95400" cy="9864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19" y="61"/>
                    </a:moveTo>
                    <a:lnTo>
                      <a:pt x="32" y="62"/>
                    </a:lnTo>
                    <a:lnTo>
                      <a:pt x="44" y="59"/>
                    </a:lnTo>
                    <a:lnTo>
                      <a:pt x="53" y="51"/>
                    </a:lnTo>
                    <a:lnTo>
                      <a:pt x="59" y="41"/>
                    </a:lnTo>
                    <a:lnTo>
                      <a:pt x="60" y="29"/>
                    </a:lnTo>
                    <a:lnTo>
                      <a:pt x="57" y="18"/>
                    </a:lnTo>
                    <a:lnTo>
                      <a:pt x="50" y="8"/>
                    </a:lnTo>
                    <a:lnTo>
                      <a:pt x="39" y="1"/>
                    </a:lnTo>
                    <a:lnTo>
                      <a:pt x="27" y="0"/>
                    </a:lnTo>
                    <a:lnTo>
                      <a:pt x="16" y="5"/>
                    </a:lnTo>
                    <a:lnTo>
                      <a:pt x="7" y="11"/>
                    </a:lnTo>
                    <a:lnTo>
                      <a:pt x="1" y="21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9" y="55"/>
                    </a:lnTo>
                    <a:lnTo>
                      <a:pt x="19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27840" y="5295600"/>
                <a:ext cx="95400" cy="9864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19" y="60"/>
                    </a:moveTo>
                    <a:lnTo>
                      <a:pt x="32" y="62"/>
                    </a:lnTo>
                    <a:lnTo>
                      <a:pt x="44" y="59"/>
                    </a:lnTo>
                    <a:lnTo>
                      <a:pt x="53" y="51"/>
                    </a:lnTo>
                    <a:lnTo>
                      <a:pt x="59" y="41"/>
                    </a:lnTo>
                    <a:lnTo>
                      <a:pt x="60" y="28"/>
                    </a:lnTo>
                    <a:lnTo>
                      <a:pt x="57" y="18"/>
                    </a:lnTo>
                    <a:lnTo>
                      <a:pt x="50" y="7"/>
                    </a:lnTo>
                    <a:lnTo>
                      <a:pt x="39" y="1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7" y="10"/>
                    </a:lnTo>
                    <a:lnTo>
                      <a:pt x="1" y="21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9" y="54"/>
                    </a:lnTo>
                    <a:lnTo>
                      <a:pt x="1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70640" y="4792680"/>
                <a:ext cx="19080" cy="523800"/>
              </a:xfrm>
              <a:custGeom>
                <a:avLst/>
                <a:gdLst/>
                <a:ahLst/>
                <a:rect l="l" t="t" r="r" b="b"/>
                <a:pathLst>
                  <a:path w="12" h="330">
                    <a:moveTo>
                      <a:pt x="0" y="33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2" y="330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45280" y="4770360"/>
                <a:ext cx="244440" cy="546120"/>
              </a:xfrm>
              <a:custGeom>
                <a:avLst/>
                <a:gdLst/>
                <a:ahLst/>
                <a:rect l="l" t="t" r="r" b="b"/>
                <a:pathLst>
                  <a:path w="154" h="344">
                    <a:moveTo>
                      <a:pt x="0" y="344"/>
                    </a:moveTo>
                    <a:lnTo>
                      <a:pt x="148" y="0"/>
                    </a:lnTo>
                    <a:lnTo>
                      <a:pt x="154" y="17"/>
                    </a:lnTo>
                    <a:lnTo>
                      <a:pt x="14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69200" y="4773600"/>
                <a:ext cx="243000" cy="542880"/>
              </a:xfrm>
              <a:custGeom>
                <a:avLst/>
                <a:gdLst/>
                <a:ahLst/>
                <a:rect l="l" t="t" r="r" b="b"/>
                <a:pathLst>
                  <a:path w="153" h="342">
                    <a:moveTo>
                      <a:pt x="153" y="341"/>
                    </a:moveTo>
                    <a:lnTo>
                      <a:pt x="7" y="0"/>
                    </a:lnTo>
                    <a:lnTo>
                      <a:pt x="0" y="15"/>
                    </a:lnTo>
                    <a:lnTo>
                      <a:pt x="139" y="342"/>
                    </a:lnTo>
                    <a:lnTo>
                      <a:pt x="153" y="3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94840" y="4978080"/>
                <a:ext cx="19080" cy="524160"/>
              </a:xfrm>
              <a:custGeom>
                <a:avLst/>
                <a:gdLst/>
                <a:ahLst/>
                <a:rect l="l" t="t" r="r" b="b"/>
                <a:pathLst>
                  <a:path w="12" h="330">
                    <a:moveTo>
                      <a:pt x="0" y="33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2" y="330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66240" y="4959360"/>
                <a:ext cx="247680" cy="544320"/>
              </a:xfrm>
              <a:custGeom>
                <a:avLst/>
                <a:gdLst/>
                <a:ahLst/>
                <a:rect l="l" t="t" r="r" b="b"/>
                <a:pathLst>
                  <a:path w="156" h="343">
                    <a:moveTo>
                      <a:pt x="0" y="343"/>
                    </a:moveTo>
                    <a:lnTo>
                      <a:pt x="148" y="0"/>
                    </a:lnTo>
                    <a:lnTo>
                      <a:pt x="156" y="15"/>
                    </a:lnTo>
                    <a:lnTo>
                      <a:pt x="15" y="342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91600" y="4959360"/>
                <a:ext cx="242640" cy="542880"/>
              </a:xfrm>
              <a:custGeom>
                <a:avLst/>
                <a:gdLst/>
                <a:ahLst/>
                <a:rect l="l" t="t" r="r" b="b"/>
                <a:pathLst>
                  <a:path w="153" h="342">
                    <a:moveTo>
                      <a:pt x="153" y="340"/>
                    </a:moveTo>
                    <a:lnTo>
                      <a:pt x="6" y="0"/>
                    </a:lnTo>
                    <a:lnTo>
                      <a:pt x="0" y="15"/>
                    </a:lnTo>
                    <a:lnTo>
                      <a:pt x="139" y="342"/>
                    </a:lnTo>
                    <a:lnTo>
                      <a:pt x="153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619-EECE-408C-8D8C-DF5EC53533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internal systems for incomplet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batch 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ll responses (acknowledg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mputerprogrammer" descr=""/>
          <p:cNvPicPr/>
          <p:nvPr/>
        </p:nvPicPr>
        <p:blipFill>
          <a:blip r:embed="rId1"/>
          <a:stretch/>
        </p:blipFill>
        <p:spPr>
          <a:xfrm>
            <a:off x="6512040" y="4075200"/>
            <a:ext cx="19461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910-E25F-46F5-A452-A9D605A30B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all rejects in a timely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Business Offic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 status measure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 you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mputerprogrammer" descr=""/>
          <p:cNvPicPr/>
          <p:nvPr/>
        </p:nvPicPr>
        <p:blipFill>
          <a:blip r:embed="rId1"/>
          <a:stretch/>
        </p:blipFill>
        <p:spPr>
          <a:xfrm>
            <a:off x="6512040" y="4075200"/>
            <a:ext cx="19461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53E-DA36-4E1B-BECC-9AF562E56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-Day Reporting Requi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95040"/>
            <a:ext cx="601992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272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have 30 days from the initial disbursement to send the origination record, p-note, and disbursem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ule applies to adjustments and subsequent disbursement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need to book in order to be sent to the Direct Loan Servicing Center (DLSC) and be serv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50000" y="1785960"/>
            <a:ext cx="522360" cy="576360"/>
          </a:xfrm>
          <a:custGeom>
            <a:avLst/>
            <a:gdLst/>
            <a:ahLst/>
            <a:rect l="l" t="t" r="r" b="b"/>
            <a:pathLst>
              <a:path w="659" h="724">
                <a:moveTo>
                  <a:pt x="313" y="724"/>
                </a:moveTo>
                <a:lnTo>
                  <a:pt x="131" y="499"/>
                </a:lnTo>
                <a:lnTo>
                  <a:pt x="0" y="320"/>
                </a:lnTo>
                <a:lnTo>
                  <a:pt x="20" y="202"/>
                </a:lnTo>
                <a:lnTo>
                  <a:pt x="92" y="71"/>
                </a:lnTo>
                <a:lnTo>
                  <a:pt x="202" y="0"/>
                </a:lnTo>
                <a:lnTo>
                  <a:pt x="284" y="0"/>
                </a:lnTo>
                <a:lnTo>
                  <a:pt x="426" y="119"/>
                </a:lnTo>
                <a:lnTo>
                  <a:pt x="608" y="261"/>
                </a:lnTo>
                <a:lnTo>
                  <a:pt x="659" y="308"/>
                </a:lnTo>
                <a:lnTo>
                  <a:pt x="414" y="702"/>
                </a:lnTo>
                <a:lnTo>
                  <a:pt x="313" y="72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00920" y="1778040"/>
            <a:ext cx="274680" cy="376200"/>
          </a:xfrm>
          <a:custGeom>
            <a:avLst/>
            <a:gdLst/>
            <a:ahLst/>
            <a:rect l="l" t="t" r="r" b="b"/>
            <a:pathLst>
              <a:path w="345" h="474">
                <a:moveTo>
                  <a:pt x="257" y="314"/>
                </a:moveTo>
                <a:lnTo>
                  <a:pt x="279" y="277"/>
                </a:lnTo>
                <a:lnTo>
                  <a:pt x="299" y="241"/>
                </a:lnTo>
                <a:lnTo>
                  <a:pt x="317" y="202"/>
                </a:lnTo>
                <a:lnTo>
                  <a:pt x="328" y="168"/>
                </a:lnTo>
                <a:lnTo>
                  <a:pt x="338" y="132"/>
                </a:lnTo>
                <a:lnTo>
                  <a:pt x="343" y="100"/>
                </a:lnTo>
                <a:lnTo>
                  <a:pt x="345" y="71"/>
                </a:lnTo>
                <a:lnTo>
                  <a:pt x="341" y="47"/>
                </a:lnTo>
                <a:lnTo>
                  <a:pt x="334" y="28"/>
                </a:lnTo>
                <a:lnTo>
                  <a:pt x="323" y="13"/>
                </a:lnTo>
                <a:lnTo>
                  <a:pt x="308" y="4"/>
                </a:lnTo>
                <a:lnTo>
                  <a:pt x="290" y="0"/>
                </a:lnTo>
                <a:lnTo>
                  <a:pt x="268" y="1"/>
                </a:lnTo>
                <a:lnTo>
                  <a:pt x="245" y="10"/>
                </a:lnTo>
                <a:lnTo>
                  <a:pt x="220" y="25"/>
                </a:lnTo>
                <a:lnTo>
                  <a:pt x="193" y="43"/>
                </a:lnTo>
                <a:lnTo>
                  <a:pt x="166" y="66"/>
                </a:lnTo>
                <a:lnTo>
                  <a:pt x="140" y="95"/>
                </a:lnTo>
                <a:lnTo>
                  <a:pt x="113" y="126"/>
                </a:lnTo>
                <a:lnTo>
                  <a:pt x="88" y="160"/>
                </a:lnTo>
                <a:lnTo>
                  <a:pt x="66" y="197"/>
                </a:lnTo>
                <a:lnTo>
                  <a:pt x="46" y="233"/>
                </a:lnTo>
                <a:lnTo>
                  <a:pt x="28" y="271"/>
                </a:lnTo>
                <a:lnTo>
                  <a:pt x="17" y="306"/>
                </a:lnTo>
                <a:lnTo>
                  <a:pt x="7" y="341"/>
                </a:lnTo>
                <a:lnTo>
                  <a:pt x="2" y="373"/>
                </a:lnTo>
                <a:lnTo>
                  <a:pt x="0" y="402"/>
                </a:lnTo>
                <a:lnTo>
                  <a:pt x="4" y="426"/>
                </a:lnTo>
                <a:lnTo>
                  <a:pt x="11" y="446"/>
                </a:lnTo>
                <a:lnTo>
                  <a:pt x="22" y="461"/>
                </a:lnTo>
                <a:lnTo>
                  <a:pt x="37" y="470"/>
                </a:lnTo>
                <a:lnTo>
                  <a:pt x="55" y="474"/>
                </a:lnTo>
                <a:lnTo>
                  <a:pt x="77" y="473"/>
                </a:lnTo>
                <a:lnTo>
                  <a:pt x="100" y="463"/>
                </a:lnTo>
                <a:lnTo>
                  <a:pt x="125" y="449"/>
                </a:lnTo>
                <a:lnTo>
                  <a:pt x="152" y="430"/>
                </a:lnTo>
                <a:lnTo>
                  <a:pt x="179" y="408"/>
                </a:lnTo>
                <a:lnTo>
                  <a:pt x="205" y="379"/>
                </a:lnTo>
                <a:lnTo>
                  <a:pt x="232" y="348"/>
                </a:lnTo>
                <a:lnTo>
                  <a:pt x="257" y="3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978600" y="2109960"/>
            <a:ext cx="1677960" cy="2233080"/>
            <a:chOff x="6978600" y="2109960"/>
            <a:chExt cx="1677960" cy="2233080"/>
          </a:xfrm>
        </p:grpSpPr>
        <p:sp>
          <p:nvSpPr>
            <p:cNvPr id="129" name=""/>
            <p:cNvSpPr/>
            <p:nvPr/>
          </p:nvSpPr>
          <p:spPr>
            <a:xfrm>
              <a:off x="7985160" y="3560760"/>
              <a:ext cx="671400" cy="782280"/>
            </a:xfrm>
            <a:custGeom>
              <a:avLst/>
              <a:gdLst/>
              <a:ahLst/>
              <a:rect l="l" t="t" r="r" b="b"/>
              <a:pathLst>
                <a:path w="847" h="987">
                  <a:moveTo>
                    <a:pt x="34" y="756"/>
                  </a:moveTo>
                  <a:lnTo>
                    <a:pt x="20" y="775"/>
                  </a:lnTo>
                  <a:lnTo>
                    <a:pt x="10" y="795"/>
                  </a:lnTo>
                  <a:lnTo>
                    <a:pt x="3" y="816"/>
                  </a:lnTo>
                  <a:lnTo>
                    <a:pt x="0" y="838"/>
                  </a:lnTo>
                  <a:lnTo>
                    <a:pt x="0" y="861"/>
                  </a:lnTo>
                  <a:lnTo>
                    <a:pt x="3" y="885"/>
                  </a:lnTo>
                  <a:lnTo>
                    <a:pt x="10" y="907"/>
                  </a:lnTo>
                  <a:lnTo>
                    <a:pt x="20" y="926"/>
                  </a:lnTo>
                  <a:lnTo>
                    <a:pt x="34" y="944"/>
                  </a:lnTo>
                  <a:lnTo>
                    <a:pt x="36" y="947"/>
                  </a:lnTo>
                  <a:lnTo>
                    <a:pt x="52" y="962"/>
                  </a:lnTo>
                  <a:lnTo>
                    <a:pt x="68" y="975"/>
                  </a:lnTo>
                  <a:lnTo>
                    <a:pt x="87" y="981"/>
                  </a:lnTo>
                  <a:lnTo>
                    <a:pt x="107" y="987"/>
                  </a:lnTo>
                  <a:lnTo>
                    <a:pt x="126" y="987"/>
                  </a:lnTo>
                  <a:lnTo>
                    <a:pt x="146" y="981"/>
                  </a:lnTo>
                  <a:lnTo>
                    <a:pt x="165" y="975"/>
                  </a:lnTo>
                  <a:lnTo>
                    <a:pt x="182" y="962"/>
                  </a:lnTo>
                  <a:lnTo>
                    <a:pt x="198" y="947"/>
                  </a:lnTo>
                  <a:lnTo>
                    <a:pt x="812" y="231"/>
                  </a:lnTo>
                  <a:lnTo>
                    <a:pt x="825" y="212"/>
                  </a:lnTo>
                  <a:lnTo>
                    <a:pt x="836" y="192"/>
                  </a:lnTo>
                  <a:lnTo>
                    <a:pt x="842" y="171"/>
                  </a:lnTo>
                  <a:lnTo>
                    <a:pt x="847" y="147"/>
                  </a:lnTo>
                  <a:lnTo>
                    <a:pt x="847" y="125"/>
                  </a:lnTo>
                  <a:lnTo>
                    <a:pt x="842" y="102"/>
                  </a:lnTo>
                  <a:lnTo>
                    <a:pt x="836" y="80"/>
                  </a:lnTo>
                  <a:lnTo>
                    <a:pt x="825" y="61"/>
                  </a:lnTo>
                  <a:lnTo>
                    <a:pt x="812" y="43"/>
                  </a:lnTo>
                  <a:lnTo>
                    <a:pt x="810" y="40"/>
                  </a:lnTo>
                  <a:lnTo>
                    <a:pt x="794" y="24"/>
                  </a:lnTo>
                  <a:lnTo>
                    <a:pt x="778" y="12"/>
                  </a:lnTo>
                  <a:lnTo>
                    <a:pt x="759" y="4"/>
                  </a:lnTo>
                  <a:lnTo>
                    <a:pt x="739" y="0"/>
                  </a:lnTo>
                  <a:lnTo>
                    <a:pt x="719" y="0"/>
                  </a:lnTo>
                  <a:lnTo>
                    <a:pt x="700" y="4"/>
                  </a:lnTo>
                  <a:lnTo>
                    <a:pt x="682" y="12"/>
                  </a:lnTo>
                  <a:lnTo>
                    <a:pt x="665" y="24"/>
                  </a:lnTo>
                  <a:lnTo>
                    <a:pt x="649" y="40"/>
                  </a:lnTo>
                  <a:lnTo>
                    <a:pt x="34" y="756"/>
                  </a:lnTo>
                  <a:close/>
                </a:path>
              </a:pathLst>
            </a:custGeom>
            <a:solidFill>
              <a:srgbClr val="9966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96240" y="2468520"/>
              <a:ext cx="1434960" cy="1564920"/>
            </a:xfrm>
            <a:custGeom>
              <a:avLst/>
              <a:gdLst/>
              <a:ahLst/>
              <a:rect l="l" t="t" r="r" b="b"/>
              <a:pathLst>
                <a:path w="1807" h="1970">
                  <a:moveTo>
                    <a:pt x="768" y="1034"/>
                  </a:moveTo>
                  <a:lnTo>
                    <a:pt x="706" y="984"/>
                  </a:lnTo>
                  <a:lnTo>
                    <a:pt x="646" y="965"/>
                  </a:lnTo>
                  <a:lnTo>
                    <a:pt x="526" y="957"/>
                  </a:lnTo>
                  <a:lnTo>
                    <a:pt x="434" y="933"/>
                  </a:lnTo>
                  <a:lnTo>
                    <a:pt x="308" y="905"/>
                  </a:lnTo>
                  <a:lnTo>
                    <a:pt x="202" y="858"/>
                  </a:lnTo>
                  <a:lnTo>
                    <a:pt x="115" y="815"/>
                  </a:lnTo>
                  <a:lnTo>
                    <a:pt x="65" y="748"/>
                  </a:lnTo>
                  <a:lnTo>
                    <a:pt x="20" y="663"/>
                  </a:lnTo>
                  <a:lnTo>
                    <a:pt x="0" y="581"/>
                  </a:lnTo>
                  <a:lnTo>
                    <a:pt x="0" y="498"/>
                  </a:lnTo>
                  <a:lnTo>
                    <a:pt x="34" y="406"/>
                  </a:lnTo>
                  <a:lnTo>
                    <a:pt x="259" y="156"/>
                  </a:lnTo>
                  <a:lnTo>
                    <a:pt x="401" y="0"/>
                  </a:lnTo>
                  <a:lnTo>
                    <a:pt x="472" y="12"/>
                  </a:lnTo>
                  <a:lnTo>
                    <a:pt x="544" y="29"/>
                  </a:lnTo>
                  <a:lnTo>
                    <a:pt x="641" y="69"/>
                  </a:lnTo>
                  <a:lnTo>
                    <a:pt x="696" y="124"/>
                  </a:lnTo>
                  <a:lnTo>
                    <a:pt x="771" y="235"/>
                  </a:lnTo>
                  <a:lnTo>
                    <a:pt x="807" y="344"/>
                  </a:lnTo>
                  <a:lnTo>
                    <a:pt x="829" y="480"/>
                  </a:lnTo>
                  <a:lnTo>
                    <a:pt x="846" y="594"/>
                  </a:lnTo>
                  <a:lnTo>
                    <a:pt x="855" y="724"/>
                  </a:lnTo>
                  <a:lnTo>
                    <a:pt x="863" y="794"/>
                  </a:lnTo>
                  <a:lnTo>
                    <a:pt x="896" y="866"/>
                  </a:lnTo>
                  <a:lnTo>
                    <a:pt x="941" y="917"/>
                  </a:lnTo>
                  <a:lnTo>
                    <a:pt x="1002" y="970"/>
                  </a:lnTo>
                  <a:lnTo>
                    <a:pt x="1106" y="1005"/>
                  </a:lnTo>
                  <a:lnTo>
                    <a:pt x="1234" y="1025"/>
                  </a:lnTo>
                  <a:lnTo>
                    <a:pt x="1362" y="1051"/>
                  </a:lnTo>
                  <a:lnTo>
                    <a:pt x="1441" y="1068"/>
                  </a:lnTo>
                  <a:lnTo>
                    <a:pt x="1531" y="1092"/>
                  </a:lnTo>
                  <a:lnTo>
                    <a:pt x="1620" y="1112"/>
                  </a:lnTo>
                  <a:lnTo>
                    <a:pt x="1723" y="1190"/>
                  </a:lnTo>
                  <a:lnTo>
                    <a:pt x="1767" y="1260"/>
                  </a:lnTo>
                  <a:lnTo>
                    <a:pt x="1797" y="1321"/>
                  </a:lnTo>
                  <a:lnTo>
                    <a:pt x="1807" y="1413"/>
                  </a:lnTo>
                  <a:lnTo>
                    <a:pt x="1805" y="1496"/>
                  </a:lnTo>
                  <a:lnTo>
                    <a:pt x="1800" y="1552"/>
                  </a:lnTo>
                  <a:lnTo>
                    <a:pt x="1752" y="1626"/>
                  </a:lnTo>
                  <a:lnTo>
                    <a:pt x="1728" y="1675"/>
                  </a:lnTo>
                  <a:lnTo>
                    <a:pt x="1506" y="1913"/>
                  </a:lnTo>
                  <a:lnTo>
                    <a:pt x="1434" y="1934"/>
                  </a:lnTo>
                  <a:lnTo>
                    <a:pt x="1296" y="1970"/>
                  </a:lnTo>
                  <a:lnTo>
                    <a:pt x="1220" y="1965"/>
                  </a:lnTo>
                  <a:lnTo>
                    <a:pt x="1172" y="1952"/>
                  </a:lnTo>
                  <a:lnTo>
                    <a:pt x="1120" y="1912"/>
                  </a:lnTo>
                  <a:lnTo>
                    <a:pt x="1020" y="1807"/>
                  </a:lnTo>
                  <a:lnTo>
                    <a:pt x="950" y="1729"/>
                  </a:lnTo>
                  <a:lnTo>
                    <a:pt x="923" y="1662"/>
                  </a:lnTo>
                  <a:lnTo>
                    <a:pt x="898" y="1587"/>
                  </a:lnTo>
                  <a:lnTo>
                    <a:pt x="889" y="1476"/>
                  </a:lnTo>
                  <a:lnTo>
                    <a:pt x="890" y="1407"/>
                  </a:lnTo>
                  <a:lnTo>
                    <a:pt x="907" y="1308"/>
                  </a:lnTo>
                  <a:lnTo>
                    <a:pt x="899" y="1238"/>
                  </a:lnTo>
                  <a:lnTo>
                    <a:pt x="863" y="1172"/>
                  </a:lnTo>
                  <a:lnTo>
                    <a:pt x="813" y="1092"/>
                  </a:lnTo>
                  <a:lnTo>
                    <a:pt x="756" y="1021"/>
                  </a:lnTo>
                  <a:lnTo>
                    <a:pt x="768" y="10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97840" y="3028680"/>
              <a:ext cx="523800" cy="528480"/>
            </a:xfrm>
            <a:custGeom>
              <a:avLst/>
              <a:gdLst/>
              <a:ahLst/>
              <a:rect l="l" t="t" r="r" b="b"/>
              <a:pathLst>
                <a:path w="660" h="665">
                  <a:moveTo>
                    <a:pt x="585" y="0"/>
                  </a:moveTo>
                  <a:lnTo>
                    <a:pt x="416" y="60"/>
                  </a:lnTo>
                  <a:lnTo>
                    <a:pt x="267" y="60"/>
                  </a:lnTo>
                  <a:lnTo>
                    <a:pt x="223" y="96"/>
                  </a:lnTo>
                  <a:lnTo>
                    <a:pt x="31" y="96"/>
                  </a:lnTo>
                  <a:lnTo>
                    <a:pt x="0" y="143"/>
                  </a:lnTo>
                  <a:lnTo>
                    <a:pt x="75" y="191"/>
                  </a:lnTo>
                  <a:lnTo>
                    <a:pt x="160" y="226"/>
                  </a:lnTo>
                  <a:lnTo>
                    <a:pt x="277" y="239"/>
                  </a:lnTo>
                  <a:lnTo>
                    <a:pt x="458" y="275"/>
                  </a:lnTo>
                  <a:lnTo>
                    <a:pt x="543" y="333"/>
                  </a:lnTo>
                  <a:lnTo>
                    <a:pt x="596" y="416"/>
                  </a:lnTo>
                  <a:lnTo>
                    <a:pt x="638" y="500"/>
                  </a:lnTo>
                  <a:lnTo>
                    <a:pt x="660" y="571"/>
                  </a:lnTo>
                  <a:lnTo>
                    <a:pt x="660" y="665"/>
                  </a:lnTo>
                  <a:lnTo>
                    <a:pt x="618" y="309"/>
                  </a:lnTo>
                  <a:lnTo>
                    <a:pt x="575" y="167"/>
                  </a:lnTo>
                  <a:lnTo>
                    <a:pt x="58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6840" y="3746520"/>
              <a:ext cx="625680" cy="291600"/>
            </a:xfrm>
            <a:custGeom>
              <a:avLst/>
              <a:gdLst/>
              <a:ahLst/>
              <a:rect l="l" t="t" r="r" b="b"/>
              <a:pathLst>
                <a:path w="787" h="368">
                  <a:moveTo>
                    <a:pt x="0" y="47"/>
                  </a:moveTo>
                  <a:lnTo>
                    <a:pt x="191" y="0"/>
                  </a:lnTo>
                  <a:lnTo>
                    <a:pt x="287" y="47"/>
                  </a:lnTo>
                  <a:lnTo>
                    <a:pt x="329" y="34"/>
                  </a:lnTo>
                  <a:lnTo>
                    <a:pt x="510" y="58"/>
                  </a:lnTo>
                  <a:lnTo>
                    <a:pt x="574" y="12"/>
                  </a:lnTo>
                  <a:lnTo>
                    <a:pt x="659" y="23"/>
                  </a:lnTo>
                  <a:lnTo>
                    <a:pt x="787" y="23"/>
                  </a:lnTo>
                  <a:lnTo>
                    <a:pt x="712" y="129"/>
                  </a:lnTo>
                  <a:lnTo>
                    <a:pt x="637" y="237"/>
                  </a:lnTo>
                  <a:lnTo>
                    <a:pt x="553" y="296"/>
                  </a:lnTo>
                  <a:lnTo>
                    <a:pt x="458" y="332"/>
                  </a:lnTo>
                  <a:lnTo>
                    <a:pt x="341" y="356"/>
                  </a:lnTo>
                  <a:lnTo>
                    <a:pt x="244" y="368"/>
                  </a:lnTo>
                  <a:lnTo>
                    <a:pt x="149" y="296"/>
                  </a:lnTo>
                  <a:lnTo>
                    <a:pt x="75" y="226"/>
                  </a:lnTo>
                  <a:lnTo>
                    <a:pt x="21" y="141"/>
                  </a:lnTo>
                  <a:lnTo>
                    <a:pt x="0" y="4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3520" y="2109960"/>
              <a:ext cx="162000" cy="1028520"/>
            </a:xfrm>
            <a:custGeom>
              <a:avLst/>
              <a:gdLst/>
              <a:ahLst/>
              <a:rect l="l" t="t" r="r" b="b"/>
              <a:pathLst>
                <a:path w="203" h="1296">
                  <a:moveTo>
                    <a:pt x="12" y="281"/>
                  </a:moveTo>
                  <a:lnTo>
                    <a:pt x="0" y="250"/>
                  </a:lnTo>
                  <a:lnTo>
                    <a:pt x="0" y="213"/>
                  </a:lnTo>
                  <a:lnTo>
                    <a:pt x="12" y="165"/>
                  </a:lnTo>
                  <a:lnTo>
                    <a:pt x="33" y="122"/>
                  </a:lnTo>
                  <a:lnTo>
                    <a:pt x="60" y="67"/>
                  </a:lnTo>
                  <a:lnTo>
                    <a:pt x="87" y="30"/>
                  </a:lnTo>
                  <a:lnTo>
                    <a:pt x="109" y="0"/>
                  </a:lnTo>
                  <a:lnTo>
                    <a:pt x="149" y="0"/>
                  </a:lnTo>
                  <a:lnTo>
                    <a:pt x="172" y="20"/>
                  </a:lnTo>
                  <a:lnTo>
                    <a:pt x="188" y="54"/>
                  </a:lnTo>
                  <a:lnTo>
                    <a:pt x="203" y="111"/>
                  </a:lnTo>
                  <a:lnTo>
                    <a:pt x="200" y="169"/>
                  </a:lnTo>
                  <a:lnTo>
                    <a:pt x="194" y="220"/>
                  </a:lnTo>
                  <a:lnTo>
                    <a:pt x="176" y="335"/>
                  </a:lnTo>
                  <a:lnTo>
                    <a:pt x="163" y="494"/>
                  </a:lnTo>
                  <a:lnTo>
                    <a:pt x="163" y="605"/>
                  </a:lnTo>
                  <a:lnTo>
                    <a:pt x="163" y="646"/>
                  </a:lnTo>
                  <a:lnTo>
                    <a:pt x="170" y="853"/>
                  </a:lnTo>
                  <a:lnTo>
                    <a:pt x="172" y="1002"/>
                  </a:lnTo>
                  <a:lnTo>
                    <a:pt x="176" y="1147"/>
                  </a:lnTo>
                  <a:lnTo>
                    <a:pt x="176" y="1296"/>
                  </a:lnTo>
                  <a:lnTo>
                    <a:pt x="143" y="1276"/>
                  </a:lnTo>
                  <a:lnTo>
                    <a:pt x="118" y="1259"/>
                  </a:lnTo>
                  <a:lnTo>
                    <a:pt x="118" y="1155"/>
                  </a:lnTo>
                  <a:lnTo>
                    <a:pt x="114" y="951"/>
                  </a:lnTo>
                  <a:lnTo>
                    <a:pt x="103" y="711"/>
                  </a:lnTo>
                  <a:lnTo>
                    <a:pt x="81" y="572"/>
                  </a:lnTo>
                  <a:lnTo>
                    <a:pt x="54" y="376"/>
                  </a:lnTo>
                  <a:lnTo>
                    <a:pt x="27" y="300"/>
                  </a:lnTo>
                  <a:lnTo>
                    <a:pt x="12" y="28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8600" y="2458800"/>
              <a:ext cx="1474920" cy="1596960"/>
            </a:xfrm>
            <a:custGeom>
              <a:avLst/>
              <a:gdLst/>
              <a:ahLst/>
              <a:rect l="l" t="t" r="r" b="b"/>
              <a:pathLst>
                <a:path w="1858" h="2011">
                  <a:moveTo>
                    <a:pt x="1456" y="1977"/>
                  </a:moveTo>
                  <a:lnTo>
                    <a:pt x="1368" y="1999"/>
                  </a:lnTo>
                  <a:lnTo>
                    <a:pt x="1281" y="2011"/>
                  </a:lnTo>
                  <a:lnTo>
                    <a:pt x="1222" y="2002"/>
                  </a:lnTo>
                  <a:lnTo>
                    <a:pt x="1162" y="1970"/>
                  </a:lnTo>
                  <a:lnTo>
                    <a:pt x="1110" y="1928"/>
                  </a:lnTo>
                  <a:lnTo>
                    <a:pt x="1051" y="1870"/>
                  </a:lnTo>
                  <a:lnTo>
                    <a:pt x="988" y="1793"/>
                  </a:lnTo>
                  <a:lnTo>
                    <a:pt x="945" y="1732"/>
                  </a:lnTo>
                  <a:lnTo>
                    <a:pt x="918" y="1674"/>
                  </a:lnTo>
                  <a:lnTo>
                    <a:pt x="898" y="1597"/>
                  </a:lnTo>
                  <a:lnTo>
                    <a:pt x="891" y="1525"/>
                  </a:lnTo>
                  <a:lnTo>
                    <a:pt x="884" y="1468"/>
                  </a:lnTo>
                  <a:lnTo>
                    <a:pt x="893" y="1382"/>
                  </a:lnTo>
                  <a:lnTo>
                    <a:pt x="904" y="1315"/>
                  </a:lnTo>
                  <a:lnTo>
                    <a:pt x="904" y="1275"/>
                  </a:lnTo>
                  <a:lnTo>
                    <a:pt x="888" y="1226"/>
                  </a:lnTo>
                  <a:lnTo>
                    <a:pt x="861" y="1172"/>
                  </a:lnTo>
                  <a:lnTo>
                    <a:pt x="831" y="1125"/>
                  </a:lnTo>
                  <a:lnTo>
                    <a:pt x="795" y="1086"/>
                  </a:lnTo>
                  <a:lnTo>
                    <a:pt x="761" y="1047"/>
                  </a:lnTo>
                  <a:lnTo>
                    <a:pt x="726" y="1021"/>
                  </a:lnTo>
                  <a:lnTo>
                    <a:pt x="658" y="1001"/>
                  </a:lnTo>
                  <a:lnTo>
                    <a:pt x="598" y="998"/>
                  </a:lnTo>
                  <a:lnTo>
                    <a:pt x="543" y="997"/>
                  </a:lnTo>
                  <a:lnTo>
                    <a:pt x="477" y="977"/>
                  </a:lnTo>
                  <a:lnTo>
                    <a:pt x="404" y="961"/>
                  </a:lnTo>
                  <a:lnTo>
                    <a:pt x="314" y="940"/>
                  </a:lnTo>
                  <a:lnTo>
                    <a:pt x="238" y="903"/>
                  </a:lnTo>
                  <a:lnTo>
                    <a:pt x="165" y="870"/>
                  </a:lnTo>
                  <a:lnTo>
                    <a:pt x="120" y="842"/>
                  </a:lnTo>
                  <a:lnTo>
                    <a:pt x="89" y="809"/>
                  </a:lnTo>
                  <a:lnTo>
                    <a:pt x="70" y="768"/>
                  </a:lnTo>
                  <a:lnTo>
                    <a:pt x="28" y="695"/>
                  </a:lnTo>
                  <a:lnTo>
                    <a:pt x="9" y="629"/>
                  </a:lnTo>
                  <a:lnTo>
                    <a:pt x="6" y="572"/>
                  </a:lnTo>
                  <a:lnTo>
                    <a:pt x="0" y="511"/>
                  </a:lnTo>
                  <a:lnTo>
                    <a:pt x="9" y="455"/>
                  </a:lnTo>
                  <a:lnTo>
                    <a:pt x="29" y="412"/>
                  </a:lnTo>
                  <a:lnTo>
                    <a:pt x="70" y="361"/>
                  </a:lnTo>
                  <a:lnTo>
                    <a:pt x="92" y="394"/>
                  </a:lnTo>
                  <a:lnTo>
                    <a:pt x="65" y="461"/>
                  </a:lnTo>
                  <a:lnTo>
                    <a:pt x="46" y="536"/>
                  </a:lnTo>
                  <a:lnTo>
                    <a:pt x="49" y="597"/>
                  </a:lnTo>
                  <a:lnTo>
                    <a:pt x="63" y="650"/>
                  </a:lnTo>
                  <a:lnTo>
                    <a:pt x="92" y="711"/>
                  </a:lnTo>
                  <a:lnTo>
                    <a:pt x="121" y="765"/>
                  </a:lnTo>
                  <a:lnTo>
                    <a:pt x="161" y="809"/>
                  </a:lnTo>
                  <a:lnTo>
                    <a:pt x="241" y="851"/>
                  </a:lnTo>
                  <a:lnTo>
                    <a:pt x="303" y="871"/>
                  </a:lnTo>
                  <a:lnTo>
                    <a:pt x="378" y="896"/>
                  </a:lnTo>
                  <a:lnTo>
                    <a:pt x="431" y="908"/>
                  </a:lnTo>
                  <a:lnTo>
                    <a:pt x="503" y="935"/>
                  </a:lnTo>
                  <a:lnTo>
                    <a:pt x="569" y="940"/>
                  </a:lnTo>
                  <a:lnTo>
                    <a:pt x="637" y="945"/>
                  </a:lnTo>
                  <a:lnTo>
                    <a:pt x="680" y="945"/>
                  </a:lnTo>
                  <a:lnTo>
                    <a:pt x="747" y="969"/>
                  </a:lnTo>
                  <a:lnTo>
                    <a:pt x="787" y="1005"/>
                  </a:lnTo>
                  <a:lnTo>
                    <a:pt x="824" y="1043"/>
                  </a:lnTo>
                  <a:lnTo>
                    <a:pt x="871" y="1099"/>
                  </a:lnTo>
                  <a:lnTo>
                    <a:pt x="902" y="1145"/>
                  </a:lnTo>
                  <a:lnTo>
                    <a:pt x="932" y="1203"/>
                  </a:lnTo>
                  <a:lnTo>
                    <a:pt x="952" y="1248"/>
                  </a:lnTo>
                  <a:lnTo>
                    <a:pt x="954" y="1308"/>
                  </a:lnTo>
                  <a:lnTo>
                    <a:pt x="949" y="1353"/>
                  </a:lnTo>
                  <a:lnTo>
                    <a:pt x="940" y="1423"/>
                  </a:lnTo>
                  <a:lnTo>
                    <a:pt x="934" y="1523"/>
                  </a:lnTo>
                  <a:lnTo>
                    <a:pt x="949" y="1594"/>
                  </a:lnTo>
                  <a:lnTo>
                    <a:pt x="961" y="1648"/>
                  </a:lnTo>
                  <a:lnTo>
                    <a:pt x="979" y="1695"/>
                  </a:lnTo>
                  <a:lnTo>
                    <a:pt x="1002" y="1736"/>
                  </a:lnTo>
                  <a:lnTo>
                    <a:pt x="1104" y="1850"/>
                  </a:lnTo>
                  <a:lnTo>
                    <a:pt x="1150" y="1896"/>
                  </a:lnTo>
                  <a:lnTo>
                    <a:pt x="1182" y="1921"/>
                  </a:lnTo>
                  <a:lnTo>
                    <a:pt x="1228" y="1937"/>
                  </a:lnTo>
                  <a:lnTo>
                    <a:pt x="1279" y="1949"/>
                  </a:lnTo>
                  <a:lnTo>
                    <a:pt x="1330" y="1944"/>
                  </a:lnTo>
                  <a:lnTo>
                    <a:pt x="1385" y="1923"/>
                  </a:lnTo>
                  <a:lnTo>
                    <a:pt x="1448" y="1909"/>
                  </a:lnTo>
                  <a:lnTo>
                    <a:pt x="1496" y="1892"/>
                  </a:lnTo>
                  <a:lnTo>
                    <a:pt x="1541" y="1870"/>
                  </a:lnTo>
                  <a:lnTo>
                    <a:pt x="1593" y="1817"/>
                  </a:lnTo>
                  <a:lnTo>
                    <a:pt x="1695" y="1701"/>
                  </a:lnTo>
                  <a:lnTo>
                    <a:pt x="1757" y="1617"/>
                  </a:lnTo>
                  <a:lnTo>
                    <a:pt x="1794" y="1538"/>
                  </a:lnTo>
                  <a:lnTo>
                    <a:pt x="1795" y="1483"/>
                  </a:lnTo>
                  <a:lnTo>
                    <a:pt x="1799" y="1398"/>
                  </a:lnTo>
                  <a:lnTo>
                    <a:pt x="1793" y="1336"/>
                  </a:lnTo>
                  <a:lnTo>
                    <a:pt x="1767" y="1271"/>
                  </a:lnTo>
                  <a:lnTo>
                    <a:pt x="1721" y="1217"/>
                  </a:lnTo>
                  <a:lnTo>
                    <a:pt x="1688" y="1184"/>
                  </a:lnTo>
                  <a:lnTo>
                    <a:pt x="1638" y="1160"/>
                  </a:lnTo>
                  <a:lnTo>
                    <a:pt x="1593" y="1145"/>
                  </a:lnTo>
                  <a:lnTo>
                    <a:pt x="1535" y="1120"/>
                  </a:lnTo>
                  <a:lnTo>
                    <a:pt x="1443" y="1102"/>
                  </a:lnTo>
                  <a:lnTo>
                    <a:pt x="1353" y="1082"/>
                  </a:lnTo>
                  <a:lnTo>
                    <a:pt x="1285" y="1064"/>
                  </a:lnTo>
                  <a:lnTo>
                    <a:pt x="1198" y="1053"/>
                  </a:lnTo>
                  <a:lnTo>
                    <a:pt x="1113" y="1042"/>
                  </a:lnTo>
                  <a:lnTo>
                    <a:pt x="1060" y="1022"/>
                  </a:lnTo>
                  <a:lnTo>
                    <a:pt x="1001" y="988"/>
                  </a:lnTo>
                  <a:lnTo>
                    <a:pt x="954" y="952"/>
                  </a:lnTo>
                  <a:lnTo>
                    <a:pt x="922" y="916"/>
                  </a:lnTo>
                  <a:lnTo>
                    <a:pt x="879" y="857"/>
                  </a:lnTo>
                  <a:lnTo>
                    <a:pt x="852" y="798"/>
                  </a:lnTo>
                  <a:lnTo>
                    <a:pt x="846" y="711"/>
                  </a:lnTo>
                  <a:lnTo>
                    <a:pt x="843" y="619"/>
                  </a:lnTo>
                  <a:lnTo>
                    <a:pt x="823" y="495"/>
                  </a:lnTo>
                  <a:lnTo>
                    <a:pt x="814" y="414"/>
                  </a:lnTo>
                  <a:lnTo>
                    <a:pt x="791" y="304"/>
                  </a:lnTo>
                  <a:lnTo>
                    <a:pt x="749" y="229"/>
                  </a:lnTo>
                  <a:lnTo>
                    <a:pt x="708" y="171"/>
                  </a:lnTo>
                  <a:lnTo>
                    <a:pt x="660" y="118"/>
                  </a:lnTo>
                  <a:lnTo>
                    <a:pt x="603" y="79"/>
                  </a:lnTo>
                  <a:lnTo>
                    <a:pt x="539" y="57"/>
                  </a:lnTo>
                  <a:lnTo>
                    <a:pt x="461" y="50"/>
                  </a:lnTo>
                  <a:lnTo>
                    <a:pt x="421" y="63"/>
                  </a:lnTo>
                  <a:lnTo>
                    <a:pt x="377" y="100"/>
                  </a:lnTo>
                  <a:lnTo>
                    <a:pt x="337" y="131"/>
                  </a:lnTo>
                  <a:lnTo>
                    <a:pt x="321" y="96"/>
                  </a:lnTo>
                  <a:lnTo>
                    <a:pt x="417" y="2"/>
                  </a:lnTo>
                  <a:lnTo>
                    <a:pt x="458" y="0"/>
                  </a:lnTo>
                  <a:lnTo>
                    <a:pt x="492" y="2"/>
                  </a:lnTo>
                  <a:lnTo>
                    <a:pt x="558" y="8"/>
                  </a:lnTo>
                  <a:lnTo>
                    <a:pt x="611" y="38"/>
                  </a:lnTo>
                  <a:lnTo>
                    <a:pt x="673" y="63"/>
                  </a:lnTo>
                  <a:lnTo>
                    <a:pt x="723" y="115"/>
                  </a:lnTo>
                  <a:lnTo>
                    <a:pt x="774" y="172"/>
                  </a:lnTo>
                  <a:lnTo>
                    <a:pt x="812" y="238"/>
                  </a:lnTo>
                  <a:lnTo>
                    <a:pt x="838" y="315"/>
                  </a:lnTo>
                  <a:lnTo>
                    <a:pt x="855" y="394"/>
                  </a:lnTo>
                  <a:lnTo>
                    <a:pt x="869" y="467"/>
                  </a:lnTo>
                  <a:lnTo>
                    <a:pt x="884" y="585"/>
                  </a:lnTo>
                  <a:lnTo>
                    <a:pt x="894" y="668"/>
                  </a:lnTo>
                  <a:lnTo>
                    <a:pt x="902" y="769"/>
                  </a:lnTo>
                  <a:lnTo>
                    <a:pt x="914" y="823"/>
                  </a:lnTo>
                  <a:lnTo>
                    <a:pt x="941" y="872"/>
                  </a:lnTo>
                  <a:lnTo>
                    <a:pt x="976" y="916"/>
                  </a:lnTo>
                  <a:lnTo>
                    <a:pt x="1035" y="956"/>
                  </a:lnTo>
                  <a:lnTo>
                    <a:pt x="1087" y="978"/>
                  </a:lnTo>
                  <a:lnTo>
                    <a:pt x="1197" y="1002"/>
                  </a:lnTo>
                  <a:lnTo>
                    <a:pt x="1290" y="1013"/>
                  </a:lnTo>
                  <a:lnTo>
                    <a:pt x="1383" y="1034"/>
                  </a:lnTo>
                  <a:lnTo>
                    <a:pt x="1491" y="1058"/>
                  </a:lnTo>
                  <a:lnTo>
                    <a:pt x="1584" y="1078"/>
                  </a:lnTo>
                  <a:lnTo>
                    <a:pt x="1637" y="1100"/>
                  </a:lnTo>
                  <a:lnTo>
                    <a:pt x="1693" y="1139"/>
                  </a:lnTo>
                  <a:lnTo>
                    <a:pt x="1763" y="1184"/>
                  </a:lnTo>
                  <a:lnTo>
                    <a:pt x="1802" y="1235"/>
                  </a:lnTo>
                  <a:lnTo>
                    <a:pt x="1830" y="1292"/>
                  </a:lnTo>
                  <a:lnTo>
                    <a:pt x="1852" y="1374"/>
                  </a:lnTo>
                  <a:lnTo>
                    <a:pt x="1858" y="1452"/>
                  </a:lnTo>
                  <a:lnTo>
                    <a:pt x="1849" y="1542"/>
                  </a:lnTo>
                  <a:lnTo>
                    <a:pt x="1826" y="1610"/>
                  </a:lnTo>
                  <a:lnTo>
                    <a:pt x="1771" y="1684"/>
                  </a:lnTo>
                  <a:lnTo>
                    <a:pt x="1675" y="1799"/>
                  </a:lnTo>
                  <a:lnTo>
                    <a:pt x="1579" y="1912"/>
                  </a:lnTo>
                  <a:lnTo>
                    <a:pt x="1510" y="1962"/>
                  </a:lnTo>
                  <a:lnTo>
                    <a:pt x="1456" y="1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183360" y="1924200"/>
            <a:ext cx="1003320" cy="2190600"/>
            <a:chOff x="6183360" y="1924200"/>
            <a:chExt cx="1003320" cy="2190600"/>
          </a:xfrm>
        </p:grpSpPr>
        <p:sp>
          <p:nvSpPr>
            <p:cNvPr id="136" name=""/>
            <p:cNvSpPr/>
            <p:nvPr/>
          </p:nvSpPr>
          <p:spPr>
            <a:xfrm>
              <a:off x="6467400" y="2228760"/>
              <a:ext cx="412920" cy="407880"/>
            </a:xfrm>
            <a:custGeom>
              <a:avLst/>
              <a:gdLst/>
              <a:ahLst/>
              <a:rect l="l" t="t" r="r" b="b"/>
              <a:pathLst>
                <a:path w="519" h="512">
                  <a:moveTo>
                    <a:pt x="385" y="360"/>
                  </a:moveTo>
                  <a:lnTo>
                    <a:pt x="429" y="294"/>
                  </a:lnTo>
                  <a:lnTo>
                    <a:pt x="473" y="218"/>
                  </a:lnTo>
                  <a:lnTo>
                    <a:pt x="485" y="137"/>
                  </a:lnTo>
                  <a:lnTo>
                    <a:pt x="477" y="73"/>
                  </a:lnTo>
                  <a:lnTo>
                    <a:pt x="434" y="34"/>
                  </a:lnTo>
                  <a:lnTo>
                    <a:pt x="357" y="0"/>
                  </a:lnTo>
                  <a:lnTo>
                    <a:pt x="250" y="34"/>
                  </a:lnTo>
                  <a:lnTo>
                    <a:pt x="160" y="106"/>
                  </a:lnTo>
                  <a:lnTo>
                    <a:pt x="96" y="171"/>
                  </a:lnTo>
                  <a:lnTo>
                    <a:pt x="40" y="275"/>
                  </a:lnTo>
                  <a:lnTo>
                    <a:pt x="0" y="371"/>
                  </a:lnTo>
                  <a:lnTo>
                    <a:pt x="26" y="441"/>
                  </a:lnTo>
                  <a:lnTo>
                    <a:pt x="69" y="479"/>
                  </a:lnTo>
                  <a:lnTo>
                    <a:pt x="137" y="494"/>
                  </a:lnTo>
                  <a:lnTo>
                    <a:pt x="234" y="451"/>
                  </a:lnTo>
                  <a:lnTo>
                    <a:pt x="309" y="420"/>
                  </a:lnTo>
                  <a:lnTo>
                    <a:pt x="343" y="390"/>
                  </a:lnTo>
                  <a:lnTo>
                    <a:pt x="484" y="512"/>
                  </a:lnTo>
                  <a:lnTo>
                    <a:pt x="519" y="502"/>
                  </a:lnTo>
                  <a:lnTo>
                    <a:pt x="511" y="463"/>
                  </a:lnTo>
                  <a:lnTo>
                    <a:pt x="385" y="36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92720" y="2556000"/>
              <a:ext cx="327240" cy="799920"/>
            </a:xfrm>
            <a:custGeom>
              <a:avLst/>
              <a:gdLst/>
              <a:ahLst/>
              <a:rect l="l" t="t" r="r" b="b"/>
              <a:pathLst>
                <a:path w="412" h="1009">
                  <a:moveTo>
                    <a:pt x="366" y="43"/>
                  </a:moveTo>
                  <a:lnTo>
                    <a:pt x="348" y="19"/>
                  </a:lnTo>
                  <a:lnTo>
                    <a:pt x="312" y="0"/>
                  </a:lnTo>
                  <a:lnTo>
                    <a:pt x="238" y="23"/>
                  </a:lnTo>
                  <a:lnTo>
                    <a:pt x="164" y="94"/>
                  </a:lnTo>
                  <a:lnTo>
                    <a:pt x="93" y="183"/>
                  </a:lnTo>
                  <a:lnTo>
                    <a:pt x="38" y="337"/>
                  </a:lnTo>
                  <a:lnTo>
                    <a:pt x="8" y="485"/>
                  </a:lnTo>
                  <a:lnTo>
                    <a:pt x="0" y="615"/>
                  </a:lnTo>
                  <a:lnTo>
                    <a:pt x="0" y="759"/>
                  </a:lnTo>
                  <a:lnTo>
                    <a:pt x="29" y="872"/>
                  </a:lnTo>
                  <a:lnTo>
                    <a:pt x="109" y="963"/>
                  </a:lnTo>
                  <a:lnTo>
                    <a:pt x="195" y="1004"/>
                  </a:lnTo>
                  <a:lnTo>
                    <a:pt x="287" y="1009"/>
                  </a:lnTo>
                  <a:lnTo>
                    <a:pt x="330" y="989"/>
                  </a:lnTo>
                  <a:lnTo>
                    <a:pt x="351" y="891"/>
                  </a:lnTo>
                  <a:lnTo>
                    <a:pt x="321" y="782"/>
                  </a:lnTo>
                  <a:lnTo>
                    <a:pt x="287" y="721"/>
                  </a:lnTo>
                  <a:lnTo>
                    <a:pt x="268" y="617"/>
                  </a:lnTo>
                  <a:lnTo>
                    <a:pt x="283" y="515"/>
                  </a:lnTo>
                  <a:lnTo>
                    <a:pt x="314" y="403"/>
                  </a:lnTo>
                  <a:lnTo>
                    <a:pt x="361" y="317"/>
                  </a:lnTo>
                  <a:lnTo>
                    <a:pt x="406" y="204"/>
                  </a:lnTo>
                  <a:lnTo>
                    <a:pt x="412" y="122"/>
                  </a:lnTo>
                  <a:lnTo>
                    <a:pt x="366" y="4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3360" y="3137040"/>
              <a:ext cx="330120" cy="901440"/>
            </a:xfrm>
            <a:custGeom>
              <a:avLst/>
              <a:gdLst/>
              <a:ahLst/>
              <a:rect l="l" t="t" r="r" b="b"/>
              <a:pathLst>
                <a:path w="415" h="1136">
                  <a:moveTo>
                    <a:pt x="175" y="360"/>
                  </a:moveTo>
                  <a:lnTo>
                    <a:pt x="186" y="247"/>
                  </a:lnTo>
                  <a:lnTo>
                    <a:pt x="211" y="162"/>
                  </a:lnTo>
                  <a:lnTo>
                    <a:pt x="211" y="30"/>
                  </a:lnTo>
                  <a:lnTo>
                    <a:pt x="166" y="0"/>
                  </a:lnTo>
                  <a:lnTo>
                    <a:pt x="120" y="4"/>
                  </a:lnTo>
                  <a:lnTo>
                    <a:pt x="74" y="43"/>
                  </a:lnTo>
                  <a:lnTo>
                    <a:pt x="65" y="121"/>
                  </a:lnTo>
                  <a:lnTo>
                    <a:pt x="76" y="276"/>
                  </a:lnTo>
                  <a:lnTo>
                    <a:pt x="111" y="463"/>
                  </a:lnTo>
                  <a:lnTo>
                    <a:pt x="123" y="556"/>
                  </a:lnTo>
                  <a:lnTo>
                    <a:pt x="123" y="644"/>
                  </a:lnTo>
                  <a:lnTo>
                    <a:pt x="103" y="749"/>
                  </a:lnTo>
                  <a:lnTo>
                    <a:pt x="65" y="872"/>
                  </a:lnTo>
                  <a:lnTo>
                    <a:pt x="37" y="941"/>
                  </a:lnTo>
                  <a:lnTo>
                    <a:pt x="12" y="995"/>
                  </a:lnTo>
                  <a:lnTo>
                    <a:pt x="0" y="1054"/>
                  </a:lnTo>
                  <a:lnTo>
                    <a:pt x="10" y="1095"/>
                  </a:lnTo>
                  <a:lnTo>
                    <a:pt x="40" y="1104"/>
                  </a:lnTo>
                  <a:lnTo>
                    <a:pt x="85" y="1104"/>
                  </a:lnTo>
                  <a:lnTo>
                    <a:pt x="168" y="1084"/>
                  </a:lnTo>
                  <a:lnTo>
                    <a:pt x="241" y="1104"/>
                  </a:lnTo>
                  <a:lnTo>
                    <a:pt x="311" y="1136"/>
                  </a:lnTo>
                  <a:lnTo>
                    <a:pt x="351" y="1136"/>
                  </a:lnTo>
                  <a:lnTo>
                    <a:pt x="387" y="1104"/>
                  </a:lnTo>
                  <a:lnTo>
                    <a:pt x="415" y="1064"/>
                  </a:lnTo>
                  <a:lnTo>
                    <a:pt x="349" y="1036"/>
                  </a:lnTo>
                  <a:lnTo>
                    <a:pt x="241" y="1023"/>
                  </a:lnTo>
                  <a:lnTo>
                    <a:pt x="129" y="1034"/>
                  </a:lnTo>
                  <a:lnTo>
                    <a:pt x="85" y="1056"/>
                  </a:lnTo>
                  <a:lnTo>
                    <a:pt x="65" y="1026"/>
                  </a:lnTo>
                  <a:lnTo>
                    <a:pt x="76" y="985"/>
                  </a:lnTo>
                  <a:lnTo>
                    <a:pt x="120" y="848"/>
                  </a:lnTo>
                  <a:lnTo>
                    <a:pt x="159" y="736"/>
                  </a:lnTo>
                  <a:lnTo>
                    <a:pt x="177" y="634"/>
                  </a:lnTo>
                  <a:lnTo>
                    <a:pt x="184" y="552"/>
                  </a:lnTo>
                  <a:lnTo>
                    <a:pt x="177" y="474"/>
                  </a:lnTo>
                  <a:lnTo>
                    <a:pt x="177" y="422"/>
                  </a:lnTo>
                  <a:lnTo>
                    <a:pt x="175" y="36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4600" y="3209760"/>
              <a:ext cx="328320" cy="905040"/>
            </a:xfrm>
            <a:custGeom>
              <a:avLst/>
              <a:gdLst/>
              <a:ahLst/>
              <a:rect l="l" t="t" r="r" b="b"/>
              <a:pathLst>
                <a:path w="414" h="1139">
                  <a:moveTo>
                    <a:pt x="175" y="362"/>
                  </a:moveTo>
                  <a:lnTo>
                    <a:pt x="186" y="249"/>
                  </a:lnTo>
                  <a:lnTo>
                    <a:pt x="211" y="164"/>
                  </a:lnTo>
                  <a:lnTo>
                    <a:pt x="211" y="32"/>
                  </a:lnTo>
                  <a:lnTo>
                    <a:pt x="166" y="0"/>
                  </a:lnTo>
                  <a:lnTo>
                    <a:pt x="120" y="4"/>
                  </a:lnTo>
                  <a:lnTo>
                    <a:pt x="73" y="45"/>
                  </a:lnTo>
                  <a:lnTo>
                    <a:pt x="64" y="123"/>
                  </a:lnTo>
                  <a:lnTo>
                    <a:pt x="76" y="277"/>
                  </a:lnTo>
                  <a:lnTo>
                    <a:pt x="111" y="465"/>
                  </a:lnTo>
                  <a:lnTo>
                    <a:pt x="122" y="558"/>
                  </a:lnTo>
                  <a:lnTo>
                    <a:pt x="122" y="646"/>
                  </a:lnTo>
                  <a:lnTo>
                    <a:pt x="103" y="751"/>
                  </a:lnTo>
                  <a:lnTo>
                    <a:pt x="64" y="874"/>
                  </a:lnTo>
                  <a:lnTo>
                    <a:pt x="37" y="943"/>
                  </a:lnTo>
                  <a:lnTo>
                    <a:pt x="12" y="997"/>
                  </a:lnTo>
                  <a:lnTo>
                    <a:pt x="0" y="1056"/>
                  </a:lnTo>
                  <a:lnTo>
                    <a:pt x="10" y="1097"/>
                  </a:lnTo>
                  <a:lnTo>
                    <a:pt x="39" y="1107"/>
                  </a:lnTo>
                  <a:lnTo>
                    <a:pt x="85" y="1107"/>
                  </a:lnTo>
                  <a:lnTo>
                    <a:pt x="168" y="1086"/>
                  </a:lnTo>
                  <a:lnTo>
                    <a:pt x="241" y="1107"/>
                  </a:lnTo>
                  <a:lnTo>
                    <a:pt x="311" y="1139"/>
                  </a:lnTo>
                  <a:lnTo>
                    <a:pt x="351" y="1139"/>
                  </a:lnTo>
                  <a:lnTo>
                    <a:pt x="387" y="1107"/>
                  </a:lnTo>
                  <a:lnTo>
                    <a:pt x="414" y="1066"/>
                  </a:lnTo>
                  <a:lnTo>
                    <a:pt x="349" y="1040"/>
                  </a:lnTo>
                  <a:lnTo>
                    <a:pt x="241" y="1025"/>
                  </a:lnTo>
                  <a:lnTo>
                    <a:pt x="129" y="1036"/>
                  </a:lnTo>
                  <a:lnTo>
                    <a:pt x="85" y="1060"/>
                  </a:lnTo>
                  <a:lnTo>
                    <a:pt x="64" y="1029"/>
                  </a:lnTo>
                  <a:lnTo>
                    <a:pt x="76" y="987"/>
                  </a:lnTo>
                  <a:lnTo>
                    <a:pt x="120" y="850"/>
                  </a:lnTo>
                  <a:lnTo>
                    <a:pt x="159" y="738"/>
                  </a:lnTo>
                  <a:lnTo>
                    <a:pt x="177" y="636"/>
                  </a:lnTo>
                  <a:lnTo>
                    <a:pt x="184" y="554"/>
                  </a:lnTo>
                  <a:lnTo>
                    <a:pt x="177" y="474"/>
                  </a:lnTo>
                  <a:lnTo>
                    <a:pt x="177" y="424"/>
                  </a:lnTo>
                  <a:lnTo>
                    <a:pt x="175" y="36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56520" y="1924200"/>
              <a:ext cx="682560" cy="709560"/>
            </a:xfrm>
            <a:custGeom>
              <a:avLst/>
              <a:gdLst/>
              <a:ahLst/>
              <a:rect l="l" t="t" r="r" b="b"/>
              <a:pathLst>
                <a:path w="859" h="896">
                  <a:moveTo>
                    <a:pt x="107" y="750"/>
                  </a:moveTo>
                  <a:lnTo>
                    <a:pt x="133" y="792"/>
                  </a:lnTo>
                  <a:lnTo>
                    <a:pt x="147" y="866"/>
                  </a:lnTo>
                  <a:lnTo>
                    <a:pt x="114" y="896"/>
                  </a:lnTo>
                  <a:lnTo>
                    <a:pt x="47" y="888"/>
                  </a:lnTo>
                  <a:lnTo>
                    <a:pt x="10" y="835"/>
                  </a:lnTo>
                  <a:lnTo>
                    <a:pt x="3" y="770"/>
                  </a:lnTo>
                  <a:lnTo>
                    <a:pt x="0" y="640"/>
                  </a:lnTo>
                  <a:lnTo>
                    <a:pt x="12" y="521"/>
                  </a:lnTo>
                  <a:lnTo>
                    <a:pt x="55" y="408"/>
                  </a:lnTo>
                  <a:lnTo>
                    <a:pt x="197" y="306"/>
                  </a:lnTo>
                  <a:lnTo>
                    <a:pt x="382" y="256"/>
                  </a:lnTo>
                  <a:lnTo>
                    <a:pt x="558" y="214"/>
                  </a:lnTo>
                  <a:lnTo>
                    <a:pt x="646" y="177"/>
                  </a:lnTo>
                  <a:lnTo>
                    <a:pt x="649" y="104"/>
                  </a:lnTo>
                  <a:lnTo>
                    <a:pt x="630" y="18"/>
                  </a:lnTo>
                  <a:lnTo>
                    <a:pt x="657" y="0"/>
                  </a:lnTo>
                  <a:lnTo>
                    <a:pt x="681" y="92"/>
                  </a:lnTo>
                  <a:lnTo>
                    <a:pt x="702" y="92"/>
                  </a:lnTo>
                  <a:lnTo>
                    <a:pt x="762" y="7"/>
                  </a:lnTo>
                  <a:lnTo>
                    <a:pt x="777" y="31"/>
                  </a:lnTo>
                  <a:lnTo>
                    <a:pt x="759" y="76"/>
                  </a:lnTo>
                  <a:lnTo>
                    <a:pt x="727" y="125"/>
                  </a:lnTo>
                  <a:lnTo>
                    <a:pt x="732" y="133"/>
                  </a:lnTo>
                  <a:lnTo>
                    <a:pt x="854" y="120"/>
                  </a:lnTo>
                  <a:lnTo>
                    <a:pt x="859" y="137"/>
                  </a:lnTo>
                  <a:lnTo>
                    <a:pt x="857" y="145"/>
                  </a:lnTo>
                  <a:lnTo>
                    <a:pt x="743" y="163"/>
                  </a:lnTo>
                  <a:lnTo>
                    <a:pt x="737" y="179"/>
                  </a:lnTo>
                  <a:lnTo>
                    <a:pt x="830" y="224"/>
                  </a:lnTo>
                  <a:lnTo>
                    <a:pt x="832" y="232"/>
                  </a:lnTo>
                  <a:lnTo>
                    <a:pt x="805" y="245"/>
                  </a:lnTo>
                  <a:lnTo>
                    <a:pt x="727" y="207"/>
                  </a:lnTo>
                  <a:lnTo>
                    <a:pt x="664" y="215"/>
                  </a:lnTo>
                  <a:lnTo>
                    <a:pt x="569" y="247"/>
                  </a:lnTo>
                  <a:lnTo>
                    <a:pt x="439" y="275"/>
                  </a:lnTo>
                  <a:lnTo>
                    <a:pt x="274" y="321"/>
                  </a:lnTo>
                  <a:lnTo>
                    <a:pt x="180" y="390"/>
                  </a:lnTo>
                  <a:lnTo>
                    <a:pt x="127" y="456"/>
                  </a:lnTo>
                  <a:lnTo>
                    <a:pt x="97" y="567"/>
                  </a:lnTo>
                  <a:lnTo>
                    <a:pt x="100" y="680"/>
                  </a:lnTo>
                  <a:lnTo>
                    <a:pt x="110" y="774"/>
                  </a:lnTo>
                  <a:lnTo>
                    <a:pt x="120" y="782"/>
                  </a:lnTo>
                  <a:lnTo>
                    <a:pt x="107" y="75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32480" y="2673360"/>
              <a:ext cx="754200" cy="325440"/>
            </a:xfrm>
            <a:custGeom>
              <a:avLst/>
              <a:gdLst/>
              <a:ahLst/>
              <a:rect l="l" t="t" r="r" b="b"/>
              <a:pathLst>
                <a:path w="950" h="409">
                  <a:moveTo>
                    <a:pt x="117" y="115"/>
                  </a:moveTo>
                  <a:lnTo>
                    <a:pt x="108" y="69"/>
                  </a:lnTo>
                  <a:lnTo>
                    <a:pt x="73" y="3"/>
                  </a:lnTo>
                  <a:lnTo>
                    <a:pt x="36" y="0"/>
                  </a:lnTo>
                  <a:lnTo>
                    <a:pt x="0" y="45"/>
                  </a:lnTo>
                  <a:lnTo>
                    <a:pt x="8" y="106"/>
                  </a:lnTo>
                  <a:lnTo>
                    <a:pt x="41" y="161"/>
                  </a:lnTo>
                  <a:lnTo>
                    <a:pt x="113" y="262"/>
                  </a:lnTo>
                  <a:lnTo>
                    <a:pt x="189" y="347"/>
                  </a:lnTo>
                  <a:lnTo>
                    <a:pt x="280" y="409"/>
                  </a:lnTo>
                  <a:lnTo>
                    <a:pt x="427" y="402"/>
                  </a:lnTo>
                  <a:lnTo>
                    <a:pt x="570" y="334"/>
                  </a:lnTo>
                  <a:lnTo>
                    <a:pt x="705" y="263"/>
                  </a:lnTo>
                  <a:lnTo>
                    <a:pt x="781" y="242"/>
                  </a:lnTo>
                  <a:lnTo>
                    <a:pt x="824" y="297"/>
                  </a:lnTo>
                  <a:lnTo>
                    <a:pt x="861" y="373"/>
                  </a:lnTo>
                  <a:lnTo>
                    <a:pt x="888" y="369"/>
                  </a:lnTo>
                  <a:lnTo>
                    <a:pt x="851" y="286"/>
                  </a:lnTo>
                  <a:lnTo>
                    <a:pt x="863" y="274"/>
                  </a:lnTo>
                  <a:lnTo>
                    <a:pt x="950" y="306"/>
                  </a:lnTo>
                  <a:lnTo>
                    <a:pt x="945" y="277"/>
                  </a:lnTo>
                  <a:lnTo>
                    <a:pt x="908" y="254"/>
                  </a:lnTo>
                  <a:lnTo>
                    <a:pt x="860" y="234"/>
                  </a:lnTo>
                  <a:lnTo>
                    <a:pt x="859" y="224"/>
                  </a:lnTo>
                  <a:lnTo>
                    <a:pt x="942" y="165"/>
                  </a:lnTo>
                  <a:lnTo>
                    <a:pt x="935" y="148"/>
                  </a:lnTo>
                  <a:lnTo>
                    <a:pt x="929" y="144"/>
                  </a:lnTo>
                  <a:lnTo>
                    <a:pt x="848" y="195"/>
                  </a:lnTo>
                  <a:lnTo>
                    <a:pt x="835" y="187"/>
                  </a:lnTo>
                  <a:lnTo>
                    <a:pt x="867" y="98"/>
                  </a:lnTo>
                  <a:lnTo>
                    <a:pt x="863" y="91"/>
                  </a:lnTo>
                  <a:lnTo>
                    <a:pt x="838" y="97"/>
                  </a:lnTo>
                  <a:lnTo>
                    <a:pt x="812" y="172"/>
                  </a:lnTo>
                  <a:lnTo>
                    <a:pt x="770" y="203"/>
                  </a:lnTo>
                  <a:lnTo>
                    <a:pt x="693" y="232"/>
                  </a:lnTo>
                  <a:lnTo>
                    <a:pt x="595" y="287"/>
                  </a:lnTo>
                  <a:lnTo>
                    <a:pt x="467" y="348"/>
                  </a:lnTo>
                  <a:lnTo>
                    <a:pt x="369" y="350"/>
                  </a:lnTo>
                  <a:lnTo>
                    <a:pt x="297" y="330"/>
                  </a:lnTo>
                  <a:lnTo>
                    <a:pt x="214" y="261"/>
                  </a:lnTo>
                  <a:lnTo>
                    <a:pt x="152" y="173"/>
                  </a:lnTo>
                  <a:lnTo>
                    <a:pt x="104" y="95"/>
                  </a:lnTo>
                  <a:lnTo>
                    <a:pt x="106" y="82"/>
                  </a:lnTo>
                  <a:lnTo>
                    <a:pt x="117" y="1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91320" y="3522600"/>
            <a:ext cx="789120" cy="507960"/>
            <a:chOff x="6691320" y="3522600"/>
            <a:chExt cx="789120" cy="507960"/>
          </a:xfrm>
        </p:grpSpPr>
        <p:sp>
          <p:nvSpPr>
            <p:cNvPr id="143" name=""/>
            <p:cNvSpPr/>
            <p:nvPr/>
          </p:nvSpPr>
          <p:spPr>
            <a:xfrm>
              <a:off x="6691320" y="3522600"/>
              <a:ext cx="789120" cy="507960"/>
            </a:xfrm>
            <a:custGeom>
              <a:avLst/>
              <a:gdLst/>
              <a:ahLst/>
              <a:rect l="l" t="t" r="r" b="b"/>
              <a:pathLst>
                <a:path w="992" h="639">
                  <a:moveTo>
                    <a:pt x="0" y="368"/>
                  </a:moveTo>
                  <a:lnTo>
                    <a:pt x="0" y="317"/>
                  </a:lnTo>
                  <a:lnTo>
                    <a:pt x="12" y="270"/>
                  </a:lnTo>
                  <a:lnTo>
                    <a:pt x="42" y="216"/>
                  </a:lnTo>
                  <a:lnTo>
                    <a:pt x="87" y="165"/>
                  </a:lnTo>
                  <a:lnTo>
                    <a:pt x="127" y="132"/>
                  </a:lnTo>
                  <a:lnTo>
                    <a:pt x="182" y="94"/>
                  </a:lnTo>
                  <a:lnTo>
                    <a:pt x="285" y="50"/>
                  </a:lnTo>
                  <a:lnTo>
                    <a:pt x="385" y="20"/>
                  </a:lnTo>
                  <a:lnTo>
                    <a:pt x="498" y="6"/>
                  </a:lnTo>
                  <a:lnTo>
                    <a:pt x="610" y="0"/>
                  </a:lnTo>
                  <a:lnTo>
                    <a:pt x="707" y="6"/>
                  </a:lnTo>
                  <a:lnTo>
                    <a:pt x="780" y="20"/>
                  </a:lnTo>
                  <a:lnTo>
                    <a:pt x="858" y="47"/>
                  </a:lnTo>
                  <a:lnTo>
                    <a:pt x="910" y="78"/>
                  </a:lnTo>
                  <a:lnTo>
                    <a:pt x="947" y="111"/>
                  </a:lnTo>
                  <a:lnTo>
                    <a:pt x="974" y="148"/>
                  </a:lnTo>
                  <a:lnTo>
                    <a:pt x="980" y="200"/>
                  </a:lnTo>
                  <a:lnTo>
                    <a:pt x="992" y="341"/>
                  </a:lnTo>
                  <a:lnTo>
                    <a:pt x="989" y="392"/>
                  </a:lnTo>
                  <a:lnTo>
                    <a:pt x="968" y="446"/>
                  </a:lnTo>
                  <a:lnTo>
                    <a:pt x="929" y="476"/>
                  </a:lnTo>
                  <a:lnTo>
                    <a:pt x="886" y="513"/>
                  </a:lnTo>
                  <a:lnTo>
                    <a:pt x="819" y="548"/>
                  </a:lnTo>
                  <a:lnTo>
                    <a:pt x="747" y="581"/>
                  </a:lnTo>
                  <a:lnTo>
                    <a:pt x="665" y="602"/>
                  </a:lnTo>
                  <a:lnTo>
                    <a:pt x="576" y="622"/>
                  </a:lnTo>
                  <a:lnTo>
                    <a:pt x="482" y="635"/>
                  </a:lnTo>
                  <a:lnTo>
                    <a:pt x="373" y="639"/>
                  </a:lnTo>
                  <a:lnTo>
                    <a:pt x="276" y="633"/>
                  </a:lnTo>
                  <a:lnTo>
                    <a:pt x="182" y="609"/>
                  </a:lnTo>
                  <a:lnTo>
                    <a:pt x="112" y="574"/>
                  </a:lnTo>
                  <a:lnTo>
                    <a:pt x="60" y="531"/>
                  </a:lnTo>
                  <a:lnTo>
                    <a:pt x="18" y="467"/>
                  </a:lnTo>
                  <a:lnTo>
                    <a:pt x="3" y="409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21440" y="3675240"/>
              <a:ext cx="459000" cy="260280"/>
            </a:xfrm>
            <a:custGeom>
              <a:avLst/>
              <a:gdLst/>
              <a:ahLst/>
              <a:rect l="l" t="t" r="r" b="b"/>
              <a:pathLst>
                <a:path w="577" h="328">
                  <a:moveTo>
                    <a:pt x="565" y="0"/>
                  </a:moveTo>
                  <a:lnTo>
                    <a:pt x="570" y="69"/>
                  </a:lnTo>
                  <a:lnTo>
                    <a:pt x="577" y="125"/>
                  </a:lnTo>
                  <a:lnTo>
                    <a:pt x="574" y="190"/>
                  </a:lnTo>
                  <a:lnTo>
                    <a:pt x="565" y="230"/>
                  </a:lnTo>
                  <a:lnTo>
                    <a:pt x="546" y="261"/>
                  </a:lnTo>
                  <a:lnTo>
                    <a:pt x="516" y="284"/>
                  </a:lnTo>
                  <a:lnTo>
                    <a:pt x="479" y="308"/>
                  </a:lnTo>
                  <a:lnTo>
                    <a:pt x="419" y="325"/>
                  </a:lnTo>
                  <a:lnTo>
                    <a:pt x="379" y="328"/>
                  </a:lnTo>
                  <a:lnTo>
                    <a:pt x="461" y="295"/>
                  </a:lnTo>
                  <a:lnTo>
                    <a:pt x="516" y="254"/>
                  </a:lnTo>
                  <a:lnTo>
                    <a:pt x="546" y="217"/>
                  </a:lnTo>
                  <a:lnTo>
                    <a:pt x="558" y="180"/>
                  </a:lnTo>
                  <a:lnTo>
                    <a:pt x="531" y="200"/>
                  </a:lnTo>
                  <a:lnTo>
                    <a:pt x="494" y="234"/>
                  </a:lnTo>
                  <a:lnTo>
                    <a:pt x="456" y="247"/>
                  </a:lnTo>
                  <a:lnTo>
                    <a:pt x="416" y="275"/>
                  </a:lnTo>
                  <a:lnTo>
                    <a:pt x="516" y="190"/>
                  </a:lnTo>
                  <a:lnTo>
                    <a:pt x="537" y="152"/>
                  </a:lnTo>
                  <a:lnTo>
                    <a:pt x="543" y="115"/>
                  </a:lnTo>
                  <a:lnTo>
                    <a:pt x="503" y="160"/>
                  </a:lnTo>
                  <a:lnTo>
                    <a:pt x="446" y="200"/>
                  </a:lnTo>
                  <a:lnTo>
                    <a:pt x="388" y="241"/>
                  </a:lnTo>
                  <a:lnTo>
                    <a:pt x="346" y="261"/>
                  </a:lnTo>
                  <a:lnTo>
                    <a:pt x="285" y="284"/>
                  </a:lnTo>
                  <a:lnTo>
                    <a:pt x="228" y="302"/>
                  </a:lnTo>
                  <a:lnTo>
                    <a:pt x="170" y="312"/>
                  </a:lnTo>
                  <a:lnTo>
                    <a:pt x="61" y="321"/>
                  </a:lnTo>
                  <a:lnTo>
                    <a:pt x="0" y="312"/>
                  </a:lnTo>
                  <a:lnTo>
                    <a:pt x="121" y="306"/>
                  </a:lnTo>
                  <a:lnTo>
                    <a:pt x="237" y="278"/>
                  </a:lnTo>
                  <a:lnTo>
                    <a:pt x="303" y="251"/>
                  </a:lnTo>
                  <a:lnTo>
                    <a:pt x="365" y="223"/>
                  </a:lnTo>
                  <a:lnTo>
                    <a:pt x="434" y="180"/>
                  </a:lnTo>
                  <a:lnTo>
                    <a:pt x="489" y="132"/>
                  </a:lnTo>
                  <a:lnTo>
                    <a:pt x="525" y="91"/>
                  </a:lnTo>
                  <a:lnTo>
                    <a:pt x="546" y="5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A61-92CE-412A-8120-81BA5484556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h Management and DL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 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unctionalit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cash receipts (drawdowns) and refunds of cash (excess ca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ith custom or combination systems as well as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DLTools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C86-A0C3-4FA4-88DD-93339C41B0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68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ree Key P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7400" y="1733400"/>
            <a:ext cx="3884040" cy="1848240"/>
            <a:chOff x="77400" y="1733400"/>
            <a:chExt cx="3884040" cy="1848240"/>
          </a:xfrm>
        </p:grpSpPr>
        <p:grpSp>
          <p:nvGrpSpPr>
            <p:cNvPr id="150" name=""/>
            <p:cNvGrpSpPr/>
            <p:nvPr/>
          </p:nvGrpSpPr>
          <p:grpSpPr>
            <a:xfrm>
              <a:off x="1523880" y="1733400"/>
              <a:ext cx="2437560" cy="1828080"/>
              <a:chOff x="1523880" y="1733400"/>
              <a:chExt cx="2437560" cy="1828080"/>
            </a:xfrm>
          </p:grpSpPr>
          <p:sp>
            <p:nvSpPr>
              <p:cNvPr id="151" name=""/>
              <p:cNvSpPr/>
              <p:nvPr/>
            </p:nvSpPr>
            <p:spPr>
              <a:xfrm>
                <a:off x="2438280" y="2212560"/>
                <a:ext cx="755640" cy="13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1523880" y="1733400"/>
                <a:ext cx="2437560" cy="1828080"/>
                <a:chOff x="1523880" y="1733400"/>
                <a:chExt cx="2437560" cy="18280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523880" y="3375720"/>
                  <a:ext cx="158760" cy="185760"/>
                </a:xfrm>
                <a:custGeom>
                  <a:avLst/>
                  <a:gdLst/>
                  <a:ahLst/>
                  <a:rect l="l" t="t" r="r" b="b"/>
                  <a:pathLst>
                    <a:path w="129" h="125">
                      <a:moveTo>
                        <a:pt x="0" y="125"/>
                      </a:moveTo>
                      <a:lnTo>
                        <a:pt x="0" y="85"/>
                      </a:lnTo>
                      <a:lnTo>
                        <a:pt x="43" y="85"/>
                      </a:lnTo>
                      <a:lnTo>
                        <a:pt x="43" y="43"/>
                      </a:lnTo>
                      <a:lnTo>
                        <a:pt x="85" y="43"/>
                      </a:lnTo>
                      <a:lnTo>
                        <a:pt x="85" y="0"/>
                      </a:lnTo>
                      <a:lnTo>
                        <a:pt x="129" y="0"/>
                      </a:lnTo>
                      <a:lnTo>
                        <a:pt x="129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82640" y="1821240"/>
                  <a:ext cx="2230200" cy="1740240"/>
                </a:xfrm>
                <a:custGeom>
                  <a:avLst/>
                  <a:gdLst/>
                  <a:ahLst/>
                  <a:rect l="l" t="t" r="r" b="b"/>
                  <a:pathLst>
                    <a:path w="1802" h="1184">
                      <a:moveTo>
                        <a:pt x="0" y="1184"/>
                      </a:moveTo>
                      <a:lnTo>
                        <a:pt x="0" y="95"/>
                      </a:lnTo>
                      <a:lnTo>
                        <a:pt x="697" y="95"/>
                      </a:lnTo>
                      <a:lnTo>
                        <a:pt x="698" y="86"/>
                      </a:lnTo>
                      <a:lnTo>
                        <a:pt x="701" y="75"/>
                      </a:lnTo>
                      <a:lnTo>
                        <a:pt x="706" y="66"/>
                      </a:lnTo>
                      <a:lnTo>
                        <a:pt x="712" y="58"/>
                      </a:lnTo>
                      <a:lnTo>
                        <a:pt x="722" y="50"/>
                      </a:lnTo>
                      <a:lnTo>
                        <a:pt x="732" y="42"/>
                      </a:lnTo>
                      <a:lnTo>
                        <a:pt x="743" y="34"/>
                      </a:lnTo>
                      <a:lnTo>
                        <a:pt x="756" y="27"/>
                      </a:lnTo>
                      <a:lnTo>
                        <a:pt x="771" y="21"/>
                      </a:lnTo>
                      <a:lnTo>
                        <a:pt x="786" y="16"/>
                      </a:lnTo>
                      <a:lnTo>
                        <a:pt x="803" y="11"/>
                      </a:lnTo>
                      <a:lnTo>
                        <a:pt x="821" y="7"/>
                      </a:lnTo>
                      <a:lnTo>
                        <a:pt x="840" y="4"/>
                      </a:lnTo>
                      <a:lnTo>
                        <a:pt x="859" y="2"/>
                      </a:lnTo>
                      <a:lnTo>
                        <a:pt x="880" y="0"/>
                      </a:lnTo>
                      <a:lnTo>
                        <a:pt x="900" y="0"/>
                      </a:lnTo>
                      <a:lnTo>
                        <a:pt x="921" y="0"/>
                      </a:lnTo>
                      <a:lnTo>
                        <a:pt x="941" y="2"/>
                      </a:lnTo>
                      <a:lnTo>
                        <a:pt x="961" y="4"/>
                      </a:lnTo>
                      <a:lnTo>
                        <a:pt x="980" y="7"/>
                      </a:lnTo>
                      <a:lnTo>
                        <a:pt x="998" y="11"/>
                      </a:lnTo>
                      <a:lnTo>
                        <a:pt x="1014" y="16"/>
                      </a:lnTo>
                      <a:lnTo>
                        <a:pt x="1031" y="21"/>
                      </a:lnTo>
                      <a:lnTo>
                        <a:pt x="1045" y="27"/>
                      </a:lnTo>
                      <a:lnTo>
                        <a:pt x="1058" y="34"/>
                      </a:lnTo>
                      <a:lnTo>
                        <a:pt x="1070" y="42"/>
                      </a:lnTo>
                      <a:lnTo>
                        <a:pt x="1080" y="50"/>
                      </a:lnTo>
                      <a:lnTo>
                        <a:pt x="1088" y="58"/>
                      </a:lnTo>
                      <a:lnTo>
                        <a:pt x="1095" y="66"/>
                      </a:lnTo>
                      <a:lnTo>
                        <a:pt x="1101" y="75"/>
                      </a:lnTo>
                      <a:lnTo>
                        <a:pt x="1104" y="86"/>
                      </a:lnTo>
                      <a:lnTo>
                        <a:pt x="1105" y="95"/>
                      </a:lnTo>
                      <a:lnTo>
                        <a:pt x="1802" y="95"/>
                      </a:lnTo>
                      <a:lnTo>
                        <a:pt x="1802" y="1183"/>
                      </a:lnTo>
                      <a:lnTo>
                        <a:pt x="0" y="1184"/>
                      </a:lnTo>
                      <a:close/>
                    </a:path>
                  </a:pathLst>
                </a:cu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15080" y="2636280"/>
                  <a:ext cx="13716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1280" y="2715120"/>
                  <a:ext cx="137160" cy="568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520080" y="2556360"/>
                  <a:ext cx="14112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45920" y="2636280"/>
                  <a:ext cx="14040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45920" y="2481480"/>
                  <a:ext cx="140400" cy="5760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2640" y="26222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682640" y="2543400"/>
                  <a:ext cx="6300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682640" y="2702160"/>
                  <a:ext cx="63000" cy="568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80240" y="26222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06080" y="2702160"/>
                  <a:ext cx="137160" cy="568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82640" y="32126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82640" y="3133800"/>
                  <a:ext cx="6300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82640" y="3292560"/>
                  <a:ext cx="6300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0240" y="32126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06080" y="3292560"/>
                  <a:ext cx="13716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48080" y="2622240"/>
                  <a:ext cx="504000" cy="136800"/>
                </a:xfrm>
                <a:custGeom>
                  <a:avLst/>
                  <a:gdLst/>
                  <a:ahLst/>
                  <a:rect l="l" t="t" r="r" b="b"/>
                  <a:pathLst>
                    <a:path w="408" h="95">
                      <a:moveTo>
                        <a:pt x="408" y="95"/>
                      </a:moveTo>
                      <a:lnTo>
                        <a:pt x="407" y="86"/>
                      </a:lnTo>
                      <a:lnTo>
                        <a:pt x="404" y="76"/>
                      </a:lnTo>
                      <a:lnTo>
                        <a:pt x="398" y="67"/>
                      </a:lnTo>
                      <a:lnTo>
                        <a:pt x="391" y="59"/>
                      </a:lnTo>
                      <a:lnTo>
                        <a:pt x="383" y="51"/>
                      </a:lnTo>
                      <a:lnTo>
                        <a:pt x="373" y="43"/>
                      </a:lnTo>
                      <a:lnTo>
                        <a:pt x="361" y="35"/>
                      </a:lnTo>
                      <a:lnTo>
                        <a:pt x="348" y="28"/>
                      </a:lnTo>
                      <a:lnTo>
                        <a:pt x="334" y="22"/>
                      </a:lnTo>
                      <a:lnTo>
                        <a:pt x="317" y="17"/>
                      </a:lnTo>
                      <a:lnTo>
                        <a:pt x="301" y="12"/>
                      </a:lnTo>
                      <a:lnTo>
                        <a:pt x="283" y="8"/>
                      </a:lnTo>
                      <a:lnTo>
                        <a:pt x="264" y="5"/>
                      </a:lnTo>
                      <a:lnTo>
                        <a:pt x="244" y="3"/>
                      </a:lnTo>
                      <a:lnTo>
                        <a:pt x="224" y="0"/>
                      </a:lnTo>
                      <a:lnTo>
                        <a:pt x="203" y="0"/>
                      </a:lnTo>
                      <a:lnTo>
                        <a:pt x="183" y="0"/>
                      </a:lnTo>
                      <a:lnTo>
                        <a:pt x="162" y="3"/>
                      </a:lnTo>
                      <a:lnTo>
                        <a:pt x="143" y="5"/>
                      </a:lnTo>
                      <a:lnTo>
                        <a:pt x="124" y="8"/>
                      </a:lnTo>
                      <a:lnTo>
                        <a:pt x="106" y="12"/>
                      </a:lnTo>
                      <a:lnTo>
                        <a:pt x="89" y="17"/>
                      </a:lnTo>
                      <a:lnTo>
                        <a:pt x="74" y="22"/>
                      </a:lnTo>
                      <a:lnTo>
                        <a:pt x="59" y="28"/>
                      </a:lnTo>
                      <a:lnTo>
                        <a:pt x="46" y="35"/>
                      </a:lnTo>
                      <a:lnTo>
                        <a:pt x="35" y="43"/>
                      </a:lnTo>
                      <a:lnTo>
                        <a:pt x="25" y="51"/>
                      </a:lnTo>
                      <a:lnTo>
                        <a:pt x="15" y="59"/>
                      </a:lnTo>
                      <a:lnTo>
                        <a:pt x="9" y="67"/>
                      </a:lnTo>
                      <a:lnTo>
                        <a:pt x="4" y="76"/>
                      </a:lnTo>
                      <a:lnTo>
                        <a:pt x="1" y="86"/>
                      </a:lnTo>
                      <a:lnTo>
                        <a:pt x="0" y="95"/>
                      </a:lnTo>
                      <a:lnTo>
                        <a:pt x="408" y="95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42400" y="1733400"/>
                  <a:ext cx="2114640" cy="228600"/>
                </a:xfrm>
                <a:custGeom>
                  <a:avLst/>
                  <a:gdLst/>
                  <a:ahLst/>
                  <a:rect l="l" t="t" r="r" b="b"/>
                  <a:pathLst>
                    <a:path w="1710" h="156">
                      <a:moveTo>
                        <a:pt x="854" y="61"/>
                      </a:moveTo>
                      <a:lnTo>
                        <a:pt x="834" y="61"/>
                      </a:lnTo>
                      <a:lnTo>
                        <a:pt x="813" y="63"/>
                      </a:lnTo>
                      <a:lnTo>
                        <a:pt x="794" y="65"/>
                      </a:lnTo>
                      <a:lnTo>
                        <a:pt x="775" y="68"/>
                      </a:lnTo>
                      <a:lnTo>
                        <a:pt x="757" y="72"/>
                      </a:lnTo>
                      <a:lnTo>
                        <a:pt x="740" y="77"/>
                      </a:lnTo>
                      <a:lnTo>
                        <a:pt x="725" y="82"/>
                      </a:lnTo>
                      <a:lnTo>
                        <a:pt x="710" y="88"/>
                      </a:lnTo>
                      <a:lnTo>
                        <a:pt x="697" y="95"/>
                      </a:lnTo>
                      <a:lnTo>
                        <a:pt x="686" y="103"/>
                      </a:lnTo>
                      <a:lnTo>
                        <a:pt x="676" y="111"/>
                      </a:lnTo>
                      <a:lnTo>
                        <a:pt x="666" y="119"/>
                      </a:lnTo>
                      <a:lnTo>
                        <a:pt x="660" y="127"/>
                      </a:lnTo>
                      <a:lnTo>
                        <a:pt x="655" y="136"/>
                      </a:lnTo>
                      <a:lnTo>
                        <a:pt x="652" y="147"/>
                      </a:lnTo>
                      <a:lnTo>
                        <a:pt x="651" y="156"/>
                      </a:lnTo>
                      <a:lnTo>
                        <a:pt x="0" y="156"/>
                      </a:lnTo>
                      <a:lnTo>
                        <a:pt x="0" y="108"/>
                      </a:lnTo>
                      <a:lnTo>
                        <a:pt x="6" y="108"/>
                      </a:lnTo>
                      <a:lnTo>
                        <a:pt x="24" y="108"/>
                      </a:lnTo>
                      <a:lnTo>
                        <a:pt x="52" y="108"/>
                      </a:lnTo>
                      <a:lnTo>
                        <a:pt x="89" y="108"/>
                      </a:lnTo>
                      <a:lnTo>
                        <a:pt x="133" y="108"/>
                      </a:lnTo>
                      <a:lnTo>
                        <a:pt x="182" y="108"/>
                      </a:lnTo>
                      <a:lnTo>
                        <a:pt x="235" y="108"/>
                      </a:lnTo>
                      <a:lnTo>
                        <a:pt x="289" y="108"/>
                      </a:lnTo>
                      <a:lnTo>
                        <a:pt x="345" y="108"/>
                      </a:lnTo>
                      <a:lnTo>
                        <a:pt x="398" y="108"/>
                      </a:lnTo>
                      <a:lnTo>
                        <a:pt x="450" y="108"/>
                      </a:lnTo>
                      <a:lnTo>
                        <a:pt x="497" y="108"/>
                      </a:lnTo>
                      <a:lnTo>
                        <a:pt x="538" y="108"/>
                      </a:lnTo>
                      <a:lnTo>
                        <a:pt x="571" y="108"/>
                      </a:lnTo>
                      <a:lnTo>
                        <a:pt x="595" y="108"/>
                      </a:lnTo>
                      <a:lnTo>
                        <a:pt x="609" y="108"/>
                      </a:lnTo>
                      <a:lnTo>
                        <a:pt x="616" y="97"/>
                      </a:lnTo>
                      <a:lnTo>
                        <a:pt x="624" y="87"/>
                      </a:lnTo>
                      <a:lnTo>
                        <a:pt x="634" y="77"/>
                      </a:lnTo>
                      <a:lnTo>
                        <a:pt x="646" y="67"/>
                      </a:lnTo>
                      <a:lnTo>
                        <a:pt x="659" y="57"/>
                      </a:lnTo>
                      <a:lnTo>
                        <a:pt x="672" y="49"/>
                      </a:lnTo>
                      <a:lnTo>
                        <a:pt x="688" y="40"/>
                      </a:lnTo>
                      <a:lnTo>
                        <a:pt x="703" y="33"/>
                      </a:lnTo>
                      <a:lnTo>
                        <a:pt x="720" y="26"/>
                      </a:lnTo>
                      <a:lnTo>
                        <a:pt x="737" y="19"/>
                      </a:lnTo>
                      <a:lnTo>
                        <a:pt x="756" y="13"/>
                      </a:lnTo>
                      <a:lnTo>
                        <a:pt x="775" y="9"/>
                      </a:lnTo>
                      <a:lnTo>
                        <a:pt x="794" y="5"/>
                      </a:lnTo>
                      <a:lnTo>
                        <a:pt x="814" y="2"/>
                      </a:lnTo>
                      <a:lnTo>
                        <a:pt x="834" y="1"/>
                      </a:lnTo>
                      <a:lnTo>
                        <a:pt x="854" y="0"/>
                      </a:lnTo>
                      <a:lnTo>
                        <a:pt x="875" y="1"/>
                      </a:lnTo>
                      <a:lnTo>
                        <a:pt x="895" y="2"/>
                      </a:lnTo>
                      <a:lnTo>
                        <a:pt x="915" y="5"/>
                      </a:lnTo>
                      <a:lnTo>
                        <a:pt x="934" y="9"/>
                      </a:lnTo>
                      <a:lnTo>
                        <a:pt x="953" y="13"/>
                      </a:lnTo>
                      <a:lnTo>
                        <a:pt x="971" y="19"/>
                      </a:lnTo>
                      <a:lnTo>
                        <a:pt x="989" y="26"/>
                      </a:lnTo>
                      <a:lnTo>
                        <a:pt x="1006" y="33"/>
                      </a:lnTo>
                      <a:lnTo>
                        <a:pt x="1022" y="40"/>
                      </a:lnTo>
                      <a:lnTo>
                        <a:pt x="1037" y="49"/>
                      </a:lnTo>
                      <a:lnTo>
                        <a:pt x="1050" y="57"/>
                      </a:lnTo>
                      <a:lnTo>
                        <a:pt x="1063" y="67"/>
                      </a:lnTo>
                      <a:lnTo>
                        <a:pt x="1074" y="77"/>
                      </a:lnTo>
                      <a:lnTo>
                        <a:pt x="1084" y="87"/>
                      </a:lnTo>
                      <a:lnTo>
                        <a:pt x="1093" y="97"/>
                      </a:lnTo>
                      <a:lnTo>
                        <a:pt x="1100" y="108"/>
                      </a:lnTo>
                      <a:lnTo>
                        <a:pt x="1113" y="108"/>
                      </a:lnTo>
                      <a:lnTo>
                        <a:pt x="1138" y="108"/>
                      </a:lnTo>
                      <a:lnTo>
                        <a:pt x="1171" y="108"/>
                      </a:lnTo>
                      <a:lnTo>
                        <a:pt x="1212" y="108"/>
                      </a:lnTo>
                      <a:lnTo>
                        <a:pt x="1259" y="108"/>
                      </a:lnTo>
                      <a:lnTo>
                        <a:pt x="1310" y="108"/>
                      </a:lnTo>
                      <a:lnTo>
                        <a:pt x="1365" y="108"/>
                      </a:lnTo>
                      <a:lnTo>
                        <a:pt x="1420" y="108"/>
                      </a:lnTo>
                      <a:lnTo>
                        <a:pt x="1475" y="108"/>
                      </a:lnTo>
                      <a:lnTo>
                        <a:pt x="1527" y="108"/>
                      </a:lnTo>
                      <a:lnTo>
                        <a:pt x="1576" y="108"/>
                      </a:lnTo>
                      <a:lnTo>
                        <a:pt x="1621" y="108"/>
                      </a:lnTo>
                      <a:lnTo>
                        <a:pt x="1657" y="108"/>
                      </a:lnTo>
                      <a:lnTo>
                        <a:pt x="1685" y="108"/>
                      </a:lnTo>
                      <a:lnTo>
                        <a:pt x="1704" y="108"/>
                      </a:lnTo>
                      <a:lnTo>
                        <a:pt x="1710" y="108"/>
                      </a:lnTo>
                      <a:lnTo>
                        <a:pt x="1710" y="156"/>
                      </a:lnTo>
                      <a:lnTo>
                        <a:pt x="1059" y="156"/>
                      </a:lnTo>
                      <a:lnTo>
                        <a:pt x="1058" y="147"/>
                      </a:lnTo>
                      <a:lnTo>
                        <a:pt x="1055" y="136"/>
                      </a:lnTo>
                      <a:lnTo>
                        <a:pt x="1049" y="127"/>
                      </a:lnTo>
                      <a:lnTo>
                        <a:pt x="1042" y="119"/>
                      </a:lnTo>
                      <a:lnTo>
                        <a:pt x="1034" y="111"/>
                      </a:lnTo>
                      <a:lnTo>
                        <a:pt x="1024" y="103"/>
                      </a:lnTo>
                      <a:lnTo>
                        <a:pt x="1012" y="95"/>
                      </a:lnTo>
                      <a:lnTo>
                        <a:pt x="999" y="88"/>
                      </a:lnTo>
                      <a:lnTo>
                        <a:pt x="985" y="82"/>
                      </a:lnTo>
                      <a:lnTo>
                        <a:pt x="968" y="77"/>
                      </a:lnTo>
                      <a:lnTo>
                        <a:pt x="952" y="72"/>
                      </a:lnTo>
                      <a:lnTo>
                        <a:pt x="934" y="68"/>
                      </a:lnTo>
                      <a:lnTo>
                        <a:pt x="915" y="65"/>
                      </a:lnTo>
                      <a:lnTo>
                        <a:pt x="895" y="63"/>
                      </a:lnTo>
                      <a:lnTo>
                        <a:pt x="875" y="61"/>
                      </a:lnTo>
                      <a:lnTo>
                        <a:pt x="854" y="61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857400" y="1869120"/>
                  <a:ext cx="104040" cy="1936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34760" y="1869120"/>
                  <a:ext cx="107640" cy="1936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54560" y="2759040"/>
                  <a:ext cx="486360" cy="51516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54560" y="3468600"/>
                  <a:ext cx="486360" cy="2196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11240" y="2794320"/>
                  <a:ext cx="207720" cy="48024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11240" y="2794320"/>
                  <a:ext cx="207720" cy="48024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577240" y="2794320"/>
                  <a:ext cx="207720" cy="48024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11240" y="3084840"/>
                  <a:ext cx="207720" cy="26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41280" y="3164760"/>
                  <a:ext cx="118440" cy="39636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36120" y="3164760"/>
                  <a:ext cx="118440" cy="39636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554560" y="3301560"/>
                  <a:ext cx="486360" cy="69840"/>
                </a:xfrm>
                <a:prstGeom prst="rect">
                  <a:avLst/>
                </a:pr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54560" y="3398400"/>
                  <a:ext cx="486360" cy="69840"/>
                </a:xfrm>
                <a:prstGeom prst="rect">
                  <a:avLst/>
                </a:pr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554560" y="3490560"/>
                  <a:ext cx="486360" cy="70920"/>
                </a:xfrm>
                <a:prstGeom prst="rect">
                  <a:avLst/>
                </a:pr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11240" y="3084840"/>
                  <a:ext cx="207720" cy="2664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577240" y="3084840"/>
                  <a:ext cx="207720" cy="2664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11240" y="2988000"/>
                  <a:ext cx="44280" cy="8388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740680" y="2988000"/>
                  <a:ext cx="44280" cy="8388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11240" y="3124800"/>
                  <a:ext cx="207720" cy="3096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77240" y="3124800"/>
                  <a:ext cx="207720" cy="3096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41280" y="3367440"/>
                  <a:ext cx="118440" cy="3492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6120" y="3367440"/>
                  <a:ext cx="118440" cy="3492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12600" y="210276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49000" y="275904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65040" y="2102760"/>
                  <a:ext cx="18252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88640" y="210276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49000" y="210276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12600" y="275904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29360" y="2102760"/>
                  <a:ext cx="17748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05760" y="2102760"/>
                  <a:ext cx="17748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65040" y="2759040"/>
                  <a:ext cx="18252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05760" y="2759040"/>
                  <a:ext cx="17748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55880" y="2067840"/>
                  <a:ext cx="24804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172" y="201"/>
                      </a:moveTo>
                      <a:lnTo>
                        <a:pt x="26" y="201"/>
                      </a:lnTo>
                      <a:lnTo>
                        <a:pt x="26" y="319"/>
                      </a:lnTo>
                      <a:lnTo>
                        <a:pt x="173" y="319"/>
                      </a:lnTo>
                      <a:lnTo>
                        <a:pt x="200" y="346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173" y="26"/>
                      </a:lnTo>
                      <a:lnTo>
                        <a:pt x="26" y="26"/>
                      </a:lnTo>
                      <a:lnTo>
                        <a:pt x="26" y="159"/>
                      </a:lnTo>
                      <a:lnTo>
                        <a:pt x="173" y="159"/>
                      </a:lnTo>
                      <a:lnTo>
                        <a:pt x="172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7044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0" y="26"/>
                      </a:moveTo>
                      <a:lnTo>
                        <a:pt x="0" y="319"/>
                      </a:lnTo>
                      <a:lnTo>
                        <a:pt x="27" y="346"/>
                      </a:lnTo>
                      <a:lnTo>
                        <a:pt x="2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215520" y="2067840"/>
                  <a:ext cx="248760" cy="506160"/>
                </a:xfrm>
                <a:custGeom>
                  <a:avLst/>
                  <a:gdLst/>
                  <a:ahLst/>
                  <a:rect l="l" t="t" r="r" b="b"/>
                  <a:pathLst>
                    <a:path w="199" h="346">
                      <a:moveTo>
                        <a:pt x="173" y="201"/>
                      </a:moveTo>
                      <a:lnTo>
                        <a:pt x="27" y="201"/>
                      </a:lnTo>
                      <a:lnTo>
                        <a:pt x="27" y="319"/>
                      </a:lnTo>
                      <a:lnTo>
                        <a:pt x="173" y="319"/>
                      </a:lnTo>
                      <a:lnTo>
                        <a:pt x="199" y="346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73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3" y="159"/>
                      </a:lnTo>
                      <a:lnTo>
                        <a:pt x="173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3080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6">
                      <a:moveTo>
                        <a:pt x="0" y="26"/>
                      </a:moveTo>
                      <a:lnTo>
                        <a:pt x="0" y="319"/>
                      </a:lnTo>
                      <a:lnTo>
                        <a:pt x="26" y="346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79840" y="206784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174" y="201"/>
                      </a:moveTo>
                      <a:lnTo>
                        <a:pt x="27" y="201"/>
                      </a:lnTo>
                      <a:lnTo>
                        <a:pt x="27" y="319"/>
                      </a:lnTo>
                      <a:lnTo>
                        <a:pt x="174" y="319"/>
                      </a:lnTo>
                      <a:lnTo>
                        <a:pt x="200" y="346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174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4" y="159"/>
                      </a:lnTo>
                      <a:lnTo>
                        <a:pt x="174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94400" y="2067840"/>
                  <a:ext cx="3024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6">
                      <a:moveTo>
                        <a:pt x="0" y="26"/>
                      </a:moveTo>
                      <a:lnTo>
                        <a:pt x="0" y="319"/>
                      </a:lnTo>
                      <a:lnTo>
                        <a:pt x="26" y="346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215520" y="2724120"/>
                  <a:ext cx="248760" cy="506160"/>
                </a:xfrm>
                <a:custGeom>
                  <a:avLst/>
                  <a:gdLst/>
                  <a:ahLst/>
                  <a:rect l="l" t="t" r="r" b="b"/>
                  <a:pathLst>
                    <a:path w="199" h="345">
                      <a:moveTo>
                        <a:pt x="173" y="201"/>
                      </a:moveTo>
                      <a:lnTo>
                        <a:pt x="27" y="201"/>
                      </a:lnTo>
                      <a:lnTo>
                        <a:pt x="27" y="318"/>
                      </a:lnTo>
                      <a:lnTo>
                        <a:pt x="173" y="318"/>
                      </a:lnTo>
                      <a:lnTo>
                        <a:pt x="199" y="345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73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3" y="159"/>
                      </a:lnTo>
                      <a:lnTo>
                        <a:pt x="173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430800" y="272412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5">
                      <a:moveTo>
                        <a:pt x="0" y="26"/>
                      </a:moveTo>
                      <a:lnTo>
                        <a:pt x="0" y="318"/>
                      </a:lnTo>
                      <a:lnTo>
                        <a:pt x="26" y="345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79840" y="272412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5">
                      <a:moveTo>
                        <a:pt x="174" y="201"/>
                      </a:moveTo>
                      <a:lnTo>
                        <a:pt x="27" y="201"/>
                      </a:lnTo>
                      <a:lnTo>
                        <a:pt x="27" y="318"/>
                      </a:lnTo>
                      <a:lnTo>
                        <a:pt x="174" y="318"/>
                      </a:lnTo>
                      <a:lnTo>
                        <a:pt x="200" y="345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174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4" y="159"/>
                      </a:lnTo>
                      <a:lnTo>
                        <a:pt x="174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94400" y="2724120"/>
                  <a:ext cx="3024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5">
                      <a:moveTo>
                        <a:pt x="0" y="26"/>
                      </a:moveTo>
                      <a:lnTo>
                        <a:pt x="0" y="318"/>
                      </a:lnTo>
                      <a:lnTo>
                        <a:pt x="26" y="345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495880" y="206784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199" h="346">
                      <a:moveTo>
                        <a:pt x="27" y="201"/>
                      </a:moveTo>
                      <a:lnTo>
                        <a:pt x="172" y="201"/>
                      </a:lnTo>
                      <a:lnTo>
                        <a:pt x="172" y="319"/>
                      </a:ln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199" y="346"/>
                      </a:lnTo>
                      <a:lnTo>
                        <a:pt x="199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2" y="26"/>
                      </a:lnTo>
                      <a:lnTo>
                        <a:pt x="172" y="159"/>
                      </a:lnTo>
                      <a:lnTo>
                        <a:pt x="27" y="159"/>
                      </a:lnTo>
                      <a:lnTo>
                        <a:pt x="27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9588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27" y="26"/>
                      </a:move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132280" y="2067840"/>
                  <a:ext cx="24804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27" y="201"/>
                      </a:moveTo>
                      <a:lnTo>
                        <a:pt x="173" y="201"/>
                      </a:lnTo>
                      <a:lnTo>
                        <a:pt x="173" y="319"/>
                      </a:ln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200" y="346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7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32280" y="2067840"/>
                  <a:ext cx="3276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27" y="26"/>
                      </a:move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71920" y="206784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26" y="201"/>
                      </a:moveTo>
                      <a:lnTo>
                        <a:pt x="173" y="201"/>
                      </a:lnTo>
                      <a:lnTo>
                        <a:pt x="173" y="319"/>
                      </a:ln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200" y="346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6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7192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27" y="26"/>
                      </a:move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132280" y="2724120"/>
                  <a:ext cx="24804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5">
                      <a:moveTo>
                        <a:pt x="27" y="201"/>
                      </a:moveTo>
                      <a:lnTo>
                        <a:pt x="173" y="201"/>
                      </a:lnTo>
                      <a:lnTo>
                        <a:pt x="173" y="318"/>
                      </a:ln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200" y="345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7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132280" y="2724120"/>
                  <a:ext cx="3276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5">
                      <a:moveTo>
                        <a:pt x="27" y="26"/>
                      </a:move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771920" y="272412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5">
                      <a:moveTo>
                        <a:pt x="26" y="201"/>
                      </a:moveTo>
                      <a:lnTo>
                        <a:pt x="173" y="201"/>
                      </a:lnTo>
                      <a:lnTo>
                        <a:pt x="173" y="318"/>
                      </a:ln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200" y="345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6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771920" y="272412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5">
                      <a:moveTo>
                        <a:pt x="27" y="26"/>
                      </a:move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59720" y="3327480"/>
                  <a:ext cx="734400" cy="233640"/>
                </a:xfrm>
                <a:custGeom>
                  <a:avLst/>
                  <a:gdLst/>
                  <a:ahLst/>
                  <a:rect l="l" t="t" r="r" b="b"/>
                  <a:pathLst>
                    <a:path w="595" h="157">
                      <a:moveTo>
                        <a:pt x="0" y="17"/>
                      </a:moveTo>
                      <a:lnTo>
                        <a:pt x="0" y="157"/>
                      </a:lnTo>
                      <a:lnTo>
                        <a:pt x="556" y="157"/>
                      </a:lnTo>
                      <a:lnTo>
                        <a:pt x="564" y="155"/>
                      </a:lnTo>
                      <a:lnTo>
                        <a:pt x="573" y="149"/>
                      </a:lnTo>
                      <a:lnTo>
                        <a:pt x="582" y="139"/>
                      </a:lnTo>
                      <a:lnTo>
                        <a:pt x="591" y="128"/>
                      </a:lnTo>
                      <a:lnTo>
                        <a:pt x="595" y="118"/>
                      </a:lnTo>
                      <a:lnTo>
                        <a:pt x="595" y="107"/>
                      </a:lnTo>
                      <a:lnTo>
                        <a:pt x="588" y="98"/>
                      </a:lnTo>
                      <a:lnTo>
                        <a:pt x="572" y="93"/>
                      </a:lnTo>
                      <a:lnTo>
                        <a:pt x="579" y="89"/>
                      </a:lnTo>
                      <a:lnTo>
                        <a:pt x="585" y="83"/>
                      </a:lnTo>
                      <a:lnTo>
                        <a:pt x="591" y="75"/>
                      </a:lnTo>
                      <a:lnTo>
                        <a:pt x="594" y="65"/>
                      </a:lnTo>
                      <a:lnTo>
                        <a:pt x="595" y="57"/>
                      </a:lnTo>
                      <a:lnTo>
                        <a:pt x="593" y="49"/>
                      </a:lnTo>
                      <a:lnTo>
                        <a:pt x="589" y="43"/>
                      </a:lnTo>
                      <a:lnTo>
                        <a:pt x="582" y="39"/>
                      </a:lnTo>
                      <a:lnTo>
                        <a:pt x="584" y="32"/>
                      </a:lnTo>
                      <a:lnTo>
                        <a:pt x="583" y="23"/>
                      </a:lnTo>
                      <a:lnTo>
                        <a:pt x="580" y="16"/>
                      </a:lnTo>
                      <a:lnTo>
                        <a:pt x="575" y="10"/>
                      </a:lnTo>
                      <a:lnTo>
                        <a:pt x="569" y="6"/>
                      </a:lnTo>
                      <a:lnTo>
                        <a:pt x="563" y="5"/>
                      </a:lnTo>
                      <a:lnTo>
                        <a:pt x="557" y="6"/>
                      </a:lnTo>
                      <a:lnTo>
                        <a:pt x="551" y="10"/>
                      </a:lnTo>
                      <a:lnTo>
                        <a:pt x="542" y="3"/>
                      </a:lnTo>
                      <a:lnTo>
                        <a:pt x="532" y="0"/>
                      </a:lnTo>
                      <a:lnTo>
                        <a:pt x="521" y="0"/>
                      </a:lnTo>
                      <a:lnTo>
                        <a:pt x="510" y="3"/>
                      </a:lnTo>
                      <a:lnTo>
                        <a:pt x="499" y="9"/>
                      </a:lnTo>
                      <a:lnTo>
                        <a:pt x="491" y="16"/>
                      </a:lnTo>
                      <a:lnTo>
                        <a:pt x="486" y="25"/>
                      </a:lnTo>
                      <a:lnTo>
                        <a:pt x="485" y="35"/>
                      </a:lnTo>
                      <a:lnTo>
                        <a:pt x="479" y="29"/>
                      </a:lnTo>
                      <a:lnTo>
                        <a:pt x="470" y="22"/>
                      </a:lnTo>
                      <a:lnTo>
                        <a:pt x="461" y="18"/>
                      </a:lnTo>
                      <a:lnTo>
                        <a:pt x="451" y="15"/>
                      </a:lnTo>
                      <a:lnTo>
                        <a:pt x="440" y="15"/>
                      </a:lnTo>
                      <a:lnTo>
                        <a:pt x="429" y="18"/>
                      </a:lnTo>
                      <a:lnTo>
                        <a:pt x="420" y="24"/>
                      </a:lnTo>
                      <a:lnTo>
                        <a:pt x="412" y="35"/>
                      </a:lnTo>
                      <a:lnTo>
                        <a:pt x="410" y="25"/>
                      </a:lnTo>
                      <a:lnTo>
                        <a:pt x="404" y="17"/>
                      </a:lnTo>
                      <a:lnTo>
                        <a:pt x="395" y="10"/>
                      </a:lnTo>
                      <a:lnTo>
                        <a:pt x="385" y="5"/>
                      </a:lnTo>
                      <a:lnTo>
                        <a:pt x="374" y="2"/>
                      </a:lnTo>
                      <a:lnTo>
                        <a:pt x="364" y="3"/>
                      </a:lnTo>
                      <a:lnTo>
                        <a:pt x="354" y="8"/>
                      </a:lnTo>
                      <a:lnTo>
                        <a:pt x="348" y="17"/>
                      </a:lnTo>
                      <a:lnTo>
                        <a:pt x="342" y="15"/>
                      </a:lnTo>
                      <a:lnTo>
                        <a:pt x="336" y="14"/>
                      </a:lnTo>
                      <a:lnTo>
                        <a:pt x="330" y="14"/>
                      </a:lnTo>
                      <a:lnTo>
                        <a:pt x="325" y="15"/>
                      </a:lnTo>
                      <a:lnTo>
                        <a:pt x="320" y="16"/>
                      </a:lnTo>
                      <a:lnTo>
                        <a:pt x="316" y="19"/>
                      </a:lnTo>
                      <a:lnTo>
                        <a:pt x="312" y="23"/>
                      </a:lnTo>
                      <a:lnTo>
                        <a:pt x="309" y="30"/>
                      </a:lnTo>
                      <a:lnTo>
                        <a:pt x="303" y="20"/>
                      </a:lnTo>
                      <a:lnTo>
                        <a:pt x="295" y="14"/>
                      </a:lnTo>
                      <a:lnTo>
                        <a:pt x="283" y="11"/>
                      </a:lnTo>
                      <a:lnTo>
                        <a:pt x="271" y="10"/>
                      </a:lnTo>
                      <a:lnTo>
                        <a:pt x="259" y="11"/>
                      </a:lnTo>
                      <a:lnTo>
                        <a:pt x="248" y="15"/>
                      </a:lnTo>
                      <a:lnTo>
                        <a:pt x="237" y="22"/>
                      </a:lnTo>
                      <a:lnTo>
                        <a:pt x="231" y="32"/>
                      </a:lnTo>
                      <a:lnTo>
                        <a:pt x="228" y="22"/>
                      </a:lnTo>
                      <a:lnTo>
                        <a:pt x="221" y="16"/>
                      </a:lnTo>
                      <a:lnTo>
                        <a:pt x="213" y="11"/>
                      </a:lnTo>
                      <a:lnTo>
                        <a:pt x="203" y="9"/>
                      </a:lnTo>
                      <a:lnTo>
                        <a:pt x="193" y="9"/>
                      </a:lnTo>
                      <a:lnTo>
                        <a:pt x="183" y="12"/>
                      </a:lnTo>
                      <a:lnTo>
                        <a:pt x="175" y="17"/>
                      </a:lnTo>
                      <a:lnTo>
                        <a:pt x="167" y="24"/>
                      </a:lnTo>
                      <a:lnTo>
                        <a:pt x="165" y="16"/>
                      </a:lnTo>
                      <a:lnTo>
                        <a:pt x="159" y="11"/>
                      </a:lnTo>
                      <a:lnTo>
                        <a:pt x="152" y="7"/>
                      </a:lnTo>
                      <a:lnTo>
                        <a:pt x="144" y="6"/>
                      </a:lnTo>
                      <a:lnTo>
                        <a:pt x="136" y="7"/>
                      </a:lnTo>
                      <a:lnTo>
                        <a:pt x="127" y="11"/>
                      </a:lnTo>
                      <a:lnTo>
                        <a:pt x="121" y="18"/>
                      </a:lnTo>
                      <a:lnTo>
                        <a:pt x="117" y="28"/>
                      </a:lnTo>
                      <a:lnTo>
                        <a:pt x="109" y="22"/>
                      </a:lnTo>
                      <a:lnTo>
                        <a:pt x="102" y="19"/>
                      </a:lnTo>
                      <a:lnTo>
                        <a:pt x="95" y="17"/>
                      </a:lnTo>
                      <a:lnTo>
                        <a:pt x="87" y="16"/>
                      </a:lnTo>
                      <a:lnTo>
                        <a:pt x="81" y="17"/>
                      </a:lnTo>
                      <a:lnTo>
                        <a:pt x="76" y="19"/>
                      </a:lnTo>
                      <a:lnTo>
                        <a:pt x="71" y="23"/>
                      </a:lnTo>
                      <a:lnTo>
                        <a:pt x="66" y="30"/>
                      </a:lnTo>
                      <a:lnTo>
                        <a:pt x="59" y="25"/>
                      </a:lnTo>
                      <a:lnTo>
                        <a:pt x="49" y="21"/>
                      </a:lnTo>
                      <a:lnTo>
                        <a:pt x="39" y="15"/>
                      </a:lnTo>
                      <a:lnTo>
                        <a:pt x="29" y="11"/>
                      </a:lnTo>
                      <a:lnTo>
                        <a:pt x="17" y="8"/>
                      </a:lnTo>
                      <a:lnTo>
                        <a:pt x="9" y="7"/>
                      </a:lnTo>
                      <a:lnTo>
                        <a:pt x="3" y="1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4d1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701360" y="3327480"/>
                  <a:ext cx="734400" cy="233640"/>
                </a:xfrm>
                <a:custGeom>
                  <a:avLst/>
                  <a:gdLst/>
                  <a:ahLst/>
                  <a:rect l="l" t="t" r="r" b="b"/>
                  <a:pathLst>
                    <a:path w="596" h="157">
                      <a:moveTo>
                        <a:pt x="596" y="17"/>
                      </a:moveTo>
                      <a:lnTo>
                        <a:pt x="596" y="157"/>
                      </a:lnTo>
                      <a:lnTo>
                        <a:pt x="40" y="157"/>
                      </a:lnTo>
                      <a:lnTo>
                        <a:pt x="32" y="157"/>
                      </a:lnTo>
                      <a:lnTo>
                        <a:pt x="21" y="152"/>
                      </a:lnTo>
                      <a:lnTo>
                        <a:pt x="12" y="142"/>
                      </a:lnTo>
                      <a:lnTo>
                        <a:pt x="4" y="131"/>
                      </a:lnTo>
                      <a:lnTo>
                        <a:pt x="0" y="119"/>
                      </a:lnTo>
                      <a:lnTo>
                        <a:pt x="0" y="108"/>
                      </a:lnTo>
                      <a:lnTo>
                        <a:pt x="7" y="99"/>
                      </a:lnTo>
                      <a:lnTo>
                        <a:pt x="22" y="93"/>
                      </a:lnTo>
                      <a:lnTo>
                        <a:pt x="15" y="89"/>
                      </a:lnTo>
                      <a:lnTo>
                        <a:pt x="9" y="83"/>
                      </a:lnTo>
                      <a:lnTo>
                        <a:pt x="4" y="75"/>
                      </a:lnTo>
                      <a:lnTo>
                        <a:pt x="2" y="65"/>
                      </a:lnTo>
                      <a:lnTo>
                        <a:pt x="1" y="57"/>
                      </a:lnTo>
                      <a:lnTo>
                        <a:pt x="3" y="49"/>
                      </a:lnTo>
                      <a:lnTo>
                        <a:pt x="6" y="43"/>
                      </a:lnTo>
                      <a:lnTo>
                        <a:pt x="13" y="39"/>
                      </a:lnTo>
                      <a:lnTo>
                        <a:pt x="11" y="32"/>
                      </a:lnTo>
                      <a:lnTo>
                        <a:pt x="12" y="23"/>
                      </a:lnTo>
                      <a:lnTo>
                        <a:pt x="14" y="16"/>
                      </a:lnTo>
                      <a:lnTo>
                        <a:pt x="19" y="10"/>
                      </a:lnTo>
                      <a:lnTo>
                        <a:pt x="26" y="6"/>
                      </a:lnTo>
                      <a:lnTo>
                        <a:pt x="32" y="5"/>
                      </a:lnTo>
                      <a:lnTo>
                        <a:pt x="39" y="6"/>
                      </a:lnTo>
                      <a:lnTo>
                        <a:pt x="45" y="10"/>
                      </a:lnTo>
                      <a:lnTo>
                        <a:pt x="52" y="3"/>
                      </a:lnTo>
                      <a:lnTo>
                        <a:pt x="63" y="0"/>
                      </a:lnTo>
                      <a:lnTo>
                        <a:pt x="74" y="0"/>
                      </a:lnTo>
                      <a:lnTo>
                        <a:pt x="85" y="3"/>
                      </a:lnTo>
                      <a:lnTo>
                        <a:pt x="95" y="9"/>
                      </a:lnTo>
                      <a:lnTo>
                        <a:pt x="104" y="16"/>
                      </a:lnTo>
                      <a:lnTo>
                        <a:pt x="109" y="25"/>
                      </a:lnTo>
                      <a:lnTo>
                        <a:pt x="111" y="35"/>
                      </a:lnTo>
                      <a:lnTo>
                        <a:pt x="117" y="29"/>
                      </a:lnTo>
                      <a:lnTo>
                        <a:pt x="124" y="22"/>
                      </a:lnTo>
                      <a:lnTo>
                        <a:pt x="134" y="18"/>
                      </a:lnTo>
                      <a:lnTo>
                        <a:pt x="145" y="15"/>
                      </a:lnTo>
                      <a:lnTo>
                        <a:pt x="155" y="15"/>
                      </a:lnTo>
                      <a:lnTo>
                        <a:pt x="166" y="18"/>
                      </a:lnTo>
                      <a:lnTo>
                        <a:pt x="176" y="24"/>
                      </a:lnTo>
                      <a:lnTo>
                        <a:pt x="184" y="35"/>
                      </a:lnTo>
                      <a:lnTo>
                        <a:pt x="186" y="25"/>
                      </a:lnTo>
                      <a:lnTo>
                        <a:pt x="192" y="17"/>
                      </a:lnTo>
                      <a:lnTo>
                        <a:pt x="200" y="10"/>
                      </a:lnTo>
                      <a:lnTo>
                        <a:pt x="211" y="5"/>
                      </a:lnTo>
                      <a:lnTo>
                        <a:pt x="222" y="2"/>
                      </a:lnTo>
                      <a:lnTo>
                        <a:pt x="232" y="3"/>
                      </a:lnTo>
                      <a:lnTo>
                        <a:pt x="241" y="8"/>
                      </a:lnTo>
                      <a:lnTo>
                        <a:pt x="247" y="17"/>
                      </a:lnTo>
                      <a:lnTo>
                        <a:pt x="254" y="15"/>
                      </a:lnTo>
                      <a:lnTo>
                        <a:pt x="260" y="14"/>
                      </a:lnTo>
                      <a:lnTo>
                        <a:pt x="265" y="14"/>
                      </a:lnTo>
                      <a:lnTo>
                        <a:pt x="270" y="15"/>
                      </a:lnTo>
                      <a:lnTo>
                        <a:pt x="274" y="16"/>
                      </a:lnTo>
                      <a:lnTo>
                        <a:pt x="279" y="19"/>
                      </a:lnTo>
                      <a:lnTo>
                        <a:pt x="282" y="23"/>
                      </a:lnTo>
                      <a:lnTo>
                        <a:pt x="285" y="30"/>
                      </a:lnTo>
                      <a:lnTo>
                        <a:pt x="292" y="20"/>
                      </a:lnTo>
                      <a:lnTo>
                        <a:pt x="300" y="14"/>
                      </a:lnTo>
                      <a:lnTo>
                        <a:pt x="311" y="11"/>
                      </a:lnTo>
                      <a:lnTo>
                        <a:pt x="323" y="10"/>
                      </a:lnTo>
                      <a:lnTo>
                        <a:pt x="336" y="11"/>
                      </a:lnTo>
                      <a:lnTo>
                        <a:pt x="347" y="15"/>
                      </a:lnTo>
                      <a:lnTo>
                        <a:pt x="357" y="22"/>
                      </a:lnTo>
                      <a:lnTo>
                        <a:pt x="363" y="32"/>
                      </a:lnTo>
                      <a:lnTo>
                        <a:pt x="368" y="22"/>
                      </a:lnTo>
                      <a:lnTo>
                        <a:pt x="374" y="16"/>
                      </a:lnTo>
                      <a:lnTo>
                        <a:pt x="382" y="11"/>
                      </a:lnTo>
                      <a:lnTo>
                        <a:pt x="392" y="9"/>
                      </a:lnTo>
                      <a:lnTo>
                        <a:pt x="402" y="9"/>
                      </a:lnTo>
                      <a:lnTo>
                        <a:pt x="412" y="12"/>
                      </a:lnTo>
                      <a:lnTo>
                        <a:pt x="421" y="17"/>
                      </a:lnTo>
                      <a:lnTo>
                        <a:pt x="427" y="24"/>
                      </a:lnTo>
                      <a:lnTo>
                        <a:pt x="429" y="16"/>
                      </a:lnTo>
                      <a:lnTo>
                        <a:pt x="435" y="11"/>
                      </a:lnTo>
                      <a:lnTo>
                        <a:pt x="443" y="7"/>
                      </a:lnTo>
                      <a:lnTo>
                        <a:pt x="451" y="6"/>
                      </a:lnTo>
                      <a:lnTo>
                        <a:pt x="460" y="7"/>
                      </a:lnTo>
                      <a:lnTo>
                        <a:pt x="468" y="11"/>
                      </a:lnTo>
                      <a:lnTo>
                        <a:pt x="474" y="18"/>
                      </a:lnTo>
                      <a:lnTo>
                        <a:pt x="478" y="28"/>
                      </a:lnTo>
                      <a:lnTo>
                        <a:pt x="487" y="22"/>
                      </a:lnTo>
                      <a:lnTo>
                        <a:pt x="494" y="19"/>
                      </a:lnTo>
                      <a:lnTo>
                        <a:pt x="501" y="17"/>
                      </a:lnTo>
                      <a:lnTo>
                        <a:pt x="507" y="16"/>
                      </a:lnTo>
                      <a:lnTo>
                        <a:pt x="513" y="17"/>
                      </a:lnTo>
                      <a:lnTo>
                        <a:pt x="520" y="19"/>
                      </a:lnTo>
                      <a:lnTo>
                        <a:pt x="525" y="23"/>
                      </a:lnTo>
                      <a:lnTo>
                        <a:pt x="530" y="30"/>
                      </a:lnTo>
                      <a:lnTo>
                        <a:pt x="537" y="25"/>
                      </a:lnTo>
                      <a:lnTo>
                        <a:pt x="545" y="21"/>
                      </a:lnTo>
                      <a:lnTo>
                        <a:pt x="557" y="15"/>
                      </a:lnTo>
                      <a:lnTo>
                        <a:pt x="567" y="11"/>
                      </a:lnTo>
                      <a:lnTo>
                        <a:pt x="577" y="8"/>
                      </a:lnTo>
                      <a:lnTo>
                        <a:pt x="586" y="7"/>
                      </a:lnTo>
                      <a:lnTo>
                        <a:pt x="593" y="10"/>
                      </a:lnTo>
                      <a:lnTo>
                        <a:pt x="596" y="17"/>
                      </a:lnTo>
                      <a:close/>
                    </a:path>
                  </a:pathLst>
                </a:custGeom>
                <a:solidFill>
                  <a:srgbClr val="84d1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17400" y="2146680"/>
                  <a:ext cx="36720" cy="1414440"/>
                </a:xfrm>
                <a:prstGeom prst="rect">
                  <a:avLst/>
                </a:prstGeom>
                <a:solidFill>
                  <a:srgbClr val="b2c4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14160" y="2093760"/>
                  <a:ext cx="44280" cy="52920"/>
                </a:xfrm>
                <a:custGeom>
                  <a:avLst/>
                  <a:gdLst/>
                  <a:ahLst/>
                  <a:rect l="l" t="t" r="r" b="b"/>
                  <a:pathLst>
                    <a:path w="34" h="35">
                      <a:moveTo>
                        <a:pt x="18" y="35"/>
                      </a:moveTo>
                      <a:lnTo>
                        <a:pt x="24" y="34"/>
                      </a:lnTo>
                      <a:lnTo>
                        <a:pt x="29" y="30"/>
                      </a:lnTo>
                      <a:lnTo>
                        <a:pt x="33" y="24"/>
                      </a:lnTo>
                      <a:lnTo>
                        <a:pt x="34" y="18"/>
                      </a:lnTo>
                      <a:lnTo>
                        <a:pt x="33" y="12"/>
                      </a:lnTo>
                      <a:lnTo>
                        <a:pt x="29" y="5"/>
                      </a:lnTo>
                      <a:lnTo>
                        <a:pt x="24" y="1"/>
                      </a:lnTo>
                      <a:lnTo>
                        <a:pt x="18" y="0"/>
                      </a:lnTo>
                      <a:lnTo>
                        <a:pt x="10" y="1"/>
                      </a:lnTo>
                      <a:lnTo>
                        <a:pt x="5" y="5"/>
                      </a:lnTo>
                      <a:lnTo>
                        <a:pt x="1" y="12"/>
                      </a:lnTo>
                      <a:lnTo>
                        <a:pt x="0" y="18"/>
                      </a:lnTo>
                      <a:lnTo>
                        <a:pt x="1" y="24"/>
                      </a:lnTo>
                      <a:lnTo>
                        <a:pt x="5" y="30"/>
                      </a:lnTo>
                      <a:lnTo>
                        <a:pt x="10" y="34"/>
                      </a:lnTo>
                      <a:lnTo>
                        <a:pt x="18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043000" y="2155680"/>
                  <a:ext cx="374400" cy="365400"/>
                </a:xfrm>
                <a:custGeom>
                  <a:avLst/>
                  <a:gdLst/>
                  <a:ahLst/>
                  <a:rect l="l" t="t" r="r" b="b"/>
                  <a:pathLst>
                    <a:path w="303" h="251">
                      <a:moveTo>
                        <a:pt x="303" y="240"/>
                      </a:moveTo>
                      <a:lnTo>
                        <a:pt x="297" y="231"/>
                      </a:lnTo>
                      <a:lnTo>
                        <a:pt x="286" y="223"/>
                      </a:lnTo>
                      <a:lnTo>
                        <a:pt x="270" y="216"/>
                      </a:lnTo>
                      <a:lnTo>
                        <a:pt x="252" y="211"/>
                      </a:lnTo>
                      <a:lnTo>
                        <a:pt x="231" y="209"/>
                      </a:lnTo>
                      <a:lnTo>
                        <a:pt x="211" y="210"/>
                      </a:lnTo>
                      <a:lnTo>
                        <a:pt x="190" y="216"/>
                      </a:lnTo>
                      <a:lnTo>
                        <a:pt x="172" y="227"/>
                      </a:lnTo>
                      <a:lnTo>
                        <a:pt x="162" y="233"/>
                      </a:lnTo>
                      <a:lnTo>
                        <a:pt x="152" y="238"/>
                      </a:lnTo>
                      <a:lnTo>
                        <a:pt x="141" y="243"/>
                      </a:lnTo>
                      <a:lnTo>
                        <a:pt x="129" y="246"/>
                      </a:lnTo>
                      <a:lnTo>
                        <a:pt x="116" y="249"/>
                      </a:lnTo>
                      <a:lnTo>
                        <a:pt x="103" y="250"/>
                      </a:lnTo>
                      <a:lnTo>
                        <a:pt x="90" y="251"/>
                      </a:lnTo>
                      <a:lnTo>
                        <a:pt x="77" y="250"/>
                      </a:lnTo>
                      <a:lnTo>
                        <a:pt x="64" y="250"/>
                      </a:lnTo>
                      <a:lnTo>
                        <a:pt x="52" y="248"/>
                      </a:lnTo>
                      <a:lnTo>
                        <a:pt x="40" y="246"/>
                      </a:lnTo>
                      <a:lnTo>
                        <a:pt x="30" y="243"/>
                      </a:lnTo>
                      <a:lnTo>
                        <a:pt x="20" y="239"/>
                      </a:lnTo>
                      <a:lnTo>
                        <a:pt x="11" y="235"/>
                      </a:lnTo>
                      <a:lnTo>
                        <a:pt x="5" y="231"/>
                      </a:lnTo>
                      <a:lnTo>
                        <a:pt x="0" y="226"/>
                      </a:lnTo>
                      <a:lnTo>
                        <a:pt x="0" y="18"/>
                      </a:lnTo>
                      <a:lnTo>
                        <a:pt x="5" y="23"/>
                      </a:lnTo>
                      <a:lnTo>
                        <a:pt x="11" y="27"/>
                      </a:lnTo>
                      <a:lnTo>
                        <a:pt x="20" y="31"/>
                      </a:lnTo>
                      <a:lnTo>
                        <a:pt x="30" y="34"/>
                      </a:lnTo>
                      <a:lnTo>
                        <a:pt x="40" y="37"/>
                      </a:lnTo>
                      <a:lnTo>
                        <a:pt x="52" y="39"/>
                      </a:lnTo>
                      <a:lnTo>
                        <a:pt x="64" y="41"/>
                      </a:lnTo>
                      <a:lnTo>
                        <a:pt x="77" y="42"/>
                      </a:lnTo>
                      <a:lnTo>
                        <a:pt x="90" y="42"/>
                      </a:lnTo>
                      <a:lnTo>
                        <a:pt x="103" y="41"/>
                      </a:lnTo>
                      <a:lnTo>
                        <a:pt x="116" y="40"/>
                      </a:lnTo>
                      <a:lnTo>
                        <a:pt x="129" y="38"/>
                      </a:lnTo>
                      <a:lnTo>
                        <a:pt x="141" y="35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9"/>
                      </a:lnTo>
                      <a:lnTo>
                        <a:pt x="211" y="2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8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2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043000" y="2190600"/>
                  <a:ext cx="374400" cy="9288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4"/>
                      </a:moveTo>
                      <a:lnTo>
                        <a:pt x="297" y="45"/>
                      </a:lnTo>
                      <a:lnTo>
                        <a:pt x="286" y="37"/>
                      </a:lnTo>
                      <a:lnTo>
                        <a:pt x="270" y="30"/>
                      </a:lnTo>
                      <a:lnTo>
                        <a:pt x="252" y="25"/>
                      </a:lnTo>
                      <a:lnTo>
                        <a:pt x="231" y="23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1"/>
                      </a:lnTo>
                      <a:lnTo>
                        <a:pt x="162" y="47"/>
                      </a:lnTo>
                      <a:lnTo>
                        <a:pt x="152" y="52"/>
                      </a:lnTo>
                      <a:lnTo>
                        <a:pt x="141" y="57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59"/>
                      </a:lnTo>
                      <a:lnTo>
                        <a:pt x="30" y="56"/>
                      </a:lnTo>
                      <a:lnTo>
                        <a:pt x="20" y="53"/>
                      </a:lnTo>
                      <a:lnTo>
                        <a:pt x="11" y="49"/>
                      </a:lnTo>
                      <a:lnTo>
                        <a:pt x="5" y="45"/>
                      </a:lnTo>
                      <a:lnTo>
                        <a:pt x="0" y="40"/>
                      </a:lnTo>
                      <a:lnTo>
                        <a:pt x="0" y="16"/>
                      </a:lnTo>
                      <a:lnTo>
                        <a:pt x="5" y="22"/>
                      </a:lnTo>
                      <a:lnTo>
                        <a:pt x="11" y="26"/>
                      </a:lnTo>
                      <a:lnTo>
                        <a:pt x="20" y="30"/>
                      </a:lnTo>
                      <a:lnTo>
                        <a:pt x="30" y="34"/>
                      </a:lnTo>
                      <a:lnTo>
                        <a:pt x="40" y="36"/>
                      </a:lnTo>
                      <a:lnTo>
                        <a:pt x="52" y="39"/>
                      </a:lnTo>
                      <a:lnTo>
                        <a:pt x="64" y="40"/>
                      </a:lnTo>
                      <a:lnTo>
                        <a:pt x="77" y="41"/>
                      </a:lnTo>
                      <a:lnTo>
                        <a:pt x="90" y="41"/>
                      </a:lnTo>
                      <a:lnTo>
                        <a:pt x="103" y="41"/>
                      </a:lnTo>
                      <a:lnTo>
                        <a:pt x="116" y="39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8"/>
                      </a:lnTo>
                      <a:lnTo>
                        <a:pt x="190" y="7"/>
                      </a:lnTo>
                      <a:lnTo>
                        <a:pt x="211" y="1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7"/>
                      </a:lnTo>
                      <a:lnTo>
                        <a:pt x="286" y="14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4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43000" y="2256840"/>
                  <a:ext cx="374400" cy="9684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5"/>
                      </a:moveTo>
                      <a:lnTo>
                        <a:pt x="297" y="45"/>
                      </a:lnTo>
                      <a:lnTo>
                        <a:pt x="286" y="37"/>
                      </a:lnTo>
                      <a:lnTo>
                        <a:pt x="270" y="31"/>
                      </a:lnTo>
                      <a:lnTo>
                        <a:pt x="252" y="26"/>
                      </a:lnTo>
                      <a:lnTo>
                        <a:pt x="231" y="24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1"/>
                      </a:lnTo>
                      <a:lnTo>
                        <a:pt x="162" y="47"/>
                      </a:lnTo>
                      <a:lnTo>
                        <a:pt x="152" y="52"/>
                      </a:lnTo>
                      <a:lnTo>
                        <a:pt x="141" y="58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60"/>
                      </a:lnTo>
                      <a:lnTo>
                        <a:pt x="30" y="57"/>
                      </a:lnTo>
                      <a:lnTo>
                        <a:pt x="20" y="54"/>
                      </a:lnTo>
                      <a:lnTo>
                        <a:pt x="11" y="49"/>
                      </a:lnTo>
                      <a:lnTo>
                        <a:pt x="5" y="45"/>
                      </a:lnTo>
                      <a:lnTo>
                        <a:pt x="0" y="40"/>
                      </a:lnTo>
                      <a:lnTo>
                        <a:pt x="0" y="17"/>
                      </a:lnTo>
                      <a:lnTo>
                        <a:pt x="5" y="22"/>
                      </a:lnTo>
                      <a:lnTo>
                        <a:pt x="11" y="26"/>
                      </a:lnTo>
                      <a:lnTo>
                        <a:pt x="20" y="30"/>
                      </a:lnTo>
                      <a:lnTo>
                        <a:pt x="30" y="34"/>
                      </a:lnTo>
                      <a:lnTo>
                        <a:pt x="40" y="36"/>
                      </a:lnTo>
                      <a:lnTo>
                        <a:pt x="52" y="39"/>
                      </a:lnTo>
                      <a:lnTo>
                        <a:pt x="64" y="40"/>
                      </a:lnTo>
                      <a:lnTo>
                        <a:pt x="77" y="41"/>
                      </a:lnTo>
                      <a:lnTo>
                        <a:pt x="90" y="41"/>
                      </a:lnTo>
                      <a:lnTo>
                        <a:pt x="103" y="41"/>
                      </a:lnTo>
                      <a:lnTo>
                        <a:pt x="116" y="39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7"/>
                      </a:lnTo>
                      <a:lnTo>
                        <a:pt x="211" y="1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7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5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43000" y="2323800"/>
                  <a:ext cx="374400" cy="9684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5"/>
                      </a:moveTo>
                      <a:lnTo>
                        <a:pt x="297" y="45"/>
                      </a:lnTo>
                      <a:lnTo>
                        <a:pt x="286" y="37"/>
                      </a:lnTo>
                      <a:lnTo>
                        <a:pt x="270" y="31"/>
                      </a:lnTo>
                      <a:lnTo>
                        <a:pt x="252" y="26"/>
                      </a:lnTo>
                      <a:lnTo>
                        <a:pt x="231" y="24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1"/>
                      </a:lnTo>
                      <a:lnTo>
                        <a:pt x="162" y="48"/>
                      </a:lnTo>
                      <a:lnTo>
                        <a:pt x="152" y="53"/>
                      </a:lnTo>
                      <a:lnTo>
                        <a:pt x="141" y="58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60"/>
                      </a:lnTo>
                      <a:lnTo>
                        <a:pt x="30" y="57"/>
                      </a:lnTo>
                      <a:lnTo>
                        <a:pt x="20" y="54"/>
                      </a:lnTo>
                      <a:lnTo>
                        <a:pt x="11" y="50"/>
                      </a:lnTo>
                      <a:lnTo>
                        <a:pt x="5" y="45"/>
                      </a:lnTo>
                      <a:lnTo>
                        <a:pt x="0" y="40"/>
                      </a:lnTo>
                      <a:lnTo>
                        <a:pt x="0" y="18"/>
                      </a:lnTo>
                      <a:lnTo>
                        <a:pt x="5" y="23"/>
                      </a:lnTo>
                      <a:lnTo>
                        <a:pt x="11" y="27"/>
                      </a:lnTo>
                      <a:lnTo>
                        <a:pt x="20" y="31"/>
                      </a:lnTo>
                      <a:lnTo>
                        <a:pt x="30" y="34"/>
                      </a:lnTo>
                      <a:lnTo>
                        <a:pt x="40" y="37"/>
                      </a:lnTo>
                      <a:lnTo>
                        <a:pt x="52" y="39"/>
                      </a:lnTo>
                      <a:lnTo>
                        <a:pt x="64" y="41"/>
                      </a:lnTo>
                      <a:lnTo>
                        <a:pt x="77" y="41"/>
                      </a:lnTo>
                      <a:lnTo>
                        <a:pt x="90" y="42"/>
                      </a:lnTo>
                      <a:lnTo>
                        <a:pt x="103" y="41"/>
                      </a:lnTo>
                      <a:lnTo>
                        <a:pt x="116" y="40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8"/>
                      </a:lnTo>
                      <a:lnTo>
                        <a:pt x="211" y="1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8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5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043000" y="2393640"/>
                  <a:ext cx="374400" cy="9288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5"/>
                      </a:moveTo>
                      <a:lnTo>
                        <a:pt x="297" y="46"/>
                      </a:lnTo>
                      <a:lnTo>
                        <a:pt x="286" y="37"/>
                      </a:lnTo>
                      <a:lnTo>
                        <a:pt x="270" y="31"/>
                      </a:lnTo>
                      <a:lnTo>
                        <a:pt x="252" y="26"/>
                      </a:lnTo>
                      <a:lnTo>
                        <a:pt x="231" y="24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2"/>
                      </a:lnTo>
                      <a:lnTo>
                        <a:pt x="162" y="48"/>
                      </a:lnTo>
                      <a:lnTo>
                        <a:pt x="152" y="53"/>
                      </a:lnTo>
                      <a:lnTo>
                        <a:pt x="141" y="58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60"/>
                      </a:lnTo>
                      <a:lnTo>
                        <a:pt x="30" y="57"/>
                      </a:lnTo>
                      <a:lnTo>
                        <a:pt x="20" y="54"/>
                      </a:lnTo>
                      <a:lnTo>
                        <a:pt x="11" y="50"/>
                      </a:lnTo>
                      <a:lnTo>
                        <a:pt x="5" y="46"/>
                      </a:lnTo>
                      <a:lnTo>
                        <a:pt x="0" y="41"/>
                      </a:lnTo>
                      <a:lnTo>
                        <a:pt x="0" y="18"/>
                      </a:lnTo>
                      <a:lnTo>
                        <a:pt x="5" y="23"/>
                      </a:lnTo>
                      <a:lnTo>
                        <a:pt x="11" y="27"/>
                      </a:lnTo>
                      <a:lnTo>
                        <a:pt x="20" y="31"/>
                      </a:lnTo>
                      <a:lnTo>
                        <a:pt x="30" y="34"/>
                      </a:lnTo>
                      <a:lnTo>
                        <a:pt x="40" y="37"/>
                      </a:lnTo>
                      <a:lnTo>
                        <a:pt x="52" y="39"/>
                      </a:lnTo>
                      <a:lnTo>
                        <a:pt x="64" y="42"/>
                      </a:lnTo>
                      <a:lnTo>
                        <a:pt x="77" y="42"/>
                      </a:lnTo>
                      <a:lnTo>
                        <a:pt x="90" y="43"/>
                      </a:lnTo>
                      <a:lnTo>
                        <a:pt x="103" y="42"/>
                      </a:lnTo>
                      <a:lnTo>
                        <a:pt x="116" y="41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8"/>
                      </a:lnTo>
                      <a:lnTo>
                        <a:pt x="211" y="2"/>
                      </a:lnTo>
                      <a:lnTo>
                        <a:pt x="231" y="0"/>
                      </a:lnTo>
                      <a:lnTo>
                        <a:pt x="252" y="3"/>
                      </a:lnTo>
                      <a:lnTo>
                        <a:pt x="270" y="8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5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254320" y="2155680"/>
                  <a:ext cx="163080" cy="215640"/>
                </a:xfrm>
                <a:custGeom>
                  <a:avLst/>
                  <a:gdLst/>
                  <a:ahLst/>
                  <a:rect l="l" t="t" r="r" b="b"/>
                  <a:pathLst>
                    <a:path w="131" h="148">
                      <a:moveTo>
                        <a:pt x="131" y="148"/>
                      </a:moveTo>
                      <a:lnTo>
                        <a:pt x="125" y="139"/>
                      </a:lnTo>
                      <a:lnTo>
                        <a:pt x="114" y="131"/>
                      </a:lnTo>
                      <a:lnTo>
                        <a:pt x="98" y="124"/>
                      </a:lnTo>
                      <a:lnTo>
                        <a:pt x="80" y="118"/>
                      </a:lnTo>
                      <a:lnTo>
                        <a:pt x="59" y="116"/>
                      </a:lnTo>
                      <a:lnTo>
                        <a:pt x="39" y="117"/>
                      </a:lnTo>
                      <a:lnTo>
                        <a:pt x="18" y="124"/>
                      </a:lnTo>
                      <a:lnTo>
                        <a:pt x="0" y="135"/>
                      </a:lnTo>
                      <a:lnTo>
                        <a:pt x="0" y="19"/>
                      </a:lnTo>
                      <a:lnTo>
                        <a:pt x="18" y="9"/>
                      </a:lnTo>
                      <a:lnTo>
                        <a:pt x="39" y="2"/>
                      </a:lnTo>
                      <a:lnTo>
                        <a:pt x="59" y="0"/>
                      </a:lnTo>
                      <a:lnTo>
                        <a:pt x="80" y="2"/>
                      </a:lnTo>
                      <a:lnTo>
                        <a:pt x="98" y="8"/>
                      </a:lnTo>
                      <a:lnTo>
                        <a:pt x="114" y="15"/>
                      </a:lnTo>
                      <a:lnTo>
                        <a:pt x="125" y="23"/>
                      </a:lnTo>
                      <a:lnTo>
                        <a:pt x="131" y="32"/>
                      </a:lnTo>
                      <a:lnTo>
                        <a:pt x="131" y="148"/>
                      </a:lnTo>
                      <a:close/>
                    </a:path>
                  </a:pathLst>
                </a:custGeom>
                <a:solidFill>
                  <a:srgbClr val="007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"/>
            <p:cNvSpPr/>
            <p:nvPr/>
          </p:nvSpPr>
          <p:spPr>
            <a:xfrm>
              <a:off x="77400" y="2207880"/>
              <a:ext cx="1604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Fina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A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Off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19520" y="3808440"/>
            <a:ext cx="3124080" cy="2288160"/>
            <a:chOff x="2819520" y="3808440"/>
            <a:chExt cx="3124080" cy="2288160"/>
          </a:xfrm>
        </p:grpSpPr>
        <p:grpSp>
          <p:nvGrpSpPr>
            <p:cNvPr id="235" name=""/>
            <p:cNvGrpSpPr/>
            <p:nvPr/>
          </p:nvGrpSpPr>
          <p:grpSpPr>
            <a:xfrm>
              <a:off x="2819520" y="3808440"/>
              <a:ext cx="3124080" cy="1714320"/>
              <a:chOff x="2819520" y="3808440"/>
              <a:chExt cx="3124080" cy="17143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3000" y="4651200"/>
                <a:ext cx="1879560" cy="43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7" name=""/>
              <p:cNvGraphicFramePr/>
              <p:nvPr/>
            </p:nvGraphicFramePr>
            <p:xfrm>
              <a:off x="2819520" y="3808440"/>
              <a:ext cx="3124080" cy="1714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819520" y="3808440"/>
                        <a:ext cx="3124080" cy="171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39" name=""/>
            <p:cNvSpPr/>
            <p:nvPr/>
          </p:nvSpPr>
          <p:spPr>
            <a:xfrm>
              <a:off x="3976560" y="557604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C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3657600"/>
            <a:ext cx="533160" cy="76212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943600" y="3657600"/>
            <a:ext cx="457200" cy="76212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038480" y="1828800"/>
            <a:ext cx="4875840" cy="1752120"/>
            <a:chOff x="4038480" y="1828800"/>
            <a:chExt cx="4875840" cy="1752120"/>
          </a:xfrm>
        </p:grpSpPr>
        <p:grpSp>
          <p:nvGrpSpPr>
            <p:cNvPr id="243" name=""/>
            <p:cNvGrpSpPr/>
            <p:nvPr/>
          </p:nvGrpSpPr>
          <p:grpSpPr>
            <a:xfrm>
              <a:off x="5141880" y="1828800"/>
              <a:ext cx="3772440" cy="1752120"/>
              <a:chOff x="5141880" y="1828800"/>
              <a:chExt cx="3772440" cy="175212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5141880" y="1828800"/>
                <a:ext cx="2285640" cy="1752120"/>
                <a:chOff x="5141880" y="1828800"/>
                <a:chExt cx="2285640" cy="1752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895720" y="2231640"/>
                  <a:ext cx="755640" cy="132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141880" y="1828800"/>
                  <a:ext cx="2285640" cy="1752120"/>
                  <a:chOff x="5141880" y="1828800"/>
                  <a:chExt cx="2285640" cy="17521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141880" y="2342520"/>
                    <a:ext cx="569160" cy="12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35">
                        <a:moveTo>
                          <a:pt x="204" y="123"/>
                        </a:moveTo>
                        <a:lnTo>
                          <a:pt x="205" y="113"/>
                        </a:lnTo>
                        <a:lnTo>
                          <a:pt x="204" y="96"/>
                        </a:lnTo>
                        <a:lnTo>
                          <a:pt x="201" y="75"/>
                        </a:lnTo>
                        <a:lnTo>
                          <a:pt x="195" y="52"/>
                        </a:lnTo>
                        <a:lnTo>
                          <a:pt x="187" y="31"/>
                        </a:lnTo>
                        <a:lnTo>
                          <a:pt x="177" y="13"/>
                        </a:lnTo>
                        <a:lnTo>
                          <a:pt x="163" y="2"/>
                        </a:lnTo>
                        <a:lnTo>
                          <a:pt x="148" y="0"/>
                        </a:lnTo>
                        <a:lnTo>
                          <a:pt x="132" y="6"/>
                        </a:lnTo>
                        <a:lnTo>
                          <a:pt x="121" y="17"/>
                        </a:lnTo>
                        <a:lnTo>
                          <a:pt x="112" y="31"/>
                        </a:lnTo>
                        <a:lnTo>
                          <a:pt x="107" y="47"/>
                        </a:lnTo>
                        <a:lnTo>
                          <a:pt x="104" y="64"/>
                        </a:lnTo>
                        <a:lnTo>
                          <a:pt x="103" y="79"/>
                        </a:lnTo>
                        <a:lnTo>
                          <a:pt x="103" y="94"/>
                        </a:lnTo>
                        <a:lnTo>
                          <a:pt x="105" y="104"/>
                        </a:lnTo>
                        <a:lnTo>
                          <a:pt x="94" y="110"/>
                        </a:lnTo>
                        <a:lnTo>
                          <a:pt x="82" y="124"/>
                        </a:lnTo>
                        <a:lnTo>
                          <a:pt x="68" y="146"/>
                        </a:lnTo>
                        <a:lnTo>
                          <a:pt x="54" y="172"/>
                        </a:lnTo>
                        <a:lnTo>
                          <a:pt x="42" y="200"/>
                        </a:lnTo>
                        <a:lnTo>
                          <a:pt x="34" y="230"/>
                        </a:lnTo>
                        <a:lnTo>
                          <a:pt x="32" y="259"/>
                        </a:lnTo>
                        <a:lnTo>
                          <a:pt x="36" y="286"/>
                        </a:lnTo>
                        <a:lnTo>
                          <a:pt x="25" y="293"/>
                        </a:lnTo>
                        <a:lnTo>
                          <a:pt x="13" y="309"/>
                        </a:lnTo>
                        <a:lnTo>
                          <a:pt x="5" y="335"/>
                        </a:lnTo>
                        <a:lnTo>
                          <a:pt x="1" y="368"/>
                        </a:lnTo>
                        <a:lnTo>
                          <a:pt x="0" y="406"/>
                        </a:lnTo>
                        <a:lnTo>
                          <a:pt x="4" y="448"/>
                        </a:lnTo>
                        <a:lnTo>
                          <a:pt x="14" y="491"/>
                        </a:lnTo>
                        <a:lnTo>
                          <a:pt x="33" y="535"/>
                        </a:lnTo>
                        <a:lnTo>
                          <a:pt x="282" y="535"/>
                        </a:lnTo>
                        <a:lnTo>
                          <a:pt x="290" y="516"/>
                        </a:lnTo>
                        <a:lnTo>
                          <a:pt x="297" y="488"/>
                        </a:lnTo>
                        <a:lnTo>
                          <a:pt x="303" y="453"/>
                        </a:lnTo>
                        <a:lnTo>
                          <a:pt x="307" y="416"/>
                        </a:lnTo>
                        <a:lnTo>
                          <a:pt x="308" y="380"/>
                        </a:lnTo>
                        <a:lnTo>
                          <a:pt x="304" y="349"/>
                        </a:lnTo>
                        <a:lnTo>
                          <a:pt x="294" y="328"/>
                        </a:lnTo>
                        <a:lnTo>
                          <a:pt x="276" y="318"/>
                        </a:lnTo>
                        <a:lnTo>
                          <a:pt x="282" y="303"/>
                        </a:lnTo>
                        <a:lnTo>
                          <a:pt x="284" y="289"/>
                        </a:lnTo>
                        <a:lnTo>
                          <a:pt x="284" y="276"/>
                        </a:lnTo>
                        <a:lnTo>
                          <a:pt x="282" y="266"/>
                        </a:lnTo>
                        <a:lnTo>
                          <a:pt x="278" y="257"/>
                        </a:lnTo>
                        <a:lnTo>
                          <a:pt x="273" y="251"/>
                        </a:lnTo>
                        <a:lnTo>
                          <a:pt x="267" y="245"/>
                        </a:lnTo>
                        <a:lnTo>
                          <a:pt x="262" y="243"/>
                        </a:lnTo>
                        <a:lnTo>
                          <a:pt x="264" y="229"/>
                        </a:lnTo>
                        <a:lnTo>
                          <a:pt x="263" y="211"/>
                        </a:lnTo>
                        <a:lnTo>
                          <a:pt x="259" y="189"/>
                        </a:lnTo>
                        <a:lnTo>
                          <a:pt x="253" y="167"/>
                        </a:lnTo>
                        <a:lnTo>
                          <a:pt x="244" y="148"/>
                        </a:lnTo>
                        <a:lnTo>
                          <a:pt x="233" y="133"/>
                        </a:lnTo>
                        <a:lnTo>
                          <a:pt x="220" y="124"/>
                        </a:lnTo>
                        <a:lnTo>
                          <a:pt x="204" y="123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550120" y="2649960"/>
                    <a:ext cx="1629000" cy="897120"/>
                    <a:chOff x="5550120" y="2649960"/>
                    <a:chExt cx="1629000" cy="897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634720" y="286272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991840" y="286272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601960" y="2824560"/>
                      <a:ext cx="744840" cy="37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4">
                          <a:moveTo>
                            <a:pt x="32" y="263"/>
                          </a:moveTo>
                          <a:lnTo>
                            <a:pt x="354" y="263"/>
                          </a:lnTo>
                          <a:lnTo>
                            <a:pt x="354" y="30"/>
                          </a:lnTo>
                          <a:lnTo>
                            <a:pt x="32" y="30"/>
                          </a:lnTo>
                          <a:lnTo>
                            <a:pt x="32" y="263"/>
                          </a:lnTo>
                          <a:lnTo>
                            <a:pt x="0" y="294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4"/>
                          </a:lnTo>
                          <a:lnTo>
                            <a:pt x="707" y="263"/>
                          </a:lnTo>
                          <a:lnTo>
                            <a:pt x="707" y="30"/>
                          </a:lnTo>
                          <a:lnTo>
                            <a:pt x="385" y="30"/>
                          </a:lnTo>
                          <a:lnTo>
                            <a:pt x="385" y="263"/>
                          </a:lnTo>
                          <a:lnTo>
                            <a:pt x="707" y="263"/>
                          </a:lnTo>
                          <a:lnTo>
                            <a:pt x="738" y="294"/>
                          </a:lnTo>
                          <a:lnTo>
                            <a:pt x="0" y="294"/>
                          </a:lnTo>
                          <a:lnTo>
                            <a:pt x="32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735160" y="2862720"/>
                      <a:ext cx="22392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33">
                          <a:moveTo>
                            <a:pt x="122" y="0"/>
                          </a:moveTo>
                          <a:lnTo>
                            <a:pt x="224" y="0"/>
                          </a:lnTo>
                          <a:lnTo>
                            <a:pt x="224" y="88"/>
                          </a:lnTo>
                          <a:lnTo>
                            <a:pt x="215" y="91"/>
                          </a:lnTo>
                          <a:lnTo>
                            <a:pt x="207" y="93"/>
                          </a:lnTo>
                          <a:lnTo>
                            <a:pt x="198" y="96"/>
                          </a:lnTo>
                          <a:lnTo>
                            <a:pt x="190" y="100"/>
                          </a:lnTo>
                          <a:lnTo>
                            <a:pt x="182" y="103"/>
                          </a:lnTo>
                          <a:lnTo>
                            <a:pt x="176" y="108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1" y="130"/>
                          </a:lnTo>
                          <a:lnTo>
                            <a:pt x="178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9"/>
                          </a:lnTo>
                          <a:lnTo>
                            <a:pt x="204" y="157"/>
                          </a:lnTo>
                          <a:lnTo>
                            <a:pt x="202" y="167"/>
                          </a:lnTo>
                          <a:lnTo>
                            <a:pt x="196" y="177"/>
                          </a:lnTo>
                          <a:lnTo>
                            <a:pt x="188" y="186"/>
                          </a:lnTo>
                          <a:lnTo>
                            <a:pt x="178" y="194"/>
                          </a:lnTo>
                          <a:lnTo>
                            <a:pt x="170" y="203"/>
                          </a:lnTo>
                          <a:lnTo>
                            <a:pt x="162" y="210"/>
                          </a:lnTo>
                          <a:lnTo>
                            <a:pt x="155" y="217"/>
                          </a:lnTo>
                          <a:lnTo>
                            <a:pt x="149" y="225"/>
                          </a:lnTo>
                          <a:lnTo>
                            <a:pt x="145" y="233"/>
                          </a:lnTo>
                          <a:lnTo>
                            <a:pt x="0" y="233"/>
                          </a:lnTo>
                          <a:lnTo>
                            <a:pt x="2" y="225"/>
                          </a:lnTo>
                          <a:lnTo>
                            <a:pt x="7" y="215"/>
                          </a:lnTo>
                          <a:lnTo>
                            <a:pt x="13" y="204"/>
                          </a:lnTo>
                          <a:lnTo>
                            <a:pt x="20" y="192"/>
                          </a:lnTo>
                          <a:lnTo>
                            <a:pt x="28" y="180"/>
                          </a:lnTo>
                          <a:lnTo>
                            <a:pt x="38" y="169"/>
                          </a:lnTo>
                          <a:lnTo>
                            <a:pt x="46" y="159"/>
                          </a:lnTo>
                          <a:lnTo>
                            <a:pt x="55" y="151"/>
                          </a:lnTo>
                          <a:lnTo>
                            <a:pt x="66" y="143"/>
                          </a:lnTo>
                          <a:lnTo>
                            <a:pt x="82" y="132"/>
                          </a:lnTo>
                          <a:lnTo>
                            <a:pt x="99" y="119"/>
                          </a:lnTo>
                          <a:lnTo>
                            <a:pt x="116" y="106"/>
                          </a:lnTo>
                          <a:lnTo>
                            <a:pt x="130" y="94"/>
                          </a:lnTo>
                          <a:lnTo>
                            <a:pt x="139" y="82"/>
                          </a:lnTo>
                          <a:lnTo>
                            <a:pt x="141" y="75"/>
                          </a:lnTo>
                          <a:lnTo>
                            <a:pt x="133" y="72"/>
                          </a:lnTo>
                          <a:lnTo>
                            <a:pt x="119" y="73"/>
                          </a:lnTo>
                          <a:lnTo>
                            <a:pt x="101" y="75"/>
                          </a:lnTo>
                          <a:lnTo>
                            <a:pt x="85" y="79"/>
                          </a:lnTo>
                          <a:lnTo>
                            <a:pt x="67" y="84"/>
                          </a:lnTo>
                          <a:lnTo>
                            <a:pt x="52" y="87"/>
                          </a:lnTo>
                          <a:lnTo>
                            <a:pt x="40" y="88"/>
                          </a:lnTo>
                          <a:lnTo>
                            <a:pt x="31" y="86"/>
                          </a:lnTo>
                          <a:lnTo>
                            <a:pt x="28" y="80"/>
                          </a:lnTo>
                          <a:lnTo>
                            <a:pt x="31" y="72"/>
                          </a:lnTo>
                          <a:lnTo>
                            <a:pt x="40" y="62"/>
                          </a:lnTo>
                          <a:lnTo>
                            <a:pt x="52" y="51"/>
                          </a:lnTo>
                          <a:lnTo>
                            <a:pt x="67" y="39"/>
                          </a:lnTo>
                          <a:lnTo>
                            <a:pt x="84" y="28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070680" y="2862720"/>
                      <a:ext cx="24588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233">
                          <a:moveTo>
                            <a:pt x="98" y="0"/>
                          </a:moveTo>
                          <a:lnTo>
                            <a:pt x="93" y="4"/>
                          </a:lnTo>
                          <a:lnTo>
                            <a:pt x="85" y="11"/>
                          </a:lnTo>
                          <a:lnTo>
                            <a:pt x="76" y="18"/>
                          </a:lnTo>
                          <a:lnTo>
                            <a:pt x="67" y="26"/>
                          </a:lnTo>
                          <a:lnTo>
                            <a:pt x="58" y="34"/>
                          </a:lnTo>
                          <a:lnTo>
                            <a:pt x="49" y="43"/>
                          </a:lnTo>
                          <a:lnTo>
                            <a:pt x="41" y="52"/>
                          </a:lnTo>
                          <a:lnTo>
                            <a:pt x="34" y="59"/>
                          </a:lnTo>
                          <a:lnTo>
                            <a:pt x="30" y="66"/>
                          </a:lnTo>
                          <a:lnTo>
                            <a:pt x="29" y="73"/>
                          </a:lnTo>
                          <a:lnTo>
                            <a:pt x="31" y="80"/>
                          </a:lnTo>
                          <a:lnTo>
                            <a:pt x="35" y="88"/>
                          </a:lnTo>
                          <a:lnTo>
                            <a:pt x="41" y="93"/>
                          </a:lnTo>
                          <a:lnTo>
                            <a:pt x="49" y="97"/>
                          </a:lnTo>
                          <a:lnTo>
                            <a:pt x="58" y="98"/>
                          </a:lnTo>
                          <a:lnTo>
                            <a:pt x="67" y="97"/>
                          </a:lnTo>
                          <a:lnTo>
                            <a:pt x="76" y="96"/>
                          </a:lnTo>
                          <a:lnTo>
                            <a:pt x="85" y="99"/>
                          </a:lnTo>
                          <a:lnTo>
                            <a:pt x="92" y="104"/>
                          </a:lnTo>
                          <a:lnTo>
                            <a:pt x="96" y="112"/>
                          </a:lnTo>
                          <a:lnTo>
                            <a:pt x="97" y="121"/>
                          </a:lnTo>
                          <a:lnTo>
                            <a:pt x="95" y="132"/>
                          </a:lnTo>
                          <a:lnTo>
                            <a:pt x="89" y="142"/>
                          </a:lnTo>
                          <a:lnTo>
                            <a:pt x="77" y="152"/>
                          </a:lnTo>
                          <a:lnTo>
                            <a:pt x="64" y="163"/>
                          </a:lnTo>
                          <a:lnTo>
                            <a:pt x="51" y="173"/>
                          </a:lnTo>
                          <a:lnTo>
                            <a:pt x="38" y="183"/>
                          </a:lnTo>
                          <a:lnTo>
                            <a:pt x="27" y="192"/>
                          </a:lnTo>
                          <a:lnTo>
                            <a:pt x="17" y="203"/>
                          </a:lnTo>
                          <a:lnTo>
                            <a:pt x="9" y="213"/>
                          </a:lnTo>
                          <a:lnTo>
                            <a:pt x="4" y="223"/>
                          </a:lnTo>
                          <a:lnTo>
                            <a:pt x="0" y="233"/>
                          </a:lnTo>
                          <a:lnTo>
                            <a:pt x="161" y="233"/>
                          </a:lnTo>
                          <a:lnTo>
                            <a:pt x="164" y="226"/>
                          </a:lnTo>
                          <a:lnTo>
                            <a:pt x="168" y="218"/>
                          </a:lnTo>
                          <a:lnTo>
                            <a:pt x="173" y="209"/>
                          </a:lnTo>
                          <a:lnTo>
                            <a:pt x="178" y="198"/>
                          </a:lnTo>
                          <a:lnTo>
                            <a:pt x="183" y="189"/>
                          </a:lnTo>
                          <a:lnTo>
                            <a:pt x="189" y="179"/>
                          </a:lnTo>
                          <a:lnTo>
                            <a:pt x="195" y="171"/>
                          </a:lnTo>
                          <a:lnTo>
                            <a:pt x="200" y="164"/>
                          </a:lnTo>
                          <a:lnTo>
                            <a:pt x="205" y="157"/>
                          </a:lnTo>
                          <a:lnTo>
                            <a:pt x="210" y="150"/>
                          </a:lnTo>
                          <a:lnTo>
                            <a:pt x="214" y="143"/>
                          </a:lnTo>
                          <a:lnTo>
                            <a:pt x="217" y="136"/>
                          </a:lnTo>
                          <a:lnTo>
                            <a:pt x="217" y="130"/>
                          </a:lnTo>
                          <a:lnTo>
                            <a:pt x="215" y="125"/>
                          </a:lnTo>
                          <a:lnTo>
                            <a:pt x="210" y="119"/>
                          </a:lnTo>
                          <a:lnTo>
                            <a:pt x="201" y="117"/>
                          </a:lnTo>
                          <a:lnTo>
                            <a:pt x="189" y="115"/>
                          </a:lnTo>
                          <a:lnTo>
                            <a:pt x="179" y="111"/>
                          </a:lnTo>
                          <a:lnTo>
                            <a:pt x="171" y="105"/>
                          </a:lnTo>
                          <a:lnTo>
                            <a:pt x="168" y="95"/>
                          </a:lnTo>
                          <a:lnTo>
                            <a:pt x="171" y="79"/>
                          </a:lnTo>
                          <a:lnTo>
                            <a:pt x="183" y="60"/>
                          </a:lnTo>
                          <a:lnTo>
                            <a:pt x="207" y="33"/>
                          </a:lnTo>
                          <a:lnTo>
                            <a:pt x="243" y="0"/>
                          </a:lnTo>
                          <a:lnTo>
                            <a:pt x="98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571720" y="2824560"/>
                      <a:ext cx="2988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346800" y="2824560"/>
                      <a:ext cx="3240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601960" y="319716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601960" y="3242880"/>
                      <a:ext cx="744840" cy="30420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574240" y="2683080"/>
                      <a:ext cx="8031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7">
                          <a:moveTo>
                            <a:pt x="797" y="87"/>
                          </a:moveTo>
                          <a:lnTo>
                            <a:pt x="747" y="0"/>
                          </a:lnTo>
                          <a:lnTo>
                            <a:pt x="45" y="0"/>
                          </a:lnTo>
                          <a:lnTo>
                            <a:pt x="0" y="87"/>
                          </a:lnTo>
                          <a:lnTo>
                            <a:pt x="797" y="87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601960" y="335736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5601960" y="329616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601960" y="342540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068520" y="3357360"/>
                      <a:ext cx="10548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010200" y="3425400"/>
                      <a:ext cx="1065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5550120" y="2794320"/>
                      <a:ext cx="85140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5650560" y="264996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7" h="25">
                          <a:moveTo>
                            <a:pt x="647" y="25"/>
                          </a:moveTo>
                          <a:lnTo>
                            <a:pt x="625" y="0"/>
                          </a:lnTo>
                          <a:lnTo>
                            <a:pt x="19" y="0"/>
                          </a:lnTo>
                          <a:lnTo>
                            <a:pt x="0" y="25"/>
                          </a:lnTo>
                          <a:lnTo>
                            <a:pt x="647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410160" y="2865600"/>
                      <a:ext cx="32436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767280" y="2865600"/>
                      <a:ext cx="32472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377400" y="2824560"/>
                      <a:ext cx="74484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5">
                          <a:moveTo>
                            <a:pt x="31" y="263"/>
                          </a:moveTo>
                          <a:lnTo>
                            <a:pt x="354" y="263"/>
                          </a:lnTo>
                          <a:lnTo>
                            <a:pt x="354" y="31"/>
                          </a:lnTo>
                          <a:lnTo>
                            <a:pt x="31" y="31"/>
                          </a:lnTo>
                          <a:lnTo>
                            <a:pt x="31" y="263"/>
                          </a:lnTo>
                          <a:lnTo>
                            <a:pt x="0" y="295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5"/>
                          </a:lnTo>
                          <a:lnTo>
                            <a:pt x="706" y="263"/>
                          </a:lnTo>
                          <a:lnTo>
                            <a:pt x="706" y="31"/>
                          </a:lnTo>
                          <a:lnTo>
                            <a:pt x="385" y="31"/>
                          </a:lnTo>
                          <a:lnTo>
                            <a:pt x="385" y="263"/>
                          </a:lnTo>
                          <a:lnTo>
                            <a:pt x="706" y="263"/>
                          </a:lnTo>
                          <a:lnTo>
                            <a:pt x="738" y="295"/>
                          </a:lnTo>
                          <a:lnTo>
                            <a:pt x="0" y="295"/>
                          </a:lnTo>
                          <a:lnTo>
                            <a:pt x="31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507000" y="2865600"/>
                      <a:ext cx="22752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232">
                          <a:moveTo>
                            <a:pt x="122" y="0"/>
                          </a:moveTo>
                          <a:lnTo>
                            <a:pt x="225" y="0"/>
                          </a:lnTo>
                          <a:lnTo>
                            <a:pt x="225" y="87"/>
                          </a:lnTo>
                          <a:lnTo>
                            <a:pt x="217" y="90"/>
                          </a:lnTo>
                          <a:lnTo>
                            <a:pt x="207" y="92"/>
                          </a:lnTo>
                          <a:lnTo>
                            <a:pt x="198" y="95"/>
                          </a:lnTo>
                          <a:lnTo>
                            <a:pt x="190" y="99"/>
                          </a:lnTo>
                          <a:lnTo>
                            <a:pt x="183" y="103"/>
                          </a:lnTo>
                          <a:lnTo>
                            <a:pt x="177" y="107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2" y="129"/>
                          </a:lnTo>
                          <a:lnTo>
                            <a:pt x="180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8"/>
                          </a:lnTo>
                          <a:lnTo>
                            <a:pt x="205" y="156"/>
                          </a:lnTo>
                          <a:lnTo>
                            <a:pt x="202" y="166"/>
                          </a:lnTo>
                          <a:lnTo>
                            <a:pt x="196" y="176"/>
                          </a:lnTo>
                          <a:lnTo>
                            <a:pt x="188" y="185"/>
                          </a:lnTo>
                          <a:lnTo>
                            <a:pt x="180" y="193"/>
                          </a:lnTo>
                          <a:lnTo>
                            <a:pt x="171" y="202"/>
                          </a:lnTo>
                          <a:lnTo>
                            <a:pt x="162" y="209"/>
                          </a:lnTo>
                          <a:lnTo>
                            <a:pt x="155" y="216"/>
                          </a:lnTo>
                          <a:lnTo>
                            <a:pt x="150" y="224"/>
                          </a:lnTo>
                          <a:lnTo>
                            <a:pt x="146" y="232"/>
                          </a:lnTo>
                          <a:lnTo>
                            <a:pt x="0" y="232"/>
                          </a:lnTo>
                          <a:lnTo>
                            <a:pt x="2" y="224"/>
                          </a:lnTo>
                          <a:lnTo>
                            <a:pt x="7" y="214"/>
                          </a:lnTo>
                          <a:lnTo>
                            <a:pt x="13" y="203"/>
                          </a:lnTo>
                          <a:lnTo>
                            <a:pt x="20" y="191"/>
                          </a:lnTo>
                          <a:lnTo>
                            <a:pt x="29" y="179"/>
                          </a:lnTo>
                          <a:lnTo>
                            <a:pt x="38" y="168"/>
                          </a:lnTo>
                          <a:lnTo>
                            <a:pt x="47" y="158"/>
                          </a:lnTo>
                          <a:lnTo>
                            <a:pt x="55" y="150"/>
                          </a:lnTo>
                          <a:lnTo>
                            <a:pt x="67" y="142"/>
                          </a:lnTo>
                          <a:lnTo>
                            <a:pt x="82" y="131"/>
                          </a:lnTo>
                          <a:lnTo>
                            <a:pt x="99" y="118"/>
                          </a:lnTo>
                          <a:lnTo>
                            <a:pt x="117" y="105"/>
                          </a:lnTo>
                          <a:lnTo>
                            <a:pt x="131" y="93"/>
                          </a:lnTo>
                          <a:lnTo>
                            <a:pt x="141" y="83"/>
                          </a:lnTo>
                          <a:lnTo>
                            <a:pt x="143" y="75"/>
                          </a:lnTo>
                          <a:lnTo>
                            <a:pt x="134" y="72"/>
                          </a:lnTo>
                          <a:lnTo>
                            <a:pt x="120" y="73"/>
                          </a:lnTo>
                          <a:lnTo>
                            <a:pt x="103" y="75"/>
                          </a:lnTo>
                          <a:lnTo>
                            <a:pt x="85" y="79"/>
                          </a:lnTo>
                          <a:lnTo>
                            <a:pt x="69" y="83"/>
                          </a:lnTo>
                          <a:lnTo>
                            <a:pt x="53" y="86"/>
                          </a:lnTo>
                          <a:lnTo>
                            <a:pt x="41" y="87"/>
                          </a:lnTo>
                          <a:lnTo>
                            <a:pt x="32" y="85"/>
                          </a:lnTo>
                          <a:lnTo>
                            <a:pt x="29" y="79"/>
                          </a:lnTo>
                          <a:lnTo>
                            <a:pt x="32" y="71"/>
                          </a:lnTo>
                          <a:lnTo>
                            <a:pt x="40" y="61"/>
                          </a:lnTo>
                          <a:lnTo>
                            <a:pt x="52" y="50"/>
                          </a:lnTo>
                          <a:lnTo>
                            <a:pt x="68" y="38"/>
                          </a:lnTo>
                          <a:lnTo>
                            <a:pt x="84" y="27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846120" y="2865600"/>
                      <a:ext cx="24588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32">
                          <a:moveTo>
                            <a:pt x="97" y="0"/>
                          </a:moveTo>
                          <a:lnTo>
                            <a:pt x="91" y="5"/>
                          </a:lnTo>
                          <a:lnTo>
                            <a:pt x="84" y="10"/>
                          </a:lnTo>
                          <a:lnTo>
                            <a:pt x="75" y="17"/>
                          </a:lnTo>
                          <a:lnTo>
                            <a:pt x="65" y="25"/>
                          </a:lnTo>
                          <a:lnTo>
                            <a:pt x="56" y="33"/>
                          </a:lnTo>
                          <a:lnTo>
                            <a:pt x="48" y="42"/>
                          </a:lnTo>
                          <a:lnTo>
                            <a:pt x="40" y="51"/>
                          </a:lnTo>
                          <a:lnTo>
                            <a:pt x="34" y="58"/>
                          </a:lnTo>
                          <a:lnTo>
                            <a:pt x="30" y="65"/>
                          </a:lnTo>
                          <a:lnTo>
                            <a:pt x="28" y="72"/>
                          </a:lnTo>
                          <a:lnTo>
                            <a:pt x="30" y="79"/>
                          </a:lnTo>
                          <a:lnTo>
                            <a:pt x="34" y="87"/>
                          </a:lnTo>
                          <a:lnTo>
                            <a:pt x="40" y="92"/>
                          </a:lnTo>
                          <a:lnTo>
                            <a:pt x="47" y="96"/>
                          </a:lnTo>
                          <a:lnTo>
                            <a:pt x="56" y="97"/>
                          </a:lnTo>
                          <a:lnTo>
                            <a:pt x="65" y="96"/>
                          </a:lnTo>
                          <a:lnTo>
                            <a:pt x="75" y="95"/>
                          </a:lnTo>
                          <a:lnTo>
                            <a:pt x="83" y="98"/>
                          </a:lnTo>
                          <a:lnTo>
                            <a:pt x="90" y="103"/>
                          </a:lnTo>
                          <a:lnTo>
                            <a:pt x="94" y="111"/>
                          </a:lnTo>
                          <a:lnTo>
                            <a:pt x="95" y="120"/>
                          </a:lnTo>
                          <a:lnTo>
                            <a:pt x="93" y="131"/>
                          </a:lnTo>
                          <a:lnTo>
                            <a:pt x="87" y="141"/>
                          </a:lnTo>
                          <a:lnTo>
                            <a:pt x="76" y="151"/>
                          </a:lnTo>
                          <a:lnTo>
                            <a:pt x="62" y="162"/>
                          </a:lnTo>
                          <a:lnTo>
                            <a:pt x="49" y="172"/>
                          </a:lnTo>
                          <a:lnTo>
                            <a:pt x="37" y="182"/>
                          </a:lnTo>
                          <a:lnTo>
                            <a:pt x="25" y="191"/>
                          </a:lnTo>
                          <a:lnTo>
                            <a:pt x="16" y="202"/>
                          </a:lnTo>
                          <a:lnTo>
                            <a:pt x="8" y="212"/>
                          </a:lnTo>
                          <a:lnTo>
                            <a:pt x="3" y="222"/>
                          </a:lnTo>
                          <a:lnTo>
                            <a:pt x="0" y="232"/>
                          </a:lnTo>
                          <a:lnTo>
                            <a:pt x="159" y="232"/>
                          </a:lnTo>
                          <a:lnTo>
                            <a:pt x="162" y="226"/>
                          </a:lnTo>
                          <a:lnTo>
                            <a:pt x="167" y="218"/>
                          </a:lnTo>
                          <a:lnTo>
                            <a:pt x="171" y="209"/>
                          </a:lnTo>
                          <a:lnTo>
                            <a:pt x="176" y="198"/>
                          </a:lnTo>
                          <a:lnTo>
                            <a:pt x="183" y="188"/>
                          </a:lnTo>
                          <a:lnTo>
                            <a:pt x="188" y="179"/>
                          </a:lnTo>
                          <a:lnTo>
                            <a:pt x="194" y="171"/>
                          </a:lnTo>
                          <a:lnTo>
                            <a:pt x="199" y="164"/>
                          </a:lnTo>
                          <a:lnTo>
                            <a:pt x="209" y="150"/>
                          </a:lnTo>
                          <a:lnTo>
                            <a:pt x="215" y="135"/>
                          </a:lnTo>
                          <a:lnTo>
                            <a:pt x="213" y="124"/>
                          </a:lnTo>
                          <a:lnTo>
                            <a:pt x="200" y="116"/>
                          </a:lnTo>
                          <a:lnTo>
                            <a:pt x="189" y="114"/>
                          </a:lnTo>
                          <a:lnTo>
                            <a:pt x="178" y="110"/>
                          </a:lnTo>
                          <a:lnTo>
                            <a:pt x="170" y="104"/>
                          </a:lnTo>
                          <a:lnTo>
                            <a:pt x="167" y="94"/>
                          </a:lnTo>
                          <a:lnTo>
                            <a:pt x="170" y="79"/>
                          </a:lnTo>
                          <a:lnTo>
                            <a:pt x="183" y="59"/>
                          </a:lnTo>
                          <a:lnTo>
                            <a:pt x="205" y="33"/>
                          </a:lnTo>
                          <a:lnTo>
                            <a:pt x="241" y="0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6346800" y="2824560"/>
                      <a:ext cx="3024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122600" y="2824560"/>
                      <a:ext cx="3240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377400" y="320040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422040" y="264996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25">
                          <a:moveTo>
                            <a:pt x="646" y="25"/>
                          </a:moveTo>
                          <a:lnTo>
                            <a:pt x="623" y="0"/>
                          </a:lnTo>
                          <a:lnTo>
                            <a:pt x="17" y="0"/>
                          </a:lnTo>
                          <a:lnTo>
                            <a:pt x="0" y="25"/>
                          </a:lnTo>
                          <a:lnTo>
                            <a:pt x="646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325200" y="2794320"/>
                      <a:ext cx="85392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77400" y="3246120"/>
                      <a:ext cx="744840" cy="30096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346800" y="2683080"/>
                      <a:ext cx="8020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6">
                          <a:moveTo>
                            <a:pt x="797" y="86"/>
                          </a:moveTo>
                          <a:lnTo>
                            <a:pt x="746" y="0"/>
                          </a:lnTo>
                          <a:lnTo>
                            <a:pt x="45" y="0"/>
                          </a:lnTo>
                          <a:lnTo>
                            <a:pt x="0" y="86"/>
                          </a:lnTo>
                          <a:lnTo>
                            <a:pt x="797" y="86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377400" y="335736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377400" y="342540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949080" y="3357360"/>
                      <a:ext cx="10656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898320" y="329616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898320" y="342540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" name=""/>
                  <p:cNvSpPr/>
                  <p:nvPr/>
                </p:nvSpPr>
                <p:spPr>
                  <a:xfrm>
                    <a:off x="5367960" y="3547800"/>
                    <a:ext cx="1893600" cy="33120"/>
                  </a:xfrm>
                  <a:prstGeom prst="rect">
                    <a:avLst/>
                  </a:prstGeom>
                  <a:solidFill>
                    <a:srgbClr val="7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001280" y="2649960"/>
                    <a:ext cx="426240" cy="9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6">
                        <a:moveTo>
                          <a:pt x="205" y="123"/>
                        </a:moveTo>
                        <a:lnTo>
                          <a:pt x="206" y="113"/>
                        </a:lnTo>
                        <a:lnTo>
                          <a:pt x="205" y="96"/>
                        </a:lnTo>
                        <a:lnTo>
                          <a:pt x="202" y="74"/>
                        </a:lnTo>
                        <a:lnTo>
                          <a:pt x="196" y="52"/>
                        </a:lnTo>
                        <a:lnTo>
                          <a:pt x="188" y="31"/>
                        </a:lnTo>
                        <a:lnTo>
                          <a:pt x="177" y="13"/>
                        </a:lnTo>
                        <a:lnTo>
                          <a:pt x="164" y="2"/>
                        </a:lnTo>
                        <a:lnTo>
                          <a:pt x="149" y="0"/>
                        </a:lnTo>
                        <a:lnTo>
                          <a:pt x="133" y="6"/>
                        </a:lnTo>
                        <a:lnTo>
                          <a:pt x="122" y="17"/>
                        </a:lnTo>
                        <a:lnTo>
                          <a:pt x="113" y="30"/>
                        </a:lnTo>
                        <a:lnTo>
                          <a:pt x="108" y="46"/>
                        </a:lnTo>
                        <a:lnTo>
                          <a:pt x="105" y="63"/>
                        </a:lnTo>
                        <a:lnTo>
                          <a:pt x="104" y="78"/>
                        </a:lnTo>
                        <a:lnTo>
                          <a:pt x="104" y="93"/>
                        </a:lnTo>
                        <a:lnTo>
                          <a:pt x="106" y="103"/>
                        </a:lnTo>
                        <a:lnTo>
                          <a:pt x="95" y="110"/>
                        </a:lnTo>
                        <a:lnTo>
                          <a:pt x="83" y="124"/>
                        </a:lnTo>
                        <a:lnTo>
                          <a:pt x="69" y="146"/>
                        </a:lnTo>
                        <a:lnTo>
                          <a:pt x="55" y="172"/>
                        </a:lnTo>
                        <a:lnTo>
                          <a:pt x="43" y="200"/>
                        </a:lnTo>
                        <a:lnTo>
                          <a:pt x="35" y="230"/>
                        </a:lnTo>
                        <a:lnTo>
                          <a:pt x="33" y="259"/>
                        </a:lnTo>
                        <a:lnTo>
                          <a:pt x="37" y="286"/>
                        </a:lnTo>
                        <a:lnTo>
                          <a:pt x="25" y="293"/>
                        </a:lnTo>
                        <a:lnTo>
                          <a:pt x="14" y="309"/>
                        </a:lnTo>
                        <a:lnTo>
                          <a:pt x="6" y="335"/>
                        </a:lnTo>
                        <a:lnTo>
                          <a:pt x="1" y="367"/>
                        </a:lnTo>
                        <a:lnTo>
                          <a:pt x="0" y="406"/>
                        </a:lnTo>
                        <a:lnTo>
                          <a:pt x="5" y="448"/>
                        </a:lnTo>
                        <a:lnTo>
                          <a:pt x="15" y="492"/>
                        </a:lnTo>
                        <a:lnTo>
                          <a:pt x="34" y="536"/>
                        </a:lnTo>
                        <a:lnTo>
                          <a:pt x="283" y="536"/>
                        </a:lnTo>
                        <a:lnTo>
                          <a:pt x="290" y="516"/>
                        </a:lnTo>
                        <a:lnTo>
                          <a:pt x="298" y="488"/>
                        </a:lnTo>
                        <a:lnTo>
                          <a:pt x="304" y="453"/>
                        </a:lnTo>
                        <a:lnTo>
                          <a:pt x="308" y="415"/>
                        </a:lnTo>
                        <a:lnTo>
                          <a:pt x="309" y="379"/>
                        </a:lnTo>
                        <a:lnTo>
                          <a:pt x="305" y="348"/>
                        </a:lnTo>
                        <a:lnTo>
                          <a:pt x="295" y="326"/>
                        </a:lnTo>
                        <a:lnTo>
                          <a:pt x="277" y="318"/>
                        </a:lnTo>
                        <a:lnTo>
                          <a:pt x="283" y="303"/>
                        </a:lnTo>
                        <a:lnTo>
                          <a:pt x="285" y="289"/>
                        </a:lnTo>
                        <a:lnTo>
                          <a:pt x="285" y="276"/>
                        </a:lnTo>
                        <a:lnTo>
                          <a:pt x="283" y="266"/>
                        </a:lnTo>
                        <a:lnTo>
                          <a:pt x="279" y="257"/>
                        </a:lnTo>
                        <a:lnTo>
                          <a:pt x="274" y="251"/>
                        </a:lnTo>
                        <a:lnTo>
                          <a:pt x="268" y="245"/>
                        </a:lnTo>
                        <a:lnTo>
                          <a:pt x="263" y="243"/>
                        </a:lnTo>
                        <a:lnTo>
                          <a:pt x="265" y="229"/>
                        </a:lnTo>
                        <a:lnTo>
                          <a:pt x="264" y="209"/>
                        </a:lnTo>
                        <a:lnTo>
                          <a:pt x="260" y="188"/>
                        </a:lnTo>
                        <a:lnTo>
                          <a:pt x="253" y="167"/>
                        </a:lnTo>
                        <a:lnTo>
                          <a:pt x="245" y="148"/>
                        </a:lnTo>
                        <a:lnTo>
                          <a:pt x="234" y="133"/>
                        </a:lnTo>
                        <a:lnTo>
                          <a:pt x="221" y="124"/>
                        </a:lnTo>
                        <a:lnTo>
                          <a:pt x="205" y="123"/>
                        </a:lnTo>
                        <a:close/>
                      </a:path>
                    </a:pathLst>
                  </a:custGeom>
                  <a:solidFill>
                    <a:srgbClr val="84d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367960" y="3421440"/>
                    <a:ext cx="1270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5">
                        <a:moveTo>
                          <a:pt x="126" y="125"/>
                        </a:moveTo>
                        <a:lnTo>
                          <a:pt x="126" y="85"/>
                        </a:lnTo>
                        <a:lnTo>
                          <a:pt x="83" y="85"/>
                        </a:lnTo>
                        <a:lnTo>
                          <a:pt x="83" y="43"/>
                        </a:lnTo>
                        <a:lnTo>
                          <a:pt x="41" y="43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125"/>
                        </a:lnTo>
                        <a:lnTo>
                          <a:pt x="126" y="125"/>
                        </a:lnTo>
                        <a:close/>
                      </a:path>
                    </a:pathLst>
                  </a:custGeom>
                  <a:solidFill>
                    <a:srgbClr val="7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548680" y="1828800"/>
                    <a:ext cx="1629000" cy="896760"/>
                    <a:chOff x="5548680" y="1828800"/>
                    <a:chExt cx="1629000" cy="8967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633280" y="204120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5990400" y="204120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5600520" y="2003400"/>
                      <a:ext cx="744840" cy="37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4">
                          <a:moveTo>
                            <a:pt x="32" y="263"/>
                          </a:moveTo>
                          <a:lnTo>
                            <a:pt x="354" y="263"/>
                          </a:lnTo>
                          <a:lnTo>
                            <a:pt x="354" y="30"/>
                          </a:lnTo>
                          <a:lnTo>
                            <a:pt x="32" y="30"/>
                          </a:lnTo>
                          <a:lnTo>
                            <a:pt x="32" y="263"/>
                          </a:lnTo>
                          <a:lnTo>
                            <a:pt x="0" y="294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4"/>
                          </a:lnTo>
                          <a:lnTo>
                            <a:pt x="707" y="263"/>
                          </a:lnTo>
                          <a:lnTo>
                            <a:pt x="707" y="30"/>
                          </a:lnTo>
                          <a:lnTo>
                            <a:pt x="385" y="30"/>
                          </a:lnTo>
                          <a:lnTo>
                            <a:pt x="385" y="263"/>
                          </a:lnTo>
                          <a:lnTo>
                            <a:pt x="707" y="263"/>
                          </a:lnTo>
                          <a:lnTo>
                            <a:pt x="738" y="294"/>
                          </a:lnTo>
                          <a:lnTo>
                            <a:pt x="0" y="294"/>
                          </a:lnTo>
                          <a:lnTo>
                            <a:pt x="32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733720" y="2041200"/>
                      <a:ext cx="22392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33">
                          <a:moveTo>
                            <a:pt x="122" y="0"/>
                          </a:moveTo>
                          <a:lnTo>
                            <a:pt x="224" y="0"/>
                          </a:lnTo>
                          <a:lnTo>
                            <a:pt x="224" y="88"/>
                          </a:lnTo>
                          <a:lnTo>
                            <a:pt x="215" y="91"/>
                          </a:lnTo>
                          <a:lnTo>
                            <a:pt x="207" y="93"/>
                          </a:lnTo>
                          <a:lnTo>
                            <a:pt x="198" y="96"/>
                          </a:lnTo>
                          <a:lnTo>
                            <a:pt x="190" y="100"/>
                          </a:lnTo>
                          <a:lnTo>
                            <a:pt x="182" y="103"/>
                          </a:lnTo>
                          <a:lnTo>
                            <a:pt x="176" y="108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1" y="130"/>
                          </a:lnTo>
                          <a:lnTo>
                            <a:pt x="178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9"/>
                          </a:lnTo>
                          <a:lnTo>
                            <a:pt x="204" y="157"/>
                          </a:lnTo>
                          <a:lnTo>
                            <a:pt x="202" y="167"/>
                          </a:lnTo>
                          <a:lnTo>
                            <a:pt x="196" y="177"/>
                          </a:lnTo>
                          <a:lnTo>
                            <a:pt x="188" y="186"/>
                          </a:lnTo>
                          <a:lnTo>
                            <a:pt x="178" y="194"/>
                          </a:lnTo>
                          <a:lnTo>
                            <a:pt x="170" y="203"/>
                          </a:lnTo>
                          <a:lnTo>
                            <a:pt x="162" y="210"/>
                          </a:lnTo>
                          <a:lnTo>
                            <a:pt x="155" y="217"/>
                          </a:lnTo>
                          <a:lnTo>
                            <a:pt x="149" y="225"/>
                          </a:lnTo>
                          <a:lnTo>
                            <a:pt x="145" y="233"/>
                          </a:lnTo>
                          <a:lnTo>
                            <a:pt x="0" y="233"/>
                          </a:lnTo>
                          <a:lnTo>
                            <a:pt x="2" y="225"/>
                          </a:lnTo>
                          <a:lnTo>
                            <a:pt x="7" y="215"/>
                          </a:lnTo>
                          <a:lnTo>
                            <a:pt x="13" y="204"/>
                          </a:lnTo>
                          <a:lnTo>
                            <a:pt x="20" y="192"/>
                          </a:lnTo>
                          <a:lnTo>
                            <a:pt x="28" y="180"/>
                          </a:lnTo>
                          <a:lnTo>
                            <a:pt x="38" y="169"/>
                          </a:lnTo>
                          <a:lnTo>
                            <a:pt x="46" y="159"/>
                          </a:lnTo>
                          <a:lnTo>
                            <a:pt x="55" y="151"/>
                          </a:lnTo>
                          <a:lnTo>
                            <a:pt x="66" y="143"/>
                          </a:lnTo>
                          <a:lnTo>
                            <a:pt x="82" y="132"/>
                          </a:lnTo>
                          <a:lnTo>
                            <a:pt x="99" y="119"/>
                          </a:lnTo>
                          <a:lnTo>
                            <a:pt x="116" y="106"/>
                          </a:lnTo>
                          <a:lnTo>
                            <a:pt x="130" y="94"/>
                          </a:lnTo>
                          <a:lnTo>
                            <a:pt x="139" y="82"/>
                          </a:lnTo>
                          <a:lnTo>
                            <a:pt x="141" y="75"/>
                          </a:lnTo>
                          <a:lnTo>
                            <a:pt x="133" y="72"/>
                          </a:lnTo>
                          <a:lnTo>
                            <a:pt x="119" y="73"/>
                          </a:lnTo>
                          <a:lnTo>
                            <a:pt x="101" y="75"/>
                          </a:lnTo>
                          <a:lnTo>
                            <a:pt x="85" y="79"/>
                          </a:lnTo>
                          <a:lnTo>
                            <a:pt x="67" y="84"/>
                          </a:lnTo>
                          <a:lnTo>
                            <a:pt x="52" y="87"/>
                          </a:lnTo>
                          <a:lnTo>
                            <a:pt x="40" y="88"/>
                          </a:lnTo>
                          <a:lnTo>
                            <a:pt x="31" y="86"/>
                          </a:lnTo>
                          <a:lnTo>
                            <a:pt x="28" y="80"/>
                          </a:lnTo>
                          <a:lnTo>
                            <a:pt x="31" y="72"/>
                          </a:lnTo>
                          <a:lnTo>
                            <a:pt x="40" y="62"/>
                          </a:lnTo>
                          <a:lnTo>
                            <a:pt x="52" y="51"/>
                          </a:lnTo>
                          <a:lnTo>
                            <a:pt x="67" y="39"/>
                          </a:lnTo>
                          <a:lnTo>
                            <a:pt x="84" y="28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069240" y="2041200"/>
                      <a:ext cx="24588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233">
                          <a:moveTo>
                            <a:pt x="98" y="0"/>
                          </a:moveTo>
                          <a:lnTo>
                            <a:pt x="93" y="4"/>
                          </a:lnTo>
                          <a:lnTo>
                            <a:pt x="85" y="11"/>
                          </a:lnTo>
                          <a:lnTo>
                            <a:pt x="76" y="18"/>
                          </a:lnTo>
                          <a:lnTo>
                            <a:pt x="67" y="26"/>
                          </a:lnTo>
                          <a:lnTo>
                            <a:pt x="58" y="34"/>
                          </a:lnTo>
                          <a:lnTo>
                            <a:pt x="49" y="43"/>
                          </a:lnTo>
                          <a:lnTo>
                            <a:pt x="41" y="52"/>
                          </a:lnTo>
                          <a:lnTo>
                            <a:pt x="34" y="59"/>
                          </a:lnTo>
                          <a:lnTo>
                            <a:pt x="30" y="66"/>
                          </a:lnTo>
                          <a:lnTo>
                            <a:pt x="29" y="73"/>
                          </a:lnTo>
                          <a:lnTo>
                            <a:pt x="31" y="80"/>
                          </a:lnTo>
                          <a:lnTo>
                            <a:pt x="35" y="88"/>
                          </a:lnTo>
                          <a:lnTo>
                            <a:pt x="41" y="93"/>
                          </a:lnTo>
                          <a:lnTo>
                            <a:pt x="49" y="97"/>
                          </a:lnTo>
                          <a:lnTo>
                            <a:pt x="58" y="98"/>
                          </a:lnTo>
                          <a:lnTo>
                            <a:pt x="67" y="97"/>
                          </a:lnTo>
                          <a:lnTo>
                            <a:pt x="76" y="96"/>
                          </a:lnTo>
                          <a:lnTo>
                            <a:pt x="85" y="99"/>
                          </a:lnTo>
                          <a:lnTo>
                            <a:pt x="92" y="104"/>
                          </a:lnTo>
                          <a:lnTo>
                            <a:pt x="96" y="112"/>
                          </a:lnTo>
                          <a:lnTo>
                            <a:pt x="97" y="121"/>
                          </a:lnTo>
                          <a:lnTo>
                            <a:pt x="95" y="132"/>
                          </a:lnTo>
                          <a:lnTo>
                            <a:pt x="89" y="142"/>
                          </a:lnTo>
                          <a:lnTo>
                            <a:pt x="77" y="152"/>
                          </a:lnTo>
                          <a:lnTo>
                            <a:pt x="64" y="163"/>
                          </a:lnTo>
                          <a:lnTo>
                            <a:pt x="51" y="173"/>
                          </a:lnTo>
                          <a:lnTo>
                            <a:pt x="38" y="183"/>
                          </a:lnTo>
                          <a:lnTo>
                            <a:pt x="27" y="192"/>
                          </a:lnTo>
                          <a:lnTo>
                            <a:pt x="17" y="203"/>
                          </a:lnTo>
                          <a:lnTo>
                            <a:pt x="9" y="213"/>
                          </a:lnTo>
                          <a:lnTo>
                            <a:pt x="4" y="223"/>
                          </a:lnTo>
                          <a:lnTo>
                            <a:pt x="0" y="233"/>
                          </a:lnTo>
                          <a:lnTo>
                            <a:pt x="161" y="233"/>
                          </a:lnTo>
                          <a:lnTo>
                            <a:pt x="164" y="226"/>
                          </a:lnTo>
                          <a:lnTo>
                            <a:pt x="168" y="218"/>
                          </a:lnTo>
                          <a:lnTo>
                            <a:pt x="173" y="209"/>
                          </a:lnTo>
                          <a:lnTo>
                            <a:pt x="178" y="198"/>
                          </a:lnTo>
                          <a:lnTo>
                            <a:pt x="183" y="189"/>
                          </a:lnTo>
                          <a:lnTo>
                            <a:pt x="189" y="179"/>
                          </a:lnTo>
                          <a:lnTo>
                            <a:pt x="195" y="171"/>
                          </a:lnTo>
                          <a:lnTo>
                            <a:pt x="200" y="164"/>
                          </a:lnTo>
                          <a:lnTo>
                            <a:pt x="205" y="157"/>
                          </a:lnTo>
                          <a:lnTo>
                            <a:pt x="210" y="150"/>
                          </a:lnTo>
                          <a:lnTo>
                            <a:pt x="214" y="143"/>
                          </a:lnTo>
                          <a:lnTo>
                            <a:pt x="217" y="136"/>
                          </a:lnTo>
                          <a:lnTo>
                            <a:pt x="217" y="130"/>
                          </a:lnTo>
                          <a:lnTo>
                            <a:pt x="215" y="125"/>
                          </a:lnTo>
                          <a:lnTo>
                            <a:pt x="210" y="119"/>
                          </a:lnTo>
                          <a:lnTo>
                            <a:pt x="201" y="117"/>
                          </a:lnTo>
                          <a:lnTo>
                            <a:pt x="189" y="115"/>
                          </a:lnTo>
                          <a:lnTo>
                            <a:pt x="179" y="111"/>
                          </a:lnTo>
                          <a:lnTo>
                            <a:pt x="171" y="105"/>
                          </a:lnTo>
                          <a:lnTo>
                            <a:pt x="168" y="95"/>
                          </a:lnTo>
                          <a:lnTo>
                            <a:pt x="171" y="79"/>
                          </a:lnTo>
                          <a:lnTo>
                            <a:pt x="183" y="60"/>
                          </a:lnTo>
                          <a:lnTo>
                            <a:pt x="207" y="33"/>
                          </a:lnTo>
                          <a:lnTo>
                            <a:pt x="243" y="0"/>
                          </a:lnTo>
                          <a:lnTo>
                            <a:pt x="98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570280" y="2003400"/>
                      <a:ext cx="2988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6345360" y="2003400"/>
                      <a:ext cx="3240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600520" y="237564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600520" y="2421720"/>
                      <a:ext cx="744840" cy="30384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572800" y="1861920"/>
                      <a:ext cx="8031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7">
                          <a:moveTo>
                            <a:pt x="797" y="87"/>
                          </a:moveTo>
                          <a:lnTo>
                            <a:pt x="747" y="0"/>
                          </a:lnTo>
                          <a:lnTo>
                            <a:pt x="45" y="0"/>
                          </a:lnTo>
                          <a:lnTo>
                            <a:pt x="0" y="87"/>
                          </a:lnTo>
                          <a:lnTo>
                            <a:pt x="797" y="87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600520" y="253584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600520" y="247464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600520" y="260388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6067080" y="2535840"/>
                      <a:ext cx="10548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6008760" y="2603880"/>
                      <a:ext cx="1065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548680" y="1973160"/>
                      <a:ext cx="85140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649120" y="182880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7" h="25">
                          <a:moveTo>
                            <a:pt x="647" y="25"/>
                          </a:moveTo>
                          <a:lnTo>
                            <a:pt x="625" y="0"/>
                          </a:lnTo>
                          <a:lnTo>
                            <a:pt x="19" y="0"/>
                          </a:lnTo>
                          <a:lnTo>
                            <a:pt x="0" y="25"/>
                          </a:lnTo>
                          <a:lnTo>
                            <a:pt x="647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6408720" y="2044440"/>
                      <a:ext cx="32436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6765840" y="2044440"/>
                      <a:ext cx="32472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6375960" y="2003400"/>
                      <a:ext cx="74484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5">
                          <a:moveTo>
                            <a:pt x="31" y="263"/>
                          </a:moveTo>
                          <a:lnTo>
                            <a:pt x="354" y="263"/>
                          </a:lnTo>
                          <a:lnTo>
                            <a:pt x="354" y="31"/>
                          </a:lnTo>
                          <a:lnTo>
                            <a:pt x="31" y="31"/>
                          </a:lnTo>
                          <a:lnTo>
                            <a:pt x="31" y="263"/>
                          </a:lnTo>
                          <a:lnTo>
                            <a:pt x="0" y="295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5"/>
                          </a:lnTo>
                          <a:lnTo>
                            <a:pt x="706" y="263"/>
                          </a:lnTo>
                          <a:lnTo>
                            <a:pt x="706" y="31"/>
                          </a:lnTo>
                          <a:lnTo>
                            <a:pt x="385" y="31"/>
                          </a:lnTo>
                          <a:lnTo>
                            <a:pt x="385" y="263"/>
                          </a:lnTo>
                          <a:lnTo>
                            <a:pt x="706" y="263"/>
                          </a:lnTo>
                          <a:lnTo>
                            <a:pt x="738" y="295"/>
                          </a:lnTo>
                          <a:lnTo>
                            <a:pt x="0" y="295"/>
                          </a:lnTo>
                          <a:lnTo>
                            <a:pt x="31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6505560" y="2044440"/>
                      <a:ext cx="22752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232">
                          <a:moveTo>
                            <a:pt x="122" y="0"/>
                          </a:moveTo>
                          <a:lnTo>
                            <a:pt x="225" y="0"/>
                          </a:lnTo>
                          <a:lnTo>
                            <a:pt x="225" y="87"/>
                          </a:lnTo>
                          <a:lnTo>
                            <a:pt x="217" y="90"/>
                          </a:lnTo>
                          <a:lnTo>
                            <a:pt x="207" y="92"/>
                          </a:lnTo>
                          <a:lnTo>
                            <a:pt x="198" y="95"/>
                          </a:lnTo>
                          <a:lnTo>
                            <a:pt x="190" y="99"/>
                          </a:lnTo>
                          <a:lnTo>
                            <a:pt x="183" y="103"/>
                          </a:lnTo>
                          <a:lnTo>
                            <a:pt x="177" y="107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2" y="129"/>
                          </a:lnTo>
                          <a:lnTo>
                            <a:pt x="180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8"/>
                          </a:lnTo>
                          <a:lnTo>
                            <a:pt x="205" y="156"/>
                          </a:lnTo>
                          <a:lnTo>
                            <a:pt x="202" y="166"/>
                          </a:lnTo>
                          <a:lnTo>
                            <a:pt x="196" y="176"/>
                          </a:lnTo>
                          <a:lnTo>
                            <a:pt x="188" y="185"/>
                          </a:lnTo>
                          <a:lnTo>
                            <a:pt x="180" y="193"/>
                          </a:lnTo>
                          <a:lnTo>
                            <a:pt x="171" y="202"/>
                          </a:lnTo>
                          <a:lnTo>
                            <a:pt x="162" y="209"/>
                          </a:lnTo>
                          <a:lnTo>
                            <a:pt x="155" y="216"/>
                          </a:lnTo>
                          <a:lnTo>
                            <a:pt x="150" y="224"/>
                          </a:lnTo>
                          <a:lnTo>
                            <a:pt x="146" y="232"/>
                          </a:lnTo>
                          <a:lnTo>
                            <a:pt x="0" y="232"/>
                          </a:lnTo>
                          <a:lnTo>
                            <a:pt x="2" y="224"/>
                          </a:lnTo>
                          <a:lnTo>
                            <a:pt x="7" y="214"/>
                          </a:lnTo>
                          <a:lnTo>
                            <a:pt x="13" y="203"/>
                          </a:lnTo>
                          <a:lnTo>
                            <a:pt x="20" y="191"/>
                          </a:lnTo>
                          <a:lnTo>
                            <a:pt x="29" y="179"/>
                          </a:lnTo>
                          <a:lnTo>
                            <a:pt x="38" y="168"/>
                          </a:lnTo>
                          <a:lnTo>
                            <a:pt x="47" y="158"/>
                          </a:lnTo>
                          <a:lnTo>
                            <a:pt x="55" y="150"/>
                          </a:lnTo>
                          <a:lnTo>
                            <a:pt x="67" y="142"/>
                          </a:lnTo>
                          <a:lnTo>
                            <a:pt x="82" y="131"/>
                          </a:lnTo>
                          <a:lnTo>
                            <a:pt x="99" y="118"/>
                          </a:lnTo>
                          <a:lnTo>
                            <a:pt x="117" y="105"/>
                          </a:lnTo>
                          <a:lnTo>
                            <a:pt x="131" y="93"/>
                          </a:lnTo>
                          <a:lnTo>
                            <a:pt x="141" y="83"/>
                          </a:lnTo>
                          <a:lnTo>
                            <a:pt x="143" y="75"/>
                          </a:lnTo>
                          <a:lnTo>
                            <a:pt x="134" y="72"/>
                          </a:lnTo>
                          <a:lnTo>
                            <a:pt x="120" y="73"/>
                          </a:lnTo>
                          <a:lnTo>
                            <a:pt x="103" y="75"/>
                          </a:lnTo>
                          <a:lnTo>
                            <a:pt x="85" y="79"/>
                          </a:lnTo>
                          <a:lnTo>
                            <a:pt x="69" y="83"/>
                          </a:lnTo>
                          <a:lnTo>
                            <a:pt x="53" y="86"/>
                          </a:lnTo>
                          <a:lnTo>
                            <a:pt x="41" y="87"/>
                          </a:lnTo>
                          <a:lnTo>
                            <a:pt x="32" y="85"/>
                          </a:lnTo>
                          <a:lnTo>
                            <a:pt x="29" y="79"/>
                          </a:lnTo>
                          <a:lnTo>
                            <a:pt x="32" y="71"/>
                          </a:lnTo>
                          <a:lnTo>
                            <a:pt x="40" y="61"/>
                          </a:lnTo>
                          <a:lnTo>
                            <a:pt x="52" y="50"/>
                          </a:lnTo>
                          <a:lnTo>
                            <a:pt x="68" y="38"/>
                          </a:lnTo>
                          <a:lnTo>
                            <a:pt x="84" y="27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6844680" y="2044440"/>
                      <a:ext cx="24588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32">
                          <a:moveTo>
                            <a:pt x="97" y="0"/>
                          </a:moveTo>
                          <a:lnTo>
                            <a:pt x="91" y="5"/>
                          </a:lnTo>
                          <a:lnTo>
                            <a:pt x="84" y="10"/>
                          </a:lnTo>
                          <a:lnTo>
                            <a:pt x="75" y="17"/>
                          </a:lnTo>
                          <a:lnTo>
                            <a:pt x="65" y="25"/>
                          </a:lnTo>
                          <a:lnTo>
                            <a:pt x="56" y="33"/>
                          </a:lnTo>
                          <a:lnTo>
                            <a:pt x="48" y="42"/>
                          </a:lnTo>
                          <a:lnTo>
                            <a:pt x="40" y="51"/>
                          </a:lnTo>
                          <a:lnTo>
                            <a:pt x="34" y="58"/>
                          </a:lnTo>
                          <a:lnTo>
                            <a:pt x="30" y="65"/>
                          </a:lnTo>
                          <a:lnTo>
                            <a:pt x="28" y="72"/>
                          </a:lnTo>
                          <a:lnTo>
                            <a:pt x="30" y="79"/>
                          </a:lnTo>
                          <a:lnTo>
                            <a:pt x="34" y="87"/>
                          </a:lnTo>
                          <a:lnTo>
                            <a:pt x="40" y="92"/>
                          </a:lnTo>
                          <a:lnTo>
                            <a:pt x="47" y="96"/>
                          </a:lnTo>
                          <a:lnTo>
                            <a:pt x="56" y="97"/>
                          </a:lnTo>
                          <a:lnTo>
                            <a:pt x="65" y="96"/>
                          </a:lnTo>
                          <a:lnTo>
                            <a:pt x="75" y="95"/>
                          </a:lnTo>
                          <a:lnTo>
                            <a:pt x="83" y="98"/>
                          </a:lnTo>
                          <a:lnTo>
                            <a:pt x="90" y="103"/>
                          </a:lnTo>
                          <a:lnTo>
                            <a:pt x="94" y="111"/>
                          </a:lnTo>
                          <a:lnTo>
                            <a:pt x="95" y="120"/>
                          </a:lnTo>
                          <a:lnTo>
                            <a:pt x="93" y="131"/>
                          </a:lnTo>
                          <a:lnTo>
                            <a:pt x="87" y="141"/>
                          </a:lnTo>
                          <a:lnTo>
                            <a:pt x="76" y="151"/>
                          </a:lnTo>
                          <a:lnTo>
                            <a:pt x="62" y="162"/>
                          </a:lnTo>
                          <a:lnTo>
                            <a:pt x="49" y="172"/>
                          </a:lnTo>
                          <a:lnTo>
                            <a:pt x="37" y="182"/>
                          </a:lnTo>
                          <a:lnTo>
                            <a:pt x="25" y="191"/>
                          </a:lnTo>
                          <a:lnTo>
                            <a:pt x="16" y="202"/>
                          </a:lnTo>
                          <a:lnTo>
                            <a:pt x="8" y="212"/>
                          </a:lnTo>
                          <a:lnTo>
                            <a:pt x="3" y="222"/>
                          </a:lnTo>
                          <a:lnTo>
                            <a:pt x="0" y="232"/>
                          </a:lnTo>
                          <a:lnTo>
                            <a:pt x="159" y="232"/>
                          </a:lnTo>
                          <a:lnTo>
                            <a:pt x="162" y="226"/>
                          </a:lnTo>
                          <a:lnTo>
                            <a:pt x="167" y="218"/>
                          </a:lnTo>
                          <a:lnTo>
                            <a:pt x="171" y="209"/>
                          </a:lnTo>
                          <a:lnTo>
                            <a:pt x="176" y="198"/>
                          </a:lnTo>
                          <a:lnTo>
                            <a:pt x="183" y="188"/>
                          </a:lnTo>
                          <a:lnTo>
                            <a:pt x="188" y="179"/>
                          </a:lnTo>
                          <a:lnTo>
                            <a:pt x="194" y="171"/>
                          </a:lnTo>
                          <a:lnTo>
                            <a:pt x="199" y="164"/>
                          </a:lnTo>
                          <a:lnTo>
                            <a:pt x="209" y="150"/>
                          </a:lnTo>
                          <a:lnTo>
                            <a:pt x="215" y="135"/>
                          </a:lnTo>
                          <a:lnTo>
                            <a:pt x="213" y="124"/>
                          </a:lnTo>
                          <a:lnTo>
                            <a:pt x="200" y="116"/>
                          </a:lnTo>
                          <a:lnTo>
                            <a:pt x="189" y="114"/>
                          </a:lnTo>
                          <a:lnTo>
                            <a:pt x="178" y="110"/>
                          </a:lnTo>
                          <a:lnTo>
                            <a:pt x="170" y="104"/>
                          </a:lnTo>
                          <a:lnTo>
                            <a:pt x="167" y="94"/>
                          </a:lnTo>
                          <a:lnTo>
                            <a:pt x="170" y="79"/>
                          </a:lnTo>
                          <a:lnTo>
                            <a:pt x="183" y="59"/>
                          </a:lnTo>
                          <a:lnTo>
                            <a:pt x="205" y="33"/>
                          </a:lnTo>
                          <a:lnTo>
                            <a:pt x="241" y="0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6345360" y="2003400"/>
                      <a:ext cx="3024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121160" y="2003400"/>
                      <a:ext cx="3240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6375960" y="237888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6420600" y="182880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25">
                          <a:moveTo>
                            <a:pt x="646" y="25"/>
                          </a:moveTo>
                          <a:lnTo>
                            <a:pt x="623" y="0"/>
                          </a:lnTo>
                          <a:lnTo>
                            <a:pt x="17" y="0"/>
                          </a:lnTo>
                          <a:lnTo>
                            <a:pt x="0" y="25"/>
                          </a:lnTo>
                          <a:lnTo>
                            <a:pt x="646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6323760" y="1973160"/>
                      <a:ext cx="85392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6375960" y="2424600"/>
                      <a:ext cx="744840" cy="30096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6345360" y="1861920"/>
                      <a:ext cx="8020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6">
                          <a:moveTo>
                            <a:pt x="797" y="86"/>
                          </a:moveTo>
                          <a:lnTo>
                            <a:pt x="746" y="0"/>
                          </a:lnTo>
                          <a:lnTo>
                            <a:pt x="45" y="0"/>
                          </a:lnTo>
                          <a:lnTo>
                            <a:pt x="0" y="86"/>
                          </a:lnTo>
                          <a:lnTo>
                            <a:pt x="797" y="86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6375960" y="253584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6375960" y="260388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947640" y="2535840"/>
                      <a:ext cx="10656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896880" y="247464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896880" y="260388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1" name=""/>
              <p:cNvSpPr/>
              <p:nvPr/>
            </p:nvSpPr>
            <p:spPr>
              <a:xfrm>
                <a:off x="7428960" y="2489760"/>
                <a:ext cx="1485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Busin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Offi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038480" y="2895480"/>
              <a:ext cx="106668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4DE-870D-4D4E-AF81-FA1213EE4C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0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677600"/>
            <a:ext cx="4205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Receipts not forwarded to the FA Offic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3657600"/>
            <a:ext cx="473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f Title IV aid information not forwarded to the Business Offi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47040" y="2209680"/>
            <a:ext cx="301680" cy="762120"/>
            <a:chOff x="7547040" y="2209680"/>
            <a:chExt cx="301680" cy="762120"/>
          </a:xfrm>
        </p:grpSpPr>
        <p:sp>
          <p:nvSpPr>
            <p:cNvPr id="327" name=""/>
            <p:cNvSpPr/>
            <p:nvPr/>
          </p:nvSpPr>
          <p:spPr>
            <a:xfrm>
              <a:off x="7688520" y="2624040"/>
              <a:ext cx="160200" cy="306360"/>
            </a:xfrm>
            <a:custGeom>
              <a:avLst/>
              <a:gdLst/>
              <a:ahLst/>
              <a:rect l="l" t="t" r="r" b="b"/>
              <a:pathLst>
                <a:path w="305" h="580">
                  <a:moveTo>
                    <a:pt x="102" y="24"/>
                  </a:moveTo>
                  <a:lnTo>
                    <a:pt x="66" y="0"/>
                  </a:lnTo>
                  <a:lnTo>
                    <a:pt x="18" y="0"/>
                  </a:lnTo>
                  <a:lnTo>
                    <a:pt x="0" y="31"/>
                  </a:lnTo>
                  <a:lnTo>
                    <a:pt x="8" y="79"/>
                  </a:lnTo>
                  <a:lnTo>
                    <a:pt x="50" y="125"/>
                  </a:lnTo>
                  <a:lnTo>
                    <a:pt x="135" y="167"/>
                  </a:lnTo>
                  <a:lnTo>
                    <a:pt x="234" y="257"/>
                  </a:lnTo>
                  <a:lnTo>
                    <a:pt x="250" y="296"/>
                  </a:lnTo>
                  <a:lnTo>
                    <a:pt x="242" y="315"/>
                  </a:lnTo>
                  <a:lnTo>
                    <a:pt x="167" y="374"/>
                  </a:lnTo>
                  <a:lnTo>
                    <a:pt x="79" y="445"/>
                  </a:lnTo>
                  <a:lnTo>
                    <a:pt x="57" y="476"/>
                  </a:lnTo>
                  <a:lnTo>
                    <a:pt x="57" y="507"/>
                  </a:lnTo>
                  <a:lnTo>
                    <a:pt x="125" y="541"/>
                  </a:lnTo>
                  <a:lnTo>
                    <a:pt x="229" y="580"/>
                  </a:lnTo>
                  <a:lnTo>
                    <a:pt x="265" y="580"/>
                  </a:lnTo>
                  <a:lnTo>
                    <a:pt x="305" y="554"/>
                  </a:lnTo>
                  <a:lnTo>
                    <a:pt x="305" y="534"/>
                  </a:lnTo>
                  <a:lnTo>
                    <a:pt x="276" y="522"/>
                  </a:lnTo>
                  <a:lnTo>
                    <a:pt x="144" y="507"/>
                  </a:lnTo>
                  <a:lnTo>
                    <a:pt x="95" y="494"/>
                  </a:lnTo>
                  <a:lnTo>
                    <a:pt x="89" y="471"/>
                  </a:lnTo>
                  <a:lnTo>
                    <a:pt x="174" y="406"/>
                  </a:lnTo>
                  <a:lnTo>
                    <a:pt x="268" y="344"/>
                  </a:lnTo>
                  <a:lnTo>
                    <a:pt x="289" y="321"/>
                  </a:lnTo>
                  <a:lnTo>
                    <a:pt x="297" y="289"/>
                  </a:lnTo>
                  <a:lnTo>
                    <a:pt x="289" y="245"/>
                  </a:lnTo>
                  <a:lnTo>
                    <a:pt x="260" y="211"/>
                  </a:lnTo>
                  <a:lnTo>
                    <a:pt x="167" y="96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32720" y="2209680"/>
              <a:ext cx="166680" cy="236520"/>
            </a:xfrm>
            <a:custGeom>
              <a:avLst/>
              <a:gdLst/>
              <a:ahLst/>
              <a:rect l="l" t="t" r="r" b="b"/>
              <a:pathLst>
                <a:path w="316" h="449">
                  <a:moveTo>
                    <a:pt x="96" y="59"/>
                  </a:moveTo>
                  <a:lnTo>
                    <a:pt x="135" y="29"/>
                  </a:lnTo>
                  <a:lnTo>
                    <a:pt x="194" y="0"/>
                  </a:lnTo>
                  <a:lnTo>
                    <a:pt x="241" y="3"/>
                  </a:lnTo>
                  <a:lnTo>
                    <a:pt x="277" y="16"/>
                  </a:lnTo>
                  <a:lnTo>
                    <a:pt x="310" y="55"/>
                  </a:lnTo>
                  <a:lnTo>
                    <a:pt x="316" y="117"/>
                  </a:lnTo>
                  <a:lnTo>
                    <a:pt x="313" y="163"/>
                  </a:lnTo>
                  <a:lnTo>
                    <a:pt x="293" y="204"/>
                  </a:lnTo>
                  <a:lnTo>
                    <a:pt x="261" y="255"/>
                  </a:lnTo>
                  <a:lnTo>
                    <a:pt x="230" y="295"/>
                  </a:lnTo>
                  <a:lnTo>
                    <a:pt x="225" y="305"/>
                  </a:lnTo>
                  <a:lnTo>
                    <a:pt x="225" y="363"/>
                  </a:lnTo>
                  <a:lnTo>
                    <a:pt x="246" y="420"/>
                  </a:lnTo>
                  <a:lnTo>
                    <a:pt x="249" y="439"/>
                  </a:lnTo>
                  <a:lnTo>
                    <a:pt x="233" y="449"/>
                  </a:lnTo>
                  <a:lnTo>
                    <a:pt x="213" y="443"/>
                  </a:lnTo>
                  <a:lnTo>
                    <a:pt x="201" y="371"/>
                  </a:lnTo>
                  <a:lnTo>
                    <a:pt x="200" y="324"/>
                  </a:lnTo>
                  <a:lnTo>
                    <a:pt x="165" y="347"/>
                  </a:lnTo>
                  <a:lnTo>
                    <a:pt x="138" y="368"/>
                  </a:lnTo>
                  <a:lnTo>
                    <a:pt x="85" y="376"/>
                  </a:lnTo>
                  <a:lnTo>
                    <a:pt x="52" y="371"/>
                  </a:lnTo>
                  <a:lnTo>
                    <a:pt x="3" y="334"/>
                  </a:lnTo>
                  <a:lnTo>
                    <a:pt x="0" y="259"/>
                  </a:lnTo>
                  <a:lnTo>
                    <a:pt x="29" y="166"/>
                  </a:lnTo>
                  <a:lnTo>
                    <a:pt x="67" y="79"/>
                  </a:lnTo>
                  <a:lnTo>
                    <a:pt x="96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02840" y="2665440"/>
              <a:ext cx="161640" cy="306360"/>
            </a:xfrm>
            <a:custGeom>
              <a:avLst/>
              <a:gdLst/>
              <a:ahLst/>
              <a:rect l="l" t="t" r="r" b="b"/>
              <a:pathLst>
                <a:path w="304" h="579">
                  <a:moveTo>
                    <a:pt x="101" y="23"/>
                  </a:moveTo>
                  <a:lnTo>
                    <a:pt x="65" y="0"/>
                  </a:lnTo>
                  <a:lnTo>
                    <a:pt x="17" y="0"/>
                  </a:lnTo>
                  <a:lnTo>
                    <a:pt x="0" y="30"/>
                  </a:lnTo>
                  <a:lnTo>
                    <a:pt x="7" y="78"/>
                  </a:lnTo>
                  <a:lnTo>
                    <a:pt x="49" y="124"/>
                  </a:lnTo>
                  <a:lnTo>
                    <a:pt x="134" y="166"/>
                  </a:lnTo>
                  <a:lnTo>
                    <a:pt x="233" y="256"/>
                  </a:lnTo>
                  <a:lnTo>
                    <a:pt x="249" y="295"/>
                  </a:lnTo>
                  <a:lnTo>
                    <a:pt x="241" y="314"/>
                  </a:lnTo>
                  <a:lnTo>
                    <a:pt x="166" y="373"/>
                  </a:lnTo>
                  <a:lnTo>
                    <a:pt x="78" y="444"/>
                  </a:lnTo>
                  <a:lnTo>
                    <a:pt x="56" y="475"/>
                  </a:lnTo>
                  <a:lnTo>
                    <a:pt x="56" y="507"/>
                  </a:lnTo>
                  <a:lnTo>
                    <a:pt x="124" y="540"/>
                  </a:lnTo>
                  <a:lnTo>
                    <a:pt x="228" y="579"/>
                  </a:lnTo>
                  <a:lnTo>
                    <a:pt x="265" y="579"/>
                  </a:lnTo>
                  <a:lnTo>
                    <a:pt x="304" y="553"/>
                  </a:lnTo>
                  <a:lnTo>
                    <a:pt x="304" y="533"/>
                  </a:lnTo>
                  <a:lnTo>
                    <a:pt x="275" y="521"/>
                  </a:lnTo>
                  <a:lnTo>
                    <a:pt x="143" y="507"/>
                  </a:lnTo>
                  <a:lnTo>
                    <a:pt x="94" y="494"/>
                  </a:lnTo>
                  <a:lnTo>
                    <a:pt x="88" y="471"/>
                  </a:lnTo>
                  <a:lnTo>
                    <a:pt x="173" y="405"/>
                  </a:lnTo>
                  <a:lnTo>
                    <a:pt x="268" y="343"/>
                  </a:lnTo>
                  <a:lnTo>
                    <a:pt x="288" y="320"/>
                  </a:lnTo>
                  <a:lnTo>
                    <a:pt x="297" y="288"/>
                  </a:lnTo>
                  <a:lnTo>
                    <a:pt x="288" y="245"/>
                  </a:lnTo>
                  <a:lnTo>
                    <a:pt x="259" y="210"/>
                  </a:lnTo>
                  <a:lnTo>
                    <a:pt x="166" y="95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7040" y="2419200"/>
              <a:ext cx="185760" cy="292320"/>
            </a:xfrm>
            <a:custGeom>
              <a:avLst/>
              <a:gdLst/>
              <a:ahLst/>
              <a:rect l="l" t="t" r="r" b="b"/>
              <a:pathLst>
                <a:path w="350" h="553">
                  <a:moveTo>
                    <a:pt x="52" y="171"/>
                  </a:moveTo>
                  <a:lnTo>
                    <a:pt x="75" y="69"/>
                  </a:lnTo>
                  <a:lnTo>
                    <a:pt x="153" y="7"/>
                  </a:lnTo>
                  <a:lnTo>
                    <a:pt x="192" y="0"/>
                  </a:lnTo>
                  <a:lnTo>
                    <a:pt x="242" y="16"/>
                  </a:lnTo>
                  <a:lnTo>
                    <a:pt x="278" y="55"/>
                  </a:lnTo>
                  <a:lnTo>
                    <a:pt x="292" y="101"/>
                  </a:lnTo>
                  <a:lnTo>
                    <a:pt x="301" y="140"/>
                  </a:lnTo>
                  <a:lnTo>
                    <a:pt x="288" y="189"/>
                  </a:lnTo>
                  <a:lnTo>
                    <a:pt x="285" y="233"/>
                  </a:lnTo>
                  <a:lnTo>
                    <a:pt x="255" y="272"/>
                  </a:lnTo>
                  <a:lnTo>
                    <a:pt x="249" y="318"/>
                  </a:lnTo>
                  <a:lnTo>
                    <a:pt x="262" y="353"/>
                  </a:lnTo>
                  <a:lnTo>
                    <a:pt x="317" y="369"/>
                  </a:lnTo>
                  <a:lnTo>
                    <a:pt x="347" y="407"/>
                  </a:lnTo>
                  <a:lnTo>
                    <a:pt x="350" y="485"/>
                  </a:lnTo>
                  <a:lnTo>
                    <a:pt x="324" y="533"/>
                  </a:lnTo>
                  <a:lnTo>
                    <a:pt x="239" y="553"/>
                  </a:lnTo>
                  <a:lnTo>
                    <a:pt x="155" y="553"/>
                  </a:lnTo>
                  <a:lnTo>
                    <a:pt x="91" y="524"/>
                  </a:lnTo>
                  <a:lnTo>
                    <a:pt x="29" y="459"/>
                  </a:lnTo>
                  <a:lnTo>
                    <a:pt x="7" y="397"/>
                  </a:lnTo>
                  <a:lnTo>
                    <a:pt x="0" y="321"/>
                  </a:lnTo>
                  <a:lnTo>
                    <a:pt x="13" y="243"/>
                  </a:lnTo>
                  <a:lnTo>
                    <a:pt x="36" y="197"/>
                  </a:lnTo>
                  <a:lnTo>
                    <a:pt x="52" y="17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58000" y="2438280"/>
            <a:ext cx="1550880" cy="1278000"/>
            <a:chOff x="6858000" y="2438280"/>
            <a:chExt cx="1550880" cy="1278000"/>
          </a:xfrm>
        </p:grpSpPr>
        <p:grpSp>
          <p:nvGrpSpPr>
            <p:cNvPr id="332" name=""/>
            <p:cNvGrpSpPr/>
            <p:nvPr/>
          </p:nvGrpSpPr>
          <p:grpSpPr>
            <a:xfrm>
              <a:off x="6858000" y="2438280"/>
              <a:ext cx="1550880" cy="1278000"/>
              <a:chOff x="6858000" y="2438280"/>
              <a:chExt cx="1550880" cy="1278000"/>
            </a:xfrm>
          </p:grpSpPr>
          <p:sp>
            <p:nvSpPr>
              <p:cNvPr id="333" name=""/>
              <p:cNvSpPr/>
              <p:nvPr/>
            </p:nvSpPr>
            <p:spPr>
              <a:xfrm>
                <a:off x="6858000" y="2438280"/>
                <a:ext cx="1550880" cy="1278000"/>
              </a:xfrm>
              <a:custGeom>
                <a:avLst/>
                <a:gdLst/>
                <a:ahLst/>
                <a:rect l="l" t="t" r="r" b="b"/>
                <a:pathLst>
                  <a:path w="2930" h="2415">
                    <a:moveTo>
                      <a:pt x="23" y="1707"/>
                    </a:moveTo>
                    <a:lnTo>
                      <a:pt x="16" y="1536"/>
                    </a:lnTo>
                    <a:lnTo>
                      <a:pt x="39" y="1388"/>
                    </a:lnTo>
                    <a:lnTo>
                      <a:pt x="39" y="1247"/>
                    </a:lnTo>
                    <a:lnTo>
                      <a:pt x="7" y="1077"/>
                    </a:lnTo>
                    <a:lnTo>
                      <a:pt x="0" y="943"/>
                    </a:lnTo>
                    <a:lnTo>
                      <a:pt x="7" y="803"/>
                    </a:lnTo>
                    <a:lnTo>
                      <a:pt x="39" y="717"/>
                    </a:lnTo>
                    <a:lnTo>
                      <a:pt x="125" y="655"/>
                    </a:lnTo>
                    <a:lnTo>
                      <a:pt x="233" y="577"/>
                    </a:lnTo>
                    <a:lnTo>
                      <a:pt x="491" y="491"/>
                    </a:lnTo>
                    <a:lnTo>
                      <a:pt x="748" y="429"/>
                    </a:lnTo>
                    <a:lnTo>
                      <a:pt x="974" y="390"/>
                    </a:lnTo>
                    <a:lnTo>
                      <a:pt x="1161" y="383"/>
                    </a:lnTo>
                    <a:lnTo>
                      <a:pt x="1340" y="328"/>
                    </a:lnTo>
                    <a:lnTo>
                      <a:pt x="1497" y="288"/>
                    </a:lnTo>
                    <a:lnTo>
                      <a:pt x="1573" y="258"/>
                    </a:lnTo>
                    <a:lnTo>
                      <a:pt x="1698" y="219"/>
                    </a:lnTo>
                    <a:lnTo>
                      <a:pt x="1808" y="164"/>
                    </a:lnTo>
                    <a:lnTo>
                      <a:pt x="1910" y="71"/>
                    </a:lnTo>
                    <a:lnTo>
                      <a:pt x="2025" y="39"/>
                    </a:lnTo>
                    <a:lnTo>
                      <a:pt x="2173" y="0"/>
                    </a:lnTo>
                    <a:lnTo>
                      <a:pt x="2244" y="9"/>
                    </a:lnTo>
                    <a:lnTo>
                      <a:pt x="2307" y="64"/>
                    </a:lnTo>
                    <a:lnTo>
                      <a:pt x="2493" y="219"/>
                    </a:lnTo>
                    <a:lnTo>
                      <a:pt x="2711" y="438"/>
                    </a:lnTo>
                    <a:lnTo>
                      <a:pt x="2860" y="569"/>
                    </a:lnTo>
                    <a:lnTo>
                      <a:pt x="2930" y="664"/>
                    </a:lnTo>
                    <a:lnTo>
                      <a:pt x="2930" y="726"/>
                    </a:lnTo>
                    <a:lnTo>
                      <a:pt x="2898" y="780"/>
                    </a:lnTo>
                    <a:lnTo>
                      <a:pt x="2867" y="881"/>
                    </a:lnTo>
                    <a:lnTo>
                      <a:pt x="2867" y="1139"/>
                    </a:lnTo>
                    <a:lnTo>
                      <a:pt x="2851" y="1340"/>
                    </a:lnTo>
                    <a:lnTo>
                      <a:pt x="2828" y="1489"/>
                    </a:lnTo>
                    <a:lnTo>
                      <a:pt x="2789" y="1598"/>
                    </a:lnTo>
                    <a:lnTo>
                      <a:pt x="2719" y="1621"/>
                    </a:lnTo>
                    <a:lnTo>
                      <a:pt x="2688" y="1589"/>
                    </a:lnTo>
                    <a:lnTo>
                      <a:pt x="2704" y="1536"/>
                    </a:lnTo>
                    <a:lnTo>
                      <a:pt x="2711" y="1402"/>
                    </a:lnTo>
                    <a:lnTo>
                      <a:pt x="2540" y="1481"/>
                    </a:lnTo>
                    <a:lnTo>
                      <a:pt x="2438" y="1536"/>
                    </a:lnTo>
                    <a:lnTo>
                      <a:pt x="2307" y="1566"/>
                    </a:lnTo>
                    <a:lnTo>
                      <a:pt x="2205" y="1614"/>
                    </a:lnTo>
                    <a:lnTo>
                      <a:pt x="2081" y="1699"/>
                    </a:lnTo>
                    <a:lnTo>
                      <a:pt x="1963" y="1762"/>
                    </a:lnTo>
                    <a:lnTo>
                      <a:pt x="1784" y="1847"/>
                    </a:lnTo>
                    <a:lnTo>
                      <a:pt x="1668" y="1886"/>
                    </a:lnTo>
                    <a:lnTo>
                      <a:pt x="1497" y="1965"/>
                    </a:lnTo>
                    <a:lnTo>
                      <a:pt x="1301" y="2002"/>
                    </a:lnTo>
                    <a:lnTo>
                      <a:pt x="1161" y="2041"/>
                    </a:lnTo>
                    <a:lnTo>
                      <a:pt x="1005" y="2080"/>
                    </a:lnTo>
                    <a:lnTo>
                      <a:pt x="927" y="2120"/>
                    </a:lnTo>
                    <a:lnTo>
                      <a:pt x="895" y="2198"/>
                    </a:lnTo>
                    <a:lnTo>
                      <a:pt x="888" y="2315"/>
                    </a:lnTo>
                    <a:lnTo>
                      <a:pt x="865" y="2377"/>
                    </a:lnTo>
                    <a:lnTo>
                      <a:pt x="795" y="2415"/>
                    </a:lnTo>
                    <a:lnTo>
                      <a:pt x="685" y="2353"/>
                    </a:lnTo>
                    <a:lnTo>
                      <a:pt x="655" y="2260"/>
                    </a:lnTo>
                    <a:lnTo>
                      <a:pt x="694" y="2182"/>
                    </a:lnTo>
                    <a:lnTo>
                      <a:pt x="669" y="2136"/>
                    </a:lnTo>
                    <a:lnTo>
                      <a:pt x="522" y="1972"/>
                    </a:lnTo>
                    <a:lnTo>
                      <a:pt x="312" y="1778"/>
                    </a:lnTo>
                    <a:lnTo>
                      <a:pt x="180" y="1653"/>
                    </a:lnTo>
                    <a:lnTo>
                      <a:pt x="125" y="1621"/>
                    </a:lnTo>
                    <a:lnTo>
                      <a:pt x="101" y="1676"/>
                    </a:lnTo>
                    <a:lnTo>
                      <a:pt x="125" y="1778"/>
                    </a:lnTo>
                    <a:lnTo>
                      <a:pt x="23" y="1707"/>
                    </a:lnTo>
                    <a:close/>
                  </a:path>
                </a:pathLst>
              </a:custGeom>
              <a:solidFill>
                <a:srgbClr val="9966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79960" y="2811240"/>
                <a:ext cx="1521000" cy="903600"/>
              </a:xfrm>
              <a:custGeom>
                <a:avLst/>
                <a:gdLst/>
                <a:ahLst/>
                <a:rect l="l" t="t" r="r" b="b"/>
                <a:pathLst>
                  <a:path w="2874" h="1707">
                    <a:moveTo>
                      <a:pt x="731" y="1675"/>
                    </a:moveTo>
                    <a:lnTo>
                      <a:pt x="740" y="1511"/>
                    </a:lnTo>
                    <a:lnTo>
                      <a:pt x="731" y="1153"/>
                    </a:lnTo>
                    <a:lnTo>
                      <a:pt x="731" y="888"/>
                    </a:lnTo>
                    <a:lnTo>
                      <a:pt x="692" y="819"/>
                    </a:lnTo>
                    <a:lnTo>
                      <a:pt x="404" y="514"/>
                    </a:lnTo>
                    <a:lnTo>
                      <a:pt x="217" y="328"/>
                    </a:lnTo>
                    <a:lnTo>
                      <a:pt x="62" y="194"/>
                    </a:lnTo>
                    <a:lnTo>
                      <a:pt x="0" y="125"/>
                    </a:lnTo>
                    <a:lnTo>
                      <a:pt x="16" y="86"/>
                    </a:lnTo>
                    <a:lnTo>
                      <a:pt x="39" y="86"/>
                    </a:lnTo>
                    <a:lnTo>
                      <a:pt x="147" y="203"/>
                    </a:lnTo>
                    <a:lnTo>
                      <a:pt x="295" y="319"/>
                    </a:lnTo>
                    <a:lnTo>
                      <a:pt x="436" y="507"/>
                    </a:lnTo>
                    <a:lnTo>
                      <a:pt x="568" y="646"/>
                    </a:lnTo>
                    <a:lnTo>
                      <a:pt x="692" y="740"/>
                    </a:lnTo>
                    <a:lnTo>
                      <a:pt x="770" y="810"/>
                    </a:lnTo>
                    <a:lnTo>
                      <a:pt x="825" y="796"/>
                    </a:lnTo>
                    <a:lnTo>
                      <a:pt x="879" y="756"/>
                    </a:lnTo>
                    <a:lnTo>
                      <a:pt x="1051" y="717"/>
                    </a:lnTo>
                    <a:lnTo>
                      <a:pt x="1363" y="632"/>
                    </a:lnTo>
                    <a:lnTo>
                      <a:pt x="1550" y="530"/>
                    </a:lnTo>
                    <a:lnTo>
                      <a:pt x="1767" y="436"/>
                    </a:lnTo>
                    <a:lnTo>
                      <a:pt x="1993" y="351"/>
                    </a:lnTo>
                    <a:lnTo>
                      <a:pt x="2228" y="249"/>
                    </a:lnTo>
                    <a:lnTo>
                      <a:pt x="2392" y="194"/>
                    </a:lnTo>
                    <a:lnTo>
                      <a:pt x="2586" y="109"/>
                    </a:lnTo>
                    <a:lnTo>
                      <a:pt x="2741" y="70"/>
                    </a:lnTo>
                    <a:lnTo>
                      <a:pt x="2874" y="0"/>
                    </a:lnTo>
                    <a:lnTo>
                      <a:pt x="2828" y="125"/>
                    </a:lnTo>
                    <a:lnTo>
                      <a:pt x="2749" y="125"/>
                    </a:lnTo>
                    <a:lnTo>
                      <a:pt x="2648" y="148"/>
                    </a:lnTo>
                    <a:lnTo>
                      <a:pt x="2468" y="203"/>
                    </a:lnTo>
                    <a:lnTo>
                      <a:pt x="2337" y="257"/>
                    </a:lnTo>
                    <a:lnTo>
                      <a:pt x="2173" y="312"/>
                    </a:lnTo>
                    <a:lnTo>
                      <a:pt x="2064" y="367"/>
                    </a:lnTo>
                    <a:lnTo>
                      <a:pt x="1885" y="436"/>
                    </a:lnTo>
                    <a:lnTo>
                      <a:pt x="1767" y="436"/>
                    </a:lnTo>
                    <a:lnTo>
                      <a:pt x="1596" y="561"/>
                    </a:lnTo>
                    <a:lnTo>
                      <a:pt x="1479" y="616"/>
                    </a:lnTo>
                    <a:lnTo>
                      <a:pt x="1331" y="669"/>
                    </a:lnTo>
                    <a:lnTo>
                      <a:pt x="1144" y="733"/>
                    </a:lnTo>
                    <a:lnTo>
                      <a:pt x="996" y="771"/>
                    </a:lnTo>
                    <a:lnTo>
                      <a:pt x="895" y="819"/>
                    </a:lnTo>
                    <a:lnTo>
                      <a:pt x="802" y="865"/>
                    </a:lnTo>
                    <a:lnTo>
                      <a:pt x="779" y="990"/>
                    </a:lnTo>
                    <a:lnTo>
                      <a:pt x="779" y="1285"/>
                    </a:lnTo>
                    <a:lnTo>
                      <a:pt x="779" y="1488"/>
                    </a:lnTo>
                    <a:lnTo>
                      <a:pt x="794" y="1660"/>
                    </a:lnTo>
                    <a:lnTo>
                      <a:pt x="747" y="1707"/>
                    </a:lnTo>
                    <a:lnTo>
                      <a:pt x="731" y="1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7500960" y="2644560"/>
              <a:ext cx="368280" cy="255600"/>
            </a:xfrm>
            <a:custGeom>
              <a:avLst/>
              <a:gdLst/>
              <a:ahLst/>
              <a:rect l="l" t="t" r="r" b="b"/>
              <a:pathLst>
                <a:path w="694" h="482">
                  <a:moveTo>
                    <a:pt x="8" y="140"/>
                  </a:moveTo>
                  <a:lnTo>
                    <a:pt x="179" y="101"/>
                  </a:lnTo>
                  <a:lnTo>
                    <a:pt x="281" y="55"/>
                  </a:lnTo>
                  <a:lnTo>
                    <a:pt x="352" y="0"/>
                  </a:lnTo>
                  <a:lnTo>
                    <a:pt x="421" y="71"/>
                  </a:lnTo>
                  <a:lnTo>
                    <a:pt x="530" y="172"/>
                  </a:lnTo>
                  <a:lnTo>
                    <a:pt x="624" y="226"/>
                  </a:lnTo>
                  <a:lnTo>
                    <a:pt x="694" y="297"/>
                  </a:lnTo>
                  <a:lnTo>
                    <a:pt x="654" y="359"/>
                  </a:lnTo>
                  <a:lnTo>
                    <a:pt x="515" y="421"/>
                  </a:lnTo>
                  <a:lnTo>
                    <a:pt x="375" y="482"/>
                  </a:lnTo>
                  <a:lnTo>
                    <a:pt x="313" y="482"/>
                  </a:lnTo>
                  <a:lnTo>
                    <a:pt x="226" y="374"/>
                  </a:lnTo>
                  <a:lnTo>
                    <a:pt x="140" y="304"/>
                  </a:lnTo>
                  <a:lnTo>
                    <a:pt x="55" y="258"/>
                  </a:lnTo>
                  <a:lnTo>
                    <a:pt x="0" y="179"/>
                  </a:lnTo>
                  <a:lnTo>
                    <a:pt x="8" y="140"/>
                  </a:lnTo>
                  <a:close/>
                </a:path>
              </a:pathLst>
            </a:custGeom>
            <a:solidFill>
              <a:srgbClr val="f8f8f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0800" y="2644560"/>
              <a:ext cx="79200" cy="128880"/>
            </a:xfrm>
            <a:custGeom>
              <a:avLst/>
              <a:gdLst/>
              <a:ahLst/>
              <a:rect l="l" t="t" r="r" b="b"/>
              <a:pathLst>
                <a:path w="150" h="242">
                  <a:moveTo>
                    <a:pt x="142" y="203"/>
                  </a:moveTo>
                  <a:lnTo>
                    <a:pt x="25" y="0"/>
                  </a:lnTo>
                  <a:lnTo>
                    <a:pt x="0" y="16"/>
                  </a:lnTo>
                  <a:lnTo>
                    <a:pt x="9" y="39"/>
                  </a:lnTo>
                  <a:lnTo>
                    <a:pt x="119" y="235"/>
                  </a:lnTo>
                  <a:lnTo>
                    <a:pt x="150" y="242"/>
                  </a:lnTo>
                  <a:lnTo>
                    <a:pt x="14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396200" y="2392200"/>
            <a:ext cx="452520" cy="485640"/>
            <a:chOff x="7396200" y="2392200"/>
            <a:chExt cx="452520" cy="485640"/>
          </a:xfrm>
        </p:grpSpPr>
        <p:sp>
          <p:nvSpPr>
            <p:cNvPr id="338" name=""/>
            <p:cNvSpPr/>
            <p:nvPr/>
          </p:nvSpPr>
          <p:spPr>
            <a:xfrm>
              <a:off x="7623360" y="2392200"/>
              <a:ext cx="225360" cy="276120"/>
            </a:xfrm>
            <a:custGeom>
              <a:avLst/>
              <a:gdLst/>
              <a:ahLst/>
              <a:rect l="l" t="t" r="r" b="b"/>
              <a:pathLst>
                <a:path w="426" h="520">
                  <a:moveTo>
                    <a:pt x="0" y="509"/>
                  </a:moveTo>
                  <a:lnTo>
                    <a:pt x="16" y="470"/>
                  </a:lnTo>
                  <a:lnTo>
                    <a:pt x="49" y="448"/>
                  </a:lnTo>
                  <a:lnTo>
                    <a:pt x="156" y="448"/>
                  </a:lnTo>
                  <a:lnTo>
                    <a:pt x="282" y="464"/>
                  </a:lnTo>
                  <a:lnTo>
                    <a:pt x="357" y="474"/>
                  </a:lnTo>
                  <a:lnTo>
                    <a:pt x="370" y="461"/>
                  </a:lnTo>
                  <a:lnTo>
                    <a:pt x="356" y="407"/>
                  </a:lnTo>
                  <a:lnTo>
                    <a:pt x="317" y="320"/>
                  </a:lnTo>
                  <a:lnTo>
                    <a:pt x="272" y="241"/>
                  </a:lnTo>
                  <a:lnTo>
                    <a:pt x="233" y="193"/>
                  </a:lnTo>
                  <a:lnTo>
                    <a:pt x="213" y="152"/>
                  </a:lnTo>
                  <a:lnTo>
                    <a:pt x="220" y="131"/>
                  </a:lnTo>
                  <a:lnTo>
                    <a:pt x="246" y="115"/>
                  </a:lnTo>
                  <a:lnTo>
                    <a:pt x="288" y="120"/>
                  </a:lnTo>
                  <a:lnTo>
                    <a:pt x="356" y="105"/>
                  </a:lnTo>
                  <a:lnTo>
                    <a:pt x="376" y="71"/>
                  </a:lnTo>
                  <a:lnTo>
                    <a:pt x="397" y="22"/>
                  </a:lnTo>
                  <a:lnTo>
                    <a:pt x="397" y="0"/>
                  </a:lnTo>
                  <a:lnTo>
                    <a:pt x="415" y="13"/>
                  </a:lnTo>
                  <a:lnTo>
                    <a:pt x="426" y="65"/>
                  </a:lnTo>
                  <a:lnTo>
                    <a:pt x="418" y="115"/>
                  </a:lnTo>
                  <a:lnTo>
                    <a:pt x="376" y="139"/>
                  </a:lnTo>
                  <a:lnTo>
                    <a:pt x="344" y="136"/>
                  </a:lnTo>
                  <a:lnTo>
                    <a:pt x="282" y="144"/>
                  </a:lnTo>
                  <a:lnTo>
                    <a:pt x="269" y="157"/>
                  </a:lnTo>
                  <a:lnTo>
                    <a:pt x="269" y="173"/>
                  </a:lnTo>
                  <a:lnTo>
                    <a:pt x="301" y="229"/>
                  </a:lnTo>
                  <a:lnTo>
                    <a:pt x="340" y="271"/>
                  </a:lnTo>
                  <a:lnTo>
                    <a:pt x="386" y="352"/>
                  </a:lnTo>
                  <a:lnTo>
                    <a:pt x="405" y="432"/>
                  </a:lnTo>
                  <a:lnTo>
                    <a:pt x="407" y="493"/>
                  </a:lnTo>
                  <a:lnTo>
                    <a:pt x="392" y="509"/>
                  </a:lnTo>
                  <a:lnTo>
                    <a:pt x="373" y="513"/>
                  </a:lnTo>
                  <a:lnTo>
                    <a:pt x="311" y="516"/>
                  </a:lnTo>
                  <a:lnTo>
                    <a:pt x="184" y="509"/>
                  </a:lnTo>
                  <a:lnTo>
                    <a:pt x="101" y="513"/>
                  </a:lnTo>
                  <a:lnTo>
                    <a:pt x="43" y="520"/>
                  </a:lnTo>
                  <a:lnTo>
                    <a:pt x="16" y="516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6200" y="2570040"/>
              <a:ext cx="309600" cy="307800"/>
            </a:xfrm>
            <a:custGeom>
              <a:avLst/>
              <a:gdLst/>
              <a:ahLst/>
              <a:rect l="l" t="t" r="r" b="b"/>
              <a:pathLst>
                <a:path w="587" h="581">
                  <a:moveTo>
                    <a:pt x="181" y="23"/>
                  </a:moveTo>
                  <a:lnTo>
                    <a:pt x="236" y="4"/>
                  </a:lnTo>
                  <a:lnTo>
                    <a:pt x="274" y="0"/>
                  </a:lnTo>
                  <a:lnTo>
                    <a:pt x="305" y="4"/>
                  </a:lnTo>
                  <a:lnTo>
                    <a:pt x="321" y="20"/>
                  </a:lnTo>
                  <a:lnTo>
                    <a:pt x="313" y="61"/>
                  </a:lnTo>
                  <a:lnTo>
                    <a:pt x="259" y="82"/>
                  </a:lnTo>
                  <a:lnTo>
                    <a:pt x="201" y="82"/>
                  </a:lnTo>
                  <a:lnTo>
                    <a:pt x="139" y="93"/>
                  </a:lnTo>
                  <a:lnTo>
                    <a:pt x="92" y="113"/>
                  </a:lnTo>
                  <a:lnTo>
                    <a:pt x="49" y="145"/>
                  </a:lnTo>
                  <a:lnTo>
                    <a:pt x="46" y="191"/>
                  </a:lnTo>
                  <a:lnTo>
                    <a:pt x="63" y="237"/>
                  </a:lnTo>
                  <a:lnTo>
                    <a:pt x="108" y="277"/>
                  </a:lnTo>
                  <a:lnTo>
                    <a:pt x="178" y="308"/>
                  </a:lnTo>
                  <a:lnTo>
                    <a:pt x="272" y="342"/>
                  </a:lnTo>
                  <a:lnTo>
                    <a:pt x="368" y="369"/>
                  </a:lnTo>
                  <a:lnTo>
                    <a:pt x="430" y="395"/>
                  </a:lnTo>
                  <a:lnTo>
                    <a:pt x="460" y="404"/>
                  </a:lnTo>
                  <a:lnTo>
                    <a:pt x="450" y="440"/>
                  </a:lnTo>
                  <a:lnTo>
                    <a:pt x="460" y="490"/>
                  </a:lnTo>
                  <a:lnTo>
                    <a:pt x="516" y="513"/>
                  </a:lnTo>
                  <a:lnTo>
                    <a:pt x="584" y="543"/>
                  </a:lnTo>
                  <a:lnTo>
                    <a:pt x="587" y="581"/>
                  </a:lnTo>
                  <a:lnTo>
                    <a:pt x="516" y="549"/>
                  </a:lnTo>
                  <a:lnTo>
                    <a:pt x="430" y="513"/>
                  </a:lnTo>
                  <a:lnTo>
                    <a:pt x="411" y="474"/>
                  </a:lnTo>
                  <a:lnTo>
                    <a:pt x="411" y="427"/>
                  </a:lnTo>
                  <a:lnTo>
                    <a:pt x="368" y="404"/>
                  </a:lnTo>
                  <a:lnTo>
                    <a:pt x="256" y="372"/>
                  </a:lnTo>
                  <a:lnTo>
                    <a:pt x="174" y="342"/>
                  </a:lnTo>
                  <a:lnTo>
                    <a:pt x="79" y="300"/>
                  </a:lnTo>
                  <a:lnTo>
                    <a:pt x="14" y="253"/>
                  </a:lnTo>
                  <a:lnTo>
                    <a:pt x="1" y="210"/>
                  </a:lnTo>
                  <a:lnTo>
                    <a:pt x="0" y="175"/>
                  </a:lnTo>
                  <a:lnTo>
                    <a:pt x="1" y="123"/>
                  </a:lnTo>
                  <a:lnTo>
                    <a:pt x="40" y="85"/>
                  </a:lnTo>
                  <a:lnTo>
                    <a:pt x="100" y="59"/>
                  </a:lnTo>
                  <a:lnTo>
                    <a:pt x="149" y="36"/>
                  </a:lnTo>
                  <a:lnTo>
                    <a:pt x="181" y="2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848720" y="1873080"/>
            <a:ext cx="451800" cy="1022400"/>
            <a:chOff x="7848720" y="1873080"/>
            <a:chExt cx="451800" cy="1022400"/>
          </a:xfrm>
        </p:grpSpPr>
        <p:sp>
          <p:nvSpPr>
            <p:cNvPr id="341" name=""/>
            <p:cNvSpPr/>
            <p:nvPr/>
          </p:nvSpPr>
          <p:spPr>
            <a:xfrm>
              <a:off x="7856280" y="1919160"/>
              <a:ext cx="237600" cy="961920"/>
            </a:xfrm>
            <a:custGeom>
              <a:avLst/>
              <a:gdLst/>
              <a:ahLst/>
              <a:rect l="l" t="t" r="r" b="b"/>
              <a:pathLst>
                <a:path w="450" h="1819">
                  <a:moveTo>
                    <a:pt x="442" y="327"/>
                  </a:moveTo>
                  <a:lnTo>
                    <a:pt x="450" y="394"/>
                  </a:lnTo>
                  <a:lnTo>
                    <a:pt x="450" y="755"/>
                  </a:lnTo>
                  <a:lnTo>
                    <a:pt x="418" y="1239"/>
                  </a:lnTo>
                  <a:lnTo>
                    <a:pt x="421" y="1547"/>
                  </a:lnTo>
                  <a:lnTo>
                    <a:pt x="436" y="1760"/>
                  </a:lnTo>
                  <a:lnTo>
                    <a:pt x="421" y="1819"/>
                  </a:lnTo>
                  <a:lnTo>
                    <a:pt x="394" y="1806"/>
                  </a:lnTo>
                  <a:lnTo>
                    <a:pt x="242" y="1689"/>
                  </a:lnTo>
                  <a:lnTo>
                    <a:pt x="203" y="1666"/>
                  </a:lnTo>
                  <a:lnTo>
                    <a:pt x="180" y="1633"/>
                  </a:lnTo>
                  <a:lnTo>
                    <a:pt x="141" y="1588"/>
                  </a:lnTo>
                  <a:lnTo>
                    <a:pt x="89" y="1541"/>
                  </a:lnTo>
                  <a:lnTo>
                    <a:pt x="63" y="1479"/>
                  </a:lnTo>
                  <a:lnTo>
                    <a:pt x="0" y="1425"/>
                  </a:lnTo>
                  <a:lnTo>
                    <a:pt x="0" y="1394"/>
                  </a:lnTo>
                  <a:lnTo>
                    <a:pt x="34" y="1352"/>
                  </a:lnTo>
                  <a:lnTo>
                    <a:pt x="47" y="1298"/>
                  </a:lnTo>
                  <a:lnTo>
                    <a:pt x="39" y="1269"/>
                  </a:lnTo>
                  <a:lnTo>
                    <a:pt x="24" y="1223"/>
                  </a:lnTo>
                  <a:lnTo>
                    <a:pt x="18" y="1189"/>
                  </a:lnTo>
                  <a:lnTo>
                    <a:pt x="42" y="1137"/>
                  </a:lnTo>
                  <a:lnTo>
                    <a:pt x="42" y="1102"/>
                  </a:lnTo>
                  <a:lnTo>
                    <a:pt x="16" y="1033"/>
                  </a:lnTo>
                  <a:lnTo>
                    <a:pt x="16" y="994"/>
                  </a:lnTo>
                  <a:lnTo>
                    <a:pt x="31" y="963"/>
                  </a:lnTo>
                  <a:lnTo>
                    <a:pt x="57" y="927"/>
                  </a:lnTo>
                  <a:lnTo>
                    <a:pt x="55" y="865"/>
                  </a:lnTo>
                  <a:lnTo>
                    <a:pt x="39" y="814"/>
                  </a:lnTo>
                  <a:lnTo>
                    <a:pt x="55" y="755"/>
                  </a:lnTo>
                  <a:lnTo>
                    <a:pt x="70" y="740"/>
                  </a:lnTo>
                  <a:lnTo>
                    <a:pt x="57" y="685"/>
                  </a:lnTo>
                  <a:lnTo>
                    <a:pt x="24" y="627"/>
                  </a:lnTo>
                  <a:lnTo>
                    <a:pt x="16" y="590"/>
                  </a:lnTo>
                  <a:lnTo>
                    <a:pt x="24" y="553"/>
                  </a:lnTo>
                  <a:lnTo>
                    <a:pt x="66" y="521"/>
                  </a:lnTo>
                  <a:lnTo>
                    <a:pt x="63" y="495"/>
                  </a:lnTo>
                  <a:lnTo>
                    <a:pt x="18" y="413"/>
                  </a:lnTo>
                  <a:lnTo>
                    <a:pt x="3" y="348"/>
                  </a:lnTo>
                  <a:lnTo>
                    <a:pt x="16" y="311"/>
                  </a:lnTo>
                  <a:lnTo>
                    <a:pt x="57" y="278"/>
                  </a:lnTo>
                  <a:lnTo>
                    <a:pt x="47" y="249"/>
                  </a:lnTo>
                  <a:lnTo>
                    <a:pt x="18" y="216"/>
                  </a:lnTo>
                  <a:lnTo>
                    <a:pt x="18" y="180"/>
                  </a:lnTo>
                  <a:lnTo>
                    <a:pt x="66" y="155"/>
                  </a:lnTo>
                  <a:lnTo>
                    <a:pt x="86" y="129"/>
                  </a:lnTo>
                  <a:lnTo>
                    <a:pt x="47" y="75"/>
                  </a:lnTo>
                  <a:lnTo>
                    <a:pt x="47" y="46"/>
                  </a:lnTo>
                  <a:lnTo>
                    <a:pt x="93" y="29"/>
                  </a:lnTo>
                  <a:lnTo>
                    <a:pt x="96" y="0"/>
                  </a:lnTo>
                  <a:lnTo>
                    <a:pt x="148" y="75"/>
                  </a:lnTo>
                  <a:lnTo>
                    <a:pt x="210" y="153"/>
                  </a:lnTo>
                  <a:lnTo>
                    <a:pt x="289" y="216"/>
                  </a:lnTo>
                  <a:lnTo>
                    <a:pt x="351" y="265"/>
                  </a:lnTo>
                  <a:lnTo>
                    <a:pt x="418" y="304"/>
                  </a:lnTo>
                  <a:lnTo>
                    <a:pt x="442" y="32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48720" y="1933200"/>
              <a:ext cx="67680" cy="733680"/>
            </a:xfrm>
            <a:custGeom>
              <a:avLst/>
              <a:gdLst/>
              <a:ahLst/>
              <a:rect l="l" t="t" r="r" b="b"/>
              <a:pathLst>
                <a:path w="130" h="1387">
                  <a:moveTo>
                    <a:pt x="65" y="0"/>
                  </a:moveTo>
                  <a:lnTo>
                    <a:pt x="88" y="47"/>
                  </a:lnTo>
                  <a:lnTo>
                    <a:pt x="110" y="77"/>
                  </a:lnTo>
                  <a:lnTo>
                    <a:pt x="130" y="96"/>
                  </a:lnTo>
                  <a:lnTo>
                    <a:pt x="125" y="119"/>
                  </a:lnTo>
                  <a:lnTo>
                    <a:pt x="104" y="135"/>
                  </a:lnTo>
                  <a:lnTo>
                    <a:pt x="72" y="142"/>
                  </a:lnTo>
                  <a:lnTo>
                    <a:pt x="49" y="163"/>
                  </a:lnTo>
                  <a:lnTo>
                    <a:pt x="55" y="187"/>
                  </a:lnTo>
                  <a:lnTo>
                    <a:pt x="71" y="202"/>
                  </a:lnTo>
                  <a:lnTo>
                    <a:pt x="97" y="234"/>
                  </a:lnTo>
                  <a:lnTo>
                    <a:pt x="97" y="251"/>
                  </a:lnTo>
                  <a:lnTo>
                    <a:pt x="88" y="267"/>
                  </a:lnTo>
                  <a:lnTo>
                    <a:pt x="65" y="283"/>
                  </a:lnTo>
                  <a:lnTo>
                    <a:pt x="42" y="299"/>
                  </a:lnTo>
                  <a:lnTo>
                    <a:pt x="39" y="322"/>
                  </a:lnTo>
                  <a:lnTo>
                    <a:pt x="46" y="345"/>
                  </a:lnTo>
                  <a:lnTo>
                    <a:pt x="65" y="392"/>
                  </a:lnTo>
                  <a:lnTo>
                    <a:pt x="81" y="428"/>
                  </a:lnTo>
                  <a:lnTo>
                    <a:pt x="97" y="454"/>
                  </a:lnTo>
                  <a:lnTo>
                    <a:pt x="97" y="483"/>
                  </a:lnTo>
                  <a:lnTo>
                    <a:pt x="88" y="509"/>
                  </a:lnTo>
                  <a:lnTo>
                    <a:pt x="65" y="532"/>
                  </a:lnTo>
                  <a:lnTo>
                    <a:pt x="49" y="555"/>
                  </a:lnTo>
                  <a:lnTo>
                    <a:pt x="55" y="594"/>
                  </a:lnTo>
                  <a:lnTo>
                    <a:pt x="94" y="654"/>
                  </a:lnTo>
                  <a:lnTo>
                    <a:pt x="110" y="686"/>
                  </a:lnTo>
                  <a:lnTo>
                    <a:pt x="112" y="716"/>
                  </a:lnTo>
                  <a:lnTo>
                    <a:pt x="97" y="739"/>
                  </a:lnTo>
                  <a:lnTo>
                    <a:pt x="78" y="762"/>
                  </a:lnTo>
                  <a:lnTo>
                    <a:pt x="72" y="794"/>
                  </a:lnTo>
                  <a:lnTo>
                    <a:pt x="85" y="833"/>
                  </a:lnTo>
                  <a:lnTo>
                    <a:pt x="101" y="874"/>
                  </a:lnTo>
                  <a:lnTo>
                    <a:pt x="110" y="903"/>
                  </a:lnTo>
                  <a:lnTo>
                    <a:pt x="101" y="922"/>
                  </a:lnTo>
                  <a:lnTo>
                    <a:pt x="81" y="942"/>
                  </a:lnTo>
                  <a:lnTo>
                    <a:pt x="55" y="965"/>
                  </a:lnTo>
                  <a:lnTo>
                    <a:pt x="42" y="988"/>
                  </a:lnTo>
                  <a:lnTo>
                    <a:pt x="55" y="1030"/>
                  </a:lnTo>
                  <a:lnTo>
                    <a:pt x="81" y="1074"/>
                  </a:lnTo>
                  <a:lnTo>
                    <a:pt x="94" y="1106"/>
                  </a:lnTo>
                  <a:lnTo>
                    <a:pt x="97" y="1132"/>
                  </a:lnTo>
                  <a:lnTo>
                    <a:pt x="88" y="1145"/>
                  </a:lnTo>
                  <a:lnTo>
                    <a:pt x="62" y="1145"/>
                  </a:lnTo>
                  <a:lnTo>
                    <a:pt x="55" y="1201"/>
                  </a:lnTo>
                  <a:lnTo>
                    <a:pt x="71" y="1238"/>
                  </a:lnTo>
                  <a:lnTo>
                    <a:pt x="85" y="1264"/>
                  </a:lnTo>
                  <a:lnTo>
                    <a:pt x="88" y="1287"/>
                  </a:lnTo>
                  <a:lnTo>
                    <a:pt x="88" y="1309"/>
                  </a:lnTo>
                  <a:lnTo>
                    <a:pt x="62" y="1342"/>
                  </a:lnTo>
                  <a:lnTo>
                    <a:pt x="26" y="1387"/>
                  </a:lnTo>
                  <a:lnTo>
                    <a:pt x="3" y="1371"/>
                  </a:lnTo>
                  <a:lnTo>
                    <a:pt x="10" y="1335"/>
                  </a:lnTo>
                  <a:lnTo>
                    <a:pt x="46" y="1277"/>
                  </a:lnTo>
                  <a:lnTo>
                    <a:pt x="42" y="1241"/>
                  </a:lnTo>
                  <a:lnTo>
                    <a:pt x="26" y="1199"/>
                  </a:lnTo>
                  <a:lnTo>
                    <a:pt x="16" y="1162"/>
                  </a:lnTo>
                  <a:lnTo>
                    <a:pt x="32" y="1132"/>
                  </a:lnTo>
                  <a:lnTo>
                    <a:pt x="46" y="1122"/>
                  </a:lnTo>
                  <a:lnTo>
                    <a:pt x="49" y="1099"/>
                  </a:lnTo>
                  <a:lnTo>
                    <a:pt x="32" y="1054"/>
                  </a:lnTo>
                  <a:lnTo>
                    <a:pt x="10" y="1015"/>
                  </a:lnTo>
                  <a:lnTo>
                    <a:pt x="0" y="975"/>
                  </a:lnTo>
                  <a:lnTo>
                    <a:pt x="10" y="929"/>
                  </a:lnTo>
                  <a:lnTo>
                    <a:pt x="46" y="912"/>
                  </a:lnTo>
                  <a:lnTo>
                    <a:pt x="58" y="890"/>
                  </a:lnTo>
                  <a:lnTo>
                    <a:pt x="55" y="860"/>
                  </a:lnTo>
                  <a:lnTo>
                    <a:pt x="46" y="828"/>
                  </a:lnTo>
                  <a:lnTo>
                    <a:pt x="33" y="787"/>
                  </a:lnTo>
                  <a:lnTo>
                    <a:pt x="33" y="755"/>
                  </a:lnTo>
                  <a:lnTo>
                    <a:pt x="49" y="735"/>
                  </a:lnTo>
                  <a:lnTo>
                    <a:pt x="71" y="709"/>
                  </a:lnTo>
                  <a:lnTo>
                    <a:pt x="71" y="693"/>
                  </a:lnTo>
                  <a:lnTo>
                    <a:pt x="55" y="657"/>
                  </a:lnTo>
                  <a:lnTo>
                    <a:pt x="23" y="610"/>
                  </a:lnTo>
                  <a:lnTo>
                    <a:pt x="10" y="576"/>
                  </a:lnTo>
                  <a:lnTo>
                    <a:pt x="10" y="548"/>
                  </a:lnTo>
                  <a:lnTo>
                    <a:pt x="19" y="522"/>
                  </a:lnTo>
                  <a:lnTo>
                    <a:pt x="39" y="500"/>
                  </a:lnTo>
                  <a:lnTo>
                    <a:pt x="58" y="477"/>
                  </a:lnTo>
                  <a:lnTo>
                    <a:pt x="58" y="460"/>
                  </a:lnTo>
                  <a:lnTo>
                    <a:pt x="16" y="374"/>
                  </a:lnTo>
                  <a:lnTo>
                    <a:pt x="7" y="342"/>
                  </a:lnTo>
                  <a:lnTo>
                    <a:pt x="0" y="313"/>
                  </a:lnTo>
                  <a:lnTo>
                    <a:pt x="16" y="287"/>
                  </a:lnTo>
                  <a:lnTo>
                    <a:pt x="33" y="267"/>
                  </a:lnTo>
                  <a:lnTo>
                    <a:pt x="49" y="251"/>
                  </a:lnTo>
                  <a:lnTo>
                    <a:pt x="49" y="237"/>
                  </a:lnTo>
                  <a:lnTo>
                    <a:pt x="33" y="212"/>
                  </a:lnTo>
                  <a:lnTo>
                    <a:pt x="10" y="187"/>
                  </a:lnTo>
                  <a:lnTo>
                    <a:pt x="10" y="163"/>
                  </a:lnTo>
                  <a:lnTo>
                    <a:pt x="26" y="140"/>
                  </a:lnTo>
                  <a:lnTo>
                    <a:pt x="49" y="119"/>
                  </a:lnTo>
                  <a:lnTo>
                    <a:pt x="71" y="109"/>
                  </a:lnTo>
                  <a:lnTo>
                    <a:pt x="81" y="93"/>
                  </a:lnTo>
                  <a:lnTo>
                    <a:pt x="72" y="73"/>
                  </a:lnTo>
                  <a:lnTo>
                    <a:pt x="58" y="50"/>
                  </a:lnTo>
                  <a:lnTo>
                    <a:pt x="49" y="2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4120" y="2112840"/>
              <a:ext cx="64800" cy="591840"/>
            </a:xfrm>
            <a:custGeom>
              <a:avLst/>
              <a:gdLst/>
              <a:ahLst/>
              <a:rect l="l" t="t" r="r" b="b"/>
              <a:pathLst>
                <a:path w="122" h="1121">
                  <a:moveTo>
                    <a:pt x="93" y="0"/>
                  </a:moveTo>
                  <a:lnTo>
                    <a:pt x="109" y="30"/>
                  </a:lnTo>
                  <a:lnTo>
                    <a:pt x="122" y="85"/>
                  </a:lnTo>
                  <a:lnTo>
                    <a:pt x="115" y="109"/>
                  </a:lnTo>
                  <a:lnTo>
                    <a:pt x="83" y="125"/>
                  </a:lnTo>
                  <a:lnTo>
                    <a:pt x="62" y="141"/>
                  </a:lnTo>
                  <a:lnTo>
                    <a:pt x="62" y="184"/>
                  </a:lnTo>
                  <a:lnTo>
                    <a:pt x="78" y="226"/>
                  </a:lnTo>
                  <a:lnTo>
                    <a:pt x="99" y="255"/>
                  </a:lnTo>
                  <a:lnTo>
                    <a:pt x="101" y="309"/>
                  </a:lnTo>
                  <a:lnTo>
                    <a:pt x="90" y="327"/>
                  </a:lnTo>
                  <a:lnTo>
                    <a:pt x="70" y="351"/>
                  </a:lnTo>
                  <a:lnTo>
                    <a:pt x="67" y="387"/>
                  </a:lnTo>
                  <a:lnTo>
                    <a:pt x="78" y="420"/>
                  </a:lnTo>
                  <a:lnTo>
                    <a:pt x="93" y="449"/>
                  </a:lnTo>
                  <a:lnTo>
                    <a:pt x="101" y="495"/>
                  </a:lnTo>
                  <a:lnTo>
                    <a:pt x="101" y="522"/>
                  </a:lnTo>
                  <a:lnTo>
                    <a:pt x="86" y="550"/>
                  </a:lnTo>
                  <a:lnTo>
                    <a:pt x="59" y="577"/>
                  </a:lnTo>
                  <a:lnTo>
                    <a:pt x="59" y="600"/>
                  </a:lnTo>
                  <a:lnTo>
                    <a:pt x="67" y="669"/>
                  </a:lnTo>
                  <a:lnTo>
                    <a:pt x="93" y="698"/>
                  </a:lnTo>
                  <a:lnTo>
                    <a:pt x="109" y="729"/>
                  </a:lnTo>
                  <a:lnTo>
                    <a:pt x="101" y="763"/>
                  </a:lnTo>
                  <a:lnTo>
                    <a:pt x="62" y="787"/>
                  </a:lnTo>
                  <a:lnTo>
                    <a:pt x="44" y="810"/>
                  </a:lnTo>
                  <a:lnTo>
                    <a:pt x="39" y="853"/>
                  </a:lnTo>
                  <a:lnTo>
                    <a:pt x="59" y="908"/>
                  </a:lnTo>
                  <a:lnTo>
                    <a:pt x="75" y="963"/>
                  </a:lnTo>
                  <a:lnTo>
                    <a:pt x="75" y="994"/>
                  </a:lnTo>
                  <a:lnTo>
                    <a:pt x="67" y="1036"/>
                  </a:lnTo>
                  <a:lnTo>
                    <a:pt x="44" y="1043"/>
                  </a:lnTo>
                  <a:lnTo>
                    <a:pt x="29" y="1075"/>
                  </a:lnTo>
                  <a:lnTo>
                    <a:pt x="29" y="1111"/>
                  </a:lnTo>
                  <a:lnTo>
                    <a:pt x="0" y="1121"/>
                  </a:lnTo>
                  <a:lnTo>
                    <a:pt x="13" y="1082"/>
                  </a:lnTo>
                  <a:lnTo>
                    <a:pt x="36" y="1036"/>
                  </a:lnTo>
                  <a:lnTo>
                    <a:pt x="44" y="1004"/>
                  </a:lnTo>
                  <a:lnTo>
                    <a:pt x="44" y="942"/>
                  </a:lnTo>
                  <a:lnTo>
                    <a:pt x="29" y="888"/>
                  </a:lnTo>
                  <a:lnTo>
                    <a:pt x="23" y="846"/>
                  </a:lnTo>
                  <a:lnTo>
                    <a:pt x="20" y="803"/>
                  </a:lnTo>
                  <a:lnTo>
                    <a:pt x="46" y="768"/>
                  </a:lnTo>
                  <a:lnTo>
                    <a:pt x="62" y="745"/>
                  </a:lnTo>
                  <a:lnTo>
                    <a:pt x="52" y="698"/>
                  </a:lnTo>
                  <a:lnTo>
                    <a:pt x="29" y="662"/>
                  </a:lnTo>
                  <a:lnTo>
                    <a:pt x="23" y="630"/>
                  </a:lnTo>
                  <a:lnTo>
                    <a:pt x="20" y="584"/>
                  </a:lnTo>
                  <a:lnTo>
                    <a:pt x="30" y="553"/>
                  </a:lnTo>
                  <a:lnTo>
                    <a:pt x="52" y="522"/>
                  </a:lnTo>
                  <a:lnTo>
                    <a:pt x="67" y="498"/>
                  </a:lnTo>
                  <a:lnTo>
                    <a:pt x="67" y="475"/>
                  </a:lnTo>
                  <a:lnTo>
                    <a:pt x="52" y="449"/>
                  </a:lnTo>
                  <a:lnTo>
                    <a:pt x="36" y="397"/>
                  </a:lnTo>
                  <a:lnTo>
                    <a:pt x="36" y="364"/>
                  </a:lnTo>
                  <a:lnTo>
                    <a:pt x="44" y="332"/>
                  </a:lnTo>
                  <a:lnTo>
                    <a:pt x="59" y="309"/>
                  </a:lnTo>
                  <a:lnTo>
                    <a:pt x="62" y="285"/>
                  </a:lnTo>
                  <a:lnTo>
                    <a:pt x="59" y="256"/>
                  </a:lnTo>
                  <a:lnTo>
                    <a:pt x="39" y="216"/>
                  </a:lnTo>
                  <a:lnTo>
                    <a:pt x="29" y="187"/>
                  </a:lnTo>
                  <a:lnTo>
                    <a:pt x="30" y="138"/>
                  </a:lnTo>
                  <a:lnTo>
                    <a:pt x="46" y="117"/>
                  </a:lnTo>
                  <a:lnTo>
                    <a:pt x="67" y="85"/>
                  </a:lnTo>
                  <a:lnTo>
                    <a:pt x="78" y="59"/>
                  </a:lnTo>
                  <a:lnTo>
                    <a:pt x="70" y="36"/>
                  </a:lnTo>
                  <a:lnTo>
                    <a:pt x="75" y="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30800" y="2041200"/>
              <a:ext cx="147240" cy="127080"/>
            </a:xfrm>
            <a:custGeom>
              <a:avLst/>
              <a:gdLst/>
              <a:ahLst/>
              <a:rect l="l" t="t" r="r" b="b"/>
              <a:pathLst>
                <a:path w="280" h="240">
                  <a:moveTo>
                    <a:pt x="280" y="194"/>
                  </a:moveTo>
                  <a:lnTo>
                    <a:pt x="195" y="124"/>
                  </a:lnTo>
                  <a:lnTo>
                    <a:pt x="124" y="6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140" y="101"/>
                  </a:lnTo>
                  <a:lnTo>
                    <a:pt x="206" y="162"/>
                  </a:lnTo>
                  <a:lnTo>
                    <a:pt x="264" y="240"/>
                  </a:lnTo>
                  <a:lnTo>
                    <a:pt x="28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9360" y="2114280"/>
              <a:ext cx="128160" cy="104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125"/>
                  </a:moveTo>
                  <a:lnTo>
                    <a:pt x="179" y="102"/>
                  </a:lnTo>
                  <a:lnTo>
                    <a:pt x="133" y="6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110" y="63"/>
                  </a:lnTo>
                  <a:lnTo>
                    <a:pt x="152" y="105"/>
                  </a:lnTo>
                  <a:lnTo>
                    <a:pt x="242" y="199"/>
                  </a:lnTo>
                  <a:lnTo>
                    <a:pt x="237" y="141"/>
                  </a:lnTo>
                  <a:lnTo>
                    <a:pt x="24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10280" y="2176200"/>
              <a:ext cx="150480" cy="1634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280" y="229"/>
                  </a:moveTo>
                  <a:lnTo>
                    <a:pt x="202" y="159"/>
                  </a:lnTo>
                  <a:lnTo>
                    <a:pt x="171" y="111"/>
                  </a:lnTo>
                  <a:lnTo>
                    <a:pt x="109" y="65"/>
                  </a:lnTo>
                  <a:lnTo>
                    <a:pt x="54" y="23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47" y="55"/>
                  </a:lnTo>
                  <a:lnTo>
                    <a:pt x="132" y="108"/>
                  </a:lnTo>
                  <a:lnTo>
                    <a:pt x="194" y="172"/>
                  </a:lnTo>
                  <a:lnTo>
                    <a:pt x="238" y="242"/>
                  </a:lnTo>
                  <a:lnTo>
                    <a:pt x="286" y="307"/>
                  </a:lnTo>
                  <a:lnTo>
                    <a:pt x="28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4320" y="2309400"/>
              <a:ext cx="117360" cy="95400"/>
            </a:xfrm>
            <a:custGeom>
              <a:avLst/>
              <a:gdLst/>
              <a:ahLst/>
              <a:rect l="l" t="t" r="r" b="b"/>
              <a:pathLst>
                <a:path w="222" h="180">
                  <a:moveTo>
                    <a:pt x="222" y="148"/>
                  </a:moveTo>
                  <a:lnTo>
                    <a:pt x="159" y="81"/>
                  </a:lnTo>
                  <a:lnTo>
                    <a:pt x="94" y="39"/>
                  </a:lnTo>
                  <a:lnTo>
                    <a:pt x="39" y="10"/>
                  </a:lnTo>
                  <a:lnTo>
                    <a:pt x="0" y="0"/>
                  </a:lnTo>
                  <a:lnTo>
                    <a:pt x="25" y="39"/>
                  </a:lnTo>
                  <a:lnTo>
                    <a:pt x="94" y="79"/>
                  </a:lnTo>
                  <a:lnTo>
                    <a:pt x="149" y="135"/>
                  </a:lnTo>
                  <a:lnTo>
                    <a:pt x="175" y="173"/>
                  </a:lnTo>
                  <a:lnTo>
                    <a:pt x="198" y="180"/>
                  </a:lnTo>
                  <a:lnTo>
                    <a:pt x="220" y="167"/>
                  </a:lnTo>
                  <a:lnTo>
                    <a:pt x="22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0280" y="2376360"/>
              <a:ext cx="129600" cy="117360"/>
            </a:xfrm>
            <a:custGeom>
              <a:avLst/>
              <a:gdLst/>
              <a:ahLst/>
              <a:rect l="l" t="t" r="r" b="b"/>
              <a:pathLst>
                <a:path w="245" h="223">
                  <a:moveTo>
                    <a:pt x="245" y="208"/>
                  </a:moveTo>
                  <a:lnTo>
                    <a:pt x="181" y="141"/>
                  </a:lnTo>
                  <a:lnTo>
                    <a:pt x="103" y="60"/>
                  </a:lnTo>
                  <a:lnTo>
                    <a:pt x="56" y="21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0" y="47"/>
                  </a:lnTo>
                  <a:lnTo>
                    <a:pt x="111" y="118"/>
                  </a:lnTo>
                  <a:lnTo>
                    <a:pt x="177" y="187"/>
                  </a:lnTo>
                  <a:lnTo>
                    <a:pt x="220" y="223"/>
                  </a:lnTo>
                  <a:lnTo>
                    <a:pt x="232" y="223"/>
                  </a:lnTo>
                  <a:lnTo>
                    <a:pt x="245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26120" y="2474640"/>
              <a:ext cx="90000" cy="93600"/>
            </a:xfrm>
            <a:custGeom>
              <a:avLst/>
              <a:gdLst/>
              <a:ahLst/>
              <a:rect l="l" t="t" r="r" b="b"/>
              <a:pathLst>
                <a:path w="172" h="177">
                  <a:moveTo>
                    <a:pt x="169" y="148"/>
                  </a:moveTo>
                  <a:lnTo>
                    <a:pt x="98" y="45"/>
                  </a:lnTo>
                  <a:lnTo>
                    <a:pt x="30" y="6"/>
                  </a:lnTo>
                  <a:lnTo>
                    <a:pt x="0" y="0"/>
                  </a:lnTo>
                  <a:lnTo>
                    <a:pt x="7" y="21"/>
                  </a:lnTo>
                  <a:lnTo>
                    <a:pt x="85" y="78"/>
                  </a:lnTo>
                  <a:lnTo>
                    <a:pt x="161" y="170"/>
                  </a:lnTo>
                  <a:lnTo>
                    <a:pt x="172" y="177"/>
                  </a:lnTo>
                  <a:lnTo>
                    <a:pt x="16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29360" y="2566800"/>
              <a:ext cx="61560" cy="6984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110" y="101"/>
                  </a:moveTo>
                  <a:lnTo>
                    <a:pt x="54" y="23"/>
                  </a:lnTo>
                  <a:lnTo>
                    <a:pt x="3" y="0"/>
                  </a:lnTo>
                  <a:lnTo>
                    <a:pt x="0" y="23"/>
                  </a:lnTo>
                  <a:lnTo>
                    <a:pt x="23" y="62"/>
                  </a:lnTo>
                  <a:lnTo>
                    <a:pt x="86" y="114"/>
                  </a:lnTo>
                  <a:lnTo>
                    <a:pt x="103" y="133"/>
                  </a:lnTo>
                  <a:lnTo>
                    <a:pt x="116" y="124"/>
                  </a:lnTo>
                  <a:lnTo>
                    <a:pt x="11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34040" y="2658960"/>
              <a:ext cx="77400" cy="79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148" y="151"/>
                  </a:moveTo>
                  <a:lnTo>
                    <a:pt x="128" y="127"/>
                  </a:lnTo>
                  <a:lnTo>
                    <a:pt x="86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3"/>
                  </a:lnTo>
                  <a:lnTo>
                    <a:pt x="57" y="85"/>
                  </a:lnTo>
                  <a:lnTo>
                    <a:pt x="103" y="148"/>
                  </a:lnTo>
                  <a:lnTo>
                    <a:pt x="14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40240" y="1995120"/>
              <a:ext cx="239400" cy="887400"/>
            </a:xfrm>
            <a:custGeom>
              <a:avLst/>
              <a:gdLst/>
              <a:ahLst/>
              <a:rect l="l" t="t" r="r" b="b"/>
              <a:pathLst>
                <a:path w="452" h="1676">
                  <a:moveTo>
                    <a:pt x="81" y="158"/>
                  </a:moveTo>
                  <a:lnTo>
                    <a:pt x="65" y="204"/>
                  </a:lnTo>
                  <a:lnTo>
                    <a:pt x="78" y="250"/>
                  </a:lnTo>
                  <a:lnTo>
                    <a:pt x="81" y="297"/>
                  </a:lnTo>
                  <a:lnTo>
                    <a:pt x="65" y="326"/>
                  </a:lnTo>
                  <a:lnTo>
                    <a:pt x="42" y="359"/>
                  </a:lnTo>
                  <a:lnTo>
                    <a:pt x="32" y="411"/>
                  </a:lnTo>
                  <a:lnTo>
                    <a:pt x="46" y="446"/>
                  </a:lnTo>
                  <a:lnTo>
                    <a:pt x="69" y="484"/>
                  </a:lnTo>
                  <a:lnTo>
                    <a:pt x="69" y="516"/>
                  </a:lnTo>
                  <a:lnTo>
                    <a:pt x="55" y="546"/>
                  </a:lnTo>
                  <a:lnTo>
                    <a:pt x="33" y="585"/>
                  </a:lnTo>
                  <a:lnTo>
                    <a:pt x="42" y="624"/>
                  </a:lnTo>
                  <a:lnTo>
                    <a:pt x="72" y="707"/>
                  </a:lnTo>
                  <a:lnTo>
                    <a:pt x="69" y="742"/>
                  </a:lnTo>
                  <a:lnTo>
                    <a:pt x="26" y="808"/>
                  </a:lnTo>
                  <a:lnTo>
                    <a:pt x="26" y="866"/>
                  </a:lnTo>
                  <a:lnTo>
                    <a:pt x="49" y="910"/>
                  </a:lnTo>
                  <a:lnTo>
                    <a:pt x="65" y="949"/>
                  </a:lnTo>
                  <a:lnTo>
                    <a:pt x="62" y="982"/>
                  </a:lnTo>
                  <a:lnTo>
                    <a:pt x="23" y="1018"/>
                  </a:lnTo>
                  <a:lnTo>
                    <a:pt x="16" y="1044"/>
                  </a:lnTo>
                  <a:lnTo>
                    <a:pt x="23" y="1107"/>
                  </a:lnTo>
                  <a:lnTo>
                    <a:pt x="42" y="1175"/>
                  </a:lnTo>
                  <a:lnTo>
                    <a:pt x="42" y="1214"/>
                  </a:lnTo>
                  <a:lnTo>
                    <a:pt x="39" y="1244"/>
                  </a:lnTo>
                  <a:lnTo>
                    <a:pt x="10" y="1291"/>
                  </a:lnTo>
                  <a:lnTo>
                    <a:pt x="0" y="1330"/>
                  </a:lnTo>
                  <a:lnTo>
                    <a:pt x="3" y="1372"/>
                  </a:lnTo>
                  <a:lnTo>
                    <a:pt x="23" y="1402"/>
                  </a:lnTo>
                  <a:lnTo>
                    <a:pt x="46" y="1431"/>
                  </a:lnTo>
                  <a:lnTo>
                    <a:pt x="26" y="1470"/>
                  </a:lnTo>
                  <a:lnTo>
                    <a:pt x="16" y="1509"/>
                  </a:lnTo>
                  <a:lnTo>
                    <a:pt x="33" y="1540"/>
                  </a:lnTo>
                  <a:lnTo>
                    <a:pt x="62" y="1563"/>
                  </a:lnTo>
                  <a:lnTo>
                    <a:pt x="65" y="1602"/>
                  </a:lnTo>
                  <a:lnTo>
                    <a:pt x="65" y="1634"/>
                  </a:lnTo>
                  <a:lnTo>
                    <a:pt x="69" y="1676"/>
                  </a:lnTo>
                  <a:lnTo>
                    <a:pt x="118" y="1641"/>
                  </a:lnTo>
                  <a:lnTo>
                    <a:pt x="171" y="1614"/>
                  </a:lnTo>
                  <a:lnTo>
                    <a:pt x="218" y="1598"/>
                  </a:lnTo>
                  <a:lnTo>
                    <a:pt x="291" y="1598"/>
                  </a:lnTo>
                  <a:lnTo>
                    <a:pt x="343" y="1589"/>
                  </a:lnTo>
                  <a:lnTo>
                    <a:pt x="373" y="1563"/>
                  </a:lnTo>
                  <a:lnTo>
                    <a:pt x="429" y="1548"/>
                  </a:lnTo>
                  <a:lnTo>
                    <a:pt x="400" y="1517"/>
                  </a:lnTo>
                  <a:lnTo>
                    <a:pt x="389" y="1473"/>
                  </a:lnTo>
                  <a:lnTo>
                    <a:pt x="408" y="1424"/>
                  </a:lnTo>
                  <a:lnTo>
                    <a:pt x="405" y="1353"/>
                  </a:lnTo>
                  <a:lnTo>
                    <a:pt x="389" y="1302"/>
                  </a:lnTo>
                  <a:lnTo>
                    <a:pt x="373" y="1276"/>
                  </a:lnTo>
                  <a:lnTo>
                    <a:pt x="369" y="1237"/>
                  </a:lnTo>
                  <a:lnTo>
                    <a:pt x="389" y="1191"/>
                  </a:lnTo>
                  <a:lnTo>
                    <a:pt x="382" y="1159"/>
                  </a:lnTo>
                  <a:lnTo>
                    <a:pt x="343" y="1104"/>
                  </a:lnTo>
                  <a:lnTo>
                    <a:pt x="344" y="1073"/>
                  </a:lnTo>
                  <a:lnTo>
                    <a:pt x="360" y="1044"/>
                  </a:lnTo>
                  <a:lnTo>
                    <a:pt x="397" y="1005"/>
                  </a:lnTo>
                  <a:lnTo>
                    <a:pt x="384" y="975"/>
                  </a:lnTo>
                  <a:lnTo>
                    <a:pt x="358" y="910"/>
                  </a:lnTo>
                  <a:lnTo>
                    <a:pt x="337" y="866"/>
                  </a:lnTo>
                  <a:lnTo>
                    <a:pt x="337" y="818"/>
                  </a:lnTo>
                  <a:lnTo>
                    <a:pt x="408" y="794"/>
                  </a:lnTo>
                  <a:lnTo>
                    <a:pt x="415" y="749"/>
                  </a:lnTo>
                  <a:lnTo>
                    <a:pt x="408" y="723"/>
                  </a:lnTo>
                  <a:lnTo>
                    <a:pt x="389" y="700"/>
                  </a:lnTo>
                  <a:lnTo>
                    <a:pt x="392" y="660"/>
                  </a:lnTo>
                  <a:lnTo>
                    <a:pt x="389" y="614"/>
                  </a:lnTo>
                  <a:lnTo>
                    <a:pt x="369" y="591"/>
                  </a:lnTo>
                  <a:lnTo>
                    <a:pt x="353" y="559"/>
                  </a:lnTo>
                  <a:lnTo>
                    <a:pt x="366" y="529"/>
                  </a:lnTo>
                  <a:lnTo>
                    <a:pt x="382" y="492"/>
                  </a:lnTo>
                  <a:lnTo>
                    <a:pt x="382" y="469"/>
                  </a:lnTo>
                  <a:lnTo>
                    <a:pt x="358" y="437"/>
                  </a:lnTo>
                  <a:lnTo>
                    <a:pt x="350" y="411"/>
                  </a:lnTo>
                  <a:lnTo>
                    <a:pt x="358" y="391"/>
                  </a:lnTo>
                  <a:lnTo>
                    <a:pt x="382" y="375"/>
                  </a:lnTo>
                  <a:lnTo>
                    <a:pt x="384" y="349"/>
                  </a:lnTo>
                  <a:lnTo>
                    <a:pt x="376" y="334"/>
                  </a:lnTo>
                  <a:lnTo>
                    <a:pt x="350" y="295"/>
                  </a:lnTo>
                  <a:lnTo>
                    <a:pt x="343" y="250"/>
                  </a:lnTo>
                  <a:lnTo>
                    <a:pt x="344" y="217"/>
                  </a:lnTo>
                  <a:lnTo>
                    <a:pt x="369" y="185"/>
                  </a:lnTo>
                  <a:lnTo>
                    <a:pt x="431" y="119"/>
                  </a:lnTo>
                  <a:lnTo>
                    <a:pt x="452" y="61"/>
                  </a:lnTo>
                  <a:lnTo>
                    <a:pt x="452" y="14"/>
                  </a:lnTo>
                  <a:lnTo>
                    <a:pt x="431" y="0"/>
                  </a:lnTo>
                  <a:lnTo>
                    <a:pt x="400" y="14"/>
                  </a:lnTo>
                  <a:lnTo>
                    <a:pt x="321" y="64"/>
                  </a:lnTo>
                  <a:lnTo>
                    <a:pt x="249" y="95"/>
                  </a:lnTo>
                  <a:lnTo>
                    <a:pt x="174" y="126"/>
                  </a:lnTo>
                  <a:lnTo>
                    <a:pt x="124" y="142"/>
                  </a:lnTo>
                  <a:lnTo>
                    <a:pt x="81" y="1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560" y="1987200"/>
              <a:ext cx="426960" cy="908280"/>
            </a:xfrm>
            <a:custGeom>
              <a:avLst/>
              <a:gdLst/>
              <a:ahLst/>
              <a:rect l="l" t="t" r="r" b="b"/>
              <a:pathLst>
                <a:path w="808" h="1716">
                  <a:moveTo>
                    <a:pt x="687" y="1552"/>
                  </a:moveTo>
                  <a:lnTo>
                    <a:pt x="652" y="1591"/>
                  </a:lnTo>
                  <a:lnTo>
                    <a:pt x="598" y="1604"/>
                  </a:lnTo>
                  <a:lnTo>
                    <a:pt x="527" y="1611"/>
                  </a:lnTo>
                  <a:lnTo>
                    <a:pt x="452" y="1627"/>
                  </a:lnTo>
                  <a:lnTo>
                    <a:pt x="403" y="1658"/>
                  </a:lnTo>
                  <a:lnTo>
                    <a:pt x="387" y="1674"/>
                  </a:lnTo>
                  <a:lnTo>
                    <a:pt x="371" y="1666"/>
                  </a:lnTo>
                  <a:lnTo>
                    <a:pt x="281" y="1598"/>
                  </a:lnTo>
                  <a:lnTo>
                    <a:pt x="164" y="1505"/>
                  </a:lnTo>
                  <a:lnTo>
                    <a:pt x="124" y="1448"/>
                  </a:lnTo>
                  <a:lnTo>
                    <a:pt x="65" y="1388"/>
                  </a:lnTo>
                  <a:lnTo>
                    <a:pt x="46" y="1342"/>
                  </a:lnTo>
                  <a:lnTo>
                    <a:pt x="0" y="1335"/>
                  </a:lnTo>
                  <a:lnTo>
                    <a:pt x="23" y="1385"/>
                  </a:lnTo>
                  <a:lnTo>
                    <a:pt x="49" y="1435"/>
                  </a:lnTo>
                  <a:lnTo>
                    <a:pt x="124" y="1490"/>
                  </a:lnTo>
                  <a:lnTo>
                    <a:pt x="177" y="1558"/>
                  </a:lnTo>
                  <a:lnTo>
                    <a:pt x="304" y="1637"/>
                  </a:lnTo>
                  <a:lnTo>
                    <a:pt x="382" y="1716"/>
                  </a:lnTo>
                  <a:lnTo>
                    <a:pt x="413" y="1708"/>
                  </a:lnTo>
                  <a:lnTo>
                    <a:pt x="445" y="1669"/>
                  </a:lnTo>
                  <a:lnTo>
                    <a:pt x="488" y="1646"/>
                  </a:lnTo>
                  <a:lnTo>
                    <a:pt x="543" y="1630"/>
                  </a:lnTo>
                  <a:lnTo>
                    <a:pt x="660" y="1620"/>
                  </a:lnTo>
                  <a:lnTo>
                    <a:pt x="694" y="1598"/>
                  </a:lnTo>
                  <a:lnTo>
                    <a:pt x="753" y="1584"/>
                  </a:lnTo>
                  <a:lnTo>
                    <a:pt x="763" y="1558"/>
                  </a:lnTo>
                  <a:lnTo>
                    <a:pt x="746" y="1526"/>
                  </a:lnTo>
                  <a:lnTo>
                    <a:pt x="724" y="1495"/>
                  </a:lnTo>
                  <a:lnTo>
                    <a:pt x="737" y="1456"/>
                  </a:lnTo>
                  <a:lnTo>
                    <a:pt x="753" y="1435"/>
                  </a:lnTo>
                  <a:lnTo>
                    <a:pt x="753" y="1401"/>
                  </a:lnTo>
                  <a:lnTo>
                    <a:pt x="737" y="1349"/>
                  </a:lnTo>
                  <a:lnTo>
                    <a:pt x="730" y="1323"/>
                  </a:lnTo>
                  <a:lnTo>
                    <a:pt x="710" y="1300"/>
                  </a:lnTo>
                  <a:lnTo>
                    <a:pt x="700" y="1272"/>
                  </a:lnTo>
                  <a:lnTo>
                    <a:pt x="710" y="1246"/>
                  </a:lnTo>
                  <a:lnTo>
                    <a:pt x="733" y="1224"/>
                  </a:lnTo>
                  <a:lnTo>
                    <a:pt x="730" y="1191"/>
                  </a:lnTo>
                  <a:lnTo>
                    <a:pt x="717" y="1168"/>
                  </a:lnTo>
                  <a:lnTo>
                    <a:pt x="691" y="1132"/>
                  </a:lnTo>
                  <a:lnTo>
                    <a:pt x="675" y="1113"/>
                  </a:lnTo>
                  <a:lnTo>
                    <a:pt x="684" y="1085"/>
                  </a:lnTo>
                  <a:lnTo>
                    <a:pt x="723" y="1062"/>
                  </a:lnTo>
                  <a:lnTo>
                    <a:pt x="737" y="1030"/>
                  </a:lnTo>
                  <a:lnTo>
                    <a:pt x="733" y="1004"/>
                  </a:lnTo>
                  <a:lnTo>
                    <a:pt x="707" y="961"/>
                  </a:lnTo>
                  <a:lnTo>
                    <a:pt x="678" y="906"/>
                  </a:lnTo>
                  <a:lnTo>
                    <a:pt x="668" y="867"/>
                  </a:lnTo>
                  <a:lnTo>
                    <a:pt x="684" y="851"/>
                  </a:lnTo>
                  <a:lnTo>
                    <a:pt x="724" y="836"/>
                  </a:lnTo>
                  <a:lnTo>
                    <a:pt x="749" y="820"/>
                  </a:lnTo>
                  <a:lnTo>
                    <a:pt x="753" y="771"/>
                  </a:lnTo>
                  <a:lnTo>
                    <a:pt x="724" y="716"/>
                  </a:lnTo>
                  <a:lnTo>
                    <a:pt x="730" y="680"/>
                  </a:lnTo>
                  <a:lnTo>
                    <a:pt x="740" y="646"/>
                  </a:lnTo>
                  <a:lnTo>
                    <a:pt x="714" y="607"/>
                  </a:lnTo>
                  <a:lnTo>
                    <a:pt x="691" y="571"/>
                  </a:lnTo>
                  <a:lnTo>
                    <a:pt x="700" y="548"/>
                  </a:lnTo>
                  <a:lnTo>
                    <a:pt x="714" y="525"/>
                  </a:lnTo>
                  <a:lnTo>
                    <a:pt x="714" y="486"/>
                  </a:lnTo>
                  <a:lnTo>
                    <a:pt x="700" y="462"/>
                  </a:lnTo>
                  <a:lnTo>
                    <a:pt x="684" y="444"/>
                  </a:lnTo>
                  <a:lnTo>
                    <a:pt x="687" y="415"/>
                  </a:lnTo>
                  <a:lnTo>
                    <a:pt x="714" y="400"/>
                  </a:lnTo>
                  <a:lnTo>
                    <a:pt x="730" y="384"/>
                  </a:lnTo>
                  <a:lnTo>
                    <a:pt x="723" y="354"/>
                  </a:lnTo>
                  <a:lnTo>
                    <a:pt x="691" y="315"/>
                  </a:lnTo>
                  <a:lnTo>
                    <a:pt x="678" y="280"/>
                  </a:lnTo>
                  <a:lnTo>
                    <a:pt x="675" y="241"/>
                  </a:lnTo>
                  <a:lnTo>
                    <a:pt x="701" y="203"/>
                  </a:lnTo>
                  <a:lnTo>
                    <a:pt x="756" y="142"/>
                  </a:lnTo>
                  <a:lnTo>
                    <a:pt x="785" y="96"/>
                  </a:lnTo>
                  <a:lnTo>
                    <a:pt x="808" y="57"/>
                  </a:lnTo>
                  <a:lnTo>
                    <a:pt x="801" y="18"/>
                  </a:lnTo>
                  <a:lnTo>
                    <a:pt x="779" y="0"/>
                  </a:lnTo>
                  <a:lnTo>
                    <a:pt x="763" y="3"/>
                  </a:lnTo>
                  <a:lnTo>
                    <a:pt x="737" y="34"/>
                  </a:lnTo>
                  <a:lnTo>
                    <a:pt x="756" y="57"/>
                  </a:lnTo>
                  <a:lnTo>
                    <a:pt x="753" y="96"/>
                  </a:lnTo>
                  <a:lnTo>
                    <a:pt x="717" y="164"/>
                  </a:lnTo>
                  <a:lnTo>
                    <a:pt x="671" y="203"/>
                  </a:lnTo>
                  <a:lnTo>
                    <a:pt x="655" y="226"/>
                  </a:lnTo>
                  <a:lnTo>
                    <a:pt x="645" y="257"/>
                  </a:lnTo>
                  <a:lnTo>
                    <a:pt x="639" y="276"/>
                  </a:lnTo>
                  <a:lnTo>
                    <a:pt x="569" y="329"/>
                  </a:lnTo>
                  <a:lnTo>
                    <a:pt x="507" y="365"/>
                  </a:lnTo>
                  <a:lnTo>
                    <a:pt x="498" y="391"/>
                  </a:lnTo>
                  <a:lnTo>
                    <a:pt x="520" y="397"/>
                  </a:lnTo>
                  <a:lnTo>
                    <a:pt x="613" y="329"/>
                  </a:lnTo>
                  <a:lnTo>
                    <a:pt x="660" y="315"/>
                  </a:lnTo>
                  <a:lnTo>
                    <a:pt x="684" y="358"/>
                  </a:lnTo>
                  <a:lnTo>
                    <a:pt x="691" y="377"/>
                  </a:lnTo>
                  <a:lnTo>
                    <a:pt x="668" y="397"/>
                  </a:lnTo>
                  <a:lnTo>
                    <a:pt x="647" y="413"/>
                  </a:lnTo>
                  <a:lnTo>
                    <a:pt x="645" y="439"/>
                  </a:lnTo>
                  <a:lnTo>
                    <a:pt x="652" y="467"/>
                  </a:lnTo>
                  <a:lnTo>
                    <a:pt x="631" y="490"/>
                  </a:lnTo>
                  <a:lnTo>
                    <a:pt x="574" y="516"/>
                  </a:lnTo>
                  <a:lnTo>
                    <a:pt x="488" y="552"/>
                  </a:lnTo>
                  <a:lnTo>
                    <a:pt x="520" y="564"/>
                  </a:lnTo>
                  <a:lnTo>
                    <a:pt x="608" y="529"/>
                  </a:lnTo>
                  <a:lnTo>
                    <a:pt x="678" y="493"/>
                  </a:lnTo>
                  <a:lnTo>
                    <a:pt x="691" y="502"/>
                  </a:lnTo>
                  <a:lnTo>
                    <a:pt x="684" y="525"/>
                  </a:lnTo>
                  <a:lnTo>
                    <a:pt x="660" y="548"/>
                  </a:lnTo>
                  <a:lnTo>
                    <a:pt x="652" y="571"/>
                  </a:lnTo>
                  <a:lnTo>
                    <a:pt x="662" y="602"/>
                  </a:lnTo>
                  <a:lnTo>
                    <a:pt x="691" y="626"/>
                  </a:lnTo>
                  <a:lnTo>
                    <a:pt x="691" y="646"/>
                  </a:lnTo>
                  <a:lnTo>
                    <a:pt x="645" y="657"/>
                  </a:lnTo>
                  <a:lnTo>
                    <a:pt x="605" y="709"/>
                  </a:lnTo>
                  <a:lnTo>
                    <a:pt x="559" y="739"/>
                  </a:lnTo>
                  <a:lnTo>
                    <a:pt x="497" y="755"/>
                  </a:lnTo>
                  <a:lnTo>
                    <a:pt x="491" y="771"/>
                  </a:lnTo>
                  <a:lnTo>
                    <a:pt x="530" y="765"/>
                  </a:lnTo>
                  <a:lnTo>
                    <a:pt x="613" y="739"/>
                  </a:lnTo>
                  <a:lnTo>
                    <a:pt x="645" y="716"/>
                  </a:lnTo>
                  <a:lnTo>
                    <a:pt x="662" y="693"/>
                  </a:lnTo>
                  <a:lnTo>
                    <a:pt x="691" y="688"/>
                  </a:lnTo>
                  <a:lnTo>
                    <a:pt x="691" y="716"/>
                  </a:lnTo>
                  <a:lnTo>
                    <a:pt x="710" y="742"/>
                  </a:lnTo>
                  <a:lnTo>
                    <a:pt x="724" y="771"/>
                  </a:lnTo>
                  <a:lnTo>
                    <a:pt x="714" y="794"/>
                  </a:lnTo>
                  <a:lnTo>
                    <a:pt x="678" y="810"/>
                  </a:lnTo>
                  <a:lnTo>
                    <a:pt x="645" y="820"/>
                  </a:lnTo>
                  <a:lnTo>
                    <a:pt x="621" y="843"/>
                  </a:lnTo>
                  <a:lnTo>
                    <a:pt x="514" y="875"/>
                  </a:lnTo>
                  <a:lnTo>
                    <a:pt x="436" y="903"/>
                  </a:lnTo>
                  <a:lnTo>
                    <a:pt x="405" y="919"/>
                  </a:lnTo>
                  <a:lnTo>
                    <a:pt x="429" y="938"/>
                  </a:lnTo>
                  <a:lnTo>
                    <a:pt x="475" y="926"/>
                  </a:lnTo>
                  <a:lnTo>
                    <a:pt x="569" y="890"/>
                  </a:lnTo>
                  <a:lnTo>
                    <a:pt x="631" y="872"/>
                  </a:lnTo>
                  <a:lnTo>
                    <a:pt x="647" y="898"/>
                  </a:lnTo>
                  <a:lnTo>
                    <a:pt x="662" y="945"/>
                  </a:lnTo>
                  <a:lnTo>
                    <a:pt x="691" y="984"/>
                  </a:lnTo>
                  <a:lnTo>
                    <a:pt x="694" y="1014"/>
                  </a:lnTo>
                  <a:lnTo>
                    <a:pt x="691" y="1043"/>
                  </a:lnTo>
                  <a:lnTo>
                    <a:pt x="660" y="1054"/>
                  </a:lnTo>
                  <a:lnTo>
                    <a:pt x="605" y="1067"/>
                  </a:lnTo>
                  <a:lnTo>
                    <a:pt x="536" y="1098"/>
                  </a:lnTo>
                  <a:lnTo>
                    <a:pt x="434" y="1113"/>
                  </a:lnTo>
                  <a:lnTo>
                    <a:pt x="395" y="1132"/>
                  </a:lnTo>
                  <a:lnTo>
                    <a:pt x="421" y="1145"/>
                  </a:lnTo>
                  <a:lnTo>
                    <a:pt x="511" y="1132"/>
                  </a:lnTo>
                  <a:lnTo>
                    <a:pt x="574" y="1109"/>
                  </a:lnTo>
                  <a:lnTo>
                    <a:pt x="616" y="1093"/>
                  </a:lnTo>
                  <a:lnTo>
                    <a:pt x="652" y="1085"/>
                  </a:lnTo>
                  <a:lnTo>
                    <a:pt x="647" y="1113"/>
                  </a:lnTo>
                  <a:lnTo>
                    <a:pt x="662" y="1152"/>
                  </a:lnTo>
                  <a:lnTo>
                    <a:pt x="687" y="1175"/>
                  </a:lnTo>
                  <a:lnTo>
                    <a:pt x="691" y="1201"/>
                  </a:lnTo>
                  <a:lnTo>
                    <a:pt x="691" y="1224"/>
                  </a:lnTo>
                  <a:lnTo>
                    <a:pt x="660" y="1237"/>
                  </a:lnTo>
                  <a:lnTo>
                    <a:pt x="600" y="1240"/>
                  </a:lnTo>
                  <a:lnTo>
                    <a:pt x="559" y="1253"/>
                  </a:lnTo>
                  <a:lnTo>
                    <a:pt x="465" y="1285"/>
                  </a:lnTo>
                  <a:lnTo>
                    <a:pt x="413" y="1287"/>
                  </a:lnTo>
                  <a:lnTo>
                    <a:pt x="395" y="1310"/>
                  </a:lnTo>
                  <a:lnTo>
                    <a:pt x="419" y="1319"/>
                  </a:lnTo>
                  <a:lnTo>
                    <a:pt x="465" y="1308"/>
                  </a:lnTo>
                  <a:lnTo>
                    <a:pt x="536" y="1287"/>
                  </a:lnTo>
                  <a:lnTo>
                    <a:pt x="574" y="1272"/>
                  </a:lnTo>
                  <a:lnTo>
                    <a:pt x="624" y="1261"/>
                  </a:lnTo>
                  <a:lnTo>
                    <a:pt x="662" y="1264"/>
                  </a:lnTo>
                  <a:lnTo>
                    <a:pt x="675" y="1264"/>
                  </a:lnTo>
                  <a:lnTo>
                    <a:pt x="675" y="1300"/>
                  </a:lnTo>
                  <a:lnTo>
                    <a:pt x="687" y="1319"/>
                  </a:lnTo>
                  <a:lnTo>
                    <a:pt x="616" y="1335"/>
                  </a:lnTo>
                  <a:lnTo>
                    <a:pt x="553" y="1381"/>
                  </a:lnTo>
                  <a:lnTo>
                    <a:pt x="484" y="1404"/>
                  </a:lnTo>
                  <a:lnTo>
                    <a:pt x="436" y="1411"/>
                  </a:lnTo>
                  <a:lnTo>
                    <a:pt x="397" y="1433"/>
                  </a:lnTo>
                  <a:lnTo>
                    <a:pt x="413" y="1448"/>
                  </a:lnTo>
                  <a:lnTo>
                    <a:pt x="452" y="1435"/>
                  </a:lnTo>
                  <a:lnTo>
                    <a:pt x="497" y="1420"/>
                  </a:lnTo>
                  <a:lnTo>
                    <a:pt x="546" y="1411"/>
                  </a:lnTo>
                  <a:lnTo>
                    <a:pt x="589" y="1385"/>
                  </a:lnTo>
                  <a:lnTo>
                    <a:pt x="613" y="1362"/>
                  </a:lnTo>
                  <a:lnTo>
                    <a:pt x="645" y="1358"/>
                  </a:lnTo>
                  <a:lnTo>
                    <a:pt x="684" y="1358"/>
                  </a:lnTo>
                  <a:lnTo>
                    <a:pt x="694" y="1362"/>
                  </a:lnTo>
                  <a:lnTo>
                    <a:pt x="707" y="1388"/>
                  </a:lnTo>
                  <a:lnTo>
                    <a:pt x="714" y="1420"/>
                  </a:lnTo>
                  <a:lnTo>
                    <a:pt x="707" y="1448"/>
                  </a:lnTo>
                  <a:lnTo>
                    <a:pt x="691" y="1463"/>
                  </a:lnTo>
                  <a:lnTo>
                    <a:pt x="678" y="1503"/>
                  </a:lnTo>
                  <a:lnTo>
                    <a:pt x="691" y="1519"/>
                  </a:lnTo>
                  <a:lnTo>
                    <a:pt x="707" y="1534"/>
                  </a:lnTo>
                  <a:lnTo>
                    <a:pt x="707" y="1549"/>
                  </a:lnTo>
                  <a:lnTo>
                    <a:pt x="687" y="1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99280" y="2766600"/>
              <a:ext cx="123480" cy="41400"/>
            </a:xfrm>
            <a:custGeom>
              <a:avLst/>
              <a:gdLst/>
              <a:ahLst/>
              <a:rect l="l" t="t" r="r" b="b"/>
              <a:pathLst>
                <a:path w="233" h="77">
                  <a:moveTo>
                    <a:pt x="0" y="62"/>
                  </a:moveTo>
                  <a:lnTo>
                    <a:pt x="93" y="60"/>
                  </a:lnTo>
                  <a:lnTo>
                    <a:pt x="129" y="39"/>
                  </a:lnTo>
                  <a:lnTo>
                    <a:pt x="160" y="16"/>
                  </a:lnTo>
                  <a:lnTo>
                    <a:pt x="218" y="0"/>
                  </a:lnTo>
                  <a:lnTo>
                    <a:pt x="233" y="16"/>
                  </a:lnTo>
                  <a:lnTo>
                    <a:pt x="209" y="23"/>
                  </a:lnTo>
                  <a:lnTo>
                    <a:pt x="168" y="45"/>
                  </a:lnTo>
                  <a:lnTo>
                    <a:pt x="147" y="60"/>
                  </a:lnTo>
                  <a:lnTo>
                    <a:pt x="109" y="70"/>
                  </a:lnTo>
                  <a:lnTo>
                    <a:pt x="51" y="76"/>
                  </a:lnTo>
                  <a:lnTo>
                    <a:pt x="5" y="7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10280" y="1879200"/>
              <a:ext cx="358200" cy="195480"/>
            </a:xfrm>
            <a:custGeom>
              <a:avLst/>
              <a:gdLst/>
              <a:ahLst/>
              <a:rect l="l" t="t" r="r" b="b"/>
              <a:pathLst>
                <a:path w="678" h="368">
                  <a:moveTo>
                    <a:pt x="20" y="42"/>
                  </a:moveTo>
                  <a:lnTo>
                    <a:pt x="101" y="46"/>
                  </a:lnTo>
                  <a:lnTo>
                    <a:pt x="187" y="49"/>
                  </a:lnTo>
                  <a:lnTo>
                    <a:pt x="242" y="49"/>
                  </a:lnTo>
                  <a:lnTo>
                    <a:pt x="285" y="39"/>
                  </a:lnTo>
                  <a:lnTo>
                    <a:pt x="356" y="19"/>
                  </a:lnTo>
                  <a:lnTo>
                    <a:pt x="390" y="0"/>
                  </a:lnTo>
                  <a:lnTo>
                    <a:pt x="436" y="26"/>
                  </a:lnTo>
                  <a:lnTo>
                    <a:pt x="511" y="78"/>
                  </a:lnTo>
                  <a:lnTo>
                    <a:pt x="566" y="116"/>
                  </a:lnTo>
                  <a:lnTo>
                    <a:pt x="636" y="165"/>
                  </a:lnTo>
                  <a:lnTo>
                    <a:pt x="678" y="203"/>
                  </a:lnTo>
                  <a:lnTo>
                    <a:pt x="639" y="236"/>
                  </a:lnTo>
                  <a:lnTo>
                    <a:pt x="600" y="272"/>
                  </a:lnTo>
                  <a:lnTo>
                    <a:pt x="537" y="298"/>
                  </a:lnTo>
                  <a:lnTo>
                    <a:pt x="472" y="326"/>
                  </a:lnTo>
                  <a:lnTo>
                    <a:pt x="413" y="349"/>
                  </a:lnTo>
                  <a:lnTo>
                    <a:pt x="358" y="358"/>
                  </a:lnTo>
                  <a:lnTo>
                    <a:pt x="301" y="368"/>
                  </a:lnTo>
                  <a:lnTo>
                    <a:pt x="230" y="319"/>
                  </a:lnTo>
                  <a:lnTo>
                    <a:pt x="177" y="275"/>
                  </a:lnTo>
                  <a:lnTo>
                    <a:pt x="114" y="220"/>
                  </a:lnTo>
                  <a:lnTo>
                    <a:pt x="62" y="165"/>
                  </a:lnTo>
                  <a:lnTo>
                    <a:pt x="23" y="128"/>
                  </a:lnTo>
                  <a:lnTo>
                    <a:pt x="0" y="72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00560" y="1873080"/>
              <a:ext cx="387000" cy="226800"/>
            </a:xfrm>
            <a:custGeom>
              <a:avLst/>
              <a:gdLst/>
              <a:ahLst/>
              <a:rect l="l" t="t" r="r" b="b"/>
              <a:pathLst>
                <a:path w="732" h="429">
                  <a:moveTo>
                    <a:pt x="358" y="367"/>
                  </a:moveTo>
                  <a:lnTo>
                    <a:pt x="474" y="335"/>
                  </a:lnTo>
                  <a:lnTo>
                    <a:pt x="568" y="295"/>
                  </a:lnTo>
                  <a:lnTo>
                    <a:pt x="635" y="247"/>
                  </a:lnTo>
                  <a:lnTo>
                    <a:pt x="661" y="219"/>
                  </a:lnTo>
                  <a:lnTo>
                    <a:pt x="565" y="131"/>
                  </a:lnTo>
                  <a:lnTo>
                    <a:pt x="487" y="83"/>
                  </a:lnTo>
                  <a:lnTo>
                    <a:pt x="412" y="37"/>
                  </a:lnTo>
                  <a:lnTo>
                    <a:pt x="396" y="37"/>
                  </a:lnTo>
                  <a:lnTo>
                    <a:pt x="350" y="53"/>
                  </a:lnTo>
                  <a:lnTo>
                    <a:pt x="287" y="70"/>
                  </a:lnTo>
                  <a:lnTo>
                    <a:pt x="176" y="79"/>
                  </a:lnTo>
                  <a:lnTo>
                    <a:pt x="67" y="76"/>
                  </a:lnTo>
                  <a:lnTo>
                    <a:pt x="38" y="79"/>
                  </a:lnTo>
                  <a:lnTo>
                    <a:pt x="38" y="99"/>
                  </a:lnTo>
                  <a:lnTo>
                    <a:pt x="61" y="131"/>
                  </a:lnTo>
                  <a:lnTo>
                    <a:pt x="106" y="187"/>
                  </a:lnTo>
                  <a:lnTo>
                    <a:pt x="163" y="234"/>
                  </a:lnTo>
                  <a:lnTo>
                    <a:pt x="234" y="302"/>
                  </a:lnTo>
                  <a:lnTo>
                    <a:pt x="300" y="351"/>
                  </a:lnTo>
                  <a:lnTo>
                    <a:pt x="342" y="380"/>
                  </a:lnTo>
                  <a:lnTo>
                    <a:pt x="355" y="410"/>
                  </a:lnTo>
                  <a:lnTo>
                    <a:pt x="339" y="429"/>
                  </a:lnTo>
                  <a:lnTo>
                    <a:pt x="316" y="419"/>
                  </a:lnTo>
                  <a:lnTo>
                    <a:pt x="248" y="357"/>
                  </a:lnTo>
                  <a:lnTo>
                    <a:pt x="163" y="286"/>
                  </a:lnTo>
                  <a:lnTo>
                    <a:pt x="100" y="234"/>
                  </a:lnTo>
                  <a:lnTo>
                    <a:pt x="60" y="187"/>
                  </a:lnTo>
                  <a:lnTo>
                    <a:pt x="24" y="138"/>
                  </a:lnTo>
                  <a:lnTo>
                    <a:pt x="8" y="106"/>
                  </a:lnTo>
                  <a:lnTo>
                    <a:pt x="0" y="70"/>
                  </a:lnTo>
                  <a:lnTo>
                    <a:pt x="11" y="47"/>
                  </a:lnTo>
                  <a:lnTo>
                    <a:pt x="37" y="37"/>
                  </a:lnTo>
                  <a:lnTo>
                    <a:pt x="83" y="40"/>
                  </a:lnTo>
                  <a:lnTo>
                    <a:pt x="171" y="53"/>
                  </a:lnTo>
                  <a:lnTo>
                    <a:pt x="247" y="53"/>
                  </a:lnTo>
                  <a:lnTo>
                    <a:pt x="300" y="37"/>
                  </a:lnTo>
                  <a:lnTo>
                    <a:pt x="363" y="24"/>
                  </a:lnTo>
                  <a:lnTo>
                    <a:pt x="389" y="0"/>
                  </a:lnTo>
                  <a:lnTo>
                    <a:pt x="418" y="0"/>
                  </a:lnTo>
                  <a:lnTo>
                    <a:pt x="483" y="40"/>
                  </a:lnTo>
                  <a:lnTo>
                    <a:pt x="552" y="93"/>
                  </a:lnTo>
                  <a:lnTo>
                    <a:pt x="628" y="141"/>
                  </a:lnTo>
                  <a:lnTo>
                    <a:pt x="670" y="171"/>
                  </a:lnTo>
                  <a:lnTo>
                    <a:pt x="713" y="200"/>
                  </a:lnTo>
                  <a:lnTo>
                    <a:pt x="732" y="211"/>
                  </a:lnTo>
                  <a:lnTo>
                    <a:pt x="720" y="232"/>
                  </a:lnTo>
                  <a:lnTo>
                    <a:pt x="690" y="250"/>
                  </a:lnTo>
                  <a:lnTo>
                    <a:pt x="654" y="281"/>
                  </a:lnTo>
                  <a:lnTo>
                    <a:pt x="619" y="295"/>
                  </a:lnTo>
                  <a:lnTo>
                    <a:pt x="558" y="321"/>
                  </a:lnTo>
                  <a:lnTo>
                    <a:pt x="513" y="341"/>
                  </a:lnTo>
                  <a:lnTo>
                    <a:pt x="464" y="371"/>
                  </a:lnTo>
                  <a:lnTo>
                    <a:pt x="412" y="380"/>
                  </a:lnTo>
                  <a:lnTo>
                    <a:pt x="371" y="383"/>
                  </a:lnTo>
                  <a:lnTo>
                    <a:pt x="358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21240" y="2045880"/>
              <a:ext cx="122040" cy="78120"/>
            </a:xfrm>
            <a:custGeom>
              <a:avLst/>
              <a:gdLst/>
              <a:ahLst/>
              <a:rect l="l" t="t" r="r" b="b"/>
              <a:pathLst>
                <a:path w="232" h="148">
                  <a:moveTo>
                    <a:pt x="195" y="17"/>
                  </a:moveTo>
                  <a:lnTo>
                    <a:pt x="146" y="56"/>
                  </a:lnTo>
                  <a:lnTo>
                    <a:pt x="101" y="93"/>
                  </a:lnTo>
                  <a:lnTo>
                    <a:pt x="36" y="116"/>
                  </a:lnTo>
                  <a:lnTo>
                    <a:pt x="0" y="127"/>
                  </a:lnTo>
                  <a:lnTo>
                    <a:pt x="29" y="148"/>
                  </a:lnTo>
                  <a:lnTo>
                    <a:pt x="75" y="140"/>
                  </a:lnTo>
                  <a:lnTo>
                    <a:pt x="148" y="93"/>
                  </a:lnTo>
                  <a:lnTo>
                    <a:pt x="232" y="0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923160" y="2101680"/>
            <a:ext cx="450360" cy="1022400"/>
            <a:chOff x="6923160" y="2101680"/>
            <a:chExt cx="450360" cy="1022400"/>
          </a:xfrm>
        </p:grpSpPr>
        <p:sp>
          <p:nvSpPr>
            <p:cNvPr id="359" name=""/>
            <p:cNvSpPr/>
            <p:nvPr/>
          </p:nvSpPr>
          <p:spPr>
            <a:xfrm>
              <a:off x="6930720" y="2147760"/>
              <a:ext cx="237960" cy="961920"/>
            </a:xfrm>
            <a:custGeom>
              <a:avLst/>
              <a:gdLst/>
              <a:ahLst/>
              <a:rect l="l" t="t" r="r" b="b"/>
              <a:pathLst>
                <a:path w="449" h="1819">
                  <a:moveTo>
                    <a:pt x="442" y="327"/>
                  </a:moveTo>
                  <a:lnTo>
                    <a:pt x="449" y="394"/>
                  </a:lnTo>
                  <a:lnTo>
                    <a:pt x="449" y="754"/>
                  </a:lnTo>
                  <a:lnTo>
                    <a:pt x="417" y="1238"/>
                  </a:lnTo>
                  <a:lnTo>
                    <a:pt x="420" y="1547"/>
                  </a:lnTo>
                  <a:lnTo>
                    <a:pt x="436" y="1760"/>
                  </a:lnTo>
                  <a:lnTo>
                    <a:pt x="420" y="1819"/>
                  </a:lnTo>
                  <a:lnTo>
                    <a:pt x="394" y="1806"/>
                  </a:lnTo>
                  <a:lnTo>
                    <a:pt x="242" y="1689"/>
                  </a:lnTo>
                  <a:lnTo>
                    <a:pt x="203" y="1666"/>
                  </a:lnTo>
                  <a:lnTo>
                    <a:pt x="179" y="1632"/>
                  </a:lnTo>
                  <a:lnTo>
                    <a:pt x="140" y="1587"/>
                  </a:lnTo>
                  <a:lnTo>
                    <a:pt x="88" y="1541"/>
                  </a:lnTo>
                  <a:lnTo>
                    <a:pt x="62" y="1479"/>
                  </a:lnTo>
                  <a:lnTo>
                    <a:pt x="0" y="1425"/>
                  </a:lnTo>
                  <a:lnTo>
                    <a:pt x="0" y="1393"/>
                  </a:lnTo>
                  <a:lnTo>
                    <a:pt x="33" y="1351"/>
                  </a:lnTo>
                  <a:lnTo>
                    <a:pt x="46" y="1298"/>
                  </a:lnTo>
                  <a:lnTo>
                    <a:pt x="39" y="1269"/>
                  </a:lnTo>
                  <a:lnTo>
                    <a:pt x="23" y="1222"/>
                  </a:lnTo>
                  <a:lnTo>
                    <a:pt x="17" y="1189"/>
                  </a:lnTo>
                  <a:lnTo>
                    <a:pt x="42" y="1137"/>
                  </a:lnTo>
                  <a:lnTo>
                    <a:pt x="42" y="1102"/>
                  </a:lnTo>
                  <a:lnTo>
                    <a:pt x="16" y="1033"/>
                  </a:lnTo>
                  <a:lnTo>
                    <a:pt x="16" y="993"/>
                  </a:lnTo>
                  <a:lnTo>
                    <a:pt x="30" y="963"/>
                  </a:lnTo>
                  <a:lnTo>
                    <a:pt x="56" y="927"/>
                  </a:lnTo>
                  <a:lnTo>
                    <a:pt x="55" y="864"/>
                  </a:lnTo>
                  <a:lnTo>
                    <a:pt x="39" y="814"/>
                  </a:lnTo>
                  <a:lnTo>
                    <a:pt x="55" y="754"/>
                  </a:lnTo>
                  <a:lnTo>
                    <a:pt x="69" y="740"/>
                  </a:lnTo>
                  <a:lnTo>
                    <a:pt x="56" y="685"/>
                  </a:lnTo>
                  <a:lnTo>
                    <a:pt x="23" y="627"/>
                  </a:lnTo>
                  <a:lnTo>
                    <a:pt x="16" y="589"/>
                  </a:lnTo>
                  <a:lnTo>
                    <a:pt x="23" y="553"/>
                  </a:lnTo>
                  <a:lnTo>
                    <a:pt x="65" y="521"/>
                  </a:lnTo>
                  <a:lnTo>
                    <a:pt x="62" y="495"/>
                  </a:lnTo>
                  <a:lnTo>
                    <a:pt x="17" y="412"/>
                  </a:lnTo>
                  <a:lnTo>
                    <a:pt x="3" y="347"/>
                  </a:lnTo>
                  <a:lnTo>
                    <a:pt x="16" y="311"/>
                  </a:lnTo>
                  <a:lnTo>
                    <a:pt x="56" y="278"/>
                  </a:lnTo>
                  <a:lnTo>
                    <a:pt x="46" y="249"/>
                  </a:lnTo>
                  <a:lnTo>
                    <a:pt x="17" y="215"/>
                  </a:lnTo>
                  <a:lnTo>
                    <a:pt x="17" y="179"/>
                  </a:lnTo>
                  <a:lnTo>
                    <a:pt x="65" y="155"/>
                  </a:lnTo>
                  <a:lnTo>
                    <a:pt x="85" y="129"/>
                  </a:lnTo>
                  <a:lnTo>
                    <a:pt x="46" y="75"/>
                  </a:lnTo>
                  <a:lnTo>
                    <a:pt x="46" y="46"/>
                  </a:lnTo>
                  <a:lnTo>
                    <a:pt x="93" y="29"/>
                  </a:lnTo>
                  <a:lnTo>
                    <a:pt x="95" y="0"/>
                  </a:lnTo>
                  <a:lnTo>
                    <a:pt x="148" y="75"/>
                  </a:lnTo>
                  <a:lnTo>
                    <a:pt x="210" y="153"/>
                  </a:lnTo>
                  <a:lnTo>
                    <a:pt x="288" y="215"/>
                  </a:lnTo>
                  <a:lnTo>
                    <a:pt x="350" y="265"/>
                  </a:lnTo>
                  <a:lnTo>
                    <a:pt x="417" y="304"/>
                  </a:lnTo>
                  <a:lnTo>
                    <a:pt x="442" y="32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3160" y="2162160"/>
              <a:ext cx="68040" cy="733320"/>
            </a:xfrm>
            <a:custGeom>
              <a:avLst/>
              <a:gdLst/>
              <a:ahLst/>
              <a:rect l="l" t="t" r="r" b="b"/>
              <a:pathLst>
                <a:path w="129" h="1387">
                  <a:moveTo>
                    <a:pt x="64" y="0"/>
                  </a:moveTo>
                  <a:lnTo>
                    <a:pt x="87" y="47"/>
                  </a:lnTo>
                  <a:lnTo>
                    <a:pt x="107" y="77"/>
                  </a:lnTo>
                  <a:lnTo>
                    <a:pt x="129" y="96"/>
                  </a:lnTo>
                  <a:lnTo>
                    <a:pt x="123" y="119"/>
                  </a:lnTo>
                  <a:lnTo>
                    <a:pt x="103" y="135"/>
                  </a:lnTo>
                  <a:lnTo>
                    <a:pt x="71" y="142"/>
                  </a:lnTo>
                  <a:lnTo>
                    <a:pt x="48" y="162"/>
                  </a:lnTo>
                  <a:lnTo>
                    <a:pt x="53" y="187"/>
                  </a:lnTo>
                  <a:lnTo>
                    <a:pt x="69" y="202"/>
                  </a:lnTo>
                  <a:lnTo>
                    <a:pt x="94" y="233"/>
                  </a:lnTo>
                  <a:lnTo>
                    <a:pt x="94" y="251"/>
                  </a:lnTo>
                  <a:lnTo>
                    <a:pt x="87" y="267"/>
                  </a:lnTo>
                  <a:lnTo>
                    <a:pt x="64" y="283"/>
                  </a:lnTo>
                  <a:lnTo>
                    <a:pt x="40" y="299"/>
                  </a:lnTo>
                  <a:lnTo>
                    <a:pt x="38" y="322"/>
                  </a:lnTo>
                  <a:lnTo>
                    <a:pt x="46" y="345"/>
                  </a:lnTo>
                  <a:lnTo>
                    <a:pt x="64" y="391"/>
                  </a:lnTo>
                  <a:lnTo>
                    <a:pt x="80" y="428"/>
                  </a:lnTo>
                  <a:lnTo>
                    <a:pt x="94" y="454"/>
                  </a:lnTo>
                  <a:lnTo>
                    <a:pt x="94" y="483"/>
                  </a:lnTo>
                  <a:lnTo>
                    <a:pt x="87" y="509"/>
                  </a:lnTo>
                  <a:lnTo>
                    <a:pt x="64" y="532"/>
                  </a:lnTo>
                  <a:lnTo>
                    <a:pt x="48" y="555"/>
                  </a:lnTo>
                  <a:lnTo>
                    <a:pt x="53" y="594"/>
                  </a:lnTo>
                  <a:lnTo>
                    <a:pt x="93" y="654"/>
                  </a:lnTo>
                  <a:lnTo>
                    <a:pt x="107" y="685"/>
                  </a:lnTo>
                  <a:lnTo>
                    <a:pt x="110" y="716"/>
                  </a:lnTo>
                  <a:lnTo>
                    <a:pt x="94" y="739"/>
                  </a:lnTo>
                  <a:lnTo>
                    <a:pt x="77" y="762"/>
                  </a:lnTo>
                  <a:lnTo>
                    <a:pt x="71" y="794"/>
                  </a:lnTo>
                  <a:lnTo>
                    <a:pt x="84" y="833"/>
                  </a:lnTo>
                  <a:lnTo>
                    <a:pt x="100" y="874"/>
                  </a:lnTo>
                  <a:lnTo>
                    <a:pt x="107" y="903"/>
                  </a:lnTo>
                  <a:lnTo>
                    <a:pt x="100" y="922"/>
                  </a:lnTo>
                  <a:lnTo>
                    <a:pt x="80" y="942"/>
                  </a:lnTo>
                  <a:lnTo>
                    <a:pt x="53" y="965"/>
                  </a:lnTo>
                  <a:lnTo>
                    <a:pt x="40" y="988"/>
                  </a:lnTo>
                  <a:lnTo>
                    <a:pt x="53" y="1030"/>
                  </a:lnTo>
                  <a:lnTo>
                    <a:pt x="80" y="1074"/>
                  </a:lnTo>
                  <a:lnTo>
                    <a:pt x="93" y="1105"/>
                  </a:lnTo>
                  <a:lnTo>
                    <a:pt x="94" y="1132"/>
                  </a:lnTo>
                  <a:lnTo>
                    <a:pt x="87" y="1145"/>
                  </a:lnTo>
                  <a:lnTo>
                    <a:pt x="61" y="1145"/>
                  </a:lnTo>
                  <a:lnTo>
                    <a:pt x="53" y="1201"/>
                  </a:lnTo>
                  <a:lnTo>
                    <a:pt x="69" y="1237"/>
                  </a:lnTo>
                  <a:lnTo>
                    <a:pt x="84" y="1263"/>
                  </a:lnTo>
                  <a:lnTo>
                    <a:pt x="87" y="1287"/>
                  </a:lnTo>
                  <a:lnTo>
                    <a:pt x="87" y="1308"/>
                  </a:lnTo>
                  <a:lnTo>
                    <a:pt x="61" y="1342"/>
                  </a:lnTo>
                  <a:lnTo>
                    <a:pt x="24" y="1387"/>
                  </a:lnTo>
                  <a:lnTo>
                    <a:pt x="1" y="1371"/>
                  </a:lnTo>
                  <a:lnTo>
                    <a:pt x="10" y="1334"/>
                  </a:lnTo>
                  <a:lnTo>
                    <a:pt x="46" y="1276"/>
                  </a:lnTo>
                  <a:lnTo>
                    <a:pt x="40" y="1240"/>
                  </a:lnTo>
                  <a:lnTo>
                    <a:pt x="24" y="1198"/>
                  </a:lnTo>
                  <a:lnTo>
                    <a:pt x="14" y="1162"/>
                  </a:lnTo>
                  <a:lnTo>
                    <a:pt x="30" y="1132"/>
                  </a:lnTo>
                  <a:lnTo>
                    <a:pt x="46" y="1121"/>
                  </a:lnTo>
                  <a:lnTo>
                    <a:pt x="48" y="1098"/>
                  </a:lnTo>
                  <a:lnTo>
                    <a:pt x="30" y="1053"/>
                  </a:lnTo>
                  <a:lnTo>
                    <a:pt x="10" y="1014"/>
                  </a:lnTo>
                  <a:lnTo>
                    <a:pt x="0" y="975"/>
                  </a:lnTo>
                  <a:lnTo>
                    <a:pt x="10" y="929"/>
                  </a:lnTo>
                  <a:lnTo>
                    <a:pt x="46" y="911"/>
                  </a:lnTo>
                  <a:lnTo>
                    <a:pt x="56" y="890"/>
                  </a:lnTo>
                  <a:lnTo>
                    <a:pt x="53" y="859"/>
                  </a:lnTo>
                  <a:lnTo>
                    <a:pt x="46" y="827"/>
                  </a:lnTo>
                  <a:lnTo>
                    <a:pt x="33" y="787"/>
                  </a:lnTo>
                  <a:lnTo>
                    <a:pt x="33" y="755"/>
                  </a:lnTo>
                  <a:lnTo>
                    <a:pt x="48" y="735"/>
                  </a:lnTo>
                  <a:lnTo>
                    <a:pt x="69" y="709"/>
                  </a:lnTo>
                  <a:lnTo>
                    <a:pt x="69" y="693"/>
                  </a:lnTo>
                  <a:lnTo>
                    <a:pt x="53" y="656"/>
                  </a:lnTo>
                  <a:lnTo>
                    <a:pt x="23" y="610"/>
                  </a:lnTo>
                  <a:lnTo>
                    <a:pt x="10" y="575"/>
                  </a:lnTo>
                  <a:lnTo>
                    <a:pt x="10" y="548"/>
                  </a:lnTo>
                  <a:lnTo>
                    <a:pt x="17" y="522"/>
                  </a:lnTo>
                  <a:lnTo>
                    <a:pt x="38" y="500"/>
                  </a:lnTo>
                  <a:lnTo>
                    <a:pt x="56" y="477"/>
                  </a:lnTo>
                  <a:lnTo>
                    <a:pt x="56" y="459"/>
                  </a:lnTo>
                  <a:lnTo>
                    <a:pt x="14" y="374"/>
                  </a:lnTo>
                  <a:lnTo>
                    <a:pt x="7" y="342"/>
                  </a:lnTo>
                  <a:lnTo>
                    <a:pt x="0" y="313"/>
                  </a:lnTo>
                  <a:lnTo>
                    <a:pt x="14" y="287"/>
                  </a:lnTo>
                  <a:lnTo>
                    <a:pt x="33" y="267"/>
                  </a:lnTo>
                  <a:lnTo>
                    <a:pt x="48" y="251"/>
                  </a:lnTo>
                  <a:lnTo>
                    <a:pt x="48" y="236"/>
                  </a:lnTo>
                  <a:lnTo>
                    <a:pt x="33" y="212"/>
                  </a:lnTo>
                  <a:lnTo>
                    <a:pt x="10" y="187"/>
                  </a:lnTo>
                  <a:lnTo>
                    <a:pt x="10" y="162"/>
                  </a:lnTo>
                  <a:lnTo>
                    <a:pt x="24" y="139"/>
                  </a:lnTo>
                  <a:lnTo>
                    <a:pt x="48" y="119"/>
                  </a:lnTo>
                  <a:lnTo>
                    <a:pt x="69" y="109"/>
                  </a:lnTo>
                  <a:lnTo>
                    <a:pt x="80" y="93"/>
                  </a:lnTo>
                  <a:lnTo>
                    <a:pt x="71" y="73"/>
                  </a:lnTo>
                  <a:lnTo>
                    <a:pt x="56" y="49"/>
                  </a:lnTo>
                  <a:lnTo>
                    <a:pt x="48" y="2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07120" y="2341440"/>
              <a:ext cx="64800" cy="592200"/>
            </a:xfrm>
            <a:custGeom>
              <a:avLst/>
              <a:gdLst/>
              <a:ahLst/>
              <a:rect l="l" t="t" r="r" b="b"/>
              <a:pathLst>
                <a:path w="123" h="1121">
                  <a:moveTo>
                    <a:pt x="96" y="0"/>
                  </a:moveTo>
                  <a:lnTo>
                    <a:pt x="110" y="30"/>
                  </a:lnTo>
                  <a:lnTo>
                    <a:pt x="123" y="85"/>
                  </a:lnTo>
                  <a:lnTo>
                    <a:pt x="116" y="108"/>
                  </a:lnTo>
                  <a:lnTo>
                    <a:pt x="84" y="124"/>
                  </a:lnTo>
                  <a:lnTo>
                    <a:pt x="64" y="140"/>
                  </a:lnTo>
                  <a:lnTo>
                    <a:pt x="64" y="184"/>
                  </a:lnTo>
                  <a:lnTo>
                    <a:pt x="80" y="226"/>
                  </a:lnTo>
                  <a:lnTo>
                    <a:pt x="100" y="255"/>
                  </a:lnTo>
                  <a:lnTo>
                    <a:pt x="103" y="308"/>
                  </a:lnTo>
                  <a:lnTo>
                    <a:pt x="93" y="327"/>
                  </a:lnTo>
                  <a:lnTo>
                    <a:pt x="71" y="350"/>
                  </a:lnTo>
                  <a:lnTo>
                    <a:pt x="68" y="386"/>
                  </a:lnTo>
                  <a:lnTo>
                    <a:pt x="80" y="420"/>
                  </a:lnTo>
                  <a:lnTo>
                    <a:pt x="96" y="449"/>
                  </a:lnTo>
                  <a:lnTo>
                    <a:pt x="103" y="495"/>
                  </a:lnTo>
                  <a:lnTo>
                    <a:pt x="103" y="521"/>
                  </a:lnTo>
                  <a:lnTo>
                    <a:pt x="87" y="550"/>
                  </a:lnTo>
                  <a:lnTo>
                    <a:pt x="61" y="576"/>
                  </a:lnTo>
                  <a:lnTo>
                    <a:pt x="61" y="599"/>
                  </a:lnTo>
                  <a:lnTo>
                    <a:pt x="68" y="669"/>
                  </a:lnTo>
                  <a:lnTo>
                    <a:pt x="96" y="698"/>
                  </a:lnTo>
                  <a:lnTo>
                    <a:pt x="110" y="728"/>
                  </a:lnTo>
                  <a:lnTo>
                    <a:pt x="103" y="763"/>
                  </a:lnTo>
                  <a:lnTo>
                    <a:pt x="64" y="786"/>
                  </a:lnTo>
                  <a:lnTo>
                    <a:pt x="45" y="810"/>
                  </a:lnTo>
                  <a:lnTo>
                    <a:pt x="41" y="853"/>
                  </a:lnTo>
                  <a:lnTo>
                    <a:pt x="61" y="908"/>
                  </a:lnTo>
                  <a:lnTo>
                    <a:pt x="77" y="963"/>
                  </a:lnTo>
                  <a:lnTo>
                    <a:pt x="77" y="993"/>
                  </a:lnTo>
                  <a:lnTo>
                    <a:pt x="68" y="1036"/>
                  </a:lnTo>
                  <a:lnTo>
                    <a:pt x="45" y="1043"/>
                  </a:lnTo>
                  <a:lnTo>
                    <a:pt x="29" y="1075"/>
                  </a:lnTo>
                  <a:lnTo>
                    <a:pt x="29" y="1111"/>
                  </a:lnTo>
                  <a:lnTo>
                    <a:pt x="0" y="1121"/>
                  </a:lnTo>
                  <a:lnTo>
                    <a:pt x="13" y="1082"/>
                  </a:lnTo>
                  <a:lnTo>
                    <a:pt x="38" y="1036"/>
                  </a:lnTo>
                  <a:lnTo>
                    <a:pt x="45" y="1004"/>
                  </a:lnTo>
                  <a:lnTo>
                    <a:pt x="45" y="941"/>
                  </a:lnTo>
                  <a:lnTo>
                    <a:pt x="29" y="888"/>
                  </a:lnTo>
                  <a:lnTo>
                    <a:pt x="25" y="846"/>
                  </a:lnTo>
                  <a:lnTo>
                    <a:pt x="22" y="802"/>
                  </a:lnTo>
                  <a:lnTo>
                    <a:pt x="48" y="767"/>
                  </a:lnTo>
                  <a:lnTo>
                    <a:pt x="64" y="744"/>
                  </a:lnTo>
                  <a:lnTo>
                    <a:pt x="54" y="698"/>
                  </a:lnTo>
                  <a:lnTo>
                    <a:pt x="29" y="662"/>
                  </a:lnTo>
                  <a:lnTo>
                    <a:pt x="25" y="630"/>
                  </a:lnTo>
                  <a:lnTo>
                    <a:pt x="22" y="584"/>
                  </a:lnTo>
                  <a:lnTo>
                    <a:pt x="32" y="553"/>
                  </a:lnTo>
                  <a:lnTo>
                    <a:pt x="54" y="521"/>
                  </a:lnTo>
                  <a:lnTo>
                    <a:pt x="68" y="498"/>
                  </a:lnTo>
                  <a:lnTo>
                    <a:pt x="68" y="475"/>
                  </a:lnTo>
                  <a:lnTo>
                    <a:pt x="54" y="449"/>
                  </a:lnTo>
                  <a:lnTo>
                    <a:pt x="38" y="397"/>
                  </a:lnTo>
                  <a:lnTo>
                    <a:pt x="38" y="363"/>
                  </a:lnTo>
                  <a:lnTo>
                    <a:pt x="45" y="331"/>
                  </a:lnTo>
                  <a:lnTo>
                    <a:pt x="61" y="308"/>
                  </a:lnTo>
                  <a:lnTo>
                    <a:pt x="64" y="285"/>
                  </a:lnTo>
                  <a:lnTo>
                    <a:pt x="61" y="256"/>
                  </a:lnTo>
                  <a:lnTo>
                    <a:pt x="41" y="216"/>
                  </a:lnTo>
                  <a:lnTo>
                    <a:pt x="29" y="187"/>
                  </a:lnTo>
                  <a:lnTo>
                    <a:pt x="32" y="137"/>
                  </a:lnTo>
                  <a:lnTo>
                    <a:pt x="48" y="117"/>
                  </a:lnTo>
                  <a:lnTo>
                    <a:pt x="68" y="85"/>
                  </a:lnTo>
                  <a:lnTo>
                    <a:pt x="80" y="59"/>
                  </a:lnTo>
                  <a:lnTo>
                    <a:pt x="71" y="36"/>
                  </a:lnTo>
                  <a:lnTo>
                    <a:pt x="77" y="1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03800" y="2268360"/>
              <a:ext cx="149040" cy="128520"/>
            </a:xfrm>
            <a:custGeom>
              <a:avLst/>
              <a:gdLst/>
              <a:ahLst/>
              <a:rect l="l" t="t" r="r" b="b"/>
              <a:pathLst>
                <a:path w="281" h="241">
                  <a:moveTo>
                    <a:pt x="281" y="195"/>
                  </a:moveTo>
                  <a:lnTo>
                    <a:pt x="195" y="126"/>
                  </a:lnTo>
                  <a:lnTo>
                    <a:pt x="124" y="62"/>
                  </a:lnTo>
                  <a:lnTo>
                    <a:pt x="59" y="0"/>
                  </a:lnTo>
                  <a:lnTo>
                    <a:pt x="0" y="0"/>
                  </a:lnTo>
                  <a:lnTo>
                    <a:pt x="140" y="101"/>
                  </a:lnTo>
                  <a:lnTo>
                    <a:pt x="209" y="165"/>
                  </a:lnTo>
                  <a:lnTo>
                    <a:pt x="265" y="241"/>
                  </a:lnTo>
                  <a:lnTo>
                    <a:pt x="281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360" y="2342880"/>
              <a:ext cx="128160" cy="104760"/>
            </a:xfrm>
            <a:custGeom>
              <a:avLst/>
              <a:gdLst/>
              <a:ahLst/>
              <a:rect l="l" t="t" r="r" b="b"/>
              <a:pathLst>
                <a:path w="242" h="197">
                  <a:moveTo>
                    <a:pt x="242" y="125"/>
                  </a:moveTo>
                  <a:lnTo>
                    <a:pt x="180" y="101"/>
                  </a:lnTo>
                  <a:lnTo>
                    <a:pt x="133" y="62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10" y="62"/>
                  </a:lnTo>
                  <a:lnTo>
                    <a:pt x="152" y="104"/>
                  </a:lnTo>
                  <a:lnTo>
                    <a:pt x="242" y="197"/>
                  </a:lnTo>
                  <a:lnTo>
                    <a:pt x="238" y="141"/>
                  </a:lnTo>
                  <a:lnTo>
                    <a:pt x="24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83280" y="2404800"/>
              <a:ext cx="150480" cy="16200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279" y="229"/>
                  </a:moveTo>
                  <a:lnTo>
                    <a:pt x="201" y="159"/>
                  </a:lnTo>
                  <a:lnTo>
                    <a:pt x="171" y="111"/>
                  </a:lnTo>
                  <a:lnTo>
                    <a:pt x="108" y="65"/>
                  </a:lnTo>
                  <a:lnTo>
                    <a:pt x="53" y="2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46" y="55"/>
                  </a:lnTo>
                  <a:lnTo>
                    <a:pt x="132" y="110"/>
                  </a:lnTo>
                  <a:lnTo>
                    <a:pt x="194" y="172"/>
                  </a:lnTo>
                  <a:lnTo>
                    <a:pt x="237" y="242"/>
                  </a:lnTo>
                  <a:lnTo>
                    <a:pt x="285" y="306"/>
                  </a:lnTo>
                  <a:lnTo>
                    <a:pt x="27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120" y="2538360"/>
              <a:ext cx="117000" cy="9504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220" y="148"/>
                  </a:moveTo>
                  <a:lnTo>
                    <a:pt x="158" y="81"/>
                  </a:lnTo>
                  <a:lnTo>
                    <a:pt x="93" y="39"/>
                  </a:lnTo>
                  <a:lnTo>
                    <a:pt x="39" y="10"/>
                  </a:lnTo>
                  <a:lnTo>
                    <a:pt x="0" y="0"/>
                  </a:lnTo>
                  <a:lnTo>
                    <a:pt x="23" y="39"/>
                  </a:lnTo>
                  <a:lnTo>
                    <a:pt x="93" y="78"/>
                  </a:lnTo>
                  <a:lnTo>
                    <a:pt x="148" y="135"/>
                  </a:lnTo>
                  <a:lnTo>
                    <a:pt x="174" y="172"/>
                  </a:lnTo>
                  <a:lnTo>
                    <a:pt x="197" y="180"/>
                  </a:lnTo>
                  <a:lnTo>
                    <a:pt x="218" y="167"/>
                  </a:lnTo>
                  <a:lnTo>
                    <a:pt x="22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84720" y="2604960"/>
              <a:ext cx="128160" cy="117360"/>
            </a:xfrm>
            <a:custGeom>
              <a:avLst/>
              <a:gdLst/>
              <a:ahLst/>
              <a:rect l="l" t="t" r="r" b="b"/>
              <a:pathLst>
                <a:path w="243" h="223">
                  <a:moveTo>
                    <a:pt x="243" y="207"/>
                  </a:moveTo>
                  <a:lnTo>
                    <a:pt x="181" y="141"/>
                  </a:lnTo>
                  <a:lnTo>
                    <a:pt x="103" y="59"/>
                  </a:lnTo>
                  <a:lnTo>
                    <a:pt x="56" y="20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2" y="46"/>
                  </a:lnTo>
                  <a:lnTo>
                    <a:pt x="111" y="117"/>
                  </a:lnTo>
                  <a:lnTo>
                    <a:pt x="176" y="187"/>
                  </a:lnTo>
                  <a:lnTo>
                    <a:pt x="220" y="223"/>
                  </a:lnTo>
                  <a:lnTo>
                    <a:pt x="230" y="223"/>
                  </a:lnTo>
                  <a:lnTo>
                    <a:pt x="243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00560" y="2703240"/>
              <a:ext cx="90360" cy="9396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68" y="148"/>
                  </a:moveTo>
                  <a:lnTo>
                    <a:pt x="98" y="45"/>
                  </a:lnTo>
                  <a:lnTo>
                    <a:pt x="30" y="6"/>
                  </a:lnTo>
                  <a:lnTo>
                    <a:pt x="0" y="0"/>
                  </a:lnTo>
                  <a:lnTo>
                    <a:pt x="7" y="20"/>
                  </a:lnTo>
                  <a:lnTo>
                    <a:pt x="85" y="78"/>
                  </a:lnTo>
                  <a:lnTo>
                    <a:pt x="160" y="169"/>
                  </a:lnTo>
                  <a:lnTo>
                    <a:pt x="171" y="177"/>
                  </a:lnTo>
                  <a:lnTo>
                    <a:pt x="16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02360" y="2793960"/>
              <a:ext cx="61560" cy="7128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113" y="102"/>
                  </a:moveTo>
                  <a:lnTo>
                    <a:pt x="55" y="23"/>
                  </a:lnTo>
                  <a:lnTo>
                    <a:pt x="3" y="0"/>
                  </a:lnTo>
                  <a:lnTo>
                    <a:pt x="0" y="23"/>
                  </a:lnTo>
                  <a:lnTo>
                    <a:pt x="25" y="63"/>
                  </a:lnTo>
                  <a:lnTo>
                    <a:pt x="87" y="115"/>
                  </a:lnTo>
                  <a:lnTo>
                    <a:pt x="104" y="134"/>
                  </a:lnTo>
                  <a:lnTo>
                    <a:pt x="117" y="125"/>
                  </a:lnTo>
                  <a:lnTo>
                    <a:pt x="11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08480" y="2887560"/>
              <a:ext cx="77760" cy="79200"/>
            </a:xfrm>
            <a:custGeom>
              <a:avLst/>
              <a:gdLst/>
              <a:ahLst/>
              <a:rect l="l" t="t" r="r" b="b"/>
              <a:pathLst>
                <a:path w="148" h="150">
                  <a:moveTo>
                    <a:pt x="148" y="150"/>
                  </a:moveTo>
                  <a:lnTo>
                    <a:pt x="128" y="127"/>
                  </a:lnTo>
                  <a:lnTo>
                    <a:pt x="86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3"/>
                  </a:lnTo>
                  <a:lnTo>
                    <a:pt x="57" y="85"/>
                  </a:lnTo>
                  <a:lnTo>
                    <a:pt x="103" y="147"/>
                  </a:lnTo>
                  <a:lnTo>
                    <a:pt x="148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13240" y="2224080"/>
              <a:ext cx="239400" cy="887400"/>
            </a:xfrm>
            <a:custGeom>
              <a:avLst/>
              <a:gdLst/>
              <a:ahLst/>
              <a:rect l="l" t="t" r="r" b="b"/>
              <a:pathLst>
                <a:path w="452" h="1678">
                  <a:moveTo>
                    <a:pt x="81" y="158"/>
                  </a:moveTo>
                  <a:lnTo>
                    <a:pt x="65" y="206"/>
                  </a:lnTo>
                  <a:lnTo>
                    <a:pt x="78" y="252"/>
                  </a:lnTo>
                  <a:lnTo>
                    <a:pt x="81" y="298"/>
                  </a:lnTo>
                  <a:lnTo>
                    <a:pt x="65" y="327"/>
                  </a:lnTo>
                  <a:lnTo>
                    <a:pt x="42" y="361"/>
                  </a:lnTo>
                  <a:lnTo>
                    <a:pt x="32" y="413"/>
                  </a:lnTo>
                  <a:lnTo>
                    <a:pt x="46" y="446"/>
                  </a:lnTo>
                  <a:lnTo>
                    <a:pt x="70" y="485"/>
                  </a:lnTo>
                  <a:lnTo>
                    <a:pt x="70" y="517"/>
                  </a:lnTo>
                  <a:lnTo>
                    <a:pt x="55" y="548"/>
                  </a:lnTo>
                  <a:lnTo>
                    <a:pt x="33" y="587"/>
                  </a:lnTo>
                  <a:lnTo>
                    <a:pt x="42" y="626"/>
                  </a:lnTo>
                  <a:lnTo>
                    <a:pt x="73" y="708"/>
                  </a:lnTo>
                  <a:lnTo>
                    <a:pt x="70" y="743"/>
                  </a:lnTo>
                  <a:lnTo>
                    <a:pt x="26" y="810"/>
                  </a:lnTo>
                  <a:lnTo>
                    <a:pt x="26" y="868"/>
                  </a:lnTo>
                  <a:lnTo>
                    <a:pt x="49" y="911"/>
                  </a:lnTo>
                  <a:lnTo>
                    <a:pt x="65" y="950"/>
                  </a:lnTo>
                  <a:lnTo>
                    <a:pt x="62" y="984"/>
                  </a:lnTo>
                  <a:lnTo>
                    <a:pt x="23" y="1020"/>
                  </a:lnTo>
                  <a:lnTo>
                    <a:pt x="16" y="1046"/>
                  </a:lnTo>
                  <a:lnTo>
                    <a:pt x="23" y="1108"/>
                  </a:lnTo>
                  <a:lnTo>
                    <a:pt x="42" y="1176"/>
                  </a:lnTo>
                  <a:lnTo>
                    <a:pt x="42" y="1215"/>
                  </a:lnTo>
                  <a:lnTo>
                    <a:pt x="39" y="1246"/>
                  </a:lnTo>
                  <a:lnTo>
                    <a:pt x="10" y="1294"/>
                  </a:lnTo>
                  <a:lnTo>
                    <a:pt x="0" y="1333"/>
                  </a:lnTo>
                  <a:lnTo>
                    <a:pt x="3" y="1373"/>
                  </a:lnTo>
                  <a:lnTo>
                    <a:pt x="23" y="1405"/>
                  </a:lnTo>
                  <a:lnTo>
                    <a:pt x="46" y="1433"/>
                  </a:lnTo>
                  <a:lnTo>
                    <a:pt x="26" y="1472"/>
                  </a:lnTo>
                  <a:lnTo>
                    <a:pt x="16" y="1511"/>
                  </a:lnTo>
                  <a:lnTo>
                    <a:pt x="33" y="1543"/>
                  </a:lnTo>
                  <a:lnTo>
                    <a:pt x="62" y="1566"/>
                  </a:lnTo>
                  <a:lnTo>
                    <a:pt x="65" y="1605"/>
                  </a:lnTo>
                  <a:lnTo>
                    <a:pt x="65" y="1636"/>
                  </a:lnTo>
                  <a:lnTo>
                    <a:pt x="70" y="1678"/>
                  </a:lnTo>
                  <a:lnTo>
                    <a:pt x="119" y="1644"/>
                  </a:lnTo>
                  <a:lnTo>
                    <a:pt x="171" y="1615"/>
                  </a:lnTo>
                  <a:lnTo>
                    <a:pt x="219" y="1599"/>
                  </a:lnTo>
                  <a:lnTo>
                    <a:pt x="291" y="1599"/>
                  </a:lnTo>
                  <a:lnTo>
                    <a:pt x="343" y="1592"/>
                  </a:lnTo>
                  <a:lnTo>
                    <a:pt x="374" y="1566"/>
                  </a:lnTo>
                  <a:lnTo>
                    <a:pt x="429" y="1550"/>
                  </a:lnTo>
                  <a:lnTo>
                    <a:pt x="400" y="1520"/>
                  </a:lnTo>
                  <a:lnTo>
                    <a:pt x="390" y="1475"/>
                  </a:lnTo>
                  <a:lnTo>
                    <a:pt x="409" y="1426"/>
                  </a:lnTo>
                  <a:lnTo>
                    <a:pt x="406" y="1356"/>
                  </a:lnTo>
                  <a:lnTo>
                    <a:pt x="390" y="1304"/>
                  </a:lnTo>
                  <a:lnTo>
                    <a:pt x="374" y="1278"/>
                  </a:lnTo>
                  <a:lnTo>
                    <a:pt x="370" y="1239"/>
                  </a:lnTo>
                  <a:lnTo>
                    <a:pt x="390" y="1192"/>
                  </a:lnTo>
                  <a:lnTo>
                    <a:pt x="383" y="1160"/>
                  </a:lnTo>
                  <a:lnTo>
                    <a:pt x="343" y="1107"/>
                  </a:lnTo>
                  <a:lnTo>
                    <a:pt x="345" y="1075"/>
                  </a:lnTo>
                  <a:lnTo>
                    <a:pt x="361" y="1046"/>
                  </a:lnTo>
                  <a:lnTo>
                    <a:pt x="397" y="1008"/>
                  </a:lnTo>
                  <a:lnTo>
                    <a:pt x="384" y="976"/>
                  </a:lnTo>
                  <a:lnTo>
                    <a:pt x="358" y="911"/>
                  </a:lnTo>
                  <a:lnTo>
                    <a:pt x="338" y="868"/>
                  </a:lnTo>
                  <a:lnTo>
                    <a:pt x="338" y="820"/>
                  </a:lnTo>
                  <a:lnTo>
                    <a:pt x="409" y="795"/>
                  </a:lnTo>
                  <a:lnTo>
                    <a:pt x="416" y="750"/>
                  </a:lnTo>
                  <a:lnTo>
                    <a:pt x="409" y="724"/>
                  </a:lnTo>
                  <a:lnTo>
                    <a:pt x="390" y="701"/>
                  </a:lnTo>
                  <a:lnTo>
                    <a:pt x="393" y="662"/>
                  </a:lnTo>
                  <a:lnTo>
                    <a:pt x="390" y="616"/>
                  </a:lnTo>
                  <a:lnTo>
                    <a:pt x="370" y="593"/>
                  </a:lnTo>
                  <a:lnTo>
                    <a:pt x="354" y="561"/>
                  </a:lnTo>
                  <a:lnTo>
                    <a:pt x="367" y="530"/>
                  </a:lnTo>
                  <a:lnTo>
                    <a:pt x="383" y="494"/>
                  </a:lnTo>
                  <a:lnTo>
                    <a:pt x="383" y="469"/>
                  </a:lnTo>
                  <a:lnTo>
                    <a:pt x="358" y="439"/>
                  </a:lnTo>
                  <a:lnTo>
                    <a:pt x="351" y="413"/>
                  </a:lnTo>
                  <a:lnTo>
                    <a:pt x="358" y="393"/>
                  </a:lnTo>
                  <a:lnTo>
                    <a:pt x="383" y="377"/>
                  </a:lnTo>
                  <a:lnTo>
                    <a:pt x="384" y="351"/>
                  </a:lnTo>
                  <a:lnTo>
                    <a:pt x="377" y="335"/>
                  </a:lnTo>
                  <a:lnTo>
                    <a:pt x="351" y="296"/>
                  </a:lnTo>
                  <a:lnTo>
                    <a:pt x="343" y="252"/>
                  </a:lnTo>
                  <a:lnTo>
                    <a:pt x="345" y="219"/>
                  </a:lnTo>
                  <a:lnTo>
                    <a:pt x="370" y="187"/>
                  </a:lnTo>
                  <a:lnTo>
                    <a:pt x="432" y="119"/>
                  </a:lnTo>
                  <a:lnTo>
                    <a:pt x="452" y="62"/>
                  </a:lnTo>
                  <a:lnTo>
                    <a:pt x="452" y="16"/>
                  </a:lnTo>
                  <a:lnTo>
                    <a:pt x="432" y="0"/>
                  </a:lnTo>
                  <a:lnTo>
                    <a:pt x="400" y="16"/>
                  </a:lnTo>
                  <a:lnTo>
                    <a:pt x="322" y="65"/>
                  </a:lnTo>
                  <a:lnTo>
                    <a:pt x="249" y="96"/>
                  </a:lnTo>
                  <a:lnTo>
                    <a:pt x="174" y="128"/>
                  </a:lnTo>
                  <a:lnTo>
                    <a:pt x="125" y="143"/>
                  </a:lnTo>
                  <a:lnTo>
                    <a:pt x="81" y="1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46560" y="2216160"/>
              <a:ext cx="426960" cy="907920"/>
            </a:xfrm>
            <a:custGeom>
              <a:avLst/>
              <a:gdLst/>
              <a:ahLst/>
              <a:rect l="l" t="t" r="r" b="b"/>
              <a:pathLst>
                <a:path w="807" h="1715">
                  <a:moveTo>
                    <a:pt x="686" y="1552"/>
                  </a:moveTo>
                  <a:lnTo>
                    <a:pt x="652" y="1591"/>
                  </a:lnTo>
                  <a:lnTo>
                    <a:pt x="597" y="1604"/>
                  </a:lnTo>
                  <a:lnTo>
                    <a:pt x="528" y="1611"/>
                  </a:lnTo>
                  <a:lnTo>
                    <a:pt x="452" y="1627"/>
                  </a:lnTo>
                  <a:lnTo>
                    <a:pt x="403" y="1657"/>
                  </a:lnTo>
                  <a:lnTo>
                    <a:pt x="387" y="1673"/>
                  </a:lnTo>
                  <a:lnTo>
                    <a:pt x="373" y="1666"/>
                  </a:lnTo>
                  <a:lnTo>
                    <a:pt x="281" y="1598"/>
                  </a:lnTo>
                  <a:lnTo>
                    <a:pt x="164" y="1505"/>
                  </a:lnTo>
                  <a:lnTo>
                    <a:pt x="125" y="1447"/>
                  </a:lnTo>
                  <a:lnTo>
                    <a:pt x="65" y="1388"/>
                  </a:lnTo>
                  <a:lnTo>
                    <a:pt x="48" y="1341"/>
                  </a:lnTo>
                  <a:lnTo>
                    <a:pt x="0" y="1334"/>
                  </a:lnTo>
                  <a:lnTo>
                    <a:pt x="25" y="1385"/>
                  </a:lnTo>
                  <a:lnTo>
                    <a:pt x="49" y="1434"/>
                  </a:lnTo>
                  <a:lnTo>
                    <a:pt x="125" y="1489"/>
                  </a:lnTo>
                  <a:lnTo>
                    <a:pt x="177" y="1557"/>
                  </a:lnTo>
                  <a:lnTo>
                    <a:pt x="304" y="1637"/>
                  </a:lnTo>
                  <a:lnTo>
                    <a:pt x="383" y="1715"/>
                  </a:lnTo>
                  <a:lnTo>
                    <a:pt x="413" y="1708"/>
                  </a:lnTo>
                  <a:lnTo>
                    <a:pt x="445" y="1669"/>
                  </a:lnTo>
                  <a:lnTo>
                    <a:pt x="488" y="1646"/>
                  </a:lnTo>
                  <a:lnTo>
                    <a:pt x="544" y="1630"/>
                  </a:lnTo>
                  <a:lnTo>
                    <a:pt x="659" y="1620"/>
                  </a:lnTo>
                  <a:lnTo>
                    <a:pt x="694" y="1598"/>
                  </a:lnTo>
                  <a:lnTo>
                    <a:pt x="754" y="1583"/>
                  </a:lnTo>
                  <a:lnTo>
                    <a:pt x="764" y="1557"/>
                  </a:lnTo>
                  <a:lnTo>
                    <a:pt x="745" y="1525"/>
                  </a:lnTo>
                  <a:lnTo>
                    <a:pt x="725" y="1495"/>
                  </a:lnTo>
                  <a:lnTo>
                    <a:pt x="738" y="1456"/>
                  </a:lnTo>
                  <a:lnTo>
                    <a:pt x="754" y="1434"/>
                  </a:lnTo>
                  <a:lnTo>
                    <a:pt x="754" y="1401"/>
                  </a:lnTo>
                  <a:lnTo>
                    <a:pt x="738" y="1349"/>
                  </a:lnTo>
                  <a:lnTo>
                    <a:pt x="730" y="1323"/>
                  </a:lnTo>
                  <a:lnTo>
                    <a:pt x="709" y="1299"/>
                  </a:lnTo>
                  <a:lnTo>
                    <a:pt x="699" y="1272"/>
                  </a:lnTo>
                  <a:lnTo>
                    <a:pt x="709" y="1246"/>
                  </a:lnTo>
                  <a:lnTo>
                    <a:pt x="732" y="1224"/>
                  </a:lnTo>
                  <a:lnTo>
                    <a:pt x="730" y="1191"/>
                  </a:lnTo>
                  <a:lnTo>
                    <a:pt x="717" y="1168"/>
                  </a:lnTo>
                  <a:lnTo>
                    <a:pt x="691" y="1131"/>
                  </a:lnTo>
                  <a:lnTo>
                    <a:pt x="675" y="1113"/>
                  </a:lnTo>
                  <a:lnTo>
                    <a:pt x="683" y="1085"/>
                  </a:lnTo>
                  <a:lnTo>
                    <a:pt x="722" y="1062"/>
                  </a:lnTo>
                  <a:lnTo>
                    <a:pt x="738" y="1030"/>
                  </a:lnTo>
                  <a:lnTo>
                    <a:pt x="732" y="1004"/>
                  </a:lnTo>
                  <a:lnTo>
                    <a:pt x="707" y="960"/>
                  </a:lnTo>
                  <a:lnTo>
                    <a:pt x="678" y="905"/>
                  </a:lnTo>
                  <a:lnTo>
                    <a:pt x="668" y="866"/>
                  </a:lnTo>
                  <a:lnTo>
                    <a:pt x="683" y="850"/>
                  </a:lnTo>
                  <a:lnTo>
                    <a:pt x="725" y="836"/>
                  </a:lnTo>
                  <a:lnTo>
                    <a:pt x="748" y="820"/>
                  </a:lnTo>
                  <a:lnTo>
                    <a:pt x="754" y="771"/>
                  </a:lnTo>
                  <a:lnTo>
                    <a:pt x="725" y="716"/>
                  </a:lnTo>
                  <a:lnTo>
                    <a:pt x="730" y="679"/>
                  </a:lnTo>
                  <a:lnTo>
                    <a:pt x="741" y="646"/>
                  </a:lnTo>
                  <a:lnTo>
                    <a:pt x="714" y="607"/>
                  </a:lnTo>
                  <a:lnTo>
                    <a:pt x="691" y="571"/>
                  </a:lnTo>
                  <a:lnTo>
                    <a:pt x="699" y="548"/>
                  </a:lnTo>
                  <a:lnTo>
                    <a:pt x="714" y="524"/>
                  </a:lnTo>
                  <a:lnTo>
                    <a:pt x="714" y="485"/>
                  </a:lnTo>
                  <a:lnTo>
                    <a:pt x="699" y="462"/>
                  </a:lnTo>
                  <a:lnTo>
                    <a:pt x="683" y="443"/>
                  </a:lnTo>
                  <a:lnTo>
                    <a:pt x="686" y="414"/>
                  </a:lnTo>
                  <a:lnTo>
                    <a:pt x="714" y="400"/>
                  </a:lnTo>
                  <a:lnTo>
                    <a:pt x="730" y="384"/>
                  </a:lnTo>
                  <a:lnTo>
                    <a:pt x="722" y="353"/>
                  </a:lnTo>
                  <a:lnTo>
                    <a:pt x="691" y="314"/>
                  </a:lnTo>
                  <a:lnTo>
                    <a:pt x="678" y="280"/>
                  </a:lnTo>
                  <a:lnTo>
                    <a:pt x="675" y="240"/>
                  </a:lnTo>
                  <a:lnTo>
                    <a:pt x="701" y="203"/>
                  </a:lnTo>
                  <a:lnTo>
                    <a:pt x="757" y="142"/>
                  </a:lnTo>
                  <a:lnTo>
                    <a:pt x="784" y="96"/>
                  </a:lnTo>
                  <a:lnTo>
                    <a:pt x="807" y="57"/>
                  </a:lnTo>
                  <a:lnTo>
                    <a:pt x="800" y="17"/>
                  </a:lnTo>
                  <a:lnTo>
                    <a:pt x="780" y="0"/>
                  </a:lnTo>
                  <a:lnTo>
                    <a:pt x="764" y="3"/>
                  </a:lnTo>
                  <a:lnTo>
                    <a:pt x="738" y="33"/>
                  </a:lnTo>
                  <a:lnTo>
                    <a:pt x="757" y="57"/>
                  </a:lnTo>
                  <a:lnTo>
                    <a:pt x="754" y="96"/>
                  </a:lnTo>
                  <a:lnTo>
                    <a:pt x="717" y="164"/>
                  </a:lnTo>
                  <a:lnTo>
                    <a:pt x="670" y="203"/>
                  </a:lnTo>
                  <a:lnTo>
                    <a:pt x="655" y="226"/>
                  </a:lnTo>
                  <a:lnTo>
                    <a:pt x="645" y="256"/>
                  </a:lnTo>
                  <a:lnTo>
                    <a:pt x="639" y="275"/>
                  </a:lnTo>
                  <a:lnTo>
                    <a:pt x="570" y="329"/>
                  </a:lnTo>
                  <a:lnTo>
                    <a:pt x="507" y="365"/>
                  </a:lnTo>
                  <a:lnTo>
                    <a:pt x="499" y="391"/>
                  </a:lnTo>
                  <a:lnTo>
                    <a:pt x="520" y="397"/>
                  </a:lnTo>
                  <a:lnTo>
                    <a:pt x="613" y="329"/>
                  </a:lnTo>
                  <a:lnTo>
                    <a:pt x="659" y="314"/>
                  </a:lnTo>
                  <a:lnTo>
                    <a:pt x="683" y="358"/>
                  </a:lnTo>
                  <a:lnTo>
                    <a:pt x="691" y="377"/>
                  </a:lnTo>
                  <a:lnTo>
                    <a:pt x="668" y="397"/>
                  </a:lnTo>
                  <a:lnTo>
                    <a:pt x="646" y="413"/>
                  </a:lnTo>
                  <a:lnTo>
                    <a:pt x="645" y="439"/>
                  </a:lnTo>
                  <a:lnTo>
                    <a:pt x="652" y="466"/>
                  </a:lnTo>
                  <a:lnTo>
                    <a:pt x="632" y="490"/>
                  </a:lnTo>
                  <a:lnTo>
                    <a:pt x="574" y="516"/>
                  </a:lnTo>
                  <a:lnTo>
                    <a:pt x="488" y="552"/>
                  </a:lnTo>
                  <a:lnTo>
                    <a:pt x="520" y="564"/>
                  </a:lnTo>
                  <a:lnTo>
                    <a:pt x="607" y="529"/>
                  </a:lnTo>
                  <a:lnTo>
                    <a:pt x="678" y="493"/>
                  </a:lnTo>
                  <a:lnTo>
                    <a:pt x="691" y="501"/>
                  </a:lnTo>
                  <a:lnTo>
                    <a:pt x="683" y="524"/>
                  </a:lnTo>
                  <a:lnTo>
                    <a:pt x="659" y="548"/>
                  </a:lnTo>
                  <a:lnTo>
                    <a:pt x="652" y="571"/>
                  </a:lnTo>
                  <a:lnTo>
                    <a:pt x="662" y="601"/>
                  </a:lnTo>
                  <a:lnTo>
                    <a:pt x="691" y="626"/>
                  </a:lnTo>
                  <a:lnTo>
                    <a:pt x="691" y="646"/>
                  </a:lnTo>
                  <a:lnTo>
                    <a:pt x="645" y="656"/>
                  </a:lnTo>
                  <a:lnTo>
                    <a:pt x="606" y="708"/>
                  </a:lnTo>
                  <a:lnTo>
                    <a:pt x="558" y="739"/>
                  </a:lnTo>
                  <a:lnTo>
                    <a:pt x="496" y="755"/>
                  </a:lnTo>
                  <a:lnTo>
                    <a:pt x="491" y="771"/>
                  </a:lnTo>
                  <a:lnTo>
                    <a:pt x="530" y="765"/>
                  </a:lnTo>
                  <a:lnTo>
                    <a:pt x="613" y="739"/>
                  </a:lnTo>
                  <a:lnTo>
                    <a:pt x="645" y="716"/>
                  </a:lnTo>
                  <a:lnTo>
                    <a:pt x="662" y="692"/>
                  </a:lnTo>
                  <a:lnTo>
                    <a:pt x="691" y="688"/>
                  </a:lnTo>
                  <a:lnTo>
                    <a:pt x="691" y="716"/>
                  </a:lnTo>
                  <a:lnTo>
                    <a:pt x="709" y="742"/>
                  </a:lnTo>
                  <a:lnTo>
                    <a:pt x="725" y="771"/>
                  </a:lnTo>
                  <a:lnTo>
                    <a:pt x="714" y="794"/>
                  </a:lnTo>
                  <a:lnTo>
                    <a:pt x="678" y="810"/>
                  </a:lnTo>
                  <a:lnTo>
                    <a:pt x="645" y="820"/>
                  </a:lnTo>
                  <a:lnTo>
                    <a:pt x="620" y="843"/>
                  </a:lnTo>
                  <a:lnTo>
                    <a:pt x="515" y="875"/>
                  </a:lnTo>
                  <a:lnTo>
                    <a:pt x="436" y="903"/>
                  </a:lnTo>
                  <a:lnTo>
                    <a:pt x="406" y="918"/>
                  </a:lnTo>
                  <a:lnTo>
                    <a:pt x="429" y="937"/>
                  </a:lnTo>
                  <a:lnTo>
                    <a:pt x="475" y="926"/>
                  </a:lnTo>
                  <a:lnTo>
                    <a:pt x="570" y="889"/>
                  </a:lnTo>
                  <a:lnTo>
                    <a:pt x="632" y="872"/>
                  </a:lnTo>
                  <a:lnTo>
                    <a:pt x="646" y="898"/>
                  </a:lnTo>
                  <a:lnTo>
                    <a:pt x="662" y="945"/>
                  </a:lnTo>
                  <a:lnTo>
                    <a:pt x="691" y="984"/>
                  </a:lnTo>
                  <a:lnTo>
                    <a:pt x="694" y="1014"/>
                  </a:lnTo>
                  <a:lnTo>
                    <a:pt x="691" y="1043"/>
                  </a:lnTo>
                  <a:lnTo>
                    <a:pt x="659" y="1053"/>
                  </a:lnTo>
                  <a:lnTo>
                    <a:pt x="606" y="1066"/>
                  </a:lnTo>
                  <a:lnTo>
                    <a:pt x="535" y="1098"/>
                  </a:lnTo>
                  <a:lnTo>
                    <a:pt x="433" y="1113"/>
                  </a:lnTo>
                  <a:lnTo>
                    <a:pt x="396" y="1131"/>
                  </a:lnTo>
                  <a:lnTo>
                    <a:pt x="422" y="1144"/>
                  </a:lnTo>
                  <a:lnTo>
                    <a:pt x="512" y="1131"/>
                  </a:lnTo>
                  <a:lnTo>
                    <a:pt x="574" y="1108"/>
                  </a:lnTo>
                  <a:lnTo>
                    <a:pt x="616" y="1092"/>
                  </a:lnTo>
                  <a:lnTo>
                    <a:pt x="652" y="1085"/>
                  </a:lnTo>
                  <a:lnTo>
                    <a:pt x="646" y="1113"/>
                  </a:lnTo>
                  <a:lnTo>
                    <a:pt x="662" y="1152"/>
                  </a:lnTo>
                  <a:lnTo>
                    <a:pt x="686" y="1175"/>
                  </a:lnTo>
                  <a:lnTo>
                    <a:pt x="691" y="1201"/>
                  </a:lnTo>
                  <a:lnTo>
                    <a:pt x="691" y="1224"/>
                  </a:lnTo>
                  <a:lnTo>
                    <a:pt x="659" y="1237"/>
                  </a:lnTo>
                  <a:lnTo>
                    <a:pt x="600" y="1240"/>
                  </a:lnTo>
                  <a:lnTo>
                    <a:pt x="558" y="1253"/>
                  </a:lnTo>
                  <a:lnTo>
                    <a:pt x="465" y="1285"/>
                  </a:lnTo>
                  <a:lnTo>
                    <a:pt x="413" y="1286"/>
                  </a:lnTo>
                  <a:lnTo>
                    <a:pt x="396" y="1310"/>
                  </a:lnTo>
                  <a:lnTo>
                    <a:pt x="419" y="1318"/>
                  </a:lnTo>
                  <a:lnTo>
                    <a:pt x="465" y="1308"/>
                  </a:lnTo>
                  <a:lnTo>
                    <a:pt x="535" y="1286"/>
                  </a:lnTo>
                  <a:lnTo>
                    <a:pt x="574" y="1272"/>
                  </a:lnTo>
                  <a:lnTo>
                    <a:pt x="623" y="1260"/>
                  </a:lnTo>
                  <a:lnTo>
                    <a:pt x="662" y="1263"/>
                  </a:lnTo>
                  <a:lnTo>
                    <a:pt x="675" y="1263"/>
                  </a:lnTo>
                  <a:lnTo>
                    <a:pt x="675" y="1299"/>
                  </a:lnTo>
                  <a:lnTo>
                    <a:pt x="686" y="1318"/>
                  </a:lnTo>
                  <a:lnTo>
                    <a:pt x="616" y="1334"/>
                  </a:lnTo>
                  <a:lnTo>
                    <a:pt x="554" y="1381"/>
                  </a:lnTo>
                  <a:lnTo>
                    <a:pt x="484" y="1404"/>
                  </a:lnTo>
                  <a:lnTo>
                    <a:pt x="436" y="1411"/>
                  </a:lnTo>
                  <a:lnTo>
                    <a:pt x="397" y="1433"/>
                  </a:lnTo>
                  <a:lnTo>
                    <a:pt x="413" y="1447"/>
                  </a:lnTo>
                  <a:lnTo>
                    <a:pt x="452" y="1434"/>
                  </a:lnTo>
                  <a:lnTo>
                    <a:pt x="496" y="1420"/>
                  </a:lnTo>
                  <a:lnTo>
                    <a:pt x="546" y="1411"/>
                  </a:lnTo>
                  <a:lnTo>
                    <a:pt x="590" y="1385"/>
                  </a:lnTo>
                  <a:lnTo>
                    <a:pt x="613" y="1362"/>
                  </a:lnTo>
                  <a:lnTo>
                    <a:pt x="645" y="1357"/>
                  </a:lnTo>
                  <a:lnTo>
                    <a:pt x="683" y="1357"/>
                  </a:lnTo>
                  <a:lnTo>
                    <a:pt x="694" y="1362"/>
                  </a:lnTo>
                  <a:lnTo>
                    <a:pt x="707" y="1388"/>
                  </a:lnTo>
                  <a:lnTo>
                    <a:pt x="714" y="1420"/>
                  </a:lnTo>
                  <a:lnTo>
                    <a:pt x="707" y="1447"/>
                  </a:lnTo>
                  <a:lnTo>
                    <a:pt x="691" y="1463"/>
                  </a:lnTo>
                  <a:lnTo>
                    <a:pt x="678" y="1502"/>
                  </a:lnTo>
                  <a:lnTo>
                    <a:pt x="691" y="1518"/>
                  </a:lnTo>
                  <a:lnTo>
                    <a:pt x="707" y="1534"/>
                  </a:lnTo>
                  <a:lnTo>
                    <a:pt x="707" y="1549"/>
                  </a:lnTo>
                  <a:lnTo>
                    <a:pt x="686" y="1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73720" y="2995560"/>
              <a:ext cx="123480" cy="41040"/>
            </a:xfrm>
            <a:custGeom>
              <a:avLst/>
              <a:gdLst/>
              <a:ahLst/>
              <a:rect l="l" t="t" r="r" b="b"/>
              <a:pathLst>
                <a:path w="233" h="77">
                  <a:moveTo>
                    <a:pt x="0" y="62"/>
                  </a:moveTo>
                  <a:lnTo>
                    <a:pt x="93" y="59"/>
                  </a:lnTo>
                  <a:lnTo>
                    <a:pt x="129" y="39"/>
                  </a:lnTo>
                  <a:lnTo>
                    <a:pt x="159" y="16"/>
                  </a:lnTo>
                  <a:lnTo>
                    <a:pt x="217" y="0"/>
                  </a:lnTo>
                  <a:lnTo>
                    <a:pt x="233" y="16"/>
                  </a:lnTo>
                  <a:lnTo>
                    <a:pt x="209" y="23"/>
                  </a:lnTo>
                  <a:lnTo>
                    <a:pt x="168" y="45"/>
                  </a:lnTo>
                  <a:lnTo>
                    <a:pt x="146" y="59"/>
                  </a:lnTo>
                  <a:lnTo>
                    <a:pt x="109" y="69"/>
                  </a:lnTo>
                  <a:lnTo>
                    <a:pt x="51" y="75"/>
                  </a:lnTo>
                  <a:lnTo>
                    <a:pt x="4" y="7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84720" y="2108160"/>
              <a:ext cx="358560" cy="195120"/>
            </a:xfrm>
            <a:custGeom>
              <a:avLst/>
              <a:gdLst/>
              <a:ahLst/>
              <a:rect l="l" t="t" r="r" b="b"/>
              <a:pathLst>
                <a:path w="678" h="368">
                  <a:moveTo>
                    <a:pt x="20" y="42"/>
                  </a:moveTo>
                  <a:lnTo>
                    <a:pt x="102" y="46"/>
                  </a:lnTo>
                  <a:lnTo>
                    <a:pt x="187" y="49"/>
                  </a:lnTo>
                  <a:lnTo>
                    <a:pt x="242" y="49"/>
                  </a:lnTo>
                  <a:lnTo>
                    <a:pt x="286" y="39"/>
                  </a:lnTo>
                  <a:lnTo>
                    <a:pt x="357" y="19"/>
                  </a:lnTo>
                  <a:lnTo>
                    <a:pt x="390" y="0"/>
                  </a:lnTo>
                  <a:lnTo>
                    <a:pt x="436" y="26"/>
                  </a:lnTo>
                  <a:lnTo>
                    <a:pt x="512" y="78"/>
                  </a:lnTo>
                  <a:lnTo>
                    <a:pt x="567" y="116"/>
                  </a:lnTo>
                  <a:lnTo>
                    <a:pt x="636" y="165"/>
                  </a:lnTo>
                  <a:lnTo>
                    <a:pt x="678" y="203"/>
                  </a:lnTo>
                  <a:lnTo>
                    <a:pt x="639" y="236"/>
                  </a:lnTo>
                  <a:lnTo>
                    <a:pt x="600" y="272"/>
                  </a:lnTo>
                  <a:lnTo>
                    <a:pt x="538" y="298"/>
                  </a:lnTo>
                  <a:lnTo>
                    <a:pt x="473" y="326"/>
                  </a:lnTo>
                  <a:lnTo>
                    <a:pt x="413" y="349"/>
                  </a:lnTo>
                  <a:lnTo>
                    <a:pt x="358" y="358"/>
                  </a:lnTo>
                  <a:lnTo>
                    <a:pt x="302" y="368"/>
                  </a:lnTo>
                  <a:lnTo>
                    <a:pt x="231" y="318"/>
                  </a:lnTo>
                  <a:lnTo>
                    <a:pt x="177" y="275"/>
                  </a:lnTo>
                  <a:lnTo>
                    <a:pt x="115" y="220"/>
                  </a:lnTo>
                  <a:lnTo>
                    <a:pt x="63" y="165"/>
                  </a:lnTo>
                  <a:lnTo>
                    <a:pt x="23" y="127"/>
                  </a:lnTo>
                  <a:lnTo>
                    <a:pt x="0" y="72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75360" y="2101680"/>
              <a:ext cx="387000" cy="227160"/>
            </a:xfrm>
            <a:custGeom>
              <a:avLst/>
              <a:gdLst/>
              <a:ahLst/>
              <a:rect l="l" t="t" r="r" b="b"/>
              <a:pathLst>
                <a:path w="733" h="429">
                  <a:moveTo>
                    <a:pt x="359" y="367"/>
                  </a:moveTo>
                  <a:lnTo>
                    <a:pt x="475" y="335"/>
                  </a:lnTo>
                  <a:lnTo>
                    <a:pt x="569" y="294"/>
                  </a:lnTo>
                  <a:lnTo>
                    <a:pt x="637" y="246"/>
                  </a:lnTo>
                  <a:lnTo>
                    <a:pt x="663" y="219"/>
                  </a:lnTo>
                  <a:lnTo>
                    <a:pt x="566" y="131"/>
                  </a:lnTo>
                  <a:lnTo>
                    <a:pt x="488" y="83"/>
                  </a:lnTo>
                  <a:lnTo>
                    <a:pt x="413" y="36"/>
                  </a:lnTo>
                  <a:lnTo>
                    <a:pt x="398" y="36"/>
                  </a:lnTo>
                  <a:lnTo>
                    <a:pt x="350" y="52"/>
                  </a:lnTo>
                  <a:lnTo>
                    <a:pt x="288" y="70"/>
                  </a:lnTo>
                  <a:lnTo>
                    <a:pt x="177" y="78"/>
                  </a:lnTo>
                  <a:lnTo>
                    <a:pt x="68" y="75"/>
                  </a:lnTo>
                  <a:lnTo>
                    <a:pt x="39" y="78"/>
                  </a:lnTo>
                  <a:lnTo>
                    <a:pt x="39" y="99"/>
                  </a:lnTo>
                  <a:lnTo>
                    <a:pt x="62" y="131"/>
                  </a:lnTo>
                  <a:lnTo>
                    <a:pt x="107" y="187"/>
                  </a:lnTo>
                  <a:lnTo>
                    <a:pt x="164" y="233"/>
                  </a:lnTo>
                  <a:lnTo>
                    <a:pt x="233" y="301"/>
                  </a:lnTo>
                  <a:lnTo>
                    <a:pt x="301" y="351"/>
                  </a:lnTo>
                  <a:lnTo>
                    <a:pt x="343" y="380"/>
                  </a:lnTo>
                  <a:lnTo>
                    <a:pt x="356" y="410"/>
                  </a:lnTo>
                  <a:lnTo>
                    <a:pt x="340" y="429"/>
                  </a:lnTo>
                  <a:lnTo>
                    <a:pt x="317" y="419"/>
                  </a:lnTo>
                  <a:lnTo>
                    <a:pt x="249" y="357"/>
                  </a:lnTo>
                  <a:lnTo>
                    <a:pt x="164" y="286"/>
                  </a:lnTo>
                  <a:lnTo>
                    <a:pt x="101" y="233"/>
                  </a:lnTo>
                  <a:lnTo>
                    <a:pt x="59" y="187"/>
                  </a:lnTo>
                  <a:lnTo>
                    <a:pt x="23" y="138"/>
                  </a:lnTo>
                  <a:lnTo>
                    <a:pt x="7" y="106"/>
                  </a:lnTo>
                  <a:lnTo>
                    <a:pt x="0" y="70"/>
                  </a:lnTo>
                  <a:lnTo>
                    <a:pt x="10" y="47"/>
                  </a:lnTo>
                  <a:lnTo>
                    <a:pt x="36" y="36"/>
                  </a:lnTo>
                  <a:lnTo>
                    <a:pt x="82" y="39"/>
                  </a:lnTo>
                  <a:lnTo>
                    <a:pt x="171" y="52"/>
                  </a:lnTo>
                  <a:lnTo>
                    <a:pt x="246" y="52"/>
                  </a:lnTo>
                  <a:lnTo>
                    <a:pt x="301" y="36"/>
                  </a:lnTo>
                  <a:lnTo>
                    <a:pt x="363" y="23"/>
                  </a:lnTo>
                  <a:lnTo>
                    <a:pt x="390" y="0"/>
                  </a:lnTo>
                  <a:lnTo>
                    <a:pt x="419" y="0"/>
                  </a:lnTo>
                  <a:lnTo>
                    <a:pt x="484" y="39"/>
                  </a:lnTo>
                  <a:lnTo>
                    <a:pt x="553" y="93"/>
                  </a:lnTo>
                  <a:lnTo>
                    <a:pt x="629" y="141"/>
                  </a:lnTo>
                  <a:lnTo>
                    <a:pt x="671" y="171"/>
                  </a:lnTo>
                  <a:lnTo>
                    <a:pt x="714" y="200"/>
                  </a:lnTo>
                  <a:lnTo>
                    <a:pt x="733" y="210"/>
                  </a:lnTo>
                  <a:lnTo>
                    <a:pt x="723" y="232"/>
                  </a:lnTo>
                  <a:lnTo>
                    <a:pt x="691" y="249"/>
                  </a:lnTo>
                  <a:lnTo>
                    <a:pt x="655" y="281"/>
                  </a:lnTo>
                  <a:lnTo>
                    <a:pt x="621" y="294"/>
                  </a:lnTo>
                  <a:lnTo>
                    <a:pt x="559" y="320"/>
                  </a:lnTo>
                  <a:lnTo>
                    <a:pt x="514" y="341"/>
                  </a:lnTo>
                  <a:lnTo>
                    <a:pt x="465" y="371"/>
                  </a:lnTo>
                  <a:lnTo>
                    <a:pt x="413" y="380"/>
                  </a:lnTo>
                  <a:lnTo>
                    <a:pt x="372" y="383"/>
                  </a:lnTo>
                  <a:lnTo>
                    <a:pt x="359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94240" y="2274840"/>
              <a:ext cx="122040" cy="77760"/>
            </a:xfrm>
            <a:custGeom>
              <a:avLst/>
              <a:gdLst/>
              <a:ahLst/>
              <a:rect l="l" t="t" r="r" b="b"/>
              <a:pathLst>
                <a:path w="232" h="147">
                  <a:moveTo>
                    <a:pt x="196" y="17"/>
                  </a:moveTo>
                  <a:lnTo>
                    <a:pt x="147" y="56"/>
                  </a:lnTo>
                  <a:lnTo>
                    <a:pt x="102" y="92"/>
                  </a:lnTo>
                  <a:lnTo>
                    <a:pt x="36" y="116"/>
                  </a:lnTo>
                  <a:lnTo>
                    <a:pt x="0" y="127"/>
                  </a:lnTo>
                  <a:lnTo>
                    <a:pt x="29" y="147"/>
                  </a:lnTo>
                  <a:lnTo>
                    <a:pt x="76" y="140"/>
                  </a:lnTo>
                  <a:lnTo>
                    <a:pt x="148" y="92"/>
                  </a:lnTo>
                  <a:lnTo>
                    <a:pt x="232" y="0"/>
                  </a:lnTo>
                  <a:lnTo>
                    <a:pt x="19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041560" y="4708440"/>
            <a:ext cx="390600" cy="679320"/>
            <a:chOff x="2041560" y="4708440"/>
            <a:chExt cx="390600" cy="679320"/>
          </a:xfrm>
        </p:grpSpPr>
        <p:sp>
          <p:nvSpPr>
            <p:cNvPr id="377" name=""/>
            <p:cNvSpPr/>
            <p:nvPr/>
          </p:nvSpPr>
          <p:spPr>
            <a:xfrm>
              <a:off x="2041560" y="4708440"/>
              <a:ext cx="266760" cy="318960"/>
            </a:xfrm>
            <a:custGeom>
              <a:avLst/>
              <a:gdLst/>
              <a:ahLst/>
              <a:rect l="l" t="t" r="r" b="b"/>
              <a:pathLst>
                <a:path w="502" h="605">
                  <a:moveTo>
                    <a:pt x="0" y="325"/>
                  </a:moveTo>
                  <a:lnTo>
                    <a:pt x="30" y="176"/>
                  </a:lnTo>
                  <a:lnTo>
                    <a:pt x="118" y="73"/>
                  </a:lnTo>
                  <a:lnTo>
                    <a:pt x="213" y="15"/>
                  </a:lnTo>
                  <a:lnTo>
                    <a:pt x="332" y="0"/>
                  </a:lnTo>
                  <a:lnTo>
                    <a:pt x="450" y="81"/>
                  </a:lnTo>
                  <a:lnTo>
                    <a:pt x="502" y="162"/>
                  </a:lnTo>
                  <a:lnTo>
                    <a:pt x="502" y="221"/>
                  </a:lnTo>
                  <a:lnTo>
                    <a:pt x="471" y="258"/>
                  </a:lnTo>
                  <a:lnTo>
                    <a:pt x="332" y="294"/>
                  </a:lnTo>
                  <a:lnTo>
                    <a:pt x="288" y="302"/>
                  </a:lnTo>
                  <a:lnTo>
                    <a:pt x="317" y="420"/>
                  </a:lnTo>
                  <a:lnTo>
                    <a:pt x="420" y="464"/>
                  </a:lnTo>
                  <a:lnTo>
                    <a:pt x="465" y="538"/>
                  </a:lnTo>
                  <a:lnTo>
                    <a:pt x="412" y="597"/>
                  </a:lnTo>
                  <a:lnTo>
                    <a:pt x="206" y="605"/>
                  </a:lnTo>
                  <a:lnTo>
                    <a:pt x="110" y="531"/>
                  </a:lnTo>
                  <a:lnTo>
                    <a:pt x="30" y="399"/>
                  </a:lnTo>
                  <a:lnTo>
                    <a:pt x="15" y="287"/>
                  </a:lnTo>
                  <a:lnTo>
                    <a:pt x="15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139840" y="4973400"/>
              <a:ext cx="292320" cy="414360"/>
              <a:chOff x="2139840" y="4973400"/>
              <a:chExt cx="292320" cy="414360"/>
            </a:xfrm>
          </p:grpSpPr>
          <p:sp>
            <p:nvSpPr>
              <p:cNvPr id="379" name=""/>
              <p:cNvSpPr/>
              <p:nvPr/>
            </p:nvSpPr>
            <p:spPr>
              <a:xfrm>
                <a:off x="2239920" y="4973400"/>
                <a:ext cx="192240" cy="365040"/>
              </a:xfrm>
              <a:custGeom>
                <a:avLst/>
                <a:gdLst/>
                <a:ahLst/>
                <a:rect l="l" t="t" r="r" b="b"/>
                <a:pathLst>
                  <a:path w="361" h="689">
                    <a:moveTo>
                      <a:pt x="120" y="27"/>
                    </a:moveTo>
                    <a:lnTo>
                      <a:pt x="78" y="0"/>
                    </a:lnTo>
                    <a:lnTo>
                      <a:pt x="21" y="0"/>
                    </a:lnTo>
                    <a:lnTo>
                      <a:pt x="0" y="36"/>
                    </a:lnTo>
                    <a:lnTo>
                      <a:pt x="9" y="92"/>
                    </a:lnTo>
                    <a:lnTo>
                      <a:pt x="59" y="148"/>
                    </a:lnTo>
                    <a:lnTo>
                      <a:pt x="161" y="197"/>
                    </a:lnTo>
                    <a:lnTo>
                      <a:pt x="278" y="305"/>
                    </a:lnTo>
                    <a:lnTo>
                      <a:pt x="297" y="352"/>
                    </a:lnTo>
                    <a:lnTo>
                      <a:pt x="288" y="373"/>
                    </a:lnTo>
                    <a:lnTo>
                      <a:pt x="198" y="444"/>
                    </a:lnTo>
                    <a:lnTo>
                      <a:pt x="92" y="529"/>
                    </a:lnTo>
                    <a:lnTo>
                      <a:pt x="68" y="565"/>
                    </a:lnTo>
                    <a:lnTo>
                      <a:pt x="68" y="602"/>
                    </a:lnTo>
                    <a:lnTo>
                      <a:pt x="149" y="642"/>
                    </a:lnTo>
                    <a:lnTo>
                      <a:pt x="272" y="689"/>
                    </a:lnTo>
                    <a:lnTo>
                      <a:pt x="316" y="689"/>
                    </a:lnTo>
                    <a:lnTo>
                      <a:pt x="361" y="658"/>
                    </a:lnTo>
                    <a:lnTo>
                      <a:pt x="361" y="633"/>
                    </a:lnTo>
                    <a:lnTo>
                      <a:pt x="328" y="621"/>
                    </a:lnTo>
                    <a:lnTo>
                      <a:pt x="170" y="602"/>
                    </a:lnTo>
                    <a:lnTo>
                      <a:pt x="111" y="586"/>
                    </a:lnTo>
                    <a:lnTo>
                      <a:pt x="106" y="559"/>
                    </a:lnTo>
                    <a:lnTo>
                      <a:pt x="207" y="482"/>
                    </a:lnTo>
                    <a:lnTo>
                      <a:pt x="318" y="407"/>
                    </a:lnTo>
                    <a:lnTo>
                      <a:pt x="343" y="380"/>
                    </a:lnTo>
                    <a:lnTo>
                      <a:pt x="352" y="343"/>
                    </a:lnTo>
                    <a:lnTo>
                      <a:pt x="343" y="290"/>
                    </a:lnTo>
                    <a:lnTo>
                      <a:pt x="309" y="250"/>
                    </a:lnTo>
                    <a:lnTo>
                      <a:pt x="198" y="114"/>
                    </a:lnTo>
                    <a:lnTo>
                      <a:pt x="12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39840" y="5022720"/>
                <a:ext cx="190800" cy="365040"/>
              </a:xfrm>
              <a:custGeom>
                <a:avLst/>
                <a:gdLst/>
                <a:ahLst/>
                <a:rect l="l" t="t" r="r" b="b"/>
                <a:pathLst>
                  <a:path w="359" h="689">
                    <a:moveTo>
                      <a:pt x="119" y="27"/>
                    </a:moveTo>
                    <a:lnTo>
                      <a:pt x="77" y="0"/>
                    </a:lnTo>
                    <a:lnTo>
                      <a:pt x="22" y="0"/>
                    </a:lnTo>
                    <a:lnTo>
                      <a:pt x="0" y="36"/>
                    </a:lnTo>
                    <a:lnTo>
                      <a:pt x="10" y="93"/>
                    </a:lnTo>
                    <a:lnTo>
                      <a:pt x="59" y="149"/>
                    </a:lnTo>
                    <a:lnTo>
                      <a:pt x="160" y="197"/>
                    </a:lnTo>
                    <a:lnTo>
                      <a:pt x="276" y="305"/>
                    </a:lnTo>
                    <a:lnTo>
                      <a:pt x="295" y="352"/>
                    </a:lnTo>
                    <a:lnTo>
                      <a:pt x="285" y="374"/>
                    </a:lnTo>
                    <a:lnTo>
                      <a:pt x="197" y="445"/>
                    </a:lnTo>
                    <a:lnTo>
                      <a:pt x="93" y="529"/>
                    </a:lnTo>
                    <a:lnTo>
                      <a:pt x="68" y="565"/>
                    </a:lnTo>
                    <a:lnTo>
                      <a:pt x="68" y="602"/>
                    </a:lnTo>
                    <a:lnTo>
                      <a:pt x="147" y="643"/>
                    </a:lnTo>
                    <a:lnTo>
                      <a:pt x="271" y="689"/>
                    </a:lnTo>
                    <a:lnTo>
                      <a:pt x="313" y="689"/>
                    </a:lnTo>
                    <a:lnTo>
                      <a:pt x="359" y="659"/>
                    </a:lnTo>
                    <a:lnTo>
                      <a:pt x="359" y="633"/>
                    </a:lnTo>
                    <a:lnTo>
                      <a:pt x="325" y="621"/>
                    </a:lnTo>
                    <a:lnTo>
                      <a:pt x="169" y="602"/>
                    </a:lnTo>
                    <a:lnTo>
                      <a:pt x="111" y="586"/>
                    </a:lnTo>
                    <a:lnTo>
                      <a:pt x="105" y="560"/>
                    </a:lnTo>
                    <a:lnTo>
                      <a:pt x="206" y="482"/>
                    </a:lnTo>
                    <a:lnTo>
                      <a:pt x="316" y="407"/>
                    </a:lnTo>
                    <a:lnTo>
                      <a:pt x="340" y="380"/>
                    </a:lnTo>
                    <a:lnTo>
                      <a:pt x="350" y="343"/>
                    </a:lnTo>
                    <a:lnTo>
                      <a:pt x="340" y="291"/>
                    </a:lnTo>
                    <a:lnTo>
                      <a:pt x="307" y="251"/>
                    </a:lnTo>
                    <a:lnTo>
                      <a:pt x="197" y="114"/>
                    </a:lnTo>
                    <a:lnTo>
                      <a:pt x="11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1604880" y="4668840"/>
            <a:ext cx="1567080" cy="1287360"/>
            <a:chOff x="1604880" y="4668840"/>
            <a:chExt cx="1567080" cy="1287360"/>
          </a:xfrm>
        </p:grpSpPr>
        <p:sp>
          <p:nvSpPr>
            <p:cNvPr id="382" name=""/>
            <p:cNvSpPr/>
            <p:nvPr/>
          </p:nvSpPr>
          <p:spPr>
            <a:xfrm>
              <a:off x="1604880" y="4668840"/>
              <a:ext cx="1567080" cy="1287360"/>
            </a:xfrm>
            <a:custGeom>
              <a:avLst/>
              <a:gdLst/>
              <a:ahLst/>
              <a:rect l="l" t="t" r="r" b="b"/>
              <a:pathLst>
                <a:path w="2961" h="2433">
                  <a:moveTo>
                    <a:pt x="24" y="1718"/>
                  </a:moveTo>
                  <a:lnTo>
                    <a:pt x="16" y="1545"/>
                  </a:lnTo>
                  <a:lnTo>
                    <a:pt x="40" y="1397"/>
                  </a:lnTo>
                  <a:lnTo>
                    <a:pt x="40" y="1255"/>
                  </a:lnTo>
                  <a:lnTo>
                    <a:pt x="8" y="1082"/>
                  </a:lnTo>
                  <a:lnTo>
                    <a:pt x="0" y="950"/>
                  </a:lnTo>
                  <a:lnTo>
                    <a:pt x="8" y="808"/>
                  </a:lnTo>
                  <a:lnTo>
                    <a:pt x="40" y="722"/>
                  </a:lnTo>
                  <a:lnTo>
                    <a:pt x="127" y="660"/>
                  </a:lnTo>
                  <a:lnTo>
                    <a:pt x="237" y="581"/>
                  </a:lnTo>
                  <a:lnTo>
                    <a:pt x="497" y="494"/>
                  </a:lnTo>
                  <a:lnTo>
                    <a:pt x="756" y="432"/>
                  </a:lnTo>
                  <a:lnTo>
                    <a:pt x="985" y="392"/>
                  </a:lnTo>
                  <a:lnTo>
                    <a:pt x="1174" y="384"/>
                  </a:lnTo>
                  <a:lnTo>
                    <a:pt x="1355" y="329"/>
                  </a:lnTo>
                  <a:lnTo>
                    <a:pt x="1512" y="290"/>
                  </a:lnTo>
                  <a:lnTo>
                    <a:pt x="1590" y="259"/>
                  </a:lnTo>
                  <a:lnTo>
                    <a:pt x="1716" y="219"/>
                  </a:lnTo>
                  <a:lnTo>
                    <a:pt x="1827" y="164"/>
                  </a:lnTo>
                  <a:lnTo>
                    <a:pt x="1929" y="71"/>
                  </a:lnTo>
                  <a:lnTo>
                    <a:pt x="2047" y="39"/>
                  </a:lnTo>
                  <a:lnTo>
                    <a:pt x="2196" y="0"/>
                  </a:lnTo>
                  <a:lnTo>
                    <a:pt x="2267" y="8"/>
                  </a:lnTo>
                  <a:lnTo>
                    <a:pt x="2330" y="63"/>
                  </a:lnTo>
                  <a:lnTo>
                    <a:pt x="2519" y="219"/>
                  </a:lnTo>
                  <a:lnTo>
                    <a:pt x="2740" y="439"/>
                  </a:lnTo>
                  <a:lnTo>
                    <a:pt x="2890" y="573"/>
                  </a:lnTo>
                  <a:lnTo>
                    <a:pt x="2961" y="666"/>
                  </a:lnTo>
                  <a:lnTo>
                    <a:pt x="2961" y="729"/>
                  </a:lnTo>
                  <a:lnTo>
                    <a:pt x="2929" y="784"/>
                  </a:lnTo>
                  <a:lnTo>
                    <a:pt x="2896" y="887"/>
                  </a:lnTo>
                  <a:lnTo>
                    <a:pt x="2896" y="1145"/>
                  </a:lnTo>
                  <a:lnTo>
                    <a:pt x="2882" y="1350"/>
                  </a:lnTo>
                  <a:lnTo>
                    <a:pt x="2858" y="1499"/>
                  </a:lnTo>
                  <a:lnTo>
                    <a:pt x="2819" y="1608"/>
                  </a:lnTo>
                  <a:lnTo>
                    <a:pt x="2748" y="1632"/>
                  </a:lnTo>
                  <a:lnTo>
                    <a:pt x="2716" y="1600"/>
                  </a:lnTo>
                  <a:lnTo>
                    <a:pt x="2732" y="1545"/>
                  </a:lnTo>
                  <a:lnTo>
                    <a:pt x="2740" y="1413"/>
                  </a:lnTo>
                  <a:lnTo>
                    <a:pt x="2566" y="1491"/>
                  </a:lnTo>
                  <a:lnTo>
                    <a:pt x="2464" y="1545"/>
                  </a:lnTo>
                  <a:lnTo>
                    <a:pt x="2330" y="1578"/>
                  </a:lnTo>
                  <a:lnTo>
                    <a:pt x="2229" y="1624"/>
                  </a:lnTo>
                  <a:lnTo>
                    <a:pt x="2103" y="1710"/>
                  </a:lnTo>
                  <a:lnTo>
                    <a:pt x="1984" y="1773"/>
                  </a:lnTo>
                  <a:lnTo>
                    <a:pt x="1803" y="1860"/>
                  </a:lnTo>
                  <a:lnTo>
                    <a:pt x="1685" y="1899"/>
                  </a:lnTo>
                  <a:lnTo>
                    <a:pt x="1512" y="1978"/>
                  </a:lnTo>
                  <a:lnTo>
                    <a:pt x="1316" y="2016"/>
                  </a:lnTo>
                  <a:lnTo>
                    <a:pt x="1174" y="2057"/>
                  </a:lnTo>
                  <a:lnTo>
                    <a:pt x="1016" y="2095"/>
                  </a:lnTo>
                  <a:lnTo>
                    <a:pt x="937" y="2134"/>
                  </a:lnTo>
                  <a:lnTo>
                    <a:pt x="906" y="2213"/>
                  </a:lnTo>
                  <a:lnTo>
                    <a:pt x="898" y="2331"/>
                  </a:lnTo>
                  <a:lnTo>
                    <a:pt x="874" y="2394"/>
                  </a:lnTo>
                  <a:lnTo>
                    <a:pt x="803" y="2433"/>
                  </a:lnTo>
                  <a:lnTo>
                    <a:pt x="693" y="2370"/>
                  </a:lnTo>
                  <a:lnTo>
                    <a:pt x="661" y="2276"/>
                  </a:lnTo>
                  <a:lnTo>
                    <a:pt x="701" y="2197"/>
                  </a:lnTo>
                  <a:lnTo>
                    <a:pt x="677" y="2150"/>
                  </a:lnTo>
                  <a:lnTo>
                    <a:pt x="527" y="1986"/>
                  </a:lnTo>
                  <a:lnTo>
                    <a:pt x="316" y="1789"/>
                  </a:lnTo>
                  <a:lnTo>
                    <a:pt x="182" y="1663"/>
                  </a:lnTo>
                  <a:lnTo>
                    <a:pt x="127" y="1632"/>
                  </a:lnTo>
                  <a:lnTo>
                    <a:pt x="103" y="1687"/>
                  </a:lnTo>
                  <a:lnTo>
                    <a:pt x="127" y="1789"/>
                  </a:lnTo>
                  <a:lnTo>
                    <a:pt x="24" y="1718"/>
                  </a:lnTo>
                  <a:close/>
                </a:path>
              </a:pathLst>
            </a:custGeom>
            <a:solidFill>
              <a:srgbClr val="99663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7200" y="5041800"/>
              <a:ext cx="1536840" cy="909000"/>
            </a:xfrm>
            <a:custGeom>
              <a:avLst/>
              <a:gdLst/>
              <a:ahLst/>
              <a:rect l="l" t="t" r="r" b="b"/>
              <a:pathLst>
                <a:path w="2904" h="1720">
                  <a:moveTo>
                    <a:pt x="740" y="1689"/>
                  </a:moveTo>
                  <a:lnTo>
                    <a:pt x="748" y="1524"/>
                  </a:lnTo>
                  <a:lnTo>
                    <a:pt x="740" y="1163"/>
                  </a:lnTo>
                  <a:lnTo>
                    <a:pt x="740" y="895"/>
                  </a:lnTo>
                  <a:lnTo>
                    <a:pt x="700" y="826"/>
                  </a:lnTo>
                  <a:lnTo>
                    <a:pt x="409" y="519"/>
                  </a:lnTo>
                  <a:lnTo>
                    <a:pt x="221" y="331"/>
                  </a:lnTo>
                  <a:lnTo>
                    <a:pt x="63" y="197"/>
                  </a:lnTo>
                  <a:lnTo>
                    <a:pt x="0" y="126"/>
                  </a:lnTo>
                  <a:lnTo>
                    <a:pt x="16" y="87"/>
                  </a:lnTo>
                  <a:lnTo>
                    <a:pt x="39" y="87"/>
                  </a:lnTo>
                  <a:lnTo>
                    <a:pt x="150" y="205"/>
                  </a:lnTo>
                  <a:lnTo>
                    <a:pt x="298" y="323"/>
                  </a:lnTo>
                  <a:lnTo>
                    <a:pt x="440" y="511"/>
                  </a:lnTo>
                  <a:lnTo>
                    <a:pt x="574" y="652"/>
                  </a:lnTo>
                  <a:lnTo>
                    <a:pt x="700" y="747"/>
                  </a:lnTo>
                  <a:lnTo>
                    <a:pt x="779" y="818"/>
                  </a:lnTo>
                  <a:lnTo>
                    <a:pt x="834" y="802"/>
                  </a:lnTo>
                  <a:lnTo>
                    <a:pt x="890" y="763"/>
                  </a:lnTo>
                  <a:lnTo>
                    <a:pt x="1063" y="723"/>
                  </a:lnTo>
                  <a:lnTo>
                    <a:pt x="1377" y="637"/>
                  </a:lnTo>
                  <a:lnTo>
                    <a:pt x="1566" y="534"/>
                  </a:lnTo>
                  <a:lnTo>
                    <a:pt x="1787" y="440"/>
                  </a:lnTo>
                  <a:lnTo>
                    <a:pt x="2014" y="355"/>
                  </a:lnTo>
                  <a:lnTo>
                    <a:pt x="2251" y="252"/>
                  </a:lnTo>
                  <a:lnTo>
                    <a:pt x="2416" y="197"/>
                  </a:lnTo>
                  <a:lnTo>
                    <a:pt x="2612" y="111"/>
                  </a:lnTo>
                  <a:lnTo>
                    <a:pt x="2770" y="71"/>
                  </a:lnTo>
                  <a:lnTo>
                    <a:pt x="2904" y="0"/>
                  </a:lnTo>
                  <a:lnTo>
                    <a:pt x="2857" y="126"/>
                  </a:lnTo>
                  <a:lnTo>
                    <a:pt x="2778" y="126"/>
                  </a:lnTo>
                  <a:lnTo>
                    <a:pt x="2675" y="150"/>
                  </a:lnTo>
                  <a:lnTo>
                    <a:pt x="2495" y="205"/>
                  </a:lnTo>
                  <a:lnTo>
                    <a:pt x="2361" y="260"/>
                  </a:lnTo>
                  <a:lnTo>
                    <a:pt x="2196" y="315"/>
                  </a:lnTo>
                  <a:lnTo>
                    <a:pt x="2085" y="369"/>
                  </a:lnTo>
                  <a:lnTo>
                    <a:pt x="1904" y="440"/>
                  </a:lnTo>
                  <a:lnTo>
                    <a:pt x="1787" y="440"/>
                  </a:lnTo>
                  <a:lnTo>
                    <a:pt x="1614" y="566"/>
                  </a:lnTo>
                  <a:lnTo>
                    <a:pt x="1495" y="621"/>
                  </a:lnTo>
                  <a:lnTo>
                    <a:pt x="1346" y="676"/>
                  </a:lnTo>
                  <a:lnTo>
                    <a:pt x="1156" y="739"/>
                  </a:lnTo>
                  <a:lnTo>
                    <a:pt x="1008" y="778"/>
                  </a:lnTo>
                  <a:lnTo>
                    <a:pt x="905" y="826"/>
                  </a:lnTo>
                  <a:lnTo>
                    <a:pt x="811" y="873"/>
                  </a:lnTo>
                  <a:lnTo>
                    <a:pt x="787" y="998"/>
                  </a:lnTo>
                  <a:lnTo>
                    <a:pt x="787" y="1297"/>
                  </a:lnTo>
                  <a:lnTo>
                    <a:pt x="787" y="1500"/>
                  </a:lnTo>
                  <a:lnTo>
                    <a:pt x="803" y="1673"/>
                  </a:lnTo>
                  <a:lnTo>
                    <a:pt x="756" y="1720"/>
                  </a:lnTo>
                  <a:lnTo>
                    <a:pt x="740" y="1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003400" y="4746600"/>
            <a:ext cx="839880" cy="518760"/>
            <a:chOff x="2003400" y="4746600"/>
            <a:chExt cx="839880" cy="518760"/>
          </a:xfrm>
        </p:grpSpPr>
        <p:sp>
          <p:nvSpPr>
            <p:cNvPr id="385" name=""/>
            <p:cNvSpPr/>
            <p:nvPr/>
          </p:nvSpPr>
          <p:spPr>
            <a:xfrm>
              <a:off x="2003400" y="4781520"/>
              <a:ext cx="190440" cy="483840"/>
            </a:xfrm>
            <a:custGeom>
              <a:avLst/>
              <a:gdLst/>
              <a:ahLst/>
              <a:rect l="l" t="t" r="r" b="b"/>
              <a:pathLst>
                <a:path w="361" h="915">
                  <a:moveTo>
                    <a:pt x="29" y="185"/>
                  </a:moveTo>
                  <a:lnTo>
                    <a:pt x="96" y="103"/>
                  </a:lnTo>
                  <a:lnTo>
                    <a:pt x="206" y="0"/>
                  </a:lnTo>
                  <a:lnTo>
                    <a:pt x="294" y="0"/>
                  </a:lnTo>
                  <a:lnTo>
                    <a:pt x="323" y="59"/>
                  </a:lnTo>
                  <a:lnTo>
                    <a:pt x="273" y="132"/>
                  </a:lnTo>
                  <a:lnTo>
                    <a:pt x="184" y="162"/>
                  </a:lnTo>
                  <a:lnTo>
                    <a:pt x="88" y="258"/>
                  </a:lnTo>
                  <a:lnTo>
                    <a:pt x="52" y="369"/>
                  </a:lnTo>
                  <a:lnTo>
                    <a:pt x="44" y="466"/>
                  </a:lnTo>
                  <a:lnTo>
                    <a:pt x="52" y="575"/>
                  </a:lnTo>
                  <a:lnTo>
                    <a:pt x="111" y="672"/>
                  </a:lnTo>
                  <a:lnTo>
                    <a:pt x="170" y="716"/>
                  </a:lnTo>
                  <a:lnTo>
                    <a:pt x="361" y="731"/>
                  </a:lnTo>
                  <a:lnTo>
                    <a:pt x="353" y="768"/>
                  </a:lnTo>
                  <a:lnTo>
                    <a:pt x="228" y="760"/>
                  </a:lnTo>
                  <a:lnTo>
                    <a:pt x="206" y="783"/>
                  </a:lnTo>
                  <a:lnTo>
                    <a:pt x="294" y="856"/>
                  </a:lnTo>
                  <a:lnTo>
                    <a:pt x="279" y="878"/>
                  </a:lnTo>
                  <a:lnTo>
                    <a:pt x="250" y="878"/>
                  </a:lnTo>
                  <a:lnTo>
                    <a:pt x="184" y="812"/>
                  </a:lnTo>
                  <a:lnTo>
                    <a:pt x="155" y="804"/>
                  </a:lnTo>
                  <a:lnTo>
                    <a:pt x="155" y="901"/>
                  </a:lnTo>
                  <a:lnTo>
                    <a:pt x="132" y="915"/>
                  </a:lnTo>
                  <a:lnTo>
                    <a:pt x="111" y="901"/>
                  </a:lnTo>
                  <a:lnTo>
                    <a:pt x="111" y="804"/>
                  </a:lnTo>
                  <a:lnTo>
                    <a:pt x="88" y="812"/>
                  </a:lnTo>
                  <a:lnTo>
                    <a:pt x="37" y="886"/>
                  </a:lnTo>
                  <a:lnTo>
                    <a:pt x="14" y="871"/>
                  </a:lnTo>
                  <a:lnTo>
                    <a:pt x="8" y="848"/>
                  </a:lnTo>
                  <a:lnTo>
                    <a:pt x="66" y="775"/>
                  </a:lnTo>
                  <a:lnTo>
                    <a:pt x="73" y="716"/>
                  </a:lnTo>
                  <a:lnTo>
                    <a:pt x="29" y="664"/>
                  </a:lnTo>
                  <a:lnTo>
                    <a:pt x="14" y="583"/>
                  </a:lnTo>
                  <a:lnTo>
                    <a:pt x="0" y="502"/>
                  </a:lnTo>
                  <a:lnTo>
                    <a:pt x="0" y="391"/>
                  </a:lnTo>
                  <a:lnTo>
                    <a:pt x="29" y="281"/>
                  </a:lnTo>
                  <a:lnTo>
                    <a:pt x="29" y="1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49640" y="4746600"/>
              <a:ext cx="593640" cy="206280"/>
            </a:xfrm>
            <a:custGeom>
              <a:avLst/>
              <a:gdLst/>
              <a:ahLst/>
              <a:rect l="l" t="t" r="r" b="b"/>
              <a:pathLst>
                <a:path w="1122" h="391">
                  <a:moveTo>
                    <a:pt x="0" y="0"/>
                  </a:moveTo>
                  <a:lnTo>
                    <a:pt x="162" y="0"/>
                  </a:lnTo>
                  <a:lnTo>
                    <a:pt x="443" y="53"/>
                  </a:lnTo>
                  <a:lnTo>
                    <a:pt x="672" y="111"/>
                  </a:lnTo>
                  <a:lnTo>
                    <a:pt x="797" y="185"/>
                  </a:lnTo>
                  <a:lnTo>
                    <a:pt x="931" y="221"/>
                  </a:lnTo>
                  <a:lnTo>
                    <a:pt x="1040" y="170"/>
                  </a:lnTo>
                  <a:lnTo>
                    <a:pt x="1078" y="170"/>
                  </a:lnTo>
                  <a:lnTo>
                    <a:pt x="1078" y="192"/>
                  </a:lnTo>
                  <a:lnTo>
                    <a:pt x="989" y="244"/>
                  </a:lnTo>
                  <a:lnTo>
                    <a:pt x="996" y="265"/>
                  </a:lnTo>
                  <a:lnTo>
                    <a:pt x="1114" y="259"/>
                  </a:lnTo>
                  <a:lnTo>
                    <a:pt x="1122" y="273"/>
                  </a:lnTo>
                  <a:lnTo>
                    <a:pt x="1114" y="295"/>
                  </a:lnTo>
                  <a:lnTo>
                    <a:pt x="1004" y="288"/>
                  </a:lnTo>
                  <a:lnTo>
                    <a:pt x="996" y="310"/>
                  </a:lnTo>
                  <a:lnTo>
                    <a:pt x="1040" y="362"/>
                  </a:lnTo>
                  <a:lnTo>
                    <a:pt x="1034" y="376"/>
                  </a:lnTo>
                  <a:lnTo>
                    <a:pt x="1004" y="376"/>
                  </a:lnTo>
                  <a:lnTo>
                    <a:pt x="967" y="303"/>
                  </a:lnTo>
                  <a:lnTo>
                    <a:pt x="952" y="303"/>
                  </a:lnTo>
                  <a:lnTo>
                    <a:pt x="945" y="376"/>
                  </a:lnTo>
                  <a:lnTo>
                    <a:pt x="916" y="391"/>
                  </a:lnTo>
                  <a:lnTo>
                    <a:pt x="908" y="376"/>
                  </a:lnTo>
                  <a:lnTo>
                    <a:pt x="916" y="295"/>
                  </a:lnTo>
                  <a:lnTo>
                    <a:pt x="878" y="265"/>
                  </a:lnTo>
                  <a:lnTo>
                    <a:pt x="761" y="214"/>
                  </a:lnTo>
                  <a:lnTo>
                    <a:pt x="635" y="148"/>
                  </a:lnTo>
                  <a:lnTo>
                    <a:pt x="494" y="118"/>
                  </a:lnTo>
                  <a:lnTo>
                    <a:pt x="347" y="82"/>
                  </a:lnTo>
                  <a:lnTo>
                    <a:pt x="200" y="67"/>
                  </a:lnTo>
                  <a:lnTo>
                    <a:pt x="59" y="67"/>
                  </a:lnTo>
                  <a:lnTo>
                    <a:pt x="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17600" y="4808160"/>
              <a:ext cx="257400" cy="192240"/>
            </a:xfrm>
            <a:custGeom>
              <a:avLst/>
              <a:gdLst/>
              <a:ahLst/>
              <a:rect l="l" t="t" r="r" b="b"/>
              <a:pathLst>
                <a:path w="487" h="361">
                  <a:moveTo>
                    <a:pt x="325" y="361"/>
                  </a:moveTo>
                  <a:lnTo>
                    <a:pt x="443" y="347"/>
                  </a:lnTo>
                  <a:lnTo>
                    <a:pt x="487" y="280"/>
                  </a:lnTo>
                  <a:lnTo>
                    <a:pt x="465" y="185"/>
                  </a:lnTo>
                  <a:lnTo>
                    <a:pt x="420" y="118"/>
                  </a:lnTo>
                  <a:lnTo>
                    <a:pt x="347" y="67"/>
                  </a:lnTo>
                  <a:lnTo>
                    <a:pt x="281" y="38"/>
                  </a:lnTo>
                  <a:lnTo>
                    <a:pt x="192" y="0"/>
                  </a:lnTo>
                  <a:lnTo>
                    <a:pt x="118" y="8"/>
                  </a:lnTo>
                  <a:lnTo>
                    <a:pt x="30" y="38"/>
                  </a:lnTo>
                  <a:lnTo>
                    <a:pt x="0" y="118"/>
                  </a:lnTo>
                  <a:lnTo>
                    <a:pt x="30" y="221"/>
                  </a:lnTo>
                  <a:lnTo>
                    <a:pt x="133" y="288"/>
                  </a:lnTo>
                  <a:lnTo>
                    <a:pt x="38" y="332"/>
                  </a:lnTo>
                  <a:lnTo>
                    <a:pt x="52" y="361"/>
                  </a:lnTo>
                  <a:lnTo>
                    <a:pt x="177" y="317"/>
                  </a:lnTo>
                  <a:lnTo>
                    <a:pt x="325" y="3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333520" y="5059440"/>
            <a:ext cx="41400" cy="112680"/>
          </a:xfrm>
          <a:custGeom>
            <a:avLst/>
            <a:gdLst/>
            <a:ahLst/>
            <a:rect l="l" t="t" r="r" b="b"/>
            <a:pathLst>
              <a:path w="77" h="214">
                <a:moveTo>
                  <a:pt x="71" y="0"/>
                </a:moveTo>
                <a:lnTo>
                  <a:pt x="33" y="81"/>
                </a:lnTo>
                <a:lnTo>
                  <a:pt x="0" y="165"/>
                </a:lnTo>
                <a:lnTo>
                  <a:pt x="14" y="206"/>
                </a:lnTo>
                <a:lnTo>
                  <a:pt x="67" y="214"/>
                </a:lnTo>
                <a:lnTo>
                  <a:pt x="77" y="140"/>
                </a:lnTo>
                <a:lnTo>
                  <a:pt x="71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5000" y="5043600"/>
            <a:ext cx="114120" cy="77760"/>
          </a:xfrm>
          <a:custGeom>
            <a:avLst/>
            <a:gdLst/>
            <a:ahLst/>
            <a:rect l="l" t="t" r="r" b="b"/>
            <a:pathLst>
              <a:path w="214" h="147">
                <a:moveTo>
                  <a:pt x="0" y="0"/>
                </a:moveTo>
                <a:lnTo>
                  <a:pt x="97" y="88"/>
                </a:lnTo>
                <a:lnTo>
                  <a:pt x="177" y="147"/>
                </a:lnTo>
                <a:lnTo>
                  <a:pt x="206" y="141"/>
                </a:lnTo>
                <a:lnTo>
                  <a:pt x="214" y="96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54200" y="4968720"/>
            <a:ext cx="109800" cy="34920"/>
          </a:xfrm>
          <a:custGeom>
            <a:avLst/>
            <a:gdLst/>
            <a:ahLst/>
            <a:rect l="l" t="t" r="r" b="b"/>
            <a:pathLst>
              <a:path w="206" h="66">
                <a:moveTo>
                  <a:pt x="0" y="0"/>
                </a:moveTo>
                <a:lnTo>
                  <a:pt x="118" y="58"/>
                </a:lnTo>
                <a:lnTo>
                  <a:pt x="199" y="66"/>
                </a:lnTo>
                <a:lnTo>
                  <a:pt x="206" y="44"/>
                </a:lnTo>
                <a:lnTo>
                  <a:pt x="185" y="8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4120" y="4262400"/>
            <a:ext cx="453960" cy="387360"/>
          </a:xfrm>
          <a:custGeom>
            <a:avLst/>
            <a:gdLst/>
            <a:ahLst/>
            <a:rect l="l" t="t" r="r" b="b"/>
            <a:pathLst>
              <a:path w="857" h="731">
                <a:moveTo>
                  <a:pt x="819" y="731"/>
                </a:moveTo>
                <a:lnTo>
                  <a:pt x="849" y="672"/>
                </a:lnTo>
                <a:lnTo>
                  <a:pt x="857" y="605"/>
                </a:lnTo>
                <a:lnTo>
                  <a:pt x="849" y="531"/>
                </a:lnTo>
                <a:lnTo>
                  <a:pt x="827" y="458"/>
                </a:lnTo>
                <a:lnTo>
                  <a:pt x="783" y="420"/>
                </a:lnTo>
                <a:lnTo>
                  <a:pt x="724" y="384"/>
                </a:lnTo>
                <a:lnTo>
                  <a:pt x="672" y="376"/>
                </a:lnTo>
                <a:lnTo>
                  <a:pt x="657" y="369"/>
                </a:lnTo>
                <a:lnTo>
                  <a:pt x="590" y="376"/>
                </a:lnTo>
                <a:lnTo>
                  <a:pt x="539" y="406"/>
                </a:lnTo>
                <a:lnTo>
                  <a:pt x="510" y="450"/>
                </a:lnTo>
                <a:lnTo>
                  <a:pt x="510" y="510"/>
                </a:lnTo>
                <a:lnTo>
                  <a:pt x="539" y="539"/>
                </a:lnTo>
                <a:lnTo>
                  <a:pt x="590" y="539"/>
                </a:lnTo>
                <a:lnTo>
                  <a:pt x="634" y="502"/>
                </a:lnTo>
                <a:lnTo>
                  <a:pt x="650" y="458"/>
                </a:lnTo>
                <a:lnTo>
                  <a:pt x="665" y="399"/>
                </a:lnTo>
                <a:lnTo>
                  <a:pt x="657" y="340"/>
                </a:lnTo>
                <a:lnTo>
                  <a:pt x="650" y="281"/>
                </a:lnTo>
                <a:lnTo>
                  <a:pt x="634" y="229"/>
                </a:lnTo>
                <a:lnTo>
                  <a:pt x="605" y="185"/>
                </a:lnTo>
                <a:lnTo>
                  <a:pt x="554" y="155"/>
                </a:lnTo>
                <a:lnTo>
                  <a:pt x="487" y="155"/>
                </a:lnTo>
                <a:lnTo>
                  <a:pt x="428" y="162"/>
                </a:lnTo>
                <a:lnTo>
                  <a:pt x="369" y="185"/>
                </a:lnTo>
                <a:lnTo>
                  <a:pt x="347" y="229"/>
                </a:lnTo>
                <a:lnTo>
                  <a:pt x="325" y="288"/>
                </a:lnTo>
                <a:lnTo>
                  <a:pt x="340" y="355"/>
                </a:lnTo>
                <a:lnTo>
                  <a:pt x="391" y="376"/>
                </a:lnTo>
                <a:lnTo>
                  <a:pt x="443" y="369"/>
                </a:lnTo>
                <a:lnTo>
                  <a:pt x="451" y="302"/>
                </a:lnTo>
                <a:lnTo>
                  <a:pt x="443" y="244"/>
                </a:lnTo>
                <a:lnTo>
                  <a:pt x="420" y="177"/>
                </a:lnTo>
                <a:lnTo>
                  <a:pt x="376" y="103"/>
                </a:lnTo>
                <a:lnTo>
                  <a:pt x="317" y="52"/>
                </a:lnTo>
                <a:lnTo>
                  <a:pt x="258" y="15"/>
                </a:lnTo>
                <a:lnTo>
                  <a:pt x="162" y="0"/>
                </a:lnTo>
                <a:lnTo>
                  <a:pt x="96" y="38"/>
                </a:lnTo>
                <a:lnTo>
                  <a:pt x="37" y="67"/>
                </a:lnTo>
                <a:lnTo>
                  <a:pt x="0" y="133"/>
                </a:lnTo>
                <a:lnTo>
                  <a:pt x="0" y="162"/>
                </a:lnTo>
                <a:lnTo>
                  <a:pt x="37" y="170"/>
                </a:lnTo>
                <a:lnTo>
                  <a:pt x="59" y="111"/>
                </a:lnTo>
                <a:lnTo>
                  <a:pt x="126" y="67"/>
                </a:lnTo>
                <a:lnTo>
                  <a:pt x="177" y="52"/>
                </a:lnTo>
                <a:lnTo>
                  <a:pt x="229" y="52"/>
                </a:lnTo>
                <a:lnTo>
                  <a:pt x="266" y="67"/>
                </a:lnTo>
                <a:lnTo>
                  <a:pt x="311" y="96"/>
                </a:lnTo>
                <a:lnTo>
                  <a:pt x="355" y="141"/>
                </a:lnTo>
                <a:lnTo>
                  <a:pt x="376" y="185"/>
                </a:lnTo>
                <a:lnTo>
                  <a:pt x="399" y="221"/>
                </a:lnTo>
                <a:lnTo>
                  <a:pt x="406" y="266"/>
                </a:lnTo>
                <a:lnTo>
                  <a:pt x="406" y="311"/>
                </a:lnTo>
                <a:lnTo>
                  <a:pt x="399" y="340"/>
                </a:lnTo>
                <a:lnTo>
                  <a:pt x="376" y="340"/>
                </a:lnTo>
                <a:lnTo>
                  <a:pt x="361" y="317"/>
                </a:lnTo>
                <a:lnTo>
                  <a:pt x="369" y="281"/>
                </a:lnTo>
                <a:lnTo>
                  <a:pt x="406" y="229"/>
                </a:lnTo>
                <a:lnTo>
                  <a:pt x="451" y="199"/>
                </a:lnTo>
                <a:lnTo>
                  <a:pt x="510" y="199"/>
                </a:lnTo>
                <a:lnTo>
                  <a:pt x="531" y="206"/>
                </a:lnTo>
                <a:lnTo>
                  <a:pt x="584" y="236"/>
                </a:lnTo>
                <a:lnTo>
                  <a:pt x="613" y="281"/>
                </a:lnTo>
                <a:lnTo>
                  <a:pt x="620" y="347"/>
                </a:lnTo>
                <a:lnTo>
                  <a:pt x="620" y="391"/>
                </a:lnTo>
                <a:lnTo>
                  <a:pt x="620" y="428"/>
                </a:lnTo>
                <a:lnTo>
                  <a:pt x="605" y="464"/>
                </a:lnTo>
                <a:lnTo>
                  <a:pt x="584" y="495"/>
                </a:lnTo>
                <a:lnTo>
                  <a:pt x="546" y="495"/>
                </a:lnTo>
                <a:lnTo>
                  <a:pt x="539" y="479"/>
                </a:lnTo>
                <a:lnTo>
                  <a:pt x="546" y="458"/>
                </a:lnTo>
                <a:lnTo>
                  <a:pt x="569" y="443"/>
                </a:lnTo>
                <a:lnTo>
                  <a:pt x="590" y="420"/>
                </a:lnTo>
                <a:lnTo>
                  <a:pt x="620" y="414"/>
                </a:lnTo>
                <a:lnTo>
                  <a:pt x="657" y="414"/>
                </a:lnTo>
                <a:lnTo>
                  <a:pt x="695" y="420"/>
                </a:lnTo>
                <a:lnTo>
                  <a:pt x="716" y="435"/>
                </a:lnTo>
                <a:lnTo>
                  <a:pt x="746" y="458"/>
                </a:lnTo>
                <a:lnTo>
                  <a:pt x="775" y="487"/>
                </a:lnTo>
                <a:lnTo>
                  <a:pt x="798" y="525"/>
                </a:lnTo>
                <a:lnTo>
                  <a:pt x="804" y="569"/>
                </a:lnTo>
                <a:lnTo>
                  <a:pt x="812" y="634"/>
                </a:lnTo>
                <a:lnTo>
                  <a:pt x="812" y="679"/>
                </a:lnTo>
                <a:lnTo>
                  <a:pt x="819" y="73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40000" y="4203720"/>
            <a:ext cx="214200" cy="387360"/>
          </a:xfrm>
          <a:custGeom>
            <a:avLst/>
            <a:gdLst/>
            <a:ahLst/>
            <a:rect l="l" t="t" r="r" b="b"/>
            <a:pathLst>
              <a:path w="404" h="731">
                <a:moveTo>
                  <a:pt x="117" y="731"/>
                </a:moveTo>
                <a:lnTo>
                  <a:pt x="76" y="707"/>
                </a:lnTo>
                <a:lnTo>
                  <a:pt x="43" y="668"/>
                </a:lnTo>
                <a:lnTo>
                  <a:pt x="17" y="619"/>
                </a:lnTo>
                <a:lnTo>
                  <a:pt x="0" y="564"/>
                </a:lnTo>
                <a:lnTo>
                  <a:pt x="14" y="524"/>
                </a:lnTo>
                <a:lnTo>
                  <a:pt x="37" y="477"/>
                </a:lnTo>
                <a:lnTo>
                  <a:pt x="65" y="449"/>
                </a:lnTo>
                <a:lnTo>
                  <a:pt x="73" y="441"/>
                </a:lnTo>
                <a:lnTo>
                  <a:pt x="117" y="417"/>
                </a:lnTo>
                <a:lnTo>
                  <a:pt x="163" y="417"/>
                </a:lnTo>
                <a:lnTo>
                  <a:pt x="199" y="430"/>
                </a:lnTo>
                <a:lnTo>
                  <a:pt x="225" y="469"/>
                </a:lnTo>
                <a:lnTo>
                  <a:pt x="215" y="498"/>
                </a:lnTo>
                <a:lnTo>
                  <a:pt x="184" y="518"/>
                </a:lnTo>
                <a:lnTo>
                  <a:pt x="140" y="514"/>
                </a:lnTo>
                <a:lnTo>
                  <a:pt x="112" y="493"/>
                </a:lnTo>
                <a:lnTo>
                  <a:pt x="79" y="461"/>
                </a:lnTo>
                <a:lnTo>
                  <a:pt x="59" y="422"/>
                </a:lnTo>
                <a:lnTo>
                  <a:pt x="40" y="380"/>
                </a:lnTo>
                <a:lnTo>
                  <a:pt x="28" y="343"/>
                </a:lnTo>
                <a:lnTo>
                  <a:pt x="28" y="304"/>
                </a:lnTo>
                <a:lnTo>
                  <a:pt x="48" y="265"/>
                </a:lnTo>
                <a:lnTo>
                  <a:pt x="92" y="239"/>
                </a:lnTo>
                <a:lnTo>
                  <a:pt x="132" y="220"/>
                </a:lnTo>
                <a:lnTo>
                  <a:pt x="179" y="208"/>
                </a:lnTo>
                <a:lnTo>
                  <a:pt x="210" y="228"/>
                </a:lnTo>
                <a:lnTo>
                  <a:pt x="250" y="255"/>
                </a:lnTo>
                <a:lnTo>
                  <a:pt x="266" y="301"/>
                </a:lnTo>
                <a:lnTo>
                  <a:pt x="243" y="338"/>
                </a:lnTo>
                <a:lnTo>
                  <a:pt x="207" y="354"/>
                </a:lnTo>
                <a:lnTo>
                  <a:pt x="176" y="315"/>
                </a:lnTo>
                <a:lnTo>
                  <a:pt x="158" y="277"/>
                </a:lnTo>
                <a:lnTo>
                  <a:pt x="143" y="225"/>
                </a:lnTo>
                <a:lnTo>
                  <a:pt x="140" y="162"/>
                </a:lnTo>
                <a:lnTo>
                  <a:pt x="158" y="105"/>
                </a:lnTo>
                <a:lnTo>
                  <a:pt x="179" y="58"/>
                </a:lnTo>
                <a:lnTo>
                  <a:pt x="233" y="11"/>
                </a:lnTo>
                <a:lnTo>
                  <a:pt x="291" y="6"/>
                </a:lnTo>
                <a:lnTo>
                  <a:pt x="342" y="0"/>
                </a:lnTo>
                <a:lnTo>
                  <a:pt x="392" y="27"/>
                </a:lnTo>
                <a:lnTo>
                  <a:pt x="404" y="47"/>
                </a:lnTo>
                <a:lnTo>
                  <a:pt x="384" y="66"/>
                </a:lnTo>
                <a:lnTo>
                  <a:pt x="345" y="39"/>
                </a:lnTo>
                <a:lnTo>
                  <a:pt x="286" y="36"/>
                </a:lnTo>
                <a:lnTo>
                  <a:pt x="246" y="50"/>
                </a:lnTo>
                <a:lnTo>
                  <a:pt x="212" y="69"/>
                </a:lnTo>
                <a:lnTo>
                  <a:pt x="196" y="94"/>
                </a:lnTo>
                <a:lnTo>
                  <a:pt x="179" y="129"/>
                </a:lnTo>
                <a:lnTo>
                  <a:pt x="171" y="176"/>
                </a:lnTo>
                <a:lnTo>
                  <a:pt x="174" y="210"/>
                </a:lnTo>
                <a:lnTo>
                  <a:pt x="174" y="244"/>
                </a:lnTo>
                <a:lnTo>
                  <a:pt x="188" y="275"/>
                </a:lnTo>
                <a:lnTo>
                  <a:pt x="207" y="301"/>
                </a:lnTo>
                <a:lnTo>
                  <a:pt x="225" y="317"/>
                </a:lnTo>
                <a:lnTo>
                  <a:pt x="238" y="309"/>
                </a:lnTo>
                <a:lnTo>
                  <a:pt x="238" y="288"/>
                </a:lnTo>
                <a:lnTo>
                  <a:pt x="219" y="268"/>
                </a:lnTo>
                <a:lnTo>
                  <a:pt x="174" y="252"/>
                </a:lnTo>
                <a:lnTo>
                  <a:pt x="132" y="252"/>
                </a:lnTo>
                <a:lnTo>
                  <a:pt x="96" y="275"/>
                </a:lnTo>
                <a:lnTo>
                  <a:pt x="84" y="288"/>
                </a:lnTo>
                <a:lnTo>
                  <a:pt x="65" y="328"/>
                </a:lnTo>
                <a:lnTo>
                  <a:pt x="65" y="367"/>
                </a:lnTo>
                <a:lnTo>
                  <a:pt x="87" y="411"/>
                </a:lnTo>
                <a:lnTo>
                  <a:pt x="104" y="438"/>
                </a:lnTo>
                <a:lnTo>
                  <a:pt x="120" y="463"/>
                </a:lnTo>
                <a:lnTo>
                  <a:pt x="143" y="479"/>
                </a:lnTo>
                <a:lnTo>
                  <a:pt x="171" y="487"/>
                </a:lnTo>
                <a:lnTo>
                  <a:pt x="194" y="474"/>
                </a:lnTo>
                <a:lnTo>
                  <a:pt x="194" y="461"/>
                </a:lnTo>
                <a:lnTo>
                  <a:pt x="179" y="449"/>
                </a:lnTo>
                <a:lnTo>
                  <a:pt x="160" y="449"/>
                </a:lnTo>
                <a:lnTo>
                  <a:pt x="135" y="446"/>
                </a:lnTo>
                <a:lnTo>
                  <a:pt x="112" y="451"/>
                </a:lnTo>
                <a:lnTo>
                  <a:pt x="89" y="469"/>
                </a:lnTo>
                <a:lnTo>
                  <a:pt x="71" y="487"/>
                </a:lnTo>
                <a:lnTo>
                  <a:pt x="61" y="503"/>
                </a:lnTo>
                <a:lnTo>
                  <a:pt x="51" y="532"/>
                </a:lnTo>
                <a:lnTo>
                  <a:pt x="45" y="561"/>
                </a:lnTo>
                <a:lnTo>
                  <a:pt x="48" y="594"/>
                </a:lnTo>
                <a:lnTo>
                  <a:pt x="59" y="624"/>
                </a:lnTo>
                <a:lnTo>
                  <a:pt x="84" y="668"/>
                </a:lnTo>
                <a:lnTo>
                  <a:pt x="101" y="695"/>
                </a:lnTo>
                <a:lnTo>
                  <a:pt x="117" y="73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27432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But if the FA Office   reconciles the 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51213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But if the Business Office makes drawdowns in GA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DE7-E907-481D-BE8D-879BE48DBB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rcRect l="32000" t="54004" r="51004" b="30001"/>
          <a:stretch/>
        </p:blipFill>
        <p:spPr>
          <a:xfrm>
            <a:off x="6553080" y="304812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your signed manif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reject lists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o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familiar with COD-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eject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T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302080" y="2206800"/>
            <a:ext cx="2985840" cy="3065040"/>
            <a:chOff x="5302080" y="2206800"/>
            <a:chExt cx="2985840" cy="306504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5302080" y="2206800"/>
              <a:ext cx="2985840" cy="30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819920" y="276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78360" y="326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82440" y="446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D0C-5249-4E1D-8C99-EC5A4B1D2B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ing Your ECB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cash bal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Direct Loan funds your school currently has in its bank account.  These fun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d to Direct Loan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th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chool will have a Direct Loan cash balance of $0 at the beginning of a program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chool should have a Direct Loan cash balance of $0 at the end of a program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scales" descr=""/>
          <p:cNvPicPr/>
          <p:nvPr/>
        </p:nvPicPr>
        <p:blipFill>
          <a:blip r:embed="rId1"/>
          <a:stretch/>
        </p:blipFill>
        <p:spPr>
          <a:xfrm>
            <a:off x="6400800" y="2808360"/>
            <a:ext cx="1752480" cy="849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869440" y="37339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ash    Net dis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B66-FF7C-4AA4-9B61-1A2EC3A44BE6}" type="slidenum">
              <a:t>29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re-Common Orig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sburs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conciliat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F7C-FF9B-42AD-A9B2-694D274D62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ing Your ECB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rect Loan Cash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176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0000" y="25178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27240" y="277776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25696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03960" y="4410000"/>
            <a:ext cx="1554120" cy="13813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08600" y="4410000"/>
            <a:ext cx="1554120" cy="138132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8472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85960" y="4410000"/>
            <a:ext cx="1554120" cy="13813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79360" y="446220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69040" y="25052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62800" y="2557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BEF-F433-416B-A469-87DC8217D2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chool Account Statement - 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32LOS + DLSAS   =   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88620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features of two similar report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report used for reconciliation and close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696080" y="2286000"/>
            <a:ext cx="1066680" cy="685800"/>
            <a:chOff x="7696080" y="2286000"/>
            <a:chExt cx="1066680" cy="685800"/>
          </a:xfrm>
        </p:grpSpPr>
        <p:sp>
          <p:nvSpPr>
            <p:cNvPr id="427" name=""/>
            <p:cNvSpPr/>
            <p:nvPr/>
          </p:nvSpPr>
          <p:spPr>
            <a:xfrm>
              <a:off x="7696080" y="228600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4680" y="24386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labels" descr=""/>
          <p:cNvPicPr/>
          <p:nvPr/>
        </p:nvPicPr>
        <p:blipFill>
          <a:blip r:embed="rId1"/>
          <a:stretch/>
        </p:blipFill>
        <p:spPr>
          <a:xfrm>
            <a:off x="2133720" y="2995560"/>
            <a:ext cx="1214280" cy="814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652920" y="3071880"/>
            <a:ext cx="1600200" cy="533160"/>
          </a:xfrm>
          <a:custGeom>
            <a:avLst/>
            <a:gdLst>
              <a:gd name="textAreaLeft" fmla="*/ 272880 w 1600200"/>
              <a:gd name="textAreaRight" fmla="*/ 1327320 w 16002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229" y="5400"/>
                </a:lnTo>
                <a:lnTo>
                  <a:pt x="14229" y="0"/>
                </a:lnTo>
                <a:lnTo>
                  <a:pt x="21600" y="10800"/>
                </a:lnTo>
                <a:lnTo>
                  <a:pt x="14229" y="21600"/>
                </a:lnTo>
                <a:lnTo>
                  <a:pt x="14229" y="16200"/>
                </a:lnTo>
                <a:lnTo>
                  <a:pt x="0" y="16200"/>
                </a:lnTo>
                <a:lnTo>
                  <a:pt x="36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583240" y="2952720"/>
            <a:ext cx="1193400" cy="652320"/>
            <a:chOff x="5583240" y="2952720"/>
            <a:chExt cx="1193400" cy="652320"/>
          </a:xfrm>
        </p:grpSpPr>
        <p:grpSp>
          <p:nvGrpSpPr>
            <p:cNvPr id="432" name=""/>
            <p:cNvGrpSpPr/>
            <p:nvPr/>
          </p:nvGrpSpPr>
          <p:grpSpPr>
            <a:xfrm>
              <a:off x="5583240" y="3028680"/>
              <a:ext cx="1168200" cy="576360"/>
              <a:chOff x="5583240" y="3028680"/>
              <a:chExt cx="1168200" cy="5763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583240" y="3028680"/>
                <a:ext cx="1168200" cy="576360"/>
                <a:chOff x="5583240" y="3028680"/>
                <a:chExt cx="1168200" cy="5763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83240" y="3028680"/>
                  <a:ext cx="1168200" cy="576360"/>
                </a:xfrm>
                <a:custGeom>
                  <a:avLst/>
                  <a:gdLst/>
                  <a:ahLst/>
                  <a:rect l="l" t="t" r="r" b="b"/>
                  <a:pathLst>
                    <a:path w="3565" h="1805">
                      <a:moveTo>
                        <a:pt x="0" y="1075"/>
                      </a:moveTo>
                      <a:lnTo>
                        <a:pt x="1974" y="0"/>
                      </a:lnTo>
                      <a:lnTo>
                        <a:pt x="3565" y="653"/>
                      </a:lnTo>
                      <a:lnTo>
                        <a:pt x="1706" y="1805"/>
                      </a:lnTo>
                      <a:lnTo>
                        <a:pt x="0" y="10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655600" y="3063960"/>
                  <a:ext cx="1033920" cy="502200"/>
                  <a:chOff x="5655600" y="3063960"/>
                  <a:chExt cx="1033920" cy="502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5655600" y="3296520"/>
                    <a:ext cx="6184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8" h="847">
                        <a:moveTo>
                          <a:pt x="0" y="115"/>
                        </a:moveTo>
                        <a:lnTo>
                          <a:pt x="210" y="0"/>
                        </a:lnTo>
                        <a:lnTo>
                          <a:pt x="1888" y="714"/>
                        </a:lnTo>
                        <a:lnTo>
                          <a:pt x="1674" y="847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801760" y="3218040"/>
                    <a:ext cx="6127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0" h="824">
                        <a:moveTo>
                          <a:pt x="0" y="116"/>
                        </a:moveTo>
                        <a:lnTo>
                          <a:pt x="212" y="0"/>
                        </a:lnTo>
                        <a:lnTo>
                          <a:pt x="1870" y="692"/>
                        </a:lnTo>
                        <a:lnTo>
                          <a:pt x="1657" y="824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950440" y="3139560"/>
                    <a:ext cx="6026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1" h="811">
                        <a:moveTo>
                          <a:pt x="0" y="114"/>
                        </a:moveTo>
                        <a:lnTo>
                          <a:pt x="208" y="0"/>
                        </a:lnTo>
                        <a:lnTo>
                          <a:pt x="1841" y="677"/>
                        </a:lnTo>
                        <a:lnTo>
                          <a:pt x="1626" y="811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95160" y="3063960"/>
                    <a:ext cx="5943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4" h="795">
                        <a:moveTo>
                          <a:pt x="0" y="112"/>
                        </a:moveTo>
                        <a:lnTo>
                          <a:pt x="208" y="0"/>
                        </a:lnTo>
                        <a:lnTo>
                          <a:pt x="1814" y="659"/>
                        </a:lnTo>
                        <a:lnTo>
                          <a:pt x="1598" y="795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5652720" y="3043800"/>
                <a:ext cx="593280" cy="324360"/>
                <a:chOff x="5652720" y="3043800"/>
                <a:chExt cx="593280" cy="3243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652720" y="335016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30"/>
                      </a:moveTo>
                      <a:lnTo>
                        <a:pt x="70" y="25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58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7" y="2"/>
                      </a:lnTo>
                      <a:lnTo>
                        <a:pt x="44" y="1"/>
                      </a:lnTo>
                      <a:lnTo>
                        <a:pt x="39" y="1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4" y="42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7" y="56"/>
                      </a:lnTo>
                      <a:lnTo>
                        <a:pt x="22" y="57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2" y="50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4"/>
                      </a:lnTo>
                      <a:lnTo>
                        <a:pt x="7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20400" y="331380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7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8" y="54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8"/>
                      </a:lnTo>
                      <a:lnTo>
                        <a:pt x="46" y="58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90240" y="327564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0"/>
                      </a:lnTo>
                      <a:lnTo>
                        <a:pt x="66" y="16"/>
                      </a:lnTo>
                      <a:lnTo>
                        <a:pt x="64" y="12"/>
                      </a:lnTo>
                      <a:lnTo>
                        <a:pt x="60" y="9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1" y="2"/>
                      </a:lnTo>
                      <a:lnTo>
                        <a:pt x="47" y="1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8" y="48"/>
                      </a:lnTo>
                      <a:lnTo>
                        <a:pt x="11" y="51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0" y="57"/>
                      </a:lnTo>
                      <a:lnTo>
                        <a:pt x="25" y="58"/>
                      </a:lnTo>
                      <a:lnTo>
                        <a:pt x="30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5" y="57"/>
                      </a:lnTo>
                      <a:lnTo>
                        <a:pt x="49" y="55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64760" y="323316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71" h="58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70" y="20"/>
                      </a:lnTo>
                      <a:lnTo>
                        <a:pt x="68" y="15"/>
                      </a:lnTo>
                      <a:lnTo>
                        <a:pt x="65" y="12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2"/>
                      </a:lnTo>
                      <a:lnTo>
                        <a:pt x="48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3" y="41"/>
                      </a:lnTo>
                      <a:lnTo>
                        <a:pt x="5" y="44"/>
                      </a:lnTo>
                      <a:lnTo>
                        <a:pt x="9" y="48"/>
                      </a:lnTo>
                      <a:lnTo>
                        <a:pt x="11" y="50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1" y="56"/>
                      </a:lnTo>
                      <a:lnTo>
                        <a:pt x="27" y="58"/>
                      </a:lnTo>
                      <a:lnTo>
                        <a:pt x="32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6" y="56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61" y="50"/>
                      </a:lnTo>
                      <a:lnTo>
                        <a:pt x="63" y="48"/>
                      </a:lnTo>
                      <a:lnTo>
                        <a:pt x="67" y="43"/>
                      </a:lnTo>
                      <a:lnTo>
                        <a:pt x="69" y="39"/>
                      </a:lnTo>
                      <a:lnTo>
                        <a:pt x="70" y="37"/>
                      </a:lnTo>
                      <a:lnTo>
                        <a:pt x="71" y="32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940720" y="319428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19"/>
                      </a:lnTo>
                      <a:lnTo>
                        <a:pt x="68" y="15"/>
                      </a:lnTo>
                      <a:lnTo>
                        <a:pt x="64" y="12"/>
                      </a:lnTo>
                      <a:lnTo>
                        <a:pt x="62" y="9"/>
                      </a:lnTo>
                      <a:lnTo>
                        <a:pt x="58" y="6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7" y="1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6" y="44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2" y="58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5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3"/>
                      </a:lnTo>
                      <a:lnTo>
                        <a:pt x="68" y="40"/>
                      </a:lnTo>
                      <a:lnTo>
                        <a:pt x="69" y="36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011280" y="3157560"/>
                  <a:ext cx="2268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5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2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1"/>
                      </a:lnTo>
                      <a:lnTo>
                        <a:pt x="21" y="3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8" y="55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087240" y="311544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54" y="5"/>
                      </a:lnTo>
                      <a:lnTo>
                        <a:pt x="51" y="4"/>
                      </a:lnTo>
                      <a:lnTo>
                        <a:pt x="47" y="3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10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9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7" y="50"/>
                      </a:lnTo>
                      <a:lnTo>
                        <a:pt x="11" y="52"/>
                      </a:lnTo>
                      <a:lnTo>
                        <a:pt x="13" y="53"/>
                      </a:lnTo>
                      <a:lnTo>
                        <a:pt x="17" y="56"/>
                      </a:lnTo>
                      <a:lnTo>
                        <a:pt x="21" y="57"/>
                      </a:lnTo>
                      <a:lnTo>
                        <a:pt x="25" y="58"/>
                      </a:lnTo>
                      <a:lnTo>
                        <a:pt x="30" y="59"/>
                      </a:lnTo>
                      <a:lnTo>
                        <a:pt x="35" y="59"/>
                      </a:lnTo>
                      <a:lnTo>
                        <a:pt x="41" y="58"/>
                      </a:lnTo>
                      <a:lnTo>
                        <a:pt x="45" y="58"/>
                      </a:lnTo>
                      <a:lnTo>
                        <a:pt x="50" y="57"/>
                      </a:lnTo>
                      <a:lnTo>
                        <a:pt x="54" y="55"/>
                      </a:lnTo>
                      <a:lnTo>
                        <a:pt x="58" y="52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0" y="34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153840" y="307908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1" h="59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55" y="5"/>
                      </a:lnTo>
                      <a:lnTo>
                        <a:pt x="51" y="4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6" y="5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3" y="17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7" y="46"/>
                      </a:lnTo>
                      <a:lnTo>
                        <a:pt x="9" y="49"/>
                      </a:lnTo>
                      <a:lnTo>
                        <a:pt x="11" y="51"/>
                      </a:lnTo>
                      <a:lnTo>
                        <a:pt x="15" y="53"/>
                      </a:lnTo>
                      <a:lnTo>
                        <a:pt x="17" y="55"/>
                      </a:lnTo>
                      <a:lnTo>
                        <a:pt x="21" y="57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2" y="58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60" y="51"/>
                      </a:lnTo>
                      <a:lnTo>
                        <a:pt x="62" y="49"/>
                      </a:lnTo>
                      <a:lnTo>
                        <a:pt x="66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1" y="33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222600" y="304380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7" y="16"/>
                      </a:lnTo>
                      <a:lnTo>
                        <a:pt x="64" y="12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3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4"/>
                      </a:lnTo>
                      <a:lnTo>
                        <a:pt x="1" y="38"/>
                      </a:lnTo>
                      <a:lnTo>
                        <a:pt x="3" y="41"/>
                      </a:lnTo>
                      <a:lnTo>
                        <a:pt x="6" y="45"/>
                      </a:lnTo>
                      <a:lnTo>
                        <a:pt x="8" y="49"/>
                      </a:lnTo>
                      <a:lnTo>
                        <a:pt x="12" y="51"/>
                      </a:lnTo>
                      <a:lnTo>
                        <a:pt x="14" y="53"/>
                      </a:lnTo>
                      <a:lnTo>
                        <a:pt x="17" y="55"/>
                      </a:lnTo>
                      <a:lnTo>
                        <a:pt x="22" y="57"/>
                      </a:lnTo>
                      <a:lnTo>
                        <a:pt x="26" y="58"/>
                      </a:lnTo>
                      <a:lnTo>
                        <a:pt x="31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6" y="57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59" y="51"/>
                      </a:lnTo>
                      <a:lnTo>
                        <a:pt x="61" y="49"/>
                      </a:lnTo>
                      <a:lnTo>
                        <a:pt x="65" y="44"/>
                      </a:lnTo>
                      <a:lnTo>
                        <a:pt x="67" y="40"/>
                      </a:lnTo>
                      <a:lnTo>
                        <a:pt x="69" y="36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35840" y="3228480"/>
                <a:ext cx="563400" cy="345240"/>
                <a:chOff x="6135840" y="3228480"/>
                <a:chExt cx="563400" cy="345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35840" y="355392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8" y="31"/>
                      </a:moveTo>
                      <a:lnTo>
                        <a:pt x="67" y="27"/>
                      </a:lnTo>
                      <a:lnTo>
                        <a:pt x="66" y="22"/>
                      </a:lnTo>
                      <a:lnTo>
                        <a:pt x="65" y="18"/>
                      </a:lnTo>
                      <a:lnTo>
                        <a:pt x="62" y="14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20" y="4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4" y="46"/>
                      </a:lnTo>
                      <a:lnTo>
                        <a:pt x="6" y="50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5" y="58"/>
                      </a:lnTo>
                      <a:lnTo>
                        <a:pt x="17" y="59"/>
                      </a:lnTo>
                      <a:lnTo>
                        <a:pt x="21" y="62"/>
                      </a:lnTo>
                      <a:lnTo>
                        <a:pt x="26" y="63"/>
                      </a:lnTo>
                      <a:lnTo>
                        <a:pt x="31" y="63"/>
                      </a:lnTo>
                      <a:lnTo>
                        <a:pt x="34" y="63"/>
                      </a:lnTo>
                      <a:lnTo>
                        <a:pt x="40" y="63"/>
                      </a:lnTo>
                      <a:lnTo>
                        <a:pt x="44" y="62"/>
                      </a:lnTo>
                      <a:lnTo>
                        <a:pt x="49" y="60"/>
                      </a:lnTo>
                      <a:lnTo>
                        <a:pt x="54" y="58"/>
                      </a:lnTo>
                      <a:lnTo>
                        <a:pt x="57" y="56"/>
                      </a:lnTo>
                      <a:lnTo>
                        <a:pt x="60" y="52"/>
                      </a:lnTo>
                      <a:lnTo>
                        <a:pt x="63" y="48"/>
                      </a:lnTo>
                      <a:lnTo>
                        <a:pt x="66" y="43"/>
                      </a:lnTo>
                      <a:lnTo>
                        <a:pt x="67" y="40"/>
                      </a:lnTo>
                      <a:lnTo>
                        <a:pt x="68" y="36"/>
                      </a:lnTo>
                      <a:lnTo>
                        <a:pt x="6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98480" y="351360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4" y="7"/>
                      </a:lnTo>
                      <a:lnTo>
                        <a:pt x="52" y="6"/>
                      </a:lnTo>
                      <a:lnTo>
                        <a:pt x="48" y="3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4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1" y="41"/>
                      </a:lnTo>
                      <a:lnTo>
                        <a:pt x="2" y="46"/>
                      </a:lnTo>
                      <a:lnTo>
                        <a:pt x="4" y="49"/>
                      </a:lnTo>
                      <a:lnTo>
                        <a:pt x="7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5" y="59"/>
                      </a:lnTo>
                      <a:lnTo>
                        <a:pt x="19" y="61"/>
                      </a:lnTo>
                      <a:lnTo>
                        <a:pt x="25" y="63"/>
                      </a:lnTo>
                      <a:lnTo>
                        <a:pt x="29" y="64"/>
                      </a:lnTo>
                      <a:lnTo>
                        <a:pt x="33" y="64"/>
                      </a:lnTo>
                      <a:lnTo>
                        <a:pt x="38" y="63"/>
                      </a:lnTo>
                      <a:lnTo>
                        <a:pt x="43" y="61"/>
                      </a:lnTo>
                      <a:lnTo>
                        <a:pt x="47" y="60"/>
                      </a:lnTo>
                      <a:lnTo>
                        <a:pt x="52" y="58"/>
                      </a:lnTo>
                      <a:lnTo>
                        <a:pt x="55" y="55"/>
                      </a:lnTo>
                      <a:lnTo>
                        <a:pt x="59" y="52"/>
                      </a:lnTo>
                      <a:lnTo>
                        <a:pt x="61" y="48"/>
                      </a:lnTo>
                      <a:lnTo>
                        <a:pt x="64" y="44"/>
                      </a:lnTo>
                      <a:lnTo>
                        <a:pt x="65" y="40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265440" y="347472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5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2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8"/>
                      </a:lnTo>
                      <a:lnTo>
                        <a:pt x="20" y="60"/>
                      </a:lnTo>
                      <a:lnTo>
                        <a:pt x="25" y="61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1"/>
                      </a:lnTo>
                      <a:lnTo>
                        <a:pt x="43" y="61"/>
                      </a:lnTo>
                      <a:lnTo>
                        <a:pt x="48" y="59"/>
                      </a:lnTo>
                      <a:lnTo>
                        <a:pt x="52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36360" y="34304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1"/>
                      </a:moveTo>
                      <a:lnTo>
                        <a:pt x="67" y="27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48" y="4"/>
                      </a:ln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1"/>
                      </a:lnTo>
                      <a:lnTo>
                        <a:pt x="18" y="2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2" y="45"/>
                      </a:lnTo>
                      <a:lnTo>
                        <a:pt x="5" y="50"/>
                      </a:lnTo>
                      <a:lnTo>
                        <a:pt x="8" y="52"/>
                      </a:lnTo>
                      <a:lnTo>
                        <a:pt x="11" y="56"/>
                      </a:lnTo>
                      <a:lnTo>
                        <a:pt x="13" y="57"/>
                      </a:lnTo>
                      <a:lnTo>
                        <a:pt x="16" y="59"/>
                      </a:lnTo>
                      <a:lnTo>
                        <a:pt x="21" y="62"/>
                      </a:lnTo>
                      <a:lnTo>
                        <a:pt x="25" y="63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6" y="56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08000" y="338940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1" y="14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6"/>
                      </a:lnTo>
                      <a:lnTo>
                        <a:pt x="49" y="3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5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6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4"/>
                      </a:lnTo>
                      <a:lnTo>
                        <a:pt x="34" y="64"/>
                      </a:ln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4" y="44"/>
                      </a:lnTo>
                      <a:lnTo>
                        <a:pt x="65" y="39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474960" y="3349800"/>
                  <a:ext cx="22680" cy="201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2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5" y="17"/>
                      </a:lnTo>
                      <a:lnTo>
                        <a:pt x="61" y="13"/>
                      </a:lnTo>
                      <a:lnTo>
                        <a:pt x="59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9"/>
                      </a:lnTo>
                      <a:lnTo>
                        <a:pt x="20" y="61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1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60" y="52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46600" y="3305880"/>
                  <a:ext cx="2268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0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3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0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8"/>
                      </a:lnTo>
                      <a:lnTo>
                        <a:pt x="21" y="61"/>
                      </a:lnTo>
                      <a:lnTo>
                        <a:pt x="26" y="62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2"/>
                      </a:lnTo>
                      <a:lnTo>
                        <a:pt x="44" y="62"/>
                      </a:lnTo>
                      <a:lnTo>
                        <a:pt x="47" y="59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611400" y="326556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67" y="31"/>
                      </a:moveTo>
                      <a:lnTo>
                        <a:pt x="67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3"/>
                      </a:lnTo>
                      <a:lnTo>
                        <a:pt x="15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4" y="44"/>
                      </a:lnTo>
                      <a:lnTo>
                        <a:pt x="6" y="49"/>
                      </a:lnTo>
                      <a:lnTo>
                        <a:pt x="9" y="52"/>
                      </a:lnTo>
                      <a:lnTo>
                        <a:pt x="11" y="55"/>
                      </a:lnTo>
                      <a:lnTo>
                        <a:pt x="13" y="56"/>
                      </a:lnTo>
                      <a:lnTo>
                        <a:pt x="17" y="59"/>
                      </a:lnTo>
                      <a:lnTo>
                        <a:pt x="21" y="61"/>
                      </a:lnTo>
                      <a:lnTo>
                        <a:pt x="25" y="62"/>
                      </a:lnTo>
                      <a:lnTo>
                        <a:pt x="30" y="62"/>
                      </a:lnTo>
                      <a:lnTo>
                        <a:pt x="34" y="62"/>
                      </a:lnTo>
                      <a:lnTo>
                        <a:pt x="39" y="62"/>
                      </a:lnTo>
                      <a:lnTo>
                        <a:pt x="44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3"/>
                      </a:lnTo>
                      <a:lnTo>
                        <a:pt x="67" y="39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77640" y="32284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7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8" y="11"/>
                      </a:lnTo>
                      <a:lnTo>
                        <a:pt x="5" y="15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3"/>
                      </a:lnTo>
                      <a:lnTo>
                        <a:pt x="43" y="62"/>
                      </a:lnTo>
                      <a:lnTo>
                        <a:pt x="48" y="61"/>
                      </a:lnTo>
                      <a:lnTo>
                        <a:pt x="53" y="58"/>
                      </a:lnTo>
                      <a:lnTo>
                        <a:pt x="57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5608440" y="2995560"/>
              <a:ext cx="1168200" cy="576000"/>
              <a:chOff x="5608440" y="2995560"/>
              <a:chExt cx="1168200" cy="5760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5608440" y="2995560"/>
                <a:ext cx="1168200" cy="576000"/>
                <a:chOff x="5608440" y="2995560"/>
                <a:chExt cx="1168200" cy="5760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608440" y="2995560"/>
                  <a:ext cx="1168200" cy="576000"/>
                </a:xfrm>
                <a:custGeom>
                  <a:avLst/>
                  <a:gdLst/>
                  <a:ahLst/>
                  <a:rect l="l" t="t" r="r" b="b"/>
                  <a:pathLst>
                    <a:path w="3565" h="1805">
                      <a:moveTo>
                        <a:pt x="0" y="1075"/>
                      </a:moveTo>
                      <a:lnTo>
                        <a:pt x="1974" y="0"/>
                      </a:lnTo>
                      <a:lnTo>
                        <a:pt x="3565" y="653"/>
                      </a:lnTo>
                      <a:lnTo>
                        <a:pt x="1706" y="1805"/>
                      </a:lnTo>
                      <a:lnTo>
                        <a:pt x="0" y="10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5680800" y="3030840"/>
                  <a:ext cx="1033920" cy="502200"/>
                  <a:chOff x="5680800" y="3030840"/>
                  <a:chExt cx="1033920" cy="50220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5680800" y="3263400"/>
                    <a:ext cx="6184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8" h="847">
                        <a:moveTo>
                          <a:pt x="0" y="115"/>
                        </a:moveTo>
                        <a:lnTo>
                          <a:pt x="210" y="0"/>
                        </a:lnTo>
                        <a:lnTo>
                          <a:pt x="1888" y="714"/>
                        </a:lnTo>
                        <a:lnTo>
                          <a:pt x="1674" y="847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826960" y="3184560"/>
                    <a:ext cx="6127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0" h="824">
                        <a:moveTo>
                          <a:pt x="0" y="116"/>
                        </a:moveTo>
                        <a:lnTo>
                          <a:pt x="212" y="0"/>
                        </a:lnTo>
                        <a:lnTo>
                          <a:pt x="1870" y="692"/>
                        </a:lnTo>
                        <a:lnTo>
                          <a:pt x="1657" y="824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975640" y="3106440"/>
                    <a:ext cx="6026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1" h="811">
                        <a:moveTo>
                          <a:pt x="0" y="114"/>
                        </a:moveTo>
                        <a:lnTo>
                          <a:pt x="208" y="0"/>
                        </a:lnTo>
                        <a:lnTo>
                          <a:pt x="1841" y="677"/>
                        </a:lnTo>
                        <a:lnTo>
                          <a:pt x="1626" y="811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120360" y="3030840"/>
                    <a:ext cx="5943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4" h="795">
                        <a:moveTo>
                          <a:pt x="0" y="112"/>
                        </a:moveTo>
                        <a:lnTo>
                          <a:pt x="208" y="0"/>
                        </a:lnTo>
                        <a:lnTo>
                          <a:pt x="1814" y="659"/>
                        </a:lnTo>
                        <a:lnTo>
                          <a:pt x="1598" y="795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5677920" y="3010680"/>
                <a:ext cx="593280" cy="324000"/>
                <a:chOff x="5677920" y="3010680"/>
                <a:chExt cx="593280" cy="3240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677920" y="331668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30"/>
                      </a:moveTo>
                      <a:lnTo>
                        <a:pt x="70" y="25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58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7" y="2"/>
                      </a:lnTo>
                      <a:lnTo>
                        <a:pt x="44" y="1"/>
                      </a:lnTo>
                      <a:lnTo>
                        <a:pt x="39" y="1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4" y="42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7" y="56"/>
                      </a:lnTo>
                      <a:lnTo>
                        <a:pt x="22" y="57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2" y="50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4"/>
                      </a:lnTo>
                      <a:lnTo>
                        <a:pt x="7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745600" y="328068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7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8" y="54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8"/>
                      </a:lnTo>
                      <a:lnTo>
                        <a:pt x="46" y="58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815440" y="324216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0"/>
                      </a:lnTo>
                      <a:lnTo>
                        <a:pt x="66" y="16"/>
                      </a:lnTo>
                      <a:lnTo>
                        <a:pt x="64" y="12"/>
                      </a:lnTo>
                      <a:lnTo>
                        <a:pt x="60" y="9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1" y="2"/>
                      </a:lnTo>
                      <a:lnTo>
                        <a:pt x="47" y="1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8" y="48"/>
                      </a:lnTo>
                      <a:lnTo>
                        <a:pt x="11" y="51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0" y="57"/>
                      </a:lnTo>
                      <a:lnTo>
                        <a:pt x="25" y="58"/>
                      </a:lnTo>
                      <a:lnTo>
                        <a:pt x="30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5" y="57"/>
                      </a:lnTo>
                      <a:lnTo>
                        <a:pt x="49" y="55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889960" y="320004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71" h="58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70" y="20"/>
                      </a:lnTo>
                      <a:lnTo>
                        <a:pt x="68" y="15"/>
                      </a:lnTo>
                      <a:lnTo>
                        <a:pt x="65" y="12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2"/>
                      </a:lnTo>
                      <a:lnTo>
                        <a:pt x="48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3" y="41"/>
                      </a:lnTo>
                      <a:lnTo>
                        <a:pt x="5" y="44"/>
                      </a:lnTo>
                      <a:lnTo>
                        <a:pt x="9" y="48"/>
                      </a:lnTo>
                      <a:lnTo>
                        <a:pt x="11" y="50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1" y="56"/>
                      </a:lnTo>
                      <a:lnTo>
                        <a:pt x="27" y="58"/>
                      </a:lnTo>
                      <a:lnTo>
                        <a:pt x="32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6" y="56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61" y="50"/>
                      </a:lnTo>
                      <a:lnTo>
                        <a:pt x="63" y="48"/>
                      </a:lnTo>
                      <a:lnTo>
                        <a:pt x="67" y="43"/>
                      </a:lnTo>
                      <a:lnTo>
                        <a:pt x="69" y="39"/>
                      </a:lnTo>
                      <a:lnTo>
                        <a:pt x="70" y="37"/>
                      </a:lnTo>
                      <a:lnTo>
                        <a:pt x="71" y="32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965920" y="316080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19"/>
                      </a:lnTo>
                      <a:lnTo>
                        <a:pt x="68" y="15"/>
                      </a:lnTo>
                      <a:lnTo>
                        <a:pt x="64" y="12"/>
                      </a:lnTo>
                      <a:lnTo>
                        <a:pt x="62" y="9"/>
                      </a:lnTo>
                      <a:lnTo>
                        <a:pt x="58" y="6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7" y="1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6" y="44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2" y="58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5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3"/>
                      </a:lnTo>
                      <a:lnTo>
                        <a:pt x="68" y="40"/>
                      </a:lnTo>
                      <a:lnTo>
                        <a:pt x="69" y="36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36480" y="3124440"/>
                  <a:ext cx="2268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5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2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1"/>
                      </a:lnTo>
                      <a:lnTo>
                        <a:pt x="21" y="3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8" y="55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112440" y="308232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54" y="5"/>
                      </a:lnTo>
                      <a:lnTo>
                        <a:pt x="51" y="4"/>
                      </a:lnTo>
                      <a:lnTo>
                        <a:pt x="47" y="3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10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9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7" y="50"/>
                      </a:lnTo>
                      <a:lnTo>
                        <a:pt x="11" y="52"/>
                      </a:lnTo>
                      <a:lnTo>
                        <a:pt x="13" y="53"/>
                      </a:lnTo>
                      <a:lnTo>
                        <a:pt x="17" y="56"/>
                      </a:lnTo>
                      <a:lnTo>
                        <a:pt x="21" y="57"/>
                      </a:lnTo>
                      <a:lnTo>
                        <a:pt x="25" y="58"/>
                      </a:lnTo>
                      <a:lnTo>
                        <a:pt x="30" y="59"/>
                      </a:lnTo>
                      <a:lnTo>
                        <a:pt x="35" y="59"/>
                      </a:lnTo>
                      <a:lnTo>
                        <a:pt x="41" y="58"/>
                      </a:lnTo>
                      <a:lnTo>
                        <a:pt x="45" y="58"/>
                      </a:lnTo>
                      <a:lnTo>
                        <a:pt x="50" y="57"/>
                      </a:lnTo>
                      <a:lnTo>
                        <a:pt x="54" y="55"/>
                      </a:lnTo>
                      <a:lnTo>
                        <a:pt x="58" y="52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0" y="34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179040" y="304596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1" h="59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55" y="5"/>
                      </a:lnTo>
                      <a:lnTo>
                        <a:pt x="51" y="4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6" y="5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3" y="17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7" y="46"/>
                      </a:lnTo>
                      <a:lnTo>
                        <a:pt x="9" y="49"/>
                      </a:lnTo>
                      <a:lnTo>
                        <a:pt x="11" y="51"/>
                      </a:lnTo>
                      <a:lnTo>
                        <a:pt x="15" y="53"/>
                      </a:lnTo>
                      <a:lnTo>
                        <a:pt x="17" y="55"/>
                      </a:lnTo>
                      <a:lnTo>
                        <a:pt x="21" y="57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2" y="58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60" y="51"/>
                      </a:lnTo>
                      <a:lnTo>
                        <a:pt x="62" y="49"/>
                      </a:lnTo>
                      <a:lnTo>
                        <a:pt x="66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1" y="33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247800" y="301068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7" y="16"/>
                      </a:lnTo>
                      <a:lnTo>
                        <a:pt x="64" y="12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3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4"/>
                      </a:lnTo>
                      <a:lnTo>
                        <a:pt x="1" y="38"/>
                      </a:lnTo>
                      <a:lnTo>
                        <a:pt x="3" y="41"/>
                      </a:lnTo>
                      <a:lnTo>
                        <a:pt x="6" y="45"/>
                      </a:lnTo>
                      <a:lnTo>
                        <a:pt x="8" y="49"/>
                      </a:lnTo>
                      <a:lnTo>
                        <a:pt x="12" y="51"/>
                      </a:lnTo>
                      <a:lnTo>
                        <a:pt x="14" y="53"/>
                      </a:lnTo>
                      <a:lnTo>
                        <a:pt x="17" y="55"/>
                      </a:lnTo>
                      <a:lnTo>
                        <a:pt x="22" y="57"/>
                      </a:lnTo>
                      <a:lnTo>
                        <a:pt x="26" y="58"/>
                      </a:lnTo>
                      <a:lnTo>
                        <a:pt x="31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6" y="57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59" y="51"/>
                      </a:lnTo>
                      <a:lnTo>
                        <a:pt x="61" y="49"/>
                      </a:lnTo>
                      <a:lnTo>
                        <a:pt x="65" y="44"/>
                      </a:lnTo>
                      <a:lnTo>
                        <a:pt x="67" y="40"/>
                      </a:lnTo>
                      <a:lnTo>
                        <a:pt x="69" y="36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161040" y="3195360"/>
                <a:ext cx="563400" cy="344880"/>
                <a:chOff x="6161040" y="3195360"/>
                <a:chExt cx="563400" cy="344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161040" y="35204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8" y="31"/>
                      </a:moveTo>
                      <a:lnTo>
                        <a:pt x="67" y="27"/>
                      </a:lnTo>
                      <a:lnTo>
                        <a:pt x="66" y="22"/>
                      </a:lnTo>
                      <a:lnTo>
                        <a:pt x="65" y="18"/>
                      </a:lnTo>
                      <a:lnTo>
                        <a:pt x="62" y="14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20" y="4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4" y="46"/>
                      </a:lnTo>
                      <a:lnTo>
                        <a:pt x="6" y="50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5" y="58"/>
                      </a:lnTo>
                      <a:lnTo>
                        <a:pt x="17" y="59"/>
                      </a:lnTo>
                      <a:lnTo>
                        <a:pt x="21" y="62"/>
                      </a:lnTo>
                      <a:lnTo>
                        <a:pt x="26" y="63"/>
                      </a:lnTo>
                      <a:lnTo>
                        <a:pt x="31" y="63"/>
                      </a:lnTo>
                      <a:lnTo>
                        <a:pt x="34" y="63"/>
                      </a:lnTo>
                      <a:lnTo>
                        <a:pt x="40" y="63"/>
                      </a:lnTo>
                      <a:lnTo>
                        <a:pt x="44" y="62"/>
                      </a:lnTo>
                      <a:lnTo>
                        <a:pt x="49" y="60"/>
                      </a:lnTo>
                      <a:lnTo>
                        <a:pt x="54" y="58"/>
                      </a:lnTo>
                      <a:lnTo>
                        <a:pt x="57" y="56"/>
                      </a:lnTo>
                      <a:lnTo>
                        <a:pt x="60" y="52"/>
                      </a:lnTo>
                      <a:lnTo>
                        <a:pt x="63" y="48"/>
                      </a:lnTo>
                      <a:lnTo>
                        <a:pt x="66" y="43"/>
                      </a:lnTo>
                      <a:lnTo>
                        <a:pt x="67" y="40"/>
                      </a:lnTo>
                      <a:lnTo>
                        <a:pt x="68" y="36"/>
                      </a:lnTo>
                      <a:lnTo>
                        <a:pt x="6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23680" y="34801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4" y="7"/>
                      </a:lnTo>
                      <a:lnTo>
                        <a:pt x="52" y="6"/>
                      </a:lnTo>
                      <a:lnTo>
                        <a:pt x="48" y="3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4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1" y="41"/>
                      </a:lnTo>
                      <a:lnTo>
                        <a:pt x="2" y="46"/>
                      </a:lnTo>
                      <a:lnTo>
                        <a:pt x="4" y="49"/>
                      </a:lnTo>
                      <a:lnTo>
                        <a:pt x="7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5" y="59"/>
                      </a:lnTo>
                      <a:lnTo>
                        <a:pt x="19" y="61"/>
                      </a:lnTo>
                      <a:lnTo>
                        <a:pt x="25" y="63"/>
                      </a:lnTo>
                      <a:lnTo>
                        <a:pt x="29" y="64"/>
                      </a:lnTo>
                      <a:lnTo>
                        <a:pt x="33" y="64"/>
                      </a:lnTo>
                      <a:lnTo>
                        <a:pt x="38" y="63"/>
                      </a:lnTo>
                      <a:lnTo>
                        <a:pt x="43" y="61"/>
                      </a:lnTo>
                      <a:lnTo>
                        <a:pt x="47" y="60"/>
                      </a:lnTo>
                      <a:lnTo>
                        <a:pt x="52" y="58"/>
                      </a:lnTo>
                      <a:lnTo>
                        <a:pt x="55" y="55"/>
                      </a:lnTo>
                      <a:lnTo>
                        <a:pt x="59" y="52"/>
                      </a:lnTo>
                      <a:lnTo>
                        <a:pt x="61" y="48"/>
                      </a:lnTo>
                      <a:lnTo>
                        <a:pt x="64" y="44"/>
                      </a:lnTo>
                      <a:lnTo>
                        <a:pt x="65" y="40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290640" y="34412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5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2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8"/>
                      </a:lnTo>
                      <a:lnTo>
                        <a:pt x="20" y="60"/>
                      </a:lnTo>
                      <a:lnTo>
                        <a:pt x="25" y="61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1"/>
                      </a:lnTo>
                      <a:lnTo>
                        <a:pt x="43" y="61"/>
                      </a:lnTo>
                      <a:lnTo>
                        <a:pt x="48" y="59"/>
                      </a:lnTo>
                      <a:lnTo>
                        <a:pt x="52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61560" y="339732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1"/>
                      </a:moveTo>
                      <a:lnTo>
                        <a:pt x="67" y="27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48" y="4"/>
                      </a:ln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1"/>
                      </a:lnTo>
                      <a:lnTo>
                        <a:pt x="18" y="2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2" y="45"/>
                      </a:lnTo>
                      <a:lnTo>
                        <a:pt x="5" y="50"/>
                      </a:lnTo>
                      <a:lnTo>
                        <a:pt x="8" y="52"/>
                      </a:lnTo>
                      <a:lnTo>
                        <a:pt x="11" y="56"/>
                      </a:lnTo>
                      <a:lnTo>
                        <a:pt x="13" y="57"/>
                      </a:lnTo>
                      <a:lnTo>
                        <a:pt x="16" y="59"/>
                      </a:lnTo>
                      <a:lnTo>
                        <a:pt x="21" y="62"/>
                      </a:lnTo>
                      <a:lnTo>
                        <a:pt x="25" y="63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6" y="56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433200" y="335592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1" y="14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6"/>
                      </a:lnTo>
                      <a:lnTo>
                        <a:pt x="49" y="3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5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6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4"/>
                      </a:lnTo>
                      <a:lnTo>
                        <a:pt x="34" y="64"/>
                      </a:ln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4" y="44"/>
                      </a:lnTo>
                      <a:lnTo>
                        <a:pt x="65" y="39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00160" y="3316680"/>
                  <a:ext cx="22680" cy="201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2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5" y="17"/>
                      </a:lnTo>
                      <a:lnTo>
                        <a:pt x="61" y="13"/>
                      </a:lnTo>
                      <a:lnTo>
                        <a:pt x="59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9"/>
                      </a:lnTo>
                      <a:lnTo>
                        <a:pt x="20" y="61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1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60" y="52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71800" y="3272760"/>
                  <a:ext cx="2268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0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3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0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8"/>
                      </a:lnTo>
                      <a:lnTo>
                        <a:pt x="21" y="61"/>
                      </a:lnTo>
                      <a:lnTo>
                        <a:pt x="26" y="62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2"/>
                      </a:lnTo>
                      <a:lnTo>
                        <a:pt x="44" y="62"/>
                      </a:lnTo>
                      <a:lnTo>
                        <a:pt x="47" y="59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36600" y="323244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67" y="31"/>
                      </a:moveTo>
                      <a:lnTo>
                        <a:pt x="67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3"/>
                      </a:lnTo>
                      <a:lnTo>
                        <a:pt x="15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4" y="44"/>
                      </a:lnTo>
                      <a:lnTo>
                        <a:pt x="6" y="49"/>
                      </a:lnTo>
                      <a:lnTo>
                        <a:pt x="9" y="52"/>
                      </a:lnTo>
                      <a:lnTo>
                        <a:pt x="11" y="55"/>
                      </a:lnTo>
                      <a:lnTo>
                        <a:pt x="13" y="56"/>
                      </a:lnTo>
                      <a:lnTo>
                        <a:pt x="17" y="59"/>
                      </a:lnTo>
                      <a:lnTo>
                        <a:pt x="21" y="61"/>
                      </a:lnTo>
                      <a:lnTo>
                        <a:pt x="25" y="62"/>
                      </a:lnTo>
                      <a:lnTo>
                        <a:pt x="30" y="62"/>
                      </a:lnTo>
                      <a:lnTo>
                        <a:pt x="34" y="62"/>
                      </a:lnTo>
                      <a:lnTo>
                        <a:pt x="39" y="62"/>
                      </a:lnTo>
                      <a:lnTo>
                        <a:pt x="44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3"/>
                      </a:lnTo>
                      <a:lnTo>
                        <a:pt x="67" y="39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02840" y="319536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7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8" y="11"/>
                      </a:lnTo>
                      <a:lnTo>
                        <a:pt x="5" y="15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3"/>
                      </a:lnTo>
                      <a:lnTo>
                        <a:pt x="43" y="62"/>
                      </a:lnTo>
                      <a:lnTo>
                        <a:pt x="48" y="61"/>
                      </a:lnTo>
                      <a:lnTo>
                        <a:pt x="53" y="58"/>
                      </a:lnTo>
                      <a:lnTo>
                        <a:pt x="57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608440" y="2952720"/>
              <a:ext cx="1168200" cy="576000"/>
              <a:chOff x="5608440" y="2952720"/>
              <a:chExt cx="1168200" cy="5760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5608440" y="2952720"/>
                <a:ext cx="1168200" cy="576000"/>
                <a:chOff x="5608440" y="2952720"/>
                <a:chExt cx="1168200" cy="5760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608440" y="2952720"/>
                  <a:ext cx="1168200" cy="576000"/>
                </a:xfrm>
                <a:custGeom>
                  <a:avLst/>
                  <a:gdLst/>
                  <a:ahLst/>
                  <a:rect l="l" t="t" r="r" b="b"/>
                  <a:pathLst>
                    <a:path w="3565" h="1805">
                      <a:moveTo>
                        <a:pt x="0" y="1075"/>
                      </a:moveTo>
                      <a:lnTo>
                        <a:pt x="1974" y="0"/>
                      </a:lnTo>
                      <a:lnTo>
                        <a:pt x="3565" y="653"/>
                      </a:lnTo>
                      <a:lnTo>
                        <a:pt x="1706" y="1805"/>
                      </a:lnTo>
                      <a:lnTo>
                        <a:pt x="0" y="10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"/>
                <p:cNvGrpSpPr/>
                <p:nvPr/>
              </p:nvGrpSpPr>
              <p:grpSpPr>
                <a:xfrm>
                  <a:off x="5680800" y="2988000"/>
                  <a:ext cx="1033920" cy="502200"/>
                  <a:chOff x="5680800" y="2988000"/>
                  <a:chExt cx="1033920" cy="5022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680800" y="3220560"/>
                    <a:ext cx="6184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8" h="847">
                        <a:moveTo>
                          <a:pt x="0" y="115"/>
                        </a:moveTo>
                        <a:lnTo>
                          <a:pt x="210" y="0"/>
                        </a:lnTo>
                        <a:lnTo>
                          <a:pt x="1888" y="714"/>
                        </a:lnTo>
                        <a:lnTo>
                          <a:pt x="1674" y="847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826960" y="3141720"/>
                    <a:ext cx="6127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0" h="824">
                        <a:moveTo>
                          <a:pt x="0" y="116"/>
                        </a:moveTo>
                        <a:lnTo>
                          <a:pt x="212" y="0"/>
                        </a:lnTo>
                        <a:lnTo>
                          <a:pt x="1870" y="692"/>
                        </a:lnTo>
                        <a:lnTo>
                          <a:pt x="1657" y="824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975640" y="3063600"/>
                    <a:ext cx="6026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1" h="811">
                        <a:moveTo>
                          <a:pt x="0" y="114"/>
                        </a:moveTo>
                        <a:lnTo>
                          <a:pt x="208" y="0"/>
                        </a:lnTo>
                        <a:lnTo>
                          <a:pt x="1841" y="677"/>
                        </a:lnTo>
                        <a:lnTo>
                          <a:pt x="1626" y="811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6120360" y="2988000"/>
                    <a:ext cx="5943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4" h="795">
                        <a:moveTo>
                          <a:pt x="0" y="112"/>
                        </a:moveTo>
                        <a:lnTo>
                          <a:pt x="208" y="0"/>
                        </a:lnTo>
                        <a:lnTo>
                          <a:pt x="1814" y="659"/>
                        </a:lnTo>
                        <a:lnTo>
                          <a:pt x="1598" y="795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5677920" y="2967840"/>
                <a:ext cx="593280" cy="324000"/>
                <a:chOff x="5677920" y="2967840"/>
                <a:chExt cx="593280" cy="3240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5677920" y="327384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30"/>
                      </a:moveTo>
                      <a:lnTo>
                        <a:pt x="70" y="25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58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7" y="2"/>
                      </a:lnTo>
                      <a:lnTo>
                        <a:pt x="44" y="1"/>
                      </a:lnTo>
                      <a:lnTo>
                        <a:pt x="39" y="1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4" y="42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7" y="56"/>
                      </a:lnTo>
                      <a:lnTo>
                        <a:pt x="22" y="57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2" y="50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4"/>
                      </a:lnTo>
                      <a:lnTo>
                        <a:pt x="7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45600" y="323784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7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8" y="54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8"/>
                      </a:lnTo>
                      <a:lnTo>
                        <a:pt x="46" y="58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15440" y="319932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0"/>
                      </a:lnTo>
                      <a:lnTo>
                        <a:pt x="66" y="16"/>
                      </a:lnTo>
                      <a:lnTo>
                        <a:pt x="64" y="12"/>
                      </a:lnTo>
                      <a:lnTo>
                        <a:pt x="60" y="9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1" y="2"/>
                      </a:lnTo>
                      <a:lnTo>
                        <a:pt x="47" y="1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8" y="48"/>
                      </a:lnTo>
                      <a:lnTo>
                        <a:pt x="11" y="51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0" y="57"/>
                      </a:lnTo>
                      <a:lnTo>
                        <a:pt x="25" y="58"/>
                      </a:lnTo>
                      <a:lnTo>
                        <a:pt x="30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5" y="57"/>
                      </a:lnTo>
                      <a:lnTo>
                        <a:pt x="49" y="55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889960" y="315720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71" h="58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70" y="20"/>
                      </a:lnTo>
                      <a:lnTo>
                        <a:pt x="68" y="15"/>
                      </a:lnTo>
                      <a:lnTo>
                        <a:pt x="65" y="12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2"/>
                      </a:lnTo>
                      <a:lnTo>
                        <a:pt x="48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3" y="41"/>
                      </a:lnTo>
                      <a:lnTo>
                        <a:pt x="5" y="44"/>
                      </a:lnTo>
                      <a:lnTo>
                        <a:pt x="9" y="48"/>
                      </a:lnTo>
                      <a:lnTo>
                        <a:pt x="11" y="50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1" y="56"/>
                      </a:lnTo>
                      <a:lnTo>
                        <a:pt x="27" y="58"/>
                      </a:lnTo>
                      <a:lnTo>
                        <a:pt x="32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6" y="56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61" y="50"/>
                      </a:lnTo>
                      <a:lnTo>
                        <a:pt x="63" y="48"/>
                      </a:lnTo>
                      <a:lnTo>
                        <a:pt x="67" y="43"/>
                      </a:lnTo>
                      <a:lnTo>
                        <a:pt x="69" y="39"/>
                      </a:lnTo>
                      <a:lnTo>
                        <a:pt x="70" y="37"/>
                      </a:lnTo>
                      <a:lnTo>
                        <a:pt x="71" y="32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65920" y="311796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19"/>
                      </a:lnTo>
                      <a:lnTo>
                        <a:pt x="68" y="15"/>
                      </a:lnTo>
                      <a:lnTo>
                        <a:pt x="64" y="12"/>
                      </a:lnTo>
                      <a:lnTo>
                        <a:pt x="62" y="9"/>
                      </a:lnTo>
                      <a:lnTo>
                        <a:pt x="58" y="6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7" y="1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6" y="44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2" y="58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5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3"/>
                      </a:lnTo>
                      <a:lnTo>
                        <a:pt x="68" y="40"/>
                      </a:lnTo>
                      <a:lnTo>
                        <a:pt x="69" y="36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036480" y="3081600"/>
                  <a:ext cx="2268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5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2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1"/>
                      </a:lnTo>
                      <a:lnTo>
                        <a:pt x="21" y="3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8" y="55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112440" y="303948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54" y="5"/>
                      </a:lnTo>
                      <a:lnTo>
                        <a:pt x="51" y="4"/>
                      </a:lnTo>
                      <a:lnTo>
                        <a:pt x="47" y="3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10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9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7" y="50"/>
                      </a:lnTo>
                      <a:lnTo>
                        <a:pt x="11" y="52"/>
                      </a:lnTo>
                      <a:lnTo>
                        <a:pt x="13" y="53"/>
                      </a:lnTo>
                      <a:lnTo>
                        <a:pt x="17" y="56"/>
                      </a:lnTo>
                      <a:lnTo>
                        <a:pt x="21" y="57"/>
                      </a:lnTo>
                      <a:lnTo>
                        <a:pt x="25" y="58"/>
                      </a:lnTo>
                      <a:lnTo>
                        <a:pt x="30" y="59"/>
                      </a:lnTo>
                      <a:lnTo>
                        <a:pt x="35" y="59"/>
                      </a:lnTo>
                      <a:lnTo>
                        <a:pt x="41" y="58"/>
                      </a:lnTo>
                      <a:lnTo>
                        <a:pt x="45" y="58"/>
                      </a:lnTo>
                      <a:lnTo>
                        <a:pt x="50" y="57"/>
                      </a:lnTo>
                      <a:lnTo>
                        <a:pt x="54" y="55"/>
                      </a:lnTo>
                      <a:lnTo>
                        <a:pt x="58" y="52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0" y="34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179040" y="300312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1" h="59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55" y="5"/>
                      </a:lnTo>
                      <a:lnTo>
                        <a:pt x="51" y="4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6" y="5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3" y="17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7" y="46"/>
                      </a:lnTo>
                      <a:lnTo>
                        <a:pt x="9" y="49"/>
                      </a:lnTo>
                      <a:lnTo>
                        <a:pt x="11" y="51"/>
                      </a:lnTo>
                      <a:lnTo>
                        <a:pt x="15" y="53"/>
                      </a:lnTo>
                      <a:lnTo>
                        <a:pt x="17" y="55"/>
                      </a:lnTo>
                      <a:lnTo>
                        <a:pt x="21" y="57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2" y="58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60" y="51"/>
                      </a:lnTo>
                      <a:lnTo>
                        <a:pt x="62" y="49"/>
                      </a:lnTo>
                      <a:lnTo>
                        <a:pt x="66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1" y="33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47800" y="296784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7" y="16"/>
                      </a:lnTo>
                      <a:lnTo>
                        <a:pt x="64" y="12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3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4"/>
                      </a:lnTo>
                      <a:lnTo>
                        <a:pt x="1" y="38"/>
                      </a:lnTo>
                      <a:lnTo>
                        <a:pt x="3" y="41"/>
                      </a:lnTo>
                      <a:lnTo>
                        <a:pt x="6" y="45"/>
                      </a:lnTo>
                      <a:lnTo>
                        <a:pt x="8" y="49"/>
                      </a:lnTo>
                      <a:lnTo>
                        <a:pt x="12" y="51"/>
                      </a:lnTo>
                      <a:lnTo>
                        <a:pt x="14" y="53"/>
                      </a:lnTo>
                      <a:lnTo>
                        <a:pt x="17" y="55"/>
                      </a:lnTo>
                      <a:lnTo>
                        <a:pt x="22" y="57"/>
                      </a:lnTo>
                      <a:lnTo>
                        <a:pt x="26" y="58"/>
                      </a:lnTo>
                      <a:lnTo>
                        <a:pt x="31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6" y="57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59" y="51"/>
                      </a:lnTo>
                      <a:lnTo>
                        <a:pt x="61" y="49"/>
                      </a:lnTo>
                      <a:lnTo>
                        <a:pt x="65" y="44"/>
                      </a:lnTo>
                      <a:lnTo>
                        <a:pt x="67" y="40"/>
                      </a:lnTo>
                      <a:lnTo>
                        <a:pt x="69" y="36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161040" y="3152520"/>
                <a:ext cx="563400" cy="344880"/>
                <a:chOff x="6161040" y="3152520"/>
                <a:chExt cx="563400" cy="344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161040" y="347760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8" y="31"/>
                      </a:moveTo>
                      <a:lnTo>
                        <a:pt x="67" y="27"/>
                      </a:lnTo>
                      <a:lnTo>
                        <a:pt x="66" y="22"/>
                      </a:lnTo>
                      <a:lnTo>
                        <a:pt x="65" y="18"/>
                      </a:lnTo>
                      <a:lnTo>
                        <a:pt x="62" y="14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20" y="4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4" y="46"/>
                      </a:lnTo>
                      <a:lnTo>
                        <a:pt x="6" y="50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5" y="58"/>
                      </a:lnTo>
                      <a:lnTo>
                        <a:pt x="17" y="59"/>
                      </a:lnTo>
                      <a:lnTo>
                        <a:pt x="21" y="62"/>
                      </a:lnTo>
                      <a:lnTo>
                        <a:pt x="26" y="63"/>
                      </a:lnTo>
                      <a:lnTo>
                        <a:pt x="31" y="63"/>
                      </a:lnTo>
                      <a:lnTo>
                        <a:pt x="34" y="63"/>
                      </a:lnTo>
                      <a:lnTo>
                        <a:pt x="40" y="63"/>
                      </a:lnTo>
                      <a:lnTo>
                        <a:pt x="44" y="62"/>
                      </a:lnTo>
                      <a:lnTo>
                        <a:pt x="49" y="60"/>
                      </a:lnTo>
                      <a:lnTo>
                        <a:pt x="54" y="58"/>
                      </a:lnTo>
                      <a:lnTo>
                        <a:pt x="57" y="56"/>
                      </a:lnTo>
                      <a:lnTo>
                        <a:pt x="60" y="52"/>
                      </a:lnTo>
                      <a:lnTo>
                        <a:pt x="63" y="48"/>
                      </a:lnTo>
                      <a:lnTo>
                        <a:pt x="66" y="43"/>
                      </a:lnTo>
                      <a:lnTo>
                        <a:pt x="67" y="40"/>
                      </a:lnTo>
                      <a:lnTo>
                        <a:pt x="68" y="36"/>
                      </a:lnTo>
                      <a:lnTo>
                        <a:pt x="6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3680" y="34372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4" y="7"/>
                      </a:lnTo>
                      <a:lnTo>
                        <a:pt x="52" y="6"/>
                      </a:lnTo>
                      <a:lnTo>
                        <a:pt x="48" y="3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4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1" y="41"/>
                      </a:lnTo>
                      <a:lnTo>
                        <a:pt x="2" y="46"/>
                      </a:lnTo>
                      <a:lnTo>
                        <a:pt x="4" y="49"/>
                      </a:lnTo>
                      <a:lnTo>
                        <a:pt x="7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5" y="59"/>
                      </a:lnTo>
                      <a:lnTo>
                        <a:pt x="19" y="61"/>
                      </a:lnTo>
                      <a:lnTo>
                        <a:pt x="25" y="63"/>
                      </a:lnTo>
                      <a:lnTo>
                        <a:pt x="29" y="64"/>
                      </a:lnTo>
                      <a:lnTo>
                        <a:pt x="33" y="64"/>
                      </a:lnTo>
                      <a:lnTo>
                        <a:pt x="38" y="63"/>
                      </a:lnTo>
                      <a:lnTo>
                        <a:pt x="43" y="61"/>
                      </a:lnTo>
                      <a:lnTo>
                        <a:pt x="47" y="60"/>
                      </a:lnTo>
                      <a:lnTo>
                        <a:pt x="52" y="58"/>
                      </a:lnTo>
                      <a:lnTo>
                        <a:pt x="55" y="55"/>
                      </a:lnTo>
                      <a:lnTo>
                        <a:pt x="59" y="52"/>
                      </a:lnTo>
                      <a:lnTo>
                        <a:pt x="61" y="48"/>
                      </a:lnTo>
                      <a:lnTo>
                        <a:pt x="64" y="44"/>
                      </a:lnTo>
                      <a:lnTo>
                        <a:pt x="65" y="40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0640" y="339840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5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2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8"/>
                      </a:lnTo>
                      <a:lnTo>
                        <a:pt x="20" y="60"/>
                      </a:lnTo>
                      <a:lnTo>
                        <a:pt x="25" y="61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1"/>
                      </a:lnTo>
                      <a:lnTo>
                        <a:pt x="43" y="61"/>
                      </a:lnTo>
                      <a:lnTo>
                        <a:pt x="48" y="59"/>
                      </a:lnTo>
                      <a:lnTo>
                        <a:pt x="52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61560" y="335448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1"/>
                      </a:moveTo>
                      <a:lnTo>
                        <a:pt x="67" y="27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48" y="4"/>
                      </a:ln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1"/>
                      </a:lnTo>
                      <a:lnTo>
                        <a:pt x="18" y="2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2" y="45"/>
                      </a:lnTo>
                      <a:lnTo>
                        <a:pt x="5" y="50"/>
                      </a:lnTo>
                      <a:lnTo>
                        <a:pt x="8" y="52"/>
                      </a:lnTo>
                      <a:lnTo>
                        <a:pt x="11" y="56"/>
                      </a:lnTo>
                      <a:lnTo>
                        <a:pt x="13" y="57"/>
                      </a:lnTo>
                      <a:lnTo>
                        <a:pt x="16" y="59"/>
                      </a:lnTo>
                      <a:lnTo>
                        <a:pt x="21" y="62"/>
                      </a:lnTo>
                      <a:lnTo>
                        <a:pt x="25" y="63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6" y="56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33200" y="331308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1" y="14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6"/>
                      </a:lnTo>
                      <a:lnTo>
                        <a:pt x="49" y="3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5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6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4"/>
                      </a:lnTo>
                      <a:lnTo>
                        <a:pt x="34" y="64"/>
                      </a:ln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4" y="44"/>
                      </a:lnTo>
                      <a:lnTo>
                        <a:pt x="65" y="39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500160" y="3273840"/>
                  <a:ext cx="22680" cy="201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2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5" y="17"/>
                      </a:lnTo>
                      <a:lnTo>
                        <a:pt x="61" y="13"/>
                      </a:lnTo>
                      <a:lnTo>
                        <a:pt x="59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9"/>
                      </a:lnTo>
                      <a:lnTo>
                        <a:pt x="20" y="61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1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60" y="52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571800" y="3229920"/>
                  <a:ext cx="2268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0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3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0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8"/>
                      </a:lnTo>
                      <a:lnTo>
                        <a:pt x="21" y="61"/>
                      </a:lnTo>
                      <a:lnTo>
                        <a:pt x="26" y="62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2"/>
                      </a:lnTo>
                      <a:lnTo>
                        <a:pt x="44" y="62"/>
                      </a:lnTo>
                      <a:lnTo>
                        <a:pt x="47" y="59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636600" y="318960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67" y="31"/>
                      </a:moveTo>
                      <a:lnTo>
                        <a:pt x="67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3"/>
                      </a:lnTo>
                      <a:lnTo>
                        <a:pt x="15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4" y="44"/>
                      </a:lnTo>
                      <a:lnTo>
                        <a:pt x="6" y="49"/>
                      </a:lnTo>
                      <a:lnTo>
                        <a:pt x="9" y="52"/>
                      </a:lnTo>
                      <a:lnTo>
                        <a:pt x="11" y="55"/>
                      </a:lnTo>
                      <a:lnTo>
                        <a:pt x="13" y="56"/>
                      </a:lnTo>
                      <a:lnTo>
                        <a:pt x="17" y="59"/>
                      </a:lnTo>
                      <a:lnTo>
                        <a:pt x="21" y="61"/>
                      </a:lnTo>
                      <a:lnTo>
                        <a:pt x="25" y="62"/>
                      </a:lnTo>
                      <a:lnTo>
                        <a:pt x="30" y="62"/>
                      </a:lnTo>
                      <a:lnTo>
                        <a:pt x="34" y="62"/>
                      </a:lnTo>
                      <a:lnTo>
                        <a:pt x="39" y="62"/>
                      </a:lnTo>
                      <a:lnTo>
                        <a:pt x="44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3"/>
                      </a:lnTo>
                      <a:lnTo>
                        <a:pt x="67" y="39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702840" y="31525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7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8" y="11"/>
                      </a:lnTo>
                      <a:lnTo>
                        <a:pt x="5" y="15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3"/>
                      </a:lnTo>
                      <a:lnTo>
                        <a:pt x="43" y="62"/>
                      </a:lnTo>
                      <a:lnTo>
                        <a:pt x="48" y="61"/>
                      </a:lnTo>
                      <a:lnTo>
                        <a:pt x="53" y="58"/>
                      </a:lnTo>
                      <a:lnTo>
                        <a:pt x="57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049-2474-429A-96B0-82E99FA44782}" type="slidenum">
              <a:t>31</a:t>
            </a:fld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AS - 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ummary Information (Requir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-To-Date and Monthly Cash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-To-Date  and Monthly Disbursement Summary by Loa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3581280"/>
            <a:ext cx="6858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Detail Information (Optiona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De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Detail, Loan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Detail, Disbursement Activ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4876920"/>
            <a:ext cx="4267080" cy="1675800"/>
            <a:chOff x="609480" y="4876920"/>
            <a:chExt cx="4267080" cy="1675800"/>
          </a:xfrm>
        </p:grpSpPr>
        <p:grpSp>
          <p:nvGrpSpPr>
            <p:cNvPr id="520" name=""/>
            <p:cNvGrpSpPr/>
            <p:nvPr/>
          </p:nvGrpSpPr>
          <p:grpSpPr>
            <a:xfrm>
              <a:off x="609480" y="5201640"/>
              <a:ext cx="4267080" cy="1351080"/>
              <a:chOff x="609480" y="5201640"/>
              <a:chExt cx="4267080" cy="1351080"/>
            </a:xfrm>
          </p:grpSpPr>
          <p:pic>
            <p:nvPicPr>
              <p:cNvPr id="521" name="" descr=""/>
              <p:cNvPicPr/>
              <p:nvPr/>
            </p:nvPicPr>
            <p:blipFill>
              <a:blip r:embed="rId1"/>
              <a:srcRect l="5815" t="58968" r="8139" b="28287"/>
              <a:stretch/>
            </p:blipFill>
            <p:spPr>
              <a:xfrm>
                <a:off x="1403280" y="5484600"/>
                <a:ext cx="347328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2"/>
              <a:srcRect l="5815" t="58968" r="84936" b="28287"/>
              <a:stretch/>
            </p:blipFill>
            <p:spPr>
              <a:xfrm>
                <a:off x="1309320" y="5387400"/>
                <a:ext cx="469080" cy="47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ANALYZE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01640"/>
                <a:ext cx="1263240" cy="135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4" name=""/>
            <p:cNvGrpSpPr/>
            <p:nvPr/>
          </p:nvGrpSpPr>
          <p:grpSpPr>
            <a:xfrm>
              <a:off x="1266120" y="4876920"/>
              <a:ext cx="213480" cy="406080"/>
              <a:chOff x="1266120" y="4876920"/>
              <a:chExt cx="213480" cy="406080"/>
            </a:xfrm>
          </p:grpSpPr>
          <p:sp>
            <p:nvSpPr>
              <p:cNvPr id="525" name=""/>
              <p:cNvSpPr/>
              <p:nvPr/>
            </p:nvSpPr>
            <p:spPr>
              <a:xfrm>
                <a:off x="1266120" y="4876920"/>
                <a:ext cx="213480" cy="40608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77640" y="4893480"/>
                <a:ext cx="190080" cy="28224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46760" y="5197680"/>
                <a:ext cx="61200" cy="6408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8DD-3A96-42DC-8945-69FC3D8051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SAS -  How Do I Ge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sent to schools every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: DSLF##OP/DSDF##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Type: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choose from various re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490-016D-479F-8B59-73EEE4AC3A3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A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53880" y="1980720"/>
            <a:ext cx="7034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frame/Homegrow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Tools 2.0 (available for all sch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schoo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Offic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Lsrprnt2" descr=""/>
          <p:cNvPicPr/>
          <p:nvPr/>
        </p:nvPicPr>
        <p:blipFill>
          <a:blip r:embed="rId1"/>
          <a:stretch/>
        </p:blipFill>
        <p:spPr>
          <a:xfrm>
            <a:off x="223920" y="3657600"/>
            <a:ext cx="919080" cy="660240"/>
          </a:xfrm>
          <a:prstGeom prst="rect">
            <a:avLst/>
          </a:prstGeom>
          <a:ln w="0">
            <a:noFill/>
          </a:ln>
        </p:spPr>
      </p:pic>
      <p:pic>
        <p:nvPicPr>
          <p:cNvPr id="533" name="Calcpapr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1600200" cy="15004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7329600" y="1981080"/>
            <a:ext cx="823680" cy="1066680"/>
            <a:chOff x="7329600" y="1981080"/>
            <a:chExt cx="823680" cy="1066680"/>
          </a:xfrm>
        </p:grpSpPr>
        <p:sp>
          <p:nvSpPr>
            <p:cNvPr id="535" name=""/>
            <p:cNvSpPr/>
            <p:nvPr/>
          </p:nvSpPr>
          <p:spPr>
            <a:xfrm>
              <a:off x="7329600" y="1981080"/>
              <a:ext cx="823680" cy="1066680"/>
            </a:xfrm>
            <a:prstGeom prst="rect">
              <a:avLst/>
            </a:prstGeom>
            <a:solidFill>
              <a:srgbClr val="b7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9200" y="2023920"/>
              <a:ext cx="747720" cy="968400"/>
            </a:xfrm>
            <a:prstGeom prst="rect">
              <a:avLst/>
            </a:prstGeom>
            <a:solidFill>
              <a:srgbClr val="ffe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43720" y="212688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82040" y="2185920"/>
              <a:ext cx="166680" cy="237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43720" y="240804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43720" y="2484360"/>
              <a:ext cx="633600" cy="298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3720" y="256032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43720" y="263664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43720" y="2712960"/>
              <a:ext cx="633600" cy="298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107-3629-4E98-A866-64DFA8C383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6320" y="2362320"/>
            <a:ext cx="3276360" cy="1980720"/>
            <a:chOff x="76320" y="2362320"/>
            <a:chExt cx="3276360" cy="1980720"/>
          </a:xfrm>
        </p:grpSpPr>
        <p:pic>
          <p:nvPicPr>
            <p:cNvPr id="546" name="" descr=""/>
            <p:cNvPicPr/>
            <p:nvPr/>
          </p:nvPicPr>
          <p:blipFill>
            <a:blip r:embed="rId1"/>
            <a:srcRect l="0" t="0" r="63003" b="70673"/>
            <a:stretch/>
          </p:blipFill>
          <p:spPr>
            <a:xfrm>
              <a:off x="533520" y="2666880"/>
              <a:ext cx="2819160" cy="1676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632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6320" y="4433760"/>
            <a:ext cx="3276360" cy="1967040"/>
            <a:chOff x="76320" y="4433760"/>
            <a:chExt cx="3276360" cy="1967040"/>
          </a:xfrm>
        </p:grpSpPr>
        <p:pic>
          <p:nvPicPr>
            <p:cNvPr id="549" name="" descr=""/>
            <p:cNvPicPr/>
            <p:nvPr/>
          </p:nvPicPr>
          <p:blipFill>
            <a:blip r:embed="rId2"/>
            <a:srcRect l="0" t="0" r="63003" b="71335"/>
            <a:stretch/>
          </p:blipFill>
          <p:spPr>
            <a:xfrm>
              <a:off x="533520" y="4762440"/>
              <a:ext cx="2819160" cy="163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0" name=""/>
            <p:cNvSpPr/>
            <p:nvPr/>
          </p:nvSpPr>
          <p:spPr>
            <a:xfrm>
              <a:off x="76320" y="4433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352680" y="1523880"/>
            <a:ext cx="5048280" cy="4334040"/>
            <a:chOff x="3352680" y="1523880"/>
            <a:chExt cx="5048280" cy="433404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3733920" y="1752480"/>
              <a:ext cx="4667040" cy="410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3352680" y="15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809880" y="2362320"/>
            <a:ext cx="44960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2895480"/>
            <a:ext cx="449604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3429000"/>
            <a:ext cx="44960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3018800">
            <a:off x="3885840" y="518112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562720" y="4168800"/>
            <a:ext cx="3504960" cy="1851120"/>
            <a:chOff x="5562720" y="4168800"/>
            <a:chExt cx="3504960" cy="1851120"/>
          </a:xfrm>
        </p:grpSpPr>
        <p:pic>
          <p:nvPicPr>
            <p:cNvPr id="559" name="" descr=""/>
            <p:cNvPicPr/>
            <p:nvPr/>
          </p:nvPicPr>
          <p:blipFill>
            <a:blip r:embed="rId4"/>
            <a:stretch/>
          </p:blipFill>
          <p:spPr>
            <a:xfrm>
              <a:off x="5943600" y="4473720"/>
              <a:ext cx="3124080" cy="15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0" name=""/>
            <p:cNvSpPr/>
            <p:nvPr/>
          </p:nvSpPr>
          <p:spPr>
            <a:xfrm>
              <a:off x="5562720" y="416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28600" y="1447920"/>
            <a:ext cx="2819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the SAS (DL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848720" y="990720"/>
            <a:ext cx="1066680" cy="685800"/>
            <a:chOff x="7848720" y="990720"/>
            <a:chExt cx="1066680" cy="685800"/>
          </a:xfrm>
        </p:grpSpPr>
        <p:sp>
          <p:nvSpPr>
            <p:cNvPr id="563" name=""/>
            <p:cNvSpPr/>
            <p:nvPr/>
          </p:nvSpPr>
          <p:spPr>
            <a:xfrm>
              <a:off x="7848720" y="99072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11433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5AD-6D93-4817-A2FA-F287DC7072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0" b="2003"/>
          <a:stretch/>
        </p:blipFill>
        <p:spPr>
          <a:xfrm>
            <a:off x="914400" y="1600200"/>
            <a:ext cx="7543800" cy="50673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28600" y="5778360"/>
            <a:ext cx="274320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 YTD Cash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2DE-688B-40FC-A9ED-7B7B6B6126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0" t="0" r="0" b="3068"/>
          <a:stretch/>
        </p:blipFill>
        <p:spPr>
          <a:xfrm>
            <a:off x="990720" y="160020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28600" y="1676520"/>
            <a:ext cx="31240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 Monthly Cash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38C-B903-4E2E-99B4-566FA3C19E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1676520"/>
            <a:ext cx="2819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the SAS Detail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28600" y="2666880"/>
            <a:ext cx="2895120" cy="1852560"/>
            <a:chOff x="228600" y="2666880"/>
            <a:chExt cx="2895120" cy="1852560"/>
          </a:xfrm>
        </p:grpSpPr>
        <p:pic>
          <p:nvPicPr>
            <p:cNvPr id="574" name="" descr=""/>
            <p:cNvPicPr/>
            <p:nvPr/>
          </p:nvPicPr>
          <p:blipFill>
            <a:blip r:embed="rId1"/>
            <a:srcRect l="0" t="0" r="67004" b="72671"/>
            <a:stretch/>
          </p:blipFill>
          <p:spPr>
            <a:xfrm>
              <a:off x="609480" y="2957400"/>
              <a:ext cx="251424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5" name=""/>
            <p:cNvSpPr/>
            <p:nvPr/>
          </p:nvSpPr>
          <p:spPr>
            <a:xfrm>
              <a:off x="228600" y="26668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124080" y="1600200"/>
            <a:ext cx="5867640" cy="4395960"/>
            <a:chOff x="3124080" y="1600200"/>
            <a:chExt cx="5867640" cy="4395960"/>
          </a:xfrm>
        </p:grpSpPr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3505320" y="1828800"/>
              <a:ext cx="5486400" cy="416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8" name=""/>
            <p:cNvSpPr/>
            <p:nvPr/>
          </p:nvSpPr>
          <p:spPr>
            <a:xfrm>
              <a:off x="312408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28600" y="486108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Cash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Loan and Disbursement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AD6-6368-4182-B5E9-5F02BE29D6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7391160" cy="49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2" name=""/>
          <p:cNvSpPr/>
          <p:nvPr/>
        </p:nvSpPr>
        <p:spPr>
          <a:xfrm>
            <a:off x="228600" y="2286000"/>
            <a:ext cx="3200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 Cash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05F-1ECE-490F-98B3-A2B1F7CC59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Year Closeou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343240"/>
          <a:ext cx="8391600" cy="19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43240"/>
                    <a:ext cx="83916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674-836B-401C-850A-3354434987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746748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5" name=""/>
          <p:cNvSpPr/>
          <p:nvPr/>
        </p:nvSpPr>
        <p:spPr>
          <a:xfrm>
            <a:off x="228600" y="2209680"/>
            <a:ext cx="3200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 Loan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349-7B92-4EDA-BB71-A8EBBAC27E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8120" y="1679400"/>
            <a:ext cx="32004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School Data (Non-EDExpress Sch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638520" y="1600200"/>
            <a:ext cx="5048280" cy="4343400"/>
            <a:chOff x="3638520" y="1600200"/>
            <a:chExt cx="5048280" cy="434340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4019400" y="1838160"/>
              <a:ext cx="4667400" cy="410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0" name=""/>
            <p:cNvSpPr/>
            <p:nvPr/>
          </p:nvSpPr>
          <p:spPr>
            <a:xfrm>
              <a:off x="3638520" y="1600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1800" y="4357800"/>
            <a:ext cx="2895480" cy="1966680"/>
            <a:chOff x="361800" y="4357800"/>
            <a:chExt cx="2895480" cy="196668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rcRect l="0" t="0" r="67004" b="70006"/>
            <a:stretch/>
          </p:blipFill>
          <p:spPr>
            <a:xfrm>
              <a:off x="742680" y="4610160"/>
              <a:ext cx="2514600" cy="1714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3" name=""/>
            <p:cNvSpPr/>
            <p:nvPr/>
          </p:nvSpPr>
          <p:spPr>
            <a:xfrm>
              <a:off x="361800" y="43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1800" y="3048120"/>
            <a:ext cx="3352680" cy="1237320"/>
            <a:chOff x="361800" y="3048120"/>
            <a:chExt cx="3352680" cy="1237320"/>
          </a:xfrm>
        </p:grpSpPr>
        <p:sp>
          <p:nvSpPr>
            <p:cNvPr id="595" name=""/>
            <p:cNvSpPr/>
            <p:nvPr/>
          </p:nvSpPr>
          <p:spPr>
            <a:xfrm>
              <a:off x="361800" y="3048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2680" y="3276720"/>
              <a:ext cx="29718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fer to 2002-2003 DL Technical Reference for file layou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00600" y="2590920"/>
            <a:ext cx="1905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2880" y="5791320"/>
            <a:ext cx="381240" cy="609480"/>
          </a:xfrm>
          <a:prstGeom prst="upArrow">
            <a:avLst>
              <a:gd name="adj1" fmla="val 50000"/>
              <a:gd name="adj2" fmla="val 599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A16-1588-43A1-9B5B-051D4E1F71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1523880"/>
            <a:ext cx="2819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SAS to Schoo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924680" y="457200"/>
            <a:ext cx="1066680" cy="685800"/>
            <a:chOff x="7924680" y="457200"/>
            <a:chExt cx="1066680" cy="685800"/>
          </a:xfrm>
        </p:grpSpPr>
        <p:sp>
          <p:nvSpPr>
            <p:cNvPr id="602" name=""/>
            <p:cNvSpPr/>
            <p:nvPr/>
          </p:nvSpPr>
          <p:spPr>
            <a:xfrm>
              <a:off x="7924680" y="45720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53280" y="609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28600" y="2438280"/>
            <a:ext cx="2895120" cy="1852560"/>
            <a:chOff x="228600" y="2438280"/>
            <a:chExt cx="2895120" cy="185256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rcRect l="0" t="0" r="67004" b="72671"/>
            <a:stretch/>
          </p:blipFill>
          <p:spPr>
            <a:xfrm>
              <a:off x="609480" y="2728800"/>
              <a:ext cx="251424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6" name=""/>
            <p:cNvSpPr/>
            <p:nvPr/>
          </p:nvSpPr>
          <p:spPr>
            <a:xfrm>
              <a:off x="228600" y="24382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124080" y="1538280"/>
            <a:ext cx="5791320" cy="4405320"/>
            <a:chOff x="3124080" y="1538280"/>
            <a:chExt cx="5791320" cy="4405320"/>
          </a:xfrm>
        </p:grpSpPr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3505320" y="1835280"/>
              <a:ext cx="5410080" cy="410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"/>
            <p:cNvSpPr/>
            <p:nvPr/>
          </p:nvSpPr>
          <p:spPr>
            <a:xfrm>
              <a:off x="3124080" y="1538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52280" y="4419720"/>
            <a:ext cx="33530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Detail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Detail Comparison – Loa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ment Detail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043-E17E-4023-8386-45BDB7A22E7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8001000" y="380880"/>
            <a:ext cx="1066680" cy="685800"/>
            <a:chOff x="8001000" y="380880"/>
            <a:chExt cx="1066680" cy="685800"/>
          </a:xfrm>
        </p:grpSpPr>
        <p:sp>
          <p:nvSpPr>
            <p:cNvPr id="613" name=""/>
            <p:cNvSpPr/>
            <p:nvPr/>
          </p:nvSpPr>
          <p:spPr>
            <a:xfrm>
              <a:off x="8001000" y="38088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5335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" descr=""/>
          <p:cNvPicPr/>
          <p:nvPr/>
        </p:nvPicPr>
        <p:blipFill>
          <a:blip r:embed="rId1"/>
          <a:srcRect l="8999" t="20670" r="8002" b="5998"/>
          <a:stretch/>
        </p:blipFill>
        <p:spPr>
          <a:xfrm>
            <a:off x="1371600" y="1752480"/>
            <a:ext cx="7543800" cy="47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6" name=""/>
          <p:cNvSpPr/>
          <p:nvPr/>
        </p:nvSpPr>
        <p:spPr>
          <a:xfrm>
            <a:off x="533520" y="1828800"/>
            <a:ext cx="320040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ment Detai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B29-226A-4972-8035-EDB9FD00792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Reports and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 System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Summa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/Loan Detai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Reports: Loan, Promissory Note,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and/or Accepted Disbursement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edit erro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958000" y="1625760"/>
            <a:ext cx="2881080" cy="2108160"/>
            <a:chOff x="5958000" y="1625760"/>
            <a:chExt cx="2881080" cy="2108160"/>
          </a:xfrm>
        </p:grpSpPr>
        <p:pic>
          <p:nvPicPr>
            <p:cNvPr id="620" name="labels" descr=""/>
            <p:cNvPicPr/>
            <p:nvPr/>
          </p:nvPicPr>
          <p:blipFill>
            <a:blip r:embed="rId1"/>
            <a:stretch/>
          </p:blipFill>
          <p:spPr>
            <a:xfrm>
              <a:off x="7170840" y="1803600"/>
              <a:ext cx="1668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Flpydsks" descr=""/>
            <p:cNvPicPr/>
            <p:nvPr/>
          </p:nvPicPr>
          <p:blipFill>
            <a:blip r:embed="rId2"/>
            <a:stretch/>
          </p:blipFill>
          <p:spPr>
            <a:xfrm>
              <a:off x="5958000" y="1625760"/>
              <a:ext cx="1357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Computr2" descr=""/>
            <p:cNvPicPr/>
            <p:nvPr/>
          </p:nvPicPr>
          <p:blipFill>
            <a:blip r:embed="rId3"/>
            <a:stretch/>
          </p:blipFill>
          <p:spPr>
            <a:xfrm>
              <a:off x="6705720" y="2311560"/>
              <a:ext cx="2057400" cy="14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C24-4FC7-427F-BEE5-7AED8D2FF5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Reports and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Offic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ed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Detai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ccounts or Accoun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/Loan Detai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867280" y="1744560"/>
            <a:ext cx="2895480" cy="2141640"/>
            <a:chOff x="5867280" y="1744560"/>
            <a:chExt cx="2895480" cy="2141640"/>
          </a:xfrm>
        </p:grpSpPr>
        <p:pic>
          <p:nvPicPr>
            <p:cNvPr id="626" name="BS00580_" descr=""/>
            <p:cNvPicPr/>
            <p:nvPr/>
          </p:nvPicPr>
          <p:blipFill>
            <a:blip r:embed="rId1"/>
            <a:stretch/>
          </p:blipFill>
          <p:spPr>
            <a:xfrm>
              <a:off x="6703920" y="1834920"/>
              <a:ext cx="20588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Calcpapr" descr=""/>
            <p:cNvPicPr/>
            <p:nvPr/>
          </p:nvPicPr>
          <p:blipFill>
            <a:blip r:embed="rId2"/>
            <a:stretch/>
          </p:blipFill>
          <p:spPr>
            <a:xfrm>
              <a:off x="5867280" y="1744560"/>
              <a:ext cx="141912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j0128356" descr=""/>
            <p:cNvPicPr/>
            <p:nvPr/>
          </p:nvPicPr>
          <p:blipFill>
            <a:blip r:embed="rId3"/>
            <a:stretch/>
          </p:blipFill>
          <p:spPr>
            <a:xfrm>
              <a:off x="6019560" y="2506680"/>
              <a:ext cx="164952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83E-E11D-44AD-8B69-DA0D8464B6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I Loo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transactions in wrong year or split betwee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sent as refunds of cash that should have been a payment (or the reve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recycled for disbursement in a different awa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7E9-0DD8-4E36-87EF-FDB2F1CDF39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What Do I Loo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ent/unacknowledged disbursement b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ed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s recorded in business office but not in DL/Financial Ai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oked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ED6-7869-4653-9523-E133601BBEF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Know I am Finis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iscrepancies have been identified and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issues are tracked for reconciliation in next month’s 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thly reconciliation efforts have been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276720" y="4495680"/>
            <a:ext cx="2590560" cy="1517760"/>
            <a:chOff x="3276720" y="4495680"/>
            <a:chExt cx="2590560" cy="1517760"/>
          </a:xfrm>
        </p:grpSpPr>
        <p:pic>
          <p:nvPicPr>
            <p:cNvPr id="636" name="Checkmk" descr=""/>
            <p:cNvPicPr/>
            <p:nvPr/>
          </p:nvPicPr>
          <p:blipFill>
            <a:blip r:embed="rId1"/>
            <a:stretch/>
          </p:blipFill>
          <p:spPr>
            <a:xfrm>
              <a:off x="3429000" y="4495680"/>
              <a:ext cx="2437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76720" y="484488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700-7D08-4129-84BF-BF038594D1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ward Year Closeou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51000" y="3124080"/>
            <a:ext cx="8640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B = $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oked Loans = 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iscrepancies must be identified and tracked to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1650960"/>
            <a:ext cx="8458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ut – The process of reconciling all school information to the information contained in COD, and of bringing all ending cash balances to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5410080"/>
            <a:ext cx="7696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ff"/>
                </a:solidFill>
                <a:uFillTx/>
                <a:latin typeface="Arial"/>
              </a:rPr>
              <a:t>Closeout is just another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E1F-CC01-49C3-88CE-7DBB44433CA2}" type="slidenum">
              <a:t>49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Year 2001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ly closed on December 31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with outstanding balances have been referred to Case Management and Oversight (CMO)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03A-2A29-4A9E-B1CF-7FA43AC10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ward Year Closeout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hould It Occu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1000" y="2057040"/>
            <a:ext cx="8640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nth after your last regular processing month of the award year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20 days of your last loan period e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2120" y="44197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The Department’s Official 2002 – 2003 Award Year Closeout Date is July 31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A76-FA5D-45E1-BD21-9DE66777C1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14400" y="230184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225-FA73-478F-8C92-00D65AE3007B}" type="slidenum">
              <a:t>51</a:t>
            </a:fld>
          </a:p>
        </p:txBody>
      </p:sp>
    </p:spTree>
  </p:cSld>
  <p:transition spd="slow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become a COD Full Particip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must register with COD to become a Full Participant in Award Yea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gister, refer to the Full Participant Request Letter instructions on IF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COD Schoo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CODSupport@acs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800/848-0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DExpress Users must register as Full Participants for 2003-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1DF-D0A1-4AF3-8602-01895BA4E2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obtain access to the COD Web S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curity Administrator Request Letter on school or corporate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Administrator is responsible for setting up additional users at your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/Attending school relationships in COD will automatically allow access to other school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announcements on IFAP for detailed instructions and mail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3/02 - Updated: COD Website Access for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3/02 - COD Website Access for Vendors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Serv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64E-4084-4D7C-9E62-42409097CA1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3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contact COD Customer Ser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 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ODSupport@acs-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COD School Relation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4-P-GRANT for Pel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848-0978 for 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ward Year 2002-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www.cod.ed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018-4BAB-4ADC-9CDE-548BE7F435E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get more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 Site (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Origination and Disbursemen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s and 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ww.cod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rocess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Fund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COD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B39-4299-4D4B-B450-E5CA59249CC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18 – Direct Loa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34 – COD and Direct Loan: Balanc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School Relations Center staff are available in the PC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8E5-D5F7-42C7-89BD-AEAEC6ADBA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3366cc"/>
                </a:solidFill>
                <a:miter/>
              </a:ln>
              <a:solidFill>
                <a:srgbClr val="0099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DCC-47CC-40D1-8869-1C0D16DBAAA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4480" y="1665360"/>
            <a:ext cx="686916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Assistanc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and Bi-Monthly 732 LOS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s via emails and DL Bulle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Balance Verification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Year Close Out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from Regional Account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FB1-26C8-4290-B5CC-4E4CE2952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9320"/>
            <a:ext cx="800100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Program Review Determination Process (FP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3366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s to the FPRD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– Offsite review of balances by Case Management and Oversight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2 – FPRD letters is sent to the President of th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3 – Receivable is established with the Dept Of Education’s Finance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4 – Schools have 45 days to return an appeal from the date of the FPRD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724-ACCB-4442-916F-0544F9FB0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750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7920" y="441360"/>
            <a:ext cx="42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463760"/>
            <a:ext cx="79246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 of the FPRD process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5 – Schools that appealed within the 45 days will have their issues researched and processed by the 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6 – Schools that do not appeal within the 45 days will be billed for the ending cash balance plus interest by the Financ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7 – Unresolved issues being worked on by the LOC beyond the 45 days will be sent to the Office of Hearings and Appeals (OHA) for final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C7A-3883-4C17-B207-452F5DE60A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2362320"/>
            <a:ext cx="722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COD Customer Servic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287-C7A0-4B15-8DFC-B77A915DF4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3:51:54Z</dcterms:modified>
  <cp:revision>21</cp:revision>
  <dc:subject/>
  <dc:title>PowerPoint Presentation</dc:title>
</cp:coreProperties>
</file>