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ED6-38A5-4CA7-A155-FB2C1B1C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6C8-F3C6-42AA-8C38-BC7067A7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3043-C5CC-444C-929A-55CE2CE1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4382-2974-4201-A85C-E00CC726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5C96-4C28-41FF-A72B-6C25C4E2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7AC8-9A98-4388-AF6D-9490BEA5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F109-4CEA-409F-A7FC-36FA763D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72D-67A7-4A59-865F-7FBBB1E5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565D-EE78-4B24-8E50-FDDF3867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2385-2C8D-4BC1-BC8F-F914D21E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18F4-F5AB-4E7F-8E63-22D1BBA1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66C4-DA37-4319-9AD9-1BF6E842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C9F6-FCFA-4E58-BE48-ACD04786B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pring%20Conference" descr=""/>
          <p:cNvPicPr/>
          <p:nvPr/>
        </p:nvPicPr>
        <p:blipFill>
          <a:blip r:embed="rId2"/>
          <a:stretch/>
        </p:blipFill>
        <p:spPr>
          <a:xfrm>
            <a:off x="76320" y="50760"/>
            <a:ext cx="1600200" cy="863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676520" y="304920"/>
            <a:ext cx="6781680" cy="7596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76520" y="380880"/>
            <a:ext cx="6781680" cy="763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pring%20Conference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933960" cy="3741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5335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622440"/>
            <a:ext cx="7848720" cy="87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 - Tolerances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tolerance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17220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87E8-BEE0-472C-97D1-64D86C793B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0720" y="228600"/>
            <a:ext cx="582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L - System Set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system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4572000" cy="4943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09680" y="4876920"/>
            <a:ext cx="57150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9117-274E-4797-93BC-7730E09909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 Loan 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Loan Amount Requested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CPS Transaction Number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d all “Batch ID” or “Batch #” field labels to “Document I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d all “Promissory Note Status” field labels to “MPN Statu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d Disclosure Statement Print Indicator and Printed Field for PLUS Lo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B18-866D-4F11-852B-6D191EE281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 Loan 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83361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Prom Note Information fields for PLUS Lo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Accepted Note ID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8A95-0D53-464C-84C4-53E2A6BF12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bursement 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“Disbursement Release Indicator” (DRI) field to Edit-Only Disbursement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values from an Edit-Only Disbursement record to the Actual Disbursement grid when the DRI is se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d the First Disbursement flag from the Action Fields to the Edit-Only Disbursement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551-430C-4049-A009-C923E68A46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bursement 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3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d “Anticipated Disbursement” grid to “Edit-Only Disbursem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dit-Only Disbursement is disabled when the Disbursement Release Indicator (DRI) is se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“D” and “U” from the Action Typ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“Disbursement Confirmed”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7C38-48AF-48BB-901B-06A5854BB4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bursement 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disb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3920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590-1365-4A08-82F0-A7EEF5D9FD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Entr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523520"/>
            <a:ext cx="833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 “MPN/Promissory Note Status” references to “MPN Statu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d Direct Loan Confirmation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losure Printed field can now be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responding Edit-Only Disbursement Release Indicator (DRI) flag will be checked (set to true) if a Disbursement Type of “D” i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” changes from “Use Anticipated Disbursement” to “Update DRI to Tru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171D-EAAA-434D-A90A-43B17F6F35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 from EDExpress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hanges to ISIR imports from Application Processing module to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hanges to Packaging loan data imports to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E61D-8539-4FB3-B9A8-C8F6FB6617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533160"/>
            <a:ext cx="650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/Export between EDExpress &amp; Mainf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Add—Origination and Disbursement data will remain in the flat ASCII fil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Change—Origination and Disbursement data will also remain in the flat ASCII fil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Format (export to mainframe) remains in the flat ASCII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made to the record layouts to accommodate adding and deleting of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B0E0-7F30-41C8-994B-B8348A5640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2819520"/>
            <a:ext cx="838224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What’s New in EDExpress 9.1 Direct Loan for 2003-20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4CC8-19FE-4911-A4E7-EFB13CE541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 - Comb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7315200" cy="27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7180-89C5-4DDD-A525-B364C9F639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720" y="38052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rts—CO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tion, Change and Disbursement data exports have been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ommon Ex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Record combines both Origination and Disbursem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file is in the new XML format and sent to C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Record messag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RECIN (EDExpress to C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8280-7ACB-4533-85A2-7C76760DAB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6507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rts—C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IDs have new 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YY-MM-DDTHH:mm:ss.ff99999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YY-MM-DD (Century, Year, Month, D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(Constant “T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H:mm:ss.ff (Hours, minutes, seconds, thousand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9999 (Source Entity ID from set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D993-7EF6-4DE4-9417-0270F6BBA8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521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rts—C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Common Record the user can choose to export both Direct Loan and Pell data comb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will be able to regenerate Common Record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05FE-5F10-4473-80E9-0EAA1A9286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09320" y="609480"/>
            <a:ext cx="582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 - Ex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export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734000" cy="414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175B-4725-4734-BAA3-717BE0E41E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 - Ex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export2" descr=""/>
          <p:cNvPicPr/>
          <p:nvPr/>
        </p:nvPicPr>
        <p:blipFill>
          <a:blip r:embed="rId1"/>
          <a:stretch/>
        </p:blipFill>
        <p:spPr>
          <a:xfrm>
            <a:off x="2195640" y="1362240"/>
            <a:ext cx="4752720" cy="413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EBB0-801C-4EA4-85EA-5F06805EE1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rts—C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-Only is basically the origination information with anticipated disbursement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DRI is set to false (unchecked), COD treats the Disbursement data as an Anticipated Disbur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DRI is set to true (checked), COD treats the Disbursement data as an Actual Disbur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02C3-E42A-42BC-9408-8C2ED1F3D3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s—CO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ity of data received from COD will be in the new XML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remain fixed-length, flat ASCII file for EDExpress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d Origination, Change and Disbursement Acknowle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ments have been replaced with COD Common Record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RECOP (COD to EDExpr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0DED-1E33-4108-8E1C-2FA5F6E9C1E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 - Im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mport" descr=""/>
          <p:cNvPicPr/>
          <p:nvPr/>
        </p:nvPicPr>
        <p:blipFill>
          <a:blip r:embed="rId1"/>
          <a:stretch/>
        </p:blipFill>
        <p:spPr>
          <a:xfrm>
            <a:off x="1600200" y="1314360"/>
            <a:ext cx="5943600" cy="46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89B1-9F40-42B2-A419-C55317C8B30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s—CO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4572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ding Disbursement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ed Disbursement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Day Warnin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Initi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ance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22320" y="2204640"/>
            <a:ext cx="381492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t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licate Student Borrower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ctive Loans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N/Name/DOB Change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523880"/>
            <a:ext cx="8153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imports remaining in flat ASCII file form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245-5699-419D-BA19-C232F90FFD6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362320"/>
            <a:ext cx="833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2003-2004 changes to the Direct Loan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EDExpress Direct Loan processing t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C01B-E174-451D-BB2E-48DB61DC9F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can now print to a file from within a student’s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can now e-mail User-Defined Letters to thei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ed version does not have S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tudent Summary report—This is a summary of all student data, including both Direct Loan and Pel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D1C6-11BF-489C-AB82-2B3DD35724A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09320" y="5331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LUS Disclosure Statement—Schools can print this report if a PLUS Award record has a positive credit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reports will be displayed with updated COD terminology and layo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AEA8-24AA-4C61-B826-1136963F72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 Loan Processing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BD04924_" descr=""/>
          <p:cNvPicPr/>
          <p:nvPr/>
        </p:nvPicPr>
        <p:blipFill>
          <a:blip r:embed="rId1"/>
          <a:stretch/>
        </p:blipFill>
        <p:spPr>
          <a:xfrm>
            <a:off x="3657600" y="1143000"/>
            <a:ext cx="3135240" cy="31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F8CE-5073-4B07-9BD6-7696CEFDFE3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753120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| Export | Direct Loan | Combine Direct Loan and Pell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can combine the Direct Loan and Pell “ready-to-go” data into one file for transmission to C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 of only having to export one file and to transmit on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5F33-1B00-4B5B-A9C4-D4E165A1A71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77240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| Setup | Global | Security Users | Export to EDconnect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electing this option, each time a user exports files that are to be sent to COD, the exported files will automatically populate the EDconnect transmission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E55C-CE52-4A25-85D6-CB94D7998F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| File Format |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wo formats to get the basic origination and disbursement data out of EDEx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tion format could include the following f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, Origination ID, Amount (award),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could be done for Disbursem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create one format that contains all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BFE7-88A8-4995-9825-B28054212F0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279520"/>
            <a:ext cx="7772400" cy="37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using EDExpress Direct Loan or Pell modules in 2003-2004, please remember to sign up as a Full Participant with C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done in the PC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18D-181C-4253-9489-E6A49CC1E0B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79520"/>
            <a:ext cx="7772400" cy="37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to attend Direct Loan EDExpress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dates will be announced in the near future on IF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CD8A-96B4-4C65-82BA-CE8F6B07D16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reciate your feedback and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PS/WAN Tech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 1 800 330 59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: cpswan@nc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SATech Listse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: fsatech@inet.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-up information: http://www.ed.gov/offices/OSFAP/sfatech/listserv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EF95-554C-47C3-84F1-FEA9D54695A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255760" y="2057040"/>
            <a:ext cx="6888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  CPSWAN@NC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 li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hich function interested in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a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a Revie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bility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-360" y="4952880"/>
            <a:ext cx="5257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lude in body text what module/     application as well as the type of system setup you have if you’ve indicated Beta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162920" y="685800"/>
            <a:ext cx="1428480" cy="1143000"/>
          </a:xfrm>
          <a:prstGeom prst="rect">
            <a:avLst/>
          </a:prstGeom>
          <a:ln w="9360">
            <a:solidFill>
              <a:srgbClr val="9966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6173-21EB-4F88-9513-7CF229A8F9A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 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28800"/>
            <a:ext cx="7772400" cy="26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ing in 2003-2004 EDExpress users will be full participants in C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EC73-CE85-46BA-9C29-04152F875E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Spring%20Conference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933960" cy="3741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5335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622440"/>
            <a:ext cx="7848720" cy="87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378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LD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ch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ed Dis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8840" y="1447920"/>
            <a:ext cx="376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W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-Only Dis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6C0E-6197-4E89-9A0D-21F3BEE7F4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3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rect Loan and Pell only, Batch ID has been replaced by Document ID on the screens and the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to the FSA Schools Portal has been added to the Help pull-down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to FAA Access to CPS Online has been added to the View pull-down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2B9F-9A83-4160-BC47-B3C6DA4B5A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School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a Funding Method column to each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Reporting Entity ID and Attended Entity ID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entry for all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field is similar to P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AB60-411A-40FA-893F-F33469D85D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 - School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school" descr=""/>
          <p:cNvPicPr/>
          <p:nvPr/>
        </p:nvPicPr>
        <p:blipFill>
          <a:blip r:embed="rId1"/>
          <a:stretch/>
        </p:blipFill>
        <p:spPr>
          <a:xfrm>
            <a:off x="533520" y="1690560"/>
            <a:ext cx="8229600" cy="3864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3880" y="1752480"/>
            <a:ext cx="556272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BED-32E8-4BC1-A11A-8C9FB7305C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36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Tolerances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a Document Activity (COD Common Record)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d all Batch Activity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System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a Source Entity ID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entry for all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Third Party Servicer check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B23D-BF42-48A1-8DB5-DCAAA7A7D5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2:22:56Z</dcterms:created>
  <dc:creator>PAUL HILL, JR</dc:creator>
  <dc:description/>
  <dc:language>en-US</dc:language>
  <cp:lastModifiedBy>PAUL HILL, JR</cp:lastModifiedBy>
  <dcterms:modified xsi:type="dcterms:W3CDTF">2003-03-17T13:17:14Z</dcterms:modified>
  <cp:revision>30</cp:revision>
  <dc:subject/>
  <dc:title>PowerPoint Presentation</dc:title>
</cp:coreProperties>
</file>