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9F06-F694-464A-9FF7-24B1B9E18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F53A-A7F1-4765-B480-CBFB8AF36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4DDF-6F98-4F47-ADCD-9CF5DCE08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B8D2-3700-4CF4-BDBB-9D906B964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2B76-1E4D-4006-8AC1-41084793F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48A0-3345-4556-8F11-A412B0EAB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F6F6-142E-441F-9F4C-2C74C1B15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9781-D25F-4000-BDC2-148ACBEF1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5C58-A508-4B5E-8C6C-44ECAA4F3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09B1-3F6A-4317-9923-8D891B952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8339-548E-43A9-97CB-D405AFD4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CDC3-AC84-4099-ADBB-3A2A413A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BB9EE-2860-41D5-8FD0-55927D8DA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pring%20Conference" descr=""/>
          <p:cNvPicPr/>
          <p:nvPr/>
        </p:nvPicPr>
        <p:blipFill>
          <a:blip r:embed="rId2"/>
          <a:stretch/>
        </p:blipFill>
        <p:spPr>
          <a:xfrm>
            <a:off x="76320" y="50760"/>
            <a:ext cx="1600200" cy="8636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676520" y="304920"/>
            <a:ext cx="6781680" cy="7596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676520" y="380880"/>
            <a:ext cx="6781680" cy="763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09480" y="6072120"/>
            <a:ext cx="7848720" cy="88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09480" y="6161040"/>
            <a:ext cx="7848720" cy="8748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pring%20Conference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933960" cy="37414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09480" y="6072120"/>
            <a:ext cx="7848720" cy="88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6161040"/>
            <a:ext cx="7848720" cy="8748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533520"/>
            <a:ext cx="7848720" cy="88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622440"/>
            <a:ext cx="7848720" cy="871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L - Tolerances Set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tolerance" descr=""/>
          <p:cNvPicPr/>
          <p:nvPr/>
        </p:nvPicPr>
        <p:blipFill>
          <a:blip r:embed="rId1"/>
          <a:stretch/>
        </p:blipFill>
        <p:spPr>
          <a:xfrm>
            <a:off x="1371600" y="2209680"/>
            <a:ext cx="6172200" cy="261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2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5DC1-6E14-4E42-ABD1-CB9E1784CB3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80720" y="228600"/>
            <a:ext cx="582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L - System Set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system" descr=""/>
          <p:cNvPicPr/>
          <p:nvPr/>
        </p:nvPicPr>
        <p:blipFill>
          <a:blip r:embed="rId1"/>
          <a:stretch/>
        </p:blipFill>
        <p:spPr>
          <a:xfrm>
            <a:off x="2590920" y="1066680"/>
            <a:ext cx="4572000" cy="4943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209680" y="4876920"/>
            <a:ext cx="5715000" cy="6858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2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D124-88CF-4EF6-8C45-C2D1BCBBE3A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 Loan T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33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d Loan Amount Requested 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ed CPS Transaction Number 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d all “Batch ID” or “Batch #” field labels to “Document I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d all “Promissory Note Status” field labels to “MPN Statu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abled Disclosure Statement Print Indicator and Printed Field for PLUS Lo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2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E606-0548-4339-9CCF-50D0C1CEF96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 Loan T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2666880"/>
            <a:ext cx="83361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ied Prom Note Information fields for PLUS Loa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d Accepted Note ID 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2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BA33-916F-487F-B36C-34158B86BB9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520" y="4568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bursement T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ed “Disbursement Release Indicator” (DRI) field to Edit-Only Disbursement gr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 values from an Edit-Only Disbursement record to the Actual Disbursement grid when the DRI is sel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d the First Disbursement flag from the Action Fields to the Edit-Only Disbursement gr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2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2130-2EF8-458F-AA68-EA516819711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bursement T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33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d “Anticipated Disbursement” grid to “Edit-Only Disbursemen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dit-Only Disbursement is disabled when the Disbursement Release Indicator (DRI) is sel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d “D” and “U” from the Action Type 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d “Disbursement Confirmed” fl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2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653C-CA1E-4A39-A3B9-05B82D60F90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00200" y="1519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bursement T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disb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639200" cy="45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2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6522-9E9F-4CE1-9CED-C923205BDD0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 Entr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2920" y="1523520"/>
            <a:ext cx="833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d “MPN/Promissory Note Status” references to “MPN Statu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d Direct Loan Confirmation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losure Printed field can now be upd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responding Edit-Only Disbursement Release Indicator (DRI) flag will be checked (set to true) if a Disbursement Type of “D” is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” changes from “Use Anticipated Disbursement” to “Update DRI to Tru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2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E855-9F3E-4207-B8D5-7578FF06893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5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ort from EDExpress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2362320"/>
            <a:ext cx="856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changes to ISIR imports from Application Processing module to Direct Lo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changes to Packaging loan data imports to Direct Lo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2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388B-FFEB-43AB-8D63-1F2F8FC7356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04760" y="533160"/>
            <a:ext cx="650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ort/Export between EDExpress &amp; Mainfr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Add—Origination and Disbursement data will remain in the flat ASCII file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Change—Origination and Disbursement data will also remain in the flat ASCII file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Format (export to mainframe) remains in the flat ASCII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s made to the record layouts to accommodate adding and deleting of f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2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CBE0-2C2B-4F4D-B0F3-472879410C4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ssion 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2819520"/>
            <a:ext cx="838224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713474"/>
                </a:solidFill>
                <a:latin typeface="Arial"/>
              </a:rPr>
              <a:t>What’s New in EDExpress 9.1 Direct Loan for 2003-200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2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0D87-A024-4B38-876C-C663C1E7951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L - Comb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90720" y="2209680"/>
            <a:ext cx="7315200" cy="27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2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0A9C-3A2D-4FD5-9C81-5D53B5CB346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33720" y="380520"/>
            <a:ext cx="582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orts—CO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tion, Change and Disbursement data exports have been remo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Common Ex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Record combines both Origination and Disbursemen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file is in the new XML format and sent to C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Record message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RECIN (EDExpress to CO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2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2CCE-C422-4DA6-9228-4F8C578D7CE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57040" y="228600"/>
            <a:ext cx="6507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orts—C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 IDs have new for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CYY-MM-DDTHH:mm:ss.ff99999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CYY-MM-DD (Century, Year, Month, Da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(Constant “T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H:mm:ss.ff (Hours, minutes, seconds, thousandth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9999999 (Source Entity ID from setu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2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0F8C-8F6D-4C93-BFE4-120D795A131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304560"/>
            <a:ext cx="521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orts—C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Common Record the user can choose to export both Direct Loan and Pell data comb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will be able to regenerate Common Record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2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7150-FA09-4C4D-BA1C-FCB9EC419AA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09320" y="609480"/>
            <a:ext cx="582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L - Ex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export" descr=""/>
          <p:cNvPicPr/>
          <p:nvPr/>
        </p:nvPicPr>
        <p:blipFill>
          <a:blip r:embed="rId1"/>
          <a:stretch/>
        </p:blipFill>
        <p:spPr>
          <a:xfrm>
            <a:off x="2209680" y="1828800"/>
            <a:ext cx="4734000" cy="414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2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46D9-8F8A-4C81-A57B-85437BB918F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3805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L - Ex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export2" descr=""/>
          <p:cNvPicPr/>
          <p:nvPr/>
        </p:nvPicPr>
        <p:blipFill>
          <a:blip r:embed="rId1"/>
          <a:stretch/>
        </p:blipFill>
        <p:spPr>
          <a:xfrm>
            <a:off x="2195640" y="1362240"/>
            <a:ext cx="4752720" cy="413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2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C69F-5F30-4B4A-BD2D-9F188DBEDED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33720" y="304560"/>
            <a:ext cx="582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orts—C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-Only is basically the origination information with anticipated disbursement 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DRI is set to false (unchecked), COD treats the Disbursement data as an Anticipated Disburs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DRI is set to true (checked), COD treats the Disbursement data as an Actual Disburs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2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A3CC-43B9-4610-BAAF-1585DF48EF1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orts—COD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3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ity of data received from COD will be in the new XML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remain fixed-length, flat ASCII file for EDExpress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d Origination, Change and Disbursement Acknowled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knowledgements have been replaced with COD Common Record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RECOP (COD to EDExpr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2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C6B3-CD03-4034-84D7-18F082EAB32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520" y="1519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L - Im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import" descr=""/>
          <p:cNvPicPr/>
          <p:nvPr/>
        </p:nvPicPr>
        <p:blipFill>
          <a:blip r:embed="rId1"/>
          <a:stretch/>
        </p:blipFill>
        <p:spPr>
          <a:xfrm>
            <a:off x="1600200" y="1314360"/>
            <a:ext cx="5943600" cy="462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2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1EE2-8440-4B4D-BD38-4C9E13D6BCA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orts—COD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4572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ding Disbursement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ed Disbursement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 Day Warning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 Initi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rance Couns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22320" y="2204640"/>
            <a:ext cx="3814920" cy="37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t Couns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plicate Student Borrower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active Loans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SN/Name/DOB Change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1523880"/>
            <a:ext cx="8153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823c8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 imports remaining in flat ASCII file form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25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47DE-E893-4C83-8832-C0481E2AEF0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2362320"/>
            <a:ext cx="8335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ight 2003-2004 changes to the Direct Loan 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 EDExpress Direct Loan processing t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2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61B5-483B-4C8D-B88C-391262EDD7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582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o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can now print to a file from within a student’s rec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can now e-mail User-Defined Letters to their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-mailed version does not have SS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Student Summary report—This is a summary of all student data, including both Direct Loan and Pel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2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7B60-BE46-4D16-B4C8-1DFB670186D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09320" y="53316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o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21333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PLUS Disclosure Statement—Schools can print this report if a PLUS Award record has a positive credit d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reports will be displayed with updated COD terminology and layo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2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E9BB-4CA8-4D75-A91D-564229DA82A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95280" y="4647960"/>
            <a:ext cx="7467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 Loan Processing T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BD04924_" descr=""/>
          <p:cNvPicPr/>
          <p:nvPr/>
        </p:nvPicPr>
        <p:blipFill>
          <a:blip r:embed="rId1"/>
          <a:stretch/>
        </p:blipFill>
        <p:spPr>
          <a:xfrm>
            <a:off x="3657600" y="1143000"/>
            <a:ext cx="3135240" cy="310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2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5A9C-1F33-4F98-A1F5-5F88B5CEDE7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130480"/>
            <a:ext cx="7531200" cy="36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| Export | Direct Loan | Combine Direct Loan and Pell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can combine the Direct Loan and Pell “ready-to-go” data into one file for transmission to C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efit of only having to export one file and to transmit one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2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0575-51F3-4D83-BFE0-ECCE14C9BA0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204640"/>
            <a:ext cx="7772400" cy="38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ls | Setup | Global | Security Users | Export to EDconnect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selecting this option, each time a user exports files that are to be sent to COD, the exported files will automatically populate the EDconnect transmission que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2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168C-73C0-4496-A0E7-0C68CFE2275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520" y="3805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 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ls | File Format | Direct Lo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two formats to get the basic origination and disbursement data out of EDExp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tion format could include the following fiel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, Origination ID, Amount (award),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could be done for Disbursement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create one format that contains all th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2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BC4F-15D6-4874-8633-AEADBA98BCE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 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279520"/>
            <a:ext cx="7772400" cy="37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are using EDExpress Direct Loan or Pell modules in 2003-2004, please remember to sign up as a Full Participant with C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n be done in the PC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2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AB62-5FEF-4842-AD47-B426DF5965E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 #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279520"/>
            <a:ext cx="7772400" cy="37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to attend Direct Loan EDExpress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dates will be announced in the near future on IF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2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2A61-E224-4151-B6A4-78BBF42A9A7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ppreciate your feedback and 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PS/WAN Technical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ne: 1 800 330 59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-mail: cpswan@nc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SATech Listser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-mail: fsatech@inet.ed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-up information: http://www.ed.gov/offices/OSFAP/sfatech/listserv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2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4EB6-A075-40B7-BF5C-F4F81645209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2255760" y="2057040"/>
            <a:ext cx="68882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il:  CPSWAN@NC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ject lin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which function interested in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a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a Revie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bility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-360" y="4952880"/>
            <a:ext cx="5257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clude in body text what module/     application as well as the type of system setup you have if you’ve indicated Beta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162920" y="685800"/>
            <a:ext cx="1428480" cy="1143000"/>
          </a:xfrm>
          <a:prstGeom prst="rect">
            <a:avLst/>
          </a:prstGeom>
          <a:ln w="9360">
            <a:solidFill>
              <a:srgbClr val="9966ff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2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8366-12E0-41D4-A378-6E09AA2E0DB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 Particip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728800"/>
            <a:ext cx="7772400" cy="26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rting in 2003-2004 EDExpress users will be full participants in C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2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19BD-CC42-48D2-904B-422C5076C0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Spring%20Conference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933960" cy="37414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09480" y="6072120"/>
            <a:ext cx="7848720" cy="88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6161040"/>
            <a:ext cx="7848720" cy="8748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533520"/>
            <a:ext cx="7848720" cy="88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9480" y="622440"/>
            <a:ext cx="7848720" cy="871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3805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Term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447920"/>
            <a:ext cx="3786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LD TE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knowled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tch 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cipated Disburs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28840" y="1447920"/>
            <a:ext cx="376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EW TE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-Only Disburs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25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1C13-17CE-4311-81A0-5A2F290D26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 Ch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3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Direct Loan and Pell only, Batch ID has been replaced by Document ID on the screens and the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 to the FSA Schools Portal has been added to the Help pull-down me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 to FAA Access to CPS Online has been added to the View pull-down me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2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5181-9680-4F56-99F7-056C881BCC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t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33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Loan School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ed a Funding Method column to each rec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ed Reporting Entity ID and Attended Entity ID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d entry for all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field is similar to P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2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A3EA-5D4A-4F23-975F-15A4B71D291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L - School Set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school" descr=""/>
          <p:cNvPicPr/>
          <p:nvPr/>
        </p:nvPicPr>
        <p:blipFill>
          <a:blip r:embed="rId1"/>
          <a:stretch/>
        </p:blipFill>
        <p:spPr>
          <a:xfrm>
            <a:off x="533520" y="1690560"/>
            <a:ext cx="8229600" cy="38642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523880" y="1752480"/>
            <a:ext cx="556272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2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0134-7645-4B7F-B463-A7C4CFA0649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t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336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Loan Tolerances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ed a Document Activity (COD Common Record) 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d all Batch Activity f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Loan System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ed a Source Entity ID 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d entry for all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ed Third Party Servicer checkb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ssion 2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889B-CBA7-452B-B9DB-F4DF4408DD8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2:22:56Z</dcterms:created>
  <dc:creator>PAUL HILL, JR</dc:creator>
  <dc:description/>
  <dc:language>en-US</dc:language>
  <cp:lastModifiedBy>PAUL HILL, JR</cp:lastModifiedBy>
  <dcterms:modified xsi:type="dcterms:W3CDTF">2003-03-17T13:17:14Z</dcterms:modified>
  <cp:revision>30</cp:revision>
  <dc:subject/>
  <dc:title>PowerPoint Presentation</dc:title>
</cp:coreProperties>
</file>