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3A1-2E38-4A61-9F68-2EA8F926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08D-F167-4FEC-B4E5-8B0BA17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C9C-ED82-4AAB-B856-4342835B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C55-2569-4704-84DB-25832763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A77-324D-4F60-9451-84834BA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FE9-7BF9-4F46-9720-5E08810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F12-8D21-42E4-B48C-CA440FEF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810-F5AB-4B25-8003-F1DECE45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940-57E7-4B75-B107-5E5A047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D1D-9D3E-46E3-8ED5-7E9B842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2AD-F405-40C7-B3BA-5125E66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34B-9C64-4A26-ADC1-F68FD86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A99-3A9B-4457-A530-2296A7284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0" descr="The U.S. Department of Education"/>
          <p:cNvPicPr/>
          <p:nvPr/>
        </p:nvPicPr>
        <p:blipFill>
          <a:blip r:embed="rId3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Barbara.Mroz@ed.gov" TargetMode="External"/><Relationship Id="rId2" Type="http://schemas.openxmlformats.org/officeDocument/2006/relationships/hyperlink" Target="mailto:RhodesD@Calib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on-QA Program schools verify applicants in addition to those selected by the central processing system (C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chool can analyze what they a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F49-270C-4408-AF57-3B45106342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 or locate “initial” and “paid on” ISI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A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and instal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“initial” and “paid on”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eries that mirror your institution’s verification pro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B6C-F8D9-4A38-8D7C-14D215F16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ases if a given logical condition is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query engine as used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F7D-990C-4FEB-B5EE-CD93741157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ing Institutional Verific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04880"/>
            <a:ext cx="77724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| Setup | Verification Edit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verification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| Verification Selection | Set Initial School Verification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BC3-3F1F-4A07-B3F5-887F000B32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#24 “Take the Quality Analysis Tool for a Test Dri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4C3-18B5-4999-AC44-E7B3681B5B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IR field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makes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assess verification prof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390-0C5E-4B36-A0B9-BF6C97663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Guidance on qaprogram.air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Guide #1 – ISIR fiel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Guide #2 – which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Guide #3 – assessing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324-7800-438C-AD3B-7B8A53E3DB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IR Fields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most problematic ISIR data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information to confirm during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ata elements that may benefit from improved education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B9A-ED2E-49B0-AEDD-5D8EFAC87A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for ISIR Field Chang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IR fields to exam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upon EFC or Pell Grant elig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verified and non-verifi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new query using “School Verification Fla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(or with other) selection criteria in al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AF8-706B-488F-B7B6-37DC4B5CE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C-Focus: Field Change Report with Corrected Field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s of records with a changes to specific ISIR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s of records with the specific change experiencing an EFC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s of records with the specific change experiencing an EFC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s of records with the specific change not experiencing an EFC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uplicated corrected and non-corrected record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871-1A3D-4ED6-A794-12268AB97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76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  <a:ea typeface="Times New Roman"/>
              </a:rPr>
              <a:t>Using the Quality Analysis Tool to Answer Your Institutional Verifica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54B-A313-4F5C-A44D-9D4B216993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o Look for in the Field Change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fields with greatest degre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fields most associated with EFC increase and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non-correcte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659-2774-42DA-862F-4DDC3F9AD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Focus: Corrected Records within an Initial EFC Rang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Field Change Report, but focus is on the departure from specified “EFC rang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 meaning of EFC “decrease” and “increase” – change from initi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Initial Pell eligible” as the initial EFC range to examine which ISIR elements are most associated with the loss of Pell Grant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Initial Pell ineligible” as the initial EFC range to examine which ISIR elements are most associated with gaining Pell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F6D-D492-4033-BB5F-67EAB9700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o Look for in the Corrected Records …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ell eligi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IR fields most associated with EFC increase (loss of eligi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-award summ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CA8-A326-417C-8F33-7E74A97E1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o Look for in the Corrected Records …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ell ineligi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IR fields most associated with EFC decreases (gain of elig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award summary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216-87F5-4EA6-9268-29C5AA7F1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to follow either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institution currently address the ISIR elements identified as being the most problema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missing the same types of errors in your non-verified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education efforts reduce thes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way to reduce the number of non-corrected records selected for verification?*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AC3-1186-444B-AE1D-BD899AEF33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akes Cha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ranges where changes to ISIR elements are most pronou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ranges where changes to ISIR information are most associated with EFC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ranges where changes to ISIR information are most associated with EFC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C7D-8DC5-4970-94EF-CCCBB18AEE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take before “Who Makes Changes”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or Pell Grant elig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IR field(s) will define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ang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ISIR element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| Custom Formats | Field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, Maximum, Inc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B3B-D3D5-4041-9F0A-25E55E2345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C-Focus: Field Range Report with Corrected Field 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814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arget po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ields corr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ecords experiencing an EFC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ecords experiencing an EFC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ecords experiencing no EFC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1480" y="3776400"/>
            <a:ext cx="381636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Field Inc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AC1-42AA-438E-A636-69E0069CEC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ll-Focus: Pell Corrected Record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itially Pell eligible among target pop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corrected (“Selected Field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experiencing an EFC increase (decrease in P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experiencing an EFC decrease (increase in P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experiencing no change in P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ver and under award information (limited to initially Pell elig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48520" y="3352680"/>
            <a:ext cx="2673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Field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0C0-5F92-4AB1-8952-69A485330A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changes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changes most associated with EFC increa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changes most associated EFC de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changes rare or have no effect on EF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4C5-4E9F-462D-A677-0FD4361E23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I use the Quality Analysis T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7080" y="2205000"/>
            <a:ext cx="753120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Mincho"/>
              </a:rPr>
              <a:t>Which FAFSA fields change the most after initial application? Who is the most likely to make change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How can institutional verification profiles be assessed? The session describes how to answer these questions with the Quality Analysis Tool and improve your verification procedur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4E0-3195-4EDC-A8BE-F78F566273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to follow either Field Range or Pell Change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roblematic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your institution explicitly target this range for ver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specifically targeted do you verify the majority of this range any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#2 provides detailed instructions for computing the percentage of a problematic range your institution currently ver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F08-8DA0-404A-A2DB-B4A2633221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to follow either Field Range or Pell Change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 problematic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it be prudent to exclude (if permissible) these ranges from verific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#2 provides detailed instruction for evaluating the implication of excluding less problematic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itional analysis to see what might help focus exclusions (if permi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050-4FB4-431F-8109-C98217ACFD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Verification Profiles Be Asses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ability of specific institutional profiles to capture “substantial changes” to eligibility for need-based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tendency of specific institutional profiles to select applicants with little of no impact upon eligibility for need-based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profiles to fine tune or drop (if permi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6B4-6551-48F0-AB52-CF05E807BD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take before “Assessing Profi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hanges to EFC or just Pell Grant elig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ubstantial change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new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and no change to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and substantial change to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A4D-3D8C-4D3D-B518-07F9B959E4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versions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Verification Selection Criteria by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952720"/>
            <a:ext cx="381492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and Substanti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and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1480" y="3029040"/>
            <a:ext cx="381636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042-676F-47D9-B50E-164AD8D258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Substantial and No Change Perce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7840" y="1905120"/>
            <a:ext cx="833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 / Total * 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79/202 * 100) = 39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/ Total *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15/202 *100) = 57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986-7BB7-4B71-9857-AA62FB474E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Percentages to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luctant to alter profiles selecting a high percentage of substanti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eager (if permissible) to narrow the focus of profiles selecting a high percentage of n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IR fields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akes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AFC-4F9B-48FE-B03A-B2F66E65F5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s for 2003-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hange from Quality Analysis Tool to ISIR Analysis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use of the Verification Tracking Flag into reports and quer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rior year setup, user defined queries, and custom formats to be carried forward from 02-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6CA-FC86-4F7B-8189-F314A4BC69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ummary data on verification reports that provides detail on the verification tracking flags applied to the records in the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of existing reports have been changed to make them intuitive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stitution of Sampling? TB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lease date – May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FB1-9823-4748-BABA-E6C4C4036D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67000" y="2055960"/>
            <a:ext cx="6038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 the following email address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rbara.Mroz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hodesD@Calib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5FA-E798-45AA-B08D-A3A7E5D234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Conferen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4 Take the Quality Analysis Tool for a Test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and setting up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queries and field 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ized demon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BE0-5FA0-4AA3-B953-9CE644211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A download (http://www.sfadownload.ed.gov/index.h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guide and desk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Program website (http://qaprogram.air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Guidan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ast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598-1731-4589-B744-08FE4F15D5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estion Catch 2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nd teachers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tragically foun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l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C6B-5602-474F-B7EF-E9090FA28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Qu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t thing is not to stop questioning.” Albert Eins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oung man is embarrassed to question an older one.”  H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7E9-DB8A-4CCF-BC0E-45F082727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6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90d5d"/>
                </a:solidFill>
                <a:latin typeface="Arial"/>
              </a:rPr>
              <a:t>The Quality Analysis Tool </a:t>
            </a:r>
            <a:br>
              <a:rPr sz="4400"/>
            </a:br>
            <a:r>
              <a:rPr b="0" lang="en-US" sz="4400" spc="-1" strike="noStrike">
                <a:solidFill>
                  <a:srgbClr val="390d5d"/>
                </a:solidFill>
                <a:latin typeface="Arial"/>
              </a:rPr>
              <a:t>(a.k.a. ISIR Analysis Too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0000"/>
            <a:ext cx="777240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your ow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swers in your ISI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how to improve your institutional verific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701-B469-4477-ADFD-4BD28D92C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al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institution has an institutional verifi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stitutions formally participating in the QA Program are exempt from following the prescribed CPS ed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542-9901-40A4-B7E4-9FFE55484B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PAUL HILL, JR</cp:lastModifiedBy>
  <cp:lastPrinted>2002-09-20T18:59:28Z</cp:lastPrinted>
  <dcterms:modified xsi:type="dcterms:W3CDTF">2003-03-17T14:45:40Z</dcterms:modified>
  <cp:revision>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