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2EC-2FA8-45AA-A178-0A18BCBE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C44-A480-47D7-919D-3D44A721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F87-6CAF-4803-9F2C-8706CF17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713-EF56-4D1C-AAB0-A054B4C7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05C-A622-46DB-9BD7-2AE4BAD5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6EA-48A6-40FF-8834-252EC701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623-3007-4206-A4E8-530EF005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B85-1C03-4E4E-BB8B-1533BE75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C17-BAA9-4645-857A-6B90B82B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090-3D3B-4243-8A62-5D1BE209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859-2D0E-4AC8-A56A-36D5FD29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E59-AAE6-4D19-8605-59160D9E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1BAE-B504-4247-9444-032A35B79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Assurance at IU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and Practice that includes Planning, Analysis and Corrective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demands schedule, a time when QA is a priority, consen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demands Data, an ability to compare, and the tools to d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ive Action demands creative thinking, courage, and persis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2896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58280" y="838080"/>
            <a:ext cx="1485720" cy="1162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955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105520"/>
            <a:ext cx="13525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an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and Revise QI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e Management Assessments/Task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e Start New Year Practices through data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roll-forward students who have not com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saving ISIRS in unique data base for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bru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lize QI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ap up Management Assessments and Task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lize Start New Year Pract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raft New Year QI policies and proced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 process to save pre- and post-QI ISIR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st QI Forms on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n any corrective action required due to Management Assessments/Task Fo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e any revisions to operational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re and train new QI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nd out FIX YOUR FAFSA e-mail (3/26/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 selection process for continuing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ient staff to new process and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saving pre-QI ISIRS and post QI ISIR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eive QI forms from parents/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and process QI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inue mailing as new FAFSAS are received for continuing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inue to save pre and post QI FAFSA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freshmen pay deposits, select freshmen for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spring grades posted, select new and continuing undergradu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ient summer staff to QI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-up with families with missing and incomplet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e to save pre and post QI ISIR record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 follow-up with families who have not respo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/July/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inue to select new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and Process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inue to save pre and post QI ISIR record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-up with families with missing and incomplet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 follow-up with families who have not respo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ptember/October/Nov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gin Task Forces relative to Management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e to save pre and post QI ISIR record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urgent follow-up with families with missing and incomplete information focusing on those who will lose state aid (late November) or have outstanding Bursar b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ome proposed)*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gin process to analyze data for pre and post QI ISIR record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inue to work with families who have not co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sk Force work contin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9880" y="4876920"/>
            <a:ext cx="2400480" cy="1752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67200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5029200"/>
            <a:ext cx="1800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Challenges That Continu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to reach the 80% error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the software efficient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students?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Design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 Dysfunctional Population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Holding on during system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evious Selection Criter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304776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s indicate that they used estimated 2000 incom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s indicate that their income is $2000 or l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s indicate work income greater than $3000 but AGI of $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s indicate income exclusions in excess of 50% of A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s who report more than 1 in col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graduates who would be independent by virtue of depen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rgraduates who would be independent as orphans/wards of cou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1295280" cy="1257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5768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16286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urrent Selection Crite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indicate that they used estimated 2001 income data &amp; EFC is less than $5000 and/or PC is less than $4000 and student has state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indicate that their income is $2000 or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indicate work income greater than $3000 but AGI of $0 or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who report income exclusions in excess of 50% of A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who report taxes paid in excess of 35% of AGI and EFC is less than $5000 and/or PC is less than $4000 and student has state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undergraduate students who are federally selected by the processor and EFC is less than $5000 or student will receive state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urrent Selection Crite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s who filed a form in 2001-2002 requesting that we use projected income and 2002 FAFSA is not compa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ed reporting error:  Parent AGI  or wage is equal to Parent Worksheet A, B, or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ed reporting error:  Student/Spouse AGI or wage is equal to Student/Spouse Worksheet A, B, or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ed reporting error:  Parent AGI and Student AGI are eq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urrent Selection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cted reporting error:  Parent Worksheet A, B, or C equal to Student Worksheet A, B, or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students who qualify as independent by virtue of depen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students who qualify as independent due to status as orphan or wards of the cour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election criteria apply to admitted Freshmen who paid deposit and/or continuing undergradu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 Profile for Indiana University-Bloomingt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01 A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9399 FAFSA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251 QI forms reviewed for approximately 5000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546 Title IV recipi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384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7120" y="990720"/>
            <a:ext cx="20667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 Profile for Indiana University-Bloomingt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02 A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1373 FAFSA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4530 QI forms reviewed for approximately 6000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970 Title IV recip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 Profile for Indiana University-Bloomingt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03 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500 FAFSA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833 QI forms reviewed for approximately 3500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129 Title IV recip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6:33:02Z</dcterms:created>
  <dc:creator>Spring</dc:creator>
  <dc:description/>
  <dc:language>en-US</dc:language>
  <cp:lastModifiedBy>PAUL HILL, JR</cp:lastModifiedBy>
  <dcterms:modified xsi:type="dcterms:W3CDTF">2003-03-17T14:40:16Z</dcterms:modified>
  <cp:revision>1</cp:revision>
  <dc:subject/>
  <dc:title>Quality Assurance at IUB </dc:title>
</cp:coreProperties>
</file>