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909-CAB0-4AA9-AD62-4BF8E707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6B8-C87F-4B88-B6AF-DA44F3A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EE5-A351-4657-9EF2-DD6D881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DCE-A1E0-4549-B8D3-ECEB9E57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B83-F2A4-4D71-9158-307DA523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8C7-1DEA-44B3-9FC9-6A41453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C86-294B-4BEF-B06F-56E353D0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BF0-951D-4DD4-9258-F14AF323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519-45AB-4209-9770-089FEB2F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5C2-8CA9-4073-9B05-A32C467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4EB-92FC-4FED-817B-A1DBD3C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9B1-798E-448C-BFED-C9B5DAC5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438-47BC-4B91-87D5-84DDAEB9C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Assurance at I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and Practice that includes Planning, Analysis and Correctiv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demands schedule, a time when QA is a priority,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demands Data, an ability to compare, and the tools to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ve Action demands creative thinking, courage, and pers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289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58280" y="838080"/>
            <a:ext cx="1485720" cy="1162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955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525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and Revise QI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Management Assessments/Task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Start New Year Practices through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roll-forward students who have not co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saving ISIRS in unique data base for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ize QI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ap up Management Assessments and Task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ize Start New Year Pract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aft New Year QI policies and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process to save pre- and post-QI ISIR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t QI Form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n any corrective action required due to Management Assessments/Task Fo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any revisions to operat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re and train new QI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d out FIX YOUR FAFSA e-mail (3/26/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selection process for continuing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ent staff to new process and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saving pre-QI ISIRS and post QI ISIR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eive QI forms from parents/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and process QI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mailing as new FAFSAS are received for continuing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FAFSA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reshmen pay deposits, select freshmen for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spring grades posted, select new and continuing under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ent summer staff to QI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with families with missing and incomple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follow-up with families who have not respo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/July/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elect new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and Process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-up with families with missing and incomple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follow-up with families who have not respo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/October/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Task Forces relative to Management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urgent follow-up with families with missing and incomplete information focusing on those who will lose state aid (late November) or have outstanding Bursar b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process to analyze data for pre and post QI ISIR record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work with families who have not co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Force work contin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2400480" cy="175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720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5029200"/>
            <a:ext cx="1800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llenges That Continu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reach the 80% erro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the software efficient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ents?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Design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Dysfunctional Population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Holding on during system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evious Selection Crite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30477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that they used estimated 2000 incom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that their income is $2000 or 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work income greater than $3000 but AGI of $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income exclusions in excess of 50% of A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who report more than 1 in col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graduates who would be independent by virtue of depen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graduates who would be independent as orphans/wards of cou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1295280" cy="125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576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16286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that they used estimated 2001 income data &amp; EFC is less than $5000 and/or PC is less than $4000 and student has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that their income is $2000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work income greater than $3000 but AGI of $0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who report income exclusions in excess of 50% of 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who report taxes paid in excess of 35% of AGI and EFC is less than $5000 and/or PC is less than $4000 and student has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undergraduate students who are federally selected by the processor and EFC is less than $5000 or student will receive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who filed a form in 2001-2002 requesting that we use projected income and 2002 FAFSA is not com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AGI  or wage is equal to Parent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Student/Spouse AGI or wage is equal to Student/Spouse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AGI and Student AGI are eq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Worksheet A, B, or C equal to Student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students who qualify as independent by virtue of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students who qualify as independent due to status as orphan or wards of the cour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lection criteria apply to admitted Freshmen who paid deposit and/or continuing under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1 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9399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251 QI forms reviewed for approximately 50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546 Title IV recipi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384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0667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2 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1373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530 QI forms reviewed for approximately 60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970 Title IV recip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3 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500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833 QI forms reviewed for approximately 35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129 Title IV recip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6:33:02Z</dcterms:created>
  <dc:creator>Spring</dc:creator>
  <dc:description/>
  <dc:language>en-US</dc:language>
  <cp:lastModifiedBy>PAUL HILL, JR</cp:lastModifiedBy>
  <dcterms:modified xsi:type="dcterms:W3CDTF">2003-03-17T14:40:16Z</dcterms:modified>
  <cp:revision>1</cp:revision>
  <dc:subject/>
  <dc:title>Quality Assurance at IUB </dc:title>
</cp:coreProperties>
</file>