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09D-E382-4FFB-83F2-5E15D554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62C-97D2-42E1-8D5C-49C0CC45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1F6-2F4D-408A-BDC3-22A876BF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DBE-5B3D-4CCD-ACAB-DCF2778C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D76-01A9-4621-88DE-ADAF2C66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691-CC63-4A72-BD56-77234090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37CE-DF65-48E9-AF20-14F3E46D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3E0-7DB2-4851-B85F-70DE177E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C79-936F-44B6-8F44-2A6603D9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0FB-EC26-4574-A4EB-EFC8B182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A53-6142-468C-B4C7-FD932D3D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6A0-AFC5-4F6A-A138-D4891446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FC01-7471-43E8-BA22-1063BF14B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pring%20Conference" descr=""/>
          <p:cNvPicPr/>
          <p:nvPr/>
        </p:nvPicPr>
        <p:blipFill>
          <a:blip r:embed="rId2"/>
          <a:stretch/>
        </p:blipFill>
        <p:spPr>
          <a:xfrm>
            <a:off x="76320" y="507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76520" y="304920"/>
            <a:ext cx="6781680" cy="759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76520" y="380880"/>
            <a:ext cx="6781680" cy="763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tchan@air.org" TargetMode="External"/><Relationship Id="rId2" Type="http://schemas.openxmlformats.org/officeDocument/2006/relationships/hyperlink" Target="mailto:rhodesd@calib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pring%20Conferenc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s for Tim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flexibility (before disburs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valid IS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tudent accepted by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tudent pays enrollment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tudent accepts aid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A will provide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misapply the old 95 percent response rate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 with tracking the documenta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ing the verification of sample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LL changes to the ISIR records of sampled students to the central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s for tracking the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the sampling process into existing institutional verification system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atabase “Sample”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 verification “S”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sampled students who do not provide documentation the same as other verification scoff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stand alone sample “syst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xpress just for doing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 created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: Importing ISIR’s into Quality Analysis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ISIR’s may be generated by students before, during, and after sample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the “initial” ISIR records stra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the “paid on” ISIR records stra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problem if using EDExpress to process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frame Solution A – writing SARA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rieve the ISIR batch from your SAIG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load the data into your school’s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quest an ASCII file of the data from computer support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 ASCII file into ISIR Analysis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rrect records as necessary in your school’s system and send the changes to the 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peat steps 1 through 5. As you import subsequent ISIR files into your system and the ISIR Analysis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frame Solution B – use EDEx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rieve the ISIR batch from your SAIG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fore working with file on your system, copy it to a folder so you can import into EDEx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 data into EDExpress (keep all copies of imported fil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 data from EDExpress into ISIR Analysis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rrect records as necessary in your school’s system and send the changes to the 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peat steps 1 through 5. As you import subsequent ISIR files into your system and the ISIR Analysis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Solu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“population” at various “sampling window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A will provide guidance on pros and cons of different 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the documentation process into the exis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guidance that will be in the help text of 2003-2004 ISIR Analysis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worth the effor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A: program wide improvement of targeting the “right”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: increase the usefulness of reports from the Quality (ISIR) Analysis T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: Size of the 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the samples that were one hundred percent documented, 42 percent of cases experienced a EFC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the control group, only 4 percent of the EFC changes were self-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: Accuracy of Institutional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ose who had EFC changes (sampl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% would be identified by institutional verification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% would be identified by CPS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and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esults from a pilot study on the return of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373392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8006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ze Chan, The American Institutes for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d Rhodes, Caliber Assoc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: Efficiency of Institutional Verific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of those selectable by institutional verification resulted in EFC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% of those selectable by CPS edits resulted in EFC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: Magnitude of EFC changes not detected by ver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 of those not selected by institutional verification had EFC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% of those not selected by CPS edits had EFC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IR Field Chan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’s Income Tax Pa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’s AG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’s Worksheet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’s Tax Return Stat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’s Income Tax Pa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’s Worksheet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IR Field Chan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’s Income Tax Pa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’s AG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Worksheet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Tax Return Stat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9.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IR field changes and verific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tic ISIR fields featured in pilot schools’ verification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basic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usu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c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y percent “efficiency” suggests that profiles could be narr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at Risk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tax f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arents’ Tax Return Filed? = “2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tudent’s Tax Return Filed? = “2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sons in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Status=“D” and Parents’ number in college &gt; “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Status=“I” and Student’s number in college &gt; “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usual Value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usually High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Status=“D” and Parents’ U.S. Income Taxes &gt; .3 * tbl_E_Parent.PARAG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Status=“I” and Student’s U.S. Income Taxes &gt; .3 * tbl_E_Student.STUDAG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spect Group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other than by age or graduate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pendency Status=“I” and Born before 01/01/1979&lt;&gt;“1” and Working on a Master’s or Doctorate &lt;&gt;“1”) and (Have Children you support? =“1” or Have Dependents other than children or spouse=“1” or Is student married=“1” or Orphan or Ward of Court=“1” or Veteran of U.S. Armed forces?=“1”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rowing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the list verification by code report using queries to detect substantial EFC change (Activity Guide #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transaction comparison reports for cases that meet the criteria for each profile and look for differences between cases with and without EFC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will not be required before 2004-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s need lead time to plan integration of sampling into thei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A needs to provide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er analysi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Ses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the results from a pilot study of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mplications for the possible return of sampling to the Quality Assuranc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0d5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67000" y="2055960"/>
            <a:ext cx="6038640" cy="33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chan@ai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rhodesd@calib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sampling in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late: after the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bersome process: additional data collection, data entry, tracking, award adju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relations disaster: disgruntled students and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Trying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of QA Program participants to monitor the effectiveness of their verific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within 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onale for a Pilot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ct and address the problems of samp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whether results from sampling are actually help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! re-imposing it on every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Instit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re institutions sele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chools particip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i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Encountered by Pilot Instit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: when to draw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ing: how to keep track of the additional “documenting” of FAFSA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ing: how to import the right ISIR records into the QA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Tim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”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pplicants will not be elig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pplicants will not enr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pplicants apply “late” in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 with other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aid pack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11:14:28Z</dcterms:created>
  <dc:creator>rhodesd</dc:creator>
  <dc:description/>
  <dc:language>en-US</dc:language>
  <cp:lastModifiedBy>PAUL HILL, JR</cp:lastModifiedBy>
  <dcterms:modified xsi:type="dcterms:W3CDTF">2003-03-17T14:38:19Z</dcterms:modified>
  <cp:revision>26</cp:revision>
  <dc:subject/>
  <dc:title>Purpose of the Session: </dc:title>
</cp:coreProperties>
</file>