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6FD-5486-418E-963D-263DD206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B40-5648-4859-ABA3-9A0A99A3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F60-118B-4784-8853-41BBFAFC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B7B-97C0-4DD9-B613-2A40EEB6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19B-129B-4324-BB98-9437DB3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60A-BFC4-47F9-8880-A1212D43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AF0-68EF-47DC-B835-166CECE1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A50-9F59-4A22-97CB-5C0E06A9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FE2-A8B6-47BA-AD8D-A7CB5C27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B59-47B4-4C63-B85B-9DEE518B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9E4-C21A-4729-8D5F-0BFCB12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0B6-0E25-4870-BD92-6959F5A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BB4-A3A0-4A44-A923-0DE671B1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tchan@air.org" TargetMode="External"/><Relationship Id="rId2" Type="http://schemas.openxmlformats.org/officeDocument/2006/relationships/hyperlink" Target="mailto:rhodesd@calib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 for Ti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lexibility (before disburs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valid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udent accepted by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udent pays enrollment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udent accepts aid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will provid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isapply the old 95 percent response rat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with tracking the document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the verification of sampl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LL changes to the ISIR records of sampled students to the central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s for tracking the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he sampling process into existing institutional verification syste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base “Sample”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verification “S”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sampled students who do not provide documentation the same as other verification scoff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tand alone sample “syst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 just for do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created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 Importing ISIR’s into Quality Analysis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ISIR’s may be generated by students before, during, and after sampl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initial” ISIR records stra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he “paid on” ISIR records stra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problem if using EDExpress to process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frame Solution A – writing SARA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e the ISIR batch from your SAIG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the data into your school’s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est an ASCII file of the data from computer support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 ASCII file into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 records as necessary in your school’s system and send the changes to the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steps 1 through 5. As you import subsequent ISIR files into your system and the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frame Solution B – use ED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e the ISIR batch from your SAIG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fore working with file on your system, copy it to a folder so you can import into 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 data into EDExpress (keep all copies of imported f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 data from EDExpress into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 records as necessary in your school’s system and send the changes to the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 steps 1 through 5. As you import subsequent ISIR files into your system and the 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Solu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“population” at various “sampling window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will provide guidance on pros and cons of different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documentation process into the exis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guidance that will be in the help text of 2003-2004 ISIR Analysis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worth the effor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: program wide improvement of targeting the “right”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: increase the usefulness of reports from the Quality (ISIR) Analysis T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 Size of th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 samples that were one hundred percent documented, 42 percent of cases experienced a EF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 control group, only 4 percent of the EFC changes were self-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 Accuracy of Institution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ose who had EFC changes (sampl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% would be identified by institutional verification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% would be identified by CPS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and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 from a pilot study on the return of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73392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8006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ze Chan, The American Institutes fo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Rhodes, Caliber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 Efficiency of Institutional Verific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of those selectable by institutional verification resulted in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% of those selectable by CPS edits resulted in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Magnitude of EFC changes not detected by 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of those not selected by institutional verification had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% of those not selected by CPS edits had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R Field Ch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Income Tax P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A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Worksheet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Tax Return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Income Tax P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Worksheet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R Field Cha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Income Tax Pa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A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Worksheet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ax Return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IR field changes and ver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c ISIR fields featured in pilot schools’ verification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s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c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percent “efficiency” suggests that profiles could be narr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at Risk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tax f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arents’ Tax Return Filed? = “2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udent’s Tax Return Filed? = “2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sons i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D” and Parents’ number in college &gt; “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I” and Student’s number in college &gt; “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usual Value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ly High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D” and Parents’ U.S. Income Taxes &gt; .3 * tbl_E_Parent.PARA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=“I” and Student’s U.S. Income Taxes &gt; .3 * tbl_E_Student.STUDA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pect Group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ther than by age or graduat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endency Status=“I” and Born before 01/01/1979&lt;&gt;“1” and Working on a Master’s or Doctorate &lt;&gt;“1”) and (Have Children you support? =“1” or Have Dependents other than children or spouse=“1” or Is student married=“1” or Orphan or Ward of Court=“1” or Veteran of U.S. Armed forces?=“1”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ing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list verification by code report using queries to detect substantial EFC change (Activity Guide #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ransaction comparison reports for cases that meet the criteria for each profile and look for differences between cases with and without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will not be required before 2004-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need lead time to plan integration of sampling into thei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needs to provid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er analys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Se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results from a pilot study of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lications for the possible return of sampling to the Quality Assuran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90d5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7000" y="2055960"/>
            <a:ext cx="6038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chan@ai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hodesd@calib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sampling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ate: after the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bersome process: additional data collection, data entry, tracking, award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relations disaster: disgruntled students and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Trying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of QA Program participants to monitor the effectiveness of their verific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within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e for a Pilot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ct and address the problems of 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ether results from sampling are actually 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! re-imposing it on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institutions sel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chools particip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i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Encountered by Pilot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: when to draw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: how to keep track of the additional “documenting” of FAFSA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ing: how to import the right ISIR records into the QA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i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”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nts will not be elig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nts will not en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nts apply “late” in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with othe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aid pack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1:14:28Z</dcterms:created>
  <dc:creator>rhodesd</dc:creator>
  <dc:description/>
  <dc:language>en-US</dc:language>
  <cp:lastModifiedBy>PAUL HILL, JR</cp:lastModifiedBy>
  <dcterms:modified xsi:type="dcterms:W3CDTF">2003-03-17T14:38:19Z</dcterms:modified>
  <cp:revision>26</cp:revision>
  <dc:subject/>
  <dc:title>Purpose of the Session: </dc:title>
</cp:coreProperties>
</file>