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897-C961-4840-9C05-DFC3B70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0F3-6791-4C11-9651-4D1A0D5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981-31D9-43D9-8912-984CF2A1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263-07B5-4BD6-AFFE-E20D46F9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B11-61D8-4C1C-970A-6FFDD534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783-B39A-4B5C-BE15-6DA084A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D8F-D4A6-4F37-888A-91480F13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ABD-759D-47F7-BCDA-4CB8A88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A18-C232-46F0-B71B-3EC4725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406-563B-4CCF-8096-6B42F2E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1B0-B8AA-48A5-8A9A-B4F6A82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312-AA6B-42AE-ADDE-6493609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B4CB-E593-4C99-9E3F-C8E07DBD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933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eady – Get Set – and Go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Q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harting/ Business Process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d02005_" descr=""/>
          <p:cNvPicPr/>
          <p:nvPr/>
        </p:nvPicPr>
        <p:blipFill>
          <a:blip r:embed="rId1"/>
          <a:stretch/>
        </p:blipFill>
        <p:spPr>
          <a:xfrm>
            <a:off x="6019920" y="3886200"/>
            <a:ext cx="251460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C89-9481-4515-92D8-BB60846649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583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Do with the Assessments After I Complet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204640"/>
            <a:ext cx="731844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Arial"/>
              </a:rPr>
              <a:t>Implement Management Enhanc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Arial"/>
              </a:rPr>
              <a:t>Share Effective Prac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7134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3474"/>
                </a:solidFill>
                <a:latin typeface="Arial"/>
              </a:rPr>
              <a:t>Keep your Assessments and Management Enhancement forms electronically or in a folder labeled “Q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920-0039-41D9-8932-3A6A5CF61A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2:  Use the Quality Analysis Verific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819520" y="2819520"/>
          <a:ext cx="4248000" cy="26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819520"/>
                    <a:ext cx="4248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17D-3BF8-4CDC-B142-3483D3CD2D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83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is point in time you should have alread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d the the softw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fadownload.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ed your Initial and Paid on ISI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Data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Field Chang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un Analyzing you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279-9F04-4C4D-BAE1-9E98B2C0D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583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I Hope To Accomp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36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lity Analysis (Verification) Tool Software will help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verification criteria that fit your student popul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which application errors occur locally and help you educate students and par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enact verification practices that make a difference in aid awar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eliminate verification practices that make little or no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249-93B1-45A3-AC34-9F64AEBF87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I Have Questions About the Quality Analysis T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130480"/>
            <a:ext cx="77439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Installation Guide and/or Desk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ISIR Guidance – QA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Query Guidance – QA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PAI Representative (select Contact Us, on QA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CPS/WAN Technical Support at (800)330-5947.  You can also send your inquiries by e-mail to CPS/WAN Technical Support at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8F5-CDD6-4E85-87D5-4AC5E4071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rget:  There is Additional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1447920"/>
          <a:ext cx="79246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79246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 flipV="1">
            <a:off x="0" y="4648320"/>
            <a:ext cx="1295280" cy="457200"/>
          </a:xfrm>
          <a:prstGeom prst="line">
            <a:avLst/>
          </a:prstGeom>
          <a:ln cap="sq" w="76320">
            <a:solidFill>
              <a:srgbClr val="99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419720"/>
            <a:ext cx="2057400" cy="609480"/>
          </a:xfrm>
          <a:prstGeom prst="ellipse">
            <a:avLst/>
          </a:prstGeom>
          <a:noFill/>
          <a:ln cap="sq"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7BB-5920-4160-89B0-AC2EC62F1E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583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 Website – http://qaprogram.air.org –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BOOKMAR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 Listserv - to get on it, email Tsze Chan at:  TChan@ai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 Staff  - “Contact Us” on QA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upport for Quality Analysis Tool software:  (800)330-5947 or email cpswan@ncs.c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EBE-EB1C-4391-AC89-4044D9E7A3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Enhancements for 2003-200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change from Quality Analysis Tool to ISIR Analysis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he use of the Verification Tracking Flag into reports and quer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rior year setup, user defined queries, and custom formats to be carried forward from 02-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5B3-A09B-44B8-93C6-2076DCD85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Enhancemen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summary data on verification re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of existing reports have been changed to make them intuitive to the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date – Ma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019-8E1D-4E22-A70F-068A9B45AF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133720"/>
            <a:ext cx="434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13474"/>
                </a:solidFill>
                <a:latin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200400"/>
            <a:ext cx="5257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Times New Roman"/>
              </a:rPr>
              <a:t>March 4,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04C-6A1E-4FD6-8950-131DACFFB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Resour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-Learn-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-04- EAC Conferenc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an Diego –November 2-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ew Orleans – December 2-5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 Sessions Available at the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BFD-EC3E-49D5-9D21-083D3CAA73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1857240" cy="3995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148104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2880" y="5335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E99-1F9C-4744-B4C1-C097325AED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2002-03 Requirements &amp; Review 2003-04 updates for the “ISIR Analysis Too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ilot Study on Samp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Qu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the Analysis Process at two QA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5DC-21FE-437E-92F4-12C720846B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A Program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ttainsustainadvance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181480" cy="190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89280" y="342900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32080" y="3699000"/>
            <a:ext cx="534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809880"/>
            <a:ext cx="679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Assurance help schools Attain, Sustain and Advance exceptional student aid delivery and service excell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DDD-A5D9-4579-A4E6-D34703862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A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6324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wo (2) FSA Assessments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lated Spring Conference Sessions: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ssion # 21 FSA Assessment –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Your Key to Compliance,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Session #22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Tools for School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d the PC L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Quality Analysis (Verification) Tool to analyze your verification d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establish your own institutional verif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gram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lated Spring Conference Sessions: </a:t>
            </a:r>
            <a:br>
              <a:rPr sz="2000"/>
            </a:b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Session #23 –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Which? Who? How? And So What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?, Session #24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Take the ISIR Analysis Tool for a Test Drive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d the PC L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5D7-5C2A-4FF8-A9B1-742BADA0E6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1:  Complete Two (2) FSA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23880"/>
          <a:ext cx="91440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76A-091C-4883-A2B9-888A3A7C7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3505320"/>
            <a:ext cx="1676520" cy="304560"/>
          </a:xfrm>
          <a:prstGeom prst="rightArrow">
            <a:avLst>
              <a:gd name="adj1" fmla="val 50000"/>
              <a:gd name="adj2" fmla="val 137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EDC-82E4-4BB5-9960-9A688FB0C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2280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2 Assessments do I sel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udent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warding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tisfactory Academic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stitutional Elig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su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ge in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ministrativ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1640" y="175248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 Fiscal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warding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sbursing 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and Reconc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ncial Responsibili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d Cash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of Title IV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5EC-41A7-44E0-BF50-6C56D2096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ssessments for 2002-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ew Assess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erif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fault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mpu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ew Form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re Activities and Community Ques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lor Code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A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1D1-0155-4A32-B719-9FF5A72815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PAUL HILL, JR</cp:lastModifiedBy>
  <cp:lastPrinted>2002-09-20T18:59:28Z</cp:lastPrinted>
  <dcterms:modified xsi:type="dcterms:W3CDTF">2003-03-17T14:40:55Z</dcterms:modified>
  <cp:revision>1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