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3E8-9CFA-464D-AEBC-A0D650B2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ACF-7504-4FE8-A3FD-0BAC8308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F73-E530-4F79-B667-B5C9E6C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D1A-A87C-4FD7-8689-8753B78E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B2C-BCF5-4C1E-9FB1-CE9BF34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2C5-C325-414A-892B-397B971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2C1-2211-4F51-8C6F-6DA5F25F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F4F-5E00-4032-B0C7-CE8CF10F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A3D-FD45-415B-B033-34B7107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020-97BF-4969-B0E2-8D2C7E29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0E4-BE21-4C49-8D44-668D9CF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4FA-EE78-44AE-A756-1163088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CEF7-2F2E-413C-8BC8-05B9DC0F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933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eady – Get Set – and Go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Q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harting/ Business Process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d02005_" descr=""/>
          <p:cNvPicPr/>
          <p:nvPr/>
        </p:nvPicPr>
        <p:blipFill>
          <a:blip r:embed="rId1"/>
          <a:stretch/>
        </p:blipFill>
        <p:spPr>
          <a:xfrm>
            <a:off x="6019920" y="3886200"/>
            <a:ext cx="251460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0F5-C453-4EEC-99D6-2847D4107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583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Do with the Assessments After I Complet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731844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Arial"/>
              </a:rPr>
              <a:t>Implement Management Enhanc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Arial"/>
              </a:rPr>
              <a:t>Share Effective Prac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Arial"/>
              </a:rPr>
              <a:t>Keep your Assessments and Management Enhancement forms electronically or in a folder labeled “Q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934-EECF-4D15-9153-A89EA343C0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2:  Use the Quality Analysis Verific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819520" y="2819520"/>
          <a:ext cx="4248000" cy="26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19520"/>
                    <a:ext cx="4248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F04-CEB4-4464-8D6A-CCC71544DF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83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is point in time you should have alread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the the softw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fadownloa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ed your Initial and Paid on ISI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Data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Field Chang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un Analyzing you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C40-470D-4B0F-AFC7-BB38D328F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583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I Hope To Accomp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36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Analysis (Verification) Tool Software will help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verification criteria that fit your student popul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which application errors occur locally and help you educate students and par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enact verification practices that make a difference in aid awar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eliminate verification practices that make little or no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748-1801-41D0-B883-FA2BC980C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I Have Questions About the Quality Analysis T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13048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Installation Guide and/or Desk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ISIR Guidance – QA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Query Guidance – QA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PAI Representative (select Contact Us, on QA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CPS/WAN Technical Support at (800)330-5947.  You can also send your inquiries by e-mail to CPS/WAN Technical Support at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776-CF7A-46F4-AF97-0F363A2558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rget:  There is Additional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1447920"/>
          <a:ext cx="79246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9246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 flipV="1">
            <a:off x="0" y="4648320"/>
            <a:ext cx="1295280" cy="457200"/>
          </a:xfrm>
          <a:prstGeom prst="line">
            <a:avLst/>
          </a:prstGeom>
          <a:ln cap="sq" w="76320">
            <a:solidFill>
              <a:srgbClr val="99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419720"/>
            <a:ext cx="2057400" cy="609480"/>
          </a:xfrm>
          <a:prstGeom prst="ellipse">
            <a:avLst/>
          </a:prstGeom>
          <a:noFill/>
          <a:ln cap="sq"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6D1-7156-4F05-9439-F4471C761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83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 Website – http://qaprogram.air.org –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BOOKMAR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 Listserv - to get on it, email Tsze Chan at:  TChan@ai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 Staff  - “Contact Us” on QA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upport for Quality Analysis Tool software:  (800)330-5947 or email cpswan@ncs.c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B81-DA7A-4C7D-BDF1-7D7FAD004E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Enhancements for 2003-200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change from Quality Analysis Tool to ISIR Analysis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he use of the Verification Tracking Flag into reports and quer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rior year setup, user defined queries, and custom formats to be carried forward from 02-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4DB-1C61-474C-9781-CC856C319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Enhancemen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summary data on verification re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of existing reports have been changed to make them intuitive to the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date – Ma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F4C-69D0-4035-8034-1C66A04990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133720"/>
            <a:ext cx="434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3474"/>
                </a:solidFill>
                <a:latin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200400"/>
            <a:ext cx="5257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Times New Roman"/>
              </a:rPr>
              <a:t>March 4,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190-EAA3-484F-AFA1-22A429AE0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Resour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-Learn-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-04- EAC Conferenc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n Diego –November 2-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ew Orleans – December 2-5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 Sessions Available at the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8DE-19A0-41B6-A9A4-8F05A6674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148104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2880" y="5335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131-81C8-459C-AA3C-877BF49529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2002-03 Requirements &amp; Review 2003-04 updates for the “ISIR Analysis Too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ilot Study on 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Qu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the Analysis Process at two QA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937-B2C3-4637-B147-4FD5D14E13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A Program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ttainsustainadvance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181480" cy="190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89280" y="342900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32080" y="3699000"/>
            <a:ext cx="534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809880"/>
            <a:ext cx="679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Assurance help schools Attain, Sustain and Advance exceptional student aid delivery and service excell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758-1FA0-413C-9F94-2B7EAC265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A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6324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wo (2) FSA Assessments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lated Spring Conference Sessions: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ssion # 21 FSA Assessment –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Your Key to Compliance,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Session #22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Tools for School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d the PC L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Quality Analysis (Verification) Tool to analyze your verification d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establish your own institutional verif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gram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lated Spring Conference Sessions: 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ssion #23 –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Which? Who? How? And So What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?, Session #24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Take the ISIR Analysis Tool for a Test Drive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d the PC L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BDF-DD72-4A9C-8967-FEFB341B1D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1:  Complete Two (2) FSA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23880"/>
          <a:ext cx="91440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7C9-0541-46BE-85EF-F62478777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3505320"/>
            <a:ext cx="1676520" cy="304560"/>
          </a:xfrm>
          <a:prstGeom prst="rightArrow">
            <a:avLst>
              <a:gd name="adj1" fmla="val 50000"/>
              <a:gd name="adj2" fmla="val 137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B6C-A0B0-4673-9E54-F0DF23EF23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228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2 Assessments do I sel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udent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warding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tisfactory Academic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stitutional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su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ge in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ministrativ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1640" y="175248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 Fiscal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warding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sbursing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and Reconc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ncial Responsibili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d Cash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of Title IV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DBA-CAF2-4848-8DB3-54D03D88DB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ssessments for 2002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ew Assess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erif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fault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mpu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ew Form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re Activities and Community Ques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lor Code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704-0ECE-457C-859B-1F7E60B199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PAUL HILL, JR</cp:lastModifiedBy>
  <cp:lastPrinted>2002-09-20T18:59:28Z</cp:lastPrinted>
  <dcterms:modified xsi:type="dcterms:W3CDTF">2003-03-17T14:40:55Z</dcterms:modified>
  <cp:revision>1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