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203-6356-48A6-8536-33A3F1F2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589-4B93-4C48-A9F6-C6CF23D6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4D6-707D-45A1-9429-55FC6136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5E9-EDEA-4821-BD75-DC96C4FB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94D-094E-446D-B687-CB4C939F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26B-7683-41A1-9B2D-159CF9DD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2B3-7561-4EC0-A435-B8B9D7C6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CE8-D522-46A2-BA56-43BC5275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5C2-E9B6-4874-B1AC-A5969765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88D-7326-4B53-9094-851C9F3A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B99-1000-459A-A22E-7C0B4005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3DA-1D4A-4046-9198-E81CA291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78CC-A439-45F3-ADD5-DB113B98E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Tribal Colleges:  The Basics</a:t>
            </a: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 Return of Title IV Funds</a:t>
            </a:r>
            <a:br>
              <a:rPr sz="4400"/>
            </a:b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R2T4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5028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orah Tarp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Education, Region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106668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#4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A0F-F1F0-4BD3-A114-8EF5C3A9001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ate of Institution’s Determination that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tudent Withdrew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important deadlines key off this 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s for school to return funds it’s responsible for re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s to offer post withdrawal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days to disburse the post withdrawal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s to notify student if overpayment is 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years for school to collect overpay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529-672F-4C77-9533-11BBC9202F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ayment Period or  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eriod of Enrollm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erm-based program must use term/payment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tandard term or non-term program may choose either payment period or period of enrol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167-A2A0-4E80-AA60-40D114A93AC6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ounding Rules for    Percenta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out to 4 decimal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days / 101 days = .4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 hours / 450 hours = .44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to third decimal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4455 = .446 = 44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4422 = .442 = 44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ounding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E70-B01E-4411-A637-11414A818A6D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0958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ounding Rules for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Dollar Amou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to the nearest pe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,346.00 x 44.6% = $1,046.316 or $1,046.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,346.00 x 44.4% = $1,041.624 or $1,041.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or refund may be rounded to the nearest dol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46.32 = $1,0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41.62 = $1,0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ounding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A7E-9710-4491-9ABF-EF5BFFC1F8DC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ep 1:  Student’s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itle IV Aid Informa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IV aid disbu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IV aid that could have been disbu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include FWS ear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bal Colleges will always include 100% of the FSEOG amount in the calculation (Title III wa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AE9B-03DE-4F4D-B7B9-BC4992DFBF5E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22440" y="609120"/>
            <a:ext cx="60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id That Could Have Been Disburs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 has official ISIR/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FEL - loan is certif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L - loan is origin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ll Grant - valid ISIR/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kins/FSEOG - funds w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wa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376440" cy="33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4FF-FA76-4A84-9512-447876781F76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FFEL/DL Second/Subsequent Disburse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s could have been disbursed aid if loan was certif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actually be paid in a post-withdrawal disbur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8.164(g)(2)(ii)(a) and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A18-7829-40A3-AC90-5400A9C3FE51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mount Disburs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133720"/>
            <a:ext cx="525780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 Grant    $1,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962520"/>
            <a:ext cx="52578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EOG  $25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D6B-DF28-424A-B921-D6F1C478A28D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Box 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2438280"/>
            <a:ext cx="541044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1,7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A34-11D1-4526-BA12-42071C8C670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Box 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2286000"/>
            <a:ext cx="464832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1,7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1FA-A348-4ACD-A1B2-572503D9F573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33cc"/>
                </a:solidFill>
                <a:latin typeface="Monotype Corsiva"/>
              </a:rPr>
              <a:t>     </a:t>
            </a:r>
            <a:r>
              <a:rPr b="1" i="1" lang="en-US" sz="7200" spc="-1" strike="noStrike">
                <a:solidFill>
                  <a:srgbClr val="0033cc"/>
                </a:solidFill>
                <a:latin typeface="Monotype Corsiva"/>
              </a:rPr>
              <a:t>Myth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28800"/>
            <a:ext cx="8001000" cy="35812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must do a Return of Title IV Funds calculation for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very stud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at doesn’t complete your payment perio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DD0-7318-4BF7-B0CC-9B5749041CF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61960" y="609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TEP 2: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ithdrawal Date - School that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Required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Take Attendan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school is required to take 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outside entity for some part of the period of enroll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drawal date is taken from attendanc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 might apply only to specific groups of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E48-921B-4597-BC4C-A52244D2C63F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609480"/>
            <a:ext cx="6035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ithdrawal Date- School that Is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Required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Take Attendance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of date student began school’s withdrawal process or date student otherwise provided “official” notice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udent didn’t notify school, midpoint in period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udent didn’t notify due to circumstances beyond student’s control, date related to that circumstance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410-07D9-4F1C-8E05-AD86823FFF45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37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ithdrawal Date - School that is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Required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Take Attendanc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tudent didn’t return from approved leave of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school determines leave began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tudent took unapproved leave of abs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student began le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307-5DC7-4721-B376-7F75EC1751E1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0958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ithdrawal Date - School that is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Required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Take Attendan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not required to take attendance always has option of using the date of student’s last attendance at school documented academically-related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527-831A-40C2-BEC3-B346C4DAD5C5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22440" y="609480"/>
            <a:ext cx="60357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Optional Approved Leave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of Absence Polic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0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policy publicized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followed school’s policy and was approv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ve does not involve additional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llowed to 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work began prior to le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 may not include more than 180 days in any 12-month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8F5-84B0-42C9-8A0C-8A600034DD0B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2:  Calendar Days for Credit Hour Program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2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every day, including weeken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idays,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d break of five or more consecutive days when no classes are off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s of leave of absence are not included in total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289-0DB5-4BA3-9EDE-BF6871223942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2:  Calendar Days for Credit Hour Program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981080"/>
            <a:ext cx="1828800" cy="12193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981080"/>
            <a:ext cx="1828800" cy="12193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267080"/>
            <a:ext cx="1828800" cy="12193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9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79640" y="324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133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A05-87E2-4707-BAF7-7867F3609BB0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Monotype Corsiva"/>
              </a:rPr>
              <a:t>Myth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828800"/>
            <a:ext cx="8686800" cy="39625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don’t disburse any aid to students until they have passed the 60% point of the semester, you don’t have to do a Return of Title IV funds calcul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FD4-12A6-44DA-B533-05078906DB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Truth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tudent who was eligible for Title IV funds ceases to atten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any point in the seme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Return of Title IV Funds must be calcu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 is considered to have  “earned” all of the aid he was eligible for once he passes the 60% point in the semes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A82-AAD2-42A9-B88B-ACCB5D4FFDC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3:  Amount of Title IV Aid Earned by Stud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2971800"/>
            <a:ext cx="1905120" cy="914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9.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2971800"/>
            <a:ext cx="2209680" cy="914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,7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572000"/>
            <a:ext cx="2209680" cy="914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,049.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3048120"/>
            <a:ext cx="685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8920" y="3124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0481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DB9-68CB-432A-B8DE-30909210A1D1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Arial"/>
              </a:rPr>
              <a:t>Truth #1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turn of Title IV Funds calculation is done only for students wh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ually attend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chool and therefor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tablished eligibility for Title IV funds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020-3AD1-4CFC-BAA1-7A37074A607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4: Total Title IV Aid to be Disbursed or Retur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post-withdrawal disbursement or return of funds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itle IV aid earned (D)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IV aid actually disbursed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A  no furthe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&gt; A  post-withdrawal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&gt; D  return of fun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5BD-22C0-4FFB-A224-8CC146BFAC5B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4: Total Title IV Aid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to be Retur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296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IV aid disburs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296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ount of Title IV aid earned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Symbol" charset="2"/>
              <a:buChar char=""/>
              <a:tabLst>
                <a:tab algn="l" pos="91296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Title IV aid to be return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2960"/>
                <a:tab algn="r" pos="75423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296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,769.00 - $1,049.02 = $719.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2960"/>
                <a:tab algn="r" pos="75423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1F6-03F2-4EDF-A7C2-2CC2485B0AB3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5:  Amount of Unearned Title IV Aid Due from School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Institutional Charges  $2,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% unearn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59.3% 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40.7% un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B2E-DD06-4D48-A04C-3FC054EF500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38240" y="66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5:  Amount To Be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Returned By School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itutional Charges  X  % un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,250  x  40.7% = $915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compare Box I and Box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the lesser amount, write in Box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915.75  vs.  $719.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4952880"/>
            <a:ext cx="213336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CE1-A66C-4C96-84B9-2B1E6784471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6:  Return of Funds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by School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w specifies order of Title IV programs to which funds must be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 return more money than was received from a Title IV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B48-5CD9-4405-9DFE-272ED3A2FA12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6:  Return of Fund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by School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51536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 funds to programs as soon as possible, but no later than 30 days after determination of withdraw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740-65B4-4104-BF9E-C9F93673D8B1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7:  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Initial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Amount of Unearned Title IV Aid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Due from Stud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719.98  (Box F amount to retu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 $719.9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(Box J amount due from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initial amount due back from stud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9C1-D5E9-4EB9-AC12-BDE23A94888A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8:  Return of Funds by Stud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9152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w specifies order of Title IV programs to which funds must be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ans are repaid in accordance with terms of promissor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nt repayment limited to 50% of student’s initial responsibility to rep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CAC-6466-4FEB-A23B-5F478D65C3A1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523880" y="1752480"/>
          <a:ext cx="623412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2341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8:  Student’s Grant Overpaym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286000"/>
            <a:ext cx="2971800" cy="16002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l 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 retur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G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2362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4267080"/>
            <a:ext cx="2361960" cy="15242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ount for Student to 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304812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2971800"/>
            <a:ext cx="45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895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4724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5E6-A933-49EE-92D6-899179A505F6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Grant Overpaym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grant repayment due from student is considered an over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curs because student has received more aid than he earned by att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is responsible for repay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unts under $25 are set a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70E-90CB-42A8-927C-779EB38CE688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Truth #2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 student didn’t attend, they are not eligible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itle IV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2T4 calcul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i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51F-FDBB-442E-8B05-D80BF39B062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Grant Overpay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must notify student within 30 days of school’s determination of withd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retains Title IV eligibility for 45 days.  During that time, he must ei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ay in full to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satisfactory arrangements to repay with school (school 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satisfactory arrangements to repay with Department of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173-DAD3-4431-B512-C89622AE6AC4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Referring Overpayment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to the Department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tudent does not repay in full or make payment arrangements with school within 45 days, school must refer overpayment to Department for col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ral form can be found in the FSA Handbook, Volume 2, Page 2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B54-FDF1-4A1F-A458-76A185B881EA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Report Overpayment to NSLD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payments not paid in full within 45 days of the institution’s determination of the withdrawal must be reported to NS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rted via on-lin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941-75E6-4273-849E-3EC56D4A2283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Post-Withdrawal Disburse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itle IV aid disbursed is less than Title IV aid ear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ghty’s Ledger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 Box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,049.02 (Box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      (Box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,049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989-2B54-4740-8950-254B7BA8CB54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Post-Withdrawal Disbursement Tracking Shee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 must make disburs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120 days of school’s determination of withd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rants before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credit student’s account for outstanding charges prior to release of funds to stu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E90-994B-4D4A-A42D-ADC4E1FEE147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Post-Withdrawal Disburse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 must offer any additional disbursement to student in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30 days of school’s determination of withd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ype and amount of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option to accept/decline all or part within 14 days of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9C7-D17F-4A12-A68D-A15B67F6211A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dditional Resourc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r Colleague Letter GEN-00-24 December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2T4  Software available 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ttp://fsa4schools.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on SAIG Software Down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346-D4E8-44CC-A301-79E07D09AABC}" type="slidenum">
              <a:t>46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Remember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172080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76720" y="2362320"/>
            <a:ext cx="45720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mus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ve a way of knowing whether the student actually attended classes in order to be eligible for any Title IV f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1C4-7529-459A-9ED1-5D233EC9EC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0600" y="3657600"/>
            <a:ext cx="2819520" cy="1600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581280"/>
            <a:ext cx="2514600" cy="1600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How does the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alculation wor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21160"/>
            <a:ext cx="230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ntage of a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65760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ntage of period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209680"/>
            <a:ext cx="800100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earns Title IV a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388620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FC2-793A-4AE9-A378-F09F0FAF4F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How does the calculation  wor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udent h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cei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ey than he has earned, money is returned to th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udent h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ceived l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than he has earned, a post withdrawal disbursement must be calc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A67-925D-4E9F-80E9-65B8A91653EE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onsumer Informa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rovide to prospective and current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refund policy with which school must com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’s tuition refund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for treatment of Title IV funds after withdrawal (page 2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for official withd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D85-C6EE-4517-8A9C-5DED899DE39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ate of Institution’s Determination that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tudent Withdre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en did the school realize that the student had withdraw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official withdrawal, determine withdrawal date no later than 30 days after the end of the earlier of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period or period of enro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383-B30F-4A12-992F-051977BA4C0C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20:43:53Z</dcterms:modified>
  <cp:revision>88</cp:revision>
  <dc:subject/>
  <dc:title>PowerPoint Presentation</dc:title>
</cp:coreProperties>
</file>