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6E0-9909-4EA8-AB6E-E9178A43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F8F-C6C0-4054-8172-1B90DC0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431-0BE7-4907-B997-CB0B8D80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695-8201-4AE9-9A68-D24BB7CB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270-FF47-4850-8DFA-001079E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66F-B948-4FB4-9BD6-2649326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383-F09B-42D1-B654-C0D9C6EB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AD1-2AFB-41DB-8289-B4CAB85B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4C0-9CA8-457D-B399-AADAB521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331-2EC7-4172-BF5D-6263743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A64-B7C5-43F0-8A83-64E6453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4D1-AF2A-4648-87B8-7052D85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5D45-A87E-4638-B5A4-2616601D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Tribal Colleges:  The Basics</a:t>
            </a: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 Return of Title IV Funds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R2T4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5028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orah Tarp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, Region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106668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#4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70B-4905-4798-86F4-70B305BAD2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ate of Institution’s Determination that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udent Withdrew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important deadlines key off this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for school to return funds it’s responsible for re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to offer post withdraw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days to disburse the post withdraw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to notify student if overpayment is 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years for school to collect overpa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AD0-388A-485B-B418-BED0639C24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ayment Period or  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eriod of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rm-based program must use term/payment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term or non-term program may choose either payment period or period of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CA0-A98A-4EDA-A375-F0674775A09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ounding Rules for    Perce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out to 4 decimal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days / 101 days = .4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 hours / 450 hours = .44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o third decim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4455 = .446 = 44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4422 = .442 = 44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ounding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75F-D9A0-49D8-B79B-7C163F3F0DCF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ounding Rules for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ollar Amou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o the nearest pe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346.00 x 44.6% = $1,046.316 or $1,046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346.00 x 44.4% = $1,041.624 or $1,041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or refund may be rounded to the nearest do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46.32 = $1,0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41.62 = $1,0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ounding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003-FD02-42F2-B710-E11CF6953339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ep 1:  Student’s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itle IV Aid Inform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aid dis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aid that could have been dis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include FWS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bal Colleges will always include 100% of the FSEOG amount in the calculation (Title III wai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70C-BBC9-494D-A1E7-2764993BF172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22440" y="609120"/>
            <a:ext cx="603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id That Could Have Been Disburs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has official ISIR/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FEL - loan is certi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 - loan is orig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ll Grant - valid ISIR/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kins/FSEOG - funds w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37644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8EE-184A-4DBC-80D2-C0AC89147F9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FFEL/DL Second/Subsequent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s could have been disbursed aid if loan was certi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actually be paid in a post-withdrawal 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.164(g)(2)(ii)(a) and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6D1-3181-4859-A1D6-8A2BB948F2F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mount Disburs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133720"/>
            <a:ext cx="525780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Grant    $1,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962520"/>
            <a:ext cx="52578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EOG  $2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74E-CC78-4BEC-8222-19B1D73C173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ox 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2438280"/>
            <a:ext cx="541044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B0D-A54B-4F61-A802-91C683D9CBC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ox 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286000"/>
            <a:ext cx="464832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D14-EB36-4524-93EC-631E2117392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cc"/>
                </a:solidFill>
                <a:latin typeface="Monotype Corsiva"/>
              </a:rPr>
              <a:t>     </a:t>
            </a:r>
            <a:r>
              <a:rPr b="1" i="1" lang="en-US" sz="7200" spc="-1" strike="noStrike">
                <a:solidFill>
                  <a:srgbClr val="0033cc"/>
                </a:solidFill>
                <a:latin typeface="Monotype Corsiva"/>
              </a:rPr>
              <a:t>Myth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28800"/>
            <a:ext cx="8001000" cy="3581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ust do a Return of Title IV Funds calculation fo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ery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at doesn’t complete your payment peri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D32-E26B-40A3-AFD3-E35E645B91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EP 2: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school is required to take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utside entity for some part of the period of enroll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drawal date is taken from attendan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might apply only to specific groups of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429-BF9E-490E-851E-AD2CD84E1AAB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035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of date student began school’s withdrawal process or date student otherwise provided “official” notic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didn’t notify school, midpoint in period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didn’t notify due to circumstances beyond student’s control, date related to that circumstance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D90-959B-40C8-9A33-F24F5D0A099A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3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didn’t return from approved leave of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chool determines leave began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took unapproved leave of abs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tudent began le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90A-5FF9-4AC7-9E35-A93ADB0C1D2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ithdrawal Date - School that is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Required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Take Attend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ot required to take attendance always has option of using the date of student’s last attendance at school documented academically-related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43A-28F7-4835-B4FC-3CCE4FD49D0D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22440" y="609480"/>
            <a:ext cx="60357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ptional Approved Leav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of Absence Polic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0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policy publicized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followed school’s policy and was approv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ve does not involve additional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llowed to 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work began prior to le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 may not include more than 180 days in any 12-month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16D-F5C9-468D-A441-5615F81E9BB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2:  Calendar Days for Credit Hour Program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every day, including weeken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idays,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break of five or more consecutive days when no classes are o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s of leave of absence are not included in total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3C9-0448-4DF5-8493-510AE7E675A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2:  Calendar Days for Credit Hour Program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81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981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267080"/>
            <a:ext cx="1828800" cy="12193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9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324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133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AF2-7FE4-40B9-8492-3EBC80638B4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Monotype Corsiva"/>
              </a:rPr>
              <a:t>Myth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828800"/>
            <a:ext cx="8686800" cy="3962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don’t disburse any aid to students until they have passed the 60% point of the semester, you don’t have to do a Return of Title IV funds calcul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C6C-37D2-4CD3-B5A8-962DAE7EBBF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ruth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tudent who was eligible for Title IV funds ceases to atten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any point in the seme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Return of Title IV Funds must be calc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is considered to have  “earned” all of the aid he was eligible for once he passes the 60% point in the semes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B75-63D3-497C-94DB-22395819A02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3:  Amount of Title IV Aid Earned by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971800"/>
            <a:ext cx="190512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9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2971800"/>
            <a:ext cx="220968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7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572000"/>
            <a:ext cx="2209680" cy="914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049.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048120"/>
            <a:ext cx="685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8920" y="3124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0481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364-F7C5-46AB-AD7F-3CCDA651119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Truth #1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turn of Title IV Funds calculation is done only for students wh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ually attend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chool and therefor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ablished eligibility for Title IV funds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DE7-D2BA-4884-8B36-9C02DD3BE1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4: Total Title IV Aid to be Disbursed or Retur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post-withdrawal disbursement or return of funds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itle IV aid earned (D)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IV aid actually disbursed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A  no furth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&gt; A  post-withdrawal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2960"/>
                <a:tab algn="l" pos="131760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 D  return of fun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EA1-658B-4480-91B9-5E0DA1D2F27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4: Total Title IV Aid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o be Retur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IV aid disbur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Symbol" charset="2"/>
              <a:buChar char=""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of Title IV aid earned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Symbol" charset="2"/>
              <a:buChar char=""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Title IV aid to be return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769.00 - $1,049.02 = $719.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2960"/>
                <a:tab algn="r" pos="7542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67B-5B87-4AAE-8088-216199BF2502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5:  Amount of Unearned Title IV Aid Due from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Institutional Charges  $2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% unearn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59.3% 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40.7% un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65B-216E-4C70-A0B1-69019C75F4B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38240" y="66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5:  Amount To B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turned By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Charges  X  % un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,250  x  40.7% = $915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compare Box I and Box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lesser amount, write in Box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915.75  vs.  $719.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4952880"/>
            <a:ext cx="213336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243-A94D-4E51-859C-E8017FA7607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6:  Return of Funds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y School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specifies order of Title IV programs to which funds must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return more money than was received from a Title IV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567-EC83-43A8-BE2D-D36F90F5FD8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6:  Return of Fund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by School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5153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funds to programs as soon as possible, but no later than 30 days after determination of withdraw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9CA-AA47-4AB7-A857-1D565ACCDC6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7: 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Initial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Amount of Unearned Title IV Aid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ue from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719.98  (Box F amount to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 $719.9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Box J amount due from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initial amount due back from stud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5C8-568C-4C4B-A016-AAC3057C63BE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8:  Return of Funds by Stud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specifies order of Title IV programs to which funds must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ns are repaid in accordance with terms of promissor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t repayment limited to 50% of student’s initial responsibility to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762-12C3-43BD-B007-6FCAB815F6E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23880" y="1752480"/>
          <a:ext cx="6234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23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tep 8:  Student’s Grant Overpay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286000"/>
            <a:ext cx="2971800" cy="1600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 retur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362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267080"/>
            <a:ext cx="2361960" cy="15242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for Student to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04812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2971800"/>
            <a:ext cx="4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4724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50F-6744-43E7-9C9D-1E12BC13C4B9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Grant Overpay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grant repayment due from student is considered an over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curs because student has received more aid than he earned by att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is responsible for repay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s under $25 are set a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B11-95D6-47C0-A586-48F9ED3AAEB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ruth #2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a student didn’t attend, they are not eligible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itle IV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2T4 calcul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i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780-96AF-4439-8EC5-2A18BE95F38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Grant Overpay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must notify student within 3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retains Title IV eligibility for 45 days.  During that time, he must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ay in full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atisfactory arrangements to repay with school (school o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atisfactory arrangements to repay with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A73-2D60-4FDE-9AB8-E6CF5D0FDE3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ferring Overpayment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to the Department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udent does not repay in full or make payment arrangements with school within 45 days, school must refer overpayment to Department for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form can be found in the FSA Handbook, Volume 2, Page 2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0DD-54E3-4758-BE0A-C4BE18DC9644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eport Overpayment to NSL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payments not paid in full within 45 days of the institution’s determination of the withdrawal must be reported to NS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ed via on-lin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1FD-3C07-4F93-B9D1-95D82807EFC4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itle IV aid disbursed is less than Title IV aid 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hty’s Ledger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 Box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,049.02 (Box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      (Box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,049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A08-D463-4682-9CBD-AFFAA06B42A2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 Tracking She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must make disbur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12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rants before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credit student’s account for outstanding charges prior to release of funds to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A23-6A17-4010-9C5F-FCF63359E18F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ost-Withdrawal Disburs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must offer any additional disbursement to student in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30 days of school’s determination of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ype and amount of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option to accept/decline all or part within 14 days of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D17-D310-489F-B4A2-CA01CB9010E6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dditional Resour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Colleague Letter GEN-00-24 December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2T4  Software available 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fsa4schools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on SAIG Software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DD5-6AA8-4C12-A4C6-2E426FEC7B5F}" type="slidenum">
              <a:t>46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Remember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72080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6720" y="2362320"/>
            <a:ext cx="4572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mu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a way of knowing whether the student actually attended classes in order to be eligible for any Title IV f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348-7B12-4AE6-9CE4-2FF8FACBDC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0600" y="3657600"/>
            <a:ext cx="28195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581280"/>
            <a:ext cx="251460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ow does th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alculation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2116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a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65760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period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209680"/>
            <a:ext cx="80010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earns Title IV a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388620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0AA-BD6A-4D5D-8664-EBBC90E9A1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ow does the calculation  wor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h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ei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ey than he has earned, money is returned to th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h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eived l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than he has earned, a post withdrawal disbursement must be 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CD3-E533-4603-8375-0C0E33085F9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onsumer Informa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to prospective and current stud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fund policy with which school must co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tuition refu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treatment of Title IV funds after withdrawal (page 2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for official withd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1FA-F1DA-4171-86B9-D31C4A178C7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ate of Institution’s Determination that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udent Withdrew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en did the school realize that the student had withdraw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official withdrawal, determine withdrawal date no later than 30 days after the end of the earlier of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period or period of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5 - Tribal Colleges:  The Bas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99C-8F80-472A-AEA8-FAA9E1209E41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43:53Z</dcterms:modified>
  <cp:revision>88</cp:revision>
  <dc:subject/>
  <dc:title>PowerPoint Presentation</dc:title>
</cp:coreProperties>
</file>