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FA6-A53E-4BB1-B405-C04AE43C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26C-4473-4B91-9891-AFA0037D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C3D-E5C8-4432-ADEA-26243E29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FBC-9074-4C23-997D-4D8AB526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DC2-8910-459C-A7AF-3C061E0D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F8E-AC73-4979-911C-C532E7B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A0F-77C0-4D68-AB95-2F0F0D6A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7D4-CEB4-4166-896E-92B6518A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0D2-4E21-4D6B-A77D-EF23F794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4D3-7BE3-4E1E-A277-CC476340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CB4-9ABD-4511-B880-969C594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EAD-66C2-41EF-91EA-B62014B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0F15-46D6-43CF-A1E3-2E6433C3B4F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What is Risk Management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Andy Cho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0BF-A08C-4ACC-9B80-CB6C4B9D01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1066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828800"/>
          <a:ext cx="8229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8E1-4ED4-4573-8D5B-1BD7D877C9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286000"/>
          <a:ext cx="830556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8305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F80-CAD2-4E76-BFA8-5BEC52A52E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9680" y="1600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2362320"/>
          <a:ext cx="830556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30556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E80-826D-4F51-998A-2BC6673BD0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33720" y="1600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362320"/>
          <a:ext cx="830556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30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11E-96F4-435A-99E8-41F1BF569D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1447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2133720"/>
          <a:ext cx="80773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8077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628-7EC4-46D2-8782-1E8FC68FBA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62320" y="1523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2133720"/>
          <a:ext cx="82296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229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DE3-6BB1-4954-A572-674F7F10D2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1240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taxpayer you are a share/stakeholder in the federally insured student loan portfolio, each of you have a vested interest in insuring that “your” investment is managed well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981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y is Risk Management Important?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568-575C-4D04-A568-A36B654629F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Risk Management:  Reducing Delinquency &amp; Default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Tim Fitzgibbon, Iowa College Student Aid Commiss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E5F-E1B4-4787-9241-7ED5A6FDFB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vers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quired by Regul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e-claims Assist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upplemental Pre-claims Assist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fault Avers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169-D58C-4CA8-903A-C4BADFDF654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tudent Loan Outfitter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erral service for “high-risk” borrow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rly awareness and delinquency preventi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vailable to all Iowa colleges and univers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teractive web si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FC5-1093-4113-A963-D2CFFFA9CF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44" name=""/>
          <p:cNvSpPr/>
          <p:nvPr/>
        </p:nvSpPr>
        <p:spPr>
          <a:xfrm>
            <a:off x="1215720" y="2514600"/>
            <a:ext cx="731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at is Risk Management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ducing Delinquency and Defaul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linquency Patterns and Characteristic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ls for Schools to Help Student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void Delinquency and Defaul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4572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 Unicode MS"/>
              </a:rPr>
              <a:t>Session 9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84D-2526-4DBB-AEA8-1DEE7D608F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isaster</a:t>
            </a: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 Relief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available to students and families affected by natural disasters – later expand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tching funds from colleges and univers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cipients agree to limit borrow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2,100 recipients – Grants average $1,40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121-3B02-4812-8226-F8FB0C65DB5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Foster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available to students formerly in foster car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cipients agree to limit borrow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upport from colleges and universities, and Iowa Dept. of Human Servic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60% completion ra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$3,000 average awar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44D-D5C1-40F3-8676-E39485F187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Reduction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available to promote innovative default prevention programs at the campus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mpetitive application proc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iered award level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uest speakers, academic         courses, community program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631-F154-410F-94E6-BF505B10A78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tudent Assistant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provided to hire “peer advisors”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As trained in financial aid, student loan, and debt management basic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crease awareness, communication on campus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er students to FAOs, ED, lenders,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 the Commissi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9DE-0CE6-4B9A-86F0-3AD6BBBBA9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Agency Servicing Center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owa-based default prevention call cent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ased on Commission theme of Iowans-helping-Iowa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panding Iowa work for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6F7-03B9-43C3-83EB-075448BFF5A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tafford Late Stage Delinquency Assistance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Ben LeBory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583-155A-4BC8-9EF8-AE34E19C13F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Official Cohort Default Rate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058840"/>
          <a:ext cx="71629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1629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16E-76FC-430C-979A-AC1F06A6728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3805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Makeup of Cohort Rate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1685880"/>
          <a:ext cx="77724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85880"/>
                    <a:ext cx="77724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94C-7D82-4549-AD0C-90B2EA9909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Borrower Delinquency Patter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01680" y="1739880"/>
          <a:ext cx="702792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739880"/>
                    <a:ext cx="70279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A52-FA5D-466F-9AAA-593740277C2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er Characteristic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6110280"/>
            <a:ext cx="85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12 month average of Stafford borrowers - all cohort yea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84% do not receive the advantage of the full 6 month grace period as a result of late enrollment notifi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71% have withdrawn from school and did not complete stud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43% have had bad telephone numbers at the time of defaul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58% have not successfully been contacted by telephone during the 360 day collection effort during delinqu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9F0-9395-4944-9281-E9F9053657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16002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What is Risk Management?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971800"/>
            <a:ext cx="82296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sk Management is the continuous management of reducing             exposure of loss from non-performing loans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ludes a balanced review of business results and how to maximize opportunities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vides the foundation that supports the quality, composition and profitability of loan portfolio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BF7-3B90-49B9-A952-7D73AC1B79C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chools Can Help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ist the severely delinquent borrowers in establishing communications with the Service Cen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re is a small subset of borrowers that have not responded to our attempts to communicate and help them resolve their delinquenc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borrowers will frequently respond to school outrea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1C9-B50F-4214-94BD-02EB35DB539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How It Can Work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dentify the Borrow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act the Stud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ools have additional tools to locate Borrowers (i.e. Alumni Association directories, putting holds on records, etc. 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 email addresses and references you hav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ools are not collectors but counsel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4AD-6B6C-49EF-B8A3-5198EAFFA81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0" y="304920"/>
            <a:ext cx="6019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2003 Cohort Year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Delinquency Detail</a:t>
            </a:r>
            <a:endParaRPr b="0" lang="en-US" sz="3200" spc="-1" strike="noStrike">
              <a:solidFill>
                <a:srgbClr val="0033cc"/>
              </a:solidFill>
              <a:latin typeface="Arial Unicode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327" t="20567" r="3489" b="0"/>
          <a:stretch/>
        </p:blipFill>
        <p:spPr>
          <a:xfrm>
            <a:off x="1066680" y="1981080"/>
            <a:ext cx="7162920" cy="40388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662960" y="2209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209680"/>
            <a:ext cx="8380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048120"/>
            <a:ext cx="380880" cy="2514600"/>
          </a:xfrm>
          <a:custGeom>
            <a:avLst/>
            <a:gdLst>
              <a:gd name="textAreaLeft" fmla="*/ 0 w 380880"/>
              <a:gd name="textAreaRight" fmla="*/ 13752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42973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417400" y="1447920"/>
            <a:ext cx="45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You can work as little or as much as you wa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2514600"/>
            <a:ext cx="11430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00400" y="2133720"/>
            <a:ext cx="1371240" cy="743400"/>
            <a:chOff x="3200400" y="2133720"/>
            <a:chExt cx="1371240" cy="743400"/>
          </a:xfrm>
        </p:grpSpPr>
        <p:sp>
          <p:nvSpPr>
            <p:cNvPr id="127" name=""/>
            <p:cNvSpPr/>
            <p:nvPr/>
          </p:nvSpPr>
          <p:spPr>
            <a:xfrm>
              <a:off x="3200400" y="2133720"/>
              <a:ext cx="1371240" cy="595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21000" y="217332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271-360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FFB-5121-42B4-9815-B404DE8C095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Why Schools Do It ?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duce the CDR for their schoo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prove the integrity of the progra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cue over 30% of potential default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nimal effort, maximum results, schools say “we help the borrowers and the school with a little effort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b tools identify &amp; focus on the most severe delinquencies that have a direct impact on a school’s CD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major investment in time, staff or mone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SDA really 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t’s the right thing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E9E-58F0-479E-8446-97037355616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1676520"/>
            <a:ext cx="7238880" cy="4876560"/>
            <a:chOff x="1523880" y="1676520"/>
            <a:chExt cx="7238880" cy="4876560"/>
          </a:xfrm>
        </p:grpSpPr>
        <p:sp>
          <p:nvSpPr>
            <p:cNvPr id="132" name=""/>
            <p:cNvSpPr/>
            <p:nvPr/>
          </p:nvSpPr>
          <p:spPr>
            <a:xfrm>
              <a:off x="7724160" y="6294960"/>
              <a:ext cx="103860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1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27760" y="6294960"/>
              <a:ext cx="89640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58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70160" y="6294960"/>
              <a:ext cx="95724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9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7680" y="6294960"/>
              <a:ext cx="85212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89400" y="6294960"/>
              <a:ext cx="72828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87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6294960"/>
              <a:ext cx="276552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24160" y="605016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7760" y="605016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70160" y="605016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8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7680" y="605016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89400" y="605016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605016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24160" y="580536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7760" y="580536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0160" y="580536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7680" y="580536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9400" y="580536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3880" y="580536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24160" y="556056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7760" y="556056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0160" y="556056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17680" y="556056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9400" y="556056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556056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24160" y="53161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7760" y="53161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0160" y="53161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7680" y="53161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89400" y="53161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3161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 of Business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24160" y="50713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27760" y="50713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0160" y="50713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7680" y="50713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9400" y="50713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3880" y="50713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tate 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24160" y="48265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5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7760" y="48265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70160" y="48265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5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7680" y="48265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89400" y="48265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48265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24160" y="45817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27760" y="45817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0160" y="45817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4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7680" y="45817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45817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3880" y="45817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4160" y="43369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27760" y="43369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70160" y="43369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17680" y="43369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89400" y="43369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3880" y="43369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tate 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24160" y="40924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1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7760" y="40924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70160" y="40924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9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7680" y="40924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89400" y="40924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40924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tate 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4160" y="38476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27760" y="38476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70160" y="38476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7680" y="38476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89400" y="38476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38476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24160" y="36028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8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7760" y="36028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70160" y="36028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2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7680" y="36028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89400" y="36028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36028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emorial 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24160" y="33580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1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27760" y="33580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0160" y="33580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9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17680" y="33580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89400" y="33580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3580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24160" y="31132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27760" y="31132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70160" y="31132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7680" y="31132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400" y="31132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1132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24160" y="286884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4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7760" y="286884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70160" y="286884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7680" y="286884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89400" y="286884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286884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stitute of Technolog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24160" y="262404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27760" y="262404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70160" y="262404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7680" y="262404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9400" y="262404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23880" y="262404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echnical Institut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24160" y="2192760"/>
              <a:ext cx="10386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ercent Rescued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2192760"/>
              <a:ext cx="8964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scued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70160" y="2192760"/>
              <a:ext cx="95724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ercent Default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17680" y="2192760"/>
              <a:ext cx="8521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efaults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89400" y="2192760"/>
              <a:ext cx="7282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3880" y="2192760"/>
              <a:ext cx="27655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CHOOL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1934640"/>
              <a:ext cx="723888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nd Quarter 2002CDR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1676520"/>
              <a:ext cx="7238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ample Results for Late Stage Delinquency Assistance (LSDA) Schools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3880" y="16765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3880" y="65530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1676520"/>
              <a:ext cx="0" cy="4876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62760" y="1676520"/>
              <a:ext cx="0" cy="4876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3880" y="262404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3880" y="286884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3880" y="31132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33580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3880" y="36028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23880" y="38476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23880" y="40924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3880" y="43369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23880" y="45817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23880" y="48265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50713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3880" y="53161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23880" y="55605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58053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3880" y="60501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3880" y="62949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C16-77F8-4A61-A5A9-D2FF3E8078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otal Test Results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2484360"/>
          <a:ext cx="8153280" cy="14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84360"/>
                    <a:ext cx="815328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C15-38BF-448E-81A7-94D20DB0620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ost Default Cure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4 months after the default condition was cured, 82.49% of the borrowers did not re-defaul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4 months after the default condition was cured, 76.70% of the borrowers did not re-defaul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1F2-9191-4A2B-80D2-51CACD91515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ate Stage Delinquency Assistance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(Perkins LSDA)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ohn Piers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0C1-0C7C-4815-A4F8-5C9ED0135FA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0920" y="762120"/>
            <a:ext cx="5744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2209680"/>
            <a:ext cx="77724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rkins “Late Stage Borrowers”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80-240 days delinqu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urrent default cohor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o is servicing the loan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itu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tside contracto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y is this important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E23-2300-4979-B77E-99F9B37B922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6278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2362320"/>
            <a:ext cx="77724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tafford LSDA principles apply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o something differ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ight touch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nthly attention works bes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imit investment: cost, time and staff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7AC-8F2F-4EEE-8A00-1B3ADEB43EF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17524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Why is Risk Management Important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66880"/>
            <a:ext cx="8534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partment of Education owns or guarantees approximately $290 billion in outstanding student loan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 2002 $56.5 billion was delivered in total new federal ai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re are approximately 22 million borrowers with student loan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 a taxpayer you are a share/stakeholder in the federally insured student loan portfolio, each of you have a vested interest in insuring that “your” investment is managed wel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B6F-F3F0-4343-8AB6-0053CC7932D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6520" y="380520"/>
            <a:ext cx="627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676520"/>
            <a:ext cx="8001000" cy="75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en doing LSDA for both Perkins and Stafford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QC your data before you start: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view delinquency lists for overlap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pdate contact inform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orrower Contact process: How will you do it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parate LSDA process for each program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bined LSDA process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now the rul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solution for Stafford and Perkins may be differen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52F-7FDD-4AB7-A85F-A0FBC341D65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: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ohn Piers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285-4312-41E9-A832-5F6D432B0A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: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    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2096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r Targets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tafford Loan Progra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rkins Loan Progra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290-8660-4D74-A9A3-6562437A869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583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: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    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828800"/>
            <a:ext cx="77724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orking Assumption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cannot effectively change long term patterns until we know who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to defaul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core remaining default for most Perkins and Stafford portfolios can be impacted through administrative and/or academic intervention while borrowers are enrolled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382-F77C-4B59-872A-94FD2FD0871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ources: Dat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itutional student data (FISAP/Perkins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partment of Education data (Stafford)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oan Record Detail Re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SLDS School Repayment Loan Detail Re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rvicer and Guaranty Agency Repor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1A3-2DDF-467D-BB53-3FED7913853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ources: Proc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ee software to assist in creating defaulter profile for both Stafford and Perki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SA Self-Assessment/ Tools/Schools/Default Management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a Schools Portal (fsa4schools.ed.gov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FC5-F247-4B15-B09B-E10587EF537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reate an interventio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llect and analyze da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dentify co-related facto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xamples: retention, GPA, grad rates, etc.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tervention based upon empirical analysi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oose the biggest targe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l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ck outcome, evaluate, recalibrat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C57-32B6-413F-BB08-75EAF0A4D55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kely problem area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cademic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dministrativ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olution may require the active participation of academic and/or administrative (or other) departments and staff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1C5-30A8-4B70-B6C6-ABC036347A9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17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Creating a long term interven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ange in co-related factors may occur in the near term: reduction in rate of delinquency and default will take longer.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llow the trail wherever it leads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097-31A8-435D-8001-260D85C7B0A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36640" y="30456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Contact information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y Ch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ndrew.Cho@ed.go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im Fitzgibb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timothy.fitzgibbon@csac.state.ia.u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en Lebory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Ben.Leborys@ed.gov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John Piers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John.Pierson@ed.go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DEB-EF72-4472-A506-E7BD4BFAFA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89400" y="167652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dvantages of Risk Manage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8534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s through the life of the loa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es borrower attributes throughout the life cycle of the loan that impact performing and non performing loa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vents a “scatter gun” approach to managing the portfolio, which leads to managing on 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focused vision and concentrated effort to managing default preventio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reducing the cost to the taxpay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BCC-8C63-414D-AAED-0E81CF954F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1828800"/>
          <a:ext cx="8076960" cy="39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807696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A46-70D7-42DB-B7DB-A080BF7114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3520" y="1676520"/>
          <a:ext cx="82296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2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FAA-C178-4FCB-BEDC-864743F6FE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6765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70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0666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Unicode MS"/>
              </a:rPr>
              <a:t>Sample Report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Unicode MS"/>
              </a:rPr>
              <a:t>Direct Loans - Defaulted Loa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9480" y="2133720"/>
          <a:ext cx="81536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1536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3A7-46BD-4D58-9BAE-F359FC4DF2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8880" y="1401840"/>
            <a:ext cx="63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2286000"/>
          <a:ext cx="80010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8001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62F-5DAE-49C3-92C5-2EE56D6513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17:30Z</dcterms:modified>
  <cp:revision>100</cp:revision>
  <dc:subject/>
  <dc:title>PowerPoint Presentation</dc:title>
</cp:coreProperties>
</file>