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6F3-B87D-4C12-8061-593BDBA7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82D-AC47-47BE-BAEB-CA8998F6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5E8-552A-4C61-9041-8EB91B8A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4B2-4705-4BA4-9016-C54E8C2D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403-3192-4D71-A087-14B5F218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50F-1870-4514-BBAE-2440DE9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E1C-3B8C-443A-B38E-7694CE23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5C7-3677-4746-9674-BBC3AC4A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39C-2074-4771-A5B7-CC5D4613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696-DCCC-4423-A290-769428C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6D5-0093-4430-AFD6-A261C2F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1FD-BB47-461A-8CB3-FC0F97F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%20template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EFC7-B1C0-4D7D-B7E9-F71A02A5B9A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What is Risk Management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Andy Cho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189-6BD1-4FAC-97B7-39ECEA4570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1066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828800"/>
          <a:ext cx="8229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004-4DC9-46F7-BB3E-3A75FF7036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2286000"/>
          <a:ext cx="830556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8305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D2B-13FD-4898-BB13-BE3114C58C6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09680" y="16002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2362320"/>
          <a:ext cx="830556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30556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B62-E86B-44B4-9D63-5D7A6434FA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33720" y="16002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362320"/>
          <a:ext cx="830556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30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4BD-B5EC-4F29-8158-B1EB57CE6C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1447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2133720"/>
          <a:ext cx="80773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8077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7D2-EAFF-4738-B98D-167BA7CE80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62320" y="1523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2133720"/>
          <a:ext cx="82296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229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485-B2D9-4DEB-A082-67965040C37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1240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taxpayer you are a share/stakeholder in the federally insured student loan portfolio, each of you have a vested interest in insuring that “your” investment is managed well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981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y is Risk Management Important?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8A9-B945-4B8B-8C37-6ECFCEE52C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Risk Management:  Reducing Delinquency &amp; Default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Tim Fitzgibbon, Iowa College Student Aid Commiss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47F-7C77-4251-BB88-75331F3C636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vers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quired by Regul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e-claims Assista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upplemental Pre-claims Assistan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fault Avers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41F-E4F4-4943-9B2E-C37220C587D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tudent Loan Outfitter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erral service for “high-risk” borrower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rly awareness and delinquency preventi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vailable to all Iowa colleges and univers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teractive web si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408-2A1F-4DE4-85BD-A48847DB06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Agen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44" name=""/>
          <p:cNvSpPr/>
          <p:nvPr/>
        </p:nvSpPr>
        <p:spPr>
          <a:xfrm>
            <a:off x="1215720" y="2514600"/>
            <a:ext cx="731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at is Risk Management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ducing Delinquency and Defaul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linquency Patterns and Characteristic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ols for Schools to Help Student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void Delinquency and Defaul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4572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 Unicode MS"/>
              </a:rPr>
              <a:t>Session 9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608-C119-4CEC-B5DF-897534BD31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isaster</a:t>
            </a: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 Relief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available to students and families affected by natural disasters – later expande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atching funds from colleges and universiti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cipients agree to limit borrow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2,100 recipients – Grants average $1,40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FFC-8E5D-40BE-B03B-EBAA58AE6B9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Foster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available to students formerly in foster car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cipients agree to limit borrow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upport from colleges and universities, and Iowa Dept. of Human Servic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60% completion rat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$3,000 average awar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248-39DA-4600-9A9E-D62A0C3B53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Reduction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available to promote innovative default prevention programs at the campus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mpetitive application proc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iered award level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uest speakers, academic         courses, community program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AAE-2603-4F64-ADC1-DF326768B8B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tudent Assistant Grant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nds provided to hire “peer advisors”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As trained in financial aid, student loan, and debt management basic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crease awareness, communication on campus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er students to FAOs, ED, lenders,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r the Commissio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D41-F900-4ED6-9CC4-C726C4E2624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Agency Servicing Center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owa-based default prevention call cent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ased on Commission theme of Iowans-helping-Iowa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panding Iowa work for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89C-51BC-45DB-A79A-77F5ECC6E83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tafford Late Stage Delinquency Assistance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Ben LeBory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763-68D2-4D05-84D6-8D04BB1175C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Official Cohort Default Rate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058840"/>
          <a:ext cx="71629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1629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659-3E51-4A3B-B5A3-BD7D66006EF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6520" y="3805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Makeup of Cohort Rate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1685880"/>
          <a:ext cx="77724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85880"/>
                    <a:ext cx="77724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7E9-A128-4617-A8A2-9CFBC13C665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Borrower Delinquency Patter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01680" y="1739880"/>
          <a:ext cx="702792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739880"/>
                    <a:ext cx="70279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9B3-99FB-4261-933E-19978280A99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er Characteristic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6110280"/>
            <a:ext cx="85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12 month average of Stafford borrowers - all cohort year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84% do not receive the advantage of the full 6 month grace period as a result of late enrollment notifi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71% have withdrawn from school and did not complete stud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43% have had bad telephone numbers at the time of defaul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58% have not successfully been contacted by telephone during the 360 day collection effort during delinque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D67-F4F2-44F7-A7F6-9365A665A16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16002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What is Risk Management?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971800"/>
            <a:ext cx="82296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sk Management is the continuous management of reducing             exposure of loss from non-performing loans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cludes a balanced review of business results and how to maximize opportunities.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vides the foundation that supports the quality, composition and profitability of loan portfolio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095-1FF5-4108-B080-1132477ACB9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6854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chools Can Help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ist the severely delinquent borrowers in establishing communications with the Service Cen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re is a small subset of borrowers that have not responded to our attempts to communicate and help them resolve their delinquenc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borrowers will frequently respond to school outrea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F78-6E49-4ACE-AF42-B2F4CFC801A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How It Can Work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dentify the Borrow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act the Stud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hools have additional tools to locate Borrowers (i.e. Alumni Association directories, putting holds on records, etc. 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 email addresses and references you hav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hools are not collectors but counselo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7A6-4577-4CF2-8BB8-93D4249BC88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3200" y="304920"/>
            <a:ext cx="6019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2003 Cohort Year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Delinquency Detail</a:t>
            </a:r>
            <a:endParaRPr b="0" lang="en-US" sz="3200" spc="-1" strike="noStrike">
              <a:solidFill>
                <a:srgbClr val="0033cc"/>
              </a:solidFill>
              <a:latin typeface="Arial Unicode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327" t="20567" r="3489" b="0"/>
          <a:stretch/>
        </p:blipFill>
        <p:spPr>
          <a:xfrm>
            <a:off x="1066680" y="1981080"/>
            <a:ext cx="7162920" cy="40388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662960" y="2209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11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209680"/>
            <a:ext cx="8380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048120"/>
            <a:ext cx="380880" cy="2514600"/>
          </a:xfrm>
          <a:custGeom>
            <a:avLst/>
            <a:gdLst>
              <a:gd name="textAreaLeft" fmla="*/ 0 w 380880"/>
              <a:gd name="textAreaRight" fmla="*/ 13752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42973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417400" y="1447920"/>
            <a:ext cx="45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You can work as little or as much as you wa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2514600"/>
            <a:ext cx="11430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00400" y="2133720"/>
            <a:ext cx="1371240" cy="743400"/>
            <a:chOff x="3200400" y="2133720"/>
            <a:chExt cx="1371240" cy="743400"/>
          </a:xfrm>
        </p:grpSpPr>
        <p:sp>
          <p:nvSpPr>
            <p:cNvPr id="127" name=""/>
            <p:cNvSpPr/>
            <p:nvPr/>
          </p:nvSpPr>
          <p:spPr>
            <a:xfrm>
              <a:off x="3200400" y="2133720"/>
              <a:ext cx="1371240" cy="595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21000" y="217332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271-360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228-30D6-40B8-9BED-1C80E9A04B0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Why Schools Do It ?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duce the CDR for their schoo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prove the integrity of the progra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cue over 30% of potential default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nimal effort, maximum results, schools say “we help the borrowers and the school with a little effort”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b tools identify &amp; focus on the most severe delinquencies that have a direct impact on a school’s CDR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major investment in time, staff or mone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SDA really work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t’s the right thing!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3A1-9204-4881-8AE0-6E45663B24F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3880" y="1676520"/>
            <a:ext cx="7238880" cy="4876560"/>
            <a:chOff x="1523880" y="1676520"/>
            <a:chExt cx="7238880" cy="4876560"/>
          </a:xfrm>
        </p:grpSpPr>
        <p:sp>
          <p:nvSpPr>
            <p:cNvPr id="132" name=""/>
            <p:cNvSpPr/>
            <p:nvPr/>
          </p:nvSpPr>
          <p:spPr>
            <a:xfrm>
              <a:off x="7724160" y="6294960"/>
              <a:ext cx="103860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1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27760" y="6294960"/>
              <a:ext cx="89640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58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70160" y="6294960"/>
              <a:ext cx="95724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9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7680" y="6294960"/>
              <a:ext cx="85212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2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89400" y="6294960"/>
              <a:ext cx="72828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87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6294960"/>
              <a:ext cx="276552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24160" y="605016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2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7760" y="605016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70160" y="605016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8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7680" y="605016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89400" y="605016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605016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24160" y="580536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7760" y="580536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0160" y="580536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7680" y="580536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89400" y="580536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3880" y="580536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24160" y="556056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7760" y="556056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70160" y="556056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17680" y="556056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9400" y="556056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556056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24160" y="53161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7760" y="53161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0160" y="53161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7680" y="53161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89400" y="53161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3880" y="53161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 of Business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24160" y="50713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27760" y="50713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0160" y="50713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7680" y="50713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9400" y="50713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3880" y="50713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tate 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24160" y="48265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5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7760" y="48265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70160" y="48265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5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7680" y="48265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89400" y="48265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48265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24160" y="45817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6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27760" y="45817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0160" y="45817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4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7680" y="45817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9400" y="45817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3880" y="45817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24160" y="433692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27760" y="433692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70160" y="433692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17680" y="433692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89400" y="433692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3880" y="433692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tate 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24160" y="40924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1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27760" y="40924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70160" y="40924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9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17680" y="40924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89400" y="40924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40924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tate 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24160" y="38476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3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27760" y="38476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70160" y="38476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7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7680" y="38476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89400" y="38476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38476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24160" y="36028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8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7760" y="36028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70160" y="36028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2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7680" y="36028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89400" y="36028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36028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Memorial 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24160" y="33580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51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27760" y="33580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0160" y="33580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9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17680" y="33580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89400" y="33580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1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3580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Universit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24160" y="311328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27760" y="311328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70160" y="311328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7680" y="311328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400" y="311328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11328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olleg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24160" y="286884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64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27760" y="286884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70160" y="286884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36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7680" y="286884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89400" y="286884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286884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stitute of Technology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24160" y="2624040"/>
              <a:ext cx="1038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27760" y="2624040"/>
              <a:ext cx="896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70160" y="2624040"/>
              <a:ext cx="957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7680" y="2624040"/>
              <a:ext cx="852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9400" y="2624040"/>
              <a:ext cx="7282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23880" y="2624040"/>
              <a:ext cx="2765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echnical Institute</a:t>
              </a:r>
              <a:endParaRPr b="0" lang="en-US" sz="11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24160" y="2192760"/>
              <a:ext cx="10386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ercent Rescued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2192760"/>
              <a:ext cx="8964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scued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70160" y="2192760"/>
              <a:ext cx="95724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Percent Default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17680" y="2192760"/>
              <a:ext cx="8521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Defaults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89400" y="2192760"/>
              <a:ext cx="7282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3880" y="2192760"/>
              <a:ext cx="27655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CHOOL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1934640"/>
              <a:ext cx="7238880" cy="2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nd Quarter 2002CDR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3880" y="1676520"/>
              <a:ext cx="72388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Sample Results for Late Stage Delinquency Assistance (LSDA) Schools</a:t>
              </a:r>
              <a:endParaRPr b="0" lang="en-US" sz="12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23880" y="16765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3880" y="65530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23880" y="1676520"/>
              <a:ext cx="0" cy="48765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62760" y="1676520"/>
              <a:ext cx="0" cy="48765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23880" y="262404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3880" y="286884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3880" y="31132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3880" y="33580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23880" y="36028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23880" y="38476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23880" y="409248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23880" y="43369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23880" y="45817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23880" y="48265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50713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3880" y="531612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23880" y="55605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58053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3880" y="60501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3880" y="6294960"/>
              <a:ext cx="7238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F67-5038-476E-AC60-E4DF8B6C065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otal Test Results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2484360"/>
          <a:ext cx="8153280" cy="145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84360"/>
                    <a:ext cx="815328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29D-35FF-492A-94C4-E65C21FCE7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ost Default Cures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4 months after the default condition was cured, 82.49% of the borrowers did not re-defaul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4 months after the default condition was cured, 76.70% of the borrowers did not re-default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537-61B7-4DDF-B926-44FDB9E213A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ate Stage Delinquency Assistance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(Perkins LSDA)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John Piers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67E-904C-420D-91E0-0BB1553AEEC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0920" y="762120"/>
            <a:ext cx="5744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2209680"/>
            <a:ext cx="77724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rkins “Late Stage Borrowers”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80-240 days delinqu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urrent default cohor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o is servicing the loan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itu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tside contracto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y is this important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291-2250-419F-AD49-D2EE4499417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14600" y="685440"/>
            <a:ext cx="6278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2362320"/>
            <a:ext cx="77724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tafford LSDA principles apply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o something differ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ight touch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nthly attention works bes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imit investment: cost, time and staff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318-B476-44B3-A891-BF5DCE77D74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17524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Why is Risk Management Important?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66880"/>
            <a:ext cx="8534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partment of Education owns or guarantees approximately $290 billion in outstanding student loan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 2002 $56.5 billion was delivered in total new federal ai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re are approximately 22 million borrowers with student loan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 a taxpayer you are a share/stakeholder in the federally insured student loan portfolio, each of you have a vested interest in insuring that “your” investment is managed well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211-63B8-494C-9546-212AE04E240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66520" y="380520"/>
            <a:ext cx="627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erkins LSDA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676520"/>
            <a:ext cx="8001000" cy="75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en doing LSDA for both Perkins and Stafford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QC your data before you start: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view delinquency lists for overlap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pdate contact inform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orrower Contact process: How will you do it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parate LSDA process for each program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bined LSDA process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now the rule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solution for Stafford and Perkins may be differen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13F-0BCB-402A-85C7-0EF24AE4C94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: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John Piers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1CA-592F-4A73-922E-F5FFE1AE91C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: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    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2096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ur Targets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tafford Loan Progra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erkins Loan Program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43C-6275-4153-B15D-937C0EC2E8C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583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: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    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828800"/>
            <a:ext cx="77724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orking Assumption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 cannot effectively change long term patterns until we know who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to default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core remaining default for most Perkins and Stafford portfolios can be impacted through administrative and/or academic intervention while borrowers are enrolled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B35-64FD-49DF-958F-B5C365A3448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ources: Dat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itutional student data (FISAP/Perkins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partment of Education data (Stafford)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oan Record Detail Repor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SLDS School Repayment Loan Detail Repor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rvicer and Guaranty Agency Report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F8A-F374-411E-ABD7-D916E322A47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ources: Proces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ee software to assist in creating defaulter profile for both Stafford and Perki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SA Self-Assessment/ Tools/Schools/Default Management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ia Schools Portal (fsa4schools.ed.gov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6C4-7655-45A8-BC13-970441AFA71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reate an interventio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llect and analyze da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dentify co-related facto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xamples: retention, GPA, grad rates, etc.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tervention based upon empirical analysi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oose the biggest targe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plemen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ack outcome, evaluate, recalibrat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263-60F5-4A3C-A08B-F2C8C2AF758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ault Analysi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The Long Term Solu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kely problem area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cademic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dministrativ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solution may require the active participation of academic and/or administrative (or other) departments and staff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C8C-E3C9-4345-97CF-89D1817D653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17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Creating a long term intervention</a:t>
            </a: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ange in co-related factors may occur in the near term: reduction in rate of delinquency and default will take longer.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llow the trail wherever it leads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22F-1701-4B3E-B97E-204E53BF8C5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36640" y="304560"/>
            <a:ext cx="650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Contact information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 Unicode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dy Ch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ndrew.Cho@ed.gov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im Fitzgibb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timothy.fitzgibbon@csac.state.ia.u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en Lebory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Ben.Leborys@ed.gov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John Piers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John.Pierson@ed.gov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843-D35B-4536-8994-A187CFC9495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89400" y="167652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dvantages of Risk Managemen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8534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s through the life of the loa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dentifies borrower attributes throughout the life cycle of the loan that impact performing and non performing loa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events a “scatter gun” approach to managing the portfolio, which leads to managing on 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focused vision and concentrated effort to managing default preventio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d reducing the cost to the taxpaye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E1C-3FAD-4975-BF45-AB14E84550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1828800"/>
          <a:ext cx="8076960" cy="39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807696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03F-8E3B-4CB1-AF4B-13C031C5E2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33520" y="1676520"/>
          <a:ext cx="82296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29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308-F053-4CF2-A7BB-B856ECCC4F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67652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70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0666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Unicode MS"/>
              </a:rPr>
              <a:t>Sample Report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Unicode MS"/>
              </a:rPr>
              <a:t>Direct Loans - Defaulted Loa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09480" y="2133720"/>
          <a:ext cx="815364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1536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773-7A87-4E49-8EFD-00463E449F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68880" y="1401840"/>
            <a:ext cx="63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ample Report - Delinquency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2286000"/>
          <a:ext cx="80010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8001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956-AA2F-4492-8C99-6E4E5822B9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4:15:08Z</dcterms:created>
  <dc:creator>Paul.Hill.Jr</dc:creator>
  <dc:description/>
  <dc:language>en-US</dc:language>
  <cp:lastModifiedBy>jennifer.do</cp:lastModifiedBy>
  <dcterms:modified xsi:type="dcterms:W3CDTF">2003-12-08T20:17:30Z</dcterms:modified>
  <cp:revision>100</cp:revision>
  <dc:subject/>
  <dc:title>PowerPoint Presentation</dc:title>
</cp:coreProperties>
</file>