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F1AC-0BD0-49FD-A528-1B3FD0FF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67E-A27D-4110-990C-6E3A6C4F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B871-B933-4C44-8B8E-8C9F4421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B1E-36A3-41DF-94D5-89F54FAA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987-A06D-49B1-A6B1-DA580EE0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177-5462-44C9-B06D-1A56720B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185-725E-4107-BBCD-020ABFCE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E11-7A55-4A68-8C3C-17F33A38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9E0A-E24D-4425-A8E7-DB53AABB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E6D-9ADD-4136-BC70-15C94150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C36A-A749-4489-BDC9-779E5845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740-0C63-4CA6-B780-2C1806C1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ew%20template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1BE1-62E4-4EE9-B7CD-5FE0C583A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cc"/>
                </a:solidFill>
                <a:latin typeface="Arial"/>
              </a:rPr>
              <a:t>Keep the Money Flowing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Victoria Edwar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arence M. Hi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066680"/>
            <a:ext cx="3047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6D8-D198-405F-861E-11C31DBA038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7760" y="91404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Coordination</a:t>
            </a:r>
            <a:br>
              <a:rPr sz="4800"/>
            </a:br>
            <a:br>
              <a:rPr sz="4400"/>
            </a:b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eam building for all staff involved in the delivery of Title IV program funding on the camp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BF7B-0F36-4100-8A21-AC7C5BD549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udent Financial Aid Committ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gularly scheduled meetings for staff involved in the delivery of the Title IV progr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685800"/>
            <a:ext cx="433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Coope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D27-51A5-41E1-BE9D-7042314AE2E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440800" y="762120"/>
            <a:ext cx="57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Questions your Presi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ay ask you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2286000"/>
            <a:ext cx="32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20400" y="2514600"/>
            <a:ext cx="7428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Written Procedur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aff Ski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roduction Schedu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dequate Hardware &amp; Softwa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o you have a FSA checklist?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C3B-95FD-431A-ADF7-9795CF54054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600" y="7617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Questions continued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286000"/>
            <a:ext cx="7162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oes your account bala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s there a timely submission of all reports to 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s there a timely award notification process for FSA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o you have an annual written management pl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D97-67BE-4076-A91C-33D78534D52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Training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ate Conference Atte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minars/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tinuing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HBCU Summer Worksho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NASFA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7F75-FCA3-48E0-8971-6C714503659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Technical Assistanc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SA will work with you in a proactive approach to evaluate your FSA program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utside evaluators will look at your operation with an objective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0534-EFDC-455C-A0DD-B82A4486444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4400" y="25909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Is your institution positioning itself to participate in the impending FSA electronic system or is your institution still operating in a paper mo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8DD9-12BF-46AB-B0E0-98EEC8C841B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28951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arence M. Hick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02 377 4381 Phone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02 275 3479 Fax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arence.hicks@ed.gov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0BD6-F3C1-4212-8B92-786913CAABC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90920" y="380880"/>
            <a:ext cx="4419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Thank you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896200">
            <a:off x="533160" y="2437920"/>
            <a:ext cx="401292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3813120" cy="398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BFC-B4F8-4CFB-ACC4-9FC94759EE3B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How much money?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47C8-9286-4DAF-8DC0-3A868C83EBF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57400" y="30492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lbertus Extra Bold"/>
              </a:rPr>
              <a:t>HBCUs TITLE IV FU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80880" y="1600200"/>
          <a:ext cx="84582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458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85800" y="6095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TOTAL TITLE IV FUNDING  $1,601,024,548.00 Fiscal Year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66F-04AB-43EF-87E5-00690F5FA81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0" y="914400"/>
            <a:ext cx="59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600200"/>
            <a:ext cx="86104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If you want to keep the Title IV Program funds flowing--you must develop and implement a SEAMLESS Financial Aid Processing System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EFBB-F6C3-4483-B800-47AD0879E2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Program Integrity and Accountability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How to Evalua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valu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SA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nnual 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ogram Re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hort Defaul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ustomer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ate Stage Delin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812C-0BF9-46D7-9A15-9F22A3D10D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58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o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view entir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mmediat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ocumente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SA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685800"/>
            <a:ext cx="580716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FSA Assessments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http://ifap.ed.gov/IFAPWebApp/qualityassurance/Default.h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9523-2EE0-438F-A250-A5DBB751799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-1486080"/>
            <a:ext cx="7772400" cy="29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32480" y="10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762120"/>
            <a:ext cx="6581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FSA Assess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2286000"/>
            <a:ext cx="1123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36280" y="2378160"/>
            <a:ext cx="4455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Hard Copy/Electr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ltiple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utcome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ustomer foc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Hyper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7C06-8665-4652-B728-F338EA137E1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19640" y="533520"/>
            <a:ext cx="579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Requirements for 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Effective Aid Op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5680" y="2590920"/>
            <a:ext cx="582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ffective Commun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ffective Coord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ffective Coop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004-46A5-4ACC-9361-A7C01EA7909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819520" y="609480"/>
            <a:ext cx="660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Communic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243828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 shared Institut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sponsibility for effecti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itle IV managemen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DEB-0BF8-4038-8F49-781AB34733D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14:15:08Z</dcterms:created>
  <dc:creator>Paul.Hill.Jr</dc:creator>
  <dc:description/>
  <dc:language>en-US</dc:language>
  <cp:lastModifiedBy>jennifer.do</cp:lastModifiedBy>
  <dcterms:modified xsi:type="dcterms:W3CDTF">2003-12-08T20:39:23Z</dcterms:modified>
  <cp:revision>94</cp:revision>
  <dc:subject/>
  <dc:title>PowerPoint Presentation</dc:title>
</cp:coreProperties>
</file>