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A8B-0EF5-482A-A450-5BD2BEC7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A68-225E-4BB3-9BA5-A0BC9341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3BD-070E-42F0-A15A-F039CC68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572-3B1B-4986-93A4-4173A3FB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0FC-BCA3-4BB3-8FFF-3191ACC0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B2C-6ED3-41C5-819F-8A80FB02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08A-220F-455B-B933-D79BBA88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21C-D144-4611-8198-898DB9F9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421-F713-4236-A12A-F2D7C3B9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D0F-94B3-4F26-99A7-E3CD57C4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304-C356-4082-AF05-A165A254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142-131B-4953-BC81-4D4ACEB0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A451-F697-41B6-A60A-E098A5588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Arial"/>
              </a:rPr>
              <a:t>Keep the Money Flowing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Victoria Edwa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arence M. Hi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066680"/>
            <a:ext cx="304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61D-8377-4189-AB8B-E8F7865FD78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7760" y="91404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Coordination</a:t>
            </a:r>
            <a:br>
              <a:rPr sz="4800"/>
            </a:br>
            <a:br>
              <a:rPr sz="4400"/>
            </a:b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eam building for all staff involved in the delivery of Title IV program funding on the camp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C77-0E4D-4DE9-995C-77441F6E7B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udent Financial Aid Commit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gularly scheduled meetings for staff involved in the delivery of the Title IV progr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685800"/>
            <a:ext cx="433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Coope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9DA-0BCA-453F-A48B-A466AF92117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40800" y="762120"/>
            <a:ext cx="57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Questions your 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ay ask you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2286000"/>
            <a:ext cx="32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20400" y="2514600"/>
            <a:ext cx="7428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ritten Procedu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aff Ski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oduction Schedu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dequate Hardware &amp; Softwa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o you have a FSA checklist?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94B-B588-4E60-AC14-521C01C9901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s continued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86000"/>
            <a:ext cx="7162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oes your account bala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s there a timely submission of all reports to 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s there a timely award notification process for FSA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o you have an annual written management pl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2E7-57FC-4335-A63C-DED25CC24A2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Training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ate Conference 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minar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tinuing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BCU Summer Worksho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ASFA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BFB-01B4-46FF-B775-EB205F7A4C4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echnical Assistanc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SA will work with you in a proactive approach to evaluate your FSA program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utside evaluators will look at your operation with an objectiv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745-5727-4757-89BB-2119FC5FC92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25909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Is your institution positioning itself to participate in the impending FSA electronic system or is your institution still operating in a paper mo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CE6-C4F6-4F53-8913-D5B489D6EC3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28951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arence M. Hick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02 377 4381 Phone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02 275 3479 Fax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arence.hicks@ed.gov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A62-E24E-499D-9435-71C8FC5EEEB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90920" y="38088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Thank you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896200">
            <a:off x="533160" y="2437920"/>
            <a:ext cx="40129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3813120" cy="398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A98-B057-4509-A071-F41DA41E691A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How much money?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33C-1F42-4CF3-9ACF-23E0F615ED8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7400" y="30492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lbertus Extra Bold"/>
              </a:rPr>
              <a:t>HBCUs TITLE IV FU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880" y="1600200"/>
          <a:ext cx="84582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458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85800" y="6095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TOTAL TITLE IV FUNDING  $1,601,024,548.00 Fiscal Yea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F4A-F431-475C-A5CD-7AC10DE28AA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0" y="91440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600200"/>
            <a:ext cx="86104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If you want to keep the Title IV Program funds flowing--you must develop and implement a SEAMLESS Financial Aid Processing System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76A-F85A-431B-B5F5-760BBDF2C46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Program Integrity and Accountability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ow to Evalu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valu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SA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nual 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gram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hort Defaul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ustomer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ate Stage Delin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F1A-6063-49A0-A1AB-84BAAC9F2E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58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view entir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mmediat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ocumente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SA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685800"/>
            <a:ext cx="58071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FSA Assessments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http://ifap.ed.gov/IFAPWebApp/qualityassurance/Default.h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B5E-6E51-493E-A716-ADDDB9380D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-1486080"/>
            <a:ext cx="7772400" cy="29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32480" y="10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762120"/>
            <a:ext cx="6581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FSA Assess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286000"/>
            <a:ext cx="112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36280" y="2378160"/>
            <a:ext cx="4455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ard Copy/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ple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utcome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ustomer foc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yper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050-65F6-4B2B-B20D-F1B33ED2C7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19640" y="533520"/>
            <a:ext cx="579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Requirements for 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ffective Aid Op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5680" y="2590920"/>
            <a:ext cx="582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ffective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ffective Coord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ffective Coop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148-A57E-41D6-802F-1CDADE26168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819520" y="609480"/>
            <a:ext cx="660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Communi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243828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shared Institu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ponsibility for effecti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itle IV managemen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349-90FA-4DF4-91C7-2DA2389D29C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20:39:23Z</dcterms:modified>
  <cp:revision>94</cp:revision>
  <dc:subject/>
  <dc:title>PowerPoint Presentation</dc:title>
</cp:coreProperties>
</file>