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D82-670F-440D-A22F-31FF5BE1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404-AF87-40C0-B056-BB8AC77A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7FD-53BF-445A-95B9-ACD08675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CED-9D41-45F1-874B-FB98982D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519-DA46-45AF-912F-22E22CC3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543-57A9-4809-BC07-1E2AAB7A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684-A3EC-4F2F-B94D-A0B76391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71F-72F8-4FDF-9845-A9C9ECBC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D72-171A-4859-A227-E1E4AF2D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6C7-9292-423F-86AB-1A2ADED1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37A-E4DE-43CF-A5CA-D0BB71AF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C01-F473-4429-8445-49A6B5D5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31B8-0F66-4D74-8654-9C974F104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Web Services and </a:t>
            </a:r>
            <a:br>
              <a:rPr sz="4400"/>
            </a:b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E-Authenticatio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e Marsh,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ie Miller, RIHE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6DA-01CD-4893-AB7C-758EA8EEC8B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lanning an Implementa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anning your own Web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 detailed understanding of the potential risks (viruses, hackers, natural disast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proactive analysis of the consequences and countermeasures in relation to ri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 implementation strategy for integrating security measures into your enterpris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AE4-033F-4F49-BF14-1C9D10236F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5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Provide a flexible, easy to implement authentication system that meets the needs of your organization and your cl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Ensure compliance with the Gramm-Leach-Bliley Act (GLBA), federal guidelines, and applicable state privacy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-Authentication Objectiv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88C-686E-485A-8ADB-53625F0F5C08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Assure data owners that only appropriately authenticated end users have access to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Ensure compliance to internal security and privacy guide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-Authentication Objectiv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6C8-DC4A-453F-8DEC-5C30A8A879F4}" type="slidenum">
              <a:t>12</a:t>
            </a:fld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-Authentica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4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with Shibboleth - Shibboleth, a project of Internet2/Mace, is developing architectures, policy structures, practical technologies, and an open source implementation to support inter-institutional sharing of web resources subject to access controls. In addition, Shibboleth will develop a policy framework that will allow inter-operation within the higher education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bboleth project participants include Brown University, Ohio State, Penn State and many other colleges and univer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541-8350-484E-ADCD-84AF82DD6CF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User must be required to provide an ID and a shared secr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Assignment and delivery of shared secret must be sec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Assignment of shared secret is based on validated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Reasonable assurances that the storage of the IDs shared secrets are sec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equirements for Secure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-Authentica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709-75A7-4466-9255-99C0B0D48F9B}" type="slidenum">
              <a:t>14</a:t>
            </a:fld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valuating E-Authentication Polici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ntral authority must exist for evaluating network participants E-Authenti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must ensure appropriate authentication for each end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must provide authentication policy to centr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must provide central authority with 30 day advance notice of changes to authenticatio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D54-B468-46DE-9201-9E90EE707B31}" type="slidenum">
              <a:t>15</a:t>
            </a:fld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valuating E-Authentication Polici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must agree to appropriate use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ccepted, participant is added to a Central Registry of all valid network particip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quirements may be defined in current or future State or Federal Legis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quirements may be imposed by Central Auth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277-8D49-4134-B168-70DFE80EB662}" type="slidenum">
              <a:t>16</a:t>
            </a:fld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End user authenticates at membe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Member creates authentication assertion (SA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Member signs authentication assertion with digital certificate (XML Signa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Control is passed to partne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ecure E-Authentication Proces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394-05DC-4959-BC52-A44F01053FCF}" type="slidenum">
              <a:t>17</a:t>
            </a:fld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Partner site verifies assertion using the member’s public key stored in the reg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End user is provided access to appropriate web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-Authentication Proces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9BE-5940-4A6E-8D91-475EC42CA14F}" type="slidenum">
              <a:t>18</a:t>
            </a:fld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87624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at is Meteor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universal access channel for financial ai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d information to assist the FAP with counseling borrowers and with the aid process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ift to schools and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8D8-98BE-49EF-BC68-14FC6954E8B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eb Servic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pplications that use programmatic interfaces for application to application communications.  Data is usually collected from multiple servers and presented in a comprehensive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efinitions include these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 Markup Language (X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Object Access Protocol (SO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 Description Language (WS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Description Discovery Interface (UD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FE2-B1E7-49C4-ACF3-0D07E7ED67A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523880"/>
            <a:ext cx="868680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5829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Meteor Proces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202280" y="2514600"/>
            <a:ext cx="105408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6240" y="2286000"/>
            <a:ext cx="976320" cy="1066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781400" y="32767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467480" y="3733920"/>
            <a:ext cx="1067040" cy="85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96080" y="4495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175248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ccess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1752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ata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42900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Aid Professional/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43800" y="502920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40640" y="56894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952880"/>
            <a:ext cx="218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dex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189320" y="4267080"/>
          <a:ext cx="101772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89320" y="4267080"/>
                    <a:ext cx="10177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64832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276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257800" y="2895480"/>
            <a:ext cx="2362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257800" y="335232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105160" y="3429000"/>
            <a:ext cx="251460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915840" y="2438280"/>
            <a:ext cx="1159200" cy="9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359-1F0A-449E-A99E-0C624D08F2C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How does Meteor Wor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 uses the concept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roviders,  Data Provid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dex Provi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e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rov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inquirers to obtain information through its web site by hosting a copy of the Meteor software, which generates the request to the Data Providers for the borrower’s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roviders can be Schools, Guarantors, Lenders, Servicers, or Secondary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368-02AB-4793-8143-99AF5A11A50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Current Access Provider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S/PHE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c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E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S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D2B-29B6-4A9D-B3DD-3448E50925E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87624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How does Meteor Wor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e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Prov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sts a copy of the Meteor software that enables them to respond to the Access Provider’s request for information, supplying data from thei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Providers are typically Lenders, Servicers, Guarantors, and Secondary Marke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uture, the Dept. of ED, State Grant authorities, Schools, and others could become Data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BB4-DCB5-4AC3-8264-464304321BE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Current Data Provider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066680"/>
          <a:ext cx="7711920" cy="503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771192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82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S/PHE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kan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c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L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nois (Default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tu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14800" y="1599840"/>
            <a:ext cx="418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i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Dak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lah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lie M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BB9-0677-4B3D-A5FD-2E41310328C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1960" y="87624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How does Meteor Wor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e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 Prov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identify the location(s) of the requested student/borrower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Meteor Index Provider is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ational Student Clearingho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uture, other indices will be added based on the type of data to be incorporated into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38D-1581-4148-86ED-D806F789D93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Each participant will be required to register, sign a participation agreement, and submit policies and procedures surrounding their authentication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egistr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9F7-0B4E-4A92-9815-B8C03BE46B84}" type="slidenum">
              <a:t>26</a:t>
            </a:fld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egistr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 uses a centralized LDAP server to cont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keys of all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status information (active, pending, susp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F69-0C85-4B3B-BE3E-11565F67C9B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Role of end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Social Security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Authentication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Level of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Opaqu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dditional Assertion Attribut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EC2-7B26-422E-9B60-84C7F931023A}" type="slidenum">
              <a:t>28</a:t>
            </a:fld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uthentica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cess Provider uses their existing authentication model (single sign-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assurance assigned at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0 (Unique 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(Unique ID &amp; 1 piece of validated public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(Unique ID &amp; 2 pieces of validated public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(Unique/User ID &amp; shared secr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665-4963-4335-9C58-E8E07D878D5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eb Servic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web services for basic system integration and XML interfaces is relatively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concern today is on securing 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D07-F630-4EDB-8847-7B572EC5810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eteor Securit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ecurity in Meteor is through the use of  industry standar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ed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411-5F85-4BAF-B579-0B65794D390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ncryp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 does not use XML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cification was not available when we bega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to move to this as the technology m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all communication is over 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A0F-6DF5-4EE2-B1D7-6C905BECA49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eteor Security Require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apabilities must exist for secure web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ential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L Asser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ML Signatures and S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480-1A14-42F6-85AA-D2895B17BFB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Building Trust and Integrit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eor Advisory Team sought input and expertise regarding privacy and security from the sponsoring organizations and the NCHELP Legal Committ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was provided in relation to GLB and individual state privacy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revealed that Meteor complied with both GLB and known state privacy prov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1CD-1A69-40A1-8E7E-7E4F9F60E52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1508040"/>
            <a:ext cx="6629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eteor Screen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85F-AD1C-4885-A7D5-5BA46E5E2E5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1508040"/>
            <a:ext cx="6629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A Screen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90E-2A4C-476D-A041-6D4211C5650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152280" y="228600"/>
            <a:ext cx="8775720" cy="633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8A7-241A-45CF-A728-28981AF63AB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2500" r="0" b="0"/>
          <a:stretch/>
        </p:blipFill>
        <p:spPr>
          <a:xfrm>
            <a:off x="228600" y="228600"/>
            <a:ext cx="8775720" cy="641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915-883A-4850-B1A8-18DECCB9479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2500" r="0" b="0"/>
          <a:stretch/>
        </p:blipFill>
        <p:spPr>
          <a:xfrm>
            <a:off x="76320" y="227160"/>
            <a:ext cx="9067680" cy="66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6D2-05B1-4873-A694-5D6902998EF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2500" r="0" b="0"/>
          <a:stretch/>
        </p:blipFill>
        <p:spPr>
          <a:xfrm>
            <a:off x="76320" y="227160"/>
            <a:ext cx="9067680" cy="66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2C2-4728-4A3E-B197-D0B806431ED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ecurity Require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apabilities must exist for secure web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Credential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Message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Message 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351-1813-4BFD-B399-4B6857130B6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2500" r="0" b="0"/>
          <a:stretch/>
        </p:blipFill>
        <p:spPr>
          <a:xfrm>
            <a:off x="76320" y="227160"/>
            <a:ext cx="9067680" cy="66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4FC-F82F-4DF5-92F7-072E9A5762C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2500" r="0" b="1250"/>
          <a:stretch/>
        </p:blipFill>
        <p:spPr>
          <a:xfrm>
            <a:off x="152280" y="380880"/>
            <a:ext cx="8775720" cy="633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28B-BDD3-4BB5-883B-9BD683367B3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5001" r="0" b="3751"/>
          <a:stretch/>
        </p:blipFill>
        <p:spPr>
          <a:xfrm>
            <a:off x="228600" y="380880"/>
            <a:ext cx="877572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C33-86D4-41AC-B498-137B72CF743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15002" r="0" b="3751"/>
          <a:stretch/>
        </p:blipFill>
        <p:spPr>
          <a:xfrm>
            <a:off x="228600" y="685800"/>
            <a:ext cx="8775720" cy="534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508-D7CE-4E2D-A13B-51BEB649EDA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5001" r="0" b="3751"/>
          <a:stretch/>
        </p:blipFill>
        <p:spPr>
          <a:xfrm>
            <a:off x="152280" y="457200"/>
            <a:ext cx="877572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192-2F20-4223-9C3C-37BAF2A7694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15002" r="0" b="3751"/>
          <a:stretch/>
        </p:blipFill>
        <p:spPr>
          <a:xfrm>
            <a:off x="152280" y="685800"/>
            <a:ext cx="8775720" cy="534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91B-BF14-48F0-A508-18E7AD0CC53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152280" y="304920"/>
            <a:ext cx="8775720" cy="63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579-61A2-4302-878C-8B6BFC56249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2500" r="0" b="0"/>
          <a:stretch/>
        </p:blipFill>
        <p:spPr>
          <a:xfrm>
            <a:off x="76320" y="227160"/>
            <a:ext cx="9067680" cy="66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EA3-B590-40B3-A46B-77A6329D38B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2500" r="0" b="0"/>
          <a:stretch/>
        </p:blipFill>
        <p:spPr>
          <a:xfrm>
            <a:off x="76320" y="227160"/>
            <a:ext cx="9067680" cy="66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EA4-E26F-470A-A895-E1D9062D7B3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8960" y="1508040"/>
            <a:ext cx="6629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/Borrower Screen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105-5566-4221-82C2-109766BA37B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OAP and Securit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 is simply a standard for sending messages over HTTP using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AP specification does not address security at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 contains no protocol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HTTP or HTT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just about any known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66F-F014-4627-A8E0-CD944B71B63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228600" y="304920"/>
            <a:ext cx="8775720" cy="63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505-72FE-431A-A4D1-DFB24133B6A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152280" y="228600"/>
            <a:ext cx="8775720" cy="6334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038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757-8373-4A70-86EB-71B63DE2BC5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152280" y="304920"/>
            <a:ext cx="877572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8E0-1B94-44B0-A892-A9F9975D2E8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228600" y="304920"/>
            <a:ext cx="8775720" cy="63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658-111C-4071-84F5-826FAC7661F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2500" r="0" b="1250"/>
          <a:stretch/>
        </p:blipFill>
        <p:spPr>
          <a:xfrm>
            <a:off x="228600" y="380880"/>
            <a:ext cx="8775720" cy="633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CCD-434E-41E7-804B-B52200042F6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368280" y="380880"/>
            <a:ext cx="8775720" cy="633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D39-25A0-4878-A301-073A774F1CA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5001" r="0" b="3751"/>
          <a:stretch/>
        </p:blipFill>
        <p:spPr>
          <a:xfrm>
            <a:off x="228600" y="457200"/>
            <a:ext cx="877572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8B8-21CE-40C5-B1A2-26BEC1F9342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228600" y="304920"/>
            <a:ext cx="8775720" cy="63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F48-9E1E-4729-80D3-6177209277B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2500" r="0" b="1250"/>
          <a:stretch/>
        </p:blipFill>
        <p:spPr>
          <a:xfrm>
            <a:off x="228600" y="304920"/>
            <a:ext cx="8775720" cy="63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D42-7926-4ED9-9345-8465EDA85ED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echnical Ass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be reach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ele Mar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ne:  717-720-27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:  amarsh@aessucces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ie M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ne:  401-736-11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:  cmiller@rihea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EB0-7C56-434C-B8E4-BD7F85784E5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ecurity Assertion Markup Language (SAML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L defines an XML framework for exchanging security information and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L communicates this information in the form of Asser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ions contain information about subjects (people or computers) which have an identity in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ions are issued by SAML authorities -  authentication authorities, attribute authorities, and policy decision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ADE-E25E-43DA-9BEC-23EF08543F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AML Assertion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authentication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ons should not usually contain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enc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attributes, should access be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8E3-8E00-4281-8754-1B8C4AC201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ypical Asser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r ID and issuance timesta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rtion 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 and security do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 under which the assertion is val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rtion validity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ence restr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 restrictions (intended URLs for the asser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specif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88C-3010-4897-A440-15CEAB5E61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uring SAML Assertions with XML Signatur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L assertion is signed by the entity that create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igned, all irrelevant white-space is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signed, the document may not be modified without invalidating the XML sign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7A8-9402-4985-B456-9EC099B9605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cp:lastPrinted>2003-10-07T14:56:02Z</cp:lastPrinted>
  <dcterms:modified xsi:type="dcterms:W3CDTF">2003-12-08T20:23:10Z</dcterms:modified>
  <cp:revision>85</cp:revision>
  <dc:subject/>
  <dc:title>PowerPoint Presentation</dc:title>
</cp:coreProperties>
</file>