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B02-BB1D-464C-BADE-DD853CB9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5EB-4A3F-44D8-9D87-9276C51B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3FE-F1D4-4B26-8468-CD1C1EAA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A4A-2318-412D-94E6-6AFC6DA7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58B-1CBE-4A31-880F-E5E96589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595-8697-4388-81C1-D460694A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2F2-C4A0-4D95-8F0D-E3F72B0F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4BD-E66A-4B0B-9EC2-5073CBA1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0BE-BFE0-42E6-BDA7-CE58EB54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B22-235E-4B12-8AFE-A8C62D1F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420-C441-4EF4-9D4F-B7E7B82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FB3-2D35-4E51-9311-D74A7913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9581-DD22-4435-A81A-BDB26D09A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Web Services and </a:t>
            </a:r>
            <a:br>
              <a:rPr sz="4400"/>
            </a:b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E-Authenticatio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e Marsh,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ie Miller, RIHE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845-1FC7-468A-8A5F-03F6320D57C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lanning an Implement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nning your own Web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 detailed understanding of the potential risks (viruses, hackers, natural disast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proactive analysis of the consequences and countermeasures in relation to ri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 implementation strategy for integrating security measures into your enterpris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21F-F8A8-4A23-9882-C6D218F502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Provide a flexible, easy to implement authentication system that meets the needs of your organization and your cl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Ensure compliance with the Gramm-Leach-Bliley Act (GLBA), federal guidelines, and applicable state privacy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-Authentication Objectiv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745-11C2-48B5-B866-80D4F401F25D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Assure data owners that only appropriately authenticated end users have access to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Ensure compliance to internal security and privacy guide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-Authentication Objectiv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AA8-CD0E-4098-ACA7-09597B03784D}" type="slidenum">
              <a:t>12</a:t>
            </a:fld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-Authentic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4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with Shibboleth - Shibboleth, a project of Internet2/Mace, is developing architectures, policy structures, practical technologies, and an open source implementation to support inter-institutional sharing of web resources subject to access controls. In addition, Shibboleth will develop a policy framework that will allow inter-operation within the higher education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bboleth project participants include Brown University, Ohio State, Penn State and many other colleges and univer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8AD-360D-43EA-A43C-E0D39725B15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User must be required to provide an ID and a shared secr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Assignment and delivery of shared secret must be sec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Assignment of shared secret is based on validate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Reasonable assurances that the storage of the IDs shared secrets are sec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equirements for Secure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-Authentic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A66-AA6E-4E11-B7B6-C43930169280}" type="slidenum">
              <a:t>14</a:t>
            </a:fld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valuating E-Authentication Polici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ntral authority must exist for evaluating network participants E-Authentica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must ensure appropriate authentication for each end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must provide authentication policy to centr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must provide central authority with 30 day advance notice of changes to authenticatio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776-4C2C-414A-8254-8DFE87C4478C}" type="slidenum">
              <a:t>15</a:t>
            </a:fld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valuating E-Authentication Polici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must agree to appropriate us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ccepted, participant is added to a Central Registry of all valid network particip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quirements may be defined in current or future State or Federal Legis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quirements may be imposed by Central Auth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DFA-5AA8-4CA3-9121-7B0EFEEA8856}" type="slidenum">
              <a:t>16</a:t>
            </a:fld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End user authenticates at membe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Member creates authentication assertion (SA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Member signs authentication assertion with digital certificate (XML Signa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Control is passed to partne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ecure E-Authentication Proces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2D5-0AAE-4188-ACFE-116018F7ED56}" type="slidenum">
              <a:t>17</a:t>
            </a:fld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Partner site verifies assertion using the member’s public key stored in the reg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End user is provided access to appropriate web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-Authentication Proces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7E1-80E3-4BC3-A984-F628442E322C}" type="slidenum">
              <a:t>18</a:t>
            </a:fld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87624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at is Meteor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universal access channel for financial ai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d information to assist the FAP with counseling borrowers and with the aid process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ift to schools and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E5B-1A11-4F8B-BB0D-1BC130CC3E4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eb Servic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pplications that use programmatic interfaces for application to application communications.  Data is usually collected from multiple servers and presented in a comprehensive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efinitions include these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 Markup Language (X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bject Access Protocol (SO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 Description Language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Description Discovery Interface (UD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510-91F8-4240-A653-E8E5ADCF851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523880"/>
            <a:ext cx="868680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829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Meteor Proces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202280" y="2514600"/>
            <a:ext cx="105408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6240" y="2286000"/>
            <a:ext cx="976320" cy="1066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781400" y="32767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467480" y="3733920"/>
            <a:ext cx="1067040" cy="85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96080" y="4495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175248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ccess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1752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ata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42900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Aid Professional/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40640" y="568944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952880"/>
            <a:ext cx="218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dex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189320" y="4267080"/>
          <a:ext cx="101772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89320" y="4267080"/>
                    <a:ext cx="10177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6483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276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257800" y="2895480"/>
            <a:ext cx="2362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257800" y="335232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105160" y="3429000"/>
            <a:ext cx="251460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915840" y="2438280"/>
            <a:ext cx="1159200" cy="9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FB7-FBD0-4FBD-A4E1-389DEC5ED96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How does Meteor Wor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uses the concept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s,  Data Provid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dex Provi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e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inquirers to obtain information through its web site by hosting a copy of the Meteor software, which generates the request to the Data Providers for the borrower’s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providers can be Schools, Guarantors, Lenders, Servicers, or Secondary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00E-439D-4C89-B6A5-20CD57658B1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Current Access Provider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S/PHE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c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E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S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C3D-AB98-47F4-BCC0-DB17C25AEFA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87624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How does Meteor Wor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e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sts a copy of the Meteor software that enables them to respond to the Access Provider’s request for information, supplying data from thei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Providers are typically Lenders, Servicers, Guarantors, and Secondary Marke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uture, the Dept. of ED, State Grant authorities, Schools, and others could become Data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780-985F-424B-9594-8BD4BD62EB7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Current Data Provider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066680"/>
          <a:ext cx="7711920" cy="503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771192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82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S/PHE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kan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c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L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nois (Default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tu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14800" y="1599840"/>
            <a:ext cx="418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i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Dak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lah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lie M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768-0D64-4664-8ED6-A7AD8B1552B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87624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How does Meteor Wor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e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 Prov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identify the location(s) of the requested student/borrower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Meteor Index Provider is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ational Student Clearingho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uture, other indices will be added based on the type of data to be incorporated into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C9E-0D27-4457-BC8A-5AFE65355AC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Each participant will be required to register, sign a participation agreement, and submit policies and procedures surrounding their authentication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egist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C0C-9D83-4704-8302-FFD04D4EEE30}" type="slidenum">
              <a:t>26</a:t>
            </a:fld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egist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uses a centralized LDAP server to cont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keys of all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status information (active, pending, susp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A82-6245-4F95-BA05-2AE5B73A47F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Role of end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Social Security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Authentication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Level of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5050"/>
                </a:solidFill>
                <a:latin typeface="Arial"/>
              </a:rPr>
              <a:t>Opaqu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dditional Assertion Attribut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0C9-7DD8-44C4-ABDE-7347CB345CF5}" type="slidenum">
              <a:t>28</a:t>
            </a:fld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uthentic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cess Provider uses their existing authentication model (single sign-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assurance assigned at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0 (Unique 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(Unique ID &amp; 1 piece of validated public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(Unique ID &amp; 2 pieces of validated public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(Unique/User ID &amp; shared secr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15C-AEAC-48E1-87A9-45EA4DAF938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eb Servic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web services for basic system integration and XML interfaces is relatively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concern today is on securing 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652-0ACE-4BD7-9E0E-FE688B7EC34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eteor Securit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ecurity in Meteor is through the use of  industry standar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d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759-F2F6-46E0-867A-1F54D477E05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ncryp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 does not use XML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cification was not available when we bega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to move to this as the technology m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all communication is over S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937-9D18-40E2-ACF7-873BD7807CD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eteor Security Requir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pabilities must exist for secure web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ential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L Asser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ML Signatures and S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A06-D185-4547-8717-A847CEDC110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Building Trust and Integrit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eor Advisory Team sought input and expertise regarding privacy and security from the sponsoring organizations and the NCHELP Legal Committ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was provided in relation to GLB and individual state privacy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revealed that Meteor complied with both GLB and known state privacy prov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F55-F827-40B3-BDBD-58E33AC6407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1508040"/>
            <a:ext cx="6629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eteor Scree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AB9-AB72-4B75-A127-9896443BCF8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1508040"/>
            <a:ext cx="6629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Scree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D00-8A54-4E8E-A00D-2F3367319A3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152280" y="228600"/>
            <a:ext cx="8775720" cy="633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CEA-C0C3-4489-BAE0-899072EDB72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228600" y="228600"/>
            <a:ext cx="8775720" cy="641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5F2-F5A6-4064-A97C-EAEB7742ADB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76320" y="227160"/>
            <a:ext cx="9067680" cy="66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34D-B377-4320-A319-A89AAA9BFAF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76320" y="227160"/>
            <a:ext cx="9067680" cy="66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F70-A211-46DA-A2BC-2EC65A91107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ecurity Requir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pabilities must exist for secure web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Credential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essage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essage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571-0827-4FCA-A901-54407AEBE23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76320" y="227160"/>
            <a:ext cx="9067680" cy="66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7FD-6AFC-49C5-BF94-B18568B182C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2500" r="0" b="1250"/>
          <a:stretch/>
        </p:blipFill>
        <p:spPr>
          <a:xfrm>
            <a:off x="152280" y="380880"/>
            <a:ext cx="8775720" cy="633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C03-0086-4256-8450-7104398F096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5001" r="0" b="3751"/>
          <a:stretch/>
        </p:blipFill>
        <p:spPr>
          <a:xfrm>
            <a:off x="228600" y="380880"/>
            <a:ext cx="877572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1C0-8B09-42F6-9C6C-9B4445A108D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15002" r="0" b="3751"/>
          <a:stretch/>
        </p:blipFill>
        <p:spPr>
          <a:xfrm>
            <a:off x="228600" y="685800"/>
            <a:ext cx="8775720" cy="534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579-0DA0-4EEF-B2F8-F05E49F51DC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5001" r="0" b="3751"/>
          <a:stretch/>
        </p:blipFill>
        <p:spPr>
          <a:xfrm>
            <a:off x="152280" y="457200"/>
            <a:ext cx="877572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57D-43BA-4A62-B96F-578A92532F4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15002" r="0" b="3751"/>
          <a:stretch/>
        </p:blipFill>
        <p:spPr>
          <a:xfrm>
            <a:off x="152280" y="685800"/>
            <a:ext cx="8775720" cy="534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A69-A61F-4C19-AEAB-9C384A2C293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152280" y="304920"/>
            <a:ext cx="8775720" cy="63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680-82DC-4AB6-BFD9-6079023C03D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76320" y="227160"/>
            <a:ext cx="9067680" cy="66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885-8EFB-4B02-9C2F-1E1131E7072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2500" r="0" b="0"/>
          <a:stretch/>
        </p:blipFill>
        <p:spPr>
          <a:xfrm>
            <a:off x="76320" y="227160"/>
            <a:ext cx="9067680" cy="66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2CC-9275-4702-9FAF-ABDD30E867D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1508040"/>
            <a:ext cx="6629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/Borrower Scree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E96-7071-4598-947D-18F0E569FB7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OAP and Securit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 is simply a standard for sending messages over HTTP using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AP specification does not address security at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AP contains no protocol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HTTP or HTT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just about any known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09E-A52E-42FA-A60C-D106D0B0653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228600" y="304920"/>
            <a:ext cx="8775720" cy="63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4A2-E626-4CC9-831E-66434F8507F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152280" y="228600"/>
            <a:ext cx="8775720" cy="6334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038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F82-E4E9-400A-A601-A8B62009D14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152280" y="304920"/>
            <a:ext cx="877572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C7A-C23A-4955-8BDA-02A9875FE05D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228600" y="304920"/>
            <a:ext cx="8775720" cy="63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A1D-E38E-4C0F-ABD2-43FF89D9544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2500" r="0" b="1250"/>
          <a:stretch/>
        </p:blipFill>
        <p:spPr>
          <a:xfrm>
            <a:off x="228600" y="380880"/>
            <a:ext cx="8775720" cy="633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C23-02DF-4D5B-AF11-A549AEBB050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368280" y="380880"/>
            <a:ext cx="8775720" cy="633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635-D741-4609-BFE3-FA0269841D7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5001" r="0" b="3751"/>
          <a:stretch/>
        </p:blipFill>
        <p:spPr>
          <a:xfrm>
            <a:off x="228600" y="457200"/>
            <a:ext cx="877572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4CE-3BE1-49A1-AA82-093C2271FFE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3751" r="0" b="0"/>
          <a:stretch/>
        </p:blipFill>
        <p:spPr>
          <a:xfrm>
            <a:off x="228600" y="304920"/>
            <a:ext cx="8775720" cy="63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133-BACD-4C85-B2BC-49E4A08EBD2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2500" r="0" b="1250"/>
          <a:stretch/>
        </p:blipFill>
        <p:spPr>
          <a:xfrm>
            <a:off x="228600" y="304920"/>
            <a:ext cx="8775720" cy="63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93F-8AF4-4EC7-9DFF-5A48C9CC892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be reach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ele Mar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ne:  717-720-27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:  amarsh@aessucces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ie M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ne:  401-736-11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:  cmiller@rihea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4A8-5ADD-4567-AA83-FF6B50895D3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ecurity Assertion Markup Language (SAML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L defines an XML framework for exchanging security information and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L communicates this information in the form of Asse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ions contain information about subjects (people or computers) which have an identity in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ions are issued by SAML authorities -  authentication authorities, attribute authorities, and policy decision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539-0354-4E0A-B48B-C98A5733E5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AML Assertio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authentication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ons should not usually contain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enc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attributes, should access be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CA5-869C-4299-A439-2163896B245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ypical Asser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r ID and issuance timesta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rtion 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 and security do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 under which the assertion is val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rtion validity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ence restr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restrictions (intended URLs for the asser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specif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624-DEFF-437F-ADC9-DAFDF2B55E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uring SAML Assertions with XML Signatur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L assertion is signed by the entity that create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igned, all irrelevant white-space is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signed, the document may not be modified without invalidating the XML sign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1FE-1145-44F0-A8EC-00429F7AC31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cp:lastPrinted>2003-10-07T14:56:02Z</cp:lastPrinted>
  <dcterms:modified xsi:type="dcterms:W3CDTF">2003-12-08T20:23:10Z</dcterms:modified>
  <cp:revision>85</cp:revision>
  <dc:subject/>
  <dc:title>PowerPoint Presentation</dc:title>
</cp:coreProperties>
</file>