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910-9335-45C5-8A45-87A42D0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A05-BB51-4810-8070-5E8F81C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5BB-B051-4592-A391-BE860C61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0EA-D5B9-4247-BDF5-145BB215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8B1-B295-4280-96A4-9130FE40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C89-446B-453D-976F-6713622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C07-7F65-4B79-A7C0-B35016A5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EE7-9663-4333-BDC2-073F5A1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E38-757A-49CB-B873-0EE24D1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310-2417-4549-B6EE-AED73F9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D15-A62D-445E-9D13-93D9420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9A9-2D39-43BB-BC46-4114199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3F8-1BBB-48C7-AD2C-AE5592086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fap.ed.gov/IFAPWebApp/index.jsp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What’s New on IFAP and the School Portal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T” Benjamin McCla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The FSA Headlines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4A4-1AAE-432B-B2AC-8ECC2D9089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IFAP:  your on-line library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AP –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formation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ancial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fess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SA publications sinc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1B0-AD64-421F-92B7-40B04E80E9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FAP: the library</a:t>
            </a:r>
            <a:br>
              <a:rPr sz="4000"/>
            </a:br>
            <a:r>
              <a:rPr b="0" lang="en-US" sz="4000" spc="-1" strike="noStrike" u="sng">
                <a:solidFill>
                  <a:srgbClr val="0033cc"/>
                </a:solidFill>
                <a:uFillTx/>
                <a:latin typeface="Arial"/>
              </a:rPr>
              <a:t>http://ifap.ed.gov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ols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tters and Bulle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-lin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w &amp;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rksheets, Schedules, &amp;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B61-C463-4F5B-A42A-3058426EEF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New offerings on the IFAP website.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ttp://ifap.ed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additions to “Tools for Schoo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pdated Default Rate Materials for CY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SA Handbook for foreign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35D-BA6F-45B5-90B8-8458746D2B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ools for Schools on IFAP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 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ids to Promoting Feder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4801" r="41995" b="36805"/>
          <a:stretch/>
        </p:blipFill>
        <p:spPr>
          <a:xfrm>
            <a:off x="762120" y="1600200"/>
            <a:ext cx="571500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DDA-25F7-4972-A071-D10FBF4BE9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Letters &amp; Bulleti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4801" r="41995" b="4801"/>
          <a:stretch/>
        </p:blipFill>
        <p:spPr>
          <a:xfrm>
            <a:off x="2362320" y="1676520"/>
            <a:ext cx="563868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A8C-04BA-41A9-A24D-69AC8DEB65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21791" r="38280" b="17705"/>
          <a:stretch/>
        </p:blipFill>
        <p:spPr>
          <a:xfrm>
            <a:off x="228600" y="1676520"/>
            <a:ext cx="8686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1B1-C825-4BA4-848D-3D6F50B2B97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n-line Referenc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3495" t="4086" r="0" b="27239"/>
          <a:stretch/>
        </p:blipFill>
        <p:spPr>
          <a:xfrm>
            <a:off x="457200" y="1676520"/>
            <a:ext cx="8686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CF6-D7A2-4D13-8162-49385F9F39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Law &amp; Regulations –</a:t>
            </a:r>
            <a:br>
              <a:rPr sz="4000"/>
            </a:b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Worksheets, Schedules &amp; Tab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56464" t="58563" r="2871" b="4086"/>
          <a:stretch/>
        </p:blipFill>
        <p:spPr>
          <a:xfrm>
            <a:off x="685800" y="1676520"/>
            <a:ext cx="8077320" cy="43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C69-8FFA-4703-B2F7-BF020E7361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476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ther IFAP featur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 and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d Publications (3+ y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s by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Calendar, Headlines, Conferences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6810" r="85178" b="13619"/>
          <a:stretch/>
        </p:blipFill>
        <p:spPr>
          <a:xfrm>
            <a:off x="5410080" y="1447920"/>
            <a:ext cx="2895840" cy="4814640"/>
          </a:xfrm>
          <a:prstGeom prst="rect">
            <a:avLst/>
          </a:prstGeom>
          <a:ln w="0">
            <a:noFill/>
          </a:ln>
        </p:spPr>
      </p:pic>
      <p:pic>
        <p:nvPicPr>
          <p:cNvPr id="101" name="BD14565_" descr=""/>
          <p:cNvPicPr/>
          <p:nvPr/>
        </p:nvPicPr>
        <p:blipFill>
          <a:blip r:embed="rId2"/>
          <a:stretch/>
        </p:blipFill>
        <p:spPr>
          <a:xfrm>
            <a:off x="4267080" y="54291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8DA-2A8D-4EC5-86CF-2448DE53BD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o many websites…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ere do I start?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086" r="0" b="5448"/>
          <a:stretch/>
        </p:blipFill>
        <p:spPr>
          <a:xfrm>
            <a:off x="4362480" y="3336840"/>
            <a:ext cx="4781520" cy="3040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5486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724280"/>
            <a:ext cx="3800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 SCHOOLS PORTAL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91320" y="17524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Times New Roman"/>
              </a:rPr>
              <a:t>IF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B65-7BCB-4A68-9863-190EB3E8A33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2362320"/>
          <a:ext cx="914400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j0138627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430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j0358527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2057400" cy="126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04920"/>
            <a:ext cx="68580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e6247"/>
                </a:solidFill>
                <a:latin typeface="Book Antiqua"/>
              </a:rPr>
              <a:t>IFAP email subscrip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e6247"/>
                </a:solidFill>
                <a:latin typeface="Arial"/>
              </a:rPr>
              <a:t>311%</a:t>
            </a:r>
            <a:r>
              <a:rPr b="1" i="1" lang="en-US" sz="2800" spc="-1" strike="noStrike">
                <a:solidFill>
                  <a:srgbClr val="808080"/>
                </a:solidFill>
                <a:latin typeface="Arial"/>
              </a:rPr>
              <a:t> Increase In Subscribers from August 2001 – Septembe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B15-9916-4DB5-A48C-02901DA0AC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Other Links pag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6000"/>
          </a:blip>
          <a:srcRect l="0" t="6810" r="33495" b="6810"/>
          <a:stretch/>
        </p:blipFill>
        <p:spPr>
          <a:xfrm>
            <a:off x="228600" y="1600200"/>
            <a:ext cx="8663040" cy="4648320"/>
          </a:xfrm>
          <a:prstGeom prst="rect">
            <a:avLst/>
          </a:prstGeom>
          <a:ln w="0">
            <a:noFill/>
          </a:ln>
        </p:spPr>
      </p:pic>
      <p:pic>
        <p:nvPicPr>
          <p:cNvPr id="110" name="BD14565_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FA9-FC0B-4D79-B64E-8755C2B84E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Enhancements to our sit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with the financial aid community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financial ai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our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ontinue giving us your feed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3809880"/>
          <a:ext cx="31719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3171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BD05584_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30463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B7B-2E8D-423F-A1B6-A4227F06C00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urnish the means of acquiring knowledge is … the greatest benefit that can be conferred upon mankind.  It prolongs life itself and enlarges the sphere of exist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e by President John Quincy Adams, 184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034-45EF-4691-A37B-98CCD49FC2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948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r economic wealth, our national security, our rich culture, and our immense technological abilities are the product of our educational enterprise.  Our educational endeavor will define our future…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MARKS BY U.S. SECRETARY OF EDUCATION ROD PAIGE,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E5A-174E-453F-950C-16DF8BE5BB8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The Customer Service Call Center (CSCC)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one: 1-800-433-7327  (toll fr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x:  202-275-55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ail: fsa.customer.support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, via our FEEDBACK page on our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FAP at http://ifap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chools Portal at http://fsa4schools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83A-5550-4C0A-A3E6-6058D7F35E8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bb9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4F6-87BB-4679-9387-A8E2673E2AB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828800"/>
          <a:ext cx="845820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4582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077320" y="4419720"/>
            <a:ext cx="609480" cy="53316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553080" y="2438280"/>
            <a:ext cx="0" cy="152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Schools Portal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 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ART HERE!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ttp://fsa4schools.ed.gov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sy access to ALL FSA 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stomize home page through MY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SA Calendar (events, training, deadl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SA Headlines (FSA News or Policy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F38-18F1-40B1-A673-9D4156B3AFC4}" type="slidenum">
              <a:t>4</a:t>
            </a:fld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99"/>
                </a:solidFill>
                <a:latin typeface="Arial"/>
              </a:rPr>
              <a:t>Easy Access to All FSA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523880"/>
            <a:ext cx="4572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tes grouped into three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ources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A Access to Stude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icipation and F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4801" r="77991" b="0"/>
          <a:stretch/>
        </p:blipFill>
        <p:spPr>
          <a:xfrm>
            <a:off x="5486400" y="1371600"/>
            <a:ext cx="28195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CD4-8B40-4183-80EF-D569E0B18805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Additions to the School Portal websit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stserves/Mailing Lists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ublications Ordering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chool/Lender /Program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raining website (TP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D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perimental Sites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D14565_" descr=""/>
          <p:cNvPicPr/>
          <p:nvPr/>
        </p:nvPicPr>
        <p:blipFill>
          <a:blip r:embed="rId1"/>
          <a:stretch/>
        </p:blipFill>
        <p:spPr>
          <a:xfrm>
            <a:off x="6781680" y="57150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040-3C4E-4BEC-B7E6-D42EB97677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Customize Your FSA</a:t>
            </a:r>
            <a:br>
              <a:rPr sz="3600"/>
            </a:b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(homepage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lter” the FSA Links to display only the sites you visit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d your personal “bookmarks” to your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your FSA your browser’s HOME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BD14565_" descr=""/>
          <p:cNvPicPr/>
          <p:nvPr/>
        </p:nvPicPr>
        <p:blipFill>
          <a:blip r:embed="rId1"/>
          <a:stretch/>
        </p:blipFill>
        <p:spPr>
          <a:xfrm>
            <a:off x="7772400" y="8380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401" r="74392" b="0"/>
          <a:stretch/>
        </p:blipFill>
        <p:spPr>
          <a:xfrm>
            <a:off x="5181480" y="1752480"/>
            <a:ext cx="27162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B99-B1C9-41BD-BCBD-9F30D02146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The FSA Calendar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9" name="BD14565_" descr=""/>
          <p:cNvPicPr/>
          <p:nvPr/>
        </p:nvPicPr>
        <p:blipFill>
          <a:blip r:embed="rId1"/>
          <a:stretch/>
        </p:blipFill>
        <p:spPr>
          <a:xfrm>
            <a:off x="6553080" y="48769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spacer" descr=" "/>
          <p:cNvPicPr/>
          <p:nvPr/>
        </p:nvPicPr>
        <p:blipFill>
          <a:blip r:embed="rId2"/>
          <a:stretch/>
        </p:blipFill>
        <p:spPr>
          <a:xfrm>
            <a:off x="-328680" y="2236680"/>
            <a:ext cx="11160" cy="68400"/>
          </a:xfrm>
          <a:prstGeom prst="rect">
            <a:avLst/>
          </a:prstGeom>
          <a:ln w="0">
            <a:noFill/>
          </a:ln>
        </p:spPr>
      </p:pic>
      <p:pic>
        <p:nvPicPr>
          <p:cNvPr id="71" name="nextbt" descr="Next Month"/>
          <p:cNvPicPr/>
          <p:nvPr/>
        </p:nvPicPr>
        <p:blipFill>
          <a:blip r:embed="rId3"/>
          <a:stretch/>
        </p:blipFill>
        <p:spPr>
          <a:xfrm>
            <a:off x="9326520" y="2693880"/>
            <a:ext cx="285840" cy="149400"/>
          </a:xfrm>
          <a:prstGeom prst="rect">
            <a:avLst/>
          </a:prstGeom>
          <a:ln w="0">
            <a:noFill/>
          </a:ln>
        </p:spPr>
      </p:pic>
      <p:pic>
        <p:nvPicPr>
          <p:cNvPr id="72" name="bullet" descr=""/>
          <p:cNvPicPr/>
          <p:nvPr/>
        </p:nvPicPr>
        <p:blipFill>
          <a:blip r:embed="rId4"/>
          <a:stretch/>
        </p:blipFill>
        <p:spPr>
          <a:xfrm>
            <a:off x="-376200" y="4484520"/>
            <a:ext cx="34920" cy="3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828800" y="144792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156-841F-429A-A5CD-28559FBD590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05B8-E6B3-49AA-8AAC-12D91E4E0022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70200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0200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486400" y="3886200"/>
            <a:ext cx="2209680" cy="52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540% increase from May to Septemb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0153632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152388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01:21Z</dcterms:modified>
  <cp:revision>144</cp:revision>
  <dc:subject/>
  <dc:title>PowerPoint Presentation</dc:title>
</cp:coreProperties>
</file>