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.wmf" ContentType="image/x-wmf"/>
  <Override PartName="/ppt/media/image2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558-25D1-45C1-8A2E-9B8CDA1C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6F60-99E5-4FA2-9713-83B0C18D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360-018D-4C04-BB4D-B9407AC5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6F3-B34B-4B5D-B5A9-7EE96B21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BF2-FD58-4CDE-A712-D0C4CCD0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653-6689-4B24-9894-ED9347F7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FDC-DDBF-4454-AE67-E919B374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CAB-E522-4B98-BE17-065034C3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88C-2F43-4E3D-84DE-38883B5C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D43-6ACA-4317-957B-EEC928B2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948-5DAB-4478-A920-2D09B818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EFC-67EC-4CAF-BC23-6FE66CF5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%20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A021-F982-494C-9C8C-4A1158A51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fap.ed.gov/IFAPWebApp/index.jsp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What’s New on IFAP and the School Portal?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T” Benjamin McClai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066680"/>
            <a:ext cx="3047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ession 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The FSA Headlines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609588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26E-365F-4867-82F7-909E764843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IFAP:  your on-line library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AP –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formation for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ancial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fessio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SA publications since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8A14-B75E-4C39-8F4E-953F3674D88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FAP: the library</a:t>
            </a:r>
            <a:br>
              <a:rPr sz="4000"/>
            </a:br>
            <a:r>
              <a:rPr b="0" lang="en-US" sz="4000" spc="-1" strike="noStrike" u="sng">
                <a:solidFill>
                  <a:srgbClr val="0033cc"/>
                </a:solidFill>
                <a:uFillTx/>
                <a:latin typeface="Arial"/>
              </a:rPr>
              <a:t>http://ifap.ed.gov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ols fo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tters and Bullet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n-lin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w &amp;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orksheets, Schedules, &amp;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C469-E216-489D-A0C9-24647C1A0C2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360" y="30456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New offerings on the IFAP website.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ttp://ifap.ed.g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additions to “Tools for School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pdated Default Rate Materials for CY 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SA Handbook for foreign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F3D1-6166-4C64-870C-3E18E7C6BC7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ools for Schools on IFAP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4193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uter 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SA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IR Analysis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ids to Promoting Feder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4801" r="41995" b="36805"/>
          <a:stretch/>
        </p:blipFill>
        <p:spPr>
          <a:xfrm>
            <a:off x="762120" y="1600200"/>
            <a:ext cx="571500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F46-E97D-4522-AA68-AAA1EF0F187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Letters &amp; Bulletin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4801" r="41995" b="4801"/>
          <a:stretch/>
        </p:blipFill>
        <p:spPr>
          <a:xfrm>
            <a:off x="2362320" y="1676520"/>
            <a:ext cx="5638680" cy="39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7FB-78A4-47B4-BF18-F3DDCC55BA5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3720" y="45720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Publication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21791" r="38280" b="17705"/>
          <a:stretch/>
        </p:blipFill>
        <p:spPr>
          <a:xfrm>
            <a:off x="228600" y="1676520"/>
            <a:ext cx="868680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973-3896-4190-AEC6-78147026781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On-line Referenc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33495" t="4086" r="0" b="27239"/>
          <a:stretch/>
        </p:blipFill>
        <p:spPr>
          <a:xfrm>
            <a:off x="457200" y="1676520"/>
            <a:ext cx="868680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2DD-8403-44AF-B4FE-729DFAD24F3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Law &amp; Regulations –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Worksheets, Schedules &amp; Tab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56464" t="58563" r="2871" b="4086"/>
          <a:stretch/>
        </p:blipFill>
        <p:spPr>
          <a:xfrm>
            <a:off x="685800" y="1676520"/>
            <a:ext cx="8077320" cy="436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43D2-11FF-4479-AE82-5D770DABEB2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6476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Other IFAP featur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word and Advanced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d Publications (3+ y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s by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l Calendar, Headlines, Conferences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6810" r="85178" b="13619"/>
          <a:stretch/>
        </p:blipFill>
        <p:spPr>
          <a:xfrm>
            <a:off x="5410080" y="1447920"/>
            <a:ext cx="2895840" cy="4814640"/>
          </a:xfrm>
          <a:prstGeom prst="rect">
            <a:avLst/>
          </a:prstGeom>
          <a:ln w="0">
            <a:noFill/>
          </a:ln>
        </p:spPr>
      </p:pic>
      <p:pic>
        <p:nvPicPr>
          <p:cNvPr id="101" name="BD14565_" descr=""/>
          <p:cNvPicPr/>
          <p:nvPr/>
        </p:nvPicPr>
        <p:blipFill>
          <a:blip r:embed="rId2"/>
          <a:stretch/>
        </p:blipFill>
        <p:spPr>
          <a:xfrm>
            <a:off x="4267080" y="542916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B25-0949-460B-AD36-0B6D0764027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o many websites…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here do I start?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4086" r="0" b="5448"/>
          <a:stretch/>
        </p:blipFill>
        <p:spPr>
          <a:xfrm>
            <a:off x="4362480" y="3336840"/>
            <a:ext cx="4781520" cy="3040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54864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4724280"/>
            <a:ext cx="3800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 SCHOOLS PORTAL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791320" y="1752480"/>
            <a:ext cx="25905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Times New Roman"/>
              </a:rPr>
              <a:t>IFA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09B-AECA-4B23-92B3-4EC4F1A60D1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2362320"/>
          <a:ext cx="9144000" cy="36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2320"/>
                    <a:ext cx="914400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j0138627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164304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j0358527" descr=""/>
          <p:cNvPicPr/>
          <p:nvPr/>
        </p:nvPicPr>
        <p:blipFill>
          <a:blip r:embed="rId4"/>
          <a:stretch/>
        </p:blipFill>
        <p:spPr>
          <a:xfrm>
            <a:off x="533520" y="2590920"/>
            <a:ext cx="2057400" cy="1265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5780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304920"/>
            <a:ext cx="685800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e6247"/>
                </a:solidFill>
                <a:latin typeface="Book Antiqua"/>
              </a:rPr>
              <a:t>IFAP email subscrip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e6247"/>
                </a:solidFill>
                <a:latin typeface="Arial"/>
              </a:rPr>
              <a:t>311%</a:t>
            </a: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Increase In Subscribers from August 2001 – September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C10-7B01-4A1C-920F-E8907D28124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7760" y="30492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Other Links pag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contrast="6000"/>
          </a:blip>
          <a:srcRect l="0" t="6810" r="33495" b="6810"/>
          <a:stretch/>
        </p:blipFill>
        <p:spPr>
          <a:xfrm>
            <a:off x="228600" y="1600200"/>
            <a:ext cx="8663040" cy="4648320"/>
          </a:xfrm>
          <a:prstGeom prst="rect">
            <a:avLst/>
          </a:prstGeom>
          <a:ln w="0">
            <a:noFill/>
          </a:ln>
        </p:spPr>
      </p:pic>
      <p:pic>
        <p:nvPicPr>
          <p:cNvPr id="110" name="BD14565_" descr=""/>
          <p:cNvPicPr/>
          <p:nvPr/>
        </p:nvPicPr>
        <p:blipFill>
          <a:blip r:embed="rId2"/>
          <a:stretch/>
        </p:blipFill>
        <p:spPr>
          <a:xfrm>
            <a:off x="8305920" y="5943600"/>
            <a:ext cx="390240" cy="39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B52-7941-4683-9AC1-0AC2FBF90E3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1640" y="2282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Enhancements to our sit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with the financial aid community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financial ai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our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continue giving us your feedba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3809880"/>
          <a:ext cx="31719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9880"/>
                    <a:ext cx="31719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BD05584_" descr=""/>
          <p:cNvPicPr/>
          <p:nvPr/>
        </p:nvPicPr>
        <p:blipFill>
          <a:blip r:embed="rId3"/>
          <a:stretch/>
        </p:blipFill>
        <p:spPr>
          <a:xfrm>
            <a:off x="5257800" y="3733920"/>
            <a:ext cx="304632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4EE-93A9-45DD-8284-17D42051FD8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furnish the means of acquiring knowledge is … the greatest benefit that can be conferred upon mankind.  It prolongs life itself and enlarges the sphere of existen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ote by President John Quincy Adams, 184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BBD5-633F-446A-A994-C57836BB402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09480" y="15235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ur economic wealth, our national security, our rich culture, and our immense technological abilities are the product of our educational enterprise.  Our educational endeavor will define our future…”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MARKS BY U.S. SECRETARY OF EDUCATION ROD PAIGE, Octob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D3F-E56C-42D0-AD70-7851AA0A6DA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The Customer Service Call Center (CSCC) can be reac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hone: 1-800-433-7327  (toll f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ax:  202-275-55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ail: fsa.customer.support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r, via our FEEDBACK page on our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FAP at http://ifap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chools Portal at http://fsa4schools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32D-7CC3-4DD5-BDBA-04B8DB8764C8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bb9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B214-15BC-452A-AF30-FEBFEAC90B7E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828800"/>
          <a:ext cx="8458200" cy="45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845820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8077320" y="4419720"/>
            <a:ext cx="609480" cy="53316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553080" y="2438280"/>
            <a:ext cx="0" cy="1526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56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Schools Portal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: 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TART HERE!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ttp://fsa4schools.ed.gov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sy access to ALL FSA webs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ustomize home page through MY 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SA Calendar (events, training, deadli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SA Headlines (FSA News or Policy Chan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050-316B-411A-A9E6-9E3CF3ED4FF4}" type="slidenum">
              <a:t>4</a:t>
            </a:fld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09680" y="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99"/>
                </a:solidFill>
                <a:latin typeface="Arial"/>
              </a:rPr>
              <a:t>Easy Access to All FSA 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523880"/>
            <a:ext cx="4572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tes grouped into three catego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ources and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AA Access to Stud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ticipation and Fu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4801" r="77991" b="0"/>
          <a:stretch/>
        </p:blipFill>
        <p:spPr>
          <a:xfrm>
            <a:off x="5486400" y="1371600"/>
            <a:ext cx="2819520" cy="49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87B-CCE5-47C3-8345-014357212B91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Additions to the School Portal website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istserves/Mailing Lists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ublications Ordering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chool/Lender /Program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Training website (TP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D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xperimental Sites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BD14565_" descr=""/>
          <p:cNvPicPr/>
          <p:nvPr/>
        </p:nvPicPr>
        <p:blipFill>
          <a:blip r:embed="rId1"/>
          <a:stretch/>
        </p:blipFill>
        <p:spPr>
          <a:xfrm>
            <a:off x="6781680" y="5715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1B1-73F8-4EF0-B957-940AE5D7F0B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Customize Your FSA</a:t>
            </a:r>
            <a:br>
              <a:rPr sz="3600"/>
            </a:b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(homepage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lter” the FSA Links to display only the sites you visit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dd your personal “bookmarks” to your 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your FSA your browser’s HOME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BD14565_" descr=""/>
          <p:cNvPicPr/>
          <p:nvPr/>
        </p:nvPicPr>
        <p:blipFill>
          <a:blip r:embed="rId1"/>
          <a:stretch/>
        </p:blipFill>
        <p:spPr>
          <a:xfrm>
            <a:off x="7772400" y="83808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6401" r="74392" b="0"/>
          <a:stretch/>
        </p:blipFill>
        <p:spPr>
          <a:xfrm>
            <a:off x="5181480" y="1752480"/>
            <a:ext cx="271620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8B0-7913-4BE7-ADE6-9038FA051B4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The FSA Calendar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9" name="BD14565_" descr=""/>
          <p:cNvPicPr/>
          <p:nvPr/>
        </p:nvPicPr>
        <p:blipFill>
          <a:blip r:embed="rId1"/>
          <a:stretch/>
        </p:blipFill>
        <p:spPr>
          <a:xfrm>
            <a:off x="6553080" y="4876920"/>
            <a:ext cx="85752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spacer" descr=" "/>
          <p:cNvPicPr/>
          <p:nvPr/>
        </p:nvPicPr>
        <p:blipFill>
          <a:blip r:embed="rId2"/>
          <a:stretch/>
        </p:blipFill>
        <p:spPr>
          <a:xfrm>
            <a:off x="-328680" y="2236680"/>
            <a:ext cx="11160" cy="68400"/>
          </a:xfrm>
          <a:prstGeom prst="rect">
            <a:avLst/>
          </a:prstGeom>
          <a:ln w="0">
            <a:noFill/>
          </a:ln>
        </p:spPr>
      </p:pic>
      <p:pic>
        <p:nvPicPr>
          <p:cNvPr id="71" name="nextbt" descr="Next Month"/>
          <p:cNvPicPr/>
          <p:nvPr/>
        </p:nvPicPr>
        <p:blipFill>
          <a:blip r:embed="rId3"/>
          <a:stretch/>
        </p:blipFill>
        <p:spPr>
          <a:xfrm>
            <a:off x="9326520" y="2693880"/>
            <a:ext cx="285840" cy="149400"/>
          </a:xfrm>
          <a:prstGeom prst="rect">
            <a:avLst/>
          </a:prstGeom>
          <a:ln w="0">
            <a:noFill/>
          </a:ln>
        </p:spPr>
      </p:pic>
      <p:pic>
        <p:nvPicPr>
          <p:cNvPr id="72" name="bullet" descr=""/>
          <p:cNvPicPr/>
          <p:nvPr/>
        </p:nvPicPr>
        <p:blipFill>
          <a:blip r:embed="rId4"/>
          <a:stretch/>
        </p:blipFill>
        <p:spPr>
          <a:xfrm>
            <a:off x="-376200" y="4484520"/>
            <a:ext cx="34920" cy="34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1828800" y="1447920"/>
            <a:ext cx="7315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7F9-45D0-4F0F-8B24-81176236A18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8001-CB87-4A15-A9D2-521070F66835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702000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0200"/>
                    <a:ext cx="702000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486400" y="3886200"/>
            <a:ext cx="2209680" cy="52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540% increase from May to September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j0153632" descr=""/>
          <p:cNvPicPr/>
          <p:nvPr/>
        </p:nvPicPr>
        <p:blipFill>
          <a:blip r:embed="rId3"/>
          <a:stretch/>
        </p:blipFill>
        <p:spPr>
          <a:xfrm>
            <a:off x="3962520" y="457200"/>
            <a:ext cx="1523880" cy="1224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dcterms:modified xsi:type="dcterms:W3CDTF">2003-12-08T20:01:21Z</dcterms:modified>
  <cp:revision>144</cp:revision>
  <dc:subject/>
  <dc:title>PowerPoint Presentation</dc:title>
</cp:coreProperties>
</file>