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738-D443-47F3-846C-335BE7A3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B3F-479E-4FBB-B3FC-BE7DD10B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871-7916-41D8-889D-56ADE932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695-021B-446B-A1D8-0A1F7503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34D-8CD0-4BE6-ACE8-9AEC1880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EAB-9E12-41F3-8B39-5A8DCEB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2B8-E603-483A-BC59-C03629B6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43C-568D-49A0-BF3D-85BBBC5B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CB7-A591-4E34-B514-48326662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F57-DCF5-488A-BDCC-24F9142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505-9368-4C17-909E-A8FC6ED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071-06D5-4BED-88E0-A8E2E692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26 - </a:t>
            </a:r>
            <a:fld id="{E2DED6A3-5A11-4D6C-9351-E8158C68B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2004-2005 Institutional Student Information Record (ISIR) Updat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 Mondr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i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5C4-D0FD-4873-9426-D82940A2A2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 co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year edits added to detect possible inconsistencies across application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change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’ Number of Family Members or Number in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tudent’s Number of Family Members or Number in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’ Total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’ Taxes 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4D3-B12D-4F7A-8600-2CA76E16AE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 co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for exceeding or approaching aggregate loan limits modified to use flags set by N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icate paper applications no longer processed; letter sent to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71C-0BAE-424A-8D3E-D6EB03878E9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ISIR record layout available on IFAP (http://ifap.ed.g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cord layout will follow order of questions on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changes to FAFSA and NSLDS data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F47-0E10-4068-82AA-977225BB9E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FSA Data Elemen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’ First Name Initial and DOB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E-mail Addres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Older Parent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questions consolidated into on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fields incr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DEA-5367-4B1C-BAB4-09356486ED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FSA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E-mail Address moved to question #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/Parents’ Asset questions re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fields have been renumbered and re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D8B-4854-46FE-8E53-661C219BE56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LDS Data Element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zed Loan Limit Flag and Combined Loan Limit Flag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xceeded loan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lose to loan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No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U (Unavailable) deleted for MPN and PLUS MPN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132-B7C0-4E06-8B46-0B37F10286B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Override for Reject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ddress Only Change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whether transaction is result of address or e-mail address chang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Match Flags for Parents’ SSN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61A-F76F-4F2F-8B12-2844E798B6E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fields associated with implementation of ISIR Data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 C Change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ed ISIR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C Change, SAR C Change, or System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Transaction Indicator (E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28B-571B-484E-BBA4-07DBC85BF54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d fields due to processing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nalysi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Application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Request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Application Entr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cor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B97-4ED8-4030-A66F-086C746F79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ata Source/Data Type codes with alpha-numeric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 (e.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Electro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Student 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 FAA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EZ FAF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Pa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NSLDS Post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= C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Renewal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= FSA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Verification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99B-64B0-436C-8F04-88454707CB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base Match and Edi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-2005 ISIR Recor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 Technic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Test System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E71-6194-42D4-ADC0-52BF175B6B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Tracking Flag expanded to 4 digits – higher numbers continue to have higher priority fo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for Multi School Cod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to determine which schools get IS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lso indicate the type of ISIR for eac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3AC-30D5-4B8B-B296-440564C8828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Messag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SIR message classes will be replaced with new message classes to identify types of 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Pushed 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FBA-CF8A-48BC-AC35-2EF83A1217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cont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s automatically sent to destination points after each day’s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AP05OP – Application submitted by the school (EA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CO05OP – Correction submitted by the school (CO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SA05OP – School listed on record (SA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RE05OP – State Agency residents (ESF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NR05OP – State Agency non-residents (ESF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6DE-B47F-4354-B163-F191E4C6BFF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ed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s sent to destination points as a result of a request from the ISIR Data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RF05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07D-B49D-477D-871C-B4F4278E2D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ed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s automatically “pushed” to destination points after each day’s processing regardless of option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CO05OP – Correction submitted by the school (CO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SA05OP – School listed on record (SARA and SYS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RE05OP – State Agency residents (ESF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NR05OP – State Agency non-residents (ESF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CE9-4EC6-4F7E-9796-77E94109312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rrors found during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PR05OP – Application data err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05OP – Correction data err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A05OP – Signature record err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2EA-769F-4E90-B0F2-BC82B6D8F4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 www.fsadownload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eferences an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2004-2005 under Electronic Data Exchange Technic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CE4-9827-4DAB-A3E4-D217C69AB0A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overview of the EDE process and where to find information about parts of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Assistance Guide for Schools also available on fsadownload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53B-D104-417B-B607-F444A90943E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 – ED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step-by-step instructions for each ED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nd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gency IS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showing signed numer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8A7-A504-4418-861D-95A0B6A54CD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 – Record 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App, Correction, Signature, Web Signature Hold, and I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What’s Changed in the Record Layouts Section Since the NASFAA Ver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A19-6DB3-4AF6-A6B9-CEAA354D9F2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Database Match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 Match renamed to DHS Match (Department of Homeland Secur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/SSN Match expanded to include dependent applicant’s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send parent SSN if same as studen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se same match flag values for results as used for student’s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995-7C1D-49B2-853E-302B1B20745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4 – Processing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Cross-Refer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Rejec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and Transmission Err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Name and Position Cross-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column for Field Verify Fla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626-1718-4B22-99B2-7489767730A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5 – 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eneral printing guidelines instead of exact print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Fields Not Printed on the I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91F-46AC-43FE-A48E-A042EB9D980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004-2005 CPS Test System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will allow testing with the CPS from late November 2003 through 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Guide &amp; Test Data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in flat text fil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veloper Specifications – draft has been is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fsadownload.ed.gov/CPSTestSys0405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539-BCEB-4BB7-8C01-B3916903CA2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S/WAN 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swan@ncs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92F-A673-4052-B403-17F11F913161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Database Match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SSN Match results treated same way as Student SSN Match results with two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s whose parent has SSA Date of Death (Match Flag = 5) will receive a SAR comment instead of being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allowed to change SSN, even if SSA gave clean match flag of ‘4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597-93B7-4564-8631-7DB4BA1E49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for Parents’ SSN Match; require a complete match for at least one parent for dependent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Modified to require SSN, Last Name and DOB for at least one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50E-0005-4CBE-87BC-D921AA2D5D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for Parents’ SSN Match co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ather’s SSN not on SSA database and Mother’s SSN/Name/DOB not a complete match (non-ver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’s SSN not on SSA database and Father’s SSN/Name/DOB not a complete match (non-ver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34F-23D2-4B42-8A7F-96D799B263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for Parents’ SSN Match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ather’s DOB not matched on SSA database and Mother’s SSN/Name/DOB not a complete match (ver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’s DOB not matched on SSA database and Father’s SSN/Name/DOB not a complete match (ver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75C-5501-47CC-AFB1-A04512FB73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for Taxes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ed for dependent students - If taxes paid amount is greater than or equal to AGI (non-verifiable re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ed for dependent students - If taxes paid amount is less than AGI, but greater than 40% of AGI (verifiable re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E66-6A24-439E-B4A1-AC57FAD439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jects D and E for Parent’s SSN out of issued range changed to warning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arning comment code for paper filers who reported parent’s marital status as single, but provided two parent SS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9F7-E3CD-4939-B9DE-7B0E3A8C873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18:42Z</dcterms:modified>
  <cp:revision>74</cp:revision>
  <dc:subject/>
  <dc:title>PowerPoint Presentation</dc:title>
</cp:coreProperties>
</file>