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700-AE92-4A1E-9346-6B4CFEF3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242-3A14-41F2-8279-2C53C98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142-792A-48E5-ACA9-55EDAD85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579-AB60-48D4-9F81-32731CEB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E48-2A6F-4A7E-ADB3-9D0BE93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BA6-FE0C-4777-9596-EB2D303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B06-3BC8-4095-B708-47342C7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BE9-8EDF-4CB6-82B0-143CC4F7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D4B-65F3-42C3-8C6C-D04180E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4A8-25E4-4C03-AC13-218AAEB5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DBA-5918-458E-A887-0558A912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A25-763D-4BC5-8385-B1D4556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26 - </a:t>
            </a:r>
            <a:fld id="{2D17D661-DFB7-495B-BF8D-05F2368FB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2004-2005 Institutional Student Information Record (ISIR) Updat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 Mondr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i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977-B8A7-44A2-A995-BD343D6E3A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 co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year edits added to detect possible inconsistencies across application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change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Number of Family Members or Number in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tudent’s Number of Family Members or Number in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Total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’ Taxes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3E4-451E-47EA-AA4D-88CF772E4C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 co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for exceeding or approaching aggregate loan limits modified to use flags set by 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icate paper applications no longer processed; letter sent to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453-2AA0-4FF1-9D8C-A957D9BE8A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SIR record layout available on IFAP (http://ifap.ed.g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cord layout will follow order of questions on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changes to FAFSA and NSLDS data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41E-42A4-435F-B327-739B45B054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FSA Data Elemen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’ First Name Initial and DOB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E-mail Addres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Older Parent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 questions consolidated into on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fields incr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1E4-1143-47B9-920A-677239A330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FSA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E-mail Address moved to question #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/Parents’ Asset questions re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fields have been renumbered and re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AE1-6D2A-4703-9FB3-981CAF7BE00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LDS Data Element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zed Loan Limit Flag and Combined Loan Limit Flag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Exceeded loa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lose to loa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No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U (Unavailable) deleted for MPN and PLUS MPN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BF6-9880-4F43-9F30-ABDC3A931F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Override for Reject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ddress Only Change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whether transaction is result of address or e-mail address chang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Match Flags for Parents’ SSN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65E-051B-4E22-90BB-FBF3695644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fields associated with implementation of ISIR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C Change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ed ISIR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C Change, SAR C Change, or System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Transaction Indicator (E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494-01E6-4036-BCDE-9CAC9967C04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fields due to process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nalysi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Request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Application Entr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Recor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793-9F06-4CAE-93C9-9AF01EF24A4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ta Source/Data Type codes with alpha-numeric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 (e.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= Electro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Student 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FAA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EZ FAF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Pa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NSLDS Post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= C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Renewal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= FSA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Verification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247-C0A6-4E7F-B942-9666F0BEAF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base Match and Edi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-2005 ISIR Recor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Test System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A4F-3FAC-4B12-B10C-B00C592D09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cord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Data Element Change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 Tracking Flag expanded to 4 digits – higher numbers continue to have higher priority for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for Multi School Cod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to determine which schools get IS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lso indicate the type of ISIR for eac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169-884F-43A2-97AF-2EF7A23B11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Messag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SIR message classes will be replaced with new message classes to identify types of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S Pushed 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CA9-7CA0-4461-B5B3-F2643D18CA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automatically sent to destination points after each day’s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AP05OP – Application submitted by the school (EA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CO05OP – Correction submitted by the school (CO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SA05OP – School listed on record (S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RE05OP – State Agency residents (ESF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NR05OP – State Agency non-residents (ESF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753-1941-44D7-95F8-279BF933B6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ed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sent to destination points as a result of a request from the ISIR Data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RF05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239-78D0-495F-81C5-7C2A908336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ed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s automatically “pushed” to destination points after each day’s processing regardless of option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CO05OP – Correction submitted by the school (CO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SA05OP – School listed on record (SARA and SYS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RE05OP – State Agency residents (ESF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NR05OP – State Agency non-residents (ESF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9B7-C490-43B0-B071-4A44D8AB1D7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Chang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rrors found during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PR05OP – Application data err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05OP – Correction data err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A05OP – Signature record err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DDA-5AB9-41AC-A5FB-86E1B71FEB2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 www.fsadownloa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eferences an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2004-2005 under Electronic Data Exchange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898-2F45-4DDE-A32C-2A4C563BCEA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overview of the EDE process and where to find information about parts of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Assistance Guide for Schools also available on fsadownload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360-08F9-4077-84DA-C85883F975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 – ED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step-by-step instructions for each ED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nd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gency IS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showing signed numer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38C-0AA7-4FC7-885D-D272661D182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 – Record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App, Correction, Signature, Web Signature Hold, and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What’s Changed in the Record Layouts Section Since the NASFAA Ver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0CC-2B5A-4208-9EFC-984072786FE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Database Match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 Match renamed to DHS Match (Department of Homeland Secur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A/SSN Match expanded to include dependent applicant’s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send parent SSN if same as studen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se same match flag values for results as used for student’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CD1-7CF3-43EE-A0E7-D208C0CFF0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4 – Processing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Cross-Referenc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Rejec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and Transmission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Name and Position Cross-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column for Field Verify Fla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355-17BE-4A05-991C-DB7F2B9D9C8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DE Technical Reference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5 –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eneral printing guidelines instead of exact print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Fields Not Printed on the I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E6B-C724-45D8-B3E3-28DB995917B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004-2005 CPS Test System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will allow testing with the CPS from late November 2003 through 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Guide &amp; Test Data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in flat text fil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veloper Specifications – draft has been is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: fsadownload.ed.gov/CPSTestSys0405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E24-53F5-4817-8434-2F9AE904B38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S/WAN Techni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swan@ncs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645-7C63-4B40-BB15-94977E7982B1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Database Matche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SSN Match results treated same way as Student SSN Match results with two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s whose parent has SSA Date of Death (Match Flag = 5) will receive a SAR comment instead of being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allowed to change SSN, even if SSA gave clean match flag of ‘4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2CE-EAFC-436B-9682-B78ACEE730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Parents’ SSN Match; require a complete match for at least one parent for dependent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Modified to require SSN, Last Name and DOB for at least one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653-1E25-409F-801C-D149CBEE42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Parents’ SSN Match co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ather’s SSN not on SSA database and Mother’s SSN/Name/DOB not a complete match (non-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’s SSN not on SSA database and Father’s SSN/Name/DOB not a complete match (non-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6D9-AB23-432D-BC0D-3AD254FA03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Parents’ SSN Match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ather’s DOB not matched on SSA database and Mother’s SSN/Name/DOB not a complete match (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’s DOB not matched on SSA database and Father’s SSN/Name/DOB not a complete match (ver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ECA-1669-4BDC-BBBA-B362610712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 Edi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s for Taxes 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 for dependent students - If taxes paid amount is greater than or equal to AGI (non-verifiable re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ed for dependent students - If taxes paid amount is less than AGI, but greater than 40% of AGI (verifiable re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ADB-26FD-45A8-950E-4A7DDCFAD3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to CPS Edits co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jects D and E for Parent’s SSN out of issued range changed to warning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arning comment code for paper filers who reported parent’s marital status as single, but provided two parent S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D47-B1CE-4BBA-BFCA-73DC465963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18:42Z</dcterms:modified>
  <cp:revision>74</cp:revision>
  <dc:subject/>
  <dc:title>PowerPoint Presentation</dc:title>
</cp:coreProperties>
</file>