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6.wmf" ContentType="image/x-wmf"/>
  <Override PartName="/ppt/media/image36.png" ContentType="image/png"/>
  <Override PartName="/ppt/media/image30.jpeg" ContentType="image/jpeg"/>
  <Override PartName="/ppt/media/image7.wmf" ContentType="image/x-wmf"/>
  <Override PartName="/ppt/media/image12.png" ContentType="image/png"/>
  <Override PartName="/ppt/media/image41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44FA-B40F-4CE4-963A-190B00D4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1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046160" y="5181480"/>
            <a:ext cx="4483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IR Review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-processed IS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9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ISIR to Pell and DL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990720" y="68580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447920" y="4495680"/>
            <a:ext cx="41907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TG number that is currently sending and receiving FAFSA and ISIR correction data for your destination point. Click on Nex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 the Identifier Information for the DPA who is assigned to the TG number that transmits FAFSA and ISIR correction data for your school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“Add a new FAA User” from the menu. Click on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AAB-CB67-4CCB-8ADE-7F45801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1A6-EEA7-416F-A8B2-9760506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AC5-E9B2-4E9E-9CA0-27F8D24B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E87-126F-4E04-894B-EDD584DE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9E3-87D1-4298-BDE2-79CDAD89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08F-827B-474D-B143-92AF23C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539-7C7C-4E2D-9842-AF05018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F16-6456-48CB-84F3-720A2B07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0A8-CAF7-4649-BF87-FFA5F77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A38-95C0-4ACE-8FE8-E4D3B61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C62-BE14-4227-B131-B914EDA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C1A-1B1E-4D7E-A8EC-D37E3BA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276B-849A-4256-AF09-607E1F84E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ger K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066680"/>
            <a:ext cx="3047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ssion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1E4-C32A-462A-A6EC-0496E4FDAC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380880"/>
          <a:ext cx="83818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3818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438280" y="533520"/>
            <a:ext cx="34290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CDA-D1E4-4D44-B154-EB7DED9A57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 Set Access Righ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ccess rights differently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ch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al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ccess righ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 for each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-2005 servic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Inquiry/Application and Correction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 Hold File Requ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of Title IV F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975600">
            <a:off x="1066320" y="5257800"/>
            <a:ext cx="400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975600">
            <a:off x="990360" y="563832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D04-FB23-4CCE-9D20-666EEE257499}" type="slidenum">
              <a:t>11</a:t>
            </a:fld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04920" y="457200"/>
          <a:ext cx="7924680" cy="60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792468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743200" y="1981080"/>
            <a:ext cx="259092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486760" y="1748880"/>
            <a:ext cx="760680" cy="23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 rot="975600">
            <a:off x="5638320" y="3429000"/>
            <a:ext cx="400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 rot="975600">
            <a:off x="2057040" y="3580920"/>
            <a:ext cx="399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New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2EF-3820-42A9-92CC-19BBAAFFDB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ser Statement and P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A should Print and the New FAA sign required User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on file for your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A User now added to DPA’s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will be delivered to new FAA User v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l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E78-77F3-445B-B8D3-1B833E7FFB8A}" type="slidenum">
              <a:t>13</a:t>
            </a:fld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FAA Access to CPS Online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BE5-8E9B-43A3-A4CC-D09AB1E5D6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04920" y="380880"/>
          <a:ext cx="86104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6104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181-A3AA-440C-8648-BA8E0B235A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rough ED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Analysi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1805040" cy="161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127476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4A5-8C57-46CA-89BC-F9F43AC981D5}" type="slidenum">
              <a:t>16</a:t>
            </a:fld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004-2005 Function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3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ld Fil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Work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R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: IA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: R2T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912-73B3-4DF4-A52F-E6BFF3B14EEC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04920" y="152280"/>
          <a:ext cx="830556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30556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49D-3CA7-48B7-A1F4-15B810A6BB4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 student's ISIR data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Family Contribution (E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FSA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045-04A7-45DD-8F6B-581BB550E00A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AA Access to CPS On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Aid Internet Gateway Enrol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for 2004-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77D-7239-441B-9DA9-406D93B4C6BB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pplication Status Che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ed when an Application has been received but is not yet 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DHS (Department of Homeland Security) Hold Fl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ose that don’t contain your School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N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link to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ll fields that are available on the 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F16-7DB0-4768-A553-8561110DBC3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: Changes for 2004-2005 (continued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ll transaction numbers, even if school code not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Correction flags to each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- corrected on current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 - corrected on prior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ields that were previously only on the ISIR to the FAA Information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‘Verification Worksheet’ button to the FAA Information page, which links to the new Verification Worksh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ing login when Correction or Verification Worksheet button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link to N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70B-A4C0-4E99-A88C-27045C1C3E99}" type="slidenum">
              <a:t>21</a:t>
            </a:fld>
          </a:p>
        </p:txBody>
      </p:sp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8160" y="533160"/>
            <a:ext cx="2438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tudent Inquiry: Application Status Check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533520"/>
          <a:ext cx="552744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55274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90920"/>
            <a:ext cx="220968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F80-0182-4444-BB52-7DAAF3342F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-22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Inquiry: Adding Your School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324480" cy="5867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1840" y="1676520"/>
            <a:ext cx="2971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chool code is not on the student’s record, use their DRN to access their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3657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4800600"/>
            <a:ext cx="914400" cy="228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3733920"/>
            <a:ext cx="1981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26440" y="3500280"/>
            <a:ext cx="452880" cy="237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4F0-0D5B-405B-813D-AD4B48D90F4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05360" y="228240"/>
            <a:ext cx="2438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udent Inquiry: FAA Inform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9040" y="2209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out c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id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176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791320"/>
            <a:ext cx="2514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509-3DA3-4F79-A33F-B05CA0FB3AFC}" type="slidenum">
              <a:t>24</a:t>
            </a:fld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ignature Hold File Reques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AA to request receipt or stop receipt of Signature Hold File (HOLD05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entered by school code or by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questing receipt must indicate if file is to be 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continuous basi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im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C24-7C66-42DA-A5A0-15AED967BBD3}" type="slidenum">
              <a:t>25</a:t>
            </a:fld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gnature Hold File Request: Specify Typ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6629400" cy="5400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1680" y="1447920"/>
            <a:ext cx="2362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- Select Reques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time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going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cel rece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429000" cy="99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C12-11B1-4118-A34C-92E98146B5E6}" type="slidenum">
              <a:t>26</a:t>
            </a:fld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FAA Entry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897-7E64-446F-8200-357C434EDC04}" type="slidenum">
              <a:t>27</a:t>
            </a:fld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Functional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Overrides, Dependency Overrides, and Assumption Over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A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Estimated EFC prior to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current FA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s print and retain signature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School Code of FAA must be 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filled on FAFSA and 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’s data (SSN, DOB, last name) used to save and re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sures partial FAA form cannot be restored by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CF4-9378-47D9-9DF0-BB10522E82EC}" type="slidenum">
              <a:t>28</a:t>
            </a:fld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Current Functionality (continued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logs in with Student’s st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s to last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verifies institution code exists on th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DRN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s that were previously corrected will be flag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real-time when only the NSLDS match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eligible for real-time cor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ho already had the database matches other than NS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cess and regular NSLDS post-screening in no more than a week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0C8-F2A2-4289-B8CD-752B5FB415DC}" type="slidenum">
              <a:t>29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FAA Access to CPS Online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system which allows FAAs to a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information (2003-04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various requests (e.g., ISIR, PIN, Hold F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ud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afsa.ed.gov/faa/fa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CD0-49AA-4BB2-A096-2BFCB67508CE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text-only introduction p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questions to match paper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arents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and/or asset questions not required for students who qualify for an Automatic Zero EFC or the Simplified Need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5EC-EE0B-4D37-BD53-EFDFB4DA2AE8}" type="slidenum">
              <a:t>30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hanges for 2004-2005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 estimated taxes paid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ing prom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pdate/provide e-mai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Signature Page and Application 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7E4-2633-4454-862F-0569BC9D8C41}" type="slidenum">
              <a:t>31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FSA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228600"/>
          <a:ext cx="6781680" cy="653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6781680" cy="65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CAA-5C34-4620-9F90-9B1762A146F2}" type="slidenum">
              <a:t>32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38880" y="228600"/>
            <a:ext cx="190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FAFSA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304920"/>
          <a:ext cx="67820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6782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34A-EF4E-4495-A801-2D2224E786EE}" type="slidenum">
              <a:t>33</a:t>
            </a:fld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AA Correction Entry: Changes for 2004-2005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login and transactio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SSN and DOB to be cor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correctable when SSN Match is not 4 (Full Ma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forward Signed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ion page for real-time records will 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ransaction has been selected for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Verificati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udent provided e-mail address, SAR e-mail notification will inform student that a school has made corrections on their be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2AA-E47F-450A-A2AB-1DDAE8B48467}" type="slidenum">
              <a:t>34</a:t>
            </a:fld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62560" y="228240"/>
            <a:ext cx="1981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orrection Entry Combined Login Pag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380880"/>
          <a:ext cx="6400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6400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B4A-013F-4452-945A-4A66BBA17C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934320" y="380880"/>
            <a:ext cx="2209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orrection Exampl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04920" y="380880"/>
          <a:ext cx="65530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6553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AB1-6CE8-42ED-A44A-644D51E4388A}" type="slidenum">
              <a:t>36</a:t>
            </a:fld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-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Correction Exampl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1524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av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Sav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38280" y="533520"/>
          <a:ext cx="640080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33520"/>
                    <a:ext cx="640080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14600" y="4038480"/>
          <a:ext cx="6400800" cy="251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038480"/>
                    <a:ext cx="64008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391520" y="3581280"/>
            <a:ext cx="91440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885840"/>
            <a:ext cx="121896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6576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If you have added password at the beg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581280"/>
            <a:ext cx="1524240" cy="685800"/>
          </a:xfrm>
          <a:prstGeom prst="wedgeRoundRectCallout">
            <a:avLst>
              <a:gd name="adj1" fmla="val 88958"/>
              <a:gd name="adj2" fmla="val 22222"/>
              <a:gd name="adj3" fmla="val 16667"/>
            </a:avLst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If you have added password at the beg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8EC-EE62-4903-8B4A-B047DBDBD10F}" type="slidenum">
              <a:t>37</a:t>
            </a:fld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720" y="228240"/>
            <a:ext cx="2210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Calculate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axes Pai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04920"/>
          <a:ext cx="6248520" cy="29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6248520" cy="29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80880" y="2971800"/>
          <a:ext cx="609624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60962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276720" y="5257800"/>
            <a:ext cx="1371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990720"/>
            <a:ext cx="13716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92F-AF0D-467A-9D71-4D8B31547F4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Real-Time Corrections Confirm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13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the official  EFC, not an estimated E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62320" y="860400"/>
            <a:ext cx="6629400" cy="561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3657600"/>
            <a:ext cx="251460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0B4-85E2-4C7D-95DB-97AF2D0B9508}" type="slidenum">
              <a:t>39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Aid Internet Gateway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D0C-C4FF-425A-B87D-836E3FD5A14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Verification Worksheet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A04-28C9-4111-9F97-880B175147D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A Entry: Verification Workshe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Verification Worksheet tab in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ed via Student Inquiry or Main Me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Verification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repor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to submit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ubjected to cross-field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returned to full correction form when edits are encou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7E3-AA61-4753-A980-CA078775B6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05720" y="304920"/>
            <a:ext cx="228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Logi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228600"/>
          <a:ext cx="64771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477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858000" y="2514600"/>
            <a:ext cx="21337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tudent’s st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F3C-44AA-48A7-8BDE-85EFA2B127FF}" type="slidenum">
              <a:t>42</a:t>
            </a:fld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33960" y="-360"/>
            <a:ext cx="198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Entr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304920"/>
          <a:ext cx="6629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6629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733920" y="3048120"/>
            <a:ext cx="7617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22860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286000"/>
            <a:ext cx="1676520" cy="838080"/>
          </a:xfrm>
          <a:prstGeom prst="wedgeEllipseCallout">
            <a:avLst>
              <a:gd name="adj1" fmla="val -42046"/>
              <a:gd name="adj2" fmla="val 44319"/>
            </a:avLst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040" y="2452680"/>
            <a:ext cx="123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243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ISIR Data Pre-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32F-95B9-4F39-95CF-1838BF070F1E}" type="slidenum">
              <a:t>43</a:t>
            </a:fld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34320" y="304560"/>
            <a:ext cx="2209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Verification Worksheet Entry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457200"/>
          <a:ext cx="67057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67057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943600" y="5638680"/>
            <a:ext cx="129528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3276720"/>
            <a:ext cx="1676520" cy="1295280"/>
          </a:xfrm>
          <a:prstGeom prst="wedgeRoundRectCallout">
            <a:avLst>
              <a:gd name="adj1" fmla="val -52842"/>
              <a:gd name="adj2" fmla="val 137500"/>
              <a:gd name="adj3" fmla="val 16667"/>
            </a:avLst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15200" y="34290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Submit corrections from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EE2-C27B-48B3-B647-360A56731330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A Entry: Verification Worksheet Submit Messag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380880"/>
          <a:ext cx="67816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678168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743200" y="2438280"/>
            <a:ext cx="4191120" cy="1600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209680"/>
            <a:ext cx="2133720" cy="1676520"/>
          </a:xfrm>
          <a:prstGeom prst="wedgeRectCallout">
            <a:avLst>
              <a:gd name="adj1" fmla="val -50745"/>
              <a:gd name="adj2" fmla="val 58615"/>
            </a:avLst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28600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If income of a tax filer updated, prompted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submit corr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to CPS regardless of the Tole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7E2-D193-4EA3-A412-93B145FC8EB0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009920" y="22860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A Entry: Printed Verification Workshee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380880"/>
          <a:ext cx="6553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6553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C7F-B113-467A-8BC2-814CDFBF7D0F}" type="slidenum">
              <a:t>46</a:t>
            </a:fld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004-2005 EDExpress Chang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ments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ssing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E07-D0A4-4C89-8E85-F937B765EC6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DExpress Application Process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-2005, EDExpress will interface directly with FAA Access to CPS Online through an embedded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ing on the FAFSA Tab in EDExpress will take you to FAA Access Applicatio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pplication and correction entry will be done in FA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32B-1B7D-499B-A2DD-CA2A77A4A77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ccess through EDExpr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FAA’s st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ing Embedded Brows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data turns to asterisks for security/but upd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3364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FAASetup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638680" cy="515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EEE-212B-4467-8AE2-D862DB09DBD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tudent Aid Internet Gateway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inancial Aid Administrator that wants to use FAA Access m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enrolled in the Student Aid Internet Gateway Participation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6C2-DB80-4605-9926-E84CFBA1E54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4320" y="6091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tomated Login Process from EDExpress Setup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05360" y="3048120"/>
            <a:ext cx="2438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fill with “stored” stable data from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dd P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FAAAccess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6477120" cy="4953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447920" y="4114800"/>
            <a:ext cx="12189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456-1D93-4927-8500-9D2020122A1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09920" y="1219320"/>
            <a:ext cx="213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A Access Entry from within EDExpr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0" y="3200400"/>
            <a:ext cx="228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AFSA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directly to FAA FAFS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7156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FAFSA Tab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6629400" cy="60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33520" y="5867280"/>
            <a:ext cx="761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F79-A9E0-476D-A6E1-25B95827AED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09920" y="380880"/>
            <a:ext cx="2133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utomated Login Process from EDExpress Setup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0" y="297180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 Student Inquiry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you directly to SA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Student Inquiry Tab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6705720" cy="5791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43000" y="5791320"/>
            <a:ext cx="762120" cy="304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BC5-6448-45D8-93EB-391223DD38E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DExpress Application Process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ssing functionality still available in ED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Import/ISI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IR Review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-processed IS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LDS Print, File Format/External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ISIR to Pell and D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949-E34B-4752-96B7-8DA800FE862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880" y="27428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ISIR Reques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A89-9573-432C-8B41-8D76CEFCD56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 in FAA Access to CPS Online allows users to request ISIRs from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ations have option to continue receiving all ISIRs automatically or receiving only the ISIRs they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IR Request will be used for Duplicate, Year to Date and Federal Data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0CF-8A81-4CED-B49A-A5D89149512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Enrollme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2971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R delivery method option provided on SAIG Enrollment Web under the CPS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is automatic daily receipt (like current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A may change option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who select automatic daily receipt can also request ISIRs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429000" y="76212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76212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248520" y="6019920"/>
            <a:ext cx="144756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1F5-1D94-4105-B216-CC0137F69FD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Main Menu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ons available on ISIR Request me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/Edi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895480" y="1143000"/>
          <a:ext cx="62485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62485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BB5-013A-4EC6-A864-6706C259290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Selection Criteri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N/Name ID (manually enter or provide SSN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number: first, last, all, specific, or greater than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gibilit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tera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c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C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 Range for process date, receipt date, or dat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these  fie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3D2-6C59-4DC0-BABB-7C70E7018D7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Selection Criteri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676520"/>
          <a:ext cx="419076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419076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648320" y="1981080"/>
          <a:ext cx="4343400" cy="334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3434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291-EED8-4ADA-8F94-23A928A6108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Student Aid Internet Gateway Enrollmen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use by the Destination Point Administrator (DPA) who is responsible for CPS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PA must enroll each FAA Us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A Access to CP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DPA to control FAA Users’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D7F-DBE8-4782-869C-73FA114762BF}" type="slidenum">
              <a:t>6</a:t>
            </a:fld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SN Fi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04920" y="609480"/>
          <a:ext cx="7696080" cy="584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7696080" cy="58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657-A9B2-40C0-BC55-37914EF6277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28440" y="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Enter SS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04920" y="685800"/>
          <a:ext cx="7162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162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AB5-DFE4-49DC-B87B-F8BE6A4B935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elect School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685800"/>
          <a:ext cx="761976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61976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B92-436F-4E7A-8EF6-B57AEF41B41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Selection Criteria Confirma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609480"/>
          <a:ext cx="731520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73152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8BF-0D64-4A13-A78C-DA8657A6972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SIR Request: Check Request Statu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81320" y="121932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4920" y="533520"/>
          <a:ext cx="647676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4767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54B-0132-4E9F-993E-B2B8267328D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Query Require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can be set up to run following the next CPS compute or at a future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must be completed before next query can be sub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query entered is displayed when user returns to ISIR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imit on number of times an ISIR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AA-7C5E-4BFF-98D5-097B26EAB57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ISIR Request: Query Resul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queries run, files of requested ISIRs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loaded to SAIG mailboxes in ISRF05OP mess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of requested ISIRs must be retrieved within 14 calendar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B26-72C7-4218-9B28-2FA196AC311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ushed” ISIR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ISIRs automatically “pushed” regardless of option selected by i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 C Cod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-generated transactions (NSLDS post-screening, DHS automated secondary confirmation, reprocessing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E7C-C22B-460F-A93B-4749723C712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chool Responsibiliti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e and review all of the ISIRs that are automatically pushed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SIRs for all of the students who have enrolled at you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4F2-B965-4EEF-B9F5-62B44760F28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Additional Information and Resource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ccess to CPS Online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afsa.ed.gov/FAA/faa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G Enrollment UR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4-2005 Implementation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6/2003 – SAIG Enrol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7/2003 – FOTW/FAA Access Demo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/2004 – FAA Access to CP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69F-58E0-46EB-A1C0-726FD7216F23}" type="slidenum">
              <a:t>69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Does the DPA Enroll FAA Users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Student Aid Internet Gateway On-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sawebenroll.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FAA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8120" y="1219320"/>
          <a:ext cx="60958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19320"/>
                    <a:ext cx="6095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10A-8EA8-4F40-8714-2FD13B98C654}" type="slidenum">
              <a:t>7</a:t>
            </a:fld>
          </a:p>
        </p:txBody>
      </p:sp>
    </p:spTree>
  </p:cSld>
  <p:transition>
    <p:cover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emo Site for FAFSA on the Web and FAA Acces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For FAA’s to learn the new site before it’s live and to tr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afsademo.tes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Name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d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afsa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in the 2004-2005 CPS Test System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download.ed.gov/CPSTestSys0405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5226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06-C0CC-48CA-ACED-B42E5D02FBDB}" type="slidenum">
              <a:t>70</a:t>
            </a:fld>
          </a:p>
        </p:txBody>
      </p:sp>
    </p:spTree>
  </p:cSld>
  <p:transition>
    <p:cover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echnical Ass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PS/WAN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ache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1-800-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19-665-766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099-87E5-4653-8E4E-D7BBC1DECD0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Questions and Comment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Like To See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information while at the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the PC Lab for assistanc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SA on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A Access to CP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G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Hands-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ISIR Datam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– FAA Access to CP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D9D-F280-4166-8CE4-87835E3E30A1}" type="slidenum">
              <a:t>72</a:t>
            </a:fld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G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DPA’s SSN and 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“Add new FAA Us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 mirror DPA access or customiz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8D4-B6B2-4906-8BA3-C9C04538BED3}" type="slidenum">
              <a:t>8</a:t>
            </a:fld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nrolling New FAA Users: Provide Demo Dat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FAA User’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graphic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ing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ecurity Number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CC6-DF9E-4193-B755-F67FD12435B1}" type="slidenum">
              <a:t>9</a:t>
            </a:fld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19:27:43Z</dcterms:modified>
  <cp:revision>174</cp:revision>
  <dc:subject/>
  <dc:title>PowerPoint Presentation</dc:title>
</cp:coreProperties>
</file>