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6.wmf" ContentType="image/x-wmf"/>
  <Override PartName="/ppt/media/image36.png" ContentType="image/png"/>
  <Override PartName="/ppt/media/image30.jpeg" ContentType="image/jpeg"/>
  <Override PartName="/ppt/media/image7.wmf" ContentType="image/x-wmf"/>
  <Override PartName="/ppt/media/image12.png" ContentType="image/png"/>
  <Override PartName="/ppt/media/image41.wmf" ContentType="image/x-wmf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A59B-304B-412B-816D-5D55CCADB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1.wmf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1046160" y="5181480"/>
            <a:ext cx="4483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49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IR Import/ISIR 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IR Review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-processed IS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SLDS Print, File Format/External 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ISIR to Pell and DL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990720" y="68580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447920" y="4495680"/>
            <a:ext cx="419076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 the TG number that is currently sending and receiving FAFSA and ISIR correction data for your destination point. Click on Nex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 the Identifier Information for the DPA who is assigned to the TG number that transmits FAFSA and ISIR correction data for your school. Click on Ne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“Add a new FAA User” from the menu. Click on Ne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9F2-EAF3-443D-BBFB-DC10CF46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A1C-7952-49CE-92DB-959BEBE5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97A-ED46-4B70-813E-E6C33F3F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A80-35DD-4B23-BA38-9010C37C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321-A1C4-43A1-A5EE-3060D1A9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712-B31D-4FA6-84A1-72174E6F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217-E949-4E00-8A0E-772627FF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5CE-420F-4E07-9EC3-96BEBD9F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3AB-A294-4039-B8AD-B7D2F263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B97-0AD6-41FF-91BA-B86BF343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0C2-D391-465C-8045-272F8DB9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F0E-F9C7-4F83-80B3-0E1B336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3F9B-81D4-4449-BA9D-39F13DBF4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FAA Access to CPS Onlin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ger K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ssion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196-85CF-4F7D-A28C-FFF4E4A3F1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8600" y="380880"/>
          <a:ext cx="838188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38188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438280" y="533520"/>
            <a:ext cx="34290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19A-8301-4614-ADD9-B66D8BC37F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nrolling New FAA Users: Set Access Righ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ccess rights differently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ch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for all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ccess righ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 for each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-2005 service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Inquiry/Application and Correction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ture Hold File Reque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of Title IV Fu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R Analysis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975600">
            <a:off x="1066320" y="5257800"/>
            <a:ext cx="4003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New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 rot="975600">
            <a:off x="990360" y="5638320"/>
            <a:ext cx="3999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New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438-79C1-4345-AB9E-91E62B339D61}" type="slidenum">
              <a:t>11</a:t>
            </a:fld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04920" y="457200"/>
          <a:ext cx="7924680" cy="60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7924680" cy="60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743200" y="1981080"/>
            <a:ext cx="2590920" cy="38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486760" y="1748880"/>
            <a:ext cx="760680" cy="23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 rot="975600">
            <a:off x="5638320" y="3429000"/>
            <a:ext cx="4003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New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 rot="975600">
            <a:off x="2057040" y="3580920"/>
            <a:ext cx="3999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New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192-188F-414F-9B22-1EA69F94856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nrolling New FAA Users: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User Statement and PI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A should Print and the New FAA sign required User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on file for your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AA User now added to DPA’s 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 will be delivered to new FAA User v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al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6B5-7683-4985-ACD6-61CF871123DF}" type="slidenum">
              <a:t>13</a:t>
            </a:fld>
          </a:p>
        </p:txBody>
      </p:sp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FAA Access to CPS Online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1DA-5FCB-4FC8-9BD0-766AE3D5F85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04920" y="380880"/>
          <a:ext cx="861048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61048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CE8-BFC3-426E-B93D-693D5857358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for 2004-2005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518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rough ED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 Analysis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1805040" cy="1611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867280" y="4800600"/>
            <a:ext cx="127476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337-2680-40ED-993F-23406CB3F809}" type="slidenum">
              <a:t>16</a:t>
            </a:fld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004-2005 Function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3-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 Hold Fil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l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 Worksh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 Requ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: IA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: R2T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6D8-463C-47BB-9C86-7D1133FAA736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04920" y="152280"/>
          <a:ext cx="8305560" cy="632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30556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348-DF1D-43D9-BCAB-E56F3D73EAE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5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Inquir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 student's ISIR data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Family Contribution (E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FSA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0D7-006F-40EE-A904-11775F89F2D5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AA Access to CPS On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Aid Internet Gateway Enrol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A Access for 2004-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nd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D02-2D6B-4802-AB67-6734E2E57287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Inquiry Chan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Application Status Che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ed when an Application has been received but is not yet pro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DHS (Department of Homeland Security) Hold Fl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ose that don’t contain your School 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N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link to Verificati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all fields that are available on the I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0AA-1F5B-4B05-965D-8C524F92969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Inquiry: Changes for 2004-2005 (continued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all transaction numbers, even if school code not 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Correction flags to each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- corrected on current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 - corrected on prior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fields that were previously only on the ISIR to the FAA Information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 ‘Verification Worksheet’ button to the FAA Information page, which links to the new Verification Workshe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ing login when Correction or Verification Worksheet button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 link to N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795-B3D3-4AD9-AF93-9DB45B3480FB}" type="slidenum">
              <a:t>21</a:t>
            </a:fld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48160" y="533160"/>
            <a:ext cx="24382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tudent Inquiry: Application Status Chec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533520"/>
          <a:ext cx="552744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552744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905120" y="2590920"/>
            <a:ext cx="220968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9A6-D380-4185-AFA7-3953D70B669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-228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Inquiry: Adding Your School</a:t>
            </a: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6324480" cy="5867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1840" y="1676520"/>
            <a:ext cx="2971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school code is not on the student’s record, use their DRN to access their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9680"/>
            <a:ext cx="3657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4800600"/>
            <a:ext cx="914400" cy="228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3733920"/>
            <a:ext cx="19810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726440" y="3500280"/>
            <a:ext cx="452880" cy="237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281-1E03-4E98-9E78-0CAF2414DC1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05360" y="228240"/>
            <a:ext cx="2438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tudent Inquiry: FAA Inform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553080" cy="6095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9040" y="22096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 out c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17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 fla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17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Aid fla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17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 fla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5791320"/>
            <a:ext cx="251460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BF9-E197-4D86-BFC3-D975288488EE}" type="slidenum">
              <a:t>24</a:t>
            </a:fld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ignature Hold File Reques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FAA to request receipt or stop receipt of Signature Hold File (HOLD05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entered by school code or by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questing receipt must indicate if file is to be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continuous basi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time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016-27AD-4F0C-802E-1186788D5353}" type="slidenum">
              <a:t>25</a:t>
            </a:fld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gnature Hold File Request: Specify Typ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6629400" cy="5400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81680" y="1447920"/>
            <a:ext cx="2362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- Select Reques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time rece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going rece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cel rece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590920"/>
            <a:ext cx="3429000" cy="990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FCE-8161-4834-A2B4-41B55AA40C7D}" type="slidenum">
              <a:t>26</a:t>
            </a:fld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281952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FAA Entry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524-73FE-47F4-9DC4-ED6F27E0F29B}" type="slidenum">
              <a:t>27</a:t>
            </a:fld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A Entry: Functionalit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Overrides, Dependency Overrides, and Assumption Over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Adju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Estimated EFC prior to sub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s current FA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As print and retain signature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School Code of FAA must be 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filled on FAFSA and Rene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’s data (SSN, DOB, last name) used to save and re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sures partial FAA form cannot be restored by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9FF-A18B-459A-BE4C-603FD95DD2FB}" type="slidenum">
              <a:t>28</a:t>
            </a:fld>
          </a:p>
        </p:txBody>
      </p:sp>
    </p:spTree>
  </p:cSld>
  <p:transition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A Entry: Current Functionality (continued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A logs in with Student’s stab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s to last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verifies institution code exists on the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, DRN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s that were previously corrected will be flag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d real-time when only the NSLDS match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eligible for real-time cor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ho already had the database matches other than NS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process and regular NSLDS post-screening in no more than a week will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78E-1D97-4F31-B128-5A854F10248D}" type="slidenum">
              <a:t>29</a:t>
            </a:fld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at is FAA Access to CPS Online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system which allows FAAs to a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information (2003-04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various requests (e.g., ISIR, PIN, Hold F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stud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: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afsa.ed.gov/faa/faa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E4E-46CE-4FAB-8B64-642A37100DE5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6196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A Entry: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for 2004-2005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ing text-only introduction p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questions to match paper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Parents E-mai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and/or asset questions not required for students who qualify for an Automatic Zero EFC or the Simplified Need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D2E-B6C9-452E-8C9B-B5BF9DA210B3}" type="slidenum">
              <a:t>30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A Entry: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for 2004-2005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n estimated taxes paid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ing prom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update/provide e-mai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Signature Page and Application Summary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312-144B-4187-85CD-738A0DDDF225}" type="slidenum">
              <a:t>31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3049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A Entry: 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FSA 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228600"/>
          <a:ext cx="6781680" cy="653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6781680" cy="65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93B-B745-4AA9-B337-84FFB4C21F48}" type="slidenum">
              <a:t>32</a:t>
            </a:fld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38880" y="228600"/>
            <a:ext cx="190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A Entry: FAFSA 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xample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280" y="304920"/>
          <a:ext cx="67820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67820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622-D5EB-4B57-B464-4AFDF24EA74D}" type="slidenum">
              <a:t>33</a:t>
            </a:fld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AA Correction Entry: Changes for 2004-2005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login and transaction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ing SSN and DOB to be cor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 correctable when SSN Match is not 4 (Full Ma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ing forward Signed B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page for real-time records will in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ransaction has been selected for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 Verificati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tudent provided e-mail address, SAR e-mail notification will inform student that a school has made corrections on their be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754-E9BF-45B1-997C-B10ACCABC4BE}" type="slidenum">
              <a:t>34</a:t>
            </a:fld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62560" y="228240"/>
            <a:ext cx="1981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Correction Entry Combined Login Pag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880" y="380880"/>
          <a:ext cx="64008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6400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012-1430-4099-987E-3F8C5A6FF82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934320" y="380880"/>
            <a:ext cx="2209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Correction Exampl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04920" y="380880"/>
          <a:ext cx="65530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65530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8D5-54B2-477D-A17B-B9BC6A9C1025}" type="slidenum">
              <a:t>36</a:t>
            </a:fld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-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A Entry: Correction Example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1524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Sav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Sav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438280" y="533520"/>
          <a:ext cx="6400800" cy="33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533520"/>
                    <a:ext cx="640080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14600" y="4038480"/>
          <a:ext cx="6400800" cy="251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038480"/>
                    <a:ext cx="64008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391520" y="3581280"/>
            <a:ext cx="91440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48520" y="3885840"/>
            <a:ext cx="121896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6576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If you have added password at the begi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3581280"/>
            <a:ext cx="1524240" cy="685800"/>
          </a:xfrm>
          <a:prstGeom prst="wedgeRoundRectCallout">
            <a:avLst>
              <a:gd name="adj1" fmla="val 88958"/>
              <a:gd name="adj2" fmla="val 22222"/>
              <a:gd name="adj3" fmla="val 16667"/>
            </a:avLst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If you have added password at the begi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240-ED0A-4222-99A8-D25BCFEF7108}" type="slidenum">
              <a:t>37</a:t>
            </a:fld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720" y="228240"/>
            <a:ext cx="2210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Calculate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axes Pai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04920"/>
          <a:ext cx="6248520" cy="29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6248520" cy="29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80880" y="2971800"/>
          <a:ext cx="609624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971800"/>
                    <a:ext cx="60962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276720" y="5257800"/>
            <a:ext cx="137160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990720"/>
            <a:ext cx="137160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E02-3D91-448E-BCA3-3C946FB792A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Real-Time Corrections Confirm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13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the official  EFC, not an estimated E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62320" y="860400"/>
            <a:ext cx="6629400" cy="5616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438280" y="3657600"/>
            <a:ext cx="251460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1A3-0F83-470D-863C-FC30BE4D82EF}" type="slidenum">
              <a:t>39</a:t>
            </a:fld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Aid Internet Gateway Enrollm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03B-B86F-4A32-B34E-5479040CE4E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Verification Worksheet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570-19F7-4721-990E-8E9B2E55AFD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619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A Entry: Verification Workshee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Verification Worksheet tab in ED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ed via Student Inquiry or Main Men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s Verification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ed report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to submit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ubjected to cross-field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 returned to full correction form when edits are encoun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240-70DA-42A3-A52D-ABFFF888363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05720" y="304920"/>
            <a:ext cx="228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Verification Worksheet Logi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8600" y="228600"/>
          <a:ext cx="647712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4771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6858000" y="2514600"/>
            <a:ext cx="21337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tudent’s stab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CA4-2CB7-4D7A-A1B9-8E4FA7A6CF6C}" type="slidenum">
              <a:t>42</a:t>
            </a:fld>
          </a:p>
        </p:txBody>
      </p:sp>
    </p:spTree>
  </p:cSld>
  <p:transition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33960" y="-360"/>
            <a:ext cx="198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Verification Worksheet Entr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304920"/>
          <a:ext cx="66294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66294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733920" y="3048120"/>
            <a:ext cx="76176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15200" y="22860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2286000"/>
            <a:ext cx="1676520" cy="838080"/>
          </a:xfrm>
          <a:prstGeom prst="wedgeEllipseCallout">
            <a:avLst>
              <a:gd name="adj1" fmla="val -42046"/>
              <a:gd name="adj2" fmla="val 44319"/>
            </a:avLst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37040" y="2452680"/>
            <a:ext cx="123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438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ISIR Data Pre-fi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04C-2AB1-4943-9FB7-61919F3E3318}" type="slidenum">
              <a:t>43</a:t>
            </a:fld>
          </a:p>
        </p:txBody>
      </p: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934320" y="304560"/>
            <a:ext cx="2209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Verification Worksheet Entry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457200"/>
          <a:ext cx="67057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67057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943600" y="5638680"/>
            <a:ext cx="129528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3276720"/>
            <a:ext cx="1676520" cy="1295280"/>
          </a:xfrm>
          <a:prstGeom prst="wedgeRoundRectCallout">
            <a:avLst>
              <a:gd name="adj1" fmla="val -52842"/>
              <a:gd name="adj2" fmla="val 137500"/>
              <a:gd name="adj3" fmla="val 16667"/>
            </a:avLst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15200" y="34290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Submit corrections from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F5A-65A4-47D7-AADA-1ACDD792AA72}" type="slidenum">
              <a:t>44</a:t>
            </a:fld>
          </a:p>
        </p:txBody>
      </p:sp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A Entry: Verification Worksheet Submit Messag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380880"/>
          <a:ext cx="678168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67816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743200" y="2438280"/>
            <a:ext cx="4191120" cy="1600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2209680"/>
            <a:ext cx="2133720" cy="1676520"/>
          </a:xfrm>
          <a:prstGeom prst="wedgeRectCallout">
            <a:avLst>
              <a:gd name="adj1" fmla="val -50745"/>
              <a:gd name="adj2" fmla="val 58615"/>
            </a:avLst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2286000"/>
            <a:ext cx="213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If income of a tax filer updated, prompted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submit corr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to CPS regardless of the Toler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B7F-3DC1-4248-B859-BA923DE53892}" type="slidenum">
              <a:t>45</a:t>
            </a:fld>
          </a:p>
        </p:txBody>
      </p:sp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09920" y="228600"/>
            <a:ext cx="2133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Printed Verification Workshee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380880"/>
          <a:ext cx="65530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65530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0BF-BF49-429E-80AC-A39111B4444F}" type="slidenum">
              <a:t>46</a:t>
            </a:fld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004-2005 EDExpress Chan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ments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ssing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24D-BB62-4F28-879A-59F6C367C74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DExpress Application Process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-2005, EDExpress will interface directly with FAA Access to CPS Online through an embedded brow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ing on the FAFSA Tab in EDExpress will take you to FAA Access Applicatio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pplication and correction entry will be done in FA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EDC-A2EC-4F37-8AF9-7B56D96CF6C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ccess through EDExpres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FAA’s st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ing Embedded Browse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data turns to asterisks for security/but upd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336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FAASetup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5638680" cy="515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8EC-D07F-425F-8D15-D5777638465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Aid Internet Gateway Enrollm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inancial Aid Administrator that wants to use FAA Access m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enrolled in the Student Aid Internet Gateway Participation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2E4-D4A7-4A45-A8BE-8D089F3D149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934320" y="609120"/>
            <a:ext cx="2209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utomated Login Process from EDExpress Setup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05360" y="3048120"/>
            <a:ext cx="2438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fill with “stored” stable data from se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Add P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FAAAccess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6477120" cy="4953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447920" y="4114800"/>
            <a:ext cx="121896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826-E8DB-4EA5-9F4B-93F0AABF28C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09920" y="1219320"/>
            <a:ext cx="213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A Access Entry from within EDExpr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0" y="3200400"/>
            <a:ext cx="2286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FAFSA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you directly to FAA FAFS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7156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FAFSA Tab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6629400" cy="60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533520" y="5867280"/>
            <a:ext cx="76176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938-F074-4851-9D90-77F0E6CB8E3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09920" y="380880"/>
            <a:ext cx="2133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utomated Login Process from EDExpress Setup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0" y="297180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 Student Inquiry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you directly to SAR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Student Inquiry Tab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6705720" cy="5791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143000" y="5791320"/>
            <a:ext cx="76212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296-9A15-4129-82BA-BAC5B4F1B40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DExpress Application Process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ssing functionality still available in EDEx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Import/ISI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Review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-processed IS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Print, File Format/External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ISIR to Pell and DL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F3E-3358-41B7-A9E4-61074D1D67B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880" y="274284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ISIR Reques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F88-2FB9-4A9E-A2A3-42625FAE496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 in FAA Access to CPS Online allows users to request ISIRs from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ations have option to continue receiving all ISIRs automatically or receiving only the ISIRs they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Request will be used for Duplicate, Year to Date and Federal Data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28B-C8D1-4543-A19B-04C259E559E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: Enrollm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2971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R delivery method option provided on SAIG Enrollment Web under the CPS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is automatic daily receipt (like current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A may change option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who select automatic daily receipt can also request ISIRs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429000" y="762120"/>
          <a:ext cx="5181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762120"/>
                    <a:ext cx="5181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248520" y="6019920"/>
            <a:ext cx="144756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FC1-78AF-4F0B-B927-E16E0112802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: Main Menu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ptions available on ISIR Request men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/Edi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Reques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895480" y="1143000"/>
          <a:ext cx="62485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143000"/>
                    <a:ext cx="62485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9D6-A01D-4BBF-A184-92B35365CDA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: Selection Criteri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N/Name ID (manually enter or provide SSN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number: first, last, all, specific, or greater than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gibilit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teran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fication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enc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C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 Range for process date, receipt date, or date comple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these  fie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DCD-7941-46CD-A762-A7FC95BF07D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: Selection Criteri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04920" y="1676520"/>
          <a:ext cx="419076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419076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648320" y="1981080"/>
          <a:ext cx="4343400" cy="334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81080"/>
                    <a:ext cx="434340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98C-7B1C-4B24-A189-15B3612EAE0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at is Student Aid Internet Gateway Enrollment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use by the Destination Point Administrator (DPA) who is responsible for CPS data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PA must enroll each FAA User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AA Access to CP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DPA to control FAA Users’ ac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447-46B6-437B-B5EE-9449B37A9B7A}" type="slidenum">
              <a:t>6</a:t>
            </a:fld>
          </a:p>
        </p:txBody>
      </p:sp>
    </p:spTree>
  </p:cSld>
  <p:transition>
    <p:cover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IR Request: SSN Fil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04920" y="609480"/>
          <a:ext cx="7696080" cy="584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7696080" cy="584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E48-FB99-4597-8506-CB3BC61D0E2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IR Request: Enter SS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04920" y="685800"/>
          <a:ext cx="71625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1625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170-FE69-4908-8D83-176B9CF97D8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IR Request: Select School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04920" y="685800"/>
          <a:ext cx="761976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61976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E36-FADF-472F-BCB2-760A15F2428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IR Request: Selection Criteria Confirmati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4920" y="609480"/>
          <a:ext cx="731520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731520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E53-2FAA-43CD-9FD6-58C55D271F8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IR Request: Check Request Statu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81320" y="121932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04920" y="533520"/>
          <a:ext cx="647676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47676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337-ADC3-4B7A-99CC-DAF82B37A77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: Query Require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can be set up to run following the next CPS compute or at a future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must be completed before next query can be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query entered is displayed when user returns to ISIR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imit on number of times an ISIR is requ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850-66C1-4C30-BE06-F8ACB266C72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: Query Resul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queries run, files of requested ISIRs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loaded to SAIG mailboxes in ISRF05OP messag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of requested ISIRs must be retrieved within 14 calendar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0DE-9E3C-4A87-AA2E-3592290A592A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Pushed” ISIR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ISIRs automatically “pushed” regardless of option selected by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C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 C Cod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-generated transactions (NSLDS post-screening, DHS automated secondary confirmation, reprocessing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63B-E29C-4BB8-912C-2283B4123ECC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chool Responsibiliti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e and review all of the ISIRs that are automatically pushed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ISIRs for all of the students who have enrolled at your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48B-BEA0-40FE-94E6-BFB14003ECA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dditional Information and Resourc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A Access to CPS Online UR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afsa.ed.gov/FAA/faa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G Enrollment UR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sawebenroll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4-2005 Implementation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/26/2003 – SAIG Enro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/7/2003 – FOTW/FAA Access Demo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1/2004 – FAA Access to CP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1B7-B3C6-4DC2-A602-53B0EC8DCF07}" type="slidenum">
              <a:t>69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ow Does the DPA Enroll FAA Users?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Student Aid Internet Gateway On-lin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sawebenroll.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FAA Admin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8120" y="1219320"/>
          <a:ext cx="60958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19320"/>
                    <a:ext cx="6095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D80-6191-44CA-B91F-C8CE2F897CFA}" type="slidenum">
              <a:t>7</a:t>
            </a:fld>
          </a:p>
        </p:txBody>
      </p:sp>
    </p:spTree>
  </p:cSld>
  <p:transition>
    <p:cover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Demo Site for FAFSA on the Web and FAA Acces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For FAA’s to learn the new site before it’s live and to tra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afsademo.test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Name: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d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: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afsa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ed in the 2004-2005 CPS Test System User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adownload.ed.gov/CPSTestSys0405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52268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D89-C591-44AF-B8B2-A807C116AF9D}" type="slidenum">
              <a:t>70</a:t>
            </a:fld>
          </a:p>
        </p:txBody>
      </p:sp>
    </p:spTree>
  </p:cSld>
  <p:transition>
    <p:cover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echnical Ass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PS/WAN Technic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1-800-330-5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19-665-766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pswan@nc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69C-D4AE-4208-BD8A-730F46EC9979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Questions and Com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Like To See In The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ore information while at the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to the PC Lab for assistanc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FSA on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A Access to CPS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G Enrol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Hands-o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– ISIR Datam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– FAA Access to CPS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9F8-3917-4C46-9BB5-7E3A2C27ABBB}" type="slidenum">
              <a:t>72</a:t>
            </a:fld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nrolling New FAA User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G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DPA’s SSN and D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“Add new FAA Us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o mirror DPA access or customiz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37A-1636-43EA-AD97-5D69420D1A5E}" type="slidenum">
              <a:t>8</a:t>
            </a:fld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nrolling New FAA Users: Provide Demo Dat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new FAA User’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graphic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ing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ecurity Number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23F-5EDF-4846-836D-8211B1DB07E3}" type="slidenum">
              <a:t>9</a:t>
            </a:fld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19:27:43Z</dcterms:modified>
  <cp:revision>174</cp:revision>
  <dc:subject/>
  <dc:title>PowerPoint Presentation</dc:title>
</cp:coreProperties>
</file>