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699B8-73F6-4D50-84C4-AD702DBAF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8F86-F746-4A8A-8E84-0EAD7F53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B1228-9E27-4882-99E8-4B292A575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ACD7-821B-4A07-8D78-3DD6D870F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0C96-197E-4DA1-AAFF-6FEFD370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7DD82-A743-46A3-A71E-B0783781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823F-3FDA-4B48-8A4E-CE6D2852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2DADE-43C4-4F84-A552-9786AC7F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CEC8-9BE1-4D71-A362-BC3943F02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8929-F3E1-4F58-A4CD-CF9BB0C7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09F72-D4C6-4950-B40E-E85B4D03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04256-1425-4B7A-A717-7D79BACAF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7350-50F9-46F2-8D15-3983D978D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3.org/TR/xquery/"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w3.org/TR/xquery/"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w3.org/TR/xlink/"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hyperlink" Target="http://www.ebxml.org/" TargetMode="External"/><Relationship Id="rId3" Type="http://schemas.openxmlformats.org/officeDocument/2006/relationships/hyperlink" Target="http://www.oasis-open.org/" TargetMode="External"/><Relationship Id="rId4" Type="http://schemas.openxmlformats.org/officeDocument/2006/relationships/hyperlink" Target="http://www.xml.com/" TargetMode="External"/><Relationship Id="rId5" Type="http://schemas.openxmlformats.org/officeDocument/2006/relationships/hyperlink" Target="http://sys-con.com/xml/" TargetMode="External"/><Relationship Id="rId6" Type="http://schemas.openxmlformats.org/officeDocument/2006/relationships/hyperlink" Target="http://www.xfront.com/" TargetMode="Externa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Holly.Hyland@ed.gov" TargetMode="External"/><Relationship Id="rId2" Type="http://schemas.openxmlformats.org/officeDocument/2006/relationships/hyperlink" Target="mailto:Andrew.Smalera@accenture.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Arial"/>
              </a:rPr>
              <a:t>XML: Advanced Guide</a:t>
            </a:r>
            <a:endParaRPr b="0" lang="en-US" sz="4400" spc="-1" strike="noStrike">
              <a:solidFill>
                <a:srgbClr val="0033cc"/>
              </a:solidFill>
              <a:latin typeface="Arial"/>
            </a:endParaRPr>
          </a:p>
        </p:txBody>
      </p:sp>
      <p:sp>
        <p:nvSpPr>
          <p:cNvPr id="43"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ly A. Hyland, FS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Smalera, XML Framework</a:t>
            </a:r>
            <a:endParaRPr b="0" lang="en-US" sz="3200" spc="-1" strike="noStrike">
              <a:solidFill>
                <a:srgbClr val="000000"/>
              </a:solidFill>
              <a:latin typeface="Arial"/>
            </a:endParaRPr>
          </a:p>
        </p:txBody>
      </p:sp>
      <p:sp>
        <p:nvSpPr>
          <p:cNvPr id="44" name=""/>
          <p:cNvSpPr/>
          <p:nvPr/>
        </p:nvSpPr>
        <p:spPr>
          <a:xfrm>
            <a:off x="5562720" y="1066680"/>
            <a:ext cx="3047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14</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54D678F7-1C93-406D-BA76-8B33EF113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Russian Doll Design Schema Snippet</a:t>
            </a:r>
            <a:endParaRPr b="0" lang="en-US" sz="3200" spc="-1" strike="noStrike">
              <a:solidFill>
                <a:srgbClr val="0033cc"/>
              </a:solidFill>
              <a:latin typeface="Arial"/>
            </a:endParaRPr>
          </a:p>
        </p:txBody>
      </p:sp>
      <p:sp>
        <p:nvSpPr>
          <p:cNvPr id="62"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element name="Movie"&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complexTyp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sequenc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Title"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Director"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Genre"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ReleaseYear" type="xsd:gYea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sequenc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complexTyp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element&g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3B35216-F53D-4672-A6F9-2033B4E8A2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Salami Slice Design</a:t>
            </a:r>
            <a:endParaRPr b="0" lang="en-US" sz="2800" spc="-1" strike="noStrike">
              <a:solidFill>
                <a:srgbClr val="0033cc"/>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ami Slice Design defines all objects in the global scope.</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created using this methodology make object reuse very easy.</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between the Schema and an instance document will not be as straight forwar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limitation does not carry over to automated validation of instance documents against Schemas.</a:t>
            </a:r>
            <a:endParaRPr b="0" lang="en-US" sz="20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the reuse of elements so that Schema designers must be cognizant of possible namespace issues like name colli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BCA655-E58E-4481-BFC5-5FDEC89EF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Salami Slice Design Schema Snippet</a:t>
            </a:r>
            <a:endParaRPr b="0" lang="en-US" sz="3200" spc="-1" strike="noStrike">
              <a:solidFill>
                <a:srgbClr val="0033cc"/>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Movie"&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d:complexTyp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sequenc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Tit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Direc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Genr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ReleaseYea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sequenc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d:complexTyp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Title"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Director"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Genre"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ReleaseYear" type="xsd:gYear"/&g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634A95-6685-4DA0-AB40-1226E55B0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6091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chema Design Best Practices: Venetian Blind Design</a:t>
            </a:r>
            <a:endParaRPr b="0" lang="en-US" sz="3200" spc="-1" strike="noStrike">
              <a:solidFill>
                <a:srgbClr val="0033cc"/>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netian Blind Design leverages the design advantages of both the Russian Doll and Salami Slice Design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reuse while also hiding namespace complexities (by creating type definition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ctually creating elements and referencing them, a Schema designer would create a type, and reference that when creating their el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6D35EEC-6DC1-42E5-B61B-DED5C01EB4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Venetian Blind Design Schema Snippet</a:t>
            </a:r>
            <a:endParaRPr b="0" lang="en-US" sz="3200" spc="-1" strike="noStrike">
              <a:solidFill>
                <a:srgbClr val="0033cc"/>
              </a:solidFill>
              <a:latin typeface="Arial"/>
            </a:endParaRPr>
          </a:p>
        </p:txBody>
      </p:sp>
      <p:sp>
        <p:nvSpPr>
          <p:cNvPr id="7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Tit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Directo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Genr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ReleaseYea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gYea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complexType name="Movi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Title" type="Tit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Director" type="Directo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Genre" type="Genr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ReleaseYear" type="ReleaseYea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complex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element name="Movie" type="MovieType"/&g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A84F43A-A4E3-4260-8550-9A5C7852B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r>
              <a:rPr b="0" lang="en-US" sz="3200" spc="-1" strike="noStrike">
                <a:solidFill>
                  <a:srgbClr val="0033cc"/>
                </a:solidFill>
                <a:latin typeface="Arial"/>
              </a:rPr>
              <a:t>	</a:t>
            </a:r>
            <a:endParaRPr b="0" lang="en-US" sz="3200" spc="-1" strike="noStrike">
              <a:solidFill>
                <a:srgbClr val="0033cc"/>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Tool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Java Parser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SL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Quer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th</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in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74FC6E-097F-4EB1-833E-FC1699D6F2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 Development Tools</a:t>
            </a:r>
            <a:r>
              <a:rPr b="0" lang="en-US" sz="3200" spc="-1" strike="noStrike">
                <a:solidFill>
                  <a:srgbClr val="0033cc"/>
                </a:solidFill>
                <a:latin typeface="Arial"/>
              </a:rPr>
              <a:t>	</a:t>
            </a:r>
            <a:endParaRPr b="0" lang="en-US" sz="3200" spc="-1" strike="noStrike">
              <a:solidFill>
                <a:srgbClr val="0033cc"/>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categories of tools and many different tools available to support XML development.  The following are representative Integrated Development Environment (IDE) too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ic </a:t>
            </a:r>
            <a:r>
              <a:rPr b="1" lang="en-US" sz="2000" spc="-1" strike="noStrike">
                <a:solidFill>
                  <a:srgbClr val="000000"/>
                </a:solidFill>
                <a:latin typeface="Arial"/>
              </a:rPr>
              <a:t>Stylus Studio </a:t>
            </a:r>
            <a:r>
              <a:rPr b="0" lang="en-US" sz="2000" spc="-1" strike="noStrike">
                <a:solidFill>
                  <a:srgbClr val="000000"/>
                </a:solidFill>
                <a:latin typeface="Arial"/>
              </a:rPr>
              <a:t>provides support for authoring XQuery, XSLT stylesheets, XML schema, and related XML documents.  </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ova </a:t>
            </a:r>
            <a:r>
              <a:rPr b="1" lang="en-US" sz="2000" spc="-1" strike="noStrike">
                <a:solidFill>
                  <a:srgbClr val="000000"/>
                </a:solidFill>
                <a:latin typeface="Arial"/>
              </a:rPr>
              <a:t>XMLSpy</a:t>
            </a:r>
            <a:r>
              <a:rPr b="0" lang="en-US" sz="2000" spc="-1" strike="noStrike">
                <a:solidFill>
                  <a:srgbClr val="000000"/>
                </a:solidFill>
                <a:latin typeface="Arial"/>
              </a:rPr>
              <a:t> is an XML Development Environment that can be used for designing, editing, and implementing XML.  It provides a graphical view of schemas and instance documents.  In addition, XMLSpy provides an integrated XML instance document validator.</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co </a:t>
            </a:r>
            <a:r>
              <a:rPr b="1" lang="en-US" sz="2000" spc="-1" strike="noStrike">
                <a:solidFill>
                  <a:srgbClr val="000000"/>
                </a:solidFill>
                <a:latin typeface="Arial"/>
              </a:rPr>
              <a:t>TurboXML</a:t>
            </a:r>
            <a:r>
              <a:rPr b="0" lang="en-US" sz="2000" spc="-1" strike="noStrike">
                <a:solidFill>
                  <a:srgbClr val="000000"/>
                </a:solidFill>
                <a:latin typeface="Arial"/>
              </a:rPr>
              <a:t> is an IDE for developing and managing XML assets.  It provides support for creating, validating, converting, and managing XML schemas, XML files, and DT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9A60D8-DA02-4DF6-8374-F20EF567A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ML Java Parsers</a:t>
            </a:r>
            <a:endParaRPr b="0" lang="en-US" sz="3200" spc="-1" strike="noStrike">
              <a:solidFill>
                <a:srgbClr val="0033cc"/>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llow you to read in XML documents.  Provide access to information stored in XML documents.</a:t>
            </a:r>
            <a:endParaRPr b="0" lang="en-US" sz="1800" spc="-1" strike="noStrike">
              <a:solidFill>
                <a:srgbClr val="000000"/>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general categories of pars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ll-in-Memory Parsers</a:t>
            </a:r>
            <a:r>
              <a:rPr b="0" lang="en-US" sz="1600" spc="-1" strike="noStrike">
                <a:solidFill>
                  <a:srgbClr val="000000"/>
                </a:solidFill>
                <a:latin typeface="Arial"/>
              </a:rPr>
              <a:t> – load the entire XML document into memory and provide a tree-like view of the document.  As a result, the entire document must be processed before you can access any piece of the document at al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ush Parsers</a:t>
            </a:r>
            <a:r>
              <a:rPr b="0" lang="en-US" sz="1600" spc="-1" strike="noStrike">
                <a:solidFill>
                  <a:srgbClr val="000000"/>
                </a:solidFill>
                <a:latin typeface="Arial"/>
              </a:rPr>
              <a:t> – hide the interaction with the actual document and “push” the tokens to user through callback methods.  Reads the XML stream, and when it encounters an element (or entity, etc.), it generates an event.  It is up to the application to handle those events, usually via a callback or an event handler clas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X</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ull Parsers</a:t>
            </a:r>
            <a:r>
              <a:rPr b="0" lang="en-US" sz="1600" spc="-1" strike="noStrike">
                <a:solidFill>
                  <a:srgbClr val="000000"/>
                </a:solidFill>
                <a:latin typeface="Arial"/>
              </a:rPr>
              <a:t> – the application developer is responsible for the parsing loop, pulling elements (or entities, etc.) out of the XML stream explicitly.</a:t>
            </a:r>
            <a:endParaRPr b="0" lang="en-US" sz="1600" spc="-1" strike="noStrike">
              <a:solidFill>
                <a:srgbClr val="000000"/>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the two most widespread parsers are DOM and SA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AA4067-5E37-40A0-8E35-30D86B1878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Java Parsers: </a:t>
            </a:r>
            <a:br>
              <a:rPr sz="3200"/>
            </a:br>
            <a:r>
              <a:rPr b="0" lang="en-US" sz="3200" spc="-1" strike="noStrike">
                <a:solidFill>
                  <a:srgbClr val="0033cc"/>
                </a:solidFill>
                <a:latin typeface="Arial"/>
              </a:rPr>
              <a:t>Document Object Model (DOM)</a:t>
            </a:r>
            <a:endParaRPr b="0" lang="en-US" sz="3200" spc="-1" strike="noStrike">
              <a:solidFill>
                <a:srgbClr val="0033cc"/>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cument Object Model (DOM) API is associated with all-in-memory parser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is more than just a parsing technology; it is a generic document object model.</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can read in an XML stream, can optionally validate it against a schema or DTD, and when it’s done parsing, it provides a tree view of the document.</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provides access to the information stored in an XML document as a hierarchical object model.  DOM creates a tree of nodes (based on the structure and information in the XML document) and provide access to the information by interacting with the tree of node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OM, each element corresponds to a node in the tree.  Using DOM, developers can manipulate the document in any number of ways, including addition, modification, and removal of nodes and text content.</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OM instance can also be serialized to an XML stream.</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great deal of overhead to using DOM, and for very large documents that can be a big problem.  For each element, there must be a corresponding node instance in memory, as well as a collection to hold any attributes that the node may contain.  DOM stores everything, including attribute values, as a string.  Thus, if you have Boolean or numerical attributes, DOM wastes space storing them as string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will usually be outperformed by a streaming parser, because most DOM implementations are now built on top of a streaming parser.</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st major performance issues it the overhead of creating and maintaining the tree structure that makes DOM so useful in the first plac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616DA5E-DD80-4AC2-9C5D-4FF0BFC82A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Java Parsers: </a:t>
            </a:r>
            <a:br>
              <a:rPr sz="3200"/>
            </a:br>
            <a:r>
              <a:rPr b="0" lang="en-US" sz="3200" spc="-1" strike="noStrike">
                <a:solidFill>
                  <a:srgbClr val="0033cc"/>
                </a:solidFill>
                <a:latin typeface="Arial"/>
              </a:rPr>
              <a:t>Simple API for XML (SAX)</a:t>
            </a:r>
            <a:endParaRPr b="0" lang="en-US" sz="3200" spc="-1" strike="noStrike">
              <a:solidFill>
                <a:srgbClr val="0033cc"/>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API for XML (SAX) Parser</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X API is associated with push parsers.</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X allows users to define a set of handler objects through which it notifies you when interesting events occur during the sequential  parsing of a document.</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it is forward-only, SAX is not particularly resource intensive. </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SAX basically just reads XML content from a stream and then passes that content on to the application through the event handler interfaces, SAX implementations generally have very little overhead, which in turn usually leads to good parsing performance.</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t is not implemented properly, the event-handling code for dealing with complex or deeply nested documents can become very convoluted and difficult to read and maintain.  </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X doesn’t define an object model of its own.  Therefore, in most cases the developer will have to define their own data structures to store the data.</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SAX implementation has commenced the parsing process, the only way to terminate the process is to throw an exception, which is less than ide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3DC09B3-A9A7-45C2-A9AF-6512BAA89F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genda</a:t>
            </a:r>
            <a:endParaRPr b="0" lang="en-US" sz="3600" spc="-1" strike="noStrike">
              <a:solidFill>
                <a:srgbClr val="0033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XML Framework at FSA?</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Usage at FSA</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Usage in the Community</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Design Best Practic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upporting Technolog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Development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ars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T, XQuery, XLink, and XPath</a:t>
            </a:r>
            <a:endParaRPr b="0" lang="en-US" sz="20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F1A0AC-61E6-497F-8C22-F6FAC5FEC3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SLT</a:t>
            </a:r>
            <a:endParaRPr b="0" lang="en-US" sz="3200" spc="-1" strike="noStrike">
              <a:solidFill>
                <a:srgbClr val="0033c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provides developers with a higher-level language to access and transform XML streams.  There are two methods for implementing XSL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sh</a:t>
            </a:r>
            <a:r>
              <a:rPr b="0" lang="en-US" sz="2400" spc="-1" strike="noStrike">
                <a:solidFill>
                  <a:srgbClr val="000000"/>
                </a:solidFill>
                <a:latin typeface="Arial"/>
              </a:rPr>
              <a:t> – The stylesheet provides rules for mapping input streams to target streams.  Rules are set up for each element that will be encountered and “Pushed” through the trans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ll</a:t>
            </a:r>
            <a:r>
              <a:rPr b="0" lang="en-US" sz="2400" spc="-1" strike="noStrike">
                <a:solidFill>
                  <a:srgbClr val="000000"/>
                </a:solidFill>
                <a:latin typeface="Arial"/>
              </a:rPr>
              <a:t> – The stylesheet provides rules for how elements are pulled out of a source stream, put into the target stre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945D98-B93F-4FF7-8E07-495FFF20A7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Query</a:t>
            </a:r>
            <a:endParaRPr b="0" lang="en-US" sz="3200" spc="-1" strike="noStrike">
              <a:solidFill>
                <a:srgbClr val="0033cc"/>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Query enables users to query and extract data from an XML document.  It is an extension of XPath, but has manipulation capabilities rather than being just a lookup.</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is increasingly being used to model and store structured, semi-structured and relational data, and XQuery provides a powerful mechanism to access and manipulate the data stored in XML documents.</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dditional information refer to:</a:t>
            </a:r>
            <a:br>
              <a:rPr sz="2400"/>
            </a:br>
            <a:r>
              <a:rPr b="0" lang="en-US" sz="2400" spc="-1" strike="noStrike" u="sng">
                <a:solidFill>
                  <a:srgbClr val="ccccff"/>
                </a:solidFill>
                <a:uFillTx/>
                <a:latin typeface="Arial"/>
                <a:hlinkClick r:id="rId1"/>
              </a:rPr>
              <a:t>http://www.w3.org/TR/xque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7F7F40-D80A-4174-9C35-D564909B83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Path</a:t>
            </a:r>
            <a:endParaRPr b="0" lang="en-US" sz="3200" spc="-1" strike="noStrike">
              <a:solidFill>
                <a:srgbClr val="0033cc"/>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th is a non-XML language used to identify parts of XML documents.  It does this by viewing the hierarchical structure of an XML document as a tree of nodes and returns results based on the position of a node, its type or conten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and XPointer use XPath.</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refer to:</a:t>
            </a:r>
            <a:br>
              <a:rPr sz="2800"/>
            </a:br>
            <a:r>
              <a:rPr b="0" lang="en-US" sz="2800" spc="-1" strike="noStrike" u="sng">
                <a:solidFill>
                  <a:srgbClr val="ccccff"/>
                </a:solidFill>
                <a:uFillTx/>
                <a:latin typeface="Arial"/>
                <a:hlinkClick r:id="rId1"/>
              </a:rPr>
              <a:t>http://www.w3.org/TR/xque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359F4E-4E34-4337-B52A-BCDD678EE6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Link</a:t>
            </a:r>
            <a:endParaRPr b="0" lang="en-US" sz="3200" spc="-1" strike="noStrike">
              <a:solidFill>
                <a:srgbClr val="0033cc"/>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Link allows elements to be inserted into XML documents in order to create and describe links between resources.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links – simple and extended.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inks are identical to HTML links enabling the linking to other HTML and XML documen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links allow two-way linking between a group of documents and menu capabilities.</a:t>
            </a:r>
            <a:endParaRPr b="0" lang="en-US" sz="24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refer to:</a:t>
            </a:r>
            <a:br>
              <a:rPr sz="2800"/>
            </a:br>
            <a:r>
              <a:rPr b="0" lang="en-US" sz="2800" spc="-1" strike="noStrike" u="sng">
                <a:solidFill>
                  <a:srgbClr val="ccccff"/>
                </a:solidFill>
                <a:uFillTx/>
                <a:latin typeface="Arial"/>
                <a:hlinkClick r:id="rId1"/>
              </a:rPr>
              <a:t>http://www.w3.org/TR/xlin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78F8CA1-ADD8-4F2F-96A6-03099C62AB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XML References</a:t>
            </a:r>
            <a:endParaRPr b="0" lang="en-US" sz="3600" spc="-1" strike="noStrike">
              <a:solidFill>
                <a:srgbClr val="0033cc"/>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formation on XML can be found in the following reference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www.w3c.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ebxml.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3"/>
              </a:rPr>
              <a:t>www.oasis-open.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4"/>
              </a:rPr>
              <a:t>www.xml.com</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Journal &lt;</a:t>
            </a:r>
            <a:r>
              <a:rPr b="0" lang="en-US" sz="2800" spc="-1" strike="noStrike" u="sng">
                <a:solidFill>
                  <a:srgbClr val="ccccff"/>
                </a:solidFill>
                <a:uFillTx/>
                <a:latin typeface="Arial"/>
                <a:hlinkClick r:id="rId5"/>
              </a:rPr>
              <a:t>http://sys-con.com/xml/</a:t>
            </a:r>
            <a:r>
              <a:rPr b="0" lang="en-US" sz="2800" spc="-1" strike="noStrike" u="sng">
                <a:solidFill>
                  <a:srgbClr val="000000"/>
                </a:solidFill>
                <a:uFillTx/>
                <a:latin typeface="Arial"/>
              </a:rPr>
              <a:t>&g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www.xfront.c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23A996-2B97-42D9-B78C-C384D3E5CE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Questions?</a:t>
            </a:r>
            <a:endParaRPr b="0" lang="en-US" sz="3600" spc="-1" strike="noStrike">
              <a:solidFill>
                <a:srgbClr val="0033cc"/>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  We can be reached at:</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Holly A. Hyl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202-377-371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Holly.Hyland@ed.gov</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ndrew Smaler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202-962-0789</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2"/>
              </a:rPr>
              <a:t>Andrew.Smalera@accenture.com</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6F33C3-1E98-49F9-8C9D-8D1A231680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jectives</a:t>
            </a:r>
            <a:endParaRPr b="0" lang="en-US" sz="3600" spc="-1" strike="noStrike">
              <a:solidFill>
                <a:srgbClr val="0033cc"/>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overview of the FSA XML Framework.</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update on XML Usage at FSA and within the Community</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XML Schema Design Patterns.</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information on XML supporting technologie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Too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ars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T, XQuery, XPath, and XLink</a:t>
            </a:r>
            <a:endParaRPr b="0" lang="en-US" sz="20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references for additional researc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FCA991-A50B-4DF0-826D-395A4B48F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What is the FSA XML Framework?</a:t>
            </a:r>
            <a:endParaRPr b="0" lang="en-US" sz="3600" spc="-1" strike="noStrike">
              <a:solidFill>
                <a:srgbClr val="0033cc"/>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ssion provides an overview of the current status of XML usage within the Financial Aid Community and some advanced topics relevant to implementing and taking advantage of some XML’s benefi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31DE08-3392-4A80-944E-688AF0CA0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XML Usage at FSA</a:t>
            </a:r>
            <a:endParaRPr b="0" lang="en-US" sz="3600" spc="-1" strike="noStrike">
              <a:solidFill>
                <a:srgbClr val="0033cc"/>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use of XML by F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chools and software vendors are moving to being COD Full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is incorporating XML sup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S ISIR will be implemented as an XML Schema for the 05-06 Award Ye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09D30F6-3C6A-4024-BE45-D2B4626CB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Usage in the Community</a:t>
            </a:r>
            <a:endParaRPr b="0" lang="en-US" sz="3200" spc="-1" strike="noStrike">
              <a:solidFill>
                <a:srgbClr val="0033cc"/>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use of XML by the Financial Aid Commun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Record: CommonLine XML Schema has been drafted and is in the process of being implemen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tsecondary Academic Transcript has been drafted as an XML Sche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EOR and ELM are using and providing support for XM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C43622-22E5-4731-A903-D82441B44E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6091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a:t>
            </a:r>
            <a:r>
              <a:rPr b="0" lang="en-US" sz="2800" spc="-1" strike="noStrike">
                <a:solidFill>
                  <a:srgbClr val="0033cc"/>
                </a:solidFill>
                <a:latin typeface="Arial"/>
              </a:rPr>
              <a:t>	</a:t>
            </a:r>
            <a:endParaRPr b="0" lang="en-US" sz="2800" spc="-1" strike="noStrike">
              <a:solidFill>
                <a:srgbClr val="0033cc"/>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Doll Desig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mi Slice Desig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tian Blind Desig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BF430D-D325-4B4C-B550-A527F2C5A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6091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a:t>
            </a:r>
            <a:br>
              <a:rPr sz="2800"/>
            </a:br>
            <a:r>
              <a:rPr b="0" lang="en-US" sz="2800" spc="-1" strike="noStrike">
                <a:solidFill>
                  <a:srgbClr val="0033cc"/>
                </a:solidFill>
                <a:latin typeface="Arial"/>
              </a:rPr>
              <a:t>Overview</a:t>
            </a:r>
            <a:endParaRPr b="0" lang="en-US" sz="2800" spc="-1" strike="noStrike">
              <a:solidFill>
                <a:srgbClr val="0033cc"/>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FSA and the Financial Aid Community have developed a number of XML Schemas that are in use today, individual schools and vendors may find a use for developing their own schemas for internal data exchange and processing.</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Design Best Practices provides information on the three design patterns commonly used to create XML Schemas.</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sign pattern has its own pros and cons and may be used depending on the situation.</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se different design patterns will be helpful for schools and vendors to provide feedback on future Schema development efforts by FSA and the Commun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566B6A5-582E-40DD-ACAA-3E40F4B7AC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Russian Doll Design</a:t>
            </a:r>
            <a:endParaRPr b="0" lang="en-US" sz="2800" spc="-1" strike="noStrike">
              <a:solidFill>
                <a:srgbClr val="0033cc"/>
              </a:solidFill>
              <a:latin typeface="Arial"/>
            </a:endParaRPr>
          </a:p>
        </p:txBody>
      </p:sp>
      <p:sp>
        <p:nvSpPr>
          <p:cNvPr id="60"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ssian Doll Design defines objects in local scop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created using this methodology will have Schemas that are very similar to the instance docu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the reusability of Schema designs.</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hiding namespac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event namespace issues like name colli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4F70B1-4051-4B12-A2BA-E230E26116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18:19:52Z</dcterms:modified>
  <cp:revision>83</cp:revision>
  <dc:subject/>
  <dc:title>PowerPoint Presentation</dc:title>
</cp:coreProperties>
</file>