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1C3F-E57E-488F-AEDC-1D77C6EB5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C1F0-63B5-4768-B371-F4FB0D74A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600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03208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AD6-62A6-462F-9512-F376B0B9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F72-D369-4166-A433-DCA26C7B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ACC-29D4-48B6-A09C-19472E1C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9DD-8876-4B3D-828B-93B1EB2A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FB5-6DBF-4B29-944B-A365ED8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C10-F733-4C19-B8EB-33C92AAE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1EF-4C66-4C60-BB23-92DE7C33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86D-F739-4079-B583-4746193B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746-F2DC-4D9A-9A4C-DD1FFAA2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9C9-75B3-4880-A92E-590B8F03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C63-3551-4ABD-A7DC-4F98D93B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6FC-F108-47B4-B93B-7533F6BD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22C1-E87B-4203-B37C-43853CBD0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6311880"/>
            <a:ext cx="9144000" cy="546120"/>
            <a:chOff x="0" y="6311880"/>
            <a:chExt cx="9144000" cy="546120"/>
          </a:xfrm>
        </p:grpSpPr>
        <p:sp>
          <p:nvSpPr>
            <p:cNvPr id="7" name=""/>
            <p:cNvSpPr/>
            <p:nvPr/>
          </p:nvSpPr>
          <p:spPr>
            <a:xfrm>
              <a:off x="0" y="631188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2920" y="6446880"/>
              <a:ext cx="8731080" cy="41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6446880"/>
              <a:ext cx="137880" cy="141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47560" y="6311880"/>
              <a:ext cx="13968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47560" y="6446880"/>
              <a:ext cx="139680" cy="141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6586560"/>
              <a:ext cx="136440" cy="138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1760" y="6448320"/>
              <a:ext cx="14112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09680" y="6583320"/>
              <a:ext cx="137880" cy="138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4680" y="6721560"/>
              <a:ext cx="136440" cy="136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2920" y="0"/>
              <a:ext cx="8731080" cy="4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"/>
          <p:cNvSpPr/>
          <p:nvPr/>
        </p:nvSpPr>
        <p:spPr>
          <a:xfrm>
            <a:off x="0" y="533520"/>
            <a:ext cx="304920" cy="579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XML: A Beginners Gu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ly A. Hyland,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Smalera, XM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mportance of Standard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year it becomes more expensive to upgrad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organization is expected to do more with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make train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change for the sak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ross-train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– XML Benefi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388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a meta language – allowing trading partners to   develop markup languag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hierarchical in nature – can represent more complex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blocks can be repeated – making information sharing more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s define advanced relationships that are not possible in standard flat file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– Current Stat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s wit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Tran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ecord Comm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Framework 10-31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– FSA, CommonLine, and PES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1337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057400"/>
            <a:ext cx="76201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2919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Goal of developing an XML Higher Education         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Lessons Learned (Technology and 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with Electronic Standards Council (ESC) as they develop the Common Record: Common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Project Management assistance to PESC as they developed the Academic Transcript schema and the CommonRecord: CommonLin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– </a:t>
            </a: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SA’s XML Framewor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trategic Assessment and Enterpris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Technical Reference and Usag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Core Component Dict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Registry and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Framework Communication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ISIR Performance Test and SAIG Capacit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2320" y="718920"/>
            <a:ext cx="73152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Overview - XML Framework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5160" y="1828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1828800"/>
            <a:ext cx="6629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SA XML Framework will outline FSA’s target state and implementation strategy for using XML across the enterprise.  The XML Framework will provide standards, processes, and a toolset for implementing X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20880" y="2895480"/>
          <a:ext cx="7842240" cy="37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2895480"/>
                    <a:ext cx="7842240" cy="37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mmon Record Estimated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plementation Schedul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666880"/>
          <a:ext cx="8077320" cy="3565800"/>
        </p:xfrm>
        <a:graphic>
          <a:graphicData uri="http://schemas.openxmlformats.org/drawingml/2006/table">
            <a:tbl>
              <a:tblPr/>
              <a:tblGrid>
                <a:gridCol w="1940040"/>
                <a:gridCol w="3068640"/>
                <a:gridCol w="3068640"/>
              </a:tblGrid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-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v 1.0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-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COD 2.0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nged all tag nam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-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COD 2.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+2 new tags – 6 old ta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ISIR 1.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gn with standar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gn with standar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ML Requir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6-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ISIR 1.0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ML Requir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3.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7-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ISIR 1.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3.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 rot="718200">
            <a:off x="2971440" y="1676520"/>
            <a:ext cx="1752480" cy="1144440"/>
          </a:xfrm>
          <a:prstGeom prst="irregularSeal2">
            <a:avLst/>
          </a:prstGeom>
          <a:gradFill rotWithShape="0">
            <a:gsLst>
              <a:gs pos="0">
                <a:srgbClr val="cc0099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62400" y="1981080"/>
            <a:ext cx="752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I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 rot="718200">
            <a:off x="6453000" y="1523880"/>
            <a:ext cx="1752480" cy="1371600"/>
          </a:xfrm>
          <a:prstGeom prst="irregularSeal2">
            <a:avLst/>
          </a:prstGeom>
          <a:gradFill rotWithShape="0">
            <a:gsLst>
              <a:gs pos="0">
                <a:srgbClr val="cc0099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0" y="19051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D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2432160"/>
            <a:ext cx="79502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bers of the community have come together to build an XML standard for higher edu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Vision/Where are we going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XML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096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documen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world wide web consortium (W3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Advanta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nderstand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has large base of users and support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rowser versions underst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industry interest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Advanta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iles are machine and human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need to read it but you c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ire document or portions of the record can be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lements can be omitted and order is les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information can be added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s can reference other sch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Characteristic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ags “&lt;&gt;” and “&lt;/&gt;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: document must have beginning and end. Most elements must have beginning and end ta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reduc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fi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160020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LastName&gt;Stones&lt;/Last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FirstName&gt;Dave&lt;/First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MiddleInitial&gt;Z&lt;/MiddleInitia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Exampl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otential Us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Browse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search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ntrol of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to Application docum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based e-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36600"/>
            <a:ext cx="4680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304920"/>
            <a:ext cx="1901880" cy="605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UDENTID  type = “SSN”&gt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678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UDENTID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MOGRAPHIC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RTH DATE type=“DATE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97408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RTH DAT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GEN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GEN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EMOGRAPHIC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GRADE_REPORT&gt;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ESSION Code=”!199901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ABEL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PRING S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LABEL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YEAR type=”CCYY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YEA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URSE index=”1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REDIT type=”hour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REDI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GRA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GRA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PN 4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URSE_TITLE&gt;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PANISH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URSE_TITL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URS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URSE index=”2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REDIT type=”hour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REDI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GRA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GRA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HIS 3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URSE_TITLE&gt;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HIS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URSE_TITL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URSE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1600200" cy="1211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0" r="0" b="44129"/>
          <a:stretch/>
        </p:blipFill>
        <p:spPr>
          <a:xfrm>
            <a:off x="5562720" y="2286000"/>
            <a:ext cx="2536560" cy="1736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1919160" cy="1488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657600" y="762120"/>
            <a:ext cx="1295280" cy="1295280"/>
          </a:xfrm>
          <a:prstGeom prst="foldedCorner">
            <a:avLst>
              <a:gd name="adj" fmla="val 2031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.x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2590920"/>
            <a:ext cx="1371600" cy="1371600"/>
          </a:xfrm>
          <a:prstGeom prst="foldedCorner">
            <a:avLst>
              <a:gd name="adj" fmla="val 2031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a.x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4495680"/>
            <a:ext cx="1371600" cy="1447920"/>
          </a:xfrm>
          <a:prstGeom prst="foldedCorner">
            <a:avLst>
              <a:gd name="adj" fmla="val 2031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.x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1371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1371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3276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200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5181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y use XML for Educational records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formation seamlessly and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 the shelf’ tools are coming to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-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s different databases 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nstitutions can ad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Terms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T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ter listing of all the elements including where and how they need to be placed in th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XML application that can describe the allowed content of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of checking structural validity of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 Docu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ing of all possible ta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Example Docu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ing of tags with ex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SL, XSL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an XML file into a another specifie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s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 that reads the document and divides it into individual elements, attributes, and other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: Holly A. Hy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: 202.377.3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lly.Hyland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: Andrew Smal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: 202.962.07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drew.Smalera@accentur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SA Business Need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redundant data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custom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ccuracy of 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efficiency in data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Common Recor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ation by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Student Financial Aid Pell, Direct Loan, and Campus-based 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ublished November 2001, implementation May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 PESC/XML Forum to jointly support and develop standards – February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IP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 - Common Rec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tandard XML “names” (tags) and “formats” (schema) for exchanging data within Highe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Origination and Disburs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FSA process for originating and disbursing Pell Grants and Direct Loans using Common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V="1">
            <a:off x="4648320" y="2895120"/>
            <a:ext cx="838080" cy="20574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90840" y="609120"/>
            <a:ext cx="642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Record Expans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IGINAL VI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se XML Technology to create financial aid data packet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876920"/>
            <a:ext cx="3429000" cy="13716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Aid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523520" y="3428640"/>
            <a:ext cx="121932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72200" y="3429000"/>
            <a:ext cx="685800" cy="1447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276720" y="3123720"/>
            <a:ext cx="1218960" cy="1752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3886200"/>
            <a:ext cx="1062000" cy="838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3352680"/>
            <a:ext cx="1066680" cy="91440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3048120"/>
            <a:ext cx="1062000" cy="757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3657600"/>
            <a:ext cx="1062000" cy="757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90840" y="456840"/>
            <a:ext cx="634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Record Expans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VISED VI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Use XML Technology to create higher education or cross-industry data packet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95680"/>
            <a:ext cx="6476760" cy="16765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80880" y="2971440"/>
            <a:ext cx="228600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934320" y="2362320"/>
            <a:ext cx="1371600" cy="2209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809880" y="3047760"/>
            <a:ext cx="1067040" cy="1447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52880" y="2743200"/>
            <a:ext cx="914400" cy="1752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429000"/>
            <a:ext cx="1218960" cy="838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276720"/>
            <a:ext cx="1067040" cy="91440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276720"/>
            <a:ext cx="1062000" cy="757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3276720"/>
            <a:ext cx="1062000" cy="757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495680"/>
            <a:ext cx="6476760" cy="83844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0"/>
            <a:ext cx="175248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572000"/>
            <a:ext cx="152388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r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572000"/>
            <a:ext cx="190476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724280"/>
            <a:ext cx="6476760" cy="16765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914040" y="1980720"/>
            <a:ext cx="2514600" cy="3429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58000" y="2133360"/>
            <a:ext cx="1219320" cy="32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971440" y="1447560"/>
            <a:ext cx="2133720" cy="32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1257120"/>
            <a:ext cx="1371600" cy="41907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590920"/>
            <a:ext cx="1904760" cy="15238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4724280"/>
            <a:ext cx="6476760" cy="83844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4800600"/>
            <a:ext cx="175248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152388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r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800600"/>
            <a:ext cx="190476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905120"/>
            <a:ext cx="1904760" cy="15238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1600200"/>
            <a:ext cx="1904760" cy="15238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819520"/>
            <a:ext cx="1905120" cy="15238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362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Record Expans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90840" y="609120"/>
            <a:ext cx="596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Expansion</a:t>
            </a: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vergence of Standard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24" idx="2"/>
            <a:endCxn id="125" idx="0"/>
          </p:cNvCxnSpPr>
          <p:nvPr/>
        </p:nvCxnSpPr>
        <p:spPr>
          <a:xfrm flipV="1" rot="10800000">
            <a:off x="3625200" y="3022200"/>
            <a:ext cx="1080" cy="3866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1219320" y="2057400"/>
            <a:ext cx="6781320" cy="4114440"/>
            <a:chOff x="1219320" y="2057400"/>
            <a:chExt cx="6781320" cy="4114440"/>
          </a:xfrm>
        </p:grpSpPr>
        <p:sp>
          <p:nvSpPr>
            <p:cNvPr id="127" name=""/>
            <p:cNvSpPr/>
            <p:nvPr/>
          </p:nvSpPr>
          <p:spPr>
            <a:xfrm>
              <a:off x="3844440" y="5207760"/>
              <a:ext cx="2770560" cy="964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ML Forum C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50400" y="3407760"/>
              <a:ext cx="1749960" cy="1285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ancial Ai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4520" y="3407760"/>
              <a:ext cx="1896120" cy="1285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missions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96480" y="2057400"/>
              <a:ext cx="1312560" cy="96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C X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6200" y="2057400"/>
              <a:ext cx="1458000" cy="9644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3440" y="2057400"/>
              <a:ext cx="1458360" cy="9644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e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9320" y="2057400"/>
              <a:ext cx="1458000" cy="9644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1" idx="2"/>
              <a:endCxn id="125" idx="0"/>
            </p:cNvCxnSpPr>
            <p:nvPr/>
          </p:nvCxnSpPr>
          <p:spPr>
            <a:xfrm flipH="1" rot="16200000">
              <a:off x="2592720" y="2375640"/>
              <a:ext cx="386280" cy="1677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30" idx="2"/>
              <a:endCxn id="125" idx="0"/>
            </p:cNvCxnSpPr>
            <p:nvPr/>
          </p:nvCxnSpPr>
          <p:spPr>
            <a:xfrm rot="5400000">
              <a:off x="4270680" y="2376000"/>
              <a:ext cx="386280" cy="1677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9" idx="2"/>
              <a:endCxn id="128" idx="0"/>
            </p:cNvCxnSpPr>
            <p:nvPr/>
          </p:nvCxnSpPr>
          <p:spPr>
            <a:xfrm flipV="1" rot="10800000">
              <a:off x="7052040" y="3021480"/>
              <a:ext cx="1080" cy="3862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5" idx="3"/>
              <a:endCxn id="127" idx="0"/>
            </p:cNvCxnSpPr>
            <p:nvPr/>
          </p:nvCxnSpPr>
          <p:spPr>
            <a:xfrm>
              <a:off x="4500720" y="4050360"/>
              <a:ext cx="729360" cy="11574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8" idx="1"/>
              <a:endCxn id="127" idx="0"/>
            </p:cNvCxnSpPr>
            <p:nvPr/>
          </p:nvCxnSpPr>
          <p:spPr>
            <a:xfrm flipV="1" rot="10800000">
              <a:off x="5229000" y="4050360"/>
              <a:ext cx="875520" cy="11574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2458800" y="5207760"/>
              <a:ext cx="1312560" cy="96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bX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" name=""/>
          <p:cNvCxnSpPr>
            <a:stCxn id="137" idx="3"/>
            <a:endCxn id="127" idx="1"/>
          </p:cNvCxnSpPr>
          <p:nvPr/>
        </p:nvCxnSpPr>
        <p:spPr>
          <a:xfrm>
            <a:off x="3772080" y="5690880"/>
            <a:ext cx="73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Paul.Hill.Jr</cp:lastModifiedBy>
  <dcterms:modified xsi:type="dcterms:W3CDTF">2003-12-09T11:51:53Z</dcterms:modified>
  <cp:revision>85</cp:revision>
  <dc:subject/>
  <dc:title>PowerPoint Presentation</dc:title>
</cp:coreProperties>
</file>