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1134-98C6-40DF-A771-9F178C41E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FA62-9F87-4F70-895E-9AC277CAC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1600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03208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37A2-C5C4-4C24-A04C-271A2106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112-0F07-44F7-8248-C1909BB4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06BA-8426-48AB-8471-A4F75600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F076-F45B-4FD8-9898-FE468944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0C2-5F30-4DC7-8FCC-6D96FC0E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C21F-5117-479B-8F43-5124C6AB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62ED-0552-4511-B924-AA5DC09E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821-60B9-42A0-9A7D-4CCC9FF8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09A9-2615-4CA9-ADD9-12EE87B5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99A-FA92-430D-BF6B-C957A52D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DCA-607B-4D89-903C-D5BD0FAB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6E7-5490-4466-BC99-F104C940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ew%20template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7464-1632-4471-8208-3C650CF97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6311880"/>
            <a:ext cx="9144000" cy="546120"/>
            <a:chOff x="0" y="6311880"/>
            <a:chExt cx="9144000" cy="546120"/>
          </a:xfrm>
        </p:grpSpPr>
        <p:sp>
          <p:nvSpPr>
            <p:cNvPr id="7" name=""/>
            <p:cNvSpPr/>
            <p:nvPr/>
          </p:nvSpPr>
          <p:spPr>
            <a:xfrm>
              <a:off x="0" y="631188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2920" y="6446880"/>
              <a:ext cx="8731080" cy="411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6446880"/>
              <a:ext cx="137880" cy="141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47560" y="6311880"/>
              <a:ext cx="139680" cy="138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47560" y="6446880"/>
              <a:ext cx="139680" cy="1411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6586560"/>
              <a:ext cx="136440" cy="138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1760" y="6448320"/>
              <a:ext cx="141120" cy="138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09680" y="6583320"/>
              <a:ext cx="137880" cy="138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74680" y="6721560"/>
              <a:ext cx="136440" cy="136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2920" y="0"/>
              <a:ext cx="8731080" cy="409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"/>
          <p:cNvSpPr/>
          <p:nvPr/>
        </p:nvSpPr>
        <p:spPr>
          <a:xfrm>
            <a:off x="0" y="533520"/>
            <a:ext cx="304920" cy="579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XML: A Beginners Guid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ly A. Hyland, 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Smalera, XM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1066680"/>
            <a:ext cx="3047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ession 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mportance of Standard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year it becomes more expensive to upgrad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organization is expected to do more with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make train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change for the sak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cross-train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mmon Record – XML Benefit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523880"/>
            <a:ext cx="74674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is a meta language – allowing trading partners to   develop markup languag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is hierarchical in nature – can represent more complex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blocks can be repeated – making information sharing more flex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s define advanced relationships that are not possible in standard flat files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mmon Record – Current Stat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ions with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Tran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Record Comm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Framework 10-31-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mmon Record – FSA, CommonLine, and PES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21337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057400"/>
            <a:ext cx="76201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291960"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d Goal of developing an XML Higher Education         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291960"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d Lessons Learned (Technology and 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291960"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ing with Electronic Standards Council (ESC) as they develop the Common Record: Common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291960"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Project Management assistance to PESC as they developed the Academic Transcript schema and the CommonRecord: CommonLine sch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29196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29196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mmon Record – </a:t>
            </a:r>
            <a:br>
              <a:rPr sz="3200"/>
            </a:b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SA’s XML Framework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Strategic Assessment and Enterprise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Technical Reference and Usag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Core Component Diction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Registry and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Framework Communication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ISIR Performance Test and SAIG Capacit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2320" y="718920"/>
            <a:ext cx="73152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Overview - XML Framework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75160" y="18288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1828800"/>
            <a:ext cx="66294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SA XML Framework will outline FSA’s target state and implementation strategy for using XML across the enterprise.  The XML Framework will provide standards, processes, and a toolset for implementing XM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20880" y="2895480"/>
          <a:ext cx="7842240" cy="37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2895480"/>
                    <a:ext cx="7842240" cy="37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mmon Record Estimated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mplementation Schedul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2666880"/>
          <a:ext cx="8077320" cy="3565800"/>
        </p:xfrm>
        <a:graphic>
          <a:graphicData uri="http://schemas.openxmlformats.org/drawingml/2006/table">
            <a:tbl>
              <a:tblPr/>
              <a:tblGrid>
                <a:gridCol w="1940040"/>
                <a:gridCol w="3068640"/>
                <a:gridCol w="3068640"/>
              </a:tblGrid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-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COD v 1.0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3-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COD 2.0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changed all tag nam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4-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COD 2.0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+2 new tags – 6 old tag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5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ISIR 1.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ign with standar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COD 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ign with standar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XML Requir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6-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ISIR 1.0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XML Requir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COD 3.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7-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ISIR 1.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on Record – COD 3.0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 rot="718200">
            <a:off x="2971440" y="1676520"/>
            <a:ext cx="1752480" cy="1144440"/>
          </a:xfrm>
          <a:prstGeom prst="irregularSeal2">
            <a:avLst/>
          </a:prstGeom>
          <a:gradFill rotWithShape="0">
            <a:gsLst>
              <a:gs pos="0">
                <a:srgbClr val="cc0099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362400" y="1981080"/>
            <a:ext cx="752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SI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 rot="718200">
            <a:off x="6453000" y="1523880"/>
            <a:ext cx="1752480" cy="1371600"/>
          </a:xfrm>
          <a:prstGeom prst="irregularSeal2">
            <a:avLst/>
          </a:prstGeom>
          <a:gradFill rotWithShape="0">
            <a:gsLst>
              <a:gs pos="0">
                <a:srgbClr val="cc0099"/>
              </a:gs>
              <a:gs pos="100000">
                <a:srgbClr val="66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0" y="19051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D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14400" y="2432160"/>
            <a:ext cx="79502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bers of the community have come together to build an XML standard for higher educ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Vision/Where are we going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619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What Is XML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60962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ble markup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document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propri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by world wide web consortium (W3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XML Advantag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nderstand an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has large base of users and support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browser versions underst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 industry interest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ture 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XML Advantag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iles are machine and human rea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don’t need to read it but you co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tire document or portions of the record can be trans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lements can be omitted and order is les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information can be added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mas can reference other sch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XML Characteristic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tags “&lt;&gt;” and “&lt;/&gt;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: document must have beginning and end. Most elements must have beginning and end ta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reduce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to fi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38080" y="1600200"/>
            <a:ext cx="7620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N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LastName&gt;Stones&lt;/LastN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FirstName&gt;Dave&lt;/FirstN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MiddleInitial&gt;Z&lt;/MiddleInitia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/N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XML Exampl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Potential Us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Browser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 search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control of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to Application document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based e-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336600"/>
            <a:ext cx="4680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304920"/>
            <a:ext cx="1901880" cy="605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UDENTID  type = “SSN”&gt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5678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TUDENTID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MOGRAPHIC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IRTH DATE type=“DATE”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197408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IRTH DAT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GEND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GEND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EMOGRAPHIC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GRADE_REPORT&gt;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ESSION Code=”!199901”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ABEL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SPRING SE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LABEL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YEAR type=”CCYY”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YEA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URSE index=”1”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REDIT type=”hour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REDI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GRAD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GRAD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D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SPN 406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OD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URSE_TITLE&gt;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SPANISH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OURSE_TITL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OURS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URSE index=”2”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REDIT type=”hour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REDI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GRAD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GRAD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D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HIS 30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OD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URSE_TITLE&gt;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X HIS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OURSE_TITL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OURSE&gt;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095880" y="762120"/>
            <a:ext cx="1600200" cy="1211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rcRect l="0" t="0" r="0" b="44129"/>
          <a:stretch/>
        </p:blipFill>
        <p:spPr>
          <a:xfrm>
            <a:off x="5562720" y="2286000"/>
            <a:ext cx="2536560" cy="1736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019920" y="4572000"/>
            <a:ext cx="1919160" cy="1488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657600" y="762120"/>
            <a:ext cx="1295280" cy="1295280"/>
          </a:xfrm>
          <a:prstGeom prst="foldedCorner">
            <a:avLst>
              <a:gd name="adj" fmla="val 2031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.x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2590920"/>
            <a:ext cx="1371600" cy="1371600"/>
          </a:xfrm>
          <a:prstGeom prst="foldedCorner">
            <a:avLst>
              <a:gd name="adj" fmla="val 2031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da.x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4495680"/>
            <a:ext cx="1371600" cy="1447920"/>
          </a:xfrm>
          <a:prstGeom prst="foldedCorner">
            <a:avLst>
              <a:gd name="adj" fmla="val 2031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i.x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1371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1371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8120" y="3276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3200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525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51814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Why use XML for Educational records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information seamlessly and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 the shelf’ tools are coming to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-neu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s different databases o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institutions can ado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2320" y="9903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XML Terms</a:t>
            </a: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T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ster listing of all the elements including where and how they need to be placed in th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m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XML application that can describe the allowed content of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of checking structural validity of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 Documen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sting of all possible ta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 Example Documen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sting of tags with ex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SL, XSL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s an XML file into a another specified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s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ol that reads the document and divides it into individual elements, attributes, and other pi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echnical Assista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: Holly A. Hy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: 202.377.37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lly.Hyland@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: Andrew Smal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: 202.962.07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drew.Smalera@accentur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SA Business Need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redundant data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custome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accuracy of ana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efficiency in data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e Common Recor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mplementation by 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Student Financial Aid Pell, Direct Loan, and Campus-based a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Schema published November 2001, implementation May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with PESC/XML Forum to jointly support and develop standards – February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IP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 - Common Rec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tandard XML “names” (tags) and “formats” (schema) for exchanging data within Higher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Origination and Disburs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FSA process for originating and disbursing Pell Grants and Direct Loans using Common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V="1">
            <a:off x="4648320" y="2895120"/>
            <a:ext cx="838080" cy="20574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90840" y="609120"/>
            <a:ext cx="642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mmon Record Expans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RIGINAL VIS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Use XML Technology to create financial aid data packet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876920"/>
            <a:ext cx="3429000" cy="13716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ial Aid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1523520" y="3428640"/>
            <a:ext cx="1219320" cy="1523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72200" y="3429000"/>
            <a:ext cx="685800" cy="14479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3276720" y="3123720"/>
            <a:ext cx="1218960" cy="17528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3886200"/>
            <a:ext cx="1062000" cy="83808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3352680"/>
            <a:ext cx="1066680" cy="91440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3048120"/>
            <a:ext cx="1062000" cy="75708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3657600"/>
            <a:ext cx="1062000" cy="75708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90840" y="456840"/>
            <a:ext cx="634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mmon Record Expans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REVISED VI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Use XML Technology to create higher education or cross-industry data packet stand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95680"/>
            <a:ext cx="6476760" cy="16765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al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80880" y="2971440"/>
            <a:ext cx="2286000" cy="1523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934320" y="2362320"/>
            <a:ext cx="1371600" cy="2209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809880" y="3047760"/>
            <a:ext cx="1067040" cy="14475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952880" y="2743200"/>
            <a:ext cx="914400" cy="17524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3429000"/>
            <a:ext cx="1218960" cy="83808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276720"/>
            <a:ext cx="1067040" cy="91440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3276720"/>
            <a:ext cx="1062000" cy="75708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3276720"/>
            <a:ext cx="1062000" cy="75708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495680"/>
            <a:ext cx="6476760" cy="83844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572000"/>
            <a:ext cx="1752480" cy="6858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4572000"/>
            <a:ext cx="1523880" cy="6858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r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4572000"/>
            <a:ext cx="1904760" cy="6858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ial 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724280"/>
            <a:ext cx="6476760" cy="167652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al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914040" y="1980720"/>
            <a:ext cx="2514600" cy="3429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858000" y="2133360"/>
            <a:ext cx="1219320" cy="32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971440" y="1447560"/>
            <a:ext cx="2133720" cy="3276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1257120"/>
            <a:ext cx="1371600" cy="41907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2590920"/>
            <a:ext cx="1904760" cy="152388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4724280"/>
            <a:ext cx="6476760" cy="83844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4800600"/>
            <a:ext cx="1752480" cy="6858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1523880" cy="6858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r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800600"/>
            <a:ext cx="1904760" cy="6858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ial 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1905120"/>
            <a:ext cx="1904760" cy="152388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1600200"/>
            <a:ext cx="1904760" cy="152388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2819520"/>
            <a:ext cx="1905120" cy="1523880"/>
          </a:xfrm>
          <a:prstGeom prst="flowChartMultidocumen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362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mmon Record Expans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90840" y="609120"/>
            <a:ext cx="596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mmon Record Expansion</a:t>
            </a:r>
            <a:br>
              <a:rPr sz="3200"/>
            </a:b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nvergence of Standard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24" idx="2"/>
            <a:endCxn id="125" idx="0"/>
          </p:cNvCxnSpPr>
          <p:nvPr/>
        </p:nvCxnSpPr>
        <p:spPr>
          <a:xfrm flipV="1" rot="10800000">
            <a:off x="3625200" y="3022200"/>
            <a:ext cx="1080" cy="3866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6" name=""/>
          <p:cNvGrpSpPr/>
          <p:nvPr/>
        </p:nvGrpSpPr>
        <p:grpSpPr>
          <a:xfrm>
            <a:off x="1219320" y="2057400"/>
            <a:ext cx="6781320" cy="4114440"/>
            <a:chOff x="1219320" y="2057400"/>
            <a:chExt cx="6781320" cy="4114440"/>
          </a:xfrm>
        </p:grpSpPr>
        <p:sp>
          <p:nvSpPr>
            <p:cNvPr id="127" name=""/>
            <p:cNvSpPr/>
            <p:nvPr/>
          </p:nvSpPr>
          <p:spPr>
            <a:xfrm>
              <a:off x="3844440" y="5207760"/>
              <a:ext cx="2770560" cy="964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ML Forum Co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on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50400" y="3407760"/>
              <a:ext cx="1749960" cy="12855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nancial Ai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m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04520" y="3407760"/>
              <a:ext cx="1896120" cy="12855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missions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gistra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m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96480" y="2057400"/>
              <a:ext cx="1312560" cy="964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C X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6200" y="2057400"/>
              <a:ext cx="1458000" cy="96444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m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3440" y="2057400"/>
              <a:ext cx="1458360" cy="96444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e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19320" y="2057400"/>
              <a:ext cx="1458000" cy="96444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m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" name=""/>
            <p:cNvCxnSpPr>
              <a:stCxn id="131" idx="2"/>
              <a:endCxn id="125" idx="0"/>
            </p:cNvCxnSpPr>
            <p:nvPr/>
          </p:nvCxnSpPr>
          <p:spPr>
            <a:xfrm flipH="1" rot="16200000">
              <a:off x="2592720" y="2375640"/>
              <a:ext cx="386280" cy="1677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30" idx="2"/>
              <a:endCxn id="125" idx="0"/>
            </p:cNvCxnSpPr>
            <p:nvPr/>
          </p:nvCxnSpPr>
          <p:spPr>
            <a:xfrm rot="5400000">
              <a:off x="4270680" y="2376000"/>
              <a:ext cx="386280" cy="16776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9" idx="2"/>
              <a:endCxn id="128" idx="0"/>
            </p:cNvCxnSpPr>
            <p:nvPr/>
          </p:nvCxnSpPr>
          <p:spPr>
            <a:xfrm flipV="1" rot="10800000">
              <a:off x="7052040" y="3021480"/>
              <a:ext cx="1080" cy="3862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5" idx="3"/>
              <a:endCxn id="127" idx="0"/>
            </p:cNvCxnSpPr>
            <p:nvPr/>
          </p:nvCxnSpPr>
          <p:spPr>
            <a:xfrm>
              <a:off x="4500720" y="4050360"/>
              <a:ext cx="729360" cy="11574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8" idx="1"/>
              <a:endCxn id="127" idx="0"/>
            </p:cNvCxnSpPr>
            <p:nvPr/>
          </p:nvCxnSpPr>
          <p:spPr>
            <a:xfrm flipV="1" rot="10800000">
              <a:off x="5229000" y="4050360"/>
              <a:ext cx="875520" cy="11574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2458800" y="5207760"/>
              <a:ext cx="1312560" cy="964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bX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8" name=""/>
          <p:cNvCxnSpPr>
            <a:stCxn id="137" idx="3"/>
            <a:endCxn id="127" idx="1"/>
          </p:cNvCxnSpPr>
          <p:nvPr/>
        </p:nvCxnSpPr>
        <p:spPr>
          <a:xfrm>
            <a:off x="3772080" y="5690880"/>
            <a:ext cx="73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Paul.Hill.Jr</cp:lastModifiedBy>
  <dcterms:modified xsi:type="dcterms:W3CDTF">2003-12-09T11:51:53Z</dcterms:modified>
  <cp:revision>85</cp:revision>
  <dc:subject/>
  <dc:title>PowerPoint Presentation</dc:title>
</cp:coreProperties>
</file>