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86F-0756-455D-ACC8-7E4152D4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1D4-02CB-4DB4-922E-F5D00E2B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AF9-A015-4F52-8E7A-865A6D5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001-6EA5-44D1-ACF3-9DF6A586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765-9333-468B-86CB-EA385A18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A65-D147-4EB3-919C-4CF7A15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83B-C276-433C-9937-DEB1F138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B26-995A-442C-8CC4-85665B83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A04-59AC-4CA5-B9E3-10F0AEB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2B4-D4D5-4AE4-ACD7-7F33834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E24-2267-433F-A21A-3AD4404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791-8530-47A0-8E5C-25258D0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D5CE-C9EA-4618-ADBE-2F5298FE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aigComments@ed.gov" TargetMode="External"/><Relationship Id="rId2" Type="http://schemas.openxmlformats.org/officeDocument/2006/relationships/hyperlink" Target="mailto:cpswan@ncs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Managing your SAIG Mailbox with </a:t>
            </a:r>
            <a:br>
              <a:rPr sz="4400"/>
            </a:b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 EDconnect &amp; TDCM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dia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Rager/Judy Ro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BD5-D3E2-4155-B228-B75A0EBE51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anaging Passwor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73" name=""/>
          <p:cNvCxnSpPr/>
          <p:nvPr/>
        </p:nvCxnSpPr>
        <p:spPr>
          <a:xfrm>
            <a:off x="4532040" y="1752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74" name=""/>
          <p:cNvGraphicFramePr/>
          <p:nvPr/>
        </p:nvGraphicFramePr>
        <p:xfrm>
          <a:off x="1828800" y="1447920"/>
          <a:ext cx="670572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670572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9360" y="4343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9360" y="22096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871-75D8-455E-B2FB-0E1036F2BD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DCM – Hands 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724280" y="1905120"/>
            <a:ext cx="3810240" cy="4114800"/>
            <a:chOff x="4724280" y="1905120"/>
            <a:chExt cx="3810240" cy="411480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724280" y="1905120"/>
              <a:ext cx="38102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4724280" y="1905120"/>
              <a:ext cx="381024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owerful audit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fi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file transmissi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files for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518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IGPortal.ed.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9BF-3BE4-4E29-837C-641517BAD7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igComments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lp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/WAN Technic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319-665-7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0F8-2370-4009-8034-1B62E6FB75E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conn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your mai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CM Hand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002-522D-4221-AEA5-BD218BF5B3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your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t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ng transmissi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ing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ing los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ECF-34E1-4879-B5D5-C1F7550673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connec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box Query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Log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v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FE3-A18C-48E9-A81A-785993E9B8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anaging your mailbo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14480" y="1981080"/>
          <a:ext cx="5313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981080"/>
                    <a:ext cx="5313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C2B-9A29-490D-829D-DD0268225E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nderstanding Mailbox storag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G mailboxing system stores files in two separat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ew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s that have been received but are 10 or less days 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s not received for 18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stored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ssage classes have differen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ld files 180 or less day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s received and 10 or more day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ssage class files have differen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95D-74C9-44C7-A9E6-4932F8B301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rchive View in EDconnect vs. Archive Tab in TDCM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connect: Archiv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CM: Archive Tab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75005"/>
          <a:stretch/>
        </p:blipFill>
        <p:spPr>
          <a:xfrm>
            <a:off x="609480" y="2362320"/>
            <a:ext cx="838224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40743" r="0" b="25000"/>
          <a:stretch/>
        </p:blipFill>
        <p:spPr>
          <a:xfrm>
            <a:off x="685800" y="4419720"/>
            <a:ext cx="83059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B7D-7397-46D0-89B5-02848E4CF7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ifying that a File Sent Made it to the Mailboxing Syste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CM Sent Files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1905120"/>
          <a:ext cx="60199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05120"/>
                    <a:ext cx="6019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895480" y="3657600"/>
          <a:ext cx="601992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657600"/>
                    <a:ext cx="60199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86000" y="5715000"/>
            <a:ext cx="838080" cy="152280"/>
          </a:xfrm>
          <a:custGeom>
            <a:avLst/>
            <a:gdLst>
              <a:gd name="textAreaLeft" fmla="*/ 130680 w 838080"/>
              <a:gd name="textAreaRight" fmla="*/ 733320 w 8380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92F-2399-4259-A2BB-FAFB9BE5CA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DC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v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57C-92D7-4010-8A37-F1567B8533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16:35:10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01400558</vt:r8>
  </property>
  <property fmtid="{D5CDD505-2E9C-101B-9397-08002B2CF9AE}" pid="3" name="_AuthorEmail">
    <vt:lpwstr>sue.rager@pearson.com</vt:lpwstr>
  </property>
  <property fmtid="{D5CDD505-2E9C-101B-9397-08002B2CF9AE}" pid="4" name="_AuthorEmailDisplayName">
    <vt:lpwstr>Rager, Sue</vt:lpwstr>
  </property>
  <property fmtid="{D5CDD505-2E9C-101B-9397-08002B2CF9AE}" pid="5" name="_EmailSubject">
    <vt:lpwstr>minor changes</vt:lpwstr>
  </property>
  <property fmtid="{D5CDD505-2E9C-101B-9397-08002B2CF9AE}" pid="6" name="_PreviousAdHocReviewCycleID">
    <vt:r8>-1985770340</vt:r8>
  </property>
</Properties>
</file>