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49B-05CB-4AAB-9274-4F5159E8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BB3-A2F4-416C-8F63-134E6777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0D5-7D2B-4141-9DEF-32B782CA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FF1-2C7D-4EE0-894A-87E5D1CC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CB9-D957-487D-A48D-17B282C0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F66-1D9B-401A-9BC5-9C440EEC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B18-7688-47C1-AC5D-6F3E4383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2F8-4C81-4BDD-8BAF-9A263396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A22-AE77-4109-8FB6-7A3AE646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E5B-0FAE-48B5-9BEB-EEAB687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849-2B26-43BE-A3B8-F8C6CF39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F85-A3F4-40B1-B72E-1BBC7E94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7675-D9E0-4B4D-8F49-D131C7CC8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ITC Giovanni"/>
              </a:rPr>
              <a:t>Welcome and Opening Remarks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 Giovanni"/>
              </a:rPr>
              <a:t>Terri Sh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 Giovanni"/>
              </a:rPr>
              <a:t>Chief Operating Officer, F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1C6-9076-4AC0-94D5-DDAA6B3585C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cope of Operation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676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13 million FAFSA Forms for 2003-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09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9 million aid recipients from F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26 million Direct Loan borrower 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3434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321 billion dollars of federal student loans out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36 million customer service calls last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7432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60 billion dollars in Federal aid i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5.1 million students receive Pell Grants totaling 12.5 billio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59A-ECE6-4768-AEB3-50F17EE086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124080"/>
            <a:ext cx="5791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Timelin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162560" cy="68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9DD-4B66-4BE7-B1D7-ADAD383CF2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6320" y="76320"/>
          <a:ext cx="906768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90676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72F-79F9-430A-A4B5-1E8921349B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Eligibility:  FAFS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04760" y="1231920"/>
          <a:ext cx="8582040" cy="60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1231920"/>
                    <a:ext cx="8582040" cy="60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62120" y="5638680"/>
            <a:ext cx="8229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TC Giovanni"/>
              </a:rPr>
              <a:t>We Process OVER 600,000 Applications in a Peak Processing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73520" y="173196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In Mill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6720" y="25146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9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98040" y="251460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2400" y="251460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66400" y="24382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8520" y="23623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0160" y="2133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1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36560" y="19051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1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38200" y="16765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1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C93-540A-4E29-A18C-F941F4A760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769-35EA-49BB-A60F-2F34B3CDBEFD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15:44:09Z</dcterms:modified>
  <cp:revision>77</cp:revision>
  <dc:subject/>
  <dc:title>PowerPoint Presentation</dc:title>
</cp:coreProperties>
</file>