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194-29A1-4A47-8DB3-312A3735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A70-3FB0-4314-B46A-81E5561A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820-519B-49E4-8E0A-1EACD224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223-BC0E-4117-A3AA-D37F9EDB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AC9-3CA1-4FBD-89AA-80616068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31D-2B59-428E-ABD4-1A1E082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A99-588C-4ECC-9A0F-80B7DF3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7F8-62FD-4DE2-ADAA-A9ED5F8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AC9-48C6-4DFE-9A3F-18F6618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A2F-C619-4680-BAFD-E54DBFC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6D0-EB52-44D8-9E62-C06CC14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9A7-2C1B-47E0-97E9-03AB2A0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EA77-E71A-4186-8BFB-7A15AE34A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ITC Giovanni"/>
              </a:rPr>
              <a:t>Welcome and Opening Remarks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 Giovanni"/>
              </a:rPr>
              <a:t>Terri 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TC Giovanni"/>
              </a:rPr>
              <a:t>Chief Operating Officer, F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BAC-5973-4533-A8C7-15F1B05D81D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cope of Opera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13 million FAFSA Forms for 2003-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09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9 million aid recipients from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26 million Direct Loan borrower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321 billion dollars of federal student loans out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36 million customer service calls last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743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60 billion dollars in Federal aid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TC Giovanni"/>
              </a:rPr>
              <a:t>5.1 million students receive Pell Grants totaling 12.5 billio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550-82DD-4C63-87F6-228914B636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124080"/>
            <a:ext cx="5791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162560" cy="68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D6F-FC49-4DD3-909A-676147E362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320" y="76320"/>
          <a:ext cx="90676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90676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793-4412-4C32-8A33-F9316E4A67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Eligibility:  FAFS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4760" y="1231920"/>
          <a:ext cx="8582040" cy="60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1231920"/>
                    <a:ext cx="858204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62120" y="5638680"/>
            <a:ext cx="8229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TC Giovanni"/>
              </a:rPr>
              <a:t>We Process OVER 600,000 Applications in a Peak Processing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73520" y="17319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In 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720" y="25146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8040" y="2514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2400" y="2514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66400" y="2438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8520" y="23623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0160" y="2133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36560" y="19051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8200" y="1676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TC Giovanni"/>
              </a:rPr>
              <a:t>1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EC5-2616-49B6-8E45-4281274A42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C42-80E3-49A4-96EA-FF065AE1C230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15:44:09Z</dcterms:modified>
  <cp:revision>77</cp:revision>
  <dc:subject/>
  <dc:title>PowerPoint Presentation</dc:title>
</cp:coreProperties>
</file>