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47A4B-E597-4380-AE16-CEB5CACE8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BD1DC-C3CC-4DA9-9E18-342F079F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59F1A-860A-4FB5-B78B-8C2F14CFF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B0112-9464-4CC2-A68B-D18FD7772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ED8BD-E212-4FC7-BCC5-99A2D0F09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0DDC6-1EB8-4CE1-A369-8DE150A9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4F04F-01B8-40AA-AADB-770BD7DD1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E37AE-34FC-47B7-AD53-564FF8F6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5365-7C90-4198-A7F2-F0E26687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876C0-6D6A-4E6A-9721-F5FB5BBE6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0800-454F-4398-AE60-DA692304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8F97-FECF-4D52-9E34-6071BE960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EF1C-E72F-45A9-9698-6EF97648D3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landscape" descr=""/>
          <p:cNvPicPr/>
          <p:nvPr/>
        </p:nvPicPr>
        <p:blipFill>
          <a:blip r:embed="rId1"/>
          <a:srcRect l="0" t="0" r="37886" b="0"/>
          <a:stretch/>
        </p:blipFill>
        <p:spPr>
          <a:xfrm>
            <a:off x="609480" y="2714760"/>
            <a:ext cx="7886880" cy="1904760"/>
          </a:xfrm>
          <a:prstGeom prst="rect">
            <a:avLst/>
          </a:prstGeom>
          <a:ln w="0">
            <a:noFill/>
          </a:ln>
        </p:spPr>
      </p:pic>
      <p:pic>
        <p:nvPicPr>
          <p:cNvPr id="50" name="225_logo" descr=""/>
          <p:cNvPicPr/>
          <p:nvPr/>
        </p:nvPicPr>
        <p:blipFill>
          <a:blip r:embed="rId2"/>
          <a:stretch/>
        </p:blipFill>
        <p:spPr>
          <a:xfrm>
            <a:off x="4581360" y="2666880"/>
            <a:ext cx="4029120" cy="1970280"/>
          </a:xfrm>
          <a:prstGeom prst="rect">
            <a:avLst/>
          </a:prstGeom>
          <a:ln w="0">
            <a:noFill/>
          </a:ln>
        </p:spPr>
      </p:pic>
      <p:grpSp>
        <p:nvGrpSpPr>
          <p:cNvPr id="51" name=""/>
          <p:cNvGrpSpPr/>
          <p:nvPr/>
        </p:nvGrpSpPr>
        <p:grpSpPr>
          <a:xfrm>
            <a:off x="609480" y="6072120"/>
            <a:ext cx="7848720" cy="176400"/>
            <a:chOff x="609480" y="6072120"/>
            <a:chExt cx="7848720" cy="176400"/>
          </a:xfrm>
        </p:grpSpPr>
        <p:sp>
          <p:nvSpPr>
            <p:cNvPr id="52"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54" name=""/>
          <p:cNvGrpSpPr/>
          <p:nvPr/>
        </p:nvGrpSpPr>
        <p:grpSpPr>
          <a:xfrm>
            <a:off x="609480" y="380880"/>
            <a:ext cx="7848720" cy="176040"/>
            <a:chOff x="609480" y="380880"/>
            <a:chExt cx="7848720" cy="176040"/>
          </a:xfrm>
        </p:grpSpPr>
        <p:sp>
          <p:nvSpPr>
            <p:cNvPr id="55"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6"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57" name="Doefsa1" descr=""/>
          <p:cNvPicPr/>
          <p:nvPr/>
        </p:nvPicPr>
        <p:blipFill>
          <a:blip r:embed="rId3"/>
          <a:srcRect l="0" t="0" r="0" b="25495"/>
          <a:stretch/>
        </p:blipFill>
        <p:spPr>
          <a:xfrm>
            <a:off x="6370560" y="4840200"/>
            <a:ext cx="1096920" cy="1103400"/>
          </a:xfrm>
          <a:prstGeom prst="rect">
            <a:avLst/>
          </a:prstGeom>
          <a:ln w="0">
            <a:noFill/>
          </a:ln>
        </p:spPr>
      </p:pic>
      <p:sp>
        <p:nvSpPr>
          <p:cNvPr id="58"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09320" y="68544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77" name="PlaceHolder 2"/>
          <p:cNvSpPr>
            <a:spLocks noGrp="1"/>
          </p:cNvSpPr>
          <p:nvPr>
            <p:ph/>
          </p:nvPr>
        </p:nvSpPr>
        <p:spPr>
          <a:xfrm>
            <a:off x="304560" y="1904760"/>
            <a:ext cx="88390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                    144                  y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 did not confirm applicant’s non-citizen eligibility.</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results from Secondary Confi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524ECE3-FE50-4BA9-97BD-1D9206B92C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79" name="PlaceHolder 2"/>
          <p:cNvSpPr>
            <a:spLocks noGrp="1"/>
          </p:cNvSpPr>
          <p:nvPr>
            <p:ph/>
          </p:nvPr>
        </p:nvSpPr>
        <p:spPr>
          <a:xfrm>
            <a:off x="304560" y="1904760"/>
            <a:ext cx="88390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600" spc="-1" strike="noStrike">
                <a:solidFill>
                  <a:srgbClr val="000000"/>
                </a:solidFill>
                <a:latin typeface="Arial"/>
              </a:rPr>
              <a:t>eject</a:t>
            </a:r>
            <a:r>
              <a:rPr b="0" lang="en-US" sz="2800" spc="-1" strike="noStrike">
                <a:solidFill>
                  <a:srgbClr val="000000"/>
                </a:solidFill>
                <a:latin typeface="Arial"/>
              </a:rPr>
              <a:t> 17      none                   68                   yes</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did not indicate citizenship status. DHS match was not conduct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SA Citizenship is verified, </a:t>
            </a:r>
            <a:r>
              <a:rPr b="0" lang="en-US" sz="2800" spc="-1" strike="noStrike">
                <a:solidFill>
                  <a:srgbClr val="800080"/>
                </a:solidFill>
                <a:latin typeface="Arial"/>
              </a:rPr>
              <a:t>Reject 17 will be suppress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applicant must provide eligible non-citizenship status and alien registration numb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87E3438-EB4A-4B8A-AAC6-B70379210E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8544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81"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one                 141                ye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changed from eligible non-citizen to citizen or changed Alien Registration Number.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DHS match not conduct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y student changed information.    Student may need to submit proof of citizenshi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5631B13-0AB5-4FA7-A806-DBD1944F7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68544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83"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one                   142                  ye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dn’t provide Alien Registration Number or provided invalid Alien Registration Number.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not conduct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student to make SAR/ISIR correction to provide valid Alien Registration Numb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AC85CED-3D1E-46E2-907C-D53D8E15D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85"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pplicants that fail Primary Verific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waits for three compute days to receive results from Secondary Confirmation instead of processing ISIRs with results from primary verification only.</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fter three days DHS does not return a response, CPS will generate the ISIR, which will show that Secondary Confirmation is still in progr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DF3EFA3-69F1-42AD-80E4-3509591D8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854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87"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P                   none                   no</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secondary confirmation in progress.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at least five, but no more than 15 business days for CPS system-generated ISIR with results of automated secondary confirm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response within 15 days, begin paper (G845) secondary confi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B9F306D-9B6B-4767-B0AE-A9488AD02D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89"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120                   no</a:t>
            </a:r>
            <a:endParaRPr b="0"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confirmed student is an eligible non-citiz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C675213-2812-44C6-9AA3-720E474B6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685800"/>
            <a:ext cx="7269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1"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C                     105                    yes</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ntinu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is encouraged, but not required, to wait ten business days for another systems generated ISIR with updated secondary confirmation match flag before beginning mandatory paper (G845) secondary confirmation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70D2234-7944-47CE-9F60-FCAF65AC21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7617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3"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                     46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did not confirm eligibility.</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gin paper (G845) secondary confirmation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58D7FE9-7963-40D1-B0ED-016FD6D776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5"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X                    109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did not confirm eligibility because additional information is need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gin paper (G845) secondary confirmation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3D3E4D6-6E61-453D-AC79-4D1216BBD1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1066680"/>
            <a:ext cx="8381880" cy="1113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Resolving </a:t>
            </a:r>
            <a:r>
              <a:rPr b="1" i="1" lang="en-US" sz="4400" spc="-1" strike="noStrike">
                <a:solidFill>
                  <a:srgbClr val="800080"/>
                </a:solidFill>
                <a:latin typeface="Arial"/>
              </a:rPr>
              <a:t>Student</a:t>
            </a:r>
            <a:r>
              <a:rPr b="1" i="1" lang="en-US" sz="4400" spc="-1" strike="noStrike">
                <a:solidFill>
                  <a:srgbClr val="713474"/>
                </a:solidFill>
                <a:latin typeface="Arial"/>
              </a:rPr>
              <a:t> </a:t>
            </a:r>
            <a:endParaRPr b="0" lang="en-US" sz="4400" spc="-1" strike="noStrike">
              <a:solidFill>
                <a:srgbClr val="000000"/>
              </a:solidFill>
              <a:latin typeface="Times New Roman"/>
            </a:endParaRPr>
          </a:p>
          <a:p>
            <a:pPr algn="ctr">
              <a:lnSpc>
                <a:spcPct val="4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Eligibility Issues</a:t>
            </a:r>
            <a:endParaRPr b="0" lang="en-US" sz="4400" spc="-1" strike="noStrike">
              <a:solidFill>
                <a:srgbClr val="000000"/>
              </a:solidFill>
              <a:latin typeface="Times New Roman"/>
            </a:endParaRPr>
          </a:p>
        </p:txBody>
      </p:sp>
      <p:sp>
        <p:nvSpPr>
          <p:cNvPr id="60" name=""/>
          <p:cNvSpPr/>
          <p:nvPr/>
        </p:nvSpPr>
        <p:spPr>
          <a:xfrm>
            <a:off x="380880" y="2362320"/>
            <a:ext cx="8458200" cy="3601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his session provides a review of all data match interfaces that CPS conducts to verify applicant eligibility; and will highlight what is new for 2004-05.  Results from each matching agency will be discussed. We will provide the comment codes for match results and visit the use of the “C” code.</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ession ??</a:t>
            </a:r>
          </a:p>
        </p:txBody>
      </p:sp>
      <p:sp>
        <p:nvSpPr>
          <p:cNvPr id="3" name="PlaceHolder 2"/>
          <p:cNvSpPr>
            <a:spLocks noGrp="1"/>
          </p:cNvSpPr>
          <p:nvPr>
            <p:ph type="sldNum" idx="3"/>
          </p:nvPr>
        </p:nvSpPr>
        <p:spPr/>
        <p:txBody>
          <a:bodyPr/>
          <a:p>
            <a:fld id="{2FE59591-2C3F-412F-9496-B1601835E0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6854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7"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sending copies of documentation to DHS, school should confirm that the student identifiers are correct, especially alien registration number and date of birth.  Make corrections to CPS as necessary.</a:t>
            </a:r>
            <a:endParaRPr b="0" lang="en-US" sz="2800" spc="-1" strike="noStrike">
              <a:solidFill>
                <a:srgbClr val="000000"/>
              </a:solidFill>
              <a:latin typeface="Arial"/>
            </a:endParaRPr>
          </a:p>
          <a:p>
            <a:pPr marL="343080" indent="-343080">
              <a:lnSpc>
                <a:spcPct val="90000"/>
              </a:lnSpc>
              <a:spcBef>
                <a:spcPts val="700"/>
              </a:spcBef>
              <a:buClr>
                <a:srgbClr val="0099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hool does not receive a response to paper secondary confirmation in 15 days, applicant is eligible for aid if documentation appears to support claim of eligible non-citiz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6A6F013-8542-4AF3-8746-7BCBDF10BB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533160"/>
            <a:ext cx="693432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99"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o             A or “blank”        none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 confirmed U.S. Citizenship statu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C60C03C-EF1A-4BE1-9D7E-83A493A3FE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533160"/>
            <a:ext cx="708660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101"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yes        B, C, D,                 146                  ye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 F, or *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 did not confirm U.S. citizenship statu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f DHS confirmed citizenship status, comment 146 and C code will be suppressed.</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hould provide birth certificate,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sport, or other documents that definitively</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e citizenshi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5B7F88F-2547-4E3A-9FF1-A5781F924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456840"/>
            <a:ext cx="701028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103" name="PlaceHolder 2"/>
          <p:cNvSpPr>
            <a:spLocks noGrp="1"/>
          </p:cNvSpPr>
          <p:nvPr>
            <p:ph/>
          </p:nvPr>
        </p:nvSpPr>
        <p:spPr>
          <a:xfrm>
            <a:off x="533520" y="1828440"/>
            <a:ext cx="8610480" cy="4267080"/>
          </a:xfrm>
          <a:prstGeom prst="rect">
            <a:avLst/>
          </a:prstGeom>
          <a:noFill/>
          <a:ln w="0">
            <a:noFill/>
          </a:ln>
        </p:spPr>
        <p:txBody>
          <a:bodyPr lIns="90000" rIns="90000" tIns="46800" bIns="46800" anchor="t">
            <a:normAutofit/>
          </a:bodyPr>
          <a:p>
            <a:pPr marL="343080" indent="-343080">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match flag of * (asterisk) generally indicates that the student was born in a foreign country to American parents that were stationed in another country (e.g., military, State Department, or Foreign Service).  These students generally have a birth certificate indicating that they are U.S. Citizens that were born abroad. SSA will not automatically update this flag and the financial aid administrator should document the information in the student’s record.</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A0FF503-CF80-4007-8929-1945099411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456840"/>
            <a:ext cx="746748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105"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o             N                       62                      ye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 unable to verify citizenship because there was no match on SSN, name, or date of birth.</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tudent make corrections to social security number, name, or date of birth if necessary so that the student’s record can be sent back to SSA for match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EF6D3F4-EE56-46F1-87EA-82672298AD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533160"/>
            <a:ext cx="701064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07"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18           1                    24                  ye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ch on SSN (SSN invalid).</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tudent’s SSN is correct, the student must contact SSA.  Once SSA corrects its records, the student may reenter the SSN and submit it as a SAR/ISIR correc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F301A23-1F3E-4845-A6E9-D6BD896F0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09"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R            2                    60                  y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must make a correction to provide the correct  date of birt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ate of birth is correct, the student must correct the date of birth on the SAR/ISIR to the same value reaffirming that it is correc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tudent’s date of birth is correct, the student should contact SSA to update its record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1CE84A5-0BFE-4A93-BF35-44BE3105A0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693396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1" name="PlaceHolder 2"/>
          <p:cNvSpPr>
            <a:spLocks noGrp="1"/>
          </p:cNvSpPr>
          <p:nvPr>
            <p:ph/>
          </p:nvPr>
        </p:nvSpPr>
        <p:spPr>
          <a:xfrm>
            <a:off x="533520" y="16002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2                 63                    yes</a:t>
            </a:r>
            <a:r>
              <a:rPr b="0" lang="en-US" sz="2800" spc="-1" strike="noStrike">
                <a:solidFill>
                  <a:srgbClr val="4526fc"/>
                </a:solidFill>
                <a:latin typeface="Arial"/>
              </a:rPr>
              <a:t> </a:t>
            </a:r>
            <a:r>
              <a:rPr b="0" lang="en-US" sz="2800" spc="-1" strike="noStrike">
                <a:solidFill>
                  <a:srgbClr val="4526fc"/>
                </a:solidFill>
                <a:latin typeface="Arial"/>
              </a:rPr>
              <a:t>	</a:t>
            </a:r>
            <a:endParaRPr b="0" lang="en-US" sz="28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ff"/>
                </a:solidFill>
                <a:latin typeface="Arial"/>
              </a:rPr>
              <a:t>new for 04-05 </a:t>
            </a:r>
            <a:endParaRPr b="0" lang="en-US" sz="1600" spc="-1" strike="noStrike">
              <a:solidFill>
                <a:srgbClr val="000000"/>
              </a:solidFill>
              <a:latin typeface="Arial"/>
            </a:endParaRPr>
          </a:p>
          <a:p>
            <a:pPr marL="34308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of birth inconsistent with SSA record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re-entered the same date of birth to reaffirm that it is correct. </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PS reject R suppressed.</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SA records not changed.</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roof of date of birth to FAA.</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724280" y="2286000"/>
            <a:ext cx="365400" cy="457200"/>
          </a:xfrm>
          <a:prstGeom prst="star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DEC2AA3-D9DF-4A3C-AF5B-F9FC9A6D6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7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4" name="PlaceHolder 2"/>
          <p:cNvSpPr>
            <a:spLocks noGrp="1"/>
          </p:cNvSpPr>
          <p:nvPr>
            <p:ph/>
          </p:nvPr>
        </p:nvSpPr>
        <p:spPr>
          <a:xfrm>
            <a:off x="533520" y="1523520"/>
            <a:ext cx="8610480" cy="44960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3                       61                   yes </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7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me inconsistent with SSA records.</a:t>
            </a:r>
            <a:endParaRPr b="0" lang="en-US" sz="2700" spc="-1" strike="noStrike">
              <a:solidFill>
                <a:srgbClr val="000000"/>
              </a:solidFill>
              <a:latin typeface="Arial"/>
            </a:endParaRPr>
          </a:p>
          <a:p>
            <a:pPr marL="335880" indent="-335880">
              <a:lnSpc>
                <a:spcPct val="7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 should correct the name on SAR/ISIR. </a:t>
            </a:r>
            <a:endParaRPr b="0" lang="en-US" sz="2700" spc="-1" strike="noStrike">
              <a:solidFill>
                <a:srgbClr val="000000"/>
              </a:solidFill>
              <a:latin typeface="Arial"/>
            </a:endParaRPr>
          </a:p>
          <a:p>
            <a:pPr marL="335880" indent="-3358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 may provide documentation explaining discrepancy in name (e.g., marriage certificate, </a:t>
            </a:r>
            <a:endParaRPr b="0" lang="en-US" sz="2700" spc="-1" strike="noStrike">
              <a:solidFill>
                <a:srgbClr val="000000"/>
              </a:solidFill>
              <a:latin typeface="Arial"/>
            </a:endParaRPr>
          </a:p>
          <a:p>
            <a:pPr marL="33588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ourt order, etc.).</a:t>
            </a:r>
            <a:endParaRPr b="0" lang="en-US" sz="2700" spc="-1" strike="noStrike">
              <a:solidFill>
                <a:srgbClr val="000000"/>
              </a:solidFill>
              <a:latin typeface="Arial"/>
            </a:endParaRPr>
          </a:p>
          <a:p>
            <a:pPr marL="335880" indent="-3358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student’s name is correct, the student must contact SSA.  Once SSA corrects its records, the student may reenter the name and submit it as a SAR/ISIR corre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29E08B0-B7B3-4DD2-A9B3-956BCFAA7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6" name="PlaceHolder 2"/>
          <p:cNvSpPr>
            <a:spLocks noGrp="1"/>
          </p:cNvSpPr>
          <p:nvPr>
            <p:ph/>
          </p:nvPr>
        </p:nvSpPr>
        <p:spPr>
          <a:xfrm>
            <a:off x="5335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4                    13                 no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icant tried to change SSN after SSA verified </a:t>
            </a:r>
            <a:endParaRPr b="0" lang="en-US" sz="2700" spc="-1" strike="noStrike">
              <a:solidFill>
                <a:srgbClr val="000000"/>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at reported SSN was correct. No additional </a:t>
            </a:r>
            <a:endParaRPr b="0" lang="en-US" sz="2700" spc="-1" strike="noStrike">
              <a:solidFill>
                <a:srgbClr val="000000"/>
              </a:solidFill>
              <a:latin typeface="Arial"/>
            </a:endParaRPr>
          </a:p>
          <a:p>
            <a:pPr marL="34308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tch conducted.</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student used the wrong SSN, yet his name, </a:t>
            </a:r>
            <a:endParaRPr b="0" lang="en-US" sz="2700" spc="-1" strike="noStrike">
              <a:solidFill>
                <a:srgbClr val="000000"/>
              </a:solidFill>
              <a:latin typeface="Arial"/>
            </a:endParaRPr>
          </a:p>
          <a:p>
            <a:pPr marL="34308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date of birth, and SSN were confirmed by SSA on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previous transaction, contact ED’s </a:t>
            </a:r>
            <a:r>
              <a:rPr b="1" i="1" lang="en-US" sz="2700" spc="-1" strike="noStrike">
                <a:solidFill>
                  <a:srgbClr val="000000"/>
                </a:solidFill>
                <a:latin typeface="Arial"/>
              </a:rPr>
              <a:t>Correction Application Coordinator</a:t>
            </a:r>
            <a:r>
              <a:rPr b="0" lang="en-US" sz="2700" spc="-1" strike="noStrike">
                <a:solidFill>
                  <a:srgbClr val="000000"/>
                </a:solidFill>
                <a:latin typeface="Arial"/>
              </a:rPr>
              <a:t> at (785) 838-2141</a:t>
            </a:r>
            <a:r>
              <a:rPr b="0" lang="en-US" sz="2700" spc="-1" strike="noStrike">
                <a:solidFill>
                  <a:srgbClr val="4526fc"/>
                </a:solidFill>
                <a:latin typeface="Arial"/>
              </a:rPr>
              <a:t> </a:t>
            </a:r>
            <a:r>
              <a:rPr b="0" lang="en-US" sz="2700" spc="-1" strike="noStrike">
                <a:solidFill>
                  <a:srgbClr val="000000"/>
                </a:solidFill>
                <a:latin typeface="Arial"/>
              </a:rPr>
              <a:t>for further instructions. </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771A1E6-EED0-4A89-B839-8575F1EC1F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7617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Match</a:t>
            </a:r>
            <a:endParaRPr b="0" lang="en-US" sz="3600" spc="-1" strike="noStrike">
              <a:solidFill>
                <a:srgbClr val="000000"/>
              </a:solidFill>
              <a:latin typeface="Arial"/>
            </a:endParaRPr>
          </a:p>
        </p:txBody>
      </p:sp>
      <p:sp>
        <p:nvSpPr>
          <p:cNvPr id="62" name="PlaceHolder 2"/>
          <p:cNvSpPr>
            <a:spLocks noGrp="1"/>
          </p:cNvSpPr>
          <p:nvPr>
            <p:ph/>
          </p:nvPr>
        </p:nvSpPr>
        <p:spPr>
          <a:xfrm>
            <a:off x="304920" y="2133360"/>
            <a:ext cx="8610480" cy="281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none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registration status confirmed by Selective Servi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795848B-712E-40C9-9A34-7F1967C23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456840"/>
            <a:ext cx="693432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8" name="PlaceHolder 2"/>
          <p:cNvSpPr>
            <a:spLocks noGrp="1"/>
          </p:cNvSpPr>
          <p:nvPr>
            <p:ph/>
          </p:nvPr>
        </p:nvSpPr>
        <p:spPr>
          <a:xfrm>
            <a:off x="533520" y="1600200"/>
            <a:ext cx="861048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8</a:t>
            </a:r>
            <a:r>
              <a:rPr b="0" lang="en-US" sz="2800" spc="-1" strike="noStrike">
                <a:solidFill>
                  <a:srgbClr val="0000cc"/>
                </a:solidFill>
                <a:latin typeface="Arial"/>
              </a:rPr>
              <a:t>              </a:t>
            </a:r>
            <a:r>
              <a:rPr b="0" lang="en-US" sz="2800" spc="-1" strike="noStrike">
                <a:solidFill>
                  <a:srgbClr val="000000"/>
                </a:solidFill>
                <a:latin typeface="Arial"/>
              </a:rPr>
              <a:t>5                    145               ye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ful match to a deceased person’s record on the SSA database.</a:t>
            </a:r>
            <a:endParaRPr b="0" lang="en-US" sz="27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student’s identifiers are correct, the student must contact SSA to fix their records.  </a:t>
            </a:r>
            <a:endParaRPr b="0" lang="en-US" sz="27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SSA corrects its records, the student must reenter the name and submit it as a SAR/ISIR correction for an updated match fla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77102ED-5BE9-4AD8-891F-7B0940108B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456840"/>
            <a:ext cx="594360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20" name="PlaceHolder 2"/>
          <p:cNvSpPr>
            <a:spLocks noGrp="1"/>
          </p:cNvSpPr>
          <p:nvPr>
            <p:ph/>
          </p:nvPr>
        </p:nvSpPr>
        <p:spPr>
          <a:xfrm>
            <a:off x="5335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a:t>
            </a:r>
            <a:r>
              <a:rPr b="0" lang="en-US" sz="2800" spc="-1" strike="noStrike">
                <a:solidFill>
                  <a:srgbClr val="0000cc"/>
                </a:solidFill>
                <a:latin typeface="Arial"/>
              </a:rPr>
              <a:t>         </a:t>
            </a:r>
            <a:r>
              <a:rPr b="0" lang="en-US" sz="2800" spc="-1" strike="noStrike">
                <a:solidFill>
                  <a:srgbClr val="000000"/>
                </a:solidFill>
                <a:latin typeface="Arial"/>
              </a:rPr>
              <a:t>8                      59              y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could not be sent to SSA because last name, date of birth, and/or signature was not provided.</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ust provide name, date of birth and/or signature as necessary on SAR/ISIR.</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SSN </a:t>
            </a:r>
            <a:r>
              <a:rPr b="0" lang="en-US" sz="2800" spc="-1" strike="noStrike">
                <a:solidFill>
                  <a:srgbClr val="4526fc"/>
                </a:solidFill>
                <a:latin typeface="Arial"/>
              </a:rPr>
              <a:t>passed</a:t>
            </a:r>
            <a:r>
              <a:rPr b="0" lang="en-US" sz="2800" spc="-1" strike="noStrike">
                <a:solidFill>
                  <a:srgbClr val="000000"/>
                </a:solidFill>
                <a:latin typeface="Arial"/>
              </a:rPr>
              <a:t> ED’s valid range chec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8D19200-D9B2-4484-A94E-F356D64F4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320" y="304920"/>
            <a:ext cx="6172200" cy="1752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22" name="PlaceHolder 2"/>
          <p:cNvSpPr>
            <a:spLocks noGrp="1"/>
          </p:cNvSpPr>
          <p:nvPr>
            <p:ph/>
          </p:nvPr>
        </p:nvSpPr>
        <p:spPr>
          <a:xfrm>
            <a:off x="3049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P</a:t>
            </a:r>
            <a:r>
              <a:rPr b="0" lang="en-US" sz="2800" spc="-1" strike="noStrike">
                <a:solidFill>
                  <a:srgbClr val="0000cc"/>
                </a:solidFill>
                <a:latin typeface="Arial"/>
              </a:rPr>
              <a:t>           </a:t>
            </a:r>
            <a:r>
              <a:rPr b="0" lang="en-US" sz="2800" spc="-1" strike="noStrike">
                <a:solidFill>
                  <a:srgbClr val="000000"/>
                </a:solidFill>
                <a:latin typeface="Arial"/>
              </a:rPr>
              <a:t>8                    23                  y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could not be sent to SSA because last name, date of birth, and/or signature was not provided.</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ust provide name, date of birth and/or signature as necessary on SAR/ISIR.</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SSN </a:t>
            </a:r>
            <a:r>
              <a:rPr b="0" lang="en-US" sz="2800" spc="-1" strike="noStrike">
                <a:solidFill>
                  <a:srgbClr val="4526fc"/>
                </a:solidFill>
                <a:latin typeface="Arial"/>
              </a:rPr>
              <a:t>failed</a:t>
            </a:r>
            <a:r>
              <a:rPr b="0" lang="en-US" sz="2800" spc="-1" strike="noStrike">
                <a:solidFill>
                  <a:srgbClr val="000000"/>
                </a:solidFill>
                <a:latin typeface="Arial"/>
              </a:rPr>
              <a:t> ED’s valid range chec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D350454-D287-4865-917F-3B6708F65B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24"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62                yes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and record found on VA database but not a qualifying Veteran.</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PS assumes No to the Veteran Status question.</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status would make the applicant Independent and FAA has supporting documentation, FAA can do a dependency overrid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451DCB8-B850-4D30-A52B-FE882368FE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26"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2                    163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and record found on VA database but not a qualifying Vetera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assumes No to the Veteran Status ques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Applicant is Independent based on response(s) to other dependency status ques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FFE4A9A-341D-48AE-A0A8-4CE737D2D8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28"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3                      173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and record not found on VA databas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PS assumes No to the Veteran Status ques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status would make the applicant Independent and FAA has supporting documentation, FAA can do a dependency overrid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00FF79D-8C73-4C69-A971-B180852FE5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30"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3                      174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and record not found on VA database but not a qualifying Vetera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assumes No to the Veteran Status ques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Applicant is Independent based on response(s) to other dependency status ques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D4902F1-7673-470B-ADAC-3E48155F44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4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32"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4                      180               y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new for 04--05</a:t>
            </a:r>
            <a:r>
              <a:rPr b="0" lang="en-US" sz="2400" spc="-1" strike="noStrike">
                <a:solidFill>
                  <a:srgbClr val="000000"/>
                </a:solidFill>
                <a:latin typeface="Arial"/>
              </a:rPr>
              <a:t> </a:t>
            </a:r>
            <a:r>
              <a:rPr b="1" lang="en-US" sz="2400" spc="-1" strike="noStrike">
                <a:solidFill>
                  <a:srgbClr val="800080"/>
                </a:solidFill>
                <a:latin typeface="Arial"/>
              </a:rPr>
              <a:t>Comment and “C” code will be triggered only if applicant is Independent because of response to VA stat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found on VA database but applicant on </a:t>
            </a:r>
            <a:r>
              <a:rPr b="0" lang="en-US" sz="2800" spc="-1" strike="noStrike">
                <a:solidFill>
                  <a:srgbClr val="800080"/>
                </a:solidFill>
                <a:latin typeface="Arial"/>
              </a:rPr>
              <a:t>active dut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 must collect documentation showing the military branch’s upcoming release order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requirement to reconfirm actual separation during the award ye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609480" y="2438280"/>
            <a:ext cx="365400" cy="457200"/>
          </a:xfrm>
          <a:prstGeom prst="star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C88DD56-8963-4EE7-9548-6142A6AE94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35"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8                      161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could not be sent to VA because last name, date of birth, and/or signature was not provid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ust provide name, date of birth and/or signature as necessary on SAR/ISI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7FD8BAD-2615-47E5-8C3B-F852A532EB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5335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37" name="PlaceHolder 2"/>
          <p:cNvSpPr>
            <a:spLocks noGrp="1"/>
          </p:cNvSpPr>
          <p:nvPr>
            <p:ph/>
          </p:nvPr>
        </p:nvSpPr>
        <p:spPr>
          <a:xfrm>
            <a:off x="533520" y="1980720"/>
            <a:ext cx="81532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provide a brief overview of NSLDS match flags, Comments and other CPS processes.  Detailed eligibility will be discussed more  thoroughly in the NSLDS Session entitled, </a:t>
            </a:r>
            <a:r>
              <a:rPr b="1" lang="en-US" sz="2800" spc="-1" strike="noStrike">
                <a:solidFill>
                  <a:srgbClr val="000000"/>
                </a:solidFill>
                <a:latin typeface="Arial"/>
                <a:ea typeface="Times New Roman"/>
              </a:rPr>
              <a:t>“NSLDS Data Conflict Resolution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9D5B7F7-E36B-44ED-ADF3-38630D11C1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76212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Match</a:t>
            </a:r>
            <a:endParaRPr b="0" lang="en-US" sz="3600" spc="-1" strike="noStrike">
              <a:solidFill>
                <a:srgbClr val="000000"/>
              </a:solidFill>
              <a:latin typeface="Arial"/>
            </a:endParaRPr>
          </a:p>
        </p:txBody>
      </p:sp>
      <p:sp>
        <p:nvSpPr>
          <p:cNvPr id="64" name="PlaceHolder 2"/>
          <p:cNvSpPr>
            <a:spLocks noGrp="1"/>
          </p:cNvSpPr>
          <p:nvPr>
            <p:ph/>
          </p:nvPr>
        </p:nvSpPr>
        <p:spPr>
          <a:xfrm>
            <a:off x="171360" y="1981080"/>
            <a:ext cx="87170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T                      26                    no</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 is temporarily exempt because he is not yet 18 years old.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pdate is not required during the yea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331B789-5EEB-47C5-AA22-1D568915DE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512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39" name="PlaceHolder 2"/>
          <p:cNvSpPr>
            <a:spLocks noGrp="1"/>
          </p:cNvSpPr>
          <p:nvPr>
            <p:ph/>
          </p:nvPr>
        </p:nvSpPr>
        <p:spPr>
          <a:xfrm>
            <a:off x="30492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1                        none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tch found; NSLDS data sen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not in default or overpaymen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798CCAB-6947-4197-B53A-BB244BF952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800" y="6854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1" name="PlaceHolder 2"/>
          <p:cNvSpPr>
            <a:spLocks noGrp="1"/>
          </p:cNvSpPr>
          <p:nvPr>
            <p:ph/>
          </p:nvPr>
        </p:nvSpPr>
        <p:spPr>
          <a:xfrm>
            <a:off x="3049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7                       138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2</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SN matched, but name and DOB did not match. No NSLDS data provid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ccess NSLDS with SSN to determine if the applicant’s data is in NSL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98FE7B2-7B95-41F3-8042-C866D9C1A8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3" name="PlaceHolder 2"/>
          <p:cNvSpPr>
            <a:spLocks noGrp="1"/>
          </p:cNvSpPr>
          <p:nvPr>
            <p:ph/>
          </p:nvPr>
        </p:nvSpPr>
        <p:spPr>
          <a:xfrm>
            <a:off x="533520" y="19807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1                     none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3</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not found in NSLDS databa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176BC07-65AD-43E2-99DF-558E2CCE1C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6854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5" name="PlaceHolder 2"/>
          <p:cNvSpPr>
            <a:spLocks noGrp="1"/>
          </p:cNvSpPr>
          <p:nvPr>
            <p:ph/>
          </p:nvPr>
        </p:nvSpPr>
        <p:spPr>
          <a:xfrm>
            <a:off x="304920" y="19807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1                     none</a:t>
            </a:r>
            <a:r>
              <a:rPr b="0" lang="en-US" sz="2800" spc="-1" strike="noStrike">
                <a:solidFill>
                  <a:srgbClr val="000000"/>
                </a:solidFill>
                <a:latin typeface="Arial"/>
              </a:rPr>
              <a:t>	</a:t>
            </a:r>
            <a:r>
              <a:rPr b="0" lang="en-US" sz="2800" spc="-1" strike="noStrike">
                <a:solidFill>
                  <a:srgbClr val="000000"/>
                </a:solidFill>
                <a:latin typeface="Arial"/>
              </a:rPr>
              <a:t>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4</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tch found.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relevant data sent to C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F434971-AE29-4CCA-9247-CEA83D1C0C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7"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amp; 124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a Guaranty Agency, Direct Loan Servicer or ED Region.</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ntact information is provided in comment tex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pecific loan status codes are provided on ISIR.</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66CDAD2-F964-4390-B630-33B1FBD88C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108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9" name="PlaceHolder 2"/>
          <p:cNvSpPr>
            <a:spLocks noGrp="1"/>
          </p:cNvSpPr>
          <p:nvPr>
            <p:ph/>
          </p:nvPr>
        </p:nvSpPr>
        <p:spPr>
          <a:xfrm>
            <a:off x="3049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Department of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Edu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E05E826-48BD-459A-8D09-684869D013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108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1" name="PlaceHolder 2"/>
          <p:cNvSpPr>
            <a:spLocks noGrp="1"/>
          </p:cNvSpPr>
          <p:nvPr>
            <p:ph/>
          </p:nvPr>
        </p:nvSpPr>
        <p:spPr>
          <a:xfrm>
            <a:off x="30492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amp; 135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Lender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8193174-C750-43ED-8D66-6A5435B963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5120" y="6854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3" name="PlaceHolder 2"/>
          <p:cNvSpPr>
            <a:spLocks noGrp="1"/>
          </p:cNvSpPr>
          <p:nvPr>
            <p:ph/>
          </p:nvPr>
        </p:nvSpPr>
        <p:spPr>
          <a:xfrm>
            <a:off x="228600" y="23623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amp; 13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school.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3F5D670-8A73-47D6-A8EE-282BE14CF0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4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5"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3                    133 </a:t>
            </a:r>
            <a:r>
              <a:rPr b="0" lang="en-US" sz="1800" spc="-1" strike="noStrike">
                <a:solidFill>
                  <a:srgbClr val="000000"/>
                </a:solidFill>
                <a:latin typeface="Arial"/>
              </a:rPr>
              <a:t>+ see below</a:t>
            </a:r>
            <a:r>
              <a:rPr b="0" lang="en-US" sz="2800" spc="-1" strike="noStrike">
                <a:solidFill>
                  <a:srgbClr val="000000"/>
                </a:solidFill>
                <a:latin typeface="Arial"/>
              </a:rPr>
              <a:t>        ye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SLDS Results Flag = 1</a:t>
            </a:r>
            <a:endParaRPr b="0" lang="en-US" sz="26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90000"/>
              </a:lnSpc>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pplicant has at least one Overpayment </a:t>
            </a:r>
            <a:endParaRPr b="0" lang="en-US" sz="2600" spc="-1" strike="noStrike">
              <a:solidFill>
                <a:srgbClr val="000000"/>
              </a:solidFill>
              <a:latin typeface="Arial"/>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Pell Overpayments:</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38 = school</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s 41, 42, 43 = ED Regions</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 20 = more than one contact</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 39 = more than one Pell Overpaymen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AAB097F-CC1B-4710-959E-0CC63AFD18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108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7" name="PlaceHolder 2"/>
          <p:cNvSpPr>
            <a:spLocks noGrp="1"/>
          </p:cNvSpPr>
          <p:nvPr>
            <p:ph/>
          </p:nvPr>
        </p:nvSpPr>
        <p:spPr>
          <a:xfrm>
            <a:off x="533520" y="1371600"/>
            <a:ext cx="8610480" cy="4495680"/>
          </a:xfrm>
          <a:prstGeom prst="rect">
            <a:avLst/>
          </a:prstGeom>
          <a:noFill/>
          <a:ln w="0">
            <a:noFill/>
          </a:ln>
        </p:spPr>
        <p:txBody>
          <a:bodyPr lIns="90000" rIns="90000" tIns="46800" bIns="46800" anchor="t">
            <a:normAutofit fontScale="99000"/>
          </a:bodyPr>
          <a:p>
            <a:pPr marL="3394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SEOG Overpayment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77 = school</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s 65, 66, 67 = ED Region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10 = more than one contact</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79 = more than one FSEOG Overpay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kins Overpayment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90 = school</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s 100, 101, 102 = ED Region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86 = more than one contact</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107 = more than one Perkins Overpay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8F88900-A2CD-4095-9DA3-90A7146E15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609120"/>
            <a:ext cx="582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Match</a:t>
            </a:r>
            <a:endParaRPr b="0" lang="en-US" sz="3600" spc="-1" strike="noStrike">
              <a:solidFill>
                <a:srgbClr val="000000"/>
              </a:solidFill>
              <a:latin typeface="Arial"/>
            </a:endParaRPr>
          </a:p>
        </p:txBody>
      </p:sp>
      <p:sp>
        <p:nvSpPr>
          <p:cNvPr id="66" name="PlaceHolder 2"/>
          <p:cNvSpPr>
            <a:spLocks noGrp="1"/>
          </p:cNvSpPr>
          <p:nvPr>
            <p:ph/>
          </p:nvPr>
        </p:nvSpPr>
        <p:spPr>
          <a:xfrm>
            <a:off x="380520" y="1828440"/>
            <a:ext cx="8488440" cy="42670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Arial"/>
              </a:rPr>
              <a:t>"C" Code     Match Flag      Comment        Resolution</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                     30                yes</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 is not in Selective Service database</a:t>
            </a:r>
            <a:endParaRPr b="0" lang="en-US" sz="2600" spc="-1" strike="noStrike">
              <a:solidFill>
                <a:srgbClr val="000000"/>
              </a:solidFill>
              <a:latin typeface="Arial"/>
            </a:endParaRPr>
          </a:p>
          <a:p>
            <a:pPr marL="343080" indent="-34308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 must:</a:t>
            </a:r>
            <a:endParaRPr b="0" lang="en-US" sz="2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er with Selective Service (if within age range), </a:t>
            </a:r>
            <a:endParaRPr b="0" lang="en-US" sz="2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appropriate confirmation (i.e., his Selective Service Registration Acknowledgment or his letter of registration) showing that he is already registered, or</a:t>
            </a:r>
            <a:endParaRPr b="0" lang="en-US" sz="2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fy for a waiver or exemptio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C04BDE2-E1B4-4642-86A1-DD1D3EE127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720" y="7621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9" name="PlaceHolder 2"/>
          <p:cNvSpPr>
            <a:spLocks noGrp="1"/>
          </p:cNvSpPr>
          <p:nvPr>
            <p:ph/>
          </p:nvPr>
        </p:nvSpPr>
        <p:spPr>
          <a:xfrm>
            <a:off x="228600" y="20574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4                      134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nd owes at least one overpaymen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me resolution as match flags 2 and 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2B35B5F-220C-44B5-8786-7A82FBDAC9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1" name="PlaceHolder 2"/>
          <p:cNvSpPr>
            <a:spLocks noGrp="1"/>
          </p:cNvSpPr>
          <p:nvPr>
            <p:ph/>
          </p:nvPr>
        </p:nvSpPr>
        <p:spPr>
          <a:xfrm>
            <a:off x="30492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00"/>
                </a:solidFill>
                <a:latin typeface="Arial"/>
              </a:rPr>
              <a:t>n/a</a:t>
            </a:r>
            <a:r>
              <a:rPr b="0" lang="en-US" sz="2800" spc="-1" strike="noStrike">
                <a:solidFill>
                  <a:srgbClr val="0000cc"/>
                </a:solidFill>
                <a:latin typeface="Arial"/>
              </a:rPr>
              <a:t>                   </a:t>
            </a:r>
            <a:r>
              <a:rPr b="0" lang="en-US" sz="2800" spc="-1" strike="noStrike">
                <a:solidFill>
                  <a:srgbClr val="000000"/>
                </a:solidFill>
                <a:latin typeface="Arial"/>
              </a:rPr>
              <a:t>115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an is discharged due to disabilit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99B63F7-B1B8-4915-BD46-0B2645E9A9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7621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3" name="PlaceHolder 2"/>
          <p:cNvSpPr>
            <a:spLocks noGrp="1"/>
          </p:cNvSpPr>
          <p:nvPr>
            <p:ph/>
          </p:nvPr>
        </p:nvSpPr>
        <p:spPr>
          <a:xfrm>
            <a:off x="22860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n/a                    11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an is in bankrupt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F4F0FD0-314A-4488-8DD1-578EBBDCF1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28800" y="5335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5" name="PlaceHolder 2"/>
          <p:cNvSpPr>
            <a:spLocks noGrp="1"/>
          </p:cNvSpPr>
          <p:nvPr>
            <p:ph/>
          </p:nvPr>
        </p:nvSpPr>
        <p:spPr>
          <a:xfrm>
            <a:off x="304920" y="1828800"/>
            <a:ext cx="861048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8                     none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SLDS match not conducted because of processing problem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corrections are made to SAR/ISIR,  NSLDS match is conducted ag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5EC2DC5-1023-4DCD-B459-4264A2A729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8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7" name="PlaceHolder 2"/>
          <p:cNvSpPr>
            <a:spLocks noGrp="1"/>
          </p:cNvSpPr>
          <p:nvPr>
            <p:ph/>
          </p:nvPr>
        </p:nvSpPr>
        <p:spPr>
          <a:xfrm>
            <a:off x="228600" y="1523520"/>
            <a:ext cx="8610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eeded loan limits – Subsidized</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25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eligible to receive further Title IV assist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may repay the amount  in exces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can make arrangements to repay amount in ex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B6E2D53-2E8D-4696-8628-4DFFA1ADD1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456840"/>
            <a:ext cx="59436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9" name="PlaceHolder 2"/>
          <p:cNvSpPr>
            <a:spLocks noGrp="1"/>
          </p:cNvSpPr>
          <p:nvPr>
            <p:ph/>
          </p:nvPr>
        </p:nvSpPr>
        <p:spPr>
          <a:xfrm>
            <a:off x="228600" y="1523520"/>
            <a:ext cx="8610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eeded loan limits – Combined</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Arial"/>
              </a:rPr>
              <a:t>"C" Code       Match Flag       Comment         Resolutio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yes                n/a                      262                  ye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eligible to receive further Title IV assist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may repay the amount  in exces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can make arrangements to repay amount in ex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9D22047-D619-4C2E-A38A-4953C1F97D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1337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71"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ose to Exceeded loan limits – Subsid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257                   no</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within one loan of exceeded loan limits</a:t>
            </a:r>
            <a:endParaRPr b="0" lang="en-US" sz="2800" spc="-1" strike="noStrike">
              <a:solidFill>
                <a:srgbClr val="00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6CE0E36-1F26-4E7A-9360-D74DBE124D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533520"/>
            <a:ext cx="66294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73"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ose to Exceeded loan limits – Combi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no              n/a                     263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within one loan of exceeded loan limi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DD3F5EE-30EF-40F1-9EF1-29FC0A77F7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rug Abuse Hold</a:t>
            </a:r>
            <a:endParaRPr b="0" lang="en-US" sz="3600" spc="-1" strike="noStrike">
              <a:solidFill>
                <a:srgbClr val="000000"/>
              </a:solidFill>
              <a:latin typeface="Arial"/>
            </a:endParaRPr>
          </a:p>
        </p:txBody>
      </p:sp>
      <p:sp>
        <p:nvSpPr>
          <p:cNvPr id="175"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 19</a:t>
            </a:r>
            <a:r>
              <a:rPr b="0" lang="en-US" sz="2800" spc="-1" strike="noStrike">
                <a:solidFill>
                  <a:srgbClr val="000000"/>
                </a:solidFill>
                <a:latin typeface="Arial"/>
              </a:rPr>
              <a:t>          n/a                    9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laced on hold by Department of Justice for drug abuse offense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eligible to receive Title IV assist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y be resolved only by ED in coordination with Department of Justi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must contact ED at (202)377-324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FC2331A-18B0-44BB-B42B-676FFE2E02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1080" y="456840"/>
            <a:ext cx="5943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rug Abuse Hold</a:t>
            </a:r>
            <a:endParaRPr b="0" lang="en-US" sz="3600" spc="-1" strike="noStrike">
              <a:solidFill>
                <a:srgbClr val="000000"/>
              </a:solidFill>
              <a:latin typeface="Arial"/>
            </a:endParaRPr>
          </a:p>
        </p:txBody>
      </p:sp>
      <p:sp>
        <p:nvSpPr>
          <p:cNvPr id="177"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55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been released from Drug Abuse Hol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63587D8-FF3C-47DD-9861-D17D4F0A51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7617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Registration</a:t>
            </a:r>
            <a:endParaRPr b="0" lang="en-US" sz="3600" spc="-1" strike="noStrike">
              <a:solidFill>
                <a:srgbClr val="000000"/>
              </a:solidFill>
              <a:latin typeface="Arial"/>
            </a:endParaRPr>
          </a:p>
        </p:txBody>
      </p:sp>
      <p:sp>
        <p:nvSpPr>
          <p:cNvPr id="68" name="PlaceHolder 2"/>
          <p:cNvSpPr>
            <a:spLocks noGrp="1"/>
          </p:cNvSpPr>
          <p:nvPr>
            <p:ph/>
          </p:nvPr>
        </p:nvSpPr>
        <p:spPr>
          <a:xfrm>
            <a:off x="304920" y="2133360"/>
            <a:ext cx="8610480" cy="281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31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ed name to Selective Service for registration as requested on application or SA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DD368D1-FD5F-4CB0-B770-92C8E7948F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456840"/>
            <a:ext cx="685800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79"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you ever been convicted of possessing or selling</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legal drugs?</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3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left response to question #31 blank.</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if response is left blank.</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llow one of various directions in comment text to make a correction to provide a respons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DAF9985-51F8-4FD0-85FC-5DE67C1755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456840"/>
            <a:ext cx="617220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1" name="PlaceHolder 2"/>
          <p:cNvSpPr>
            <a:spLocks noGrp="1"/>
          </p:cNvSpPr>
          <p:nvPr>
            <p:ph/>
          </p:nvPr>
        </p:nvSpPr>
        <p:spPr>
          <a:xfrm>
            <a:off x="304920" y="1600200"/>
            <a:ext cx="8610480" cy="44956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you ever been convicted of possessing or selling</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legal drugs?</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4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ponse to question #31 is “yes, part yea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until ineligibility period expires and has to be between July 1, 2004 and June 30, 2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4B09EA6-0460-4E9E-AA3D-5CC823344C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533520"/>
            <a:ext cx="617220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3" name="PlaceHolder 2"/>
          <p:cNvSpPr>
            <a:spLocks noGrp="1"/>
          </p:cNvSpPr>
          <p:nvPr>
            <p:ph/>
          </p:nvPr>
        </p:nvSpPr>
        <p:spPr>
          <a:xfrm>
            <a:off x="228600" y="1523520"/>
            <a:ext cx="91440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been convicted of possessing or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llegal dru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ponse to question #31 is “yes” </a:t>
            </a:r>
            <a:r>
              <a:rPr b="0" lang="en-US" sz="2800" spc="-1" strike="noStrike" u="sng">
                <a:solidFill>
                  <a:srgbClr val="000000"/>
                </a:solidFill>
                <a:uFillTx/>
                <a:latin typeface="Arial"/>
                <a:ea typeface="Times New Roman"/>
              </a:rPr>
              <a:t>on paper FAFSA</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to receive Title IV assistanc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response is incorrect, follow one of various directions in comment text to make a correction to provide a correct respon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536FD41-BC20-4C20-A0FB-D933F02DE0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133720" y="380520"/>
            <a:ext cx="594360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5" name="PlaceHolder 2"/>
          <p:cNvSpPr>
            <a:spLocks noGrp="1"/>
          </p:cNvSpPr>
          <p:nvPr>
            <p:ph/>
          </p:nvPr>
        </p:nvSpPr>
        <p:spPr>
          <a:xfrm>
            <a:off x="457200" y="1371600"/>
            <a:ext cx="86868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been convicted of possessing or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llegal dru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8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ponse to question #31 is “yes” </a:t>
            </a:r>
            <a:r>
              <a:rPr b="0" lang="en-US" sz="2800" spc="-1" strike="noStrike" u="sng">
                <a:solidFill>
                  <a:srgbClr val="000000"/>
                </a:solidFill>
                <a:uFillTx/>
                <a:latin typeface="Arial"/>
                <a:ea typeface="Times New Roman"/>
              </a:rPr>
              <a:t>on other than paper</a:t>
            </a:r>
            <a:r>
              <a:rPr b="0" lang="en-US" sz="2800" spc="-1" strike="noStrike">
                <a:solidFill>
                  <a:srgbClr val="000000"/>
                </a:solidFill>
                <a:latin typeface="Arial"/>
                <a:ea typeface="Times New Roman"/>
              </a:rPr>
              <a:t> FAFSA.</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to receive Title IV assistanc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response is incorrect, follow one of various directions in comment text to make a correction to provide a correct respon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DA78D8A-6C0B-4B27-8B56-942F7FBD67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7400" y="456840"/>
            <a:ext cx="601992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7"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been convicted of possessing or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llegal drug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52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changed response from “yes, part year” or “Yes, don’t know” to “No”.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8A053C3-5DD3-4B6C-8CD7-7AD7A93057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219320"/>
            <a:ext cx="8381880" cy="170028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Resolving </a:t>
            </a:r>
            <a:r>
              <a:rPr b="1" i="1" lang="en-US" sz="4400" spc="-1" strike="noStrike">
                <a:solidFill>
                  <a:srgbClr val="800080"/>
                </a:solidFill>
                <a:latin typeface="Arial"/>
              </a:rPr>
              <a:t>Student</a:t>
            </a:r>
            <a:r>
              <a:rPr b="1" i="1" lang="en-US" sz="4400" spc="-1" strike="noStrike">
                <a:solidFill>
                  <a:srgbClr val="713474"/>
                </a:solidFill>
                <a:latin typeface="Arial"/>
              </a:rPr>
              <a:t> </a:t>
            </a:r>
            <a:endParaRPr b="0" lang="en-US" sz="4400" spc="-1" strike="noStrike">
              <a:solidFill>
                <a:srgbClr val="000000"/>
              </a:solidFill>
              <a:latin typeface="Times New Roman"/>
            </a:endParaRPr>
          </a:p>
          <a:p>
            <a:pPr algn="ctr">
              <a:lnSpc>
                <a:spcPct val="4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Eligibility Issues</a:t>
            </a:r>
            <a:endParaRPr b="0" lang="en-US" sz="4400" spc="-1" strike="noStrike">
              <a:solidFill>
                <a:srgbClr val="000000"/>
              </a:solidFill>
              <a:latin typeface="Times New Roman"/>
            </a:endParaRPr>
          </a:p>
          <a:p>
            <a:pPr algn="ctr">
              <a:lnSpc>
                <a:spcPct val="45000"/>
              </a:lnSpc>
              <a:spcBef>
                <a:spcPts val="22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13474"/>
                </a:solidFill>
                <a:latin typeface="Arial"/>
              </a:rPr>
              <a:t>- </a:t>
            </a:r>
            <a:r>
              <a:rPr b="0" i="1" lang="en-US" sz="3600" spc="-1" strike="noStrike">
                <a:solidFill>
                  <a:srgbClr val="713474"/>
                </a:solidFill>
                <a:latin typeface="Arial"/>
              </a:rPr>
              <a:t>supplement -</a:t>
            </a:r>
            <a:endParaRPr b="0" lang="en-US" sz="3600" spc="-1" strike="noStrike">
              <a:solidFill>
                <a:srgbClr val="000000"/>
              </a:solidFill>
              <a:latin typeface="Times New Roman"/>
            </a:endParaRPr>
          </a:p>
        </p:txBody>
      </p:sp>
      <p:sp>
        <p:nvSpPr>
          <p:cNvPr id="189" name=""/>
          <p:cNvSpPr/>
          <p:nvPr/>
        </p:nvSpPr>
        <p:spPr>
          <a:xfrm>
            <a:off x="380880" y="3124080"/>
            <a:ext cx="8458200" cy="2395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ocial Security Number Match </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ith Social Security Administration</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arents</a:t>
            </a:r>
            <a:endParaRPr b="0" lang="en-US" sz="4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ew for 04-05</a:t>
            </a:r>
            <a:endParaRPr b="0" lang="en-US" sz="1600" spc="-1" strike="noStrike">
              <a:solidFill>
                <a:srgbClr val="000000"/>
              </a:solidFill>
              <a:latin typeface="Times New Roman"/>
            </a:endParaRPr>
          </a:p>
        </p:txBody>
      </p:sp>
      <p:sp>
        <p:nvSpPr>
          <p:cNvPr id="190" name=""/>
          <p:cNvSpPr/>
          <p:nvPr/>
        </p:nvSpPr>
        <p:spPr>
          <a:xfrm>
            <a:off x="3505320" y="5105520"/>
            <a:ext cx="365040" cy="457200"/>
          </a:xfrm>
          <a:prstGeom prst="star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ssion ??</a:t>
            </a:r>
          </a:p>
        </p:txBody>
      </p:sp>
      <p:sp>
        <p:nvSpPr>
          <p:cNvPr id="3" name="PlaceHolder 2"/>
          <p:cNvSpPr>
            <a:spLocks noGrp="1"/>
          </p:cNvSpPr>
          <p:nvPr>
            <p:ph type="sldNum" idx="3"/>
          </p:nvPr>
        </p:nvSpPr>
        <p:spPr/>
        <p:txBody>
          <a:bodyPr/>
          <a:p>
            <a:fld id="{AFA5288E-012A-4647-8D6F-C3F0A362FB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457200"/>
            <a:ext cx="7010640" cy="12952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2" name="PlaceHolder 2"/>
          <p:cNvSpPr>
            <a:spLocks noGrp="1"/>
          </p:cNvSpPr>
          <p:nvPr>
            <p:ph/>
          </p:nvPr>
        </p:nvSpPr>
        <p:spPr>
          <a:xfrm>
            <a:off x="304920" y="1828440"/>
            <a:ext cx="86104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PS will match with Social Security Administration to verify parents’ SSN, Name and DOB  </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preparation for a possible data match with IRS.  </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 conducted in the same way the match is done for students. </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 flags will be provided for each parent </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IR Fields 258 &amp; 260</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ent text and codes will be provided</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liminary guidance on resolution will be provided</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C” cod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8568063-BCAF-4D6A-B075-4AF4439A4F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457200"/>
            <a:ext cx="7010640" cy="12952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4" name="PlaceHolder 2"/>
          <p:cNvSpPr>
            <a:spLocks noGrp="1"/>
          </p:cNvSpPr>
          <p:nvPr>
            <p:ph/>
          </p:nvPr>
        </p:nvSpPr>
        <p:spPr>
          <a:xfrm>
            <a:off x="914040" y="1752480"/>
            <a:ext cx="792468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Times New Roman"/>
              </a:rPr>
              <a:t>SSA Match Flag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 = No match on SS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 SSN and name match, no match on DOB</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 = SSN match, no match on nam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 = SSN, Name, and DOB match</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 = SSN, name, DOB match with Date of Death</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8 = Record not sent to SSA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438C39C-F6AB-4E56-9AA1-D7709A4199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480" y="533160"/>
            <a:ext cx="701064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6"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48                  n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SSN is the same as student’s SSN</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N for parent(s) is blanked ou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parent(s) SS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85673C5-A851-4C0F-8059-1B3F1DD0F5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52480" y="533160"/>
            <a:ext cx="701064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8"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45                  n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marital status is not married.</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N provided for both Father and Moth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either parent marital status or eliminate the appropriate parent SSN info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B011E63-DB43-43A7-95EA-A420C09D05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160" y="7617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Registration</a:t>
            </a:r>
            <a:endParaRPr b="0" lang="en-US" sz="3600" spc="-1" strike="noStrike">
              <a:solidFill>
                <a:srgbClr val="000000"/>
              </a:solidFill>
              <a:latin typeface="Arial"/>
            </a:endParaRPr>
          </a:p>
        </p:txBody>
      </p:sp>
      <p:sp>
        <p:nvSpPr>
          <p:cNvPr id="70" name="PlaceHolder 2"/>
          <p:cNvSpPr>
            <a:spLocks noGrp="1"/>
          </p:cNvSpPr>
          <p:nvPr>
            <p:ph/>
          </p:nvPr>
        </p:nvSpPr>
        <p:spPr>
          <a:xfrm>
            <a:off x="304920" y="2133360"/>
            <a:ext cx="8610480" cy="281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T                     28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ation will be processed by Selective Service 30 days prior to the applicant’s 18th birthda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61FC943-0E3A-4FEF-B423-0D255D6EA5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0"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6       Father = 1            11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match is either invalid SSN, mismatch on name or on DOB.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either parent has a full match of 4</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ppropriate data elements for parents to achieve a full match (for at least one par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123FCD9-C8FA-430B-9AC3-444517CD8F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7       Mother = 1             12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match is either invalid SSN, mismatch on name or on DOB.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either parent has a full match of 4</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ppropriate data elements for parents to achieve a full match (for at least one par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D386088-8E32-4184-84B0-AAA03C591C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4"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1             14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Mo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SSN for Father to achieve a full ma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09B81BB-56B9-4D72-A31D-1063177132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6"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1           15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Fa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SSN for Mother to achieve a full ma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FDF33FC-23C4-4CB4-BD0F-C42E0BBA65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8"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ject S      Father = 2            16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DOB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o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DOB for Father to achie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data elements as appropriate to achieve full ma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577B8DA-9180-4CE9-9675-7D3BF938F3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0" name="PlaceHolder 2"/>
          <p:cNvSpPr>
            <a:spLocks noGrp="1"/>
          </p:cNvSpPr>
          <p:nvPr>
            <p:ph/>
          </p:nvPr>
        </p:nvSpPr>
        <p:spPr>
          <a:xfrm>
            <a:off x="304560" y="1752120"/>
            <a:ext cx="88390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2             7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reaffirmed that SSA’s invalid DOB is correct.</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o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data elements as appropriate to achieve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ather’s DOB is correct, the father should contact SSA to update its rec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32ECA60-6867-4ABC-BA06-DA5E15910E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ject T      Mother = 2               17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DOB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Fa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DOB for Mother to achie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data elements as appropriate to achieve full matc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19AD6B9-7AB2-4752-BC09-3A3F8627B6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4" name="PlaceHolder 2"/>
          <p:cNvSpPr>
            <a:spLocks noGrp="1"/>
          </p:cNvSpPr>
          <p:nvPr>
            <p:ph/>
          </p:nvPr>
        </p:nvSpPr>
        <p:spPr>
          <a:xfrm>
            <a:off x="304560" y="1752120"/>
            <a:ext cx="88390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2             8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 reaffirmed that SSA’s invalid DOB is correct.</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Fa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data elements as appropriate to achieve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other’s DOB is correct, the mother should contact SSA to update its rec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FACAE14-D3DC-4B89-8511-DBEDC9792E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6"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2           19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4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DOB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Mo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DOB to achieve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F07E2B0-64D5-43C0-B30E-232DDB7124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8"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2           21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4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DOB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Fa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DOB to achieve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E741564-F04A-45BA-B4D7-A2730CEDF6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Registration</a:t>
            </a:r>
            <a:endParaRPr b="0" lang="en-US" sz="3600" spc="-1" strike="noStrike">
              <a:solidFill>
                <a:srgbClr val="000000"/>
              </a:solidFill>
              <a:latin typeface="Arial"/>
            </a:endParaRPr>
          </a:p>
        </p:txBody>
      </p:sp>
      <p:sp>
        <p:nvSpPr>
          <p:cNvPr id="72" name="PlaceHolder 2"/>
          <p:cNvSpPr>
            <a:spLocks noGrp="1"/>
          </p:cNvSpPr>
          <p:nvPr>
            <p:ph/>
          </p:nvPr>
        </p:nvSpPr>
        <p:spPr>
          <a:xfrm>
            <a:off x="152280" y="1828440"/>
            <a:ext cx="883944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one                    33                 y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is either not within age range for registering or some information needed to register him is missing (i.e. name, DOB, signature).</a:t>
            </a:r>
            <a:endParaRPr b="0" lang="en-US" sz="28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ver 26, see Selective Service Match Flags.</a:t>
            </a: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816298E-77A6-4DE1-8542-5E627E0F08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0"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3           22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Name is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name to achieve a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FDA72EA-D3F0-4E48-A879-4EF1B4BFF7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3           25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Name is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name to achieve a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E7891BD-17FF-4DE9-99B8-AF0BA5F3C5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4"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5           27                 no</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ful match to a deceased person’s record on the SSA database for fa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father’s identifiers are correct, the father should contact SSA to fix their record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SSA corrects its records, the father can reenter the name and submit it as a SAR/ISIR correction for an updated match flag.</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6F0DC16-8249-4B88-AB3B-8767DF0B6D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6"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5           29                 no</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ful match to a deceased person’s record on the SSA database for mo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mother’s identifiers are correct, the mother should contact SSA to fix their record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SSA corrects its records, the mother can reenter the name and submit it as a SAR/ISIR correction for an updated match flag.</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F8FEBA3-6325-4673-88FC-495B126CCC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8"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9              n/a                49                   yes</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tch with SSA was not conducted on either parent. </a:t>
            </a:r>
            <a:endParaRPr b="0" lang="en-US" sz="27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SSN, last name and DOB is missing for both parents.</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ll appropriate data elements for parents to enable CPS to conduct the match with SSA.</a:t>
            </a:r>
            <a:endParaRPr b="0" lang="en-US" sz="27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parents do not have an SSN, provide zeros</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11ED093-8E3A-4C13-815B-54BA7E67D8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30"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166                 no</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ther’s data not sent to SSA for data match.</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SN for Father is not in SSA’s list of issued SSN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ther’s SSN appears to be invalid.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correct SSN for Fa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Father’s SSN is correct,Father should contact SSA to ensure their records are correct.</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F6F897F-E558-4B4D-9F34-CCCFC083E2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3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167                 no</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ther’s data not sent to SSA for data match.</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SN for Mother is not in SSA’s list of issued SSN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ther’s SSN appears to be invalid.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correct SSN for Mo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Mother’s SSN is correct, Mother should contact SSA to ensure their records are correct.</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CA959A2-A9DF-4026-9F25-F5A620980D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80"/>
                </a:solidFill>
                <a:latin typeface="Arial"/>
              </a:rPr>
              <a:t>Tech Slide</a:t>
            </a:r>
            <a:endParaRPr b="0" lang="en-US" sz="4400" spc="-1" strike="noStrike">
              <a:solidFill>
                <a:srgbClr val="000000"/>
              </a:solidFill>
              <a:latin typeface="Arial"/>
            </a:endParaRPr>
          </a:p>
        </p:txBody>
      </p:sp>
      <p:sp>
        <p:nvSpPr>
          <p:cNvPr id="234" name="PlaceHolder 2"/>
          <p:cNvSpPr>
            <a:spLocks noGrp="1"/>
          </p:cNvSpPr>
          <p:nvPr>
            <p:ph/>
          </p:nvPr>
        </p:nvSpPr>
        <p:spPr>
          <a:xfrm>
            <a:off x="1599840" y="1676160"/>
            <a:ext cx="5791320" cy="4267080"/>
          </a:xfrm>
          <a:prstGeom prst="rect">
            <a:avLst/>
          </a:prstGeom>
          <a:noFill/>
          <a:ln w="0">
            <a:noFill/>
          </a:ln>
        </p:spPr>
        <p:txBody>
          <a:bodyPr lIns="90000" rIns="90000" tIns="46800" bIns="46800" anchor="t">
            <a:normAutofit fontScale="97000"/>
          </a:bodyPr>
          <a:p>
            <a:pPr marL="332640" indent="-332640">
              <a:lnSpc>
                <a:spcPct val="7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 Mondragon </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mondragon@ed.gov</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377-3243</a:t>
            </a:r>
            <a:endParaRPr b="0" lang="en-US" sz="2800" spc="-1" strike="noStrike">
              <a:solidFill>
                <a:srgbClr val="000000"/>
              </a:solidFill>
              <a:latin typeface="Arial"/>
            </a:endParaRPr>
          </a:p>
          <a:p>
            <a:pPr lvl="2" marL="1108440" indent="0">
              <a:lnSpc>
                <a:spcPct val="7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7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Pamela J. Maimer</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mela.maimer@ed.gov</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2-502-7704</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BBA34D7-6EDC-41A1-BDAE-776855DFB7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52120" y="609120"/>
            <a:ext cx="6782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80"/>
                </a:solidFill>
                <a:latin typeface="Arial"/>
              </a:rPr>
              <a:t>Tech Slide</a:t>
            </a:r>
            <a:endParaRPr b="0" lang="en-US" sz="4400" spc="-1" strike="noStrike">
              <a:solidFill>
                <a:srgbClr val="000000"/>
              </a:solidFill>
              <a:latin typeface="Arial"/>
            </a:endParaRPr>
          </a:p>
        </p:txBody>
      </p:sp>
      <p:sp>
        <p:nvSpPr>
          <p:cNvPr id="236" name="PlaceHolder 2"/>
          <p:cNvSpPr>
            <a:spLocks noGrp="1"/>
          </p:cNvSpPr>
          <p:nvPr>
            <p:ph/>
          </p:nvPr>
        </p:nvSpPr>
        <p:spPr>
          <a:xfrm>
            <a:off x="1142640" y="1523880"/>
            <a:ext cx="6705720" cy="426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policy ques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Klock</a:t>
            </a:r>
            <a:endParaRPr b="0" lang="en-US" sz="2800" spc="-1" strike="noStrike">
              <a:solidFill>
                <a:srgbClr val="000000"/>
              </a:solidFill>
              <a:latin typeface="Arial"/>
            </a:endParaRPr>
          </a:p>
          <a:p>
            <a:pPr lvl="1" marL="743040" indent="-28584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2" marL="1143000" indent="-228600">
              <a:lnSpc>
                <a:spcPct val="8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klock@ ed.gov</a:t>
            </a:r>
            <a:endParaRPr b="0" lang="en-US" sz="2800" spc="-1" strike="noStrike">
              <a:solidFill>
                <a:srgbClr val="000000"/>
              </a:solidFill>
              <a:latin typeface="Arial"/>
            </a:endParaRPr>
          </a:p>
          <a:p>
            <a:pPr lvl="1" marL="743040" indent="-28584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a:t>
            </a:r>
            <a:endParaRPr b="0" lang="en-US" sz="2800" spc="-1" strike="noStrike">
              <a:solidFill>
                <a:srgbClr val="000000"/>
              </a:solidFill>
              <a:latin typeface="Arial"/>
            </a:endParaRPr>
          </a:p>
          <a:p>
            <a:pPr lvl="2" marL="1143000" indent="-228600">
              <a:lnSpc>
                <a:spcPct val="8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377-4026</a:t>
            </a:r>
            <a:endParaRPr b="0" lang="en-US" sz="2800" spc="-1" strike="noStrike">
              <a:solidFill>
                <a:srgbClr val="000000"/>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CF415DD-7687-49A4-A28A-B44D02F03E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landscape" descr=""/>
          <p:cNvPicPr/>
          <p:nvPr/>
        </p:nvPicPr>
        <p:blipFill>
          <a:blip r:embed="rId1"/>
          <a:srcRect l="0" t="0" r="37886" b="0"/>
          <a:stretch/>
        </p:blipFill>
        <p:spPr>
          <a:xfrm>
            <a:off x="609480" y="2714760"/>
            <a:ext cx="7886880" cy="1904760"/>
          </a:xfrm>
          <a:prstGeom prst="rect">
            <a:avLst/>
          </a:prstGeom>
          <a:ln w="0">
            <a:noFill/>
          </a:ln>
        </p:spPr>
      </p:pic>
      <p:pic>
        <p:nvPicPr>
          <p:cNvPr id="239" name="225_logo" descr=""/>
          <p:cNvPicPr/>
          <p:nvPr/>
        </p:nvPicPr>
        <p:blipFill>
          <a:blip r:embed="rId2"/>
          <a:stretch/>
        </p:blipFill>
        <p:spPr>
          <a:xfrm>
            <a:off x="4581360" y="2666880"/>
            <a:ext cx="4029120" cy="1970280"/>
          </a:xfrm>
          <a:prstGeom prst="rect">
            <a:avLst/>
          </a:prstGeom>
          <a:ln w="0">
            <a:noFill/>
          </a:ln>
        </p:spPr>
      </p:pic>
      <p:grpSp>
        <p:nvGrpSpPr>
          <p:cNvPr id="240" name=""/>
          <p:cNvGrpSpPr/>
          <p:nvPr/>
        </p:nvGrpSpPr>
        <p:grpSpPr>
          <a:xfrm>
            <a:off x="609480" y="6072120"/>
            <a:ext cx="7848720" cy="176400"/>
            <a:chOff x="609480" y="6072120"/>
            <a:chExt cx="7848720" cy="176400"/>
          </a:xfrm>
        </p:grpSpPr>
        <p:sp>
          <p:nvSpPr>
            <p:cNvPr id="241"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2"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243" name=""/>
          <p:cNvGrpSpPr/>
          <p:nvPr/>
        </p:nvGrpSpPr>
        <p:grpSpPr>
          <a:xfrm>
            <a:off x="609480" y="380880"/>
            <a:ext cx="7848720" cy="176040"/>
            <a:chOff x="609480" y="380880"/>
            <a:chExt cx="7848720" cy="176040"/>
          </a:xfrm>
        </p:grpSpPr>
        <p:sp>
          <p:nvSpPr>
            <p:cNvPr id="244"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5"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246" name="Doefsa1" descr=""/>
          <p:cNvPicPr/>
          <p:nvPr/>
        </p:nvPicPr>
        <p:blipFill>
          <a:blip r:embed="rId3"/>
          <a:srcRect l="0" t="0" r="0" b="25495"/>
          <a:stretch/>
        </p:blipFill>
        <p:spPr>
          <a:xfrm>
            <a:off x="6370560" y="4840200"/>
            <a:ext cx="1096920" cy="1103400"/>
          </a:xfrm>
          <a:prstGeom prst="rect">
            <a:avLst/>
          </a:prstGeom>
          <a:ln w="0">
            <a:noFill/>
          </a:ln>
        </p:spPr>
      </p:pic>
      <p:sp>
        <p:nvSpPr>
          <p:cNvPr id="247"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761760"/>
            <a:ext cx="9220320" cy="1981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INS</a:t>
            </a:r>
            <a:r>
              <a:rPr b="0" i="1" lang="en-US" sz="3600" spc="-1" strike="noStrike">
                <a:solidFill>
                  <a:srgbClr val="800080"/>
                </a:solidFill>
                <a:latin typeface="Arial"/>
              </a:rPr>
              <a:t> </a:t>
            </a:r>
            <a:r>
              <a:rPr b="1" i="1" lang="en-US" sz="3600" spc="-1" strike="noStrike">
                <a:solidFill>
                  <a:srgbClr val="800080"/>
                </a:solidFill>
                <a:latin typeface="Arial"/>
              </a:rPr>
              <a:t>Primary Verification</a:t>
            </a:r>
            <a:br>
              <a:rPr sz="3600"/>
            </a:br>
            <a:br>
              <a:rPr sz="3600"/>
            </a:br>
            <a:r>
              <a:rPr b="0" i="1" lang="en-US" sz="3600" spc="-1" strike="noStrike">
                <a:solidFill>
                  <a:srgbClr val="800080"/>
                </a:solidFill>
                <a:latin typeface="Arial"/>
              </a:rPr>
              <a:t>INS now </a:t>
            </a:r>
            <a:r>
              <a:rPr b="1" i="1" lang="en-US" sz="3600" spc="-1" strike="noStrike">
                <a:solidFill>
                  <a:srgbClr val="800080"/>
                </a:solidFill>
                <a:latin typeface="Arial"/>
              </a:rPr>
              <a:t>DHS</a:t>
            </a:r>
            <a:r>
              <a:rPr b="0" i="1" lang="en-US" sz="3600" spc="-1" strike="noStrike">
                <a:solidFill>
                  <a:srgbClr val="800080"/>
                </a:solidFill>
                <a:latin typeface="Arial"/>
              </a:rPr>
              <a:t> for </a:t>
            </a:r>
            <a:br>
              <a:rPr sz="3600"/>
            </a:br>
            <a:r>
              <a:rPr b="0" i="1" lang="en-US" sz="3600" spc="-1" strike="noStrike">
                <a:solidFill>
                  <a:srgbClr val="800080"/>
                </a:solidFill>
                <a:latin typeface="Arial"/>
              </a:rPr>
              <a:t>Department of Homeland Security</a:t>
            </a:r>
            <a:endParaRPr b="0" lang="en-US" sz="3600" spc="-1" strike="noStrike">
              <a:solidFill>
                <a:srgbClr val="000000"/>
              </a:solidFill>
              <a:latin typeface="Arial"/>
            </a:endParaRPr>
          </a:p>
        </p:txBody>
      </p:sp>
      <p:sp>
        <p:nvSpPr>
          <p:cNvPr id="74" name="PlaceHolder 2"/>
          <p:cNvSpPr>
            <a:spLocks noGrp="1"/>
          </p:cNvSpPr>
          <p:nvPr>
            <p:ph/>
          </p:nvPr>
        </p:nvSpPr>
        <p:spPr>
          <a:xfrm>
            <a:off x="304560" y="3200400"/>
            <a:ext cx="883908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143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non-citizen eligibility confirmed by DHS.</a:t>
            </a:r>
            <a:endParaRPr b="0" lang="en-US" sz="2800" spc="-1" strike="noStrike">
              <a:solidFill>
                <a:srgbClr val="000000"/>
              </a:solidFill>
              <a:latin typeface="Arial"/>
            </a:endParaRPr>
          </a:p>
        </p:txBody>
      </p:sp>
      <p:sp>
        <p:nvSpPr>
          <p:cNvPr id="75" name=""/>
          <p:cNvSpPr/>
          <p:nvPr/>
        </p:nvSpPr>
        <p:spPr>
          <a:xfrm>
            <a:off x="3662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ABBBCB7-3992-4FE5-B9C8-ADF14992AD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Mattie M. Oesby</cp:lastModifiedBy>
  <cp:lastPrinted>2002-09-20T18:59:28Z</cp:lastPrinted>
  <dcterms:modified xsi:type="dcterms:W3CDTF">2003-07-22T15:30:05Z</dcterms:modified>
  <cp:revision>12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