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958013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799-5B4A-4EE1-B1BE-921380E6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E77C-B9A7-4685-AE60-57B2F888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13A-E6B3-4BE4-A853-97AFAE05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9F88-7B2A-4CEF-8FDC-963E9E0A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EDB-EE08-4D22-AB44-0C369338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5F3-739A-4D53-A984-81385057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E12-BF2B-4E3D-9C93-40328590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89E-9581-43E1-9308-F7EB4944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520" y="68544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507-C825-4F47-9240-B8C6B1E8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E88D-5799-4C59-9FA5-3A35EBDE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978-4149-4E64-8FB0-2A55F371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CB6-82B6-495E-9B64-A1A4BAAF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7DB4-A10F-46FB-9DD3-F2DD2C8AF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85800" y="6072120"/>
            <a:ext cx="7848720" cy="176400"/>
            <a:chOff x="685800" y="6072120"/>
            <a:chExt cx="7848720" cy="176400"/>
          </a:xfrm>
        </p:grpSpPr>
        <p:sp>
          <p:nvSpPr>
            <p:cNvPr id="6" name=""/>
            <p:cNvSpPr/>
            <p:nvPr/>
          </p:nvSpPr>
          <p:spPr>
            <a:xfrm>
              <a:off x="685800" y="6072120"/>
              <a:ext cx="7848720" cy="88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85800" y="6161040"/>
              <a:ext cx="7848720" cy="8748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685800" y="469800"/>
            <a:ext cx="7848720" cy="87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rcRect l="0" t="0" r="0" b="25495"/>
          <a:stretch/>
        </p:blipFill>
        <p:spPr>
          <a:xfrm>
            <a:off x="503280" y="115920"/>
            <a:ext cx="1096920" cy="11034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3"/>
          <a:srcRect l="0" t="0" r="0" b="61340"/>
          <a:stretch/>
        </p:blipFill>
        <p:spPr>
          <a:xfrm>
            <a:off x="6334200" y="11160"/>
            <a:ext cx="2352600" cy="44604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4"/>
          <a:stretch/>
        </p:blipFill>
        <p:spPr>
          <a:xfrm>
            <a:off x="7924680" y="5562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9000" y="1219320"/>
            <a:ext cx="8265600" cy="28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Nontradition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ducational Progra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livery of Student Financial 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4572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red Sel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ffice of Postsecondary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0"/>
            <a:ext cx="25146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90720" y="615960"/>
            <a:ext cx="75438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rm and 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2209680"/>
            <a:ext cx="80010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en does the academic calendar cease to be term-ba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asses do not start and stop within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coursework overlaps from one defined te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o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4E8-CD1B-49AB-A8E9-5875CAF968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90720" y="615960"/>
            <a:ext cx="76197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rm and 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019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133720"/>
            <a:ext cx="8229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andard Te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quarter, trimester, or 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ademic progress:  always measured in seme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r quarter credit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552A-60BF-4EF7-A9D2-7B5C591DBA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615960"/>
            <a:ext cx="76197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rm and 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8288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andard Term - Semesters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Trime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ength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pproximately 15 weeks of instruction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ademic progress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easured in semester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ull-time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t least 12 semester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ademic calendar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usually 3 terms - fall, spr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nd often s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69B-9AE9-4C0B-8B36-552988F5EF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615960"/>
            <a:ext cx="7467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rm and 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371600"/>
            <a:ext cx="822960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andard Term – Quar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ength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pproximately 10-12 weeks of instruction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ademic progress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easured in quarter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ull-time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t least 12 quarter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ademic calendar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usually 3 quarters in fall, winter, and spring and often a summer qu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09B-2839-4320-95C4-150957649D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615960"/>
            <a:ext cx="76197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rm and 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600200"/>
            <a:ext cx="8076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nstandard Te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oes not meet requirements for a standard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y be of unequal length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y the length of a standard term but academic progress not measured with the appropriate credit hours, e.g., a quarter using semester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EA3-FFC2-4811-BA0C-EC0B328E69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rm and 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523880"/>
            <a:ext cx="815328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nterm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rses do not all begin and end with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crete period of time and m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99"/>
              </a:buClr>
              <a:buFont typeface="Marlett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ain self-paced or independent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urses that can span past a term;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99"/>
              </a:buClr>
              <a:buFont typeface="Marlett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sist of sequential courses that do not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o begin and end within a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ock hours are always treated the sam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nterm programs for disbursement purpose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62C-F8FA-4387-B49B-BCC0FF3CFC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113364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219320"/>
            <a:ext cx="8534160" cy="48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ederal Pell Grant Program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Standard term, credit hour, fall through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rms contain at least 30 weeks of instruction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Standard term, credit hour, fall through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rms contain less than 30 weeks of instruc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Any term-based credit program including nonstand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rm credit h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4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Clock hour and nonterm, credit hour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5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Correspondenc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rm and 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184-3A24-4884-848F-10E4A3C60A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ssues for Standard Terms, Nonstandard Term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n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finition of an academic year - days per week of instructional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yment peri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nrollmen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ertifying and disbursing lo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ll form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gres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6477120"/>
            <a:ext cx="4572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rm and 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37A-0ADA-4327-A489-9703CAB530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2590920"/>
            <a:ext cx="79246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Standard Ter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6FB-BE77-4A6A-9571-2912966905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1219320"/>
            <a:ext cx="8610480" cy="51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ademic year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t least 30 weeks of  instructional time and 2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mester hours or 36 quarter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eek of instructional time = 7 consecutive day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ich at least one day of regularly schedu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struction, examinations, or prepar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aminations occ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structional time = periods of orientation, counsel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acation, or other activity not related to cl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paration or examin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09480"/>
            <a:ext cx="75344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965160"/>
            <a:ext cx="76201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352680" y="4800240"/>
            <a:ext cx="152640" cy="3049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97D-41A9-4FA3-97CF-1919F6FA94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00400" y="60948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82880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ackg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rm and Nonterm Academic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andard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nstandard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nterm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ent Elig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scellaneous Loan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ithdrawa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ntraditional Educati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7A2-A129-436A-8941-51F0B1440E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9320" y="1752480"/>
            <a:ext cx="7086600" cy="26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yment Peri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Quarter, trimester, or 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09480"/>
            <a:ext cx="75344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0DC9-F1ED-4DC8-A4C9-84E1C81156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1447920"/>
            <a:ext cx="7315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600200"/>
            <a:ext cx="7315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533520"/>
            <a:ext cx="807732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termining Enrollmen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tatus          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        Minimum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ull-tim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  12 credits hours per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ree-quarter-tim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9 credit hours per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alf-tim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    6 credit hours per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ss-than-half-tim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Less than hal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orkload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nimum full-tim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ll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Recalculate if student does not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ttendance in all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609480"/>
            <a:ext cx="75344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741B-375C-46D0-A535-7BD3B5492F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143000"/>
            <a:ext cx="84582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ell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ll formula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1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f the academic calendar contains 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east 30 weeks of instructional time in fall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spring, and full-time is at least 12 credit hours in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erms in the award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ll formula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f the academic calendar contains l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han 30 weeks of instructional time in fall throug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spring, and full-time is at least 12 credit hours in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erms in the award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ll formula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ny credit-hour, term-bas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609480"/>
            <a:ext cx="75344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082-5554-44B8-BC20-5A5BB69F43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1447920"/>
            <a:ext cx="7315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143000"/>
            <a:ext cx="891540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ertifying  and Disbursing Loan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minimum period of time a loan can be certified 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a loan period is more than one payment perio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liver loan proceeds at least once in each pay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a loan period is one payment period, at least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liveries of loan proceeds during that payment 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school may not make the second delivery until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lendar midpoint between the first and last schedu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ys of class of the loan perio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09480"/>
            <a:ext cx="75344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6C5-959A-4B91-8995-F2D8C2EBD1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2209680"/>
            <a:ext cx="8229600" cy="26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easuring Prog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gress is measured by the number of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rs attemp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609480"/>
            <a:ext cx="75344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5A3-7B7B-4624-B40B-C550CEBE3B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1371600"/>
            <a:ext cx="8229600" cy="67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ample – semeste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rst term the student is enrolled in 12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 - 3 credit courses that run the duration of the full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 - 3 credit courses that each run 5 weeks and begin and end during the te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term the student is enrolled in 15 cred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 - 3 credit courses that run the duration of the full 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3 - 3 credit courses that each run 5 weeks and begin and end during the te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09480"/>
            <a:ext cx="75344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417-8549-42CF-97A8-BB19D67C37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1600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828800"/>
            <a:ext cx="33526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1822320"/>
            <a:ext cx="33526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057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8424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1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2896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828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32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2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32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23200" y="32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84720" y="32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32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47760" y="3414600"/>
            <a:ext cx="1295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3414600"/>
            <a:ext cx="129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62600" y="3414600"/>
            <a:ext cx="129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94520" y="3414600"/>
            <a:ext cx="129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62720" y="3414600"/>
            <a:ext cx="1295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1996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7184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3888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8148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1068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28760" y="28051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28051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28195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28195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2805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39625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                          </a:t>
            </a:r>
            <a:r>
              <a:rPr b="1" i="1" lang="en-US" sz="2400" spc="-1" strike="noStrike">
                <a:solidFill>
                  <a:srgbClr val="007e5d"/>
                </a:solidFill>
                <a:latin typeface="Times New Roman"/>
              </a:rPr>
              <a:t>term 1                                     term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371600"/>
            <a:ext cx="304920" cy="2362320"/>
          </a:xfrm>
          <a:custGeom>
            <a:avLst/>
            <a:gdLst>
              <a:gd name="textAreaLeft" fmla="*/ 89640 w 304920"/>
              <a:gd name="textAreaRight" fmla="*/ 305280 w 304920"/>
              <a:gd name="textAreaTop" fmla="*/ 98280 h 2362320"/>
              <a:gd name="textAreaBottom" fmla="*/ 22640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295280"/>
            <a:ext cx="304560" cy="2590920"/>
          </a:xfrm>
          <a:custGeom>
            <a:avLst/>
            <a:gdLst>
              <a:gd name="textAreaLeft" fmla="*/ 0 w 304560"/>
              <a:gd name="textAreaRight" fmla="*/ 213840 w 304560"/>
              <a:gd name="textAreaTop" fmla="*/ 107640 h 2590920"/>
              <a:gd name="textAreaBottom" fmla="*/ 24832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1371600"/>
            <a:ext cx="381240" cy="2514600"/>
          </a:xfrm>
          <a:custGeom>
            <a:avLst/>
            <a:gdLst>
              <a:gd name="textAreaLeft" fmla="*/ 0 w 381240"/>
              <a:gd name="textAreaRight" fmla="*/ 267480 w 381240"/>
              <a:gd name="textAreaTop" fmla="*/ 104760 h 2514600"/>
              <a:gd name="textAreaBottom" fmla="*/ 24098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1295280"/>
            <a:ext cx="304560" cy="2590920"/>
          </a:xfrm>
          <a:custGeom>
            <a:avLst/>
            <a:gdLst>
              <a:gd name="textAreaLeft" fmla="*/ 89640 w 304560"/>
              <a:gd name="textAreaRight" fmla="*/ 304920 w 304560"/>
              <a:gd name="textAreaTop" fmla="*/ 107640 h 2590920"/>
              <a:gd name="textAreaBottom" fmla="*/ 24832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4572000"/>
            <a:ext cx="868680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ell and Loan disbursements at beginning of each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f the student does not  begin all of the courses for this term, he o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he will no longer be considered full-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57200"/>
            <a:ext cx="75344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52E0-3798-437D-A4D5-839CAC3BDA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2514600"/>
            <a:ext cx="79246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Nonstandard Ter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44FC-FE59-4E13-B8F9-10DB08189B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1219320"/>
            <a:ext cx="8610480" cy="51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ademic year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t least 30 weeks of  instructional time and 2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mester hours or 36 quarter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eek of instructional time = 7 consecutive day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ich at least one day of regularly schedu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struction, examinations, or prepar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aminations occ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structional time = periods of orientation, counsel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acation, or other activity not related to cl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paration or examin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609480"/>
            <a:ext cx="75344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965160"/>
            <a:ext cx="76201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352680" y="4800240"/>
            <a:ext cx="152640" cy="3049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4A8-E5D3-404B-AEA1-42848F9FA9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205740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ademic y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the program meets only 8 hours a week, each calendar week would be considered to be a week of instructional time.  Therefore, a minimum of 30 calendar weeks could meet the minimum requirement for an academic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68580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4CF-3831-4500-B4A0-55455FF60A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495680" y="53352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371600"/>
            <a:ext cx="81536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oots of Student Aid Program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ost school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raditional using standard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y nontraditional program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ing education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extension services with no credits aw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ws and regul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inimal, structured a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raditional academic calend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cord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aper with some keypunched data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0D83-F053-421A-9DB7-18A2906B2B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4479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160020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2057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1752480"/>
            <a:ext cx="7315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1390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1085760"/>
            <a:ext cx="7315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066680"/>
            <a:ext cx="822960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yment Perio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 nonstandard terms, the payment period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ertifying and Disbursing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minimum period of time a loan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ertified is a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ell Form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ll formula 3 is us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53352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E69-4CC3-4802-BA2D-07831F58255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-144792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14479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447920"/>
            <a:ext cx="7315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133640"/>
            <a:ext cx="8229600" cy="57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FEL  and 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a loan period is one payment period, at least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liveries of loan proceeds.  Second delivery af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calendar midpoint between the first and l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cheduled days of class of the loan perio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a loan period is more than one payment period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second disbursement after the latter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calendar midpoint between the first and 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cheduled days of the loan period;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date that the student has comple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half of the academic coursework 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loan 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5720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3BE-EFEF-4B47-AB87-4C985A3EC8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676520"/>
            <a:ext cx="8229600" cy="25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easuring Prog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gress is measured by the number of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rs attemp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68580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580-1413-4E69-835D-888D9E706A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38080" y="1120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47242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7524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21932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nrollmen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905120"/>
            <a:ext cx="845820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ull-time (round up to the next whole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2743200"/>
            <a:ext cx="304668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Credit hour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the academic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819520"/>
            <a:ext cx="609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2438280"/>
            <a:ext cx="3908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Weeks of instru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Times New Roman"/>
              </a:rPr>
              <a:t>time in the term_____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4952880"/>
            <a:ext cx="28958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Credit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taken by stu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in the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5029200"/>
            <a:ext cx="68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lbertus Extra Bold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4876920"/>
            <a:ext cx="41148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Credit hour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for full-time status for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term (as determined abo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3124080"/>
            <a:ext cx="3908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Weeks of instructional time in program’s definition of      academic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267080"/>
            <a:ext cx="868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termining enrollment status for the ter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53352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BE5-ABA3-40B3-91E4-6C6A2F5620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5238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295280"/>
            <a:ext cx="82296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ample - Certificat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8 week term    -  6 cred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week term   -  9 cred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9 weeks term  -  9 credits  (3 -3 credit course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 taken sequenti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week term   -  9 credi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 week term    -  3 cred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0 week program/ 36 credit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68580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E291-2812-4539-A95A-7B2DE197D99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1295280"/>
            <a:ext cx="81532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4343400"/>
            <a:ext cx="8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523880"/>
            <a:ext cx="830592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lculating enrollment status for each payment period (5 term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Marlett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8 week term  - 6 credits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250"/>
              </a:spcBef>
              <a:buClr>
                <a:srgbClr val="000099"/>
              </a:buClr>
              <a:buFont typeface="Marlett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0 week term -  9 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250"/>
              </a:spcBef>
              <a:buClr>
                <a:srgbClr val="000099"/>
              </a:buClr>
              <a:buFont typeface="Marlett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9 week term -  9 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250"/>
              </a:spcBef>
              <a:buClr>
                <a:srgbClr val="000099"/>
              </a:buClr>
              <a:buFont typeface="Marlett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0 week term -  9 cred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250"/>
              </a:spcBef>
              <a:buClr>
                <a:srgbClr val="000099"/>
              </a:buClr>
              <a:buFont typeface="Marlett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 week term -  3 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loan is certified for 37 weeks long with 33 semester credit  hou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remainder of the program is  3 weeks long containing 3 semester credit h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53352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96C-E3D4-41AF-813B-31288655C68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1600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2057400"/>
            <a:ext cx="8458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2133720"/>
            <a:ext cx="18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2057400"/>
            <a:ext cx="18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05740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43400" y="205740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752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411480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Start date</a:t>
            </a:r>
            <a:r>
              <a:rPr b="1" lang="en-US" sz="1200" spc="-1" strike="noStrike">
                <a:solidFill>
                  <a:srgbClr val="006666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4114800"/>
            <a:ext cx="83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Week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4114800"/>
            <a:ext cx="8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Week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38680" y="4191120"/>
            <a:ext cx="9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Week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67480" y="4038480"/>
            <a:ext cx="87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Week 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053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6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9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05740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205740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3376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7688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9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0100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57400" y="1752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10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9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24480" y="1752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10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16197600">
            <a:off x="4644720" y="840960"/>
            <a:ext cx="158760" cy="2590920"/>
          </a:xfrm>
          <a:custGeom>
            <a:avLst/>
            <a:gdLst>
              <a:gd name="textAreaLeft" fmla="*/ 0 w 158760"/>
              <a:gd name="textAreaRight" fmla="*/ 57240 w 1587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434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44197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2nd Loan Disbur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5337000"/>
            <a:ext cx="9144000" cy="15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academic year for this program is defined as 24 semester credits and 30 weeks of instructional time.  Loan is certified for 37 weeks containing 33 semester hou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ell disbursements are for each nonstandard term.  Second loan disbursement cannot be made until week 21 when half the time &amp; work have been comple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76212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F70-E426-45E6-A64A-FC03C34D61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7524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1219320"/>
            <a:ext cx="8839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alculating Enrollment Status for Each Payment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4  x 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419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9880" y="435132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4419720"/>
            <a:ext cx="11430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6.4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2860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Number of credit hours in the academic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2286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Weeks of instructional time in the payment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302436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Weeks of instructional time in the academic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909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0481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4191120"/>
            <a:ext cx="556236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Round up to 7 semester credits requi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for full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4  x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54100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29520" y="518940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5224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8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5867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4  x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6248520"/>
            <a:ext cx="12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6200" y="589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62320" y="5943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7.2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5791320"/>
            <a:ext cx="57913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Round up to 8 semester credit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for full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53352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93D-844B-42A7-B24F-1288C653C09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7524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30240" y="2522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1905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4  x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43000" y="223524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34440" y="201456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66880" y="2049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8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26924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4  x 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307332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11120" y="2719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4600" y="2768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.4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2895480"/>
            <a:ext cx="57913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Round up to 3 semester credit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for full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3000" y="53352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035-C1B8-4F4C-A7ED-7F57F36E390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1143000"/>
            <a:ext cx="8382240" cy="54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xample - Pell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nnual  X   Weeks of instructional time     =    Payment for the     Award        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Times New Roman"/>
              </a:rPr>
              <a:t>in the payment period          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        payment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Weeks of instruction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in the academic y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(as defined by the scho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$3,00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X                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 8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=     $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$4,00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X                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=     $1,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609480"/>
            <a:ext cx="72327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3AF-A657-49FE-9284-991F0B80769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952880" y="533520"/>
            <a:ext cx="502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5238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igher Education Amendments of 1992 - Fraud and Abuse Conc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ntraditional education including di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du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gram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crediting agency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CF0-ED64-4298-B0E9-D79807694D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990720"/>
            <a:ext cx="84582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$4,000   X                 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 9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=     $1,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$4,00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X                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=     $1,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$4,000   X                 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=     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66680" y="68580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AEB3-1A55-4FD4-AD7D-263D923C6B3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2590920"/>
            <a:ext cx="79246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Nonterm Progra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167-5D60-430E-891B-1B768BD639B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28600" y="1219320"/>
            <a:ext cx="8610480" cy="51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ademic year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t least 30 weeks of  instructional time and 2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mester hours, 36 quarter hours, or 900 clock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eek of instructional time = 7 consecutive day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ich at least one day of regularly schedu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struction, examinations, or prepar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aminations occ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structional time = periods of orientation, counsel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acation, or other activity not related to cl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paration or examin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609480"/>
            <a:ext cx="75344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65160"/>
            <a:ext cx="76201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352680" y="4800240"/>
            <a:ext cx="152640" cy="3049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7A0-5288-4FBE-89BD-749F6B0144D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965160"/>
            <a:ext cx="76201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965160"/>
            <a:ext cx="761976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1828800"/>
            <a:ext cx="822960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al Regulations published November 1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quire for nonterm credit hour programs that p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o a second Pell Grant disbursement both half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ork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half of the time must be complet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6F7-6853-4A76-8027-15714EBF0D8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0880" y="190512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ademic y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the program meets only 8 hours a week, each calendar week would be considered to be a week of instructional time.  Therefore, a minimum of 30 calendar weeks could meet the minimum requirement for an academic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68580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09B-8BCC-456F-8502-BB0D1A04DC2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838080" y="169056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138600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1157400"/>
            <a:ext cx="82296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yment Periods for Nonterm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  When the student is enrolled in a program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ne academic year or less in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irst payment period - Period of time in which the student successfully completes the first half of the pro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econd payment period -  Period of time in which the student successfully completes the second half of the progr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B51-29A2-46F8-91A3-7FB8461A1B5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838080" y="1581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" y="1047600"/>
            <a:ext cx="8229600" cy="45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  When the student is enrolled in a program that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ore than one academic y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For the first academic year and any subsequent full academic y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irst payment period - Period of time in which the student successfully completes the first half 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ursework for the academic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econd payment period - Period of time in which the student successfully completes the second half of the coursework for the academic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AC1-682C-4AE5-BA2B-296BCADE1A8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447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1676520"/>
            <a:ext cx="8229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 the remainder of a program that is more than one-half an academic year but less than a complete academic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irst payment period - Period of time in which the student successfully completes the first half 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remaining course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econd payment period - Period of time in which the student successfully completes the second half of the remaining course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BE3-A829-4892-A148-6E61AF17DF6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1447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1981080"/>
            <a:ext cx="822960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 the remainder of a program that is not more than half an academic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payment period is the remainder of that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43000" y="76212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A6B-3285-4A19-9599-5F9AA518369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1066680"/>
            <a:ext cx="8915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lculation of Enrollmen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nrollment is always considered to be full-tim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ll calculations (except COA).  For the loan and campus-based programs the student’s actual enrollment status would be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ertifying and Disbursing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 a clock-hour program or a credit-hour program that does not use terms, the minimum period for which a loan may be certified is the less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e academic y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e length of the program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e remaining portion of the student’s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364-13EE-4538-8079-0D89CBC6A0E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6680" y="533520"/>
            <a:ext cx="746784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861840"/>
            <a:ext cx="82296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tterns of Nontraditional Educ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verlapping terms and cour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lf-paced learning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rresponden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nternet, or independent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hort courses and sequential course enroll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uch as modules that may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n entir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bination with other full-term length cour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ultiple start 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43C-944D-40CE-80BC-B53AE33D58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12193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school may not deliver a second loan disbursement until the latt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calendar midpoint between the first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last scheduled days of the loan period;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date that the student has completed half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cademic coursework or clock hours in he loan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F6D-46E1-4F03-8345-9FFA79B33D1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12193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ell Form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ll formula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4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easuring Prog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gress is measured by the number of credit hou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r clock hours successfully comple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F0F-B915-4CE5-870E-E9E62CD38BB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12193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nterm Bachelor’s Degree Completion Program – Self Pa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182880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ample 1 – Student completes 12 semester credits in 15 weeks of a 40-week academic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Week 1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Week 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Midpoint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                         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Week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I_____________________________I________</a:t>
            </a:r>
            <a:r>
              <a:rPr b="1" lang="en-US" sz="13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_________________________________________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burs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isburse 2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½ of Pell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½ of loan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nd Loa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nd ½ of P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3B0-77E5-4D59-B2EE-01081F2E790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1523880"/>
            <a:ext cx="822960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ample 2 –  Same program but student 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plete 12 semester credits until week 2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Week 1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      Mid-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Week 22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Week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I_______________________________________I______</a:t>
            </a:r>
            <a:r>
              <a:rPr b="1" lang="en-US" sz="13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_________________________________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burs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isburse 2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½ of Pell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½ of P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nd Loa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nd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1AC-5AAA-4C95-B4B5-921306999AF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85800" y="2666880"/>
            <a:ext cx="79246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Student Eligibili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D16B-D957-4768-AA63-F2351B7E519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udent 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990720"/>
            <a:ext cx="815328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o be eligible for Title IV aid a student 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nrolled or accepted for enrollment in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ligible program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66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 student is considered to be meeting th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tandard if when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Arial"/>
              </a:rPr>
              <a:t>accepted for enrollment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he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he is required to take a specified number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urses and maintain a certain grade po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verage in order to continue that enrollment.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 student is not considered to be meeting th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tandard if, when originally beginning to t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ursework, his or her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Arial"/>
              </a:rPr>
              <a:t>eventual enrollment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based on some subsequent activity (i.e., test sc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nd/or transcripts being received, etc.)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3F0-3F4A-4AFA-8F45-17493772160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04920" y="1219320"/>
            <a:ext cx="883908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ile awards can be based on documen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jected plans, they may need to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calculated when the student’s enrollme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naliz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ederal Pell Grants:  if a student do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t begin attendance in all of his or her cla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d this results in a change of enrollment stat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Federal Pell Grant award 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calcu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FEL and Direct Loans:  each tim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bursement is received, school must confi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at the student is eligible (including at le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alf-time enrollme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udent 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2DB-B822-484D-8134-B1BD62E28B0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09480" y="2286000"/>
            <a:ext cx="792504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Miscellaneous Loan Issu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126-F3DC-4058-9AED-8E04D076E41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iscellaneous Loa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16002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ype of Academic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cheduled Academic Year:  term-based credi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r programs may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orrower-based Academic Year:  nonterm credit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r programs and clock-hour must u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rm-based programs may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047-0E6E-452F-874A-72968D31A92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16002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requency of Annual Loan Lim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 general, once a student has reached the annual loan limit, he or she cannot receive another loan until he or she begins a new academic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iscellaneous Loa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5E7-3A10-4BBC-BA32-8402D64A895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615960"/>
            <a:ext cx="75438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143000"/>
            <a:ext cx="883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tterns of Nontraditional Educ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grams combining on-campus and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Especially at 2 plus 2 programs and progr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offered jointly by st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eekend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me/host school enrollments (consortium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ractual arrangements); particularly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2 plus 2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university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distance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29600" y="6477120"/>
            <a:ext cx="4572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6E05-E639-4F7F-BC4E-BE284C2A10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198108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oan Pr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ile loans for graduate students are not prorated, if the academic year contains less than 30 weeks of instructional time, a student is not eligible to receive another loan until the student has completed  30 weeks of instructiona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iscellaneous Loa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18C-E235-4A1C-A713-A722E69FA6A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09480" y="2819520"/>
            <a:ext cx="79250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ithdrawal Issu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F4D-C450-4E4F-B944-478A85B7698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ithdraw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29000" y="252108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1152360"/>
            <a:ext cx="87631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a recipient of Title IV aid withdraws during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yment period (or a period of enrollment),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chool must calculate the amount of Title I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id the student earned.  Unearned Title IV fu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ust be returned to the Title IV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minisessions or minicourses are combined into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rm, the return of Title IV funds must be applied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student does not complete any cours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0EE-2E2D-4A24-9080-B7627A93B80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1752480"/>
            <a:ext cx="822960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minisessions are not combined into a term,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turn of Title IV formula must be applied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student withdraws from or drops out of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asses in the individual s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a student who is taking courses sequentiall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pletes a course and does not enroll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ubsequent course, he or she is considered to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ithdra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ithdraw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9C7-FE17-4515-93FE-4087D2AF155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533520" y="2286000"/>
            <a:ext cx="82296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Nontraditional Education Activit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6064-37ED-4221-83CF-8C9ACA40049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676520" y="6094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" y="16765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stance Education Demonstra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ear trend toward distance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inued concern about possibilities for frau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d ab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quires strict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dministrative capability criter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487-E5EF-4CFE-89E7-0488346D5EF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533520" y="1523880"/>
            <a:ext cx="822960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atutory Purposes of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st quality and v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creas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elp deter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ost effective means of deliv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Distance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tatutory and regulatory change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ppropriate level of student as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6094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4E4A-3B0C-4CA1-B996-34B2AF0576C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57200" y="175248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ome Ideas Participants are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 plus 2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rse 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creasing capacity to meet student need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w methods of enrollment 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cluding living expenses from the calc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 cost of atten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ultiple disbursements - just in time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ethods of defaul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76520" y="6094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B38-C083-4E1B-8F26-CFA485A3369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57200" y="16002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ssons We Are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dapting student aid requirements to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s is extremely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atutory and regulatory provisions pres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bstacles to administering aid to di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ducation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ystems designs present obstacles to new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 providing 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76520" y="6094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BA3-906C-4191-8327-C3EB4A43CAF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57200" y="15238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ssons We are Lear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ny of these programs allow students significant flexibility in term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en they begin their work and how lo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akes them to complete a given unit of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w many units of work they might wish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ndertake in a given perio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en they wish to take vacations or brea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6094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50E-EB7E-4826-9E52-021667B7B3F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90720" y="609480"/>
            <a:ext cx="761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752480"/>
            <a:ext cx="8229600" cy="45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oblems with Campus Computer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ructured around standard te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re separate systems for “on campus” an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inuing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re not flexible to accommodate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re organized to meet school, not studen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797-4E19-4E45-93C9-BC1DB1ED85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33520" y="1523880"/>
            <a:ext cx="8076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ssons We are Lear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re is no common understanding of the meaning of the terms we use to distinguish among various kinds of educ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tance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dependent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ologically delivered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rrespo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lurred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6094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0E88-8AD1-4B5D-8655-92BFD88458A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905120" y="2209680"/>
            <a:ext cx="6248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Fred Sel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Policy, Planning and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Office of Postsecond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(202) 502-75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fred.sellers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21040" y="609480"/>
            <a:ext cx="37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001-FB2D-4FC9-909A-ED933D80EC8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2057400"/>
            <a:ext cx="7924680" cy="239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Term and Nonter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Academic Calend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8DC-7819-479D-8E43-2539B9E807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90720" y="615960"/>
            <a:ext cx="75438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rm and 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600200"/>
            <a:ext cx="8153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finition of a Te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term is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a discrete period of time during which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urses in the term are scheduled to begin and en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t is a segment of an academic calendar with 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ademic calendar divided into separate seg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term may include or consist of a series of 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rses or courses offered sequenti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06E9-2383-4B3A-81BD-64A86B499D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2:22:56Z</dcterms:created>
  <dc:creator>PAUL HILL, JR</dc:creator>
  <dc:description/>
  <dc:language>en-US</dc:language>
  <cp:lastModifiedBy>Jennifer Hatton</cp:lastModifiedBy>
  <dcterms:modified xsi:type="dcterms:W3CDTF">2003-07-23T13:15:47Z</dcterms:modified>
  <cp:revision>43</cp:revision>
  <dc:subject/>
  <dc:title>PowerPoint Presentation</dc:title>
</cp:coreProperties>
</file>