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5000" bIns="45000" anchor="t">
            <a:noAutofit/>
          </a:bodyPr>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5000" bIns="45000" anchor="t">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5000" bIns="45000" anchor="b">
            <a:noAutofit/>
          </a:bodyPr>
          <a:lstStyle>
            <a:lvl1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3958004-A200-4873-8C7C-5A1669537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8C1E1-F9FD-4F5F-B270-B602867F1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B420-219D-4906-9342-71E0A504E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CF39C-122C-4177-A9EF-1E589F3A0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534E7-0009-4CDE-B145-B1D367F1E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E6AE-E2E5-4946-8404-D67E9D49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B595-D91C-4DCF-AD0D-51D5ABBD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B8D4E-1019-4A05-A537-DDD3DE91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B05F9-64BD-4580-8BC6-32B11F81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AD03-AAAB-4978-A26E-9752CE664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3EBF-65AB-4954-95E4-358E05BD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3082-6798-43BD-93EA-BCD9C7813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03C3-C32A-4126-8756-52206FBE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8881-38A8-4729-9D77-DA3800645C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landscape" descr=""/>
          <p:cNvPicPr/>
          <p:nvPr/>
        </p:nvPicPr>
        <p:blipFill>
          <a:blip r:embed="rId1"/>
          <a:srcRect l="0" t="0" r="37886" b="0"/>
          <a:stretch/>
        </p:blipFill>
        <p:spPr>
          <a:xfrm>
            <a:off x="609480" y="2714760"/>
            <a:ext cx="7886880" cy="1904760"/>
          </a:xfrm>
          <a:prstGeom prst="rect">
            <a:avLst/>
          </a:prstGeom>
          <a:ln w="0">
            <a:noFill/>
          </a:ln>
        </p:spPr>
      </p:pic>
      <p:pic>
        <p:nvPicPr>
          <p:cNvPr id="57" name="225_logo"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Doefsa1"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
        <p:nvSpPr>
          <p:cNvPr id="66" name=""/>
          <p:cNvSpPr/>
          <p:nvPr/>
        </p:nvSpPr>
        <p:spPr>
          <a:xfrm>
            <a:off x="4800600" y="914400"/>
            <a:ext cx="43434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ng Conflicting Information When Determining A Student’s Eligibility</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8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is it important to resolve conflicting inform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cause it ensures that the right students (eligible students) receive the right (correct) amount of ai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F00D70-0DA6-4044-B3CB-73183982CB59}" type="slidenum">
              <a:t>10</a:t>
            </a:fld>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a:t>
            </a:r>
            <a:r>
              <a:rPr b="1" i="1" lang="en-US" sz="3800" spc="-1" strike="noStrike" u="sng">
                <a:solidFill>
                  <a:srgbClr val="000000"/>
                </a:solidFill>
                <a:uFillTx/>
                <a:latin typeface="Arial"/>
              </a:rPr>
              <a:t>not</a:t>
            </a:r>
            <a:r>
              <a:rPr b="0" lang="en-US" sz="3800" spc="-1" strike="noStrike">
                <a:solidFill>
                  <a:srgbClr val="000000"/>
                </a:solidFill>
                <a:latin typeface="Arial"/>
              </a:rPr>
              <a:t> Conflicting </a:t>
            </a:r>
            <a:br>
              <a:rPr sz="3800"/>
            </a:br>
            <a:r>
              <a:rPr b="0" lang="en-US" sz="3800" spc="-1" strike="noStrike">
                <a:solidFill>
                  <a:srgbClr val="000000"/>
                </a:solidFill>
                <a:latin typeface="Arial"/>
              </a:rPr>
              <a:t>Information under the Regulations?</a:t>
            </a:r>
            <a:endParaRPr b="0" lang="en-US" sz="3800" spc="-1" strike="noStrike">
              <a:solidFill>
                <a:srgbClr val="000000"/>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usehold size differs from number of exemptions on tax return</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endent under IRS rules vs. ED definition of dependent</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ster of candidates for an outside scholarship, as opposed to a list of recipients</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vacy protected information, such as information from professional counselors, chaplains, doctors, etc. </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umptions made by the CPS</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FSA filed using estimated income</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condary confirmation match successful, but student has an expired INS docu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F3E58E-2F97-4E2C-ACD5-128202486441}" type="slidenum">
              <a:t>11</a:t>
            </a:fld>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endParaRPr b="0" lang="en-US" sz="3800" spc="-1" strike="noStrike">
              <a:solidFill>
                <a:srgbClr val="000000"/>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ternal sourc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offices within the institution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institution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the student to the financial aid off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EBE5C3-BB34-4B28-9593-6865B3963518}" type="slidenum">
              <a:t>12</a:t>
            </a:fld>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800" spc="-1" strike="noStrike">
                <a:solidFill>
                  <a:srgbClr val="000000"/>
                </a:solidFill>
                <a:latin typeface="Arial"/>
              </a:rPr>
              <a:t>(External Sources)</a:t>
            </a:r>
            <a:endParaRPr b="0" lang="en-US" sz="2800" spc="-1" strike="noStrike">
              <a:solidFill>
                <a:srgbClr val="000000"/>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cholarships from outside sourc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e Agencies such as Voc. Rehab., WIA, State Scholarship Agencies, etc.</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ips from outside sources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anonymous calls and hearsay vs. documented credible evidence</a:t>
            </a:r>
            <a:endParaRPr b="0" lang="en-US" sz="24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ing proac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D96C5D-66AF-471A-B49E-7E9E851B2A91}" type="slidenum">
              <a:t>13</a:t>
            </a:fld>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800" spc="-1" strike="noStrike">
                <a:solidFill>
                  <a:srgbClr val="000000"/>
                </a:solidFill>
                <a:latin typeface="Arial"/>
              </a:rPr>
              <a:t>(Other Offices Within Institution)</a:t>
            </a:r>
            <a:endParaRPr b="0" lang="en-US" sz="2800" spc="-1" strike="noStrike">
              <a:solidFill>
                <a:srgbClr val="000000"/>
              </a:solidFill>
              <a:latin typeface="Arial"/>
            </a:endParaRPr>
          </a:p>
        </p:txBody>
      </p:sp>
      <p:sp>
        <p:nvSpPr>
          <p:cNvPr id="93" name="PlaceHolder 2"/>
          <p:cNvSpPr>
            <a:spLocks noGrp="1"/>
          </p:cNvSpPr>
          <p:nvPr>
            <p:ph/>
          </p:nvPr>
        </p:nvSpPr>
        <p:spPr>
          <a:xfrm>
            <a:off x="685440" y="190512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enerally occurs when one office is aware but another office is no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8.16(b)(3) &amp; (f) requires system to share information within institution (i</a:t>
            </a:r>
            <a:r>
              <a:rPr b="0" lang="en-US" sz="2800" spc="-1" strike="noStrike">
                <a:solidFill>
                  <a:srgbClr val="000000"/>
                </a:solidFill>
                <a:latin typeface="Arial"/>
                <a:ea typeface="Times New Roman"/>
              </a:rPr>
              <a:t>nstitutional requirement, not just FAO requi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missions, Registrar, Business Office, Athletics, Veterans, Payroll, Housing, Academic Departments, Development Off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51B747-B2B0-4E12-9F7C-031D9398D21A}" type="slidenum">
              <a:t>14</a:t>
            </a:fld>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800" spc="-1" strike="noStrike">
                <a:solidFill>
                  <a:srgbClr val="000000"/>
                </a:solidFill>
                <a:latin typeface="Arial"/>
              </a:rPr>
              <a:t>(Other Institutions)</a:t>
            </a:r>
            <a:endParaRPr b="0" lang="en-US" sz="2800" spc="-1" strike="noStrike">
              <a:solidFill>
                <a:srgbClr val="000000"/>
              </a:solidFill>
              <a:latin typeface="Arial"/>
            </a:endParaRPr>
          </a:p>
        </p:txBody>
      </p:sp>
      <p:sp>
        <p:nvSpPr>
          <p:cNvPr id="95" name="PlaceHolder 2"/>
          <p:cNvSpPr>
            <a:spLocks noGrp="1"/>
          </p:cNvSpPr>
          <p:nvPr>
            <p:ph/>
          </p:nvPr>
        </p:nvSpPr>
        <p:spPr>
          <a:xfrm>
            <a:off x="685440" y="190512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crip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act with an office at other institution (not just FAO)</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on siblings’ attendance and transfer stud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RPA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6C6319-3448-45CD-8B7B-5EF44A83339F}" type="slidenum">
              <a:t>15</a:t>
            </a:fld>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a:t>
            </a:r>
            <a:endParaRPr b="0" lang="en-US" sz="2400" spc="-1" strike="noStrike">
              <a:solidFill>
                <a:srgbClr val="000000"/>
              </a:solidFill>
              <a:latin typeface="Arial"/>
            </a:endParaRPr>
          </a:p>
        </p:txBody>
      </p:sp>
      <p:sp>
        <p:nvSpPr>
          <p:cNvPr id="97" name="PlaceHolder 2"/>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SARs or ISIRs in general</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election for verific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 Flag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ject Cod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3F8B21D-6DD5-4DC0-9C60-D684E90E3C1B}" type="slidenum">
              <a:t>16</a:t>
            </a:fld>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cont’d)</a:t>
            </a:r>
            <a:endParaRPr b="0" lang="en-US" sz="2400" spc="-1" strike="noStrike">
              <a:solidFill>
                <a:srgbClr val="000000"/>
              </a:solidFill>
              <a:latin typeface="Arial"/>
            </a:endParaRPr>
          </a:p>
        </p:txBody>
      </p:sp>
      <p:sp>
        <p:nvSpPr>
          <p:cNvPr id="99" name="PlaceHolder 2"/>
          <p:cNvSpPr>
            <a:spLocks noGrp="1"/>
          </p:cNvSpPr>
          <p:nvPr>
            <p:ph/>
          </p:nvPr>
        </p:nvSpPr>
        <p:spPr>
          <a:xfrm>
            <a:off x="685440" y="1600200"/>
            <a:ext cx="8001000" cy="4038480"/>
          </a:xfrm>
          <a:prstGeom prst="rect">
            <a:avLst/>
          </a:prstGeom>
          <a:noFill/>
          <a:ln w="0">
            <a:noFill/>
          </a:ln>
        </p:spPr>
        <p:txBody>
          <a:bodyPr lIns="90000" rIns="90000" tIns="46800" bIns="46800" anchor="t">
            <a:normAutofit/>
          </a:bodyPr>
          <a:p>
            <a:pPr marL="343080" indent="-343080">
              <a:lnSpc>
                <a:spcPct val="90000"/>
              </a:lnSpc>
              <a:spcBef>
                <a:spcPts val="52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ubsequent SARs or ISIRs must be reviewed even if earlier transaction verified (ISIR received when put in institution’s mailbox)</a:t>
            </a:r>
            <a:endParaRPr b="0" lang="en-US" sz="21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ion for verif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C or C Flags chang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Comment codes or NSLDS chan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pdates or correction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no change in EFC (and no change in C Flag or NSLDS), no action requi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EFC changes and data elements changed were previously verified, no action need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EFC changes and data not previously verified,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2C97F9B-1574-4596-8396-09F373F63ACD}"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cont’d)</a:t>
            </a:r>
            <a:endParaRPr b="0" lang="en-US" sz="2400" spc="-1" strike="noStrike">
              <a:solidFill>
                <a:srgbClr val="000000"/>
              </a:solidFill>
              <a:latin typeface="Arial"/>
            </a:endParaRPr>
          </a:p>
        </p:txBody>
      </p:sp>
      <p:sp>
        <p:nvSpPr>
          <p:cNvPr id="101"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ubsequent SARs or ISIRs selected for verification</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ection by ED or institution (full selection or single it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ust review even if prior transaction already veri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no change in EFC (and no change in C Flag or NSLDS), no action requir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elements changed were previously verified, no action need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not previously verified, must resolve conflic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AAAEE01-26F8-4C53-AC51-C1715C96A3AE}"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cont’d)</a:t>
            </a:r>
            <a:endParaRPr b="0" lang="en-US" sz="2400" spc="-1" strike="noStrike">
              <a:solidFill>
                <a:srgbClr val="000000"/>
              </a:solidFill>
              <a:latin typeface="Arial"/>
            </a:endParaRPr>
          </a:p>
        </p:txBody>
      </p:sp>
      <p:sp>
        <p:nvSpPr>
          <p:cNvPr id="103" name="PlaceHolder 2"/>
          <p:cNvSpPr>
            <a:spLocks noGrp="1"/>
          </p:cNvSpPr>
          <p:nvPr>
            <p:ph/>
          </p:nvPr>
        </p:nvSpPr>
        <p:spPr>
          <a:xfrm>
            <a:off x="685440" y="213372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pdated NSLDS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tscreenings (usually from subsequent ISI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an limits and C flag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Monitor, and Alert process</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RRs and POPs from C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E24D43-065B-4C6B-91F0-4775057A5C4D}"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599840"/>
            <a:ext cx="7772400" cy="3886200"/>
          </a:xfrm>
          <a:prstGeom prst="rect">
            <a:avLst/>
          </a:prstGeom>
          <a:noFill/>
          <a:ln w="0">
            <a:noFill/>
          </a:ln>
        </p:spPr>
        <p:txBody>
          <a:bodyPr lIns="90000" rIns="90000" tIns="46800" bIns="46800" anchor="t">
            <a:normAutofit fontScale="9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olving Conflicting Information When Determining A Student’s Eligibility</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rney McCulloug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nthony Jon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5D7394E-327E-4086-9CAC-7384A4A7C2FB}" type="slidenum">
              <a:t>2</a:t>
            </a:fld>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the student to the FAO)</a:t>
            </a:r>
            <a:endParaRPr b="0" lang="en-US" sz="2400" spc="-1" strike="noStrike">
              <a:solidFill>
                <a:srgbClr val="000000"/>
              </a:solidFill>
              <a:latin typeface="Arial"/>
            </a:endParaRPr>
          </a:p>
        </p:txBody>
      </p:sp>
      <p:sp>
        <p:nvSpPr>
          <p:cNvPr id="105" name="PlaceHolder 2"/>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solicited submission of tax returns or schedul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pplemental financial aid applicatio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information provided by stud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0A7CD3-A371-4791-AFEF-E055DAED95A2}"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stitutes Resolution of  Conflicting Information?</a:t>
            </a:r>
            <a:endParaRPr b="0" lang="en-US" sz="4000" spc="-1" strike="noStrike">
              <a:solidFill>
                <a:srgbClr val="000000"/>
              </a:solidFill>
              <a:latin typeface="Arial"/>
            </a:endParaRPr>
          </a:p>
        </p:txBody>
      </p:sp>
      <p:sp>
        <p:nvSpPr>
          <p:cNvPr id="107" name="PlaceHolder 2"/>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ically, resolution is the determination of what is the correct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times that may be simply confirmation that an earlier determination is correct</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ocumentation of resolution requi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BA1F77-B08A-4080-B27C-C415803F356B}" type="slidenum">
              <a:t>21</a:t>
            </a:fld>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 You Have to Resolve Conflicting Information?</a:t>
            </a:r>
            <a:endParaRPr b="0" lang="en-US" sz="4000" spc="-1" strike="noStrike">
              <a:solidFill>
                <a:srgbClr val="000000"/>
              </a:solidFill>
              <a:latin typeface="Arial"/>
            </a:endParaRPr>
          </a:p>
        </p:txBody>
      </p:sp>
      <p:sp>
        <p:nvSpPr>
          <p:cNvPr id="109"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tinction between how long you need to check for conflicting information and how long to actually resolve a conflic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general, you have to be concerned about conflicting information forever</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need to resolve the conflict expediently</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cannot disburse aid (or make additional disbursements of aid) until the conflict is resol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402230-FEF8-4149-BD8B-5562E82A9BB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ing of Institution’s Receipt </a:t>
            </a:r>
            <a:br>
              <a:rPr sz="4000"/>
            </a:br>
            <a:r>
              <a:rPr b="0" lang="en-US" sz="4000" spc="-1" strike="noStrike">
                <a:solidFill>
                  <a:srgbClr val="000000"/>
                </a:solidFill>
                <a:latin typeface="Arial"/>
              </a:rPr>
              <a:t>of Conflicting Information</a:t>
            </a:r>
            <a:endParaRPr b="0" lang="en-US" sz="4000" spc="-1" strike="noStrike">
              <a:solidFill>
                <a:srgbClr val="000000"/>
              </a:solidFill>
              <a:latin typeface="Arial"/>
            </a:endParaRPr>
          </a:p>
        </p:txBody>
      </p:sp>
      <p:sp>
        <p:nvSpPr>
          <p:cNvPr id="111"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further action is needed i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aid for period of enrollment has been disburs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time of disbursement, there was no conflicting information, an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is no longer enrolled at the institution (and is not intending to re-enroll) </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remaining aid is to be disbursed, must resolve the conflict before making late or postwithdrawal disburs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D0B8D2-2FBB-4A42-A47B-DAEDD2D782B3}" type="slidenum">
              <a:t>23</a:t>
            </a:fld>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ing of Institution’s Receipt </a:t>
            </a:r>
            <a:br>
              <a:rPr sz="4000"/>
            </a:br>
            <a:r>
              <a:rPr b="0" lang="en-US" sz="4000" spc="-1" strike="noStrike">
                <a:solidFill>
                  <a:srgbClr val="000000"/>
                </a:solidFill>
                <a:latin typeface="Arial"/>
              </a:rPr>
              <a:t>of Conflicting Information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11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ross-year conflicts: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inuing student, but the payment period or award year has ended and all the payment periods for which aid has been awarded are finish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tween award years—usually student eligibility issues such as prior default, late reporting of overpayment, student had BA and received Pell, etc. </a:t>
            </a:r>
            <a:endParaRPr b="0" lang="en-US" sz="20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cessing year has shut dow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ill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5ED18D-F267-499B-9BCB-7B0BDC5836C2}" type="slidenum">
              <a:t>24</a:t>
            </a:fld>
          </a:p>
        </p:txBody>
      </p:sp>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ling Conflicts in </a:t>
            </a:r>
            <a:br>
              <a:rPr sz="4000"/>
            </a:br>
            <a:r>
              <a:rPr b="0" lang="en-US" sz="4000" spc="-1" strike="noStrike">
                <a:solidFill>
                  <a:srgbClr val="000000"/>
                </a:solidFill>
                <a:latin typeface="Arial"/>
              </a:rPr>
              <a:t>Taxable Income</a:t>
            </a:r>
            <a:endParaRPr b="0" lang="en-US" sz="4000" spc="-1" strike="noStrike">
              <a:solidFill>
                <a:srgbClr val="000000"/>
              </a:solidFill>
              <a:latin typeface="Arial"/>
            </a:endParaRPr>
          </a:p>
        </p:txBody>
      </p:sp>
      <p:sp>
        <p:nvSpPr>
          <p:cNvPr id="115" name="PlaceHolder 2"/>
          <p:cNvSpPr>
            <a:spLocks noGrp="1"/>
          </p:cNvSpPr>
          <p:nvPr>
            <p:ph/>
          </p:nvPr>
        </p:nvSpPr>
        <p:spPr>
          <a:xfrm>
            <a:off x="685800" y="1980720"/>
            <a:ext cx="815328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ndbook states FAA should be able to determine if applicant required to file tax return, but FAA not expected to be tax law expert</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re you required to submit the various Schedules?  </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 CFR 668.56(a)(5)(vii) says first two pages of the 1040 are sufficient for verification</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arried filing separately, but both claimed “Head of Household”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ox 13 issues (formerly Box 14)</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5F140FE-8858-4D20-B72D-5DA07300BA08}" type="slidenum">
              <a:t>25</a:t>
            </a:fld>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ling Conflicts in </a:t>
            </a:r>
            <a:br>
              <a:rPr sz="4000"/>
            </a:br>
            <a:r>
              <a:rPr b="0" lang="en-US" sz="4000" spc="-1" strike="noStrike">
                <a:solidFill>
                  <a:srgbClr val="000000"/>
                </a:solidFill>
                <a:latin typeface="Arial"/>
              </a:rPr>
              <a:t>Untaxed Income</a:t>
            </a:r>
            <a:endParaRPr b="0" lang="en-US" sz="4000" spc="-1" strike="noStrike">
              <a:solidFill>
                <a:srgbClr val="000000"/>
              </a:solidFill>
              <a:latin typeface="Arial"/>
            </a:endParaRPr>
          </a:p>
        </p:txBody>
      </p:sp>
      <p:sp>
        <p:nvSpPr>
          <p:cNvPr id="11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at is required to be ver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e items reported under untaxed income and benefits than ED requires to be ver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ok at  combination of verification worksheet and tax return to compare against FAFSA workshee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E9EBFB-FFBB-4D3F-B43B-289DACAA4AF8}"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Practices Vs. </a:t>
            </a:r>
            <a:br>
              <a:rPr sz="4000"/>
            </a:br>
            <a:r>
              <a:rPr b="0" lang="en-US" sz="4000" spc="-1" strike="noStrike">
                <a:solidFill>
                  <a:srgbClr val="000000"/>
                </a:solidFill>
                <a:latin typeface="Arial"/>
              </a:rPr>
              <a:t>What’s Required</a:t>
            </a:r>
            <a:endParaRPr b="0" lang="en-US" sz="4000" spc="-1" strike="noStrike">
              <a:solidFill>
                <a:srgbClr val="000000"/>
              </a:solidFill>
              <a:latin typeface="Arial"/>
            </a:endParaRPr>
          </a:p>
        </p:txBody>
      </p:sp>
      <p:sp>
        <p:nvSpPr>
          <p:cNvPr id="119"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 income review</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ways have the ability to ask for whatever information you need any time that you think there is a problem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resolu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x 13 (formerly Box 14)</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gging deeper or peeling away more layers of the on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01A5C2-80BA-4750-AF21-9DDBE6A3B438}" type="slidenum">
              <a:t>27</a:t>
            </a:fld>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Should I Contact the </a:t>
            </a:r>
            <a:br>
              <a:rPr sz="4000"/>
            </a:br>
            <a:r>
              <a:rPr b="0" lang="en-US" sz="4000" spc="-1" strike="noStrike">
                <a:solidFill>
                  <a:srgbClr val="000000"/>
                </a:solidFill>
                <a:latin typeface="Arial"/>
              </a:rPr>
              <a:t>Office of the Inspector General?</a:t>
            </a:r>
            <a:endParaRPr b="0" lang="en-US" sz="4000" spc="-1" strike="noStrike">
              <a:solidFill>
                <a:srgbClr val="000000"/>
              </a:solidFill>
              <a:latin typeface="Arial"/>
            </a:endParaRPr>
          </a:p>
        </p:txBody>
      </p:sp>
      <p:sp>
        <p:nvSpPr>
          <p:cNvPr id="121"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tion 668.16(g) requires an institution to refer to the OIG any credible information indicating that an applicant for Title IV aid may have engaged in fraud or other criminal misconduct in connection with his or her application.  Refer information which is relevant to the student’s eligibility or the amount of the assistanc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false claims of independent student status, false claims of citizenship, use of false identities, forgery of signatures of certifications, and false statements of income </a:t>
            </a:r>
            <a:endParaRPr b="0" lang="en-US" sz="20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member that fraud is an intent to deceive as opposed to a mista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AAB694-392D-4A66-8197-16ADF6AE5736}" type="slidenum">
              <a:t>28</a:t>
            </a:fld>
          </a:p>
        </p:txBody>
      </p:sp>
    </p:spTree>
  </p:cSld>
  <p:transition>
    <p:pull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23" name="PlaceHolder 2"/>
          <p:cNvSpPr>
            <a:spLocks noGrp="1"/>
          </p:cNvSpPr>
          <p:nvPr>
            <p:ph/>
          </p:nvPr>
        </p:nvSpPr>
        <p:spPr>
          <a:xfrm>
            <a:off x="761760" y="1904760"/>
            <a:ext cx="7543800" cy="3516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If you have questions, we can be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arney.McCullough@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thony.Jones@ed.go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E0D01F-9076-4FC7-B386-DCF647A8C7B2}"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560" y="3805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sion Overview</a:t>
            </a:r>
            <a:endParaRPr b="0" lang="en-US" sz="4000" spc="-1" strike="noStrike">
              <a:solidFill>
                <a:srgbClr val="000000"/>
              </a:solidFill>
              <a:latin typeface="Arial"/>
            </a:endParaRPr>
          </a:p>
        </p:txBody>
      </p:sp>
      <p:sp>
        <p:nvSpPr>
          <p:cNvPr id="69" name="PlaceHolder 2"/>
          <p:cNvSpPr>
            <a:spLocks noGrp="1"/>
          </p:cNvSpPr>
          <p:nvPr>
            <p:ph/>
          </p:nvPr>
        </p:nvSpPr>
        <p:spPr>
          <a:xfrm>
            <a:off x="685440" y="1676520"/>
            <a:ext cx="807732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and what is not</a:t>
            </a:r>
            <a:r>
              <a:rPr b="1"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flicting information under the regulations</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s of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onstitutes resolution of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long you have to resolve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institution’s receipt of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conflicts in taxable and untaxed income</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d practices vs. what is required</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you should contact the Office of the Inspector Gener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A61BAD-CFBD-4CA6-BEEA-90AE7631BA17}"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a:t>
            </a:r>
            <a:endParaRPr b="0" lang="en-US" sz="4000" spc="-1" strike="noStrike">
              <a:solidFill>
                <a:srgbClr val="000000"/>
              </a:solidFill>
              <a:latin typeface="Arial"/>
            </a:endParaRPr>
          </a:p>
        </p:txBody>
      </p:sp>
      <p:sp>
        <p:nvSpPr>
          <p:cNvPr id="71"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nformation obtained which is different from information previously available to the institution and which impacts a student’s eligibility for ai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8E58066-BC36-4E39-977B-1BEBB5E5CAEC}"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3"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flicting information may include information related to a student’s eligibility such a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itizenship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of SS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ault or overpayment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s in student’s academic status (including grade level pro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 student financial assistance or resource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onsistent information used in the calculation of the EFC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F28AF90-CC87-4670-87E1-E9874B04C65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5"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a:bodyPr>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Arial"/>
                <a:ea typeface="Times New Roman"/>
              </a:rPr>
              <a:t>668.16(f) of the General Provisions regulations states that an institution has the administrative capability to administer the Title IV programs if, among other things, it . . .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8BC606E-87BE-4A69-BA11-272D572ABA03}"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42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Times New Roman"/>
              </a:rPr>
              <a:t>Develops and applies an adequate system to identify and resolve discrepancies in the information that the institution receives from different sources with respect to a student’s application for financial aid under the Title IV, HEA programs.  In determining whether the institution’s system is adequate, the Secretary considers whether the institution obtains and reviews—</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1)</a:t>
            </a:r>
            <a:r>
              <a:rPr b="0" lang="en-US" sz="1700" spc="-1" strike="noStrike">
                <a:solidFill>
                  <a:srgbClr val="000000"/>
                </a:solidFill>
                <a:latin typeface="Times New Roman"/>
                <a:ea typeface="Times New Roman"/>
              </a:rPr>
              <a:t>   </a:t>
            </a:r>
            <a:r>
              <a:rPr b="0" lang="en-US" sz="1700" spc="-1" strike="noStrike">
                <a:solidFill>
                  <a:srgbClr val="000000"/>
                </a:solidFill>
                <a:latin typeface="Arial"/>
                <a:ea typeface="Times New Roman"/>
              </a:rPr>
              <a:t>All student aid applications, need analysis documents, Statements of Educational Purpose, Statements of Registration Status, and eligibility notification documents presented by or on behalf of each applicant;</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2)</a:t>
            </a:r>
            <a:r>
              <a:rPr b="0" lang="en-US" sz="1700" spc="-1" strike="noStrike">
                <a:solidFill>
                  <a:srgbClr val="000000"/>
                </a:solidFill>
                <a:latin typeface="Times New Roman"/>
                <a:ea typeface="Times New Roman"/>
              </a:rPr>
              <a:t>   </a:t>
            </a:r>
            <a:r>
              <a:rPr b="0" lang="en-US" sz="1700" spc="-1" strike="noStrike">
                <a:solidFill>
                  <a:srgbClr val="000000"/>
                </a:solidFill>
                <a:latin typeface="Arial"/>
                <a:ea typeface="Times New Roman"/>
              </a:rPr>
              <a:t>Any documents, including any copies of State and Federal income tax returns, that are normally collected by the institution to verify information received from the student or other sources; and</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3)</a:t>
            </a:r>
            <a:r>
              <a:rPr b="0" lang="en-US" sz="1700" spc="-1" strike="noStrike">
                <a:solidFill>
                  <a:srgbClr val="000000"/>
                </a:solidFill>
                <a:latin typeface="Times New Roman"/>
                <a:ea typeface="Times New Roman"/>
              </a:rPr>
              <a:t>   </a:t>
            </a:r>
            <a:r>
              <a:rPr b="0" lang="en-US" sz="1700" spc="-1" strike="noStrike">
                <a:solidFill>
                  <a:srgbClr val="000000"/>
                </a:solidFill>
                <a:latin typeface="Arial"/>
                <a:ea typeface="Times New Roman"/>
              </a:rPr>
              <a:t>Any other information normally available to the institution regarding a student’s citizenship, previous educational experience, documentation of the student’s social security number or other factors relating to the student’s eligibility for funds under the Title IV, HEA programs.”</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521F340-B983-4BF7-9F69-73454F34EB6E}" type="slidenum">
              <a:t>7</a:t>
            </a:fld>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68.16(b)(3) </a:t>
            </a:r>
            <a:r>
              <a:rPr b="0" lang="en-US" sz="2400" spc="-1" strike="noStrike">
                <a:solidFill>
                  <a:srgbClr val="000000"/>
                </a:solidFill>
                <a:latin typeface="Arial"/>
                <a:ea typeface="Times New Roman"/>
              </a:rPr>
              <a:t>also requires that the institution “communicates to the individual designated to be responsible for administering Title IV, HEA programs, all the information received by any institutional office that bears on a student’s eligibility for Title IV, HEA program assist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063413-0D23-4B15-A6F8-A27DEDF26572}"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81" name="PlaceHolder 2"/>
          <p:cNvSpPr>
            <a:spLocks noGrp="1"/>
          </p:cNvSpPr>
          <p:nvPr>
            <p:ph/>
          </p:nvPr>
        </p:nvSpPr>
        <p:spPr>
          <a:xfrm>
            <a:off x="685800" y="2057400"/>
            <a:ext cx="7772400" cy="1371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institution has the information, you must deal with it</a:t>
            </a:r>
            <a:endParaRPr b="0" lang="en-US" sz="2400" spc="-1" strike="noStrike">
              <a:solidFill>
                <a:srgbClr val="000000"/>
              </a:solidFill>
              <a:latin typeface="Arial"/>
            </a:endParaRPr>
          </a:p>
          <a:p>
            <a:pPr marL="308520" indent="-30852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nk of an onion…you only have to deal with the outer skin (i.e., things that conflict on the surface, or with things that you have reason to believe are inaccurate)</a:t>
            </a:r>
            <a:endParaRPr b="0" lang="en-US" sz="2400" spc="-1" strike="noStrike">
              <a:solidFill>
                <a:srgbClr val="000000"/>
              </a:solidFill>
              <a:latin typeface="Arial"/>
            </a:endParaRPr>
          </a:p>
        </p:txBody>
      </p:sp>
      <p:graphicFrame>
        <p:nvGraphicFramePr>
          <p:cNvPr id="82" name=""/>
          <p:cNvGraphicFramePr/>
          <p:nvPr/>
        </p:nvGraphicFramePr>
        <p:xfrm>
          <a:off x="3352680" y="3951360"/>
          <a:ext cx="4572000" cy="2144520"/>
        </p:xfrm>
        <a:graphic>
          <a:graphicData uri="http://schemas.openxmlformats.org/presentationml/2006/ole">
            <p:oleObj r:id="rId1" spid="">
              <p:embed/>
              <p:pic>
                <p:nvPicPr>
                  <p:cNvPr id="83" name="" descr=""/>
                  <p:cNvPicPr/>
                  <p:nvPr/>
                </p:nvPicPr>
                <p:blipFill>
                  <a:blip r:embed="rId2"/>
                  <a:stretch/>
                </p:blipFill>
                <p:spPr>
                  <a:xfrm>
                    <a:off x="3352680" y="3951360"/>
                    <a:ext cx="4572000" cy="2144520"/>
                  </a:xfrm>
                  <a:prstGeom prst="rect">
                    <a:avLst/>
                  </a:prstGeom>
                  <a:ln w="0">
                    <a:noFill/>
                  </a:ln>
                </p:spPr>
              </p:pic>
            </p:oleObj>
          </a:graphicData>
        </a:graphic>
      </p:graphicFrame>
      <p:sp>
        <p:nvSpPr>
          <p:cNvPr id="4" name="PlaceHolder 3"/>
          <p:cNvSpPr>
            <a:spLocks noGrp="1"/>
          </p:cNvSpPr>
          <p:nvPr>
            <p:ph type="sldNum" idx="3"/>
          </p:nvPr>
        </p:nvSpPr>
        <p:spPr/>
        <p:txBody>
          <a:bodyPr/>
          <a:p>
            <a:fld id="{E05DD4B7-CC97-424A-A041-F907A5EC8F6E}" type="slidenum">
              <a:t>9</a:t>
            </a:fld>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Mattie M. Oesby</cp:lastModifiedBy>
  <dcterms:modified xsi:type="dcterms:W3CDTF">2003-07-22T17:11:15Z</dcterms:modified>
  <cp:revision>59</cp:revision>
  <dc:subject/>
  <dc:title>PowerPoint Presentation</dc:title>
</cp:coreProperties>
</file>