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31.gif" ContentType="image/gif"/>
  <Override PartName="/ppt/media/image12.wmf" ContentType="image/x-wmf"/>
  <Override PartName="/ppt/media/image27.png" ContentType="image/png"/>
  <Override PartName="/ppt/media/image13.wmf" ContentType="image/x-wmf"/>
  <Override PartName="/ppt/media/image33.png" ContentType="image/png"/>
  <Override PartName="/ppt/media/image34.wmf" ContentType="image/x-wmf"/>
  <Override PartName="/ppt/media/image7.wmf" ContentType="image/x-wmf"/>
  <Override PartName="/ppt/media/image37.wmf" ContentType="image/x-wmf"/>
  <Override PartName="/ppt/media/image38.png" ContentType="image/png"/>
  <Override PartName="/ppt/media/image28.png" ContentType="image/png"/>
  <Override PartName="/ppt/media/image35.gif" ContentType="image/gif"/>
  <Override PartName="/ppt/media/image39.png" ContentType="image/png"/>
  <Override PartName="/ppt/media/image40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8.wmf" ContentType="image/x-wmf"/>
  <Override PartName="/ppt/media/image25.png" ContentType="image/png"/>
  <Override PartName="/ppt/media/image32.gif" ContentType="image/gif"/>
  <Override PartName="/ppt/media/image9.gif" ContentType="image/gif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764C-4B03-4ED9-9145-DDE5B59FC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255760" y="685800"/>
            <a:ext cx="2117880" cy="1589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38080" y="251460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109960" y="914400"/>
            <a:ext cx="2828880" cy="21225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3200040"/>
            <a:ext cx="50292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4416120"/>
            <a:ext cx="59436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4379-5ED1-4C4C-BD95-55B8CC042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517840" y="309600"/>
            <a:ext cx="1733400" cy="12999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525240" y="1696680"/>
            <a:ext cx="6057720" cy="75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44C-AE75-48FF-9D2A-CB88D000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09140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368-2B2A-4A40-900F-5F140235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9140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09140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AF7-7483-4CF5-9566-40483403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091400"/>
            <a:ext cx="250236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091400"/>
            <a:ext cx="250236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091400"/>
            <a:ext cx="250236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7E9-D2CA-4ED2-BD2D-DFFE1667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555-1D64-4E39-BBD7-65A7D157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3E5-1E70-4D1D-A8D5-1AA8D412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D9E-94B8-49DA-86C5-AB362C1B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40A-1780-4040-A628-3F192D7D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686880"/>
            <a:ext cx="678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931-5755-4F9A-891F-A06A2EB9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140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C56-582B-474F-8BD3-B4F97C56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09140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7B8-CFEC-4DCD-AEF1-FD64FCAC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140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7EE-209D-444D-8360-127729D2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7320" indent="-3373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799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-3916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05480" indent="-39492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6080" indent="-280080">
              <a:spcBef>
                <a:spcPts val="799"/>
              </a:spcBef>
              <a:buClr>
                <a:srgbClr val="0099ff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6080" indent="-280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6080" indent="-280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6360"/>
            <a:ext cx="19033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520" y="6246360"/>
            <a:ext cx="19033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6C928C-C59F-4D4F-BA14-C8D0B2DF25C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5800" y="6072120"/>
            <a:ext cx="7849800" cy="174240"/>
            <a:chOff x="685800" y="6072120"/>
            <a:chExt cx="7849800" cy="174240"/>
          </a:xfrm>
        </p:grpSpPr>
        <p:sp>
          <p:nvSpPr>
            <p:cNvPr id="6" name=""/>
            <p:cNvSpPr/>
            <p:nvPr/>
          </p:nvSpPr>
          <p:spPr>
            <a:xfrm>
              <a:off x="685800" y="6072120"/>
              <a:ext cx="7849800" cy="878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85800" y="6159960"/>
              <a:ext cx="7849800" cy="864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685800" y="468360"/>
            <a:ext cx="7850160" cy="87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Doefsa1" descr=""/>
          <p:cNvPicPr/>
          <p:nvPr/>
        </p:nvPicPr>
        <p:blipFill>
          <a:blip r:embed="rId2"/>
          <a:srcRect l="0" t="0" r="0" b="25495"/>
          <a:stretch/>
        </p:blipFill>
        <p:spPr>
          <a:xfrm>
            <a:off x="503280" y="119160"/>
            <a:ext cx="1095480" cy="1100160"/>
          </a:xfrm>
          <a:prstGeom prst="rect">
            <a:avLst/>
          </a:prstGeom>
          <a:ln w="0">
            <a:noFill/>
          </a:ln>
        </p:spPr>
      </p:pic>
      <p:pic>
        <p:nvPicPr>
          <p:cNvPr id="10" name="225_logo" descr=""/>
          <p:cNvPicPr/>
          <p:nvPr/>
        </p:nvPicPr>
        <p:blipFill>
          <a:blip r:embed="rId3"/>
          <a:srcRect l="0" t="0" r="0" b="61340"/>
          <a:stretch/>
        </p:blipFill>
        <p:spPr>
          <a:xfrm>
            <a:off x="6334200" y="12600"/>
            <a:ext cx="2352600" cy="444600"/>
          </a:xfrm>
          <a:prstGeom prst="rect">
            <a:avLst/>
          </a:prstGeom>
          <a:ln w="0">
            <a:noFill/>
          </a:ln>
        </p:spPr>
      </p:pic>
      <p:pic>
        <p:nvPicPr>
          <p:cNvPr id="11" name="small-nclb" descr=""/>
          <p:cNvPicPr/>
          <p:nvPr/>
        </p:nvPicPr>
        <p:blipFill>
          <a:blip r:embed="rId4"/>
          <a:stretch/>
        </p:blipFill>
        <p:spPr>
          <a:xfrm>
            <a:off x="7924680" y="5564160"/>
            <a:ext cx="61128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fafsademo.test.ed.gov/faa/faa.htm" TargetMode="External"/><Relationship Id="rId2" Type="http://schemas.openxmlformats.org/officeDocument/2006/relationships/hyperlink" Target="http://fafsademo.test.ed.gov/faa/faa.htm" TargetMode="External"/><Relationship Id="rId3" Type="http://schemas.openxmlformats.org/officeDocument/2006/relationships/hyperlink" Target="http://fafsademo.test.ed.gov/faa/faa.htm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edeworkshop.ncspearson.com/swdAugust03.htm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edeworkshop.ncspearson.com/SanDiego.htm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edeworkshop.ncspearson.com/NewOrleans.htm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8040" y="531720"/>
            <a:ext cx="3963960" cy="5715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andscape" descr=""/>
          <p:cNvPicPr/>
          <p:nvPr/>
        </p:nvPicPr>
        <p:blipFill>
          <a:blip r:embed="rId1"/>
          <a:srcRect l="0" t="0" r="37886" b="0"/>
          <a:stretch/>
        </p:blipFill>
        <p:spPr>
          <a:xfrm>
            <a:off x="608040" y="2714760"/>
            <a:ext cx="7889760" cy="1904760"/>
          </a:xfrm>
          <a:prstGeom prst="rect">
            <a:avLst/>
          </a:prstGeom>
          <a:ln w="0">
            <a:noFill/>
          </a:ln>
        </p:spPr>
      </p:pic>
      <p:pic>
        <p:nvPicPr>
          <p:cNvPr id="57" name="225_logo" descr=""/>
          <p:cNvPicPr/>
          <p:nvPr/>
        </p:nvPicPr>
        <p:blipFill>
          <a:blip r:embed="rId2"/>
          <a:stretch/>
        </p:blipFill>
        <p:spPr>
          <a:xfrm>
            <a:off x="4579920" y="2666880"/>
            <a:ext cx="4029120" cy="196848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608040" y="6072120"/>
            <a:ext cx="7849800" cy="174240"/>
            <a:chOff x="608040" y="6072120"/>
            <a:chExt cx="7849800" cy="174240"/>
          </a:xfrm>
        </p:grpSpPr>
        <p:sp>
          <p:nvSpPr>
            <p:cNvPr id="59" name=""/>
            <p:cNvSpPr/>
            <p:nvPr/>
          </p:nvSpPr>
          <p:spPr>
            <a:xfrm>
              <a:off x="608040" y="6072120"/>
              <a:ext cx="7849800" cy="878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040" y="6159960"/>
              <a:ext cx="7849800" cy="864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08040" y="380880"/>
            <a:ext cx="7849800" cy="174240"/>
            <a:chOff x="608040" y="380880"/>
            <a:chExt cx="7849800" cy="174240"/>
          </a:xfrm>
        </p:grpSpPr>
        <p:sp>
          <p:nvSpPr>
            <p:cNvPr id="62" name=""/>
            <p:cNvSpPr/>
            <p:nvPr/>
          </p:nvSpPr>
          <p:spPr>
            <a:xfrm>
              <a:off x="608040" y="380880"/>
              <a:ext cx="7849800" cy="878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8040" y="468720"/>
              <a:ext cx="7849800" cy="86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Doefsa1" descr=""/>
          <p:cNvPicPr/>
          <p:nvPr/>
        </p:nvPicPr>
        <p:blipFill>
          <a:blip r:embed="rId3"/>
          <a:srcRect l="0" t="0" r="0" b="25495"/>
          <a:stretch/>
        </p:blipFill>
        <p:spPr>
          <a:xfrm>
            <a:off x="6372360" y="4842000"/>
            <a:ext cx="1095120" cy="1103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78240" y="1278000"/>
            <a:ext cx="3729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NASFAA 2003:  Reconnec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With Student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 algn="ctr">
              <a:spcBef>
                <a:spcPts val="1176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700" spc="-1" strike="noStrike">
                <a:solidFill>
                  <a:srgbClr val="0099ff"/>
                </a:solidFill>
                <a:latin typeface="Arial"/>
              </a:rPr>
              <a:t>Getting Ready for the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1176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700" spc="-1" strike="noStrike">
                <a:solidFill>
                  <a:srgbClr val="0099ff"/>
                </a:solidFill>
                <a:latin typeface="Arial"/>
              </a:rPr>
              <a:t>2004-05 Award Year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j0198838(p)" descr="Click To Download"/>
          <p:cNvPicPr/>
          <p:nvPr/>
        </p:nvPicPr>
        <p:blipFill>
          <a:blip r:embed="rId1"/>
          <a:stretch/>
        </p:blipFill>
        <p:spPr>
          <a:xfrm>
            <a:off x="3430440" y="3659040"/>
            <a:ext cx="190368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2D2-5816-490F-B884-FCA024A8108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610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FAFSA on the Web Toolkits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4280"/>
            <a:ext cx="35798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0920" indent="-3409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be mailed in October to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5396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stsecondary sch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5396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gh sch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5396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te agenc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5396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5396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T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5396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IO Cen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93880" y="1754280"/>
            <a:ext cx="44989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7320" indent="-3373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olkits will include 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och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s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ps Ca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IN Fl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b-Link Graphics Fl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st-it No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A Access Fl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198960"/>
            <a:ext cx="9144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6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73439" t="9376" r="3127" b="13540"/>
          <a:stretch/>
        </p:blipFill>
        <p:spPr>
          <a:xfrm>
            <a:off x="3732120" y="2362320"/>
            <a:ext cx="1114560" cy="2820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392-F686-4D45-90C5-F835A9091FC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Ordering Paper FAFSAs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57600" y="1980720"/>
            <a:ext cx="510696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ch for IFAP announcement this fall about placing 2004-05 FAFSA or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5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s for continuing to reduce those paper FAFSA orders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KG1B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361960" cy="25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926-F59D-497D-A265-C2C01E01573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FAFSA on the Web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Screen Shots and Demonstration Site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early October 2003, a PowerPoint presentation containing FAFSA on the Web screen shots will be available on IFA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FSA on the Web demonstration site will be available in November 20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ccess site, go to http://fafsademo.test.ed.g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Name:  eddem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ssword:  fafsat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j0233917(p)" descr="Click To Download"/>
          <p:cNvPicPr/>
          <p:nvPr/>
        </p:nvPicPr>
        <p:blipFill>
          <a:blip r:embed="rId1"/>
          <a:stretch/>
        </p:blipFill>
        <p:spPr>
          <a:xfrm>
            <a:off x="5180040" y="464832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D92-D19F-4F56-8A30-9DDF7C4DFF3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868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Renewal Application Process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Important Date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960" y="2135160"/>
            <a:ext cx="81518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700" spc="-1" strike="noStrike">
                <a:solidFill>
                  <a:srgbClr val="0099ff"/>
                </a:solidFill>
                <a:latin typeface="Arial"/>
              </a:rPr>
              <a:t>August 200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nouncement and Guide poste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IFAP and FSADownlo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700" spc="-1" strike="noStrike">
                <a:solidFill>
                  <a:srgbClr val="0099ff"/>
                </a:solidFill>
                <a:latin typeface="Arial"/>
              </a:rPr>
              <a:t>10/6 - 10/3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ools can request that Renewal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inders be sent to student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ead of paper Renewal FAF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453960"/>
                <a:tab algn="l" pos="681120"/>
                <a:tab algn="l" pos="907920"/>
                <a:tab algn="l" pos="1135080"/>
                <a:tab algn="l" pos="1362240"/>
                <a:tab algn="l" pos="1589040"/>
                <a:tab algn="l" pos="1816200"/>
                <a:tab algn="l" pos="2043000"/>
                <a:tab algn="l" pos="2270160"/>
                <a:tab algn="l" pos="2496960"/>
                <a:tab algn="l" pos="2724120"/>
                <a:tab algn="l" pos="2951280"/>
                <a:tab algn="l" pos="3178080"/>
                <a:tab algn="l" pos="3405240"/>
                <a:tab algn="l" pos="3632040"/>
                <a:tab algn="l" pos="3859200"/>
                <a:tab algn="l" pos="4086360"/>
                <a:tab algn="l" pos="4313160"/>
                <a:tab algn="l" pos="4540320"/>
                <a:tab algn="l" pos="4767120"/>
              </a:tabLst>
            </a:pPr>
            <a:r>
              <a:rPr b="1" lang="en-US" sz="2700" spc="-1" strike="noStrike">
                <a:solidFill>
                  <a:srgbClr val="0099ff"/>
                </a:solidFill>
                <a:latin typeface="Arial"/>
              </a:rPr>
              <a:t>11/6 - 12/20</a:t>
            </a: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PS mails Renewal FAFSAs to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07E-6BD0-49C2-8811-12AAF77ACBB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610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Renewal Application Process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Reminder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3024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6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700" spc="-1" strike="noStrike">
                <a:solidFill>
                  <a:srgbClr val="0099ff"/>
                </a:solidFill>
                <a:latin typeface="Arial"/>
              </a:rPr>
              <a:t>11/6 - 12/2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Renewal reminders sent to students if -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chool requested PINs be sent instead of paper Renewal FAFS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Web in 2003-0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cated on 2003-04 FAFSA that they were graduate or 5th year undergraduate stud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7480" indent="-44928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 provided valid e-mail address on 2003-04 FAF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211-42FE-4E25-8140-7EEDF3D9A0E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876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Renewal Application Process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Reminder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055960"/>
            <a:ext cx="73897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valid e-mail address provided on 2003-04 FAFSA, students will receive e-mail reminding them to reapply using their P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mail will not include link to PIN on the We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valid e-mail address not provided on 2003-04 FAFSA, student will be sent a PIN mailer to permanent addr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IN mailer will include tear-out ca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6EB-1FE7-497A-8279-D79BB89F110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4600" y="1754280"/>
            <a:ext cx="776916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 algn="ct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700" spc="-1" strike="noStrike">
                <a:solidFill>
                  <a:srgbClr val="0099ff"/>
                </a:solidFill>
                <a:latin typeface="Arial"/>
              </a:rPr>
              <a:t>Applying for Aid</a:t>
            </a: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924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Student and School Applica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924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j0273054(p)" descr="Click To Download"/>
          <p:cNvPicPr/>
          <p:nvPr/>
        </p:nvPicPr>
        <p:blipFill>
          <a:blip r:embed="rId1"/>
          <a:stretch/>
        </p:blipFill>
        <p:spPr>
          <a:xfrm>
            <a:off x="3352680" y="3505320"/>
            <a:ext cx="2133720" cy="21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C59-9BE5-4E4D-BDBA-8D82D071B7E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610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Student Application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The Paper FAFSA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3810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86200" y="1980720"/>
            <a:ext cx="411624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lor of the FAF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ff66ff"/>
                </a:solidFill>
                <a:latin typeface="Arial"/>
              </a:rPr>
              <a:t>Pink for Students (Pantone 196 CV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9933ff"/>
                </a:solidFill>
                <a:latin typeface="Arial"/>
              </a:rPr>
              <a:t>Purple for Parents (Pantone 263 CV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FSA will inclu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turn receipt postca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d inse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w, reworded, and reordered questions and instru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07C-00D5-4287-B107-144A5793FCB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Paper FAFSA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ge 1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signed first p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formation about federal and state deadl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rominent instructions for correcting estimated tax return data once return i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69A-86DD-43F2-8770-22A0995483F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900" spc="-1" strike="noStrike">
                <a:solidFill>
                  <a:srgbClr val="0099ff"/>
                </a:solidFill>
                <a:latin typeface="Arial"/>
              </a:rPr>
              <a:t>2004-05 Application and Delivery System Updat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j0234050" descr=""/>
          <p:cNvPicPr/>
          <p:nvPr/>
        </p:nvPicPr>
        <p:blipFill>
          <a:blip r:embed="rId1"/>
          <a:stretch/>
        </p:blipFill>
        <p:spPr>
          <a:xfrm>
            <a:off x="3430440" y="3354480"/>
            <a:ext cx="2264040" cy="19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036-F0EA-4DA1-8345-8B12909705A4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Paper FAFSA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ge 2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3024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ed Web site reference for exchange r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rther clarified what is not an invest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55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NewRomanPS-Bold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4960" y="2743200"/>
            <a:ext cx="8074080" cy="1360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4960" y="4802040"/>
            <a:ext cx="8302680" cy="5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F14-9B9B-4147-B54A-295007A14AB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8120" y="6109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Paper FAFSA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ge 3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9080" y="1830240"/>
            <a:ext cx="84582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Question 1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’s e-mail add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ved from Step Six to Step 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0 characters long, with pre-printed @ symb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lains how e-mail address will be u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Question 3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w number for the “drug ques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9880" y="3886200"/>
            <a:ext cx="716256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167-DBE1-4FCE-AACD-9CCC2183C768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Paper FAFSA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ge 4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9080" y="1674360"/>
            <a:ext cx="800244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3640" indent="-32364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Step Tw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0760" indent="-43092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500" spc="-1" strike="noStrike">
                <a:solidFill>
                  <a:srgbClr val="0099ff"/>
                </a:solidFill>
                <a:latin typeface="Arial"/>
              </a:rPr>
              <a:t>Questions 43 – 45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Student’s asset net worth questions reorde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Step Thre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0760" indent="-43092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500" spc="-1" strike="noStrike">
                <a:solidFill>
                  <a:srgbClr val="0099ff"/>
                </a:solidFill>
                <a:latin typeface="Arial"/>
              </a:rPr>
              <a:t>Question 49</a:t>
            </a:r>
            <a:r>
              <a:rPr b="0" lang="en-US" sz="2500" spc="-1" strike="noStrike">
                <a:solidFill>
                  <a:srgbClr val="0099ff"/>
                </a:solidFill>
                <a:latin typeface="Arial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Wording for “graduate” dependency question revised to be clear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0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0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0760" indent="-43092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500" spc="-1" strike="noStrike">
                <a:solidFill>
                  <a:srgbClr val="0099ff"/>
                </a:solidFill>
                <a:latin typeface="Arial"/>
              </a:rPr>
              <a:t>Question 53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Revised to read “Are both of your parents deceased, or are you or were you (until age 18) a ward/dependent of the court?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8040" y="4116240"/>
            <a:ext cx="8078760" cy="606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8040" y="4191120"/>
            <a:ext cx="792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4191120"/>
          <a:ext cx="7772400" cy="5331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5840"/>
                          <a:tab algn="l" pos="1832040"/>
                          <a:tab algn="l" pos="2747880"/>
                          <a:tab algn="l" pos="3664080"/>
                          <a:tab algn="l" pos="4579920"/>
                          <a:tab algn="l" pos="5495760"/>
                          <a:tab algn="l" pos="6411960"/>
                          <a:tab algn="l" pos="7327800"/>
                          <a:tab algn="l" pos="8244000"/>
                          <a:tab algn="l" pos="9159840"/>
                          <a:tab algn="l" pos="100760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669-7427-4D57-97B1-6C7FFC8A32A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Paper FAFSA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ge 5, Step Four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2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questions about students’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2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Questions 59 and 63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arent’s first init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2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Questions 60 and 64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arent’s date of bi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2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nger ask “Age of older parent”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E03214_(p)" descr="Click To Download"/>
          <p:cNvPicPr/>
          <p:nvPr/>
        </p:nvPicPr>
        <p:blipFill>
          <a:blip r:embed="rId1"/>
          <a:stretch/>
        </p:blipFill>
        <p:spPr>
          <a:xfrm>
            <a:off x="3886200" y="44974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3C5-2D8D-4D5B-9981-E4990FE692E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6720" y="6109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The Paper FAFSA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ge 6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tep Fiv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dependent student questions -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ign makes questions more noticeable so students won’t ski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tep Six:</a:t>
            </a: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rollment questions -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ved from Step O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e question for all ter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parate response for “Not sure”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76F-CBC6-4E9A-A3DE-81D71CDDFE2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The Paper Renewal FAFSA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6360" y="1674360"/>
            <a:ext cx="853128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changes made to paper FAF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roll forward 2003-04 FAFSA questions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ll pre-print all school codes on transaction used to create the Renewal FAF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ll pre-print housing plans for each school code lis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rollment status questions will be conver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any question = Full time, pre-print as full ti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wise, leave question blan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ent’s Marital Status Date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5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C6C-934A-4103-8575-515AE867C93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520" y="610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The Paper Renewal FAFSA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83024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no longer pre-print income fields from previous year’s FAFSA for students who qualified for Automatic Zero E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not roll forward parents’ SSN and last nam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82C-336A-46DD-8A40-1BD0364D133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FAFSA on the Web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www.fafsa.ed.gov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94240" y="1980720"/>
            <a:ext cx="41148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PIN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status of FAF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SA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FAFSA for residents of certain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579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8040" y="2286000"/>
          <a:ext cx="373536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286000"/>
                    <a:ext cx="373536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846-03C5-4296-9112-F9E0CA7957F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5320" y="457200"/>
            <a:ext cx="677844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Spanish FAFSA on the Web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4600" y="3429000"/>
            <a:ext cx="8302680" cy="9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360" indent="-14436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anish FAFSA on the Web will include Spanish versions of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4480" indent="-19260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-Application Workshe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84480" indent="-19260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heets A, B, and 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84480" indent="-19260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ome Estimator Workshe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384480" indent="-19260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ug Conviction Workshe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1001" t="16002" r="17511" b="33705"/>
          <a:stretch/>
        </p:blipFill>
        <p:spPr>
          <a:xfrm>
            <a:off x="2666880" y="1523880"/>
            <a:ext cx="39610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57E-F986-4057-A292-CC051E9F82E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5320" y="76176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FAFSA on the Web</a:t>
            </a:r>
            <a:br>
              <a:rPr sz="3700"/>
            </a:b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Renewal FAFSA on the Web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9080" y="1980720"/>
            <a:ext cx="84582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new and revised paper FAFSA ques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parent e-mail addr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valid parent e-mail address provided 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-mail sent to parent when FAFSA proces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ignature(s) are missing, e-mail will include information about how to 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rectable on the Web or through FSA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ll print, but not correctable on paper S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95B-3891-44CF-8E28-1100E0CFA95D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5313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oday’s Topics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4360"/>
            <a:ext cx="777384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plication Processing Statis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2004-05 Application 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ing 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ying for A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ing Applications at the C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ing and Reviewing Applica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cting Applica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ther Changes and Noteworthy N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16E-1991-4BC0-BF69-01FA50FB230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400" spc="-1" strike="noStrike">
                <a:solidFill>
                  <a:srgbClr val="0099ff"/>
                </a:solidFill>
                <a:latin typeface="Arial"/>
              </a:rPr>
              <a:t>FAFSA on the Web</a:t>
            </a:r>
            <a:br>
              <a:rPr sz="3400"/>
            </a:br>
            <a:r>
              <a:rPr b="0" lang="en-US" sz="3400" spc="-1" strike="noStrike">
                <a:solidFill>
                  <a:srgbClr val="0099ff"/>
                </a:solidFill>
                <a:latin typeface="Arial"/>
              </a:rPr>
              <a:t>Renewal FAFSA on the Web</a:t>
            </a:r>
            <a:br>
              <a:rPr sz="3500"/>
            </a:br>
            <a:r>
              <a:rPr b="0" lang="en-US" sz="2500" spc="-1" strike="noStrike">
                <a:solidFill>
                  <a:srgbClr val="0099ff"/>
                </a:solidFill>
                <a:latin typeface="Arial"/>
              </a:rPr>
              <a:t>Enhanced Edits and Skip Logic</a:t>
            </a:r>
            <a:endParaRPr b="0" lang="en-US" sz="25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pendent students required to provide parents’ SSN, last name, first initial, and D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tudent’s parent is single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kip logic presents only one parent SSN, last name, first initial, and DO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udent asked if information is for father or m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using Plans ques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udent required to answer on FOT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rried forward from previous year on RFOT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675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D3A-30B8-4029-BD86-2EFBAED221CD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FAFSA on the Web</a:t>
            </a:r>
            <a:br>
              <a:rPr sz="3700"/>
            </a:b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Renewal FAFSA on the Web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Other Improvement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2211120"/>
            <a:ext cx="716112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students who qualify for Auto Zero EFC can provide parent inform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certain student income and asse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lined final steps of the application to make signature and submit proces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5D2-6D9F-4E5D-B2E0-7222DE42166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FAFSA on the Web</a:t>
            </a:r>
            <a:br>
              <a:rPr sz="3700"/>
            </a:b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Renewal FAFSA on the Web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Electronic Signature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7680" y="2135160"/>
            <a:ext cx="762156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formation provided about advantages of electronically signing with 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nd parents can electronically sign within Web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validate that SSN used by parent to electronically sign matches SSN reported on the FA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9B8-B859-4A56-9115-7C0A3870875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4280" y="610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Renewal FAFSA on the Web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Moving to Real-Time Processing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876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4080" indent="-3340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carry forward some database match results from previous year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8120" indent="-44460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lective Service Match Flag = 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8120" indent="-44460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 Match = 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8120" indent="-44460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N Match = 4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A citizenship confirmed or student is an eligible non-citiz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process application in real-time for independent students if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8120" indent="-44460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other matches require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8120" indent="-44460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 does not change identifie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F2F-AC9C-4B87-B499-F52304A0BFD7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2296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br>
              <a:rPr sz="4200"/>
            </a:b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Renewal FAFSA on the Web</a:t>
            </a: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Moving to Real-Time Processing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6360" y="1830240"/>
            <a:ext cx="853128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udent is eligible for real-time processing, processed results appear immediately on confirma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ficial” EFC displa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link to Student Access on the Web where student can view and print corrected SAR inform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13C-CB70-470F-B399-0B6FCDA0CAC7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5320" y="6109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School Applications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FAA Access to CPS Online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6360" y="2055960"/>
            <a:ext cx="502776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ed in May 200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hanced each ye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rrent version allows FAAs to 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students’ SAR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and submit FAFSA and Renewal FAFSA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ct applican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16670" r="2173" b="8335"/>
          <a:stretch/>
        </p:blipFill>
        <p:spPr>
          <a:xfrm>
            <a:off x="5486400" y="2135160"/>
            <a:ext cx="3049560" cy="29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D24-353F-4F73-8B63-3404374D93E0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531360"/>
            <a:ext cx="731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School Applications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EDExpress and FAA Access to CPS Online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2200" y="1905120"/>
            <a:ext cx="426564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2004-05, EDExpress will interface directly with FAA Access to CPS Online through an embedded brows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ing on the FAFSA Tab in EDExpress will take you to FAA Access Application 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application and correction entry will be done in FAA Ac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7360" y="18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FAAAccess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57984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69D-62DD-460B-ADF8-CBA710E20EB9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8120" y="68688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School Applications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EDExpress and FAA Access to CPS Online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596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pplication Processing functionality still available in ED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IR Import/ISIR pr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IR Review ta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t-Processed ISI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SLDS Print, File Format/External Ex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9F4-1A2A-49A2-91FD-B0F35B33A8D2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8760" y="610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FAA Access to CPS Online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New for 2004-05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FAA Access demonstration site will be available in November 20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access site, go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fafsademo</a:t>
            </a:r>
            <a:r>
              <a:rPr b="0" lang="en-US" sz="27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.test.ed.g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t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Name: edde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word: fafsa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on FAA Access button at bottom of scre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j0233917(p)" descr="Click To Download"/>
          <p:cNvPicPr/>
          <p:nvPr/>
        </p:nvPicPr>
        <p:blipFill>
          <a:blip r:embed="rId4"/>
          <a:stretch/>
        </p:blipFill>
        <p:spPr>
          <a:xfrm>
            <a:off x="5942160" y="2666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C2A-3421-4A54-97CD-95247818A746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876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FAA Access to CPS Online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New for 2004-05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981080"/>
            <a:ext cx="80010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A Application Ent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d taxes paid calculator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skip answering income and asset questions for some students who qualify for Automatic Zero EF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ed signature page will include summary of application information entered by F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50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-time processing for students who do not need to go to external ma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FAA Access to request ISIRs from Datam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j0250085(p)" descr="Click To Download"/>
          <p:cNvPicPr/>
          <p:nvPr/>
        </p:nvPicPr>
        <p:blipFill>
          <a:blip r:embed="rId1"/>
          <a:stretch/>
        </p:blipFill>
        <p:spPr>
          <a:xfrm>
            <a:off x="6858000" y="1371600"/>
            <a:ext cx="1463760" cy="146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8E9-8E13-4E69-8029-0261014F4E9D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5960" y="686880"/>
            <a:ext cx="594648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Application Volume</a:t>
            </a:r>
            <a:br>
              <a:rPr sz="4200"/>
            </a:b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2002-03 and 2003-04 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6360" y="1754280"/>
            <a:ext cx="3046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7,602,22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24"/>
              </a:spcBef>
              <a:buNone/>
              <a:tabLst>
                <a:tab algn="l" pos="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2-03 FAFSAs processed as of June 30, 2002 (week 2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8,197,46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24"/>
              </a:spcBef>
              <a:buNone/>
              <a:tabLst>
                <a:tab algn="l" pos="0"/>
                <a:tab algn="l" pos="450720"/>
                <a:tab algn="l" pos="563400"/>
                <a:tab algn="l" pos="676440"/>
                <a:tab algn="l" pos="789120"/>
                <a:tab algn="l" pos="901800"/>
                <a:tab algn="l" pos="1014480"/>
                <a:tab algn="l" pos="1127160"/>
                <a:tab algn="l" pos="1239840"/>
                <a:tab algn="l" pos="1352520"/>
                <a:tab algn="l" pos="1465200"/>
                <a:tab algn="l" pos="1577880"/>
                <a:tab algn="l" pos="1690560"/>
                <a:tab algn="l" pos="1803240"/>
                <a:tab algn="l" pos="1916280"/>
                <a:tab algn="l" pos="2028960"/>
                <a:tab algn="l" pos="2141640"/>
                <a:tab algn="l" pos="2254320"/>
                <a:tab algn="l" pos="2367000"/>
                <a:tab algn="l" pos="2479680"/>
                <a:tab algn="l" pos="259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3-04 FAFSAs processed as of June 29, 2003 (week 2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425760" y="1981080"/>
          <a:ext cx="618192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5760" y="1981080"/>
                    <a:ext cx="618192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800080" y="5334120"/>
            <a:ext cx="5072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500" spc="-1" strike="noStrike">
                <a:solidFill>
                  <a:srgbClr val="0099ff"/>
                </a:solidFill>
                <a:latin typeface="Arial"/>
              </a:rPr>
              <a:t>That’s a 7.8% increas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A5A-CED1-45C4-AF03-12D741E796EB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6720" y="45684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ISIR Datamart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7240" indent="-32724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Datamart will be implemented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. 2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tore 2004-05 ISIR data for retrieval and distribution to authoriz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 in FAA Access to CPS Online allows users to request ISIRs from Data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specific stud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3416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d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514-293C-4AAD-86BB-8D3FCBC18071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6720" y="3805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ISIR Datamart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8040" y="1674360"/>
            <a:ext cx="785016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tions for receiving ISIRs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i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y requ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gn up through Participation Management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ault is daily receipt (like current syste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y change option at any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rs who select daily receipt can also use Datamart to request ISI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675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675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00A-FBD8-49E4-8BDF-613A12B17765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156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ISIR Datamart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Query Options for Retrieving ISIR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704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SN/Name 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e range for receipt date or processed d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nsaction number: first, last, all, specific, or greater than 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titution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760" y="1980720"/>
            <a:ext cx="395928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pendency stat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igibility stat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te of legal residence or state of colle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FC ran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erification stat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eteran stat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24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ation of these  fiel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E6E-BD2D-4575-8D2F-1521AEB50090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ISIR Datamart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Query Requirement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PA has authority to run queri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eries can be set up to run on demand or for a future d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ery must be completed before next query can be submit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st query entered is displayed when user returns to FAA Ac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limit on requesting same ISIR multiple tim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6E1-3243-425D-BAA7-3C4632FF4ECF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6720" y="6109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ISIR Datamart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Query Result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960" y="1905120"/>
            <a:ext cx="815184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queries run against Datamart, files of requested ISIRs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loaded to SAIG under separate messa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of requested ISIRs must be retrieved within 14 calendar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08A-62C0-4FBF-B62C-4BB6080F21C7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610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ISIR Datamart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“Pushed” ISIR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9440" y="1905120"/>
            <a:ext cx="830736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ISIRs automatically “pushed” regardless of option selected by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FC chan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R C Code chan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ystem-generated transactions 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SLDS post-scree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 automated secondary confi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proc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j0105204(p)" descr="Click To Download"/>
          <p:cNvPicPr/>
          <p:nvPr/>
        </p:nvPicPr>
        <p:blipFill>
          <a:blip r:embed="rId1"/>
          <a:srcRect l="0" t="20844" r="0" b="21907"/>
          <a:stretch/>
        </p:blipFill>
        <p:spPr>
          <a:xfrm>
            <a:off x="5640480" y="3048120"/>
            <a:ext cx="146376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8D8-9979-4FBD-8EBF-3C09F760D1D9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ISIR Datamart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“Must See” ISIR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2211120"/>
            <a:ext cx="68562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must look at all “pushed” IS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must request ISIRs for all enrolle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j0234739(p)" descr="Click To Download"/>
          <p:cNvPicPr/>
          <p:nvPr/>
        </p:nvPicPr>
        <p:blipFill>
          <a:blip r:embed="rId1"/>
          <a:stretch/>
        </p:blipFill>
        <p:spPr>
          <a:xfrm>
            <a:off x="5180040" y="4116240"/>
            <a:ext cx="146700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128-C558-4D3A-98A5-ECE95944BAE5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610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ISIR Datamart</a:t>
            </a:r>
            <a:br>
              <a:rPr sz="39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Message Classe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9880" y="1830240"/>
            <a:ext cx="75420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ypes of Message Classes  -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ily automatic feed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gular/Dai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S “pushed” ISI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IRs requested through Datamart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lnSpc>
                <a:spcPct val="90000"/>
              </a:lnSpc>
              <a:spcBef>
                <a:spcPts val="6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S “pushed” ISI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mart will be used for YTD and FDR reques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347-6977-4728-BA27-70D8BF2CB16E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 algn="ctr"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Arial"/>
              </a:rPr>
              <a:t>Processing Application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Arial"/>
              </a:rPr>
              <a:t>at the CP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924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ff9933"/>
                </a:solidFill>
                <a:latin typeface="Arial"/>
              </a:rPr>
              <a:t>2004-05 Chang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j0213488" descr=""/>
          <p:cNvPicPr/>
          <p:nvPr/>
        </p:nvPicPr>
        <p:blipFill>
          <a:blip r:embed="rId1"/>
          <a:stretch/>
        </p:blipFill>
        <p:spPr>
          <a:xfrm>
            <a:off x="3352680" y="3354480"/>
            <a:ext cx="236088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8D8-F3ED-4DF3-96F0-FB5FFBFE26C8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PS Change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INS Database Matche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8480" y="2055960"/>
            <a:ext cx="754056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tion and Naturalization Service (INS) match renamed Department of Homeland Security (DHS)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675"/>
              </a:spcBef>
              <a:buNone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TR00270_(p)" descr="Click To Download"/>
          <p:cNvPicPr/>
          <p:nvPr/>
        </p:nvPicPr>
        <p:blipFill>
          <a:blip r:embed="rId1"/>
          <a:stretch/>
        </p:blipFill>
        <p:spPr>
          <a:xfrm>
            <a:off x="3581280" y="3886200"/>
            <a:ext cx="1752840" cy="17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4B6-05E8-4AAA-AF3D-A6412C12C007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8760" y="531360"/>
            <a:ext cx="6565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Electronic Applications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49360" y="1905120"/>
          <a:ext cx="826128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1905120"/>
                    <a:ext cx="826128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-77760" y="1449360"/>
            <a:ext cx="975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99ff"/>
                </a:solidFill>
                <a:latin typeface="Arial"/>
              </a:rPr>
              <a:t>For the first 26 weeks of processing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200" spc="-1" strike="noStrike">
                <a:solidFill>
                  <a:srgbClr val="0099ff"/>
                </a:solidFill>
                <a:latin typeface="Arial"/>
              </a:rPr>
              <a:t>2002-2003 and 2003-2004</a:t>
            </a:r>
            <a:r>
              <a:rPr b="1" lang="en-US" sz="22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F5E-BA86-4C86-B056-24CEB39C6DA7}" type="slidenum">
              <a:t>5</a:t>
            </a:fld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PS Change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SSN Database Match with SSA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944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N match expanded to include dependent applicants’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751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 not send parent SSN if same as student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751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 use same match flag results as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BEB-E155-4B54-B152-BD420AFB4062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610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PS Change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arent SSN Match with SSA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9520" y="1980720"/>
            <a:ext cx="738972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whose parent has SSA Date of Death (Match Flag = 5) will receive a SAR comment instead of being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allowed to change SSN, even if SSA gave clean match flag of ‘4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9F6-6EF6-4A06-9B49-213E2FA34946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610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PS Change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New Reject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3024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0480" indent="-3304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433440"/>
                <a:tab algn="l" pos="577800"/>
                <a:tab algn="l" pos="722160"/>
                <a:tab algn="l" pos="86688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  <a:tab algn="l" pos="3033720"/>
                <a:tab algn="l" pos="3178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rejects for missing parent SSN, last name, first initial, and D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  <a:tab algn="l" pos="3033720"/>
                <a:tab algn="l" pos="3178080"/>
                <a:tab algn="l" pos="3322800"/>
                <a:tab algn="l" pos="3467160"/>
                <a:tab algn="l" pos="3611520"/>
                <a:tab algn="l" pos="375588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Reject 6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ther’s SSN not on SSA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base (non-verifia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  <a:tab algn="l" pos="3033720"/>
                <a:tab algn="l" pos="3178080"/>
                <a:tab algn="l" pos="3322800"/>
                <a:tab algn="l" pos="3467160"/>
                <a:tab algn="l" pos="3611520"/>
                <a:tab algn="l" pos="375588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Reject 7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ther’s SSN not on SSA databas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non-verifia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  <a:tab algn="l" pos="3033720"/>
                <a:tab algn="l" pos="3178080"/>
                <a:tab algn="l" pos="3322800"/>
                <a:tab algn="l" pos="3467160"/>
                <a:tab algn="l" pos="3611520"/>
                <a:tab algn="l" pos="375588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Reject 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ther’s DOB not matched on SSA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base (verifia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1240"/>
                <a:tab algn="l" pos="1155600"/>
                <a:tab algn="l" pos="1300320"/>
                <a:tab algn="l" pos="1444680"/>
                <a:tab algn="l" pos="1589040"/>
                <a:tab algn="l" pos="1733400"/>
                <a:tab algn="l" pos="1878120"/>
                <a:tab algn="l" pos="2022480"/>
                <a:tab algn="l" pos="2166840"/>
                <a:tab algn="l" pos="2311560"/>
                <a:tab algn="l" pos="2455920"/>
                <a:tab algn="l" pos="2600280"/>
                <a:tab algn="l" pos="2744640"/>
                <a:tab algn="l" pos="2889360"/>
                <a:tab algn="l" pos="3033720"/>
                <a:tab algn="l" pos="3178080"/>
                <a:tab algn="l" pos="3322800"/>
                <a:tab algn="l" pos="3467160"/>
                <a:tab algn="l" pos="3611520"/>
                <a:tab algn="l" pos="375588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Reject 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ther’s DOB not matched on SSA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base (verifia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73D-EBA9-458F-B18B-244580C1D83F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PS Change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New Reject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52440"/>
                <a:tab algn="l" pos="46980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rejects for dependent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  <a:tab algn="l" pos="2936880"/>
                <a:tab algn="l" pos="3054240"/>
                <a:tab algn="l" pos="317196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Reject 12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f taxes paid amount is greater than or equal to AGI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non-verifiable rejec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  <a:tab algn="l" pos="2936880"/>
                <a:tab algn="l" pos="3054240"/>
                <a:tab algn="l" pos="3171960"/>
              </a:tabLst>
            </a:pPr>
            <a:r>
              <a:rPr b="1" lang="en-US" sz="2700" spc="-1" strike="noStrike">
                <a:solidFill>
                  <a:srgbClr val="ff9933"/>
                </a:solidFill>
                <a:latin typeface="Arial"/>
              </a:rPr>
              <a:t>Reject G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f taxes paid amount is less than AGI, but greater than 40% of AGI (verifiable rejec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j0183406" descr=""/>
          <p:cNvPicPr/>
          <p:nvPr/>
        </p:nvPicPr>
        <p:blipFill>
          <a:blip r:embed="rId1"/>
          <a:stretch/>
        </p:blipFill>
        <p:spPr>
          <a:xfrm>
            <a:off x="7010280" y="666720"/>
            <a:ext cx="129384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AC7-2C59-4EFA-A860-7DF1BA2DD952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CPS Change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New Warning Comment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135160"/>
            <a:ext cx="76183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1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warning comment code for paper filers who reported parent’s marital status as single, but provided two parent SS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PS re-engineered to be a Multi-Year Applicant Database (MYAD) so it can perform cross-year edits to detect possible inconsistencies across application y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799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j0213526(p)" descr="Click To Download"/>
          <p:cNvPicPr/>
          <p:nvPr/>
        </p:nvPicPr>
        <p:blipFill>
          <a:blip r:embed="rId1"/>
          <a:stretch/>
        </p:blipFill>
        <p:spPr>
          <a:xfrm>
            <a:off x="6859440" y="762120"/>
            <a:ext cx="1293840" cy="12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22E-5508-4783-950C-F82D5EA6FB96}" type="slidenum">
              <a:t>54</a:t>
            </a:fld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91296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26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ff9933"/>
                </a:solidFill>
                <a:latin typeface="Arial"/>
              </a:rPr>
              <a:t>Application Results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26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ff9933"/>
                </a:solidFill>
                <a:latin typeface="Arial"/>
              </a:rPr>
              <a:t>Receiving and Reviewing Applicant Dat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26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26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26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26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9268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Institution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E03865_" descr=""/>
          <p:cNvPicPr/>
          <p:nvPr/>
        </p:nvPicPr>
        <p:blipFill>
          <a:blip r:embed="rId1"/>
          <a:stretch/>
        </p:blipFill>
        <p:spPr>
          <a:xfrm>
            <a:off x="3886200" y="2973240"/>
            <a:ext cx="1897200" cy="20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D8D-F2D8-4E8E-82C3-74EACA3AB0FB}" type="slidenum">
              <a:t>55</a:t>
            </a:fld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400" spc="-1" strike="noStrike">
                <a:solidFill>
                  <a:srgbClr val="0099ff"/>
                </a:solidFill>
                <a:latin typeface="Arial"/>
              </a:rPr>
              <a:t>The Institutional Student </a:t>
            </a:r>
            <a:br>
              <a:rPr sz="3400"/>
            </a:br>
            <a:r>
              <a:rPr b="0" lang="en-US" sz="3400" spc="-1" strike="noStrike">
                <a:solidFill>
                  <a:srgbClr val="0099ff"/>
                </a:solidFill>
                <a:latin typeface="Arial"/>
              </a:rPr>
              <a:t>Information Report (ISIR)</a:t>
            </a:r>
            <a:endParaRPr b="0" lang="en-US" sz="3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3579840"/>
            <a:ext cx="381024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212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udent We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A Ac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80000"/>
              </a:lnSpc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SA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7960" y="3503160"/>
            <a:ext cx="3809880" cy="27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56844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56844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0"/>
                <a:tab algn="l" pos="56844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new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1337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836720"/>
            <a:ext cx="76960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IR layout will follow order of paper FAFSA ques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Data Source/Data Type codes with alpha-numeric valu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028-3940-410F-A77A-DBB6B893AA11}" type="slidenum">
              <a:t>56</a:t>
            </a:fld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8480" y="531360"/>
            <a:ext cx="716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The Institutional Student </a:t>
            </a:r>
            <a:br>
              <a:rPr sz="3700"/>
            </a:b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Information Report (ISIR)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8120" y="1830240"/>
            <a:ext cx="68562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lag indicates whether transaction is result of address or e-mail address chang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display parent SSN match flag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FL00052_" descr=""/>
          <p:cNvPicPr/>
          <p:nvPr/>
        </p:nvPicPr>
        <p:blipFill>
          <a:blip r:embed="rId1"/>
          <a:stretch/>
        </p:blipFill>
        <p:spPr>
          <a:xfrm>
            <a:off x="4192560" y="4267080"/>
            <a:ext cx="126216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4B9-B96B-4417-A6DA-962182720E40}" type="slidenum">
              <a:t>57</a:t>
            </a:fld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9880" y="6868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ISIR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Verification Selection Proces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135160"/>
            <a:ext cx="81518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conduct IRS statistical studies to improve verification selection criteria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Tracking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anded to 4 characte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er numbers continue to have higher prior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BS01776_(p)" descr="Click To Download"/>
          <p:cNvPicPr/>
          <p:nvPr/>
        </p:nvPicPr>
        <p:blipFill>
          <a:blip r:embed="rId1"/>
          <a:stretch/>
        </p:blipFill>
        <p:spPr>
          <a:xfrm>
            <a:off x="7010280" y="68724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16E-8F87-4D1E-A715-8861C369AAB8}" type="slidenum">
              <a:t>58</a:t>
            </a:fld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8120" y="610920"/>
            <a:ext cx="67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The ISIR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Message Classes and Format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4960" y="1830240"/>
            <a:ext cx="815184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duced number of message class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wo input message classes (applications and correction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 output message classes (3 ISIR and 1 erro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2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IRs in XML format -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2004-05, ISIRs will not be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2005-06, ISIRs will be in XML forma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2006-07, all schools will be required to receive ISIR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D40-E392-48B9-9404-0856D8B5AE06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560" y="610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Moving to a Paperless Process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PINs and Electronic Signature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754280"/>
            <a:ext cx="380844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0480" indent="-3304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ce Nov. 1998, 26,938,372 individuals have received PI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0480" indent="-3304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2002-03, 4 million students and parents electronically signed the FAFSA using P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0480" indent="-33048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 far in 2003-04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6 million have signed with P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9760" y="2055960"/>
          <a:ext cx="4494240" cy="34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2055960"/>
                    <a:ext cx="44942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FD3-CCE7-455E-A335-532DB6388C9A}" type="slidenum">
              <a:t>6</a:t>
            </a:fld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The Student Aid Report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4280"/>
            <a:ext cx="77724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he paper 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nted on white paper with pink wash across top of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ed variable text on first page of SAR when student has eligibility iss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ent e-mail address printed on SAR, but will not be correc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D93-C49F-4378-BDF8-97A2114D614E}" type="slidenum">
              <a:t>60</a:t>
            </a:fld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The Student Aid Report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4280"/>
            <a:ext cx="785016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he paper 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R instructs applicants that they must call FSAIC to request a copy of their SA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first page, under “You (the Student)”, variable text will be used for eligibility iss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675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943-2569-4E37-99C4-63625DC28B79}" type="slidenum">
              <a:t>61</a:t>
            </a:fld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The Student Aid Report</a:t>
            </a:r>
            <a:endParaRPr b="0" lang="en-US" sz="3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4960" y="159984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Paper SAR and SAR on the We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649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rder of the questions follow paper FAF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649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Financial Aid Office Use Only box/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lnSpc>
                <a:spcPct val="11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 changed to D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lnSpc>
                <a:spcPct val="110000"/>
              </a:lnSpc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rent SSN match flag results display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SAR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110000"/>
              </a:lnSpc>
              <a:spcBef>
                <a:spcPts val="649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e-mail address displayed and can be corrected on the W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spcBef>
                <a:spcPts val="649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E2C-AE6E-4D7C-A37C-FE32AC0CA226}" type="slidenum">
              <a:t>62</a:t>
            </a:fld>
          </a:p>
        </p:txBody>
      </p:sp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754280"/>
            <a:ext cx="77724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 algn="ctr"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Arial"/>
              </a:rPr>
              <a:t>Making Corrections to Applicant D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Verdana"/>
              </a:rPr>
              <a:t>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104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Institution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j0233858(p)" descr="Click To Download"/>
          <p:cNvPicPr/>
          <p:nvPr/>
        </p:nvPicPr>
        <p:blipFill>
          <a:blip r:embed="rId1"/>
          <a:stretch/>
        </p:blipFill>
        <p:spPr>
          <a:xfrm>
            <a:off x="3886200" y="3198960"/>
            <a:ext cx="1600200" cy="160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1B4-4416-43F5-A066-BDBE69BD498F}" type="slidenum">
              <a:t>63</a:t>
            </a:fld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Making Corrections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 can correct data on their own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per S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rrections on the W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students eligible for real-time Web corr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 can work with a school to make corrections via FAA Access to CPS Onl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399960">
              <a:spcBef>
                <a:spcPts val="524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y students eligible for real-time Web corre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 can make corrections to certain fields by calling FSAIC at 1-800-4-FED-AI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B1C-E8C5-437B-ABEF-8685D93F70D7}" type="slidenum">
              <a:t>64</a:t>
            </a:fld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0160" y="2296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br>
              <a:rPr sz="4200"/>
            </a:b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Student Corrections on the Web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Real-time Correction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6360" y="1754280"/>
            <a:ext cx="853128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tudent is eligible for real-time corrections, reprocessed results appear immediately on confirma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ficial” EFC displa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 link to Student Access on the Web where student can view and print corrected SAR inform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separate e-mail s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696-A02D-4096-B26B-E880E0A8AD8E}" type="slidenum">
              <a:t>65</a:t>
            </a:fld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53136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FAA Correction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Student Inquiry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8040" y="1830240"/>
            <a:ext cx="792792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display all transactions for stu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institution’s school code not listed on transaction no EFC will appe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school code not on transaction, school can access with student’s DR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new Verification Worksh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lculates tolera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plays total “net” err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24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s option to create FAA Cor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E16-34CE-4E94-BC25-E9A71C750084}" type="slidenum">
              <a:t>66</a:t>
            </a:fld>
          </a:p>
        </p:txBody>
      </p:sp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9320" y="6109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Making Corrections</a:t>
            </a:r>
            <a:br>
              <a:rPr sz="42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FAA Access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79440" y="190512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A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include estimated taxes paid calculator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determine if correction affects student’s eligibility for Auto Zero EFC or S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firmation page will tell FAA if corrected transaction was selected for verif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lnSpc>
                <a:spcPct val="90000"/>
              </a:lnSpc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tudent provided e-mail address, e-mail will inform students that a school has made corrections on their behal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834-275C-4B2B-9297-3121DA3D1791}" type="slidenum">
              <a:t>67</a:t>
            </a:fld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Other Noteworthy News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0480" indent="-330480">
              <a:lnSpc>
                <a:spcPct val="11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nded deadline dates for making corrections to the 2003-04 application data and beyo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0480" indent="-330480">
              <a:lnSpc>
                <a:spcPct val="11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inframe Test System available in mid-November 20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-440280">
              <a:lnSpc>
                <a:spcPct val="12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testing of application and correction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-440280">
              <a:lnSpc>
                <a:spcPct val="12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nts must have TG nu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79120" indent="-440280">
              <a:lnSpc>
                <a:spcPct val="120000"/>
              </a:lnSpc>
              <a:spcBef>
                <a:spcPts val="5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nts not required to have federal school co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C24-8D69-48C8-8196-D150799126F2}" type="slidenum">
              <a:t>68</a:t>
            </a:fld>
          </a:p>
        </p:txBody>
      </p: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68688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900" spc="-1" strike="noStrike">
                <a:solidFill>
                  <a:srgbClr val="0099ff"/>
                </a:solidFill>
                <a:latin typeface="Arial"/>
              </a:rPr>
              <a:t>Upcoming Conferences</a:t>
            </a:r>
            <a:endParaRPr b="0" lang="en-US" sz="3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4-05 Application Processing Update Videoconference in October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Access Conferen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182680" y="-507960"/>
            <a:ext cx="4781160" cy="7873920"/>
            <a:chOff x="2182680" y="-507960"/>
            <a:chExt cx="4781160" cy="7873920"/>
          </a:xfrm>
        </p:grpSpPr>
        <p:sp>
          <p:nvSpPr>
            <p:cNvPr id="256" name=""/>
            <p:cNvSpPr/>
            <p:nvPr/>
          </p:nvSpPr>
          <p:spPr>
            <a:xfrm>
              <a:off x="2182680" y="-507960"/>
              <a:ext cx="4781160" cy="78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82680" y="-507960"/>
              <a:ext cx="478116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82680" y="-507960"/>
            <a:ext cx="4781160" cy="7873920"/>
            <a:chOff x="2182680" y="-507960"/>
            <a:chExt cx="4781160" cy="7873920"/>
          </a:xfrm>
        </p:grpSpPr>
        <p:sp>
          <p:nvSpPr>
            <p:cNvPr id="259" name=""/>
            <p:cNvSpPr/>
            <p:nvPr/>
          </p:nvSpPr>
          <p:spPr>
            <a:xfrm>
              <a:off x="2182680" y="-507960"/>
              <a:ext cx="4781160" cy="78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82680" y="-507960"/>
              <a:ext cx="478116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500" spc="-1" strike="noStrike" u="sng">
                  <a:solidFill>
                    <a:srgbClr val="3333cc"/>
                  </a:solidFill>
                  <a:uFillTx/>
                  <a:latin typeface="Verdana"/>
                  <a:hlinkClick r:id="rId1"/>
                </a:rPr>
                <a:t>Arlington, VA</a:t>
              </a:r>
              <a:br>
                <a:rPr sz="500"/>
              </a:b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(Aug 14 - 15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182680" y="-507960"/>
            <a:ext cx="4781160" cy="7873920"/>
            <a:chOff x="2182680" y="-507960"/>
            <a:chExt cx="4781160" cy="7873920"/>
          </a:xfrm>
        </p:grpSpPr>
        <p:sp>
          <p:nvSpPr>
            <p:cNvPr id="262" name=""/>
            <p:cNvSpPr/>
            <p:nvPr/>
          </p:nvSpPr>
          <p:spPr>
            <a:xfrm>
              <a:off x="2182680" y="-507960"/>
              <a:ext cx="4781160" cy="78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82680" y="-507960"/>
              <a:ext cx="4781160" cy="14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9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            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4" name="sandiegohotel" descr="San Diego skyline with hotel"/>
          <p:cNvPicPr/>
          <p:nvPr/>
        </p:nvPicPr>
        <p:blipFill>
          <a:blip r:embed="rId2"/>
          <a:stretch/>
        </p:blipFill>
        <p:spPr>
          <a:xfrm>
            <a:off x="1219320" y="3809880"/>
            <a:ext cx="1982520" cy="1600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>
            <a:off x="1140840" y="5410080"/>
            <a:ext cx="1982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Verdana"/>
                <a:hlinkClick r:id="rId3"/>
              </a:rPr>
              <a:t>San Diego, CA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(Nov. 2-5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182680" y="-507960"/>
            <a:ext cx="4781160" cy="7873920"/>
            <a:chOff x="2182680" y="-507960"/>
            <a:chExt cx="4781160" cy="7873920"/>
          </a:xfrm>
        </p:grpSpPr>
        <p:sp>
          <p:nvSpPr>
            <p:cNvPr id="267" name=""/>
            <p:cNvSpPr/>
            <p:nvPr/>
          </p:nvSpPr>
          <p:spPr>
            <a:xfrm>
              <a:off x="2182680" y="-507960"/>
              <a:ext cx="4781160" cy="78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82680" y="-507960"/>
              <a:ext cx="4781160" cy="12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         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neworleansbalcony" descr="New Orleans French Quarter  balcony"/>
          <p:cNvPicPr/>
          <p:nvPr/>
        </p:nvPicPr>
        <p:blipFill>
          <a:blip r:embed="rId4"/>
          <a:stretch/>
        </p:blipFill>
        <p:spPr>
          <a:xfrm>
            <a:off x="3886200" y="3809880"/>
            <a:ext cx="1982880" cy="1600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732120" y="5410080"/>
            <a:ext cx="205920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Verdana"/>
                <a:hlinkClick r:id="rId5"/>
              </a:rPr>
              <a:t>New Orleans, LA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(Dec. 2-5)</a:t>
            </a:r>
            <a:br>
              <a:rPr sz="25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8D7-2A30-4EF8-B7BF-942CE06B561C}" type="slidenum">
              <a:t>69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531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700" spc="-1" strike="noStrike">
                <a:solidFill>
                  <a:srgbClr val="0099ff"/>
                </a:solidFill>
                <a:latin typeface="Arial"/>
              </a:rPr>
              <a:t>Moving to a Paperless Process</a:t>
            </a:r>
            <a:br>
              <a:rPr sz="3700"/>
            </a:br>
            <a:r>
              <a:rPr b="0" lang="en-US" sz="2700" spc="-1" strike="noStrike">
                <a:solidFill>
                  <a:srgbClr val="0099ff"/>
                </a:solidFill>
                <a:latin typeface="Arial"/>
              </a:rPr>
              <a:t>E-mail Messages with Links to PIN and SAR</a:t>
            </a:r>
            <a:endParaRPr b="0" lang="en-US" sz="27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428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3-04, over 5 million students provided e-mail addresses on their FAF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January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ver 5 million PIN e-mails s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458640">
              <a:spcBef>
                <a:spcPts val="675"/>
              </a:spcBef>
              <a:buClr>
                <a:srgbClr val="ff9933"/>
              </a:buClr>
              <a:buFont typeface="Symbol" charset="2"/>
              <a:buChar char="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ver 6 million SAR e-mails s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j0288900(p)" descr="Click To Download"/>
          <p:cNvPicPr/>
          <p:nvPr/>
        </p:nvPicPr>
        <p:blipFill>
          <a:blip r:embed="rId1"/>
          <a:stretch/>
        </p:blipFill>
        <p:spPr>
          <a:xfrm>
            <a:off x="3809880" y="48783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F07-30CB-4020-83A1-47DD406EDCCA}" type="slidenum">
              <a:t>7</a:t>
            </a:fld>
          </a:p>
        </p:txBody>
      </p:sp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Application Processing System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67000" y="2198160"/>
            <a:ext cx="603864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 1-800-330-59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 cpswan@nc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CFA-7FA8-448E-BEF7-3CBFC69034C5}" type="slidenum">
              <a:t>70</a:t>
            </a:fld>
          </a:p>
        </p:txBody>
      </p:sp>
    </p:spTree>
  </p:cSld>
  <p:transition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8040" y="531720"/>
            <a:ext cx="3963960" cy="5715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landscape" descr=""/>
          <p:cNvPicPr/>
          <p:nvPr/>
        </p:nvPicPr>
        <p:blipFill>
          <a:blip r:embed="rId1"/>
          <a:srcRect l="0" t="0" r="37886" b="0"/>
          <a:stretch/>
        </p:blipFill>
        <p:spPr>
          <a:xfrm>
            <a:off x="608040" y="2714760"/>
            <a:ext cx="7889760" cy="1904760"/>
          </a:xfrm>
          <a:prstGeom prst="rect">
            <a:avLst/>
          </a:prstGeom>
          <a:ln w="0">
            <a:noFill/>
          </a:ln>
        </p:spPr>
      </p:pic>
      <p:pic>
        <p:nvPicPr>
          <p:cNvPr id="275" name="225_logo" descr=""/>
          <p:cNvPicPr/>
          <p:nvPr/>
        </p:nvPicPr>
        <p:blipFill>
          <a:blip r:embed="rId2"/>
          <a:stretch/>
        </p:blipFill>
        <p:spPr>
          <a:xfrm>
            <a:off x="4579920" y="2666880"/>
            <a:ext cx="4029120" cy="196848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608040" y="6072120"/>
            <a:ext cx="7849800" cy="174240"/>
            <a:chOff x="608040" y="6072120"/>
            <a:chExt cx="7849800" cy="174240"/>
          </a:xfrm>
        </p:grpSpPr>
        <p:sp>
          <p:nvSpPr>
            <p:cNvPr id="277" name=""/>
            <p:cNvSpPr/>
            <p:nvPr/>
          </p:nvSpPr>
          <p:spPr>
            <a:xfrm>
              <a:off x="608040" y="6072120"/>
              <a:ext cx="7849800" cy="878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8040" y="6159960"/>
              <a:ext cx="7849800" cy="864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08040" y="380880"/>
            <a:ext cx="7849800" cy="174240"/>
            <a:chOff x="608040" y="380880"/>
            <a:chExt cx="7849800" cy="174240"/>
          </a:xfrm>
        </p:grpSpPr>
        <p:sp>
          <p:nvSpPr>
            <p:cNvPr id="280" name=""/>
            <p:cNvSpPr/>
            <p:nvPr/>
          </p:nvSpPr>
          <p:spPr>
            <a:xfrm>
              <a:off x="608040" y="380880"/>
              <a:ext cx="7849800" cy="878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040" y="468720"/>
              <a:ext cx="7849800" cy="864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2" name="Doefsa1" descr=""/>
          <p:cNvPicPr/>
          <p:nvPr/>
        </p:nvPicPr>
        <p:blipFill>
          <a:blip r:embed="rId3"/>
          <a:srcRect l="0" t="0" r="0" b="25495"/>
          <a:stretch/>
        </p:blipFill>
        <p:spPr>
          <a:xfrm>
            <a:off x="6372360" y="4842000"/>
            <a:ext cx="1095120" cy="11030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78240" y="1278000"/>
            <a:ext cx="3729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NASFAA 2003:  Reconnec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With Student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5960" y="531720"/>
            <a:ext cx="5946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Important Dates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87" name="j0139749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990720" cy="622440"/>
          </a:xfrm>
          <a:prstGeom prst="rect">
            <a:avLst/>
          </a:prstGeom>
          <a:ln w="0">
            <a:noFill/>
          </a:ln>
        </p:spPr>
      </p:pic>
      <p:pic>
        <p:nvPicPr>
          <p:cNvPr id="88" name="j0139765" descr=""/>
          <p:cNvPicPr/>
          <p:nvPr/>
        </p:nvPicPr>
        <p:blipFill>
          <a:blip r:embed="rId2"/>
          <a:stretch/>
        </p:blipFill>
        <p:spPr>
          <a:xfrm>
            <a:off x="534960" y="3579840"/>
            <a:ext cx="1063800" cy="722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27360" y="1674720"/>
            <a:ext cx="624816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9080" indent="-289080">
              <a:lnSpc>
                <a:spcPct val="100000"/>
              </a:lnSpc>
              <a:spcBef>
                <a:spcPts val="6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deral School Code file updates due July 1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6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aft ISIR Layout available on IFA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7360" y="3476520"/>
            <a:ext cx="6391080" cy="18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7160" indent="-227160">
              <a:lnSpc>
                <a:spcPct val="10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3508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nouncement explaining applic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cessing system changes on IFA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3508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DExpress announcement on IFA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235080"/>
                <a:tab algn="l" pos="344520"/>
                <a:tab algn="l" pos="689040"/>
                <a:tab algn="l" pos="1033560"/>
                <a:tab algn="l" pos="1378080"/>
                <a:tab algn="l" pos="1722600"/>
                <a:tab algn="l" pos="2066760"/>
                <a:tab algn="l" pos="2411280"/>
                <a:tab algn="l" pos="2755800"/>
                <a:tab algn="l" pos="3100320"/>
                <a:tab algn="l" pos="3444840"/>
                <a:tab algn="l" pos="3789360"/>
                <a:tab algn="l" pos="4133880"/>
                <a:tab algn="l" pos="4478400"/>
                <a:tab algn="l" pos="4822920"/>
                <a:tab algn="l" pos="5167440"/>
                <a:tab algn="l" pos="5511960"/>
                <a:tab algn="l" pos="5856120"/>
                <a:tab algn="l" pos="6200640"/>
                <a:tab algn="l" pos="6545160"/>
                <a:tab algn="l" pos="6889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3FB-5FB7-4479-B0AE-77239250293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59418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200" spc="-1" strike="noStrike">
                <a:solidFill>
                  <a:srgbClr val="0099ff"/>
                </a:solidFill>
                <a:latin typeface="Arial"/>
              </a:rPr>
              <a:t>Important Dates</a:t>
            </a:r>
            <a:endParaRPr b="0" lang="en-US" sz="42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92" name="j0139763" descr=""/>
          <p:cNvPicPr/>
          <p:nvPr/>
        </p:nvPicPr>
        <p:blipFill>
          <a:blip r:embed="rId1"/>
          <a:stretch/>
        </p:blipFill>
        <p:spPr>
          <a:xfrm>
            <a:off x="379440" y="1674720"/>
            <a:ext cx="1068480" cy="849240"/>
          </a:xfrm>
          <a:prstGeom prst="rect">
            <a:avLst/>
          </a:prstGeom>
          <a:ln w="0">
            <a:noFill/>
          </a:ln>
        </p:spPr>
      </p:pic>
      <p:pic>
        <p:nvPicPr>
          <p:cNvPr id="93" name="j0139747" descr=""/>
          <p:cNvPicPr/>
          <p:nvPr/>
        </p:nvPicPr>
        <p:blipFill>
          <a:blip r:embed="rId2"/>
          <a:stretch/>
        </p:blipFill>
        <p:spPr>
          <a:xfrm>
            <a:off x="306360" y="3960720"/>
            <a:ext cx="1141560" cy="68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27360" y="1449360"/>
            <a:ext cx="716580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9080" indent="-2890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 to ISIRs on IF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A Access to CPS announcement on IFA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FSA on the Web/PIN announcement on IF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ed ISIR Layout in 2004-05 Technical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deral School Code List ma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7360" y="3735360"/>
            <a:ext cx="66308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n 1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AFSA on the Web, Renewal FAFS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Web, Corrections on the Web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n 1:</a:t>
            </a:r>
            <a:r>
              <a:rPr b="0" lang="en-US" sz="22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A Access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n 2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pplication processing system starts u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6EA-44EE-40E6-ACFA-EDDB7651FBF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Jennifer Hatton</cp:lastModifiedBy>
  <dcterms:modified xsi:type="dcterms:W3CDTF">2003-07-23T12:27:25Z</dcterms:modified>
  <cp:revision>614</cp:revision>
  <dc:subject/>
  <dc:title>PowerPoint Presentation</dc:title>
</cp:coreProperties>
</file>