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31.gif" ContentType="image/gif"/>
  <Override PartName="/ppt/media/image12.wmf" ContentType="image/x-wmf"/>
  <Override PartName="/ppt/media/image27.png" ContentType="image/png"/>
  <Override PartName="/ppt/media/image13.wmf" ContentType="image/x-wmf"/>
  <Override PartName="/ppt/media/image33.png" ContentType="image/png"/>
  <Override PartName="/ppt/media/image34.wmf" ContentType="image/x-wmf"/>
  <Override PartName="/ppt/media/image7.wmf" ContentType="image/x-wmf"/>
  <Override PartName="/ppt/media/image37.wmf" ContentType="image/x-wmf"/>
  <Override PartName="/ppt/media/image38.png" ContentType="image/png"/>
  <Override PartName="/ppt/media/image28.png" ContentType="image/png"/>
  <Override PartName="/ppt/media/image35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25.png" ContentType="image/png"/>
  <Override PartName="/ppt/media/image32.gif" ContentType="image/gif"/>
  <Override PartName="/ppt/media/image9.gif" ContentType="image/gif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C3BA-8CE4-44C6-A31A-2BF5EC20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255760" y="685800"/>
            <a:ext cx="2117880" cy="1589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38080" y="251460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09960" y="914400"/>
            <a:ext cx="2828880" cy="2122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3200040"/>
            <a:ext cx="50292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59436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6E3-39CD-4107-81F0-9FA92514D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517840" y="309600"/>
            <a:ext cx="1733400" cy="12999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525240" y="1696680"/>
            <a:ext cx="6057720" cy="75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3CF-4292-4023-BF7E-D8A3A829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140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64C-E1A3-40F7-B6EE-3F407CB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2C3-871A-43A7-9B8E-C1956653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140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140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140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7FD-7B43-480E-B47B-480E0381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7BD-2AA4-46E1-884B-95C9D1C8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6DF-74C4-4D12-8B02-10A5F83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0BA-0E75-4B27-AD34-5F2F8FEA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7C4-C057-4E0A-A376-05CE734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686880"/>
            <a:ext cx="678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EDB-BCD3-42C1-88A6-675A45C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458-0224-4463-BCB7-60FAC7B9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92B-02DB-4F0F-BAAD-705B180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140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CD3-F40A-4098-9EBD-43D18EC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7320" indent="-3373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799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-3916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05480" indent="-3949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6080" indent="-280080">
              <a:spcBef>
                <a:spcPts val="799"/>
              </a:spcBef>
              <a:buClr>
                <a:srgbClr val="0099ff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6080" indent="-28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6080" indent="-28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6360"/>
            <a:ext cx="19033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6360"/>
            <a:ext cx="19033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1562B-55AE-460D-9D61-712895C099F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6072120"/>
            <a:ext cx="7849800" cy="174240"/>
            <a:chOff x="685800" y="6072120"/>
            <a:chExt cx="7849800" cy="174240"/>
          </a:xfrm>
        </p:grpSpPr>
        <p:sp>
          <p:nvSpPr>
            <p:cNvPr id="6" name=""/>
            <p:cNvSpPr/>
            <p:nvPr/>
          </p:nvSpPr>
          <p:spPr>
            <a:xfrm>
              <a:off x="685800" y="6072120"/>
              <a:ext cx="7849800" cy="87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5800" y="6159960"/>
              <a:ext cx="7849800" cy="86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685800" y="468360"/>
            <a:ext cx="7850160" cy="87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Doefsa1" descr=""/>
          <p:cNvPicPr/>
          <p:nvPr/>
        </p:nvPicPr>
        <p:blipFill>
          <a:blip r:embed="rId2"/>
          <a:srcRect l="0" t="0" r="0" b="25495"/>
          <a:stretch/>
        </p:blipFill>
        <p:spPr>
          <a:xfrm>
            <a:off x="503280" y="119160"/>
            <a:ext cx="1095480" cy="1100160"/>
          </a:xfrm>
          <a:prstGeom prst="rect">
            <a:avLst/>
          </a:prstGeom>
          <a:ln w="0">
            <a:noFill/>
          </a:ln>
        </p:spPr>
      </p:pic>
      <p:pic>
        <p:nvPicPr>
          <p:cNvPr id="10" name="225_logo" descr=""/>
          <p:cNvPicPr/>
          <p:nvPr/>
        </p:nvPicPr>
        <p:blipFill>
          <a:blip r:embed="rId3"/>
          <a:srcRect l="0" t="0" r="0" b="61340"/>
          <a:stretch/>
        </p:blipFill>
        <p:spPr>
          <a:xfrm>
            <a:off x="6334200" y="12600"/>
            <a:ext cx="2352600" cy="444600"/>
          </a:xfrm>
          <a:prstGeom prst="rect">
            <a:avLst/>
          </a:prstGeom>
          <a:ln w="0">
            <a:noFill/>
          </a:ln>
        </p:spPr>
      </p:pic>
      <p:pic>
        <p:nvPicPr>
          <p:cNvPr id="11" name="small-nclb" descr=""/>
          <p:cNvPicPr/>
          <p:nvPr/>
        </p:nvPicPr>
        <p:blipFill>
          <a:blip r:embed="rId4"/>
          <a:stretch/>
        </p:blipFill>
        <p:spPr>
          <a:xfrm>
            <a:off x="7924680" y="5564160"/>
            <a:ext cx="61128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afsademo.test.ed.gov/faa/faa.htm" TargetMode="External"/><Relationship Id="rId2" Type="http://schemas.openxmlformats.org/officeDocument/2006/relationships/hyperlink" Target="http://fafsademo.test.ed.gov/faa/faa.htm" TargetMode="External"/><Relationship Id="rId3" Type="http://schemas.openxmlformats.org/officeDocument/2006/relationships/hyperlink" Target="http://fafsademo.test.ed.gov/faa/faa.htm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edeworkshop.ncspearson.com/swdAugust03.htm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edeworkshop.ncspearson.com/SanDiego.htm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edeworkshop.ncspearson.com/NewOrleans.htm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8040" y="531720"/>
            <a:ext cx="3963960" cy="5715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andscape" descr=""/>
          <p:cNvPicPr/>
          <p:nvPr/>
        </p:nvPicPr>
        <p:blipFill>
          <a:blip r:embed="rId1"/>
          <a:srcRect l="0" t="0" r="37886" b="0"/>
          <a:stretch/>
        </p:blipFill>
        <p:spPr>
          <a:xfrm>
            <a:off x="608040" y="2714760"/>
            <a:ext cx="788976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225_logo" descr=""/>
          <p:cNvPicPr/>
          <p:nvPr/>
        </p:nvPicPr>
        <p:blipFill>
          <a:blip r:embed="rId2"/>
          <a:stretch/>
        </p:blipFill>
        <p:spPr>
          <a:xfrm>
            <a:off x="4579920" y="2666880"/>
            <a:ext cx="4029120" cy="19684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608040" y="6072120"/>
            <a:ext cx="7849800" cy="174240"/>
            <a:chOff x="608040" y="6072120"/>
            <a:chExt cx="7849800" cy="174240"/>
          </a:xfrm>
        </p:grpSpPr>
        <p:sp>
          <p:nvSpPr>
            <p:cNvPr id="59" name=""/>
            <p:cNvSpPr/>
            <p:nvPr/>
          </p:nvSpPr>
          <p:spPr>
            <a:xfrm>
              <a:off x="608040" y="6072120"/>
              <a:ext cx="7849800" cy="87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040" y="6159960"/>
              <a:ext cx="7849800" cy="86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08040" y="380880"/>
            <a:ext cx="7849800" cy="174240"/>
            <a:chOff x="608040" y="380880"/>
            <a:chExt cx="7849800" cy="174240"/>
          </a:xfrm>
        </p:grpSpPr>
        <p:sp>
          <p:nvSpPr>
            <p:cNvPr id="62" name=""/>
            <p:cNvSpPr/>
            <p:nvPr/>
          </p:nvSpPr>
          <p:spPr>
            <a:xfrm>
              <a:off x="608040" y="380880"/>
              <a:ext cx="7849800" cy="878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8040" y="468720"/>
              <a:ext cx="7849800" cy="86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Doefsa1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6372360" y="4842000"/>
            <a:ext cx="1095120" cy="1103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78240" y="1278000"/>
            <a:ext cx="3729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NASFAA 2003:  Reconnec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With Student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1176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700" spc="-1" strike="noStrike">
                <a:solidFill>
                  <a:srgbClr val="0099ff"/>
                </a:solidFill>
                <a:latin typeface="Arial"/>
              </a:rPr>
              <a:t>Getting Ready for the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176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700" spc="-1" strike="noStrike">
                <a:solidFill>
                  <a:srgbClr val="0099ff"/>
                </a:solidFill>
                <a:latin typeface="Arial"/>
              </a:rPr>
              <a:t>2004-05 Award Year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j0198838(p)" descr="Click To Download"/>
          <p:cNvPicPr/>
          <p:nvPr/>
        </p:nvPicPr>
        <p:blipFill>
          <a:blip r:embed="rId1"/>
          <a:stretch/>
        </p:blipFill>
        <p:spPr>
          <a:xfrm>
            <a:off x="3430440" y="3659040"/>
            <a:ext cx="19036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59C-635D-4EAE-8852-CA096573FB3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 Toolkits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4280"/>
            <a:ext cx="35798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be mailed in October to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stsecondary sch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gh sch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 agenc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IO Cen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93880" y="1754280"/>
            <a:ext cx="44989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7320" indent="-3373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kits will include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ps C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IN Fl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b-Link Graphics Fl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st-it No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A Access Fl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98960"/>
            <a:ext cx="9144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6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73439" t="9376" r="3127" b="13540"/>
          <a:stretch/>
        </p:blipFill>
        <p:spPr>
          <a:xfrm>
            <a:off x="3732120" y="2362320"/>
            <a:ext cx="1114560" cy="2820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64E-2EA2-4E87-A04E-745E97166F8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Ordering Paper FAFSAs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69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 for IFAP announcement this fall about placing 2004-05 FAFSA 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s for continuing to reduce those paper FAFSA order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KG1B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361960" cy="25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CD1-4A3C-4728-996F-8DBA346E0EB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Screen Shots and Demonstration Sit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arly October 2003, a PowerPoint presentation containing FAFSA on the Web screen shots will be available on IFA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FSA on the Web demonstration site will be available in November 20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ccess site, go to http://fafsademo.test.ed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Name:  eddem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ssword:  fafsat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j0233917(p)" descr="Click To Download"/>
          <p:cNvPicPr/>
          <p:nvPr/>
        </p:nvPicPr>
        <p:blipFill>
          <a:blip r:embed="rId1"/>
          <a:stretch/>
        </p:blipFill>
        <p:spPr>
          <a:xfrm>
            <a:off x="5180040" y="464832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8F0-3DC6-4B3D-B218-B05E3B19F56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868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Application Proces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Important Dat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960" y="2135160"/>
            <a:ext cx="81518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August 200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ouncement and Guide post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IFAP and FSADownlo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10/6 - 10/3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ools can request that Renewal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inders be sent to student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paper Renewal FAF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11/6 - 12/20</a:t>
            </a: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S mails Renewal FAFSAs t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0E6-8AA0-41EF-AD00-5BC9520B5A7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Application Proces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Reminde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11/6 - 12/2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Renewal reminders sent to students if -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chool requested PINs be sent instead of paper Renewal FAFS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Web in 2003-0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d on 2003-04 FAFSA that they were graduate or 5th year undergraduate stud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 provided valid e-mail address on 2003-04 FAF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BE3-F946-48EF-A16C-91A3F04770D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87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Application Process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Reminde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5960"/>
            <a:ext cx="73897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valid e-mail address provided on 2003-04 FAFSA, students will receive e-mail reminding them to reapply using their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il will not include link to PIN on the W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valid e-mail address not provided on 2003-04 FAFSA, student will be sent a PIN mailer to permanent addr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IN mailer will include tear-out c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CBC-C49E-41E3-877C-FAA6C09E3FE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4600" y="1754280"/>
            <a:ext cx="776916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700" spc="-1" strike="noStrike">
                <a:solidFill>
                  <a:srgbClr val="0099ff"/>
                </a:solidFill>
                <a:latin typeface="Arial"/>
              </a:rPr>
              <a:t>Applying for Aid</a:t>
            </a: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9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Student and School Applica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9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j0273054(p)" descr="Click To Download"/>
          <p:cNvPicPr/>
          <p:nvPr/>
        </p:nvPicPr>
        <p:blipFill>
          <a:blip r:embed="rId1"/>
          <a:stretch/>
        </p:blipFill>
        <p:spPr>
          <a:xfrm>
            <a:off x="3352680" y="3505320"/>
            <a:ext cx="213372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A43-140E-44D5-A5BA-7FAC032DC2D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Student Application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The Paper FAFSA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41162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or of the FAF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Pink for Students (Pantone 196 CV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9933ff"/>
                </a:solidFill>
                <a:latin typeface="Arial"/>
              </a:rPr>
              <a:t>Purple for Parents (Pantone 263 CV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FSA will inclu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turn receipt postc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d ins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, reworded, and reordered questions and instru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26B-4561-4555-90D6-7A1E640CD0D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1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ed first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about federal and state dead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ominent instructions for correcting estimated tax return data once return i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090-B7D3-492A-9554-9959032621B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900" spc="-1" strike="noStrike">
                <a:solidFill>
                  <a:srgbClr val="0099ff"/>
                </a:solidFill>
                <a:latin typeface="Arial"/>
              </a:rPr>
              <a:t>2004-05 Application and Delivery System Upda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j0234050" descr=""/>
          <p:cNvPicPr/>
          <p:nvPr/>
        </p:nvPicPr>
        <p:blipFill>
          <a:blip r:embed="rId1"/>
          <a:stretch/>
        </p:blipFill>
        <p:spPr>
          <a:xfrm>
            <a:off x="3430440" y="3354480"/>
            <a:ext cx="2264040" cy="19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CDF-5007-475F-80E6-0032FAEDCDF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2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ed Web site reference for exchange 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rther clarified what is not an invest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NewRomanPS-Bold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4960" y="2743200"/>
            <a:ext cx="8074080" cy="1360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4960" y="4802040"/>
            <a:ext cx="8302680" cy="5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B2B-C225-4346-B4CF-62D88CE8929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81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3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9080" y="1830240"/>
            <a:ext cx="84582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Question 1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’s e-mail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ved from Step Six to Step 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0 characters long, with pre-printed @ symb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lains how e-mail address will be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Question 3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 number for the “drug ques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9880" y="3886200"/>
            <a:ext cx="716256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704-B245-47B9-8E95-354341682C1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4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9080" y="1674360"/>
            <a:ext cx="80024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3640" indent="-32364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Step Tw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-43092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Questions 43 – 45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Student’s asset net worth questions reorde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Step Thre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-43092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Question 49</a:t>
            </a:r>
            <a:r>
              <a:rPr b="0" lang="en-US" sz="2500" spc="-1" strike="noStrike">
                <a:solidFill>
                  <a:srgbClr val="0099ff"/>
                </a:solidFill>
                <a:latin typeface="Arial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Wording for “graduate” dependency question revised to be clear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-43092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Question 53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Revised to read “Are both of your parents deceased, or are you or were you (until age 18) a ward/dependent of the court?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8040" y="4116240"/>
            <a:ext cx="8078760" cy="60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040" y="4191120"/>
            <a:ext cx="792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4191120"/>
          <a:ext cx="7772400" cy="5331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5840"/>
                          <a:tab algn="l" pos="1832040"/>
                          <a:tab algn="l" pos="2747880"/>
                          <a:tab algn="l" pos="3664080"/>
                          <a:tab algn="l" pos="4579920"/>
                          <a:tab algn="l" pos="5495760"/>
                          <a:tab algn="l" pos="6411960"/>
                          <a:tab algn="l" pos="7327800"/>
                          <a:tab algn="l" pos="8244000"/>
                          <a:tab algn="l" pos="9159840"/>
                          <a:tab algn="l" pos="100760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7F1-A3A7-4BD7-9902-70714F07FCA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5, Step Four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2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questions about students’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2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stions 59 and 63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arent’s first init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2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stions 60 and 64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arent’s date of bi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ask “Age of older parent”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E03214_(p)" descr="Click To Download"/>
          <p:cNvPicPr/>
          <p:nvPr/>
        </p:nvPicPr>
        <p:blipFill>
          <a:blip r:embed="rId1"/>
          <a:stretch/>
        </p:blipFill>
        <p:spPr>
          <a:xfrm>
            <a:off x="3886200" y="44974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656-6775-4062-8D90-46A315BAF87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67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6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tep Fiv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dependent student questions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makes questions more noticeable so students won’t sk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tep Six:</a:t>
            </a: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ment questions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ved from Step O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question for all te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parate response for “Not sure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EC7-64A2-4A24-A6B7-95778057B8F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Paper Renewal FAFSA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6360" y="1674360"/>
            <a:ext cx="85312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changes made to paper FAF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roll forward 2003-04 FAFSA questions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ll pre-print all school codes on transaction used to create the Renewal FAF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ll pre-print housing plans for each school code lis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rollment status questions will be conver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any question = Full time, pre-print as full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wise, leave question blan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ent’s Marital Status Date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5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B88-2DD7-47C7-99E0-3FE733F5CA6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Paper Renewal FAFSA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o longer pre-print income fields from previous year’s FAFSA for students who qualified for Automatic Zero E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ot roll forward parents’ SSN and last nam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465-F5BE-4043-B341-44FAC4505F2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www.fafsa.ed.gov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94240" y="1980720"/>
            <a:ext cx="41148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PIN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status of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SA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FAFSA for residents of certai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579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8040" y="2286000"/>
          <a:ext cx="373536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6000"/>
                    <a:ext cx="373536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BEA-7111-4D1F-8CAA-8CC46526045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5320" y="457200"/>
            <a:ext cx="677844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panish FAFSA on the Web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4600" y="3429000"/>
            <a:ext cx="830268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360" indent="-14436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anish FAFSA on the Web will include Spanish versions of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-Application Workshe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heets A, B, and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ome Estimator Workshe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ug Conviction Workshe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001" t="16002" r="17511" b="33705"/>
          <a:stretch/>
        </p:blipFill>
        <p:spPr>
          <a:xfrm>
            <a:off x="2666880" y="1523880"/>
            <a:ext cx="39610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373-75F1-4665-B793-0607DFAC37E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5320" y="76176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9080" y="1980720"/>
            <a:ext cx="84582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new and revised paper FAFSA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parent e-mail addr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valid parent e-mail address provided 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mail sent to parent when FAFSA proces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ignature(s) are missing, e-mail will include information about how to 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rectable on the Web or through FSA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ll print, but not correctable on paper S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6B0-845B-4C55-B0DE-6D4EFB41311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13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oday’s Topic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4360"/>
            <a:ext cx="77738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 Processing Statis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2004-05 Application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ying for 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ing Applications at the C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ing and Reviewing Applica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cting Applica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Changes and Noteworthy N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EA0-4ECC-4D15-B608-7DEEF424F61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400"/>
            </a:b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500"/>
            </a:br>
            <a:r>
              <a:rPr b="0" lang="en-US" sz="2500" spc="-1" strike="noStrike">
                <a:solidFill>
                  <a:srgbClr val="0099ff"/>
                </a:solidFill>
                <a:latin typeface="Arial"/>
              </a:rPr>
              <a:t>Enhanced Edits and Skip Logic</a:t>
            </a:r>
            <a:endParaRPr b="0" lang="en-US" sz="25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endent students required to provide parents’ SSN, last name, first initial, and D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tudent’s parent is single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kip logic presents only one parent SSN, last name, first initial, and D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asked if information is for father or m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sing Plans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required to answer on FOT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ried forward from previous year on RFOT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13A-6770-4F40-9D60-9FCCD310B2B6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Other Improvemen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211120"/>
            <a:ext cx="71611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tudents who qualify for Auto Zero EFC can provide parent inform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certain student income and asse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lined final steps of the application to make signature and submit proces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C52-44FA-4EFC-BFAF-1E709916E33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lectronic Signatur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7680" y="2135160"/>
            <a:ext cx="762156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provided about advantages of electronically signing with 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nd parents can electronically sign within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validate that SSN used by parent to electronically sign matches SSN reported on the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4C0-BB71-417D-96BA-78F73A6BCB5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428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oving to Real-Time Processing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8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4080" indent="-3340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carry forward some database match results from previous year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ective Service Match Flag =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 Match =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N Match = 4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A citizenship confirmed or student is an eligible non-citiz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process application in real-time for independent students if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other matches require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 does not change identifie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B36-0A8C-4F52-BE65-D6FF01FE671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296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4200"/>
            </a:b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oving to Real-Time Processing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6360" y="1830240"/>
            <a:ext cx="853128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is eligible for real-time processing, processed results appear immediately on confirma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ficial” EFC displa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link to Student Access on the Web where student can view and print corrected SAR in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DEE-C88F-41F2-9E00-95491CD27E0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53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chool Application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FAA Access to CPS Onlin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6360" y="2055960"/>
            <a:ext cx="5027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in May 20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hanced each y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version allows FAAs to 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students’ SAR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and submit FAFSA and Renewal FAFSA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ct applica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16670" r="2173" b="8335"/>
          <a:stretch/>
        </p:blipFill>
        <p:spPr>
          <a:xfrm>
            <a:off x="5486400" y="2135160"/>
            <a:ext cx="304956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3C6-E31E-43D1-A6F1-FE54FB4CD68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53136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chool Application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DExpress and FAA Access to CPS Onlin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2200" y="1905120"/>
            <a:ext cx="42656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2004-05, EDExpress will interface directly with FAA Access to CPS Online through an embedded brows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ing on the FAFSA Tab in EDExpress will take you to FAA Access Application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pplication and correction entry will be done in FAA Ac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736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AAAccess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798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9B5-3E66-4C23-89A1-B9272B81000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8120" y="68688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chool Application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DExpress and FAA Access to CPS Onlin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596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ication Processing functionality still available in ED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Review ta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-Processed ISI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DD5-8BD6-4799-8A6A-45954C2B697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876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FAA Access to CPS Online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for 2004-05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FAA Access demonstration site will be available in November 20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access site, go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fafsademo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.test.ed.g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Name: ed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word: fafs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on FAA Access button at bottom of 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j0233917(p)" descr="Click To Download"/>
          <p:cNvPicPr/>
          <p:nvPr/>
        </p:nvPicPr>
        <p:blipFill>
          <a:blip r:embed="rId4"/>
          <a:stretch/>
        </p:blipFill>
        <p:spPr>
          <a:xfrm>
            <a:off x="594216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E2B-61A5-4854-BDA0-2862B44D5F8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87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FAA Access to CPS Online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for 2004-05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981080"/>
            <a:ext cx="80010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A Application Ent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d taxes paid calculator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kip answering income and asset questions for some students who qualify for Automatic Zero EF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ed signature page will include summary of application information entered by F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processing for students who do not need to go to external m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FAA Access to request ISIRs from Datam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j0250085(p)" descr="Click To Download"/>
          <p:cNvPicPr/>
          <p:nvPr/>
        </p:nvPicPr>
        <p:blipFill>
          <a:blip r:embed="rId1"/>
          <a:stretch/>
        </p:blipFill>
        <p:spPr>
          <a:xfrm>
            <a:off x="6858000" y="1371600"/>
            <a:ext cx="146376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233-B747-4E2F-BFC3-A21235FD2CFE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5960" y="686880"/>
            <a:ext cx="59464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Application Volume</a:t>
            </a:r>
            <a:br>
              <a:rPr sz="42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2002-03 and 2003-04 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6360" y="1754280"/>
            <a:ext cx="3046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7,602,22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-03 FAFSAs processed as of June 30, 2002 (week 2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8,197,46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3-04 FAFSAs processed as of June 29, 2003 (week 2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25760" y="1981080"/>
          <a:ext cx="618192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5760" y="1981080"/>
                    <a:ext cx="618192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800080" y="5334120"/>
            <a:ext cx="5072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500" spc="-1" strike="noStrike">
                <a:solidFill>
                  <a:srgbClr val="0099ff"/>
                </a:solidFill>
                <a:latin typeface="Arial"/>
              </a:rPr>
              <a:t>That’s a 7.8% incre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AA7-A91A-4A5D-814B-64065D8EADA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6720" y="45684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7240" indent="-32724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Datamart will be implemented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. 2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ore 2004-05 ISIR data for retrieval and distribution to authoriz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 in FAA Access to CPS Online allows users to request ISIRs from Data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specific stud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d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9C7-3B35-4CB0-BBD8-8EBA735DB36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6720" y="3805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8040" y="1674360"/>
            <a:ext cx="78501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tions for receiving ISIRs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requ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gn up through Participation Management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ault is daily receipt (like current syst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change option at any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rs who select daily receipt can also use Datamart to request IS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96C-046B-455C-A6D9-58F427D71CCB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ry Options for Retrieving ISI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70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SN/Name 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e range for receipt date or processed d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titution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760" y="1980720"/>
            <a:ext cx="39592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 of legal residence or state of colle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6DA-9960-43C2-B2D3-3781C5C3EE0D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ry Requiremen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PA has authority to run queri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ies can be set up to run on demand or for a future d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y must be completed before next query can be submit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t query entered is displayed when user returns to FAA 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limit on requesting same ISIR multiple tim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B1D-6608-4BD7-9997-99FAA1E02CE5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67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ry Resul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960" y="1905120"/>
            <a:ext cx="815184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 against Datamart, files of requested ISIR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under separate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A30-F922-4E7C-84BD-DF183E054382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“Pushed” ISI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9440" y="1905120"/>
            <a:ext cx="83073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-generated transactions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SLDS post-scree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 automated secondary confi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proc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j0105204(p)" descr="Click To Download"/>
          <p:cNvPicPr/>
          <p:nvPr/>
        </p:nvPicPr>
        <p:blipFill>
          <a:blip r:embed="rId1"/>
          <a:srcRect l="0" t="20844" r="0" b="21907"/>
          <a:stretch/>
        </p:blipFill>
        <p:spPr>
          <a:xfrm>
            <a:off x="5640480" y="3048120"/>
            <a:ext cx="146376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018-5183-4DF0-939B-A4E7AB25F35F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“Must See” ISI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2211120"/>
            <a:ext cx="68562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must look at all “pushed”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must request ISIRs for all enroll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j0234739(p)" descr="Click To Download"/>
          <p:cNvPicPr/>
          <p:nvPr/>
        </p:nvPicPr>
        <p:blipFill>
          <a:blip r:embed="rId1"/>
          <a:stretch/>
        </p:blipFill>
        <p:spPr>
          <a:xfrm>
            <a:off x="5180040" y="4116240"/>
            <a:ext cx="146700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65D-91E7-4D07-B1F7-908310A83AE4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essage Class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9880" y="1830240"/>
            <a:ext cx="75420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ypes of Message Classes  -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ily automatic feed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gular/Da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S “pushed” IS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s requested through Datamart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S “pushed” IS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mart will be used for YTD and FDR reque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63A-EDD8-4240-BE03-3533FA3EB6C6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Arial"/>
              </a:rPr>
              <a:t>Processing Application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Arial"/>
              </a:rPr>
              <a:t>at the CP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9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ff9933"/>
                </a:solidFill>
                <a:latin typeface="Arial"/>
              </a:rPr>
              <a:t>2004-05 Chang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j0213488" descr=""/>
          <p:cNvPicPr/>
          <p:nvPr/>
        </p:nvPicPr>
        <p:blipFill>
          <a:blip r:embed="rId1"/>
          <a:stretch/>
        </p:blipFill>
        <p:spPr>
          <a:xfrm>
            <a:off x="3352680" y="3354480"/>
            <a:ext cx="236088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C10-E2D7-46B6-BA56-FFF9126B5800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INS Database Match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8480" y="2055960"/>
            <a:ext cx="75405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and Naturalization Service (INS) match renamed Department of Homeland Security (DHS)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TR00270_(p)" descr="Click To Download"/>
          <p:cNvPicPr/>
          <p:nvPr/>
        </p:nvPicPr>
        <p:blipFill>
          <a:blip r:embed="rId1"/>
          <a:stretch/>
        </p:blipFill>
        <p:spPr>
          <a:xfrm>
            <a:off x="3581280" y="3886200"/>
            <a:ext cx="1752840" cy="17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D07-FA9E-4767-A304-8A65B6C103D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531360"/>
            <a:ext cx="6565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Electronic Application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9360" y="1905120"/>
          <a:ext cx="826128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905120"/>
                    <a:ext cx="826128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-77760" y="1449360"/>
            <a:ext cx="975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99ff"/>
                </a:solidFill>
                <a:latin typeface="Arial"/>
              </a:rPr>
              <a:t>For the first 26 weeks of processing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99ff"/>
                </a:solidFill>
                <a:latin typeface="Arial"/>
              </a:rPr>
              <a:t>2002-2003 and 2003-2004</a:t>
            </a:r>
            <a:r>
              <a:rPr b="1" lang="en-US" sz="22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861-24DC-4CE6-B4D1-EA39D47AEC3B}" type="slidenum">
              <a:t>5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SSN Database Match with SSA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944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N match expanded to include dependent applicants’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not send parent SSN if same as student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use same match flag results as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D13-B02F-414D-89D4-9D2560CF8CED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rent SSN Match with SSA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9520" y="1980720"/>
            <a:ext cx="73897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whose parent has SSA Date of Death (Match Flag = 5) will receive a SAR comment instead of being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allowed to change SSN, even if SSA gave clean match flag of ‘4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0B3-1E35-4F79-A849-7FC4F869ADEE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Rejec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433440"/>
                <a:tab algn="l" pos="577800"/>
                <a:tab algn="l" pos="722160"/>
                <a:tab algn="l" pos="86688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rejects for missing parent SSN, last name, first initial, and D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ther’s SSN not on SS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base (non-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7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her’s SSN not on SSA databas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n-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ther’s DOB not matched on SS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base (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her’s DOB not matched on SS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base (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B4B-E22B-4171-8B20-D034687AFABB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Rejec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52440"/>
                <a:tab algn="l" pos="46980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rejects for dependent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  <a:tab algn="l" pos="2936880"/>
                <a:tab algn="l" pos="3054240"/>
                <a:tab algn="l" pos="317196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12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f taxes paid amount is greater than or equal to AGI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n-verifiable rejec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  <a:tab algn="l" pos="2936880"/>
                <a:tab algn="l" pos="3054240"/>
                <a:tab algn="l" pos="317196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G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f taxes paid amount is less than AGI, but greater than 40% of AGI (verifiable rejec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j0183406" descr=""/>
          <p:cNvPicPr/>
          <p:nvPr/>
        </p:nvPicPr>
        <p:blipFill>
          <a:blip r:embed="rId1"/>
          <a:stretch/>
        </p:blipFill>
        <p:spPr>
          <a:xfrm>
            <a:off x="7010280" y="666720"/>
            <a:ext cx="129384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7DD-D8A5-4DEC-A3D3-B8A95E966EEA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Warning Commen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135160"/>
            <a:ext cx="76183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warning comment code for paper filers who reported parent’s marital status as single, but provided two parent SS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S re-engineered to be a Multi-Year Applicant Database (MYAD) so it can perform cross-year edits to detect possible inconsistencies across application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799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j0213526(p)" descr="Click To Download"/>
          <p:cNvPicPr/>
          <p:nvPr/>
        </p:nvPicPr>
        <p:blipFill>
          <a:blip r:embed="rId1"/>
          <a:stretch/>
        </p:blipFill>
        <p:spPr>
          <a:xfrm>
            <a:off x="6859440" y="762120"/>
            <a:ext cx="1293840" cy="12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B1E-3B55-4CD7-A282-FBA7DBE9478B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1296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ff9933"/>
                </a:solidFill>
                <a:latin typeface="Arial"/>
              </a:rPr>
              <a:t>Application Result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ff9933"/>
                </a:solidFill>
                <a:latin typeface="Arial"/>
              </a:rPr>
              <a:t>Receiving and Reviewing Applicant Da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nstitution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E03865_" descr=""/>
          <p:cNvPicPr/>
          <p:nvPr/>
        </p:nvPicPr>
        <p:blipFill>
          <a:blip r:embed="rId1"/>
          <a:stretch/>
        </p:blipFill>
        <p:spPr>
          <a:xfrm>
            <a:off x="3886200" y="2973240"/>
            <a:ext cx="1897200" cy="20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518-37A3-4F00-A0D5-0604EB643885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The Institutional Student </a:t>
            </a:r>
            <a:br>
              <a:rPr sz="3400"/>
            </a:b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Information Report (ISIR)</a:t>
            </a:r>
            <a:endParaRPr b="0" lang="en-US" sz="3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3579840"/>
            <a:ext cx="381024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W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A Ac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SA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7960" y="3503160"/>
            <a:ext cx="380988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56844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56844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56844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ew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133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36720"/>
            <a:ext cx="7696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layout will follow order of paper FAFSA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Data Source/Data Type codes with alpha-numeric val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1AF-5CEA-4D6B-B9B1-106AD3A03AED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8480" y="53136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The Institutional Student 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Information Report (ISIR)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8120" y="1830240"/>
            <a:ext cx="68562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lag indicates whether transaction is result of address or e-mail address chang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play parent SSN match fla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FL00052_" descr=""/>
          <p:cNvPicPr/>
          <p:nvPr/>
        </p:nvPicPr>
        <p:blipFill>
          <a:blip r:embed="rId1"/>
          <a:stretch/>
        </p:blipFill>
        <p:spPr>
          <a:xfrm>
            <a:off x="4192560" y="4267080"/>
            <a:ext cx="126216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E5C-D47A-4D5F-A6DA-A97720B27193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9880" y="6868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ISIR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Verification Selection Proces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5160"/>
            <a:ext cx="81518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conduct IRS statistical studies to improve verification selection criteria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Tracking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anded to 4 characte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er numbers continue to have higher prior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BS01776_(p)" descr="Click To Download"/>
          <p:cNvPicPr/>
          <p:nvPr/>
        </p:nvPicPr>
        <p:blipFill>
          <a:blip r:embed="rId1"/>
          <a:stretch/>
        </p:blipFill>
        <p:spPr>
          <a:xfrm>
            <a:off x="7010280" y="68724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7B4-693E-4FD3-85EC-51379CD795B3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81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ISIR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essage Classes and Format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4960" y="1830240"/>
            <a:ext cx="815184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d number of message clas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wo input message classes (applications and correction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 output message classes (3 ISIR and 1 erro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s in XML format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2004-05, ISIRs will not be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2005-06, ISIRs will be in XML forma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2006-07, all schools will be required to receive ISIR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5F6-1C0B-4137-9059-65E4816B78C0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1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Moving to a Paperless Process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INs and Electronic Signatur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4280"/>
            <a:ext cx="38084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ce Nov. 1998, 26,938,372 individuals have received PI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2002-03, 4 million students and parents electronically signed the FAFSA using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 far in 2003-04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6 million have signed with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9760" y="2055960"/>
          <a:ext cx="4494240" cy="34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2055960"/>
                    <a:ext cx="44942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50D-840D-4643-B2AA-8E3E953443FA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Student Aid Report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428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 paper 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ted on white paper with pink wash across top of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ed variable text on first page of SAR when student has eligibility 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ent e-mail address printed on SAR, but will not be corre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3B6-DCD8-4A22-A539-6AF914C85F77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The Student Aid Report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4280"/>
            <a:ext cx="785016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 paper 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R instructs applicants that they must call FSAIC to request a copy of their SA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first page, under “You (the Student)”, variable text will be used for eligibility 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F79-511E-4898-BC49-72798C1E2D8E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The Student Aid Report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4960" y="159984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Paper SAR and SAR on the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649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der of the questions follow paper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649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inancial Aid Office Use Only box/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11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 changed to D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11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ent SSN match flag results display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SAR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649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-mail address displayed and can be corrected on the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49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0D8-C1B3-4B7C-A6D5-92F057BAEB81}" type="slidenum">
              <a:t>62</a:t>
            </a:fld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75428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Arial"/>
              </a:rPr>
              <a:t>Making Corrections to Applicant 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Verdana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nstitution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j0233858(p)" descr="Click To Download"/>
          <p:cNvPicPr/>
          <p:nvPr/>
        </p:nvPicPr>
        <p:blipFill>
          <a:blip r:embed="rId1"/>
          <a:stretch/>
        </p:blipFill>
        <p:spPr>
          <a:xfrm>
            <a:off x="3886200" y="3198960"/>
            <a:ext cx="1600200" cy="160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C9F-AFD0-4C25-9711-B258A59CC61E}" type="slidenum">
              <a:t>63</a:t>
            </a:fld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Making Correction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an correct data on their own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per S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rrections on the W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tudents eligible for real-time Web cor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an work with a school to make corrections via FAA Access to CPS On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y students eligible for real-time Web corr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an make corrections to certain fields by calling FSAIC at 1-800-4-FED-AI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BF5-647F-4D4C-ACAA-599185883034}" type="slidenum">
              <a:t>64</a:t>
            </a:fld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296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42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Student Corrections on the Web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Real-time Correction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6360" y="1754280"/>
            <a:ext cx="85312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is eligible for real-time corrections, reprocessed results appear immediately on confirma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ficial” EFC displa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link to Student Access on the Web where student can view and print corrected SAR in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separate e-mail s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7A2-1354-4832-9E3B-46AD676A6DF6}" type="slidenum">
              <a:t>65</a:t>
            </a:fld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5313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FAA Correction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Student Inquiry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8040" y="1830240"/>
            <a:ext cx="7927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display all transactions for stu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institution’s school code not listed on transaction no EFC will app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school code not on transaction, school can access with student’s DR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new Verification Work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lculates tolera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lays total “net” err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s option to create FAA Cor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ABF-14A1-4A17-A07E-BAD18968CA1F}" type="slidenum">
              <a:t>66</a:t>
            </a:fld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Making Correction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FAA Acces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9440" y="190512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include estimated taxes paid calculator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determine if correction affects student’s eligibility for Auto Zero EFC or S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firmation page will tell FAA if corrected transaction was selected for ver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tudent provided e-mail address, e-mail will inform students that a school has made corrections on their beh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CE7-1B99-40BC-B758-1071912CFEB6}" type="slidenum">
              <a:t>67</a:t>
            </a:fld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Other Noteworthy New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0480" indent="-330480">
              <a:lnSpc>
                <a:spcPct val="11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ded deadline dates for making corrections to the 2003-04 application data and beyo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480" indent="-330480">
              <a:lnSpc>
                <a:spcPct val="11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inframe Test System available in mid-November 20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-440280">
              <a:lnSpc>
                <a:spcPct val="12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testing of application and correction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-440280">
              <a:lnSpc>
                <a:spcPct val="12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must have TG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-440280">
              <a:lnSpc>
                <a:spcPct val="12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not required to have federal school 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15A-51BF-4599-A705-3E2DA1E69AC1}" type="slidenum">
              <a:t>68</a:t>
            </a:fld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Upcoming Conferences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-05 Application Processing Update Videoconference in October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Access Conferen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56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82680" y="-507960"/>
              <a:ext cx="478116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59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82680" y="-507960"/>
              <a:ext cx="478116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500" spc="-1" strike="noStrike" u="sng">
                  <a:solidFill>
                    <a:srgbClr val="3333cc"/>
                  </a:solidFill>
                  <a:uFillTx/>
                  <a:latin typeface="Verdana"/>
                  <a:hlinkClick r:id="rId1"/>
                </a:rPr>
                <a:t>Arlington, VA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(Aug 14 - 15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62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82680" y="-507960"/>
              <a:ext cx="478116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9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           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sandiegohotel" descr="San Diego skyline with hotel"/>
          <p:cNvPicPr/>
          <p:nvPr/>
        </p:nvPicPr>
        <p:blipFill>
          <a:blip r:embed="rId2"/>
          <a:stretch/>
        </p:blipFill>
        <p:spPr>
          <a:xfrm>
            <a:off x="1219320" y="3809880"/>
            <a:ext cx="1982520" cy="1600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1140840" y="5410080"/>
            <a:ext cx="1982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San Diego, C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(Nov. 2-5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67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82680" y="-507960"/>
              <a:ext cx="4781160" cy="12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        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neworleansbalcony" descr="New Orleans French Quarter  balcony"/>
          <p:cNvPicPr/>
          <p:nvPr/>
        </p:nvPicPr>
        <p:blipFill>
          <a:blip r:embed="rId4"/>
          <a:stretch/>
        </p:blipFill>
        <p:spPr>
          <a:xfrm>
            <a:off x="3886200" y="3809880"/>
            <a:ext cx="1982880" cy="160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732120" y="5410080"/>
            <a:ext cx="205920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5"/>
              </a:rPr>
              <a:t>New Orleans, L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(Dec. 2-5)</a:t>
            </a:r>
            <a:br>
              <a:rPr sz="25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096-48C3-4F47-B128-749727A81ABE}" type="slidenum">
              <a:t>69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531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Moving to a Paperless Process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-mail Messages with Links to PIN and SAR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42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3-04, over 5 million students provided e-mail addresses on their FAF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Januar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ver 5 million PIN e-mails s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ver 6 million SAR e-mails s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j0288900(p)" descr="Click To Download"/>
          <p:cNvPicPr/>
          <p:nvPr/>
        </p:nvPicPr>
        <p:blipFill>
          <a:blip r:embed="rId1"/>
          <a:stretch/>
        </p:blipFill>
        <p:spPr>
          <a:xfrm>
            <a:off x="3809880" y="48783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4E5-05CC-4FDF-90D8-A6CA976B569D}" type="slidenum">
              <a:t>7</a:t>
            </a:fld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Application Processing System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67000" y="2198160"/>
            <a:ext cx="603864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 1-800-330-5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cpswan@n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636-643F-4083-A2E0-C7DA9DC62192}" type="slidenum">
              <a:t>70</a:t>
            </a:fld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8040" y="531720"/>
            <a:ext cx="3963960" cy="5715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landscape" descr=""/>
          <p:cNvPicPr/>
          <p:nvPr/>
        </p:nvPicPr>
        <p:blipFill>
          <a:blip r:embed="rId1"/>
          <a:srcRect l="0" t="0" r="37886" b="0"/>
          <a:stretch/>
        </p:blipFill>
        <p:spPr>
          <a:xfrm>
            <a:off x="608040" y="2714760"/>
            <a:ext cx="7889760" cy="1904760"/>
          </a:xfrm>
          <a:prstGeom prst="rect">
            <a:avLst/>
          </a:prstGeom>
          <a:ln w="0">
            <a:noFill/>
          </a:ln>
        </p:spPr>
      </p:pic>
      <p:pic>
        <p:nvPicPr>
          <p:cNvPr id="275" name="225_logo" descr=""/>
          <p:cNvPicPr/>
          <p:nvPr/>
        </p:nvPicPr>
        <p:blipFill>
          <a:blip r:embed="rId2"/>
          <a:stretch/>
        </p:blipFill>
        <p:spPr>
          <a:xfrm>
            <a:off x="4579920" y="2666880"/>
            <a:ext cx="4029120" cy="19684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608040" y="6072120"/>
            <a:ext cx="7849800" cy="174240"/>
            <a:chOff x="608040" y="6072120"/>
            <a:chExt cx="7849800" cy="174240"/>
          </a:xfrm>
        </p:grpSpPr>
        <p:sp>
          <p:nvSpPr>
            <p:cNvPr id="277" name=""/>
            <p:cNvSpPr/>
            <p:nvPr/>
          </p:nvSpPr>
          <p:spPr>
            <a:xfrm>
              <a:off x="608040" y="6072120"/>
              <a:ext cx="7849800" cy="87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8040" y="6159960"/>
              <a:ext cx="7849800" cy="86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08040" y="380880"/>
            <a:ext cx="7849800" cy="174240"/>
            <a:chOff x="608040" y="380880"/>
            <a:chExt cx="7849800" cy="174240"/>
          </a:xfrm>
        </p:grpSpPr>
        <p:sp>
          <p:nvSpPr>
            <p:cNvPr id="280" name=""/>
            <p:cNvSpPr/>
            <p:nvPr/>
          </p:nvSpPr>
          <p:spPr>
            <a:xfrm>
              <a:off x="608040" y="380880"/>
              <a:ext cx="7849800" cy="878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040" y="468720"/>
              <a:ext cx="7849800" cy="86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Doefsa1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6372360" y="4842000"/>
            <a:ext cx="1095120" cy="1103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78240" y="1278000"/>
            <a:ext cx="3729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NASFAA 2003:  Reconnec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With Student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5960" y="531720"/>
            <a:ext cx="5946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mportant Date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87" name="j0139749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990720" cy="622440"/>
          </a:xfrm>
          <a:prstGeom prst="rect">
            <a:avLst/>
          </a:prstGeom>
          <a:ln w="0">
            <a:noFill/>
          </a:ln>
        </p:spPr>
      </p:pic>
      <p:pic>
        <p:nvPicPr>
          <p:cNvPr id="88" name="j0139765" descr=""/>
          <p:cNvPicPr/>
          <p:nvPr/>
        </p:nvPicPr>
        <p:blipFill>
          <a:blip r:embed="rId2"/>
          <a:stretch/>
        </p:blipFill>
        <p:spPr>
          <a:xfrm>
            <a:off x="534960" y="3579840"/>
            <a:ext cx="106380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7360" y="1674720"/>
            <a:ext cx="624816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9080" indent="-289080">
              <a:lnSpc>
                <a:spcPct val="10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deral School Code file updates due July 1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aft ISIR Layout available on IF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7360" y="3476520"/>
            <a:ext cx="63910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7160" indent="-22716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3508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ouncement explaining applic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ing system changes on IF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3508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DExpress announcement on IF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3508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5AD-64D7-4020-AE85-6B527E8390D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59418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mportant Date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92" name="j0139763" descr=""/>
          <p:cNvPicPr/>
          <p:nvPr/>
        </p:nvPicPr>
        <p:blipFill>
          <a:blip r:embed="rId1"/>
          <a:stretch/>
        </p:blipFill>
        <p:spPr>
          <a:xfrm>
            <a:off x="379440" y="1674720"/>
            <a:ext cx="1068480" cy="849240"/>
          </a:xfrm>
          <a:prstGeom prst="rect">
            <a:avLst/>
          </a:prstGeom>
          <a:ln w="0">
            <a:noFill/>
          </a:ln>
        </p:spPr>
      </p:pic>
      <p:pic>
        <p:nvPicPr>
          <p:cNvPr id="93" name="j0139747" descr=""/>
          <p:cNvPicPr/>
          <p:nvPr/>
        </p:nvPicPr>
        <p:blipFill>
          <a:blip r:embed="rId2"/>
          <a:stretch/>
        </p:blipFill>
        <p:spPr>
          <a:xfrm>
            <a:off x="306360" y="3960720"/>
            <a:ext cx="1141560" cy="68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27360" y="1449360"/>
            <a:ext cx="71658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o ISIRs on IF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Access to CPS announcement on IFA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FSA on the Web/PIN announcement on IF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d ISIR Layout in 2004-05 Technical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deral School Code List m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7360" y="3735360"/>
            <a:ext cx="6630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AFSA on the Web, Renewal FAFS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Web, Corrections on the Web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1:</a:t>
            </a:r>
            <a:r>
              <a:rPr b="0" lang="en-US" sz="2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Acces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2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pplication processing system starts u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0A6-32AB-4A31-B8DE-E547D93BDFB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Jennifer Hatton</cp:lastModifiedBy>
  <dcterms:modified xsi:type="dcterms:W3CDTF">2003-07-23T12:27:25Z</dcterms:modified>
  <cp:revision>614</cp:revision>
  <dc:subject/>
  <dc:title>PowerPoint Presentation</dc:title>
</cp:coreProperties>
</file>