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35.wmf" ContentType="image/x-wmf"/>
  <Override PartName="/ppt/media/image1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32.wmf" ContentType="image/x-wmf"/>
  <Override PartName="/ppt/media/image2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9BC9-209C-4A5C-874A-007B43E13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3707-A375-4C1B-896D-9594F176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7D16-799B-470F-9158-6FCD7D54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5B5D-26E4-46A0-8857-EEC501B11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F1C7-E697-44C8-B025-05CD7F52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4F03-8BDF-41D1-9796-29E92891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BCFA-66E0-4605-939B-3A6510B3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57F0-3595-4F86-A80E-03F6A324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6A99-F49A-4B03-B701-BD1D18EC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5361-D183-49DD-B0A1-F86867A1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40B1-4297-4838-A77E-77CA42EA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1F16-869A-4A04-AE24-ADB71BCC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New%20template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44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4CA7-DB80-46C3-9645-0A091C539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deral Updat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14400" y="4419360"/>
            <a:ext cx="7391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y J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ff B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 Madze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524880" y="2438280"/>
            <a:ext cx="1447920" cy="1086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124080" y="4343400"/>
            <a:ext cx="403884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B4E1-7DD9-45A2-8EB2-522F8C12F7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753480" y="2819520"/>
            <a:ext cx="1371600" cy="1028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6320" y="746280"/>
            <a:ext cx="55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www.studentaid.ed.g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37FC-5541-408C-A50D-BA007E23CC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0210680" y="25146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09680" y="4419720"/>
            <a:ext cx="449604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39C8-1EBF-4519-B728-9ADB30666D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601200" y="2895480"/>
            <a:ext cx="1371600" cy="1036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6320" y="746280"/>
            <a:ext cx="55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www.studentaid.ed.g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C450-0FF8-4AE3-A130-3C85B6018A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524880" y="2895480"/>
            <a:ext cx="1219320" cy="9115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486400" y="4572000"/>
            <a:ext cx="53352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320" y="746280"/>
            <a:ext cx="55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www.studentaid.ed.g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8AB5-1C31-44E7-ADFC-80E9A41F31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523880" y="1623960"/>
            <a:ext cx="6096240" cy="3610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523880" y="1623960"/>
            <a:ext cx="6096240" cy="3610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220320" cy="6913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2362320" y="1724040"/>
            <a:ext cx="6095880" cy="3610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286000" y="4267080"/>
            <a:ext cx="41148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320" y="746280"/>
            <a:ext cx="55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www.studentaid.ed.g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574A-C272-4BF0-BB50-505E6B9608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677520" y="2666880"/>
            <a:ext cx="1676160" cy="1257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447920" y="4648320"/>
            <a:ext cx="335268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4724280"/>
            <a:ext cx="533520" cy="304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37B0-7DB4-4C62-8917-159BCAFA4D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448920" y="2895480"/>
            <a:ext cx="1218960" cy="914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848720" y="2438280"/>
            <a:ext cx="11430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74D1-641C-4AEB-8D3B-FF72033713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829800" y="2666880"/>
            <a:ext cx="1066680" cy="768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029200" y="4038480"/>
            <a:ext cx="99072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320" y="746280"/>
            <a:ext cx="55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www.studentaid.ed.g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C646-8473-438B-96FB-3D73A38659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143000" y="547560"/>
            <a:ext cx="8001000" cy="5548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523880" y="4724280"/>
            <a:ext cx="213372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E3E7-5EE0-4A19-B32A-FD9998A7A6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33360" y="380880"/>
            <a:ext cx="5715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br>
              <a:rPr sz="4400"/>
            </a:b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AC Federal Up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lcome and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tting Aid Right at Point of Appl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tting Aid Right – Origination, Disbursement and Rep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tting Aid Right - Legal and Policy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ngs to Re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752480"/>
            <a:ext cx="784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8F0C-5A7C-4F0B-9D33-2095DB4AAD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295280" y="457200"/>
            <a:ext cx="7620120" cy="5495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1607-91B1-4CBD-8227-1F82F3EC71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A64F-54BB-4D2A-83EE-5ADFAE0E73B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829800" y="3048120"/>
            <a:ext cx="1295280" cy="955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920E-440A-4815-A027-935382815D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724280" y="4267080"/>
            <a:ext cx="42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Publication Date September 15, 200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52480" y="436680"/>
            <a:ext cx="70866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ar Colleague Lett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-03-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19600" y="2514600"/>
            <a:ext cx="419580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</a:rPr>
              <a:t>Inclusion of Schoo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</a:rPr>
              <a:t>Information on FSA’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</a:rPr>
              <a:t>Student Aid on the We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3733560" cy="4419720"/>
          </a:xfrm>
          <a:prstGeom prst="rect">
            <a:avLst/>
          </a:prstGeom>
          <a:ln w="0">
            <a:noFill/>
          </a:ln>
          <a:effectLst>
            <a:outerShdw dist="109184" dir="2128307" blurRad="0" rotWithShape="0">
              <a:srgbClr val="000000"/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C969-375F-4701-A6C2-22B5544762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33360" y="380880"/>
            <a:ext cx="5715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br>
              <a:rPr sz="4400"/>
            </a:b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AC Federal Up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4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Welcome and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4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Getting Aid Right at Point of Appl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tting Aid Right – Origination, Disbursement and Rep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4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Getting Aid Right - Legal and Policy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4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Things to Re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1752480"/>
            <a:ext cx="784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3581280"/>
            <a:ext cx="7086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7064-1025-4BB1-8261-44082438D8D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 flipH="1">
            <a:off x="5181480" y="4267080"/>
            <a:ext cx="243864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343040" y="2895480"/>
            <a:ext cx="152388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1523880" y="3276360"/>
            <a:ext cx="533520" cy="198108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923240" y="3156120"/>
            <a:ext cx="228600" cy="228600"/>
          </a:xfrm>
          <a:custGeom>
            <a:avLst/>
            <a:gdLst/>
            <a:ahLst/>
            <a:rect l="l" t="t" r="r" b="b"/>
            <a:pathLst>
              <a:path w="136" h="112">
                <a:moveTo>
                  <a:pt x="0" y="112"/>
                </a:moveTo>
                <a:lnTo>
                  <a:pt x="136" y="112"/>
                </a:lnTo>
                <a:lnTo>
                  <a:pt x="136" y="0"/>
                </a:lnTo>
                <a:lnTo>
                  <a:pt x="0" y="112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218360" y="3622680"/>
            <a:ext cx="878040" cy="64440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94320" y="3798720"/>
            <a:ext cx="75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FEL GAs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88280" y="3946680"/>
            <a:ext cx="55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29200" y="1917720"/>
            <a:ext cx="28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NSTITUTION SOLU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0800000">
            <a:off x="2819160" y="3276360"/>
            <a:ext cx="533160" cy="198108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F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4267080" y="3276360"/>
            <a:ext cx="533520" cy="198108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 rot="5400000">
            <a:off x="3770640" y="3314520"/>
            <a:ext cx="457200" cy="510516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S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0800000">
            <a:off x="5867280" y="3276360"/>
            <a:ext cx="533520" cy="198108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2255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2255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95680" y="2255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5880" y="2255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66760" y="2714760"/>
            <a:ext cx="219240" cy="183960"/>
          </a:xfrm>
          <a:custGeom>
            <a:avLst/>
            <a:gdLst/>
            <a:ahLst/>
            <a:rect l="l" t="t" r="r" b="b"/>
            <a:pathLst>
              <a:path w="136" h="112">
                <a:moveTo>
                  <a:pt x="0" y="112"/>
                </a:moveTo>
                <a:lnTo>
                  <a:pt x="136" y="112"/>
                </a:lnTo>
                <a:lnTo>
                  <a:pt x="136" y="0"/>
                </a:lnTo>
                <a:lnTo>
                  <a:pt x="0" y="112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2468520"/>
            <a:ext cx="989280" cy="430200"/>
          </a:xfrm>
          <a:custGeom>
            <a:avLst/>
            <a:gdLst/>
            <a:ahLst/>
            <a:rect l="l" t="t" r="r" b="b"/>
            <a:pathLst>
              <a:path w="613" h="262">
                <a:moveTo>
                  <a:pt x="0" y="262"/>
                </a:moveTo>
                <a:lnTo>
                  <a:pt x="477" y="262"/>
                </a:lnTo>
                <a:lnTo>
                  <a:pt x="613" y="150"/>
                </a:lnTo>
                <a:lnTo>
                  <a:pt x="613" y="0"/>
                </a:lnTo>
                <a:lnTo>
                  <a:pt x="0" y="0"/>
                </a:lnTo>
                <a:lnTo>
                  <a:pt x="0" y="262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60600" y="2463840"/>
            <a:ext cx="483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06960" y="2611440"/>
            <a:ext cx="581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ligibility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25400" y="2759040"/>
            <a:ext cx="374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62400" y="2722680"/>
            <a:ext cx="218880" cy="183960"/>
          </a:xfrm>
          <a:custGeom>
            <a:avLst/>
            <a:gdLst/>
            <a:ahLst/>
            <a:rect l="l" t="t" r="r" b="b"/>
            <a:pathLst>
              <a:path w="136" h="112">
                <a:moveTo>
                  <a:pt x="0" y="112"/>
                </a:moveTo>
                <a:lnTo>
                  <a:pt x="136" y="112"/>
                </a:lnTo>
                <a:lnTo>
                  <a:pt x="136" y="0"/>
                </a:lnTo>
                <a:lnTo>
                  <a:pt x="0" y="112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90920" y="2476440"/>
            <a:ext cx="988920" cy="430200"/>
          </a:xfrm>
          <a:custGeom>
            <a:avLst/>
            <a:gdLst/>
            <a:ahLst/>
            <a:rect l="l" t="t" r="r" b="b"/>
            <a:pathLst>
              <a:path w="613" h="262">
                <a:moveTo>
                  <a:pt x="0" y="262"/>
                </a:moveTo>
                <a:lnTo>
                  <a:pt x="477" y="262"/>
                </a:lnTo>
                <a:lnTo>
                  <a:pt x="613" y="150"/>
                </a:lnTo>
                <a:lnTo>
                  <a:pt x="613" y="0"/>
                </a:lnTo>
                <a:lnTo>
                  <a:pt x="0" y="0"/>
                </a:lnTo>
                <a:lnTo>
                  <a:pt x="0" y="262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73240" y="2624040"/>
            <a:ext cx="232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e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9960" y="2717640"/>
            <a:ext cx="219240" cy="184320"/>
          </a:xfrm>
          <a:custGeom>
            <a:avLst/>
            <a:gdLst/>
            <a:ahLst/>
            <a:rect l="l" t="t" r="r" b="b"/>
            <a:pathLst>
              <a:path w="136" h="112">
                <a:moveTo>
                  <a:pt x="0" y="112"/>
                </a:moveTo>
                <a:lnTo>
                  <a:pt x="136" y="112"/>
                </a:lnTo>
                <a:lnTo>
                  <a:pt x="136" y="0"/>
                </a:lnTo>
                <a:lnTo>
                  <a:pt x="0" y="112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38480" y="2471760"/>
            <a:ext cx="989280" cy="430200"/>
          </a:xfrm>
          <a:custGeom>
            <a:avLst/>
            <a:gdLst/>
            <a:ahLst/>
            <a:rect l="l" t="t" r="r" b="b"/>
            <a:pathLst>
              <a:path w="613" h="262">
                <a:moveTo>
                  <a:pt x="0" y="262"/>
                </a:moveTo>
                <a:lnTo>
                  <a:pt x="477" y="262"/>
                </a:lnTo>
                <a:lnTo>
                  <a:pt x="613" y="150"/>
                </a:lnTo>
                <a:lnTo>
                  <a:pt x="613" y="0"/>
                </a:lnTo>
                <a:lnTo>
                  <a:pt x="0" y="0"/>
                </a:lnTo>
                <a:lnTo>
                  <a:pt x="0" y="262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42680" y="2548080"/>
            <a:ext cx="366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re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2471760"/>
            <a:ext cx="989280" cy="430200"/>
          </a:xfrm>
          <a:custGeom>
            <a:avLst/>
            <a:gdLst/>
            <a:ahLst/>
            <a:rect l="l" t="t" r="r" b="b"/>
            <a:pathLst>
              <a:path w="613" h="262">
                <a:moveTo>
                  <a:pt x="0" y="262"/>
                </a:moveTo>
                <a:lnTo>
                  <a:pt x="477" y="262"/>
                </a:lnTo>
                <a:lnTo>
                  <a:pt x="613" y="150"/>
                </a:lnTo>
                <a:lnTo>
                  <a:pt x="613" y="0"/>
                </a:lnTo>
                <a:lnTo>
                  <a:pt x="0" y="0"/>
                </a:lnTo>
                <a:lnTo>
                  <a:pt x="0" y="262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10160" y="2712960"/>
            <a:ext cx="219240" cy="184320"/>
          </a:xfrm>
          <a:custGeom>
            <a:avLst/>
            <a:gdLst/>
            <a:ahLst/>
            <a:rect l="l" t="t" r="r" b="b"/>
            <a:pathLst>
              <a:path w="136" h="112">
                <a:moveTo>
                  <a:pt x="0" y="112"/>
                </a:moveTo>
                <a:lnTo>
                  <a:pt x="136" y="112"/>
                </a:lnTo>
                <a:lnTo>
                  <a:pt x="136" y="0"/>
                </a:lnTo>
                <a:lnTo>
                  <a:pt x="0" y="112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42880" y="2560680"/>
            <a:ext cx="522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amp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588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525780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525780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53080" y="2209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01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2946240"/>
            <a:ext cx="988920" cy="438480"/>
          </a:xfrm>
          <a:custGeom>
            <a:avLst/>
            <a:gdLst/>
            <a:ahLst/>
            <a:rect l="l" t="t" r="r" b="b"/>
            <a:pathLst>
              <a:path w="613" h="225">
                <a:moveTo>
                  <a:pt x="0" y="225"/>
                </a:moveTo>
                <a:lnTo>
                  <a:pt x="477" y="225"/>
                </a:lnTo>
                <a:lnTo>
                  <a:pt x="613" y="113"/>
                </a:lnTo>
                <a:lnTo>
                  <a:pt x="613" y="0"/>
                </a:lnTo>
                <a:lnTo>
                  <a:pt x="0" y="0"/>
                </a:lnTo>
                <a:lnTo>
                  <a:pt x="0" y="225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474680" y="3057480"/>
            <a:ext cx="281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F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0120" y="2209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1000" y="1905120"/>
            <a:ext cx="5054400" cy="33660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itution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315200" y="1523880"/>
            <a:ext cx="1487520" cy="610200"/>
            <a:chOff x="7315200" y="1523880"/>
            <a:chExt cx="1487520" cy="610200"/>
          </a:xfrm>
        </p:grpSpPr>
        <p:sp>
          <p:nvSpPr>
            <p:cNvPr id="164" name=""/>
            <p:cNvSpPr/>
            <p:nvPr/>
          </p:nvSpPr>
          <p:spPr>
            <a:xfrm>
              <a:off x="7380360" y="1995480"/>
              <a:ext cx="69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94480" y="1995480"/>
              <a:ext cx="399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331400" y="1600200"/>
              <a:ext cx="1370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 Packaged Solu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336080" y="1776240"/>
              <a:ext cx="857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 EDExpr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334280" y="1951200"/>
              <a:ext cx="1468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 Homegrown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15200" y="1523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315200" y="21337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15200" y="15238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 flipH="1">
            <a:off x="6552720" y="1828800"/>
            <a:ext cx="76212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or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F3F6-06E2-49FF-9FE7-86DD1F6483A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 – Targe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88920" y="3565440"/>
            <a:ext cx="6591240" cy="267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8892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03400" y="6237360"/>
            <a:ext cx="712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1752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33440" y="6237360"/>
            <a:ext cx="684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4612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60600" y="6237360"/>
            <a:ext cx="712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7472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8920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0332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17800" y="6237360"/>
            <a:ext cx="712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3192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4640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59080" y="6237360"/>
            <a:ext cx="712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7500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8912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0360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1772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3040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632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6080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492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8760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02080" y="6237360"/>
            <a:ext cx="712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18000" y="6237360"/>
            <a:ext cx="680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3212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4480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59280" y="6237360"/>
            <a:ext cx="712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7340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89320" y="6237360"/>
            <a:ext cx="684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0200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16480" y="6237360"/>
            <a:ext cx="712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3060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64508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61000" y="6237360"/>
            <a:ext cx="680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73680" y="6237360"/>
            <a:ext cx="712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8780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0228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1640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088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4500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5948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7360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8628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0220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16680" y="6237360"/>
            <a:ext cx="680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3080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24348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57960" y="6237360"/>
            <a:ext cx="712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7388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588000" y="6237360"/>
            <a:ext cx="684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0248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15160" y="6237360"/>
            <a:ext cx="712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2928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045200" y="6237360"/>
            <a:ext cx="684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159680" y="6237360"/>
            <a:ext cx="680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272360" y="6237360"/>
            <a:ext cx="712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38648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50096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7580160" y="614808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7580160" y="605124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7580160" y="595584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7580160" y="586080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7580160" y="576396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7580160" y="566856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7580160" y="557352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7580160" y="547668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7580160" y="538128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7580160" y="5286240"/>
            <a:ext cx="1800" cy="60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580160" y="5189400"/>
            <a:ext cx="1800" cy="60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7580160" y="5094000"/>
            <a:ext cx="1800" cy="60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7580160" y="4998960"/>
            <a:ext cx="1800" cy="60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7580160" y="4902120"/>
            <a:ext cx="1800" cy="60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580160" y="4806720"/>
            <a:ext cx="1800" cy="60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7580160" y="471132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7580160" y="4614840"/>
            <a:ext cx="1800" cy="60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7580160" y="4519440"/>
            <a:ext cx="1800" cy="60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580160" y="442404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7580160" y="4327200"/>
            <a:ext cx="1800" cy="60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7580160" y="4232160"/>
            <a:ext cx="1800" cy="60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7580160" y="4135320"/>
            <a:ext cx="1800" cy="60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80160" y="404136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7580160" y="394632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7580160" y="384948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7580160" y="375408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7580160" y="3659040"/>
            <a:ext cx="1800" cy="59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77280" y="3565440"/>
            <a:ext cx="2880" cy="55800"/>
          </a:xfrm>
          <a:custGeom>
            <a:avLst/>
            <a:gdLst/>
            <a:ahLst/>
            <a:rect l="l" t="t" r="r" b="b"/>
            <a:pathLst>
              <a:path w="1" h="23">
                <a:moveTo>
                  <a:pt x="1" y="23"/>
                </a:moveTo>
                <a:lnTo>
                  <a:pt x="1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7462440" y="3565440"/>
            <a:ext cx="716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7350120" y="3565440"/>
            <a:ext cx="684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7235640" y="3565440"/>
            <a:ext cx="680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712008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7005240" y="3565440"/>
            <a:ext cx="716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689148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6778440" y="3565440"/>
            <a:ext cx="680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6664320" y="3565440"/>
            <a:ext cx="684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548040" y="3565440"/>
            <a:ext cx="716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643428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632160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207120" y="3565440"/>
            <a:ext cx="684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609300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97708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586440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574992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563580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52132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540720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529272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517860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506412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95000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83552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72140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60692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449280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4379760" y="3565440"/>
            <a:ext cx="684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26420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14972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403560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392256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3808440" y="3565440"/>
            <a:ext cx="684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369252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57840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346536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335124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323676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12120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00672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289404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2779200" y="3565440"/>
            <a:ext cx="716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266544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54952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243684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232236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220824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09376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197964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186516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175104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1636200" y="3565440"/>
            <a:ext cx="716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1523880" y="3565440"/>
            <a:ext cx="684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140796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29384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1179000" y="3565440"/>
            <a:ext cx="716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106668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88920" y="3565440"/>
            <a:ext cx="31680" cy="30240"/>
          </a:xfrm>
          <a:custGeom>
            <a:avLst/>
            <a:gdLst/>
            <a:ahLst/>
            <a:rect l="l" t="t" r="r" b="b"/>
            <a:pathLst>
              <a:path w="11" h="13">
                <a:moveTo>
                  <a:pt x="11" y="0"/>
                </a:moveTo>
                <a:lnTo>
                  <a:pt x="0" y="0"/>
                </a:lnTo>
                <a:lnTo>
                  <a:pt x="0" y="13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88920" y="363384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88920" y="3728880"/>
            <a:ext cx="1800" cy="59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88920" y="382428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88920" y="392112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88920" y="401652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88920" y="4113360"/>
            <a:ext cx="1800" cy="56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88920" y="420840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88920" y="430380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88920" y="4400640"/>
            <a:ext cx="180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88920" y="449568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88920" y="459108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88920" y="468792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88920" y="4782960"/>
            <a:ext cx="1800" cy="59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88920" y="487836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88920" y="497520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988920" y="507060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88920" y="516564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88920" y="526248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88920" y="535788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88920" y="5452920"/>
            <a:ext cx="1800" cy="59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88920" y="5549760"/>
            <a:ext cx="1800" cy="59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88920" y="564516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988920" y="574056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988920" y="583740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988920" y="593244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988920" y="6029280"/>
            <a:ext cx="180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988920" y="612468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88920" y="6219720"/>
            <a:ext cx="1800" cy="17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208160" y="3747960"/>
            <a:ext cx="2398680" cy="92232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41360" y="4106880"/>
            <a:ext cx="181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tudent Applicant Da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257800" y="2757600"/>
            <a:ext cx="219240" cy="183960"/>
          </a:xfrm>
          <a:custGeom>
            <a:avLst/>
            <a:gdLst/>
            <a:ahLst/>
            <a:rect l="l" t="t" r="r" b="b"/>
            <a:pathLst>
              <a:path w="136" h="112">
                <a:moveTo>
                  <a:pt x="0" y="112"/>
                </a:moveTo>
                <a:lnTo>
                  <a:pt x="136" y="112"/>
                </a:lnTo>
                <a:lnTo>
                  <a:pt x="136" y="0"/>
                </a:lnTo>
                <a:lnTo>
                  <a:pt x="0" y="112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87760" y="2511360"/>
            <a:ext cx="989280" cy="430200"/>
          </a:xfrm>
          <a:custGeom>
            <a:avLst/>
            <a:gdLst/>
            <a:ahLst/>
            <a:rect l="l" t="t" r="r" b="b"/>
            <a:pathLst>
              <a:path w="613" h="262">
                <a:moveTo>
                  <a:pt x="0" y="262"/>
                </a:moveTo>
                <a:lnTo>
                  <a:pt x="477" y="262"/>
                </a:lnTo>
                <a:lnTo>
                  <a:pt x="613" y="150"/>
                </a:lnTo>
                <a:lnTo>
                  <a:pt x="613" y="0"/>
                </a:lnTo>
                <a:lnTo>
                  <a:pt x="0" y="0"/>
                </a:lnTo>
                <a:lnTo>
                  <a:pt x="0" y="262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619160" y="2506680"/>
            <a:ext cx="556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igin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58200" y="2654280"/>
            <a:ext cx="19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525200" y="280188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burs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772480" y="2489040"/>
            <a:ext cx="219240" cy="184320"/>
          </a:xfrm>
          <a:custGeom>
            <a:avLst/>
            <a:gdLst/>
            <a:ahLst/>
            <a:rect l="l" t="t" r="r" b="b"/>
            <a:pathLst>
              <a:path w="136" h="112">
                <a:moveTo>
                  <a:pt x="0" y="112"/>
                </a:moveTo>
                <a:lnTo>
                  <a:pt x="136" y="112"/>
                </a:lnTo>
                <a:lnTo>
                  <a:pt x="136" y="0"/>
                </a:lnTo>
                <a:lnTo>
                  <a:pt x="0" y="112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002440" y="2305080"/>
            <a:ext cx="989280" cy="368280"/>
          </a:xfrm>
          <a:custGeom>
            <a:avLst/>
            <a:gdLst/>
            <a:ahLst/>
            <a:rect l="l" t="t" r="r" b="b"/>
            <a:pathLst>
              <a:path w="613" h="225">
                <a:moveTo>
                  <a:pt x="0" y="225"/>
                </a:moveTo>
                <a:lnTo>
                  <a:pt x="477" y="225"/>
                </a:lnTo>
                <a:lnTo>
                  <a:pt x="613" y="113"/>
                </a:lnTo>
                <a:lnTo>
                  <a:pt x="613" y="0"/>
                </a:lnTo>
                <a:lnTo>
                  <a:pt x="0" y="0"/>
                </a:lnTo>
                <a:lnTo>
                  <a:pt x="0" y="225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314560" y="2416320"/>
            <a:ext cx="281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F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58240" y="2981160"/>
            <a:ext cx="877680" cy="64476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133120" y="3157560"/>
            <a:ext cx="56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FFEL GA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229240" y="3305160"/>
            <a:ext cx="416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Lend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497800" y="2673360"/>
            <a:ext cx="1800" cy="258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464680" y="2922480"/>
            <a:ext cx="68040" cy="58680"/>
          </a:xfrm>
          <a:custGeom>
            <a:avLst/>
            <a:gdLst/>
            <a:ahLst/>
            <a:rect l="l" t="t" r="r" b="b"/>
            <a:pathLst>
              <a:path w="42" h="35">
                <a:moveTo>
                  <a:pt x="42" y="0"/>
                </a:moveTo>
                <a:lnTo>
                  <a:pt x="20" y="35"/>
                </a:lnTo>
                <a:lnTo>
                  <a:pt x="0" y="0"/>
                </a:lnTo>
                <a:lnTo>
                  <a:pt x="4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1000" y="1600200"/>
            <a:ext cx="5054400" cy="33660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329200" y="1612800"/>
            <a:ext cx="28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NSTITUTION SOLU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048200" y="1936800"/>
            <a:ext cx="933480" cy="525240"/>
          </a:xfrm>
          <a:custGeom>
            <a:avLst/>
            <a:gdLst/>
            <a:ahLst/>
            <a:rect l="l" t="t" r="r" b="b"/>
            <a:pathLst>
              <a:path w="578" h="320">
                <a:moveTo>
                  <a:pt x="0" y="0"/>
                </a:moveTo>
                <a:lnTo>
                  <a:pt x="0" y="244"/>
                </a:lnTo>
                <a:lnTo>
                  <a:pt x="578" y="244"/>
                </a:lnTo>
                <a:lnTo>
                  <a:pt x="578" y="32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948200" y="2455920"/>
            <a:ext cx="65160" cy="55440"/>
          </a:xfrm>
          <a:custGeom>
            <a:avLst/>
            <a:gdLst/>
            <a:ahLst/>
            <a:rect l="l" t="t" r="r" b="b"/>
            <a:pathLst>
              <a:path w="41" h="34">
                <a:moveTo>
                  <a:pt x="41" y="0"/>
                </a:moveTo>
                <a:lnTo>
                  <a:pt x="21" y="34"/>
                </a:lnTo>
                <a:lnTo>
                  <a:pt x="0" y="0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208160" y="4762440"/>
            <a:ext cx="2398680" cy="92232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384920" y="5119560"/>
            <a:ext cx="1729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chool Eligibility Da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28960" y="3747960"/>
            <a:ext cx="2306880" cy="922320"/>
          </a:xfrm>
          <a:prstGeom prst="rect">
            <a:avLst/>
          </a:prstGeom>
          <a:solidFill>
            <a:srgbClr val="ff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457160" y="3813120"/>
            <a:ext cx="1216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rigination an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30240" y="4008600"/>
            <a:ext cx="1098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sbursem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179600" y="4205160"/>
            <a:ext cx="1683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Pell, Campus-Based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402080"/>
            <a:ext cx="1052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rect Loan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28960" y="4762440"/>
            <a:ext cx="2306880" cy="92232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80040" y="5119560"/>
            <a:ext cx="1180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oan Servic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243480" y="3747960"/>
            <a:ext cx="1117800" cy="193680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79560" y="4416480"/>
            <a:ext cx="713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nan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04760" y="4611600"/>
            <a:ext cx="668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anage-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568200" y="4808520"/>
            <a:ext cx="393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08160" y="5783400"/>
            <a:ext cx="6153120" cy="36036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03080" y="5861160"/>
            <a:ext cx="1482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SLDS Version 2.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538440" y="3119400"/>
            <a:ext cx="1015920" cy="347760"/>
          </a:xfrm>
          <a:custGeom>
            <a:avLst/>
            <a:gdLst/>
            <a:ahLst/>
            <a:rect l="l" t="t" r="r" b="b"/>
            <a:pathLst>
              <a:path w="630" h="211">
                <a:moveTo>
                  <a:pt x="136" y="211"/>
                </a:moveTo>
                <a:lnTo>
                  <a:pt x="493" y="211"/>
                </a:lnTo>
                <a:lnTo>
                  <a:pt x="630" y="0"/>
                </a:lnTo>
                <a:lnTo>
                  <a:pt x="0" y="0"/>
                </a:lnTo>
                <a:lnTo>
                  <a:pt x="136" y="211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48200" y="2941560"/>
            <a:ext cx="933480" cy="177840"/>
          </a:xfrm>
          <a:custGeom>
            <a:avLst/>
            <a:gdLst/>
            <a:ahLst/>
            <a:rect l="l" t="t" r="r" b="b"/>
            <a:pathLst>
              <a:path w="578" h="109">
                <a:moveTo>
                  <a:pt x="578" y="0"/>
                </a:moveTo>
                <a:lnTo>
                  <a:pt x="578" y="81"/>
                </a:lnTo>
                <a:lnTo>
                  <a:pt x="0" y="81"/>
                </a:lnTo>
                <a:lnTo>
                  <a:pt x="0" y="109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013280" y="3063960"/>
            <a:ext cx="66600" cy="55440"/>
          </a:xfrm>
          <a:custGeom>
            <a:avLst/>
            <a:gdLst/>
            <a:ahLst/>
            <a:rect l="l" t="t" r="r" b="b"/>
            <a:pathLst>
              <a:path w="42" h="34">
                <a:moveTo>
                  <a:pt x="42" y="0"/>
                </a:moveTo>
                <a:lnTo>
                  <a:pt x="22" y="34"/>
                </a:lnTo>
                <a:lnTo>
                  <a:pt x="0" y="0"/>
                </a:lnTo>
                <a:lnTo>
                  <a:pt x="4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048200" y="3467160"/>
            <a:ext cx="1440" cy="63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013280" y="3522600"/>
            <a:ext cx="66600" cy="57240"/>
          </a:xfrm>
          <a:custGeom>
            <a:avLst/>
            <a:gdLst/>
            <a:ahLst/>
            <a:rect l="l" t="t" r="r" b="b"/>
            <a:pathLst>
              <a:path w="42" h="35">
                <a:moveTo>
                  <a:pt x="0" y="0"/>
                </a:moveTo>
                <a:lnTo>
                  <a:pt x="22" y="35"/>
                </a:lnTo>
                <a:lnTo>
                  <a:pt x="4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418520" y="3625920"/>
            <a:ext cx="1079280" cy="2338200"/>
          </a:xfrm>
          <a:custGeom>
            <a:avLst/>
            <a:gdLst/>
            <a:ahLst/>
            <a:rect l="l" t="t" r="r" b="b"/>
            <a:pathLst>
              <a:path w="668" h="1425">
                <a:moveTo>
                  <a:pt x="668" y="0"/>
                </a:moveTo>
                <a:lnTo>
                  <a:pt x="668" y="1425"/>
                </a:lnTo>
                <a:lnTo>
                  <a:pt x="0" y="1425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361280" y="5935680"/>
            <a:ext cx="68400" cy="55440"/>
          </a:xfrm>
          <a:custGeom>
            <a:avLst/>
            <a:gdLst/>
            <a:ahLst/>
            <a:rect l="l" t="t" r="r" b="b"/>
            <a:pathLst>
              <a:path w="42" h="34">
                <a:moveTo>
                  <a:pt x="42" y="34"/>
                </a:moveTo>
                <a:lnTo>
                  <a:pt x="0" y="18"/>
                </a:lnTo>
                <a:lnTo>
                  <a:pt x="42" y="0"/>
                </a:lnTo>
                <a:lnTo>
                  <a:pt x="42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444840" y="2757600"/>
            <a:ext cx="219240" cy="183960"/>
          </a:xfrm>
          <a:custGeom>
            <a:avLst/>
            <a:gdLst/>
            <a:ahLst/>
            <a:rect l="l" t="t" r="r" b="b"/>
            <a:pathLst>
              <a:path w="136" h="112">
                <a:moveTo>
                  <a:pt x="0" y="112"/>
                </a:moveTo>
                <a:lnTo>
                  <a:pt x="136" y="112"/>
                </a:lnTo>
                <a:lnTo>
                  <a:pt x="136" y="0"/>
                </a:lnTo>
                <a:lnTo>
                  <a:pt x="0" y="112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674800" y="2511360"/>
            <a:ext cx="989280" cy="430200"/>
          </a:xfrm>
          <a:custGeom>
            <a:avLst/>
            <a:gdLst/>
            <a:ahLst/>
            <a:rect l="l" t="t" r="r" b="b"/>
            <a:pathLst>
              <a:path w="613" h="262">
                <a:moveTo>
                  <a:pt x="0" y="262"/>
                </a:moveTo>
                <a:lnTo>
                  <a:pt x="477" y="262"/>
                </a:lnTo>
                <a:lnTo>
                  <a:pt x="613" y="150"/>
                </a:lnTo>
                <a:lnTo>
                  <a:pt x="613" y="0"/>
                </a:lnTo>
                <a:lnTo>
                  <a:pt x="0" y="0"/>
                </a:lnTo>
                <a:lnTo>
                  <a:pt x="0" y="262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911320" y="2506680"/>
            <a:ext cx="39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853000" y="2654280"/>
            <a:ext cx="482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igibility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976120" y="2801880"/>
            <a:ext cx="30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68720" y="1936800"/>
            <a:ext cx="879480" cy="525240"/>
          </a:xfrm>
          <a:custGeom>
            <a:avLst/>
            <a:gdLst/>
            <a:ahLst/>
            <a:rect l="l" t="t" r="r" b="b"/>
            <a:pathLst>
              <a:path w="545" h="320">
                <a:moveTo>
                  <a:pt x="545" y="0"/>
                </a:moveTo>
                <a:lnTo>
                  <a:pt x="545" y="244"/>
                </a:lnTo>
                <a:lnTo>
                  <a:pt x="0" y="244"/>
                </a:lnTo>
                <a:lnTo>
                  <a:pt x="0" y="32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135240" y="2455920"/>
            <a:ext cx="65160" cy="55440"/>
          </a:xfrm>
          <a:custGeom>
            <a:avLst/>
            <a:gdLst/>
            <a:ahLst/>
            <a:rect l="l" t="t" r="r" b="b"/>
            <a:pathLst>
              <a:path w="41" h="34">
                <a:moveTo>
                  <a:pt x="41" y="0"/>
                </a:moveTo>
                <a:lnTo>
                  <a:pt x="21" y="34"/>
                </a:lnTo>
                <a:lnTo>
                  <a:pt x="0" y="0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168720" y="2941560"/>
            <a:ext cx="879480" cy="177840"/>
          </a:xfrm>
          <a:custGeom>
            <a:avLst/>
            <a:gdLst/>
            <a:ahLst/>
            <a:rect l="l" t="t" r="r" b="b"/>
            <a:pathLst>
              <a:path w="545" h="109">
                <a:moveTo>
                  <a:pt x="0" y="0"/>
                </a:moveTo>
                <a:lnTo>
                  <a:pt x="0" y="81"/>
                </a:lnTo>
                <a:lnTo>
                  <a:pt x="545" y="81"/>
                </a:lnTo>
                <a:lnTo>
                  <a:pt x="545" y="109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013280" y="3063960"/>
            <a:ext cx="66600" cy="55440"/>
          </a:xfrm>
          <a:custGeom>
            <a:avLst/>
            <a:gdLst/>
            <a:ahLst/>
            <a:rect l="l" t="t" r="r" b="b"/>
            <a:pathLst>
              <a:path w="42" h="34">
                <a:moveTo>
                  <a:pt x="42" y="0"/>
                </a:moveTo>
                <a:lnTo>
                  <a:pt x="22" y="34"/>
                </a:lnTo>
                <a:lnTo>
                  <a:pt x="0" y="0"/>
                </a:lnTo>
                <a:lnTo>
                  <a:pt x="4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048200" y="1936800"/>
            <a:ext cx="4449600" cy="318960"/>
          </a:xfrm>
          <a:custGeom>
            <a:avLst/>
            <a:gdLst/>
            <a:ahLst/>
            <a:rect l="l" t="t" r="r" b="b"/>
            <a:pathLst>
              <a:path w="2756" h="194">
                <a:moveTo>
                  <a:pt x="0" y="0"/>
                </a:moveTo>
                <a:lnTo>
                  <a:pt x="0" y="75"/>
                </a:lnTo>
                <a:lnTo>
                  <a:pt x="2756" y="75"/>
                </a:lnTo>
                <a:lnTo>
                  <a:pt x="2756" y="194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464680" y="2247840"/>
            <a:ext cx="68040" cy="57240"/>
          </a:xfrm>
          <a:custGeom>
            <a:avLst/>
            <a:gdLst/>
            <a:ahLst/>
            <a:rect l="l" t="t" r="r" b="b"/>
            <a:pathLst>
              <a:path w="42" h="34">
                <a:moveTo>
                  <a:pt x="42" y="0"/>
                </a:moveTo>
                <a:lnTo>
                  <a:pt x="20" y="34"/>
                </a:lnTo>
                <a:lnTo>
                  <a:pt x="0" y="0"/>
                </a:lnTo>
                <a:lnTo>
                  <a:pt x="4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93680" y="3156120"/>
            <a:ext cx="53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RTAL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AI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511360" y="2057400"/>
            <a:ext cx="6175440" cy="196920"/>
          </a:xfrm>
          <a:prstGeom prst="rect">
            <a:avLst/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028480" y="2077920"/>
            <a:ext cx="1128600" cy="1677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mon Recor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7315200" y="1371600"/>
            <a:ext cx="1487520" cy="609840"/>
            <a:chOff x="7315200" y="1371600"/>
            <a:chExt cx="1487520" cy="609840"/>
          </a:xfrm>
        </p:grpSpPr>
        <p:sp>
          <p:nvSpPr>
            <p:cNvPr id="404" name=""/>
            <p:cNvSpPr/>
            <p:nvPr/>
          </p:nvSpPr>
          <p:spPr>
            <a:xfrm>
              <a:off x="7380360" y="1842840"/>
              <a:ext cx="698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494480" y="1842840"/>
              <a:ext cx="3996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331400" y="1447560"/>
              <a:ext cx="1370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 Packaged Solu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336080" y="1623600"/>
              <a:ext cx="857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 EDExpr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334280" y="1798560"/>
              <a:ext cx="1468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 Homegrown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315200" y="13716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315200" y="19810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315200" y="13716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 flipH="1">
            <a:off x="6552720" y="1676520"/>
            <a:ext cx="762120" cy="75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E243-1B8B-4A29-9577-BA8E6F1D905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 – Targe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988920" y="3565440"/>
            <a:ext cx="6591240" cy="267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8892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103400" y="6237360"/>
            <a:ext cx="712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21752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333440" y="6237360"/>
            <a:ext cx="684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44612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560600" y="6237360"/>
            <a:ext cx="712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67472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78920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0332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017800" y="6237360"/>
            <a:ext cx="712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13192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24640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359080" y="6237360"/>
            <a:ext cx="712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47500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58912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70360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81772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93040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4632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16080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38760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502080" y="6237360"/>
            <a:ext cx="712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618000" y="6237360"/>
            <a:ext cx="680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3212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4480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959280" y="6237360"/>
            <a:ext cx="712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07340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189320" y="6237360"/>
            <a:ext cx="684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30200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416480" y="6237360"/>
            <a:ext cx="712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3060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64508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761000" y="6237360"/>
            <a:ext cx="680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73680" y="6237360"/>
            <a:ext cx="712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8780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10228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21640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33088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4500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55948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67360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8628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90220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16680" y="6237360"/>
            <a:ext cx="680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3080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24348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357960" y="6237360"/>
            <a:ext cx="712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47388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588000" y="6237360"/>
            <a:ext cx="684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70248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815160" y="6237360"/>
            <a:ext cx="712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2928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045200" y="6237360"/>
            <a:ext cx="684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159680" y="6237360"/>
            <a:ext cx="680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272360" y="6237360"/>
            <a:ext cx="712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38648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50096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7580160" y="614808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7580160" y="605124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7580160" y="595584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7580160" y="586080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7580160" y="576396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7580160" y="566856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7580160" y="557352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7580160" y="547668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7580160" y="538128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7580160" y="5286240"/>
            <a:ext cx="1800" cy="60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7580160" y="5189400"/>
            <a:ext cx="1800" cy="60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7580160" y="5094000"/>
            <a:ext cx="1800" cy="60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7580160" y="4998960"/>
            <a:ext cx="1800" cy="60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580160" y="4902120"/>
            <a:ext cx="1800" cy="60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7580160" y="4806720"/>
            <a:ext cx="1800" cy="60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580160" y="471132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7580160" y="4614840"/>
            <a:ext cx="1800" cy="60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7580160" y="4519440"/>
            <a:ext cx="1800" cy="60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7580160" y="442404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7580160" y="4327200"/>
            <a:ext cx="1800" cy="60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7580160" y="4232160"/>
            <a:ext cx="1800" cy="60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7580160" y="4135320"/>
            <a:ext cx="1800" cy="60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7580160" y="404136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7580160" y="394632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7580160" y="384948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7580160" y="375408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7580160" y="3659040"/>
            <a:ext cx="1800" cy="59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577280" y="3565440"/>
            <a:ext cx="2880" cy="55800"/>
          </a:xfrm>
          <a:custGeom>
            <a:avLst/>
            <a:gdLst/>
            <a:ahLst/>
            <a:rect l="l" t="t" r="r" b="b"/>
            <a:pathLst>
              <a:path w="1" h="23">
                <a:moveTo>
                  <a:pt x="1" y="23"/>
                </a:moveTo>
                <a:lnTo>
                  <a:pt x="1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7462440" y="3565440"/>
            <a:ext cx="716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7350120" y="3565440"/>
            <a:ext cx="684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7235640" y="3565440"/>
            <a:ext cx="680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712008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7005240" y="3565440"/>
            <a:ext cx="716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689148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6778440" y="3565440"/>
            <a:ext cx="680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6664320" y="3565440"/>
            <a:ext cx="684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6548040" y="3565440"/>
            <a:ext cx="716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643428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632160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6207120" y="3565440"/>
            <a:ext cx="684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609300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597708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586440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574992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563580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552132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540720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529272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517860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506412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495000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483552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472140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460692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449280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4379760" y="3565440"/>
            <a:ext cx="684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426420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414972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403560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392256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3808440" y="3565440"/>
            <a:ext cx="684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369252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357840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346536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335124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323676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312120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00672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289404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2779200" y="3565440"/>
            <a:ext cx="716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266544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254952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243684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232236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220824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209376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197964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86516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175104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1636200" y="3565440"/>
            <a:ext cx="716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1523880" y="3565440"/>
            <a:ext cx="684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140796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129384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1179000" y="3565440"/>
            <a:ext cx="716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106668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988920" y="3565440"/>
            <a:ext cx="31680" cy="30240"/>
          </a:xfrm>
          <a:custGeom>
            <a:avLst/>
            <a:gdLst/>
            <a:ahLst/>
            <a:rect l="l" t="t" r="r" b="b"/>
            <a:pathLst>
              <a:path w="11" h="13">
                <a:moveTo>
                  <a:pt x="11" y="0"/>
                </a:moveTo>
                <a:lnTo>
                  <a:pt x="0" y="0"/>
                </a:lnTo>
                <a:lnTo>
                  <a:pt x="0" y="13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988920" y="363384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88920" y="3728880"/>
            <a:ext cx="1800" cy="59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988920" y="382428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988920" y="392112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88920" y="401652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988920" y="4113360"/>
            <a:ext cx="1800" cy="56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988920" y="420840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988920" y="430380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988920" y="4400640"/>
            <a:ext cx="180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988920" y="449568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988920" y="459108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88920" y="468792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88920" y="4782960"/>
            <a:ext cx="1800" cy="59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988920" y="487836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988920" y="497520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988920" y="507060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988920" y="516564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88920" y="526248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988920" y="535788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988920" y="5452920"/>
            <a:ext cx="1800" cy="59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988920" y="5549760"/>
            <a:ext cx="1800" cy="59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988920" y="564516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988920" y="574056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988920" y="583740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988920" y="593244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988920" y="6029280"/>
            <a:ext cx="180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988920" y="612468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988920" y="6219720"/>
            <a:ext cx="1800" cy="17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208160" y="3747960"/>
            <a:ext cx="2398680" cy="92232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341360" y="4106880"/>
            <a:ext cx="181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tudent Applicant Da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2757600"/>
            <a:ext cx="219240" cy="183960"/>
          </a:xfrm>
          <a:custGeom>
            <a:avLst/>
            <a:gdLst/>
            <a:ahLst/>
            <a:rect l="l" t="t" r="r" b="b"/>
            <a:pathLst>
              <a:path w="136" h="112">
                <a:moveTo>
                  <a:pt x="0" y="112"/>
                </a:moveTo>
                <a:lnTo>
                  <a:pt x="136" y="112"/>
                </a:lnTo>
                <a:lnTo>
                  <a:pt x="136" y="0"/>
                </a:lnTo>
                <a:lnTo>
                  <a:pt x="0" y="112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487760" y="2511360"/>
            <a:ext cx="989280" cy="430200"/>
          </a:xfrm>
          <a:custGeom>
            <a:avLst/>
            <a:gdLst/>
            <a:ahLst/>
            <a:rect l="l" t="t" r="r" b="b"/>
            <a:pathLst>
              <a:path w="613" h="262">
                <a:moveTo>
                  <a:pt x="0" y="262"/>
                </a:moveTo>
                <a:lnTo>
                  <a:pt x="477" y="262"/>
                </a:lnTo>
                <a:lnTo>
                  <a:pt x="613" y="150"/>
                </a:lnTo>
                <a:lnTo>
                  <a:pt x="613" y="0"/>
                </a:lnTo>
                <a:lnTo>
                  <a:pt x="0" y="0"/>
                </a:lnTo>
                <a:lnTo>
                  <a:pt x="0" y="262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619160" y="2506680"/>
            <a:ext cx="556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igin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858200" y="2654280"/>
            <a:ext cx="19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525200" y="280188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burs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772480" y="2489040"/>
            <a:ext cx="219240" cy="184320"/>
          </a:xfrm>
          <a:custGeom>
            <a:avLst/>
            <a:gdLst/>
            <a:ahLst/>
            <a:rect l="l" t="t" r="r" b="b"/>
            <a:pathLst>
              <a:path w="136" h="112">
                <a:moveTo>
                  <a:pt x="0" y="112"/>
                </a:moveTo>
                <a:lnTo>
                  <a:pt x="136" y="112"/>
                </a:lnTo>
                <a:lnTo>
                  <a:pt x="136" y="0"/>
                </a:lnTo>
                <a:lnTo>
                  <a:pt x="0" y="112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002440" y="2305080"/>
            <a:ext cx="989280" cy="368280"/>
          </a:xfrm>
          <a:custGeom>
            <a:avLst/>
            <a:gdLst/>
            <a:ahLst/>
            <a:rect l="l" t="t" r="r" b="b"/>
            <a:pathLst>
              <a:path w="613" h="225">
                <a:moveTo>
                  <a:pt x="0" y="225"/>
                </a:moveTo>
                <a:lnTo>
                  <a:pt x="477" y="225"/>
                </a:lnTo>
                <a:lnTo>
                  <a:pt x="613" y="113"/>
                </a:lnTo>
                <a:lnTo>
                  <a:pt x="613" y="0"/>
                </a:lnTo>
                <a:lnTo>
                  <a:pt x="0" y="0"/>
                </a:lnTo>
                <a:lnTo>
                  <a:pt x="0" y="225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14560" y="2416320"/>
            <a:ext cx="281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F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058240" y="2981160"/>
            <a:ext cx="877680" cy="64476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133120" y="3157560"/>
            <a:ext cx="56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FFEL GA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229240" y="3305160"/>
            <a:ext cx="416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Lend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497800" y="2673360"/>
            <a:ext cx="1800" cy="258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8464680" y="2922480"/>
            <a:ext cx="68040" cy="58680"/>
          </a:xfrm>
          <a:custGeom>
            <a:avLst/>
            <a:gdLst/>
            <a:ahLst/>
            <a:rect l="l" t="t" r="r" b="b"/>
            <a:pathLst>
              <a:path w="42" h="35">
                <a:moveTo>
                  <a:pt x="42" y="0"/>
                </a:moveTo>
                <a:lnTo>
                  <a:pt x="20" y="35"/>
                </a:lnTo>
                <a:lnTo>
                  <a:pt x="0" y="0"/>
                </a:lnTo>
                <a:lnTo>
                  <a:pt x="4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521000" y="1600200"/>
            <a:ext cx="5054400" cy="33660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329200" y="1612800"/>
            <a:ext cx="28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NSTITUTION SOLU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048200" y="1936800"/>
            <a:ext cx="933480" cy="525240"/>
          </a:xfrm>
          <a:custGeom>
            <a:avLst/>
            <a:gdLst/>
            <a:ahLst/>
            <a:rect l="l" t="t" r="r" b="b"/>
            <a:pathLst>
              <a:path w="578" h="320">
                <a:moveTo>
                  <a:pt x="0" y="0"/>
                </a:moveTo>
                <a:lnTo>
                  <a:pt x="0" y="244"/>
                </a:lnTo>
                <a:lnTo>
                  <a:pt x="578" y="244"/>
                </a:lnTo>
                <a:lnTo>
                  <a:pt x="578" y="32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948200" y="2455920"/>
            <a:ext cx="65160" cy="55440"/>
          </a:xfrm>
          <a:custGeom>
            <a:avLst/>
            <a:gdLst/>
            <a:ahLst/>
            <a:rect l="l" t="t" r="r" b="b"/>
            <a:pathLst>
              <a:path w="41" h="34">
                <a:moveTo>
                  <a:pt x="41" y="0"/>
                </a:moveTo>
                <a:lnTo>
                  <a:pt x="21" y="34"/>
                </a:lnTo>
                <a:lnTo>
                  <a:pt x="0" y="0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208160" y="4762440"/>
            <a:ext cx="2398680" cy="92232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384920" y="5119560"/>
            <a:ext cx="1729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chool Eligibility Da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828960" y="3747960"/>
            <a:ext cx="2306880" cy="92232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258800" y="3813120"/>
            <a:ext cx="1216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rigination an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331520" y="4008600"/>
            <a:ext cx="1098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sbursem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980880" y="4205160"/>
            <a:ext cx="1683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Pell, Campus-Based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357800" y="4402080"/>
            <a:ext cx="1052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rect Loan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28960" y="4762440"/>
            <a:ext cx="2306880" cy="92232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280040" y="5119560"/>
            <a:ext cx="1180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oan Servic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243480" y="3747960"/>
            <a:ext cx="1117800" cy="1936800"/>
          </a:xfrm>
          <a:prstGeom prst="rect">
            <a:avLst/>
          </a:prstGeom>
          <a:solidFill>
            <a:srgbClr val="ff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379560" y="4416480"/>
            <a:ext cx="713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nan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404760" y="4611600"/>
            <a:ext cx="668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anage-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568200" y="4808520"/>
            <a:ext cx="393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208160" y="5783400"/>
            <a:ext cx="6153120" cy="36036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403080" y="5861160"/>
            <a:ext cx="1482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SLDS Version 2.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538440" y="3119400"/>
            <a:ext cx="1015920" cy="347760"/>
          </a:xfrm>
          <a:custGeom>
            <a:avLst/>
            <a:gdLst/>
            <a:ahLst/>
            <a:rect l="l" t="t" r="r" b="b"/>
            <a:pathLst>
              <a:path w="630" h="211">
                <a:moveTo>
                  <a:pt x="136" y="211"/>
                </a:moveTo>
                <a:lnTo>
                  <a:pt x="493" y="211"/>
                </a:lnTo>
                <a:lnTo>
                  <a:pt x="630" y="0"/>
                </a:lnTo>
                <a:lnTo>
                  <a:pt x="0" y="0"/>
                </a:lnTo>
                <a:lnTo>
                  <a:pt x="136" y="211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048200" y="2941560"/>
            <a:ext cx="933480" cy="177840"/>
          </a:xfrm>
          <a:custGeom>
            <a:avLst/>
            <a:gdLst/>
            <a:ahLst/>
            <a:rect l="l" t="t" r="r" b="b"/>
            <a:pathLst>
              <a:path w="578" h="109">
                <a:moveTo>
                  <a:pt x="578" y="0"/>
                </a:moveTo>
                <a:lnTo>
                  <a:pt x="578" y="81"/>
                </a:lnTo>
                <a:lnTo>
                  <a:pt x="0" y="81"/>
                </a:lnTo>
                <a:lnTo>
                  <a:pt x="0" y="109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013280" y="3063960"/>
            <a:ext cx="66600" cy="55440"/>
          </a:xfrm>
          <a:custGeom>
            <a:avLst/>
            <a:gdLst/>
            <a:ahLst/>
            <a:rect l="l" t="t" r="r" b="b"/>
            <a:pathLst>
              <a:path w="42" h="34">
                <a:moveTo>
                  <a:pt x="42" y="0"/>
                </a:moveTo>
                <a:lnTo>
                  <a:pt x="22" y="34"/>
                </a:lnTo>
                <a:lnTo>
                  <a:pt x="0" y="0"/>
                </a:lnTo>
                <a:lnTo>
                  <a:pt x="4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048200" y="3467160"/>
            <a:ext cx="1440" cy="63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013280" y="3522600"/>
            <a:ext cx="66600" cy="57240"/>
          </a:xfrm>
          <a:custGeom>
            <a:avLst/>
            <a:gdLst/>
            <a:ahLst/>
            <a:rect l="l" t="t" r="r" b="b"/>
            <a:pathLst>
              <a:path w="42" h="35">
                <a:moveTo>
                  <a:pt x="0" y="0"/>
                </a:moveTo>
                <a:lnTo>
                  <a:pt x="22" y="35"/>
                </a:lnTo>
                <a:lnTo>
                  <a:pt x="4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418520" y="3625920"/>
            <a:ext cx="1079280" cy="2338200"/>
          </a:xfrm>
          <a:custGeom>
            <a:avLst/>
            <a:gdLst/>
            <a:ahLst/>
            <a:rect l="l" t="t" r="r" b="b"/>
            <a:pathLst>
              <a:path w="668" h="1425">
                <a:moveTo>
                  <a:pt x="668" y="0"/>
                </a:moveTo>
                <a:lnTo>
                  <a:pt x="668" y="1425"/>
                </a:lnTo>
                <a:lnTo>
                  <a:pt x="0" y="1425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361280" y="5935680"/>
            <a:ext cx="68400" cy="55440"/>
          </a:xfrm>
          <a:custGeom>
            <a:avLst/>
            <a:gdLst/>
            <a:ahLst/>
            <a:rect l="l" t="t" r="r" b="b"/>
            <a:pathLst>
              <a:path w="42" h="34">
                <a:moveTo>
                  <a:pt x="42" y="34"/>
                </a:moveTo>
                <a:lnTo>
                  <a:pt x="0" y="18"/>
                </a:lnTo>
                <a:lnTo>
                  <a:pt x="42" y="0"/>
                </a:lnTo>
                <a:lnTo>
                  <a:pt x="42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444840" y="2757600"/>
            <a:ext cx="219240" cy="183960"/>
          </a:xfrm>
          <a:custGeom>
            <a:avLst/>
            <a:gdLst/>
            <a:ahLst/>
            <a:rect l="l" t="t" r="r" b="b"/>
            <a:pathLst>
              <a:path w="136" h="112">
                <a:moveTo>
                  <a:pt x="0" y="112"/>
                </a:moveTo>
                <a:lnTo>
                  <a:pt x="136" y="112"/>
                </a:lnTo>
                <a:lnTo>
                  <a:pt x="136" y="0"/>
                </a:lnTo>
                <a:lnTo>
                  <a:pt x="0" y="112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674800" y="2511360"/>
            <a:ext cx="989280" cy="430200"/>
          </a:xfrm>
          <a:custGeom>
            <a:avLst/>
            <a:gdLst/>
            <a:ahLst/>
            <a:rect l="l" t="t" r="r" b="b"/>
            <a:pathLst>
              <a:path w="613" h="262">
                <a:moveTo>
                  <a:pt x="0" y="262"/>
                </a:moveTo>
                <a:lnTo>
                  <a:pt x="477" y="262"/>
                </a:lnTo>
                <a:lnTo>
                  <a:pt x="613" y="150"/>
                </a:lnTo>
                <a:lnTo>
                  <a:pt x="613" y="0"/>
                </a:lnTo>
                <a:lnTo>
                  <a:pt x="0" y="0"/>
                </a:lnTo>
                <a:lnTo>
                  <a:pt x="0" y="262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911320" y="2506680"/>
            <a:ext cx="39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853000" y="2654280"/>
            <a:ext cx="482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igibility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976120" y="2801880"/>
            <a:ext cx="30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68720" y="1936800"/>
            <a:ext cx="879480" cy="525240"/>
          </a:xfrm>
          <a:custGeom>
            <a:avLst/>
            <a:gdLst/>
            <a:ahLst/>
            <a:rect l="l" t="t" r="r" b="b"/>
            <a:pathLst>
              <a:path w="545" h="320">
                <a:moveTo>
                  <a:pt x="545" y="0"/>
                </a:moveTo>
                <a:lnTo>
                  <a:pt x="545" y="244"/>
                </a:lnTo>
                <a:lnTo>
                  <a:pt x="0" y="244"/>
                </a:lnTo>
                <a:lnTo>
                  <a:pt x="0" y="32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35240" y="2455920"/>
            <a:ext cx="65160" cy="55440"/>
          </a:xfrm>
          <a:custGeom>
            <a:avLst/>
            <a:gdLst/>
            <a:ahLst/>
            <a:rect l="l" t="t" r="r" b="b"/>
            <a:pathLst>
              <a:path w="41" h="34">
                <a:moveTo>
                  <a:pt x="41" y="0"/>
                </a:moveTo>
                <a:lnTo>
                  <a:pt x="21" y="34"/>
                </a:lnTo>
                <a:lnTo>
                  <a:pt x="0" y="0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168720" y="2941560"/>
            <a:ext cx="879480" cy="177840"/>
          </a:xfrm>
          <a:custGeom>
            <a:avLst/>
            <a:gdLst/>
            <a:ahLst/>
            <a:rect l="l" t="t" r="r" b="b"/>
            <a:pathLst>
              <a:path w="545" h="109">
                <a:moveTo>
                  <a:pt x="0" y="0"/>
                </a:moveTo>
                <a:lnTo>
                  <a:pt x="0" y="81"/>
                </a:lnTo>
                <a:lnTo>
                  <a:pt x="545" y="81"/>
                </a:lnTo>
                <a:lnTo>
                  <a:pt x="545" y="109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013280" y="3063960"/>
            <a:ext cx="66600" cy="55440"/>
          </a:xfrm>
          <a:custGeom>
            <a:avLst/>
            <a:gdLst/>
            <a:ahLst/>
            <a:rect l="l" t="t" r="r" b="b"/>
            <a:pathLst>
              <a:path w="42" h="34">
                <a:moveTo>
                  <a:pt x="42" y="0"/>
                </a:moveTo>
                <a:lnTo>
                  <a:pt x="22" y="34"/>
                </a:lnTo>
                <a:lnTo>
                  <a:pt x="0" y="0"/>
                </a:lnTo>
                <a:lnTo>
                  <a:pt x="4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048200" y="1936800"/>
            <a:ext cx="4449600" cy="318960"/>
          </a:xfrm>
          <a:custGeom>
            <a:avLst/>
            <a:gdLst/>
            <a:ahLst/>
            <a:rect l="l" t="t" r="r" b="b"/>
            <a:pathLst>
              <a:path w="2756" h="194">
                <a:moveTo>
                  <a:pt x="0" y="0"/>
                </a:moveTo>
                <a:lnTo>
                  <a:pt x="0" y="75"/>
                </a:lnTo>
                <a:lnTo>
                  <a:pt x="2756" y="75"/>
                </a:lnTo>
                <a:lnTo>
                  <a:pt x="2756" y="194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8464680" y="2247840"/>
            <a:ext cx="68040" cy="57240"/>
          </a:xfrm>
          <a:custGeom>
            <a:avLst/>
            <a:gdLst/>
            <a:ahLst/>
            <a:rect l="l" t="t" r="r" b="b"/>
            <a:pathLst>
              <a:path w="42" h="34">
                <a:moveTo>
                  <a:pt x="42" y="0"/>
                </a:moveTo>
                <a:lnTo>
                  <a:pt x="20" y="34"/>
                </a:lnTo>
                <a:lnTo>
                  <a:pt x="0" y="0"/>
                </a:lnTo>
                <a:lnTo>
                  <a:pt x="4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511360" y="2013120"/>
            <a:ext cx="6175440" cy="19656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028480" y="2033640"/>
            <a:ext cx="1128600" cy="1677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mon Recor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793680" y="3156120"/>
            <a:ext cx="53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RTAL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AI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7315200" y="1371600"/>
            <a:ext cx="1487520" cy="609840"/>
            <a:chOff x="7315200" y="1371600"/>
            <a:chExt cx="1487520" cy="609840"/>
          </a:xfrm>
        </p:grpSpPr>
        <p:sp>
          <p:nvSpPr>
            <p:cNvPr id="643" name=""/>
            <p:cNvSpPr/>
            <p:nvPr/>
          </p:nvSpPr>
          <p:spPr>
            <a:xfrm>
              <a:off x="7380360" y="1842840"/>
              <a:ext cx="698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494480" y="1842840"/>
              <a:ext cx="3996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331400" y="1447560"/>
              <a:ext cx="1370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 Packaged Solu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336080" y="1623600"/>
              <a:ext cx="857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 EDExpr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334280" y="1798560"/>
              <a:ext cx="1468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 Homegrown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315200" y="13716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315200" y="19810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315200" y="13716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 flipH="1">
            <a:off x="6552720" y="1676520"/>
            <a:ext cx="762120" cy="75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310E-44F2-402B-BA88-6A2093260F2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 – Targe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988920" y="3565440"/>
            <a:ext cx="6591240" cy="267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98892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103400" y="6237360"/>
            <a:ext cx="712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21752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333440" y="6237360"/>
            <a:ext cx="684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44612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560600" y="6237360"/>
            <a:ext cx="712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67472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78920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90332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017800" y="6237360"/>
            <a:ext cx="712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13192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4640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359080" y="6237360"/>
            <a:ext cx="712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47500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58912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70360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81772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3040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04632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16080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27492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38760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502080" y="6237360"/>
            <a:ext cx="712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618000" y="6237360"/>
            <a:ext cx="680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73212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4480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959280" y="6237360"/>
            <a:ext cx="712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07340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189320" y="6237360"/>
            <a:ext cx="684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0200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416480" y="6237360"/>
            <a:ext cx="712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53060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64508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761000" y="6237360"/>
            <a:ext cx="680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873680" y="6237360"/>
            <a:ext cx="712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98780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10228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21640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33088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44500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55948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67360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78628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90220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016680" y="6237360"/>
            <a:ext cx="680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13080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24348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357960" y="6237360"/>
            <a:ext cx="712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47388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588000" y="6237360"/>
            <a:ext cx="684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70248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815160" y="6237360"/>
            <a:ext cx="712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92928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045200" y="6237360"/>
            <a:ext cx="684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159680" y="6237360"/>
            <a:ext cx="680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272360" y="6237360"/>
            <a:ext cx="712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38648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50096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7580160" y="614808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7580160" y="605124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7580160" y="595584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7580160" y="586080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7580160" y="576396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7580160" y="566856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7580160" y="557352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7580160" y="547668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7580160" y="538128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7580160" y="5286240"/>
            <a:ext cx="1800" cy="60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7580160" y="5189400"/>
            <a:ext cx="1800" cy="60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7580160" y="5094000"/>
            <a:ext cx="1800" cy="60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7580160" y="4998960"/>
            <a:ext cx="1800" cy="60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7580160" y="4902120"/>
            <a:ext cx="1800" cy="60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7580160" y="4806720"/>
            <a:ext cx="1800" cy="60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7580160" y="471132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7580160" y="4614840"/>
            <a:ext cx="1800" cy="60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7580160" y="4519440"/>
            <a:ext cx="1800" cy="60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7580160" y="442404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7580160" y="4327200"/>
            <a:ext cx="1800" cy="60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7580160" y="4232160"/>
            <a:ext cx="1800" cy="60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7580160" y="4135320"/>
            <a:ext cx="1800" cy="60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7580160" y="404136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7580160" y="394632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7580160" y="384948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7580160" y="375408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7580160" y="3659040"/>
            <a:ext cx="1800" cy="59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577280" y="3565440"/>
            <a:ext cx="2880" cy="55800"/>
          </a:xfrm>
          <a:custGeom>
            <a:avLst/>
            <a:gdLst/>
            <a:ahLst/>
            <a:rect l="l" t="t" r="r" b="b"/>
            <a:pathLst>
              <a:path w="1" h="23">
                <a:moveTo>
                  <a:pt x="1" y="23"/>
                </a:moveTo>
                <a:lnTo>
                  <a:pt x="1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7462440" y="3565440"/>
            <a:ext cx="716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7350120" y="3565440"/>
            <a:ext cx="684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7235640" y="3565440"/>
            <a:ext cx="680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712008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7005240" y="3565440"/>
            <a:ext cx="716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689148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6778440" y="3565440"/>
            <a:ext cx="680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6664320" y="3565440"/>
            <a:ext cx="684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6548040" y="3565440"/>
            <a:ext cx="716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643428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632160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6207120" y="3565440"/>
            <a:ext cx="684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609300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597708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586440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574992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563580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552132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540720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529272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517860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506412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495000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483552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472140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460692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449280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4379760" y="3565440"/>
            <a:ext cx="684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426420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414972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403560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392256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3808440" y="3565440"/>
            <a:ext cx="684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369252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357840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346536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335124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323676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312120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300672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289404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2779200" y="3565440"/>
            <a:ext cx="716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266544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254952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243684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232236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220824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209376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197964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186516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175104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1636200" y="3565440"/>
            <a:ext cx="716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1523880" y="3565440"/>
            <a:ext cx="684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140796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129384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1179000" y="3565440"/>
            <a:ext cx="716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106668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988920" y="3565440"/>
            <a:ext cx="31680" cy="30240"/>
          </a:xfrm>
          <a:custGeom>
            <a:avLst/>
            <a:gdLst/>
            <a:ahLst/>
            <a:rect l="l" t="t" r="r" b="b"/>
            <a:pathLst>
              <a:path w="11" h="13">
                <a:moveTo>
                  <a:pt x="11" y="0"/>
                </a:moveTo>
                <a:lnTo>
                  <a:pt x="0" y="0"/>
                </a:lnTo>
                <a:lnTo>
                  <a:pt x="0" y="13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988920" y="363384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988920" y="3728880"/>
            <a:ext cx="1800" cy="59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988920" y="382428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988920" y="392112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988920" y="401652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988920" y="4113360"/>
            <a:ext cx="1800" cy="56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988920" y="420840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988920" y="430380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988920" y="4400640"/>
            <a:ext cx="180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988920" y="449568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988920" y="459108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988920" y="468792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988920" y="4782960"/>
            <a:ext cx="1800" cy="59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988920" y="487836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988920" y="497520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988920" y="507060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988920" y="516564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988920" y="526248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988920" y="535788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988920" y="5452920"/>
            <a:ext cx="1800" cy="59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988920" y="5549760"/>
            <a:ext cx="1800" cy="59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988920" y="564516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988920" y="574056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988920" y="583740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988920" y="593244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988920" y="6029280"/>
            <a:ext cx="180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988920" y="612468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988920" y="6219720"/>
            <a:ext cx="1800" cy="17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208160" y="3747960"/>
            <a:ext cx="2398680" cy="92232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341360" y="4106880"/>
            <a:ext cx="181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tudent Applicant Da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257800" y="2757600"/>
            <a:ext cx="219240" cy="183960"/>
          </a:xfrm>
          <a:custGeom>
            <a:avLst/>
            <a:gdLst/>
            <a:ahLst/>
            <a:rect l="l" t="t" r="r" b="b"/>
            <a:pathLst>
              <a:path w="136" h="112">
                <a:moveTo>
                  <a:pt x="0" y="112"/>
                </a:moveTo>
                <a:lnTo>
                  <a:pt x="136" y="112"/>
                </a:lnTo>
                <a:lnTo>
                  <a:pt x="136" y="0"/>
                </a:lnTo>
                <a:lnTo>
                  <a:pt x="0" y="112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487760" y="2511360"/>
            <a:ext cx="989280" cy="430200"/>
          </a:xfrm>
          <a:custGeom>
            <a:avLst/>
            <a:gdLst/>
            <a:ahLst/>
            <a:rect l="l" t="t" r="r" b="b"/>
            <a:pathLst>
              <a:path w="613" h="262">
                <a:moveTo>
                  <a:pt x="0" y="262"/>
                </a:moveTo>
                <a:lnTo>
                  <a:pt x="477" y="262"/>
                </a:lnTo>
                <a:lnTo>
                  <a:pt x="613" y="150"/>
                </a:lnTo>
                <a:lnTo>
                  <a:pt x="613" y="0"/>
                </a:lnTo>
                <a:lnTo>
                  <a:pt x="0" y="0"/>
                </a:lnTo>
                <a:lnTo>
                  <a:pt x="0" y="262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619160" y="2506680"/>
            <a:ext cx="556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igin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858200" y="2654280"/>
            <a:ext cx="19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525200" y="280188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burs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772480" y="2489040"/>
            <a:ext cx="219240" cy="184320"/>
          </a:xfrm>
          <a:custGeom>
            <a:avLst/>
            <a:gdLst/>
            <a:ahLst/>
            <a:rect l="l" t="t" r="r" b="b"/>
            <a:pathLst>
              <a:path w="136" h="112">
                <a:moveTo>
                  <a:pt x="0" y="112"/>
                </a:moveTo>
                <a:lnTo>
                  <a:pt x="136" y="112"/>
                </a:lnTo>
                <a:lnTo>
                  <a:pt x="136" y="0"/>
                </a:lnTo>
                <a:lnTo>
                  <a:pt x="0" y="112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002440" y="2305080"/>
            <a:ext cx="989280" cy="368280"/>
          </a:xfrm>
          <a:custGeom>
            <a:avLst/>
            <a:gdLst/>
            <a:ahLst/>
            <a:rect l="l" t="t" r="r" b="b"/>
            <a:pathLst>
              <a:path w="613" h="225">
                <a:moveTo>
                  <a:pt x="0" y="225"/>
                </a:moveTo>
                <a:lnTo>
                  <a:pt x="477" y="225"/>
                </a:lnTo>
                <a:lnTo>
                  <a:pt x="613" y="113"/>
                </a:lnTo>
                <a:lnTo>
                  <a:pt x="613" y="0"/>
                </a:lnTo>
                <a:lnTo>
                  <a:pt x="0" y="0"/>
                </a:lnTo>
                <a:lnTo>
                  <a:pt x="0" y="225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314560" y="2416320"/>
            <a:ext cx="281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F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058240" y="2981160"/>
            <a:ext cx="877680" cy="64476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133120" y="3157560"/>
            <a:ext cx="56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FFEL GA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229240" y="3305160"/>
            <a:ext cx="416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Lend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8497800" y="2673360"/>
            <a:ext cx="1800" cy="258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8464680" y="2922480"/>
            <a:ext cx="68040" cy="58680"/>
          </a:xfrm>
          <a:custGeom>
            <a:avLst/>
            <a:gdLst/>
            <a:ahLst/>
            <a:rect l="l" t="t" r="r" b="b"/>
            <a:pathLst>
              <a:path w="42" h="35">
                <a:moveTo>
                  <a:pt x="42" y="0"/>
                </a:moveTo>
                <a:lnTo>
                  <a:pt x="20" y="35"/>
                </a:lnTo>
                <a:lnTo>
                  <a:pt x="0" y="0"/>
                </a:lnTo>
                <a:lnTo>
                  <a:pt x="4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521000" y="1600200"/>
            <a:ext cx="5054400" cy="33660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329200" y="1612800"/>
            <a:ext cx="28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NSTITUTION SOLU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048200" y="1936800"/>
            <a:ext cx="933480" cy="525240"/>
          </a:xfrm>
          <a:custGeom>
            <a:avLst/>
            <a:gdLst/>
            <a:ahLst/>
            <a:rect l="l" t="t" r="r" b="b"/>
            <a:pathLst>
              <a:path w="578" h="320">
                <a:moveTo>
                  <a:pt x="0" y="0"/>
                </a:moveTo>
                <a:lnTo>
                  <a:pt x="0" y="244"/>
                </a:lnTo>
                <a:lnTo>
                  <a:pt x="578" y="244"/>
                </a:lnTo>
                <a:lnTo>
                  <a:pt x="578" y="32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948200" y="2455920"/>
            <a:ext cx="65160" cy="55440"/>
          </a:xfrm>
          <a:custGeom>
            <a:avLst/>
            <a:gdLst/>
            <a:ahLst/>
            <a:rect l="l" t="t" r="r" b="b"/>
            <a:pathLst>
              <a:path w="41" h="34">
                <a:moveTo>
                  <a:pt x="41" y="0"/>
                </a:moveTo>
                <a:lnTo>
                  <a:pt x="21" y="34"/>
                </a:lnTo>
                <a:lnTo>
                  <a:pt x="0" y="0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208160" y="4762440"/>
            <a:ext cx="2398680" cy="92232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384920" y="5119560"/>
            <a:ext cx="1729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chool Eligibility Da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828960" y="3747960"/>
            <a:ext cx="2306880" cy="92232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258800" y="3813120"/>
            <a:ext cx="1216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rigination an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331520" y="4008600"/>
            <a:ext cx="1098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sbursem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980880" y="4205160"/>
            <a:ext cx="1683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Pell, Campus-Based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357800" y="4402080"/>
            <a:ext cx="1052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rect Loan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828960" y="4762440"/>
            <a:ext cx="2306880" cy="92232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280040" y="5119560"/>
            <a:ext cx="1180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oan Servic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243480" y="3747960"/>
            <a:ext cx="1117800" cy="19368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379560" y="4416480"/>
            <a:ext cx="713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nan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404760" y="4611600"/>
            <a:ext cx="668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anage-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568200" y="4808520"/>
            <a:ext cx="393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208160" y="5783400"/>
            <a:ext cx="6153120" cy="36036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403080" y="5861160"/>
            <a:ext cx="1482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SLDS Version 2.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538440" y="3119400"/>
            <a:ext cx="1015920" cy="347760"/>
          </a:xfrm>
          <a:custGeom>
            <a:avLst/>
            <a:gdLst/>
            <a:ahLst/>
            <a:rect l="l" t="t" r="r" b="b"/>
            <a:pathLst>
              <a:path w="630" h="211">
                <a:moveTo>
                  <a:pt x="136" y="211"/>
                </a:moveTo>
                <a:lnTo>
                  <a:pt x="493" y="211"/>
                </a:lnTo>
                <a:lnTo>
                  <a:pt x="630" y="0"/>
                </a:lnTo>
                <a:lnTo>
                  <a:pt x="0" y="0"/>
                </a:lnTo>
                <a:lnTo>
                  <a:pt x="136" y="211"/>
                </a:lnTo>
                <a:close/>
              </a:path>
            </a:pathLst>
          </a:custGeom>
          <a:solidFill>
            <a:srgbClr val="ff66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048200" y="2941560"/>
            <a:ext cx="933480" cy="177840"/>
          </a:xfrm>
          <a:custGeom>
            <a:avLst/>
            <a:gdLst/>
            <a:ahLst/>
            <a:rect l="l" t="t" r="r" b="b"/>
            <a:pathLst>
              <a:path w="578" h="109">
                <a:moveTo>
                  <a:pt x="578" y="0"/>
                </a:moveTo>
                <a:lnTo>
                  <a:pt x="578" y="81"/>
                </a:lnTo>
                <a:lnTo>
                  <a:pt x="0" y="81"/>
                </a:lnTo>
                <a:lnTo>
                  <a:pt x="0" y="109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013280" y="3063960"/>
            <a:ext cx="66600" cy="55440"/>
          </a:xfrm>
          <a:custGeom>
            <a:avLst/>
            <a:gdLst/>
            <a:ahLst/>
            <a:rect l="l" t="t" r="r" b="b"/>
            <a:pathLst>
              <a:path w="42" h="34">
                <a:moveTo>
                  <a:pt x="42" y="0"/>
                </a:moveTo>
                <a:lnTo>
                  <a:pt x="22" y="34"/>
                </a:lnTo>
                <a:lnTo>
                  <a:pt x="0" y="0"/>
                </a:lnTo>
                <a:lnTo>
                  <a:pt x="4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048200" y="3467160"/>
            <a:ext cx="1440" cy="63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013280" y="3522600"/>
            <a:ext cx="66600" cy="57240"/>
          </a:xfrm>
          <a:custGeom>
            <a:avLst/>
            <a:gdLst/>
            <a:ahLst/>
            <a:rect l="l" t="t" r="r" b="b"/>
            <a:pathLst>
              <a:path w="42" h="35">
                <a:moveTo>
                  <a:pt x="0" y="0"/>
                </a:moveTo>
                <a:lnTo>
                  <a:pt x="22" y="35"/>
                </a:lnTo>
                <a:lnTo>
                  <a:pt x="4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418520" y="3625920"/>
            <a:ext cx="1079280" cy="2338200"/>
          </a:xfrm>
          <a:custGeom>
            <a:avLst/>
            <a:gdLst/>
            <a:ahLst/>
            <a:rect l="l" t="t" r="r" b="b"/>
            <a:pathLst>
              <a:path w="668" h="1425">
                <a:moveTo>
                  <a:pt x="668" y="0"/>
                </a:moveTo>
                <a:lnTo>
                  <a:pt x="668" y="1425"/>
                </a:lnTo>
                <a:lnTo>
                  <a:pt x="0" y="1425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361280" y="5935680"/>
            <a:ext cx="68400" cy="55440"/>
          </a:xfrm>
          <a:custGeom>
            <a:avLst/>
            <a:gdLst/>
            <a:ahLst/>
            <a:rect l="l" t="t" r="r" b="b"/>
            <a:pathLst>
              <a:path w="42" h="34">
                <a:moveTo>
                  <a:pt x="42" y="34"/>
                </a:moveTo>
                <a:lnTo>
                  <a:pt x="0" y="18"/>
                </a:lnTo>
                <a:lnTo>
                  <a:pt x="42" y="0"/>
                </a:lnTo>
                <a:lnTo>
                  <a:pt x="42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444840" y="2757600"/>
            <a:ext cx="219240" cy="183960"/>
          </a:xfrm>
          <a:custGeom>
            <a:avLst/>
            <a:gdLst/>
            <a:ahLst/>
            <a:rect l="l" t="t" r="r" b="b"/>
            <a:pathLst>
              <a:path w="136" h="112">
                <a:moveTo>
                  <a:pt x="0" y="112"/>
                </a:moveTo>
                <a:lnTo>
                  <a:pt x="136" y="112"/>
                </a:lnTo>
                <a:lnTo>
                  <a:pt x="136" y="0"/>
                </a:lnTo>
                <a:lnTo>
                  <a:pt x="0" y="112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674800" y="2511360"/>
            <a:ext cx="989280" cy="430200"/>
          </a:xfrm>
          <a:custGeom>
            <a:avLst/>
            <a:gdLst/>
            <a:ahLst/>
            <a:rect l="l" t="t" r="r" b="b"/>
            <a:pathLst>
              <a:path w="613" h="262">
                <a:moveTo>
                  <a:pt x="0" y="262"/>
                </a:moveTo>
                <a:lnTo>
                  <a:pt x="477" y="262"/>
                </a:lnTo>
                <a:lnTo>
                  <a:pt x="613" y="150"/>
                </a:lnTo>
                <a:lnTo>
                  <a:pt x="613" y="0"/>
                </a:lnTo>
                <a:lnTo>
                  <a:pt x="0" y="0"/>
                </a:lnTo>
                <a:lnTo>
                  <a:pt x="0" y="262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911320" y="2506680"/>
            <a:ext cx="39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853000" y="2654280"/>
            <a:ext cx="482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igibility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976120" y="2801880"/>
            <a:ext cx="30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168720" y="1936800"/>
            <a:ext cx="879480" cy="525240"/>
          </a:xfrm>
          <a:custGeom>
            <a:avLst/>
            <a:gdLst/>
            <a:ahLst/>
            <a:rect l="l" t="t" r="r" b="b"/>
            <a:pathLst>
              <a:path w="545" h="320">
                <a:moveTo>
                  <a:pt x="545" y="0"/>
                </a:moveTo>
                <a:lnTo>
                  <a:pt x="545" y="244"/>
                </a:lnTo>
                <a:lnTo>
                  <a:pt x="0" y="244"/>
                </a:lnTo>
                <a:lnTo>
                  <a:pt x="0" y="32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135240" y="2455920"/>
            <a:ext cx="65160" cy="55440"/>
          </a:xfrm>
          <a:custGeom>
            <a:avLst/>
            <a:gdLst/>
            <a:ahLst/>
            <a:rect l="l" t="t" r="r" b="b"/>
            <a:pathLst>
              <a:path w="41" h="34">
                <a:moveTo>
                  <a:pt x="41" y="0"/>
                </a:moveTo>
                <a:lnTo>
                  <a:pt x="21" y="34"/>
                </a:lnTo>
                <a:lnTo>
                  <a:pt x="0" y="0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68720" y="2941560"/>
            <a:ext cx="879480" cy="177840"/>
          </a:xfrm>
          <a:custGeom>
            <a:avLst/>
            <a:gdLst/>
            <a:ahLst/>
            <a:rect l="l" t="t" r="r" b="b"/>
            <a:pathLst>
              <a:path w="545" h="109">
                <a:moveTo>
                  <a:pt x="0" y="0"/>
                </a:moveTo>
                <a:lnTo>
                  <a:pt x="0" y="81"/>
                </a:lnTo>
                <a:lnTo>
                  <a:pt x="545" y="81"/>
                </a:lnTo>
                <a:lnTo>
                  <a:pt x="545" y="109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013280" y="3063960"/>
            <a:ext cx="66600" cy="55440"/>
          </a:xfrm>
          <a:custGeom>
            <a:avLst/>
            <a:gdLst/>
            <a:ahLst/>
            <a:rect l="l" t="t" r="r" b="b"/>
            <a:pathLst>
              <a:path w="42" h="34">
                <a:moveTo>
                  <a:pt x="42" y="0"/>
                </a:moveTo>
                <a:lnTo>
                  <a:pt x="22" y="34"/>
                </a:lnTo>
                <a:lnTo>
                  <a:pt x="0" y="0"/>
                </a:lnTo>
                <a:lnTo>
                  <a:pt x="4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048200" y="1936800"/>
            <a:ext cx="4449600" cy="318960"/>
          </a:xfrm>
          <a:custGeom>
            <a:avLst/>
            <a:gdLst/>
            <a:ahLst/>
            <a:rect l="l" t="t" r="r" b="b"/>
            <a:pathLst>
              <a:path w="2756" h="194">
                <a:moveTo>
                  <a:pt x="0" y="0"/>
                </a:moveTo>
                <a:lnTo>
                  <a:pt x="0" y="75"/>
                </a:lnTo>
                <a:lnTo>
                  <a:pt x="2756" y="75"/>
                </a:lnTo>
                <a:lnTo>
                  <a:pt x="2756" y="194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8464680" y="2247840"/>
            <a:ext cx="68040" cy="57240"/>
          </a:xfrm>
          <a:custGeom>
            <a:avLst/>
            <a:gdLst/>
            <a:ahLst/>
            <a:rect l="l" t="t" r="r" b="b"/>
            <a:pathLst>
              <a:path w="42" h="34">
                <a:moveTo>
                  <a:pt x="42" y="0"/>
                </a:moveTo>
                <a:lnTo>
                  <a:pt x="20" y="34"/>
                </a:lnTo>
                <a:lnTo>
                  <a:pt x="0" y="0"/>
                </a:lnTo>
                <a:lnTo>
                  <a:pt x="4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208160" y="3747960"/>
            <a:ext cx="2398680" cy="92232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341360" y="4106880"/>
            <a:ext cx="181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tudent Applicant Da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511360" y="2013120"/>
            <a:ext cx="6175440" cy="19656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028480" y="2033640"/>
            <a:ext cx="1229040" cy="182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on Re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793680" y="3156120"/>
            <a:ext cx="534240" cy="274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RTAL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AI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7315200" y="1371600"/>
            <a:ext cx="1487520" cy="609840"/>
            <a:chOff x="7315200" y="1371600"/>
            <a:chExt cx="1487520" cy="609840"/>
          </a:xfrm>
        </p:grpSpPr>
        <p:sp>
          <p:nvSpPr>
            <p:cNvPr id="884" name=""/>
            <p:cNvSpPr/>
            <p:nvPr/>
          </p:nvSpPr>
          <p:spPr>
            <a:xfrm>
              <a:off x="7380360" y="1842840"/>
              <a:ext cx="698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94480" y="1842840"/>
              <a:ext cx="3996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31400" y="1447560"/>
              <a:ext cx="1370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 Packaged Solu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36080" y="1623600"/>
              <a:ext cx="857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 EDExpr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334280" y="1798560"/>
              <a:ext cx="1468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 Homegrown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315200" y="13716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315200" y="19810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315200" y="13716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 flipH="1">
            <a:off x="6552720" y="1676520"/>
            <a:ext cx="762120" cy="75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4B90-F183-4FD8-930A-4FF051D8ABD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 – Targe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988920" y="3565440"/>
            <a:ext cx="6591240" cy="267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98892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103400" y="6237360"/>
            <a:ext cx="712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21752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333440" y="6237360"/>
            <a:ext cx="684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44612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560600" y="6237360"/>
            <a:ext cx="712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67472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78920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90332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017800" y="6237360"/>
            <a:ext cx="712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13192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24640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359080" y="6237360"/>
            <a:ext cx="712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47500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58912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70360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81772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93040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04632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16080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27492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38760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502080" y="6237360"/>
            <a:ext cx="712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618000" y="6237360"/>
            <a:ext cx="680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73212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84480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959280" y="6237360"/>
            <a:ext cx="712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07340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189320" y="6237360"/>
            <a:ext cx="684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30200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416480" y="6237360"/>
            <a:ext cx="712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53060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64508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761000" y="6237360"/>
            <a:ext cx="680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873680" y="6237360"/>
            <a:ext cx="712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98780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10228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21640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33088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44500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55948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67360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78628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90220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16680" y="6237360"/>
            <a:ext cx="680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13080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24348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357960" y="6237360"/>
            <a:ext cx="712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47388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588000" y="6237360"/>
            <a:ext cx="684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70248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815160" y="6237360"/>
            <a:ext cx="712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92928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045200" y="6237360"/>
            <a:ext cx="684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159680" y="6237360"/>
            <a:ext cx="680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272360" y="6237360"/>
            <a:ext cx="712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386480" y="6237360"/>
            <a:ext cx="71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500960" y="6237360"/>
            <a:ext cx="69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7580160" y="614808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7580160" y="605124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7580160" y="595584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7580160" y="586080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7580160" y="576396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7580160" y="566856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V="1">
            <a:off x="7580160" y="557352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7580160" y="547668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7580160" y="538128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7580160" y="5286240"/>
            <a:ext cx="1800" cy="60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V="1">
            <a:off x="7580160" y="5189400"/>
            <a:ext cx="1800" cy="60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7580160" y="5094000"/>
            <a:ext cx="1800" cy="60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V="1">
            <a:off x="7580160" y="4998960"/>
            <a:ext cx="1800" cy="60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7580160" y="4902120"/>
            <a:ext cx="1800" cy="60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7580160" y="4806720"/>
            <a:ext cx="1800" cy="60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7580160" y="471132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V="1">
            <a:off x="7580160" y="4614840"/>
            <a:ext cx="1800" cy="60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7580160" y="4519440"/>
            <a:ext cx="1800" cy="60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7580160" y="442404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7580160" y="4327200"/>
            <a:ext cx="1800" cy="60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V="1">
            <a:off x="7580160" y="4232160"/>
            <a:ext cx="1800" cy="60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V="1">
            <a:off x="7580160" y="4135320"/>
            <a:ext cx="1800" cy="60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7580160" y="404136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7580160" y="394632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V="1">
            <a:off x="7580160" y="384948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7580160" y="375408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V="1">
            <a:off x="7580160" y="3659040"/>
            <a:ext cx="1800" cy="59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7577280" y="3565440"/>
            <a:ext cx="2880" cy="55800"/>
          </a:xfrm>
          <a:custGeom>
            <a:avLst/>
            <a:gdLst/>
            <a:ahLst/>
            <a:rect l="l" t="t" r="r" b="b"/>
            <a:pathLst>
              <a:path w="1" h="23">
                <a:moveTo>
                  <a:pt x="1" y="23"/>
                </a:moveTo>
                <a:lnTo>
                  <a:pt x="1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7462440" y="3565440"/>
            <a:ext cx="716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7350120" y="3565440"/>
            <a:ext cx="684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7235640" y="3565440"/>
            <a:ext cx="680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712008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H="1">
            <a:off x="7005240" y="3565440"/>
            <a:ext cx="716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H="1">
            <a:off x="689148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6778440" y="3565440"/>
            <a:ext cx="680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6664320" y="3565440"/>
            <a:ext cx="684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6548040" y="3565440"/>
            <a:ext cx="716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>
            <a:off x="643428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632160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>
            <a:off x="6207120" y="3565440"/>
            <a:ext cx="684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609300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H="1">
            <a:off x="597708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586440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574992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563580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552132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540720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529272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H="1">
            <a:off x="517860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506412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H="1">
            <a:off x="495000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H="1">
            <a:off x="483552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H="1">
            <a:off x="472140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460692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>
            <a:off x="449280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H="1">
            <a:off x="4379760" y="3565440"/>
            <a:ext cx="684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426420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>
            <a:off x="414972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H="1">
            <a:off x="403560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H="1">
            <a:off x="392256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H="1">
            <a:off x="3808440" y="3565440"/>
            <a:ext cx="684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H="1">
            <a:off x="369252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H="1">
            <a:off x="357840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H="1">
            <a:off x="346536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335124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>
            <a:off x="323676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H="1">
            <a:off x="312120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300672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289404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2779200" y="3565440"/>
            <a:ext cx="716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266544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H="1">
            <a:off x="254952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243684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H="1">
            <a:off x="232236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220824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209376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197964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H="1">
            <a:off x="186516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H="1">
            <a:off x="175104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H="1">
            <a:off x="1636200" y="3565440"/>
            <a:ext cx="716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H="1">
            <a:off x="1523880" y="3565440"/>
            <a:ext cx="684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140796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1293840" y="3565440"/>
            <a:ext cx="71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H="1">
            <a:off x="1179000" y="3565440"/>
            <a:ext cx="716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1066680" y="3565440"/>
            <a:ext cx="698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988920" y="3565440"/>
            <a:ext cx="31680" cy="30240"/>
          </a:xfrm>
          <a:custGeom>
            <a:avLst/>
            <a:gdLst/>
            <a:ahLst/>
            <a:rect l="l" t="t" r="r" b="b"/>
            <a:pathLst>
              <a:path w="11" h="13">
                <a:moveTo>
                  <a:pt x="11" y="0"/>
                </a:moveTo>
                <a:lnTo>
                  <a:pt x="0" y="0"/>
                </a:lnTo>
                <a:lnTo>
                  <a:pt x="0" y="13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988920" y="363384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988920" y="3728880"/>
            <a:ext cx="1800" cy="59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988920" y="382428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988920" y="392112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988920" y="401652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988920" y="4113360"/>
            <a:ext cx="1800" cy="56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988920" y="420840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988920" y="430380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988920" y="4400640"/>
            <a:ext cx="180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988920" y="449568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988920" y="459108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988920" y="468792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988920" y="4782960"/>
            <a:ext cx="1800" cy="59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988920" y="487836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988920" y="497520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988920" y="507060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988920" y="516564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988920" y="526248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988920" y="535788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988920" y="5452920"/>
            <a:ext cx="1800" cy="59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988920" y="5549760"/>
            <a:ext cx="1800" cy="59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988920" y="564516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988920" y="574056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988920" y="583740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88920" y="593244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988920" y="6029280"/>
            <a:ext cx="180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988920" y="6124680"/>
            <a:ext cx="180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988920" y="6219720"/>
            <a:ext cx="1800" cy="17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208160" y="3747960"/>
            <a:ext cx="2398680" cy="92232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341360" y="4106880"/>
            <a:ext cx="181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tudent Applicant Da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257800" y="2757600"/>
            <a:ext cx="219240" cy="183960"/>
          </a:xfrm>
          <a:custGeom>
            <a:avLst/>
            <a:gdLst/>
            <a:ahLst/>
            <a:rect l="l" t="t" r="r" b="b"/>
            <a:pathLst>
              <a:path w="136" h="112">
                <a:moveTo>
                  <a:pt x="0" y="112"/>
                </a:moveTo>
                <a:lnTo>
                  <a:pt x="136" y="112"/>
                </a:lnTo>
                <a:lnTo>
                  <a:pt x="136" y="0"/>
                </a:lnTo>
                <a:lnTo>
                  <a:pt x="0" y="112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487760" y="2511360"/>
            <a:ext cx="989280" cy="430200"/>
          </a:xfrm>
          <a:custGeom>
            <a:avLst/>
            <a:gdLst/>
            <a:ahLst/>
            <a:rect l="l" t="t" r="r" b="b"/>
            <a:pathLst>
              <a:path w="613" h="262">
                <a:moveTo>
                  <a:pt x="0" y="262"/>
                </a:moveTo>
                <a:lnTo>
                  <a:pt x="477" y="262"/>
                </a:lnTo>
                <a:lnTo>
                  <a:pt x="613" y="150"/>
                </a:lnTo>
                <a:lnTo>
                  <a:pt x="613" y="0"/>
                </a:lnTo>
                <a:lnTo>
                  <a:pt x="0" y="0"/>
                </a:lnTo>
                <a:lnTo>
                  <a:pt x="0" y="262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619160" y="2506680"/>
            <a:ext cx="556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igin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858200" y="2654280"/>
            <a:ext cx="19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525200" y="280188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burs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8772480" y="2489040"/>
            <a:ext cx="219240" cy="184320"/>
          </a:xfrm>
          <a:custGeom>
            <a:avLst/>
            <a:gdLst/>
            <a:ahLst/>
            <a:rect l="l" t="t" r="r" b="b"/>
            <a:pathLst>
              <a:path w="136" h="112">
                <a:moveTo>
                  <a:pt x="0" y="112"/>
                </a:moveTo>
                <a:lnTo>
                  <a:pt x="136" y="112"/>
                </a:lnTo>
                <a:lnTo>
                  <a:pt x="136" y="0"/>
                </a:lnTo>
                <a:lnTo>
                  <a:pt x="0" y="112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8002440" y="2305080"/>
            <a:ext cx="989280" cy="368280"/>
          </a:xfrm>
          <a:custGeom>
            <a:avLst/>
            <a:gdLst/>
            <a:ahLst/>
            <a:rect l="l" t="t" r="r" b="b"/>
            <a:pathLst>
              <a:path w="613" h="225">
                <a:moveTo>
                  <a:pt x="0" y="225"/>
                </a:moveTo>
                <a:lnTo>
                  <a:pt x="477" y="225"/>
                </a:lnTo>
                <a:lnTo>
                  <a:pt x="613" y="113"/>
                </a:lnTo>
                <a:lnTo>
                  <a:pt x="613" y="0"/>
                </a:lnTo>
                <a:lnTo>
                  <a:pt x="0" y="0"/>
                </a:lnTo>
                <a:lnTo>
                  <a:pt x="0" y="225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8314560" y="2416320"/>
            <a:ext cx="281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F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8058240" y="2981160"/>
            <a:ext cx="877680" cy="64476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8133120" y="3157560"/>
            <a:ext cx="56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FFEL GA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8229240" y="3305160"/>
            <a:ext cx="416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Lend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8497800" y="2673360"/>
            <a:ext cx="1800" cy="258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8464680" y="2922480"/>
            <a:ext cx="68040" cy="58680"/>
          </a:xfrm>
          <a:custGeom>
            <a:avLst/>
            <a:gdLst/>
            <a:ahLst/>
            <a:rect l="l" t="t" r="r" b="b"/>
            <a:pathLst>
              <a:path w="42" h="35">
                <a:moveTo>
                  <a:pt x="42" y="0"/>
                </a:moveTo>
                <a:lnTo>
                  <a:pt x="20" y="35"/>
                </a:lnTo>
                <a:lnTo>
                  <a:pt x="0" y="0"/>
                </a:lnTo>
                <a:lnTo>
                  <a:pt x="4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521000" y="1600200"/>
            <a:ext cx="5054400" cy="33660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329200" y="1612800"/>
            <a:ext cx="28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NSTITUTION SOLU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048200" y="1936800"/>
            <a:ext cx="933480" cy="525240"/>
          </a:xfrm>
          <a:custGeom>
            <a:avLst/>
            <a:gdLst/>
            <a:ahLst/>
            <a:rect l="l" t="t" r="r" b="b"/>
            <a:pathLst>
              <a:path w="578" h="320">
                <a:moveTo>
                  <a:pt x="0" y="0"/>
                </a:moveTo>
                <a:lnTo>
                  <a:pt x="0" y="244"/>
                </a:lnTo>
                <a:lnTo>
                  <a:pt x="578" y="244"/>
                </a:lnTo>
                <a:lnTo>
                  <a:pt x="578" y="32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948200" y="2455920"/>
            <a:ext cx="65160" cy="55440"/>
          </a:xfrm>
          <a:custGeom>
            <a:avLst/>
            <a:gdLst/>
            <a:ahLst/>
            <a:rect l="l" t="t" r="r" b="b"/>
            <a:pathLst>
              <a:path w="41" h="34">
                <a:moveTo>
                  <a:pt x="41" y="0"/>
                </a:moveTo>
                <a:lnTo>
                  <a:pt x="21" y="34"/>
                </a:lnTo>
                <a:lnTo>
                  <a:pt x="0" y="0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990720" y="3581280"/>
            <a:ext cx="6629400" cy="2667240"/>
          </a:xfrm>
          <a:prstGeom prst="rect">
            <a:avLst/>
          </a:prstGeom>
          <a:solidFill>
            <a:srgbClr val="ff6600"/>
          </a:solidFill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1208160" y="4762440"/>
            <a:ext cx="2398680" cy="92232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384920" y="5119560"/>
            <a:ext cx="1729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chool Eligibility Da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828960" y="3747960"/>
            <a:ext cx="2306880" cy="92232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258800" y="3813120"/>
            <a:ext cx="1216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rigination an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331520" y="4008600"/>
            <a:ext cx="1098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sbursem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980880" y="4205160"/>
            <a:ext cx="1683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Pell, Campus-Based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357800" y="4402080"/>
            <a:ext cx="1052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rect Loan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828960" y="4762440"/>
            <a:ext cx="2306880" cy="92232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280040" y="5119560"/>
            <a:ext cx="1180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oan Servic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243480" y="3747960"/>
            <a:ext cx="1117800" cy="19368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379560" y="4416480"/>
            <a:ext cx="713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nan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404760" y="4611600"/>
            <a:ext cx="668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anage-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568200" y="4808520"/>
            <a:ext cx="393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208160" y="5783400"/>
            <a:ext cx="6153120" cy="36036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403080" y="5861160"/>
            <a:ext cx="1482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SLDS Version 2.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538440" y="3119400"/>
            <a:ext cx="1015920" cy="347760"/>
          </a:xfrm>
          <a:custGeom>
            <a:avLst/>
            <a:gdLst/>
            <a:ahLst/>
            <a:rect l="l" t="t" r="r" b="b"/>
            <a:pathLst>
              <a:path w="630" h="211">
                <a:moveTo>
                  <a:pt x="136" y="211"/>
                </a:moveTo>
                <a:lnTo>
                  <a:pt x="493" y="211"/>
                </a:lnTo>
                <a:lnTo>
                  <a:pt x="630" y="0"/>
                </a:lnTo>
                <a:lnTo>
                  <a:pt x="0" y="0"/>
                </a:lnTo>
                <a:lnTo>
                  <a:pt x="136" y="211"/>
                </a:lnTo>
                <a:close/>
              </a:path>
            </a:pathLst>
          </a:custGeom>
          <a:solidFill>
            <a:srgbClr val="ff66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048200" y="2941560"/>
            <a:ext cx="933480" cy="177840"/>
          </a:xfrm>
          <a:custGeom>
            <a:avLst/>
            <a:gdLst/>
            <a:ahLst/>
            <a:rect l="l" t="t" r="r" b="b"/>
            <a:pathLst>
              <a:path w="578" h="109">
                <a:moveTo>
                  <a:pt x="578" y="0"/>
                </a:moveTo>
                <a:lnTo>
                  <a:pt x="578" y="81"/>
                </a:lnTo>
                <a:lnTo>
                  <a:pt x="0" y="81"/>
                </a:lnTo>
                <a:lnTo>
                  <a:pt x="0" y="109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013280" y="3063960"/>
            <a:ext cx="66600" cy="55440"/>
          </a:xfrm>
          <a:custGeom>
            <a:avLst/>
            <a:gdLst/>
            <a:ahLst/>
            <a:rect l="l" t="t" r="r" b="b"/>
            <a:pathLst>
              <a:path w="42" h="34">
                <a:moveTo>
                  <a:pt x="42" y="0"/>
                </a:moveTo>
                <a:lnTo>
                  <a:pt x="22" y="34"/>
                </a:lnTo>
                <a:lnTo>
                  <a:pt x="0" y="0"/>
                </a:lnTo>
                <a:lnTo>
                  <a:pt x="4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048200" y="3467160"/>
            <a:ext cx="1440" cy="63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013280" y="3522600"/>
            <a:ext cx="66600" cy="57240"/>
          </a:xfrm>
          <a:custGeom>
            <a:avLst/>
            <a:gdLst/>
            <a:ahLst/>
            <a:rect l="l" t="t" r="r" b="b"/>
            <a:pathLst>
              <a:path w="42" h="35">
                <a:moveTo>
                  <a:pt x="0" y="0"/>
                </a:moveTo>
                <a:lnTo>
                  <a:pt x="22" y="35"/>
                </a:lnTo>
                <a:lnTo>
                  <a:pt x="4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7418520" y="3625920"/>
            <a:ext cx="1079280" cy="2338200"/>
          </a:xfrm>
          <a:custGeom>
            <a:avLst/>
            <a:gdLst/>
            <a:ahLst/>
            <a:rect l="l" t="t" r="r" b="b"/>
            <a:pathLst>
              <a:path w="668" h="1425">
                <a:moveTo>
                  <a:pt x="668" y="0"/>
                </a:moveTo>
                <a:lnTo>
                  <a:pt x="668" y="1425"/>
                </a:lnTo>
                <a:lnTo>
                  <a:pt x="0" y="1425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7361280" y="5935680"/>
            <a:ext cx="68400" cy="55440"/>
          </a:xfrm>
          <a:custGeom>
            <a:avLst/>
            <a:gdLst/>
            <a:ahLst/>
            <a:rect l="l" t="t" r="r" b="b"/>
            <a:pathLst>
              <a:path w="42" h="34">
                <a:moveTo>
                  <a:pt x="42" y="34"/>
                </a:moveTo>
                <a:lnTo>
                  <a:pt x="0" y="18"/>
                </a:lnTo>
                <a:lnTo>
                  <a:pt x="42" y="0"/>
                </a:lnTo>
                <a:lnTo>
                  <a:pt x="42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444840" y="2757600"/>
            <a:ext cx="219240" cy="183960"/>
          </a:xfrm>
          <a:custGeom>
            <a:avLst/>
            <a:gdLst/>
            <a:ahLst/>
            <a:rect l="l" t="t" r="r" b="b"/>
            <a:pathLst>
              <a:path w="136" h="112">
                <a:moveTo>
                  <a:pt x="0" y="112"/>
                </a:moveTo>
                <a:lnTo>
                  <a:pt x="136" y="112"/>
                </a:lnTo>
                <a:lnTo>
                  <a:pt x="136" y="0"/>
                </a:lnTo>
                <a:lnTo>
                  <a:pt x="0" y="112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674800" y="2511360"/>
            <a:ext cx="989280" cy="430200"/>
          </a:xfrm>
          <a:custGeom>
            <a:avLst/>
            <a:gdLst/>
            <a:ahLst/>
            <a:rect l="l" t="t" r="r" b="b"/>
            <a:pathLst>
              <a:path w="613" h="262">
                <a:moveTo>
                  <a:pt x="0" y="262"/>
                </a:moveTo>
                <a:lnTo>
                  <a:pt x="477" y="262"/>
                </a:lnTo>
                <a:lnTo>
                  <a:pt x="613" y="150"/>
                </a:lnTo>
                <a:lnTo>
                  <a:pt x="613" y="0"/>
                </a:lnTo>
                <a:lnTo>
                  <a:pt x="0" y="0"/>
                </a:lnTo>
                <a:lnTo>
                  <a:pt x="0" y="262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911320" y="2506680"/>
            <a:ext cx="39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853000" y="2654280"/>
            <a:ext cx="482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igibility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976120" y="2801880"/>
            <a:ext cx="30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168720" y="1936800"/>
            <a:ext cx="879480" cy="525240"/>
          </a:xfrm>
          <a:custGeom>
            <a:avLst/>
            <a:gdLst/>
            <a:ahLst/>
            <a:rect l="l" t="t" r="r" b="b"/>
            <a:pathLst>
              <a:path w="545" h="320">
                <a:moveTo>
                  <a:pt x="545" y="0"/>
                </a:moveTo>
                <a:lnTo>
                  <a:pt x="545" y="244"/>
                </a:lnTo>
                <a:lnTo>
                  <a:pt x="0" y="244"/>
                </a:lnTo>
                <a:lnTo>
                  <a:pt x="0" y="32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135240" y="2455920"/>
            <a:ext cx="65160" cy="55440"/>
          </a:xfrm>
          <a:custGeom>
            <a:avLst/>
            <a:gdLst/>
            <a:ahLst/>
            <a:rect l="l" t="t" r="r" b="b"/>
            <a:pathLst>
              <a:path w="41" h="34">
                <a:moveTo>
                  <a:pt x="41" y="0"/>
                </a:moveTo>
                <a:lnTo>
                  <a:pt x="21" y="34"/>
                </a:lnTo>
                <a:lnTo>
                  <a:pt x="0" y="0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168720" y="2941560"/>
            <a:ext cx="879480" cy="177840"/>
          </a:xfrm>
          <a:custGeom>
            <a:avLst/>
            <a:gdLst/>
            <a:ahLst/>
            <a:rect l="l" t="t" r="r" b="b"/>
            <a:pathLst>
              <a:path w="545" h="109">
                <a:moveTo>
                  <a:pt x="0" y="0"/>
                </a:moveTo>
                <a:lnTo>
                  <a:pt x="0" y="81"/>
                </a:lnTo>
                <a:lnTo>
                  <a:pt x="545" y="81"/>
                </a:lnTo>
                <a:lnTo>
                  <a:pt x="545" y="109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013280" y="3063960"/>
            <a:ext cx="66600" cy="55440"/>
          </a:xfrm>
          <a:custGeom>
            <a:avLst/>
            <a:gdLst/>
            <a:ahLst/>
            <a:rect l="l" t="t" r="r" b="b"/>
            <a:pathLst>
              <a:path w="42" h="34">
                <a:moveTo>
                  <a:pt x="42" y="0"/>
                </a:moveTo>
                <a:lnTo>
                  <a:pt x="22" y="34"/>
                </a:lnTo>
                <a:lnTo>
                  <a:pt x="0" y="0"/>
                </a:lnTo>
                <a:lnTo>
                  <a:pt x="4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048200" y="1936800"/>
            <a:ext cx="4449600" cy="318960"/>
          </a:xfrm>
          <a:custGeom>
            <a:avLst/>
            <a:gdLst/>
            <a:ahLst/>
            <a:rect l="l" t="t" r="r" b="b"/>
            <a:pathLst>
              <a:path w="2756" h="194">
                <a:moveTo>
                  <a:pt x="0" y="0"/>
                </a:moveTo>
                <a:lnTo>
                  <a:pt x="0" y="75"/>
                </a:lnTo>
                <a:lnTo>
                  <a:pt x="2756" y="75"/>
                </a:lnTo>
                <a:lnTo>
                  <a:pt x="2756" y="194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8464680" y="2247840"/>
            <a:ext cx="68040" cy="57240"/>
          </a:xfrm>
          <a:custGeom>
            <a:avLst/>
            <a:gdLst/>
            <a:ahLst/>
            <a:rect l="l" t="t" r="r" b="b"/>
            <a:pathLst>
              <a:path w="42" h="34">
                <a:moveTo>
                  <a:pt x="42" y="0"/>
                </a:moveTo>
                <a:lnTo>
                  <a:pt x="20" y="34"/>
                </a:lnTo>
                <a:lnTo>
                  <a:pt x="0" y="0"/>
                </a:lnTo>
                <a:lnTo>
                  <a:pt x="4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208160" y="3747960"/>
            <a:ext cx="2398680" cy="92232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1341360" y="4106880"/>
            <a:ext cx="181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tudent Applicant Da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511360" y="2013120"/>
            <a:ext cx="6175440" cy="19656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028480" y="2033640"/>
            <a:ext cx="1128600" cy="1677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mon Recor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793680" y="3156120"/>
            <a:ext cx="534240" cy="274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RTAL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AI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5" name=""/>
          <p:cNvGrpSpPr/>
          <p:nvPr/>
        </p:nvGrpSpPr>
        <p:grpSpPr>
          <a:xfrm>
            <a:off x="7315200" y="1371600"/>
            <a:ext cx="1487520" cy="609840"/>
            <a:chOff x="7315200" y="1371600"/>
            <a:chExt cx="1487520" cy="609840"/>
          </a:xfrm>
        </p:grpSpPr>
        <p:sp>
          <p:nvSpPr>
            <p:cNvPr id="1126" name=""/>
            <p:cNvSpPr/>
            <p:nvPr/>
          </p:nvSpPr>
          <p:spPr>
            <a:xfrm>
              <a:off x="7380360" y="1842840"/>
              <a:ext cx="698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494480" y="1842840"/>
              <a:ext cx="3996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331400" y="1447560"/>
              <a:ext cx="1370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 Packaged Solu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336080" y="1623600"/>
              <a:ext cx="857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 EDExpr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334280" y="1798560"/>
              <a:ext cx="1468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 Homegrown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315200" y="13716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315200" y="19810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315200" y="13716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4" name=""/>
          <p:cNvSpPr/>
          <p:nvPr/>
        </p:nvSpPr>
        <p:spPr>
          <a:xfrm flipH="1">
            <a:off x="6552720" y="1676520"/>
            <a:ext cx="762120" cy="75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C3D9-90E3-4C35-A3D2-EF4BC80EF8A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360" y="380880"/>
            <a:ext cx="5715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br>
              <a:rPr sz="4400"/>
            </a:b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AC Federal Up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4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Welcome and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tting Aid Right at Point of Appl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4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Getting Aid Right – Origination, Disbursement and Rep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4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Getting Aid Right - Legal and Policy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4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Things to Re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752480"/>
            <a:ext cx="784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971800"/>
            <a:ext cx="7086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DC80-1341-4063-9EDE-4175E2408D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 Succ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launch in April 200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3 million batches with 47.4 million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6.5 billion grants and $22.5 billion origi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5.6 billion in grants, $15.5 billion in loans disbur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2,000 eMPNs (44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reased average processing time from days to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8C48-6E36-4B8C-A28D-8CA475C5FDC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 Succ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gram Integ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S/ DL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.9% of funds drawn substantiated by sch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g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business processes for Pell and Direct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customer service call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d data vi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ware enabled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FEF3-57DD-436E-8CD6-687360B63139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20570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 Succ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mpl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xibility and choices in record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y standards for XML data e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rds from 15 to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elements reported from 643 to 13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ts from 274 to 12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ed Common Record compatible EDExpress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9C81-00F7-43D4-9898-704FC5AB9632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mon Record Estimate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mplementation Sched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2" name=""/>
          <p:cNvGraphicFramePr/>
          <p:nvPr/>
        </p:nvGraphicFramePr>
        <p:xfrm>
          <a:off x="838080" y="2666880"/>
          <a:ext cx="7925040" cy="3778200"/>
        </p:xfrm>
        <a:graphic>
          <a:graphicData uri="http://schemas.openxmlformats.org/drawingml/2006/table">
            <a:tbl>
              <a:tblPr/>
              <a:tblGrid>
                <a:gridCol w="1903680"/>
                <a:gridCol w="3009600"/>
                <a:gridCol w="3011760"/>
              </a:tblGrid>
              <a:tr h="50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2-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mon Record – COD v 1.0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3-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mon Record –COD 2.0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changed all tag nam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4-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mon Record –COD 2.0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+2 new tags – 6 old tag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5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mon Record – ISIR 1.0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ign with standar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mon Record – COD 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ign with standar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XML Requir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75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6-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mon Record – ISIR 1.0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XML Requir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mon Record – COD 3.0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7-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mon Record – ISIR 1.0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mon Record – COD 3.0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grpSp>
        <p:nvGrpSpPr>
          <p:cNvPr id="1143" name=""/>
          <p:cNvGrpSpPr/>
          <p:nvPr/>
        </p:nvGrpSpPr>
        <p:grpSpPr>
          <a:xfrm>
            <a:off x="2948400" y="1507320"/>
            <a:ext cx="1951560" cy="1482840"/>
            <a:chOff x="2948400" y="1507320"/>
            <a:chExt cx="1951560" cy="1482840"/>
          </a:xfrm>
        </p:grpSpPr>
        <p:sp>
          <p:nvSpPr>
            <p:cNvPr id="1144" name=""/>
            <p:cNvSpPr/>
            <p:nvPr/>
          </p:nvSpPr>
          <p:spPr>
            <a:xfrm rot="718200">
              <a:off x="3047760" y="1676520"/>
              <a:ext cx="1752480" cy="1144440"/>
            </a:xfrm>
            <a:prstGeom prst="irregularSeal2">
              <a:avLst/>
            </a:prstGeom>
            <a:gradFill rotWithShape="0">
              <a:gsLst>
                <a:gs pos="0">
                  <a:srgbClr val="cc0099"/>
                </a:gs>
                <a:gs pos="100000">
                  <a:srgbClr val="6600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 txBox="1"/>
            <p:nvPr/>
          </p:nvSpPr>
          <p:spPr>
            <a:xfrm>
              <a:off x="3429000" y="1981080"/>
              <a:ext cx="75276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ISIR</a:t>
              </a:r>
              <a:endPara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146" name=""/>
          <p:cNvGrpSpPr/>
          <p:nvPr/>
        </p:nvGrpSpPr>
        <p:grpSpPr>
          <a:xfrm>
            <a:off x="6072120" y="1515240"/>
            <a:ext cx="1877040" cy="1465920"/>
            <a:chOff x="6072120" y="1515240"/>
            <a:chExt cx="1877040" cy="1465920"/>
          </a:xfrm>
        </p:grpSpPr>
        <p:sp>
          <p:nvSpPr>
            <p:cNvPr id="1147" name=""/>
            <p:cNvSpPr/>
            <p:nvPr/>
          </p:nvSpPr>
          <p:spPr>
            <a:xfrm rot="718200">
              <a:off x="6172200" y="1676520"/>
              <a:ext cx="1676520" cy="1143000"/>
            </a:xfrm>
            <a:prstGeom prst="irregularSeal2">
              <a:avLst/>
            </a:prstGeom>
            <a:gradFill rotWithShape="0">
              <a:gsLst>
                <a:gs pos="0">
                  <a:srgbClr val="cc0099"/>
                </a:gs>
                <a:gs pos="100000">
                  <a:srgbClr val="6600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 txBox="1"/>
            <p:nvPr/>
          </p:nvSpPr>
          <p:spPr>
            <a:xfrm>
              <a:off x="6544080" y="2014200"/>
              <a:ext cx="729000" cy="50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COD</a:t>
              </a:r>
              <a:endPara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18C9-2E2B-4911-81EF-9F17F9D69FB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437920" y="380880"/>
            <a:ext cx="5715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P Process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PO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162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ll Overpayment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than one schools reporting Pell disbursement for a student in a given award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Pell paid exceeds student’s annual elig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0249-F4F8-4934-AD05-BEF9A10C2AA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2437920" y="380880"/>
            <a:ext cx="5715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P Process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New POP Proces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162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chool Feedb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plaints indicated improvements were need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on responsive schools w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stricted flow of fun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ocesses needed to provi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arly warning on unofficial withdrawa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3" name="BD07153_" descr=""/>
          <p:cNvPicPr/>
          <p:nvPr/>
        </p:nvPicPr>
        <p:blipFill>
          <a:blip r:embed="rId1"/>
          <a:stretch/>
        </p:blipFill>
        <p:spPr>
          <a:xfrm>
            <a:off x="6629400" y="3657600"/>
            <a:ext cx="2019240" cy="22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8A41-D0F0-468F-AB09-A4123BFFAB3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2742840" y="380520"/>
            <a:ext cx="441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P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5" name=""/>
          <p:cNvGraphicFramePr/>
          <p:nvPr/>
        </p:nvGraphicFramePr>
        <p:xfrm>
          <a:off x="914400" y="1828800"/>
          <a:ext cx="7848720" cy="4238640"/>
        </p:xfrm>
        <a:graphic>
          <a:graphicData uri="http://schemas.openxmlformats.org/drawingml/2006/table">
            <a:tbl>
              <a:tblPr/>
              <a:tblGrid>
                <a:gridCol w="3925800"/>
                <a:gridCol w="3922920"/>
              </a:tblGrid>
              <a:tr h="55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116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ll did not allow overawards for any period of ti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awards allowed to exist for 30 day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quired submission of a negative disbursement from ineligible school first and then a positive disbursement from the eligible schoo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after 30 days the situation has not been remedied, all schools involved will receive a negative disbursement. Eligible school can submit a positive disbursement at any ti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156" name=""/>
          <p:cNvGrpSpPr/>
          <p:nvPr/>
        </p:nvGrpSpPr>
        <p:grpSpPr>
          <a:xfrm>
            <a:off x="5697360" y="1221480"/>
            <a:ext cx="2473920" cy="1594080"/>
            <a:chOff x="5697360" y="1221480"/>
            <a:chExt cx="2473920" cy="1594080"/>
          </a:xfrm>
        </p:grpSpPr>
        <p:sp>
          <p:nvSpPr>
            <p:cNvPr id="1157" name=""/>
            <p:cNvSpPr/>
            <p:nvPr/>
          </p:nvSpPr>
          <p:spPr>
            <a:xfrm rot="718200">
              <a:off x="5791320" y="1445760"/>
              <a:ext cx="2286000" cy="1144800"/>
            </a:xfrm>
            <a:prstGeom prst="irregularSeal2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33cc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 txBox="1"/>
            <p:nvPr/>
          </p:nvSpPr>
          <p:spPr>
            <a:xfrm>
              <a:off x="6172200" y="1827360"/>
              <a:ext cx="12193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NEW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159" name=""/>
          <p:cNvSpPr/>
          <p:nvPr/>
        </p:nvSpPr>
        <p:spPr>
          <a:xfrm>
            <a:off x="2133720" y="2117880"/>
            <a:ext cx="1676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133720" y="3794040"/>
            <a:ext cx="1676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EFCE-8D64-4EEF-AA97-D8AC23D3167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171080" y="609480"/>
            <a:ext cx="7093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P Process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udents in POP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2" name=""/>
          <p:cNvGraphicFramePr/>
          <p:nvPr/>
        </p:nvGraphicFramePr>
        <p:xfrm>
          <a:off x="762120" y="2227320"/>
          <a:ext cx="7772400" cy="333504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1-20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2-2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ocked At One 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,8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,5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ol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,0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,0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ill in Confli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6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63" name=""/>
          <p:cNvSpPr/>
          <p:nvPr/>
        </p:nvSpPr>
        <p:spPr>
          <a:xfrm rot="718200">
            <a:off x="990720" y="1902960"/>
            <a:ext cx="2286000" cy="1144800"/>
          </a:xfrm>
          <a:prstGeom prst="irregularSeal2">
            <a:avLst/>
          </a:prstGeom>
          <a:gradFill rotWithShape="0">
            <a:gsLst>
              <a:gs pos="0">
                <a:srgbClr val="ffff00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 txBox="1"/>
          <p:nvPr/>
        </p:nvSpPr>
        <p:spPr>
          <a:xfrm>
            <a:off x="1447920" y="2227320"/>
            <a:ext cx="1218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O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5" name=""/>
          <p:cNvSpPr/>
          <p:nvPr/>
        </p:nvSpPr>
        <p:spPr>
          <a:xfrm>
            <a:off x="5638680" y="5821200"/>
            <a:ext cx="335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* As of October 200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AD4F-291D-4EF8-9E7F-61B528D1B04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2057400" y="6858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ampus-Based Calenda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ISAP &amp; Combined Certification Due      October 1,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ISAP Edit Corrections Du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December 15,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entative Awards Post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February 1,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inal Awards Issu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April 1,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276720" y="1219320"/>
            <a:ext cx="447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4 – 2005 Award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715000" y="3124080"/>
            <a:ext cx="2895480" cy="685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7435-64AB-4876-9219-5ADC243BBA2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2133360" y="380880"/>
            <a:ext cx="5715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br>
              <a:rPr sz="4400"/>
            </a:b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AC Federal Up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4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Welcome and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4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Getting Aid Right at Point of Appl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4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Getting Aid Right – Origination, Disbursement and Rep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tting Aid Right - Legal and Policy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4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Things to Re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762120" y="1752480"/>
            <a:ext cx="784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295280" y="4572000"/>
            <a:ext cx="7086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9669-AB53-45D8-B8E3-27FA9CACC29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6840" y="1905120"/>
            <a:ext cx="3352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  <a:tab algn="l" pos="2367000"/>
                <a:tab algn="l" pos="2479680"/>
                <a:tab algn="l" pos="25923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10,692,665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  <a:tab algn="l" pos="2367000"/>
                <a:tab algn="l" pos="2479680"/>
                <a:tab algn="l" pos="2592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2002-03 FAFSAs processed as of November 17, 2002 (week 46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  <a:tab algn="l" pos="2367000"/>
                <a:tab algn="l" pos="2479680"/>
                <a:tab algn="l" pos="25923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11,533,158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  <a:tab algn="l" pos="2367000"/>
                <a:tab algn="l" pos="2479680"/>
                <a:tab algn="l" pos="2592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2003-04 FAFSAs processed as of November 16, 2003 (week 46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103640" y="2666880"/>
          <a:ext cx="5040360" cy="26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03640" y="2666880"/>
                    <a:ext cx="5040360" cy="26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3849120" y="5592600"/>
            <a:ext cx="4900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hat’s an 7.8% increas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1905120" y="53352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pplication Processing Statistics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Volu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2-03 and 2003-04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34D3-9715-4DC4-9D7B-BD69C1E0EDDE}" type="slidenum">
              <a:t>4</a:t>
            </a:fld>
          </a:p>
        </p:txBody>
      </p:sp>
    </p:spTree>
  </p:cSld>
  <p:transition spd="med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ion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hort Default R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5" name="Slide1" descr="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0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8B4F-B25B-405D-AED2-484CD183A19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22096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tle IV Program Bud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7" name=""/>
          <p:cNvGraphicFramePr/>
          <p:nvPr/>
        </p:nvGraphicFramePr>
        <p:xfrm>
          <a:off x="457200" y="2133720"/>
          <a:ext cx="8381880" cy="346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33720"/>
                    <a:ext cx="8381880" cy="34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5BA7-00C9-408E-A899-345D16200C44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1905120" y="30492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RS Data Match -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resident’s Management Agen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D’s Blueprint for Management Excelle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urrent HEA Authority Inadequ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D/Treasury/OMB Legislative Proposal to Amend Internal Revenue Code--August 200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-going Discussion with Congressional Committe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arly Internal Discussions on Implement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D4C8-4752-4822-83C1-B0A573787C8E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2209320" y="3805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pcoming Policy Lett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1142640" y="2362320"/>
            <a:ext cx="7086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104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3399"/>
                </a:solidFill>
                <a:latin typeface="Times New Roman"/>
              </a:rPr>
              <a:t>Use of Electronic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104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3399"/>
                </a:solidFill>
                <a:latin typeface="Times New Roman"/>
              </a:rPr>
              <a:t>Return of Title IV Aid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104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3399"/>
                </a:solidFill>
                <a:latin typeface="Times New Roman"/>
              </a:rPr>
              <a:t>Disaster Relief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D082-B2FF-40AC-9546-FCE0EE80138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2133360" y="380880"/>
            <a:ext cx="5715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br>
              <a:rPr sz="4400"/>
            </a:b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AC Federal Up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4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Welcome and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4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Getting Aid Right at Point of Appl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4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Getting Aid Right – Origination, Disbursement and Rep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4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Getting Aid Right - Legal and Policy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ngs to Re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762120" y="1752480"/>
            <a:ext cx="784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1295280" y="5181480"/>
            <a:ext cx="7086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C078-E366-421C-B617-A8F4E9AE0D1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subTitle"/>
          </p:nvPr>
        </p:nvSpPr>
        <p:spPr>
          <a:xfrm>
            <a:off x="228600" y="213372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-03-12 (Oct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NSLDS Aggregate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-03-11 (Sep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tudent Aid on the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-03-10 (Aug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eign Sch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-03-09 (Jul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XML Tran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-03-08 (Jul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Long-Term Deb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-03-07 (May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ependency Overr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590920" y="533520"/>
            <a:ext cx="5410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ngs to Rememb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743200" y="13716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ecent Let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7212-E595-4140-854D-7C3670DBBC5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RS Implemen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8F1B-5638-4B57-A8C1-665624E572E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2590920" y="5331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ngs to Rememb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SLDS Transfer Monit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SLDS Enrollment Report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ll Rep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turn of Title IV Aid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lease of Credit Bala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e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1D3C-9A7A-4525-A762-FAFD9D1532A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fafsa%20on%20web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4800600" cy="3840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5120" y="53352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pplication Processing Statistics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FSA on the Web Volu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2-03 and 2003-04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198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  <a:tab algn="l" pos="2367000"/>
                <a:tab algn="l" pos="2479680"/>
                <a:tab algn="l" pos="25923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4,781,81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  <a:tab algn="l" pos="2367000"/>
                <a:tab algn="l" pos="2479680"/>
                <a:tab algn="l" pos="2592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2002-03 FAFSA on the Web Apps processed as of October 27, 2002 (week 43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  <a:tab algn="l" pos="2367000"/>
                <a:tab algn="l" pos="2479680"/>
                <a:tab algn="l" pos="25923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6,773,099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  <a:tab algn="l" pos="2367000"/>
                <a:tab algn="l" pos="2479680"/>
                <a:tab algn="l" pos="2592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2003-04 FAFSA on the Web Apps processed as of October 26, 2003 (week 43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63680" y="5791320"/>
            <a:ext cx="4539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hat’s a 41% increas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09C2-4E97-4301-83BB-09CCCA5699F1}" type="slidenum">
              <a:t>5</a:t>
            </a:fld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95120" y="456840"/>
            <a:ext cx="403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PS Cha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ulti-Year Applicant Datab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PS re-engineered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erform cross-year edits to detect possible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consistencies across application ye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roduce warning comments if edit is hi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Family Members or Number in 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s’ Total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s’ Taxes P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BC50-87C4-4B5B-8032-70A3C17E0A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1676520"/>
            <a:ext cx="6783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ushed” ISI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2666520"/>
            <a:ext cx="78501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ain ISIRs automatically “pushed” regardless of option selected by instit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C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 C Code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-generated transactions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SLDS post-scre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 automated secondary confi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j0105204(p)" descr="Click To Download"/>
          <p:cNvPicPr/>
          <p:nvPr/>
        </p:nvPicPr>
        <p:blipFill>
          <a:blip r:embed="rId1"/>
          <a:srcRect l="0" t="20844" r="0" b="21907"/>
          <a:stretch/>
        </p:blipFill>
        <p:spPr>
          <a:xfrm>
            <a:off x="4800600" y="3581280"/>
            <a:ext cx="1463760" cy="838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676520" y="380880"/>
            <a:ext cx="722304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2004-05 Application Process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SIR Datam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A1C3-2203-4925-AB9F-E4602C175238}" type="slidenum">
              <a:t>7</a:t>
            </a:fld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762120" y="2895120"/>
            <a:ext cx="78501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ools must look at all “pushed” IS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ools must request ISIRs for all enrolled 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380880"/>
            <a:ext cx="722304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2004-05 Application Process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SIR Datam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914040" y="1676520"/>
            <a:ext cx="6783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ust See” ISI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9298-6708-453F-BE21-E6303DCE315A}" type="slidenum">
              <a:t>8</a:t>
            </a:fld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6320" y="4495680"/>
            <a:ext cx="172224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320" y="746280"/>
            <a:ext cx="55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www.studentaid.ed.g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1E8D-A9A6-423C-AEE7-A2CB8D7786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2T18:01:17Z</dcterms:created>
  <dc:creator>Janis.Presnell</dc:creator>
  <dc:description/>
  <dc:language>en-US</dc:language>
  <cp:lastModifiedBy>jennifer.do</cp:lastModifiedBy>
  <dcterms:modified xsi:type="dcterms:W3CDTF">2003-12-08T20:02:01Z</dcterms:modified>
  <cp:revision>135</cp:revision>
  <dc:subject/>
  <dc:title>PowerPoint Presentation</dc:title>
</cp:coreProperties>
</file>