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6.gif" ContentType="image/gif"/>
  <Override PartName="/ppt/media/image19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8.wmf" ContentType="image/x-wmf"/>
  <Override PartName="/ppt/media/image10.png" ContentType="image/png"/>
  <Override PartName="/ppt/media/image11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9.png" ContentType="image/png"/>
  <Override PartName="/ppt/media/image33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16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3.wmf" ContentType="image/x-wmf"/>
  <Override PartName="/ppt/media/image6.gif" ContentType="image/gif"/>
  <Override PartName="/ppt/media/image2.wmf" ContentType="image/x-wmf"/>
  <Override PartName="/ppt/media/image29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58880"/>
            <a:ext cx="5029200" cy="4132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933EA9B-E1FB-41C7-9D5A-D522CCE8A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0A9A72E-F312-4385-B5B3-04A2C8EDD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533680" y="150840"/>
            <a:ext cx="1712880" cy="12841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223560" y="1508040"/>
            <a:ext cx="6359400" cy="76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65A2-0F99-43EE-8D70-19A1459BD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C2DC-BE56-4533-B4C4-022777F2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88CE-DD8F-431E-8068-DDB1AB5AA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BB94-3FD9-4691-AF7B-45418E50A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0055-6E68-4D77-86C9-8000CA56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82F4-3C64-47BE-A796-D01C2556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926B-4439-4A07-BE7F-1DF5AAA5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533A-A5F1-4522-91EE-14C4156C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DC60-9867-45D3-92F9-6F67263B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E008-261E-4366-80AC-8D144BD2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BDED-01A3-4DF2-92EF-784997A4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DDFD-1731-49B3-815F-B9F9ED0A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New%20template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05D4-23D5-4FFE-BF97-2C80DC345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14479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3333cc"/>
                </a:solidFill>
                <a:latin typeface="Arial"/>
              </a:rPr>
              <a:t>2004-05 Application and Delivery System Update</a:t>
            </a:r>
            <a:endParaRPr b="0" lang="en-US" sz="4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400" y="37335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anne Sau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lyn LeBlan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i H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j0234050" descr=""/>
          <p:cNvPicPr/>
          <p:nvPr/>
        </p:nvPicPr>
        <p:blipFill>
          <a:blip r:embed="rId1"/>
          <a:stretch/>
        </p:blipFill>
        <p:spPr>
          <a:xfrm>
            <a:off x="6095880" y="3886200"/>
            <a:ext cx="1752840" cy="152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0E9B-43D5-4308-9337-05FA5EB77E9B}" type="slidenum">
              <a:t>1</a:t>
            </a:fld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38280" y="456840"/>
            <a:ext cx="7377120" cy="11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FAFSA on the Web</a:t>
            </a:r>
            <a:br>
              <a:rPr sz="40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creen Shot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ctober 2003, a PowerPoint presentation containing FAFSA on the Web screen shots available on IF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600200" y="3657600"/>
          <a:ext cx="2819520" cy="23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657600"/>
                    <a:ext cx="281952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1" name="" descr=""/>
          <p:cNvPicPr/>
          <p:nvPr/>
        </p:nvPicPr>
        <p:blipFill>
          <a:blip r:embed="rId3"/>
          <a:srcRect l="1001" t="16002" r="17511" b="33132"/>
          <a:stretch/>
        </p:blipFill>
        <p:spPr>
          <a:xfrm>
            <a:off x="3352680" y="4114800"/>
            <a:ext cx="3581640" cy="167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4D0B-16BF-4793-B3C3-DFF76FDF157C}" type="slidenum">
              <a:t>10</a:t>
            </a:fld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5640" y="914040"/>
            <a:ext cx="662940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33cc"/>
                </a:solidFill>
                <a:latin typeface="Arial"/>
              </a:rPr>
              <a:t>FAFSA on the Web Toolkits</a:t>
            </a:r>
            <a:endParaRPr b="0" lang="en-US" sz="3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2058840"/>
            <a:ext cx="35798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led to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secondary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O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4720" y="2058840"/>
            <a:ext cx="449892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kits include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ch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s 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N Fl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-Link Graphics Fl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cky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A Access Fl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198960"/>
            <a:ext cx="91440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65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267080"/>
            <a:ext cx="9144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267080"/>
            <a:ext cx="9144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267080"/>
            <a:ext cx="9144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267080"/>
            <a:ext cx="9144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267080"/>
            <a:ext cx="9144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49808" t="13862" r="34567" b="32745"/>
          <a:stretch/>
        </p:blipFill>
        <p:spPr>
          <a:xfrm>
            <a:off x="3581280" y="2666880"/>
            <a:ext cx="1219320" cy="3124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D2EC-77CD-41FD-BED5-B10E09629134}" type="slidenum">
              <a:t>11</a:t>
            </a:fld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7377120" cy="11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Demonstration Sites</a:t>
            </a:r>
            <a:br>
              <a:rPr sz="44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FAFSA on the Web and FAA Acces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7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n December 7, 2003, FAFSA on the Web and FAA Access demonstration sites will be availa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ccess sites, go to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http://fafsademo.test.ed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 Name:  eddem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ssword:  fafsa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7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on FOTW or FAA Access buttons at bottom of screen to access demo si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7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vailable until next Decemb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j0233917(p)" descr="Click To Download"/>
          <p:cNvPicPr/>
          <p:nvPr/>
        </p:nvPicPr>
        <p:blipFill>
          <a:blip r:embed="rId1"/>
          <a:stretch/>
        </p:blipFill>
        <p:spPr>
          <a:xfrm>
            <a:off x="5410080" y="37339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1EA4-7B1B-4DDD-933D-CB0B81C7EB7B}" type="slidenum">
              <a:t>12</a:t>
            </a:fld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62320" y="547560"/>
            <a:ext cx="67816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Renewal Application Process</a:t>
            </a:r>
            <a:br>
              <a:rPr sz="36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mportant Dat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4080" y="2211480"/>
            <a:ext cx="7618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August 2003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ouncement and Guide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osted on IFAP and FSADownloa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twork message to schools to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mind students to update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ddress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10/6 - 10/3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chools could request tha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newal reminders be sent to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tudents instead of paper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newal FAFS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ADD8-440F-44A8-93EE-37F0C23CF668}" type="slidenum">
              <a:t>13</a:t>
            </a:fld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7920" y="618840"/>
            <a:ext cx="6705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Renewal Application Process</a:t>
            </a:r>
            <a:br>
              <a:rPr sz="36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eminder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2212920"/>
            <a:ext cx="754380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 indent="0">
              <a:spcBef>
                <a:spcPts val="601"/>
              </a:spcBef>
              <a:buNone/>
              <a:tabLst>
                <a:tab algn="l" pos="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11/7 -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2/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Renewal reminders sent to students if 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624040" indent="-395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chool requested ‘reminder’ be sent instead of paper Renewal FAF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2624040" indent="-395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Web in 2003-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2624040" indent="-395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d on 2003-04 FAFSA that they were graduate or 5th year undergraduate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2624040" indent="-395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d valid e-mail address on 2003-04 FAF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spcBef>
                <a:spcPts val="601"/>
              </a:spcBef>
              <a:buNone/>
              <a:tabLst>
                <a:tab algn="l" pos="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1/14 - 12/31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S mails Renewal FAFSAs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9759-0981-4D38-B965-0B39DF8FC375}" type="slidenum">
              <a:t>14</a:t>
            </a:fld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61960" y="533160"/>
            <a:ext cx="6172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Renewal Application Process</a:t>
            </a:r>
            <a:br>
              <a:rPr sz="31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eminder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979280"/>
            <a:ext cx="807732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valid e-mail address provided on 2003-04 FAFSA, students receive e-mail reminding them to reapply using their PI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mail does not include link to PIN on the Web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valid e-mail address not provided on 2003-04 FAFSA, PIN mailer sent to student’s permanent add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N mailer includes tear-out c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6985-64F4-4AF7-A29E-2EC0667B63F5}" type="slidenum">
              <a:t>15</a:t>
            </a:fld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23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cc"/>
                </a:solidFill>
                <a:latin typeface="Arial"/>
              </a:rPr>
              <a:t>Sample Reminder Notices</a:t>
            </a:r>
            <a:endParaRPr b="0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IN Ma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6672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mple E-mail Remi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14400" y="2514600"/>
          <a:ext cx="293832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514600"/>
                    <a:ext cx="293832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267080" y="2666880"/>
            <a:ext cx="4505400" cy="32036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027A-FB7D-4B09-8994-20888808AB7B}" type="slidenum">
              <a:t>16</a:t>
            </a:fld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8680" y="1906560"/>
            <a:ext cx="77691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3333cc"/>
                </a:solidFill>
                <a:latin typeface="Arial"/>
              </a:rPr>
              <a:t>Applying for Aid</a:t>
            </a:r>
            <a:r>
              <a:rPr b="0" lang="en-US" sz="4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cc"/>
                </a:solidFill>
                <a:latin typeface="Arial"/>
              </a:rPr>
              <a:t>Student and School Applica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j0273054(p)" descr="Click To Download"/>
          <p:cNvPicPr/>
          <p:nvPr/>
        </p:nvPicPr>
        <p:blipFill>
          <a:blip r:embed="rId1"/>
          <a:stretch/>
        </p:blipFill>
        <p:spPr>
          <a:xfrm>
            <a:off x="3429000" y="3809880"/>
            <a:ext cx="2133720" cy="213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0D5F-E6CF-40A0-98F3-C1CE8DC5CA88}" type="slidenum">
              <a:t>17</a:t>
            </a:fld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666880" y="595080"/>
            <a:ext cx="5562720" cy="11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Student Applications</a:t>
            </a:r>
            <a:br>
              <a:rPr sz="40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e Paper FAFS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13360" y="1981080"/>
            <a:ext cx="411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or of the FAF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66ff"/>
                </a:solidFill>
                <a:latin typeface="Arial"/>
              </a:rPr>
              <a:t>Pink for Students (Pantone 196 CVU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33ff"/>
                </a:solidFill>
                <a:latin typeface="Arial"/>
              </a:rPr>
              <a:t>Purple for Parents (Pantone 263 CVU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FSA inclu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receipt post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ed ins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, reworded, and reordered questions and instru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30003" t="14816" r="30003" b="14816"/>
          <a:stretch/>
        </p:blipFill>
        <p:spPr>
          <a:xfrm>
            <a:off x="990720" y="1981080"/>
            <a:ext cx="2806560" cy="381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6213-69CC-4FD0-A0F0-4DBFE16F881D}" type="slidenum">
              <a:t>18</a:t>
            </a:fld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142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The Paper FAFSA</a:t>
            </a:r>
            <a:br>
              <a:rPr sz="36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age 1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19720" y="1752480"/>
            <a:ext cx="4038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esigned first p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information about federal and state deadl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d numbers with descriptive hea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rominent instructions for correcting estimated tax return data once return is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0003" t="14816" r="30003" b="14816"/>
          <a:stretch/>
        </p:blipFill>
        <p:spPr>
          <a:xfrm>
            <a:off x="1074600" y="1981080"/>
            <a:ext cx="2864160" cy="38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3C78-A010-45CD-90BE-25D3F904E956}" type="slidenum">
              <a:t>19</a:t>
            </a:fld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66880" y="728280"/>
            <a:ext cx="51069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Today’s Topic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4880" y="1447920"/>
            <a:ext cx="754524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Processing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2004-05 Applic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ing for 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 Applications at the C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ing and Reviewing Applican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ing Applican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Noteworthy Ne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1C8E-822A-44E1-A79A-1A5D5CF14230}" type="slidenum">
              <a:t>2</a:t>
            </a:fld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425160"/>
            <a:ext cx="7086600" cy="11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The Paper FAFSA</a:t>
            </a:r>
            <a:br>
              <a:rPr sz="40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age 2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830240"/>
            <a:ext cx="777240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67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dded Web site reference for exchange ra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urther clarified what is not an invest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NewRomanPS-BoldMT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4960" y="2743200"/>
            <a:ext cx="8074080" cy="1360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4960" y="4802040"/>
            <a:ext cx="8302680" cy="5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C577-657F-4DBD-99D1-085BE0B25152}" type="slidenum">
              <a:t>20</a:t>
            </a:fld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41520" y="533160"/>
            <a:ext cx="6778800" cy="11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The Paper FAFSA</a:t>
            </a:r>
            <a:br>
              <a:rPr sz="40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age 3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2060280"/>
            <a:ext cx="84582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Question 1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udent’s e-mail add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d from Step Six to Step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 characters long, pre-printed @ sym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s how e-mail address will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Question 31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ew number for the “drug ques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7162560" cy="76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8F94-A916-4995-BD7F-87FA42307CDD}" type="slidenum">
              <a:t>21</a:t>
            </a:fld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52320" y="533160"/>
            <a:ext cx="8596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The Paper FAFSA</a:t>
            </a:r>
            <a:br>
              <a:rPr sz="40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age 4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2600" y="1979280"/>
            <a:ext cx="800244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Step Tw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Questions 43 – 45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udent’s asset net worth questions reord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Step Thre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Question 49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Wording for “graduate” dependency question revised to be clea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Question 53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Revised to read “Are both of your parents deceased, or are you or were you (until age 18) a ward/dependent of the court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8040" y="4116240"/>
            <a:ext cx="8078760" cy="606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08040" y="4191120"/>
            <a:ext cx="792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09480" y="4191120"/>
          <a:ext cx="7772400" cy="53316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53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FE25-DB3B-411D-AD30-BDC221F54723}" type="slidenum">
              <a:t>22</a:t>
            </a:fld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60160" y="533160"/>
            <a:ext cx="6783480" cy="11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The Paper FAFSA</a:t>
            </a:r>
            <a:br>
              <a:rPr sz="40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age 5, Step Four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324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questions about students’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Questions 59 and 63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ent’s first ini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Questions 60 and 64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ent’s date of bi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longer ask “Age of older parent”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E03214_(p)" descr="Click To Download"/>
          <p:cNvPicPr/>
          <p:nvPr/>
        </p:nvPicPr>
        <p:blipFill>
          <a:blip r:embed="rId1"/>
          <a:stretch/>
        </p:blipFill>
        <p:spPr>
          <a:xfrm>
            <a:off x="3886200" y="4572000"/>
            <a:ext cx="146376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057C-CD03-4466-BF7B-11975AF5C3C8}" type="slidenum">
              <a:t>23</a:t>
            </a:fld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17480" y="617400"/>
            <a:ext cx="677844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The Paper FAFSA</a:t>
            </a:r>
            <a:br>
              <a:rPr sz="33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age 6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ep Six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Enrollment questions -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d from Step 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question for all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response for “Not sure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ertific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 statement that student cannot receive a Federal Pell Grant from more than one school for the same time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F5A0-3D37-457F-B9D6-D5FC051D4D18}" type="slidenum">
              <a:t>24</a:t>
            </a:fld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362320" y="974520"/>
            <a:ext cx="67816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Paper Renewal FAFSA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280" y="2131560"/>
            <a:ext cx="769284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changes made to paper FAF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led forward 2003-04 FAFSA question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chool codes on transaction used to create the Renewal FAF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ing plans for each school code li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’s Marital Status Date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ollment status questions conve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question = Full time, pre-print as full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, leave question bl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67AD-66F0-4D74-87FE-F7E1C368D18E}" type="slidenum">
              <a:t>25</a:t>
            </a:fld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0" y="898200"/>
            <a:ext cx="67816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Paper Renewal FAFSA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2060280"/>
            <a:ext cx="72388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not pre-print 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fields from previous year’s FAFSA for students who qualified for Automatic Zero EF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s’ SSN and last nam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BF49-D8EE-4D92-A4E2-A0F0692FFC5F}" type="slidenum">
              <a:t>26</a:t>
            </a:fld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52320" y="609480"/>
            <a:ext cx="85964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FAFSA on the Web</a:t>
            </a:r>
            <a:br>
              <a:rPr sz="40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www.fafsa.ed.gov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800600" y="1904760"/>
            <a:ext cx="4114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pply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eapply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o to PIN Web sit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heck status of FAFS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View SAR inform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ke corre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panish ver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981080"/>
            <a:ext cx="3579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85800" y="2246400"/>
          <a:ext cx="3962520" cy="33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46400"/>
                    <a:ext cx="3962520" cy="33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4522-1E2B-4BD9-9FD5-CC04F2290883}" type="slidenum">
              <a:t>27</a:t>
            </a:fld>
          </a:p>
        </p:txBody>
      </p: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11480" y="669600"/>
            <a:ext cx="71611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Spanish FAFSA on the Web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3580920"/>
            <a:ext cx="7620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ish FAFSA on the Web includes Spanish versions of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Application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and Parent Worksheets A, B,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and Parent Income Estimator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Conviction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1001" t="16002" r="17511" b="33132"/>
          <a:stretch/>
        </p:blipFill>
        <p:spPr>
          <a:xfrm>
            <a:off x="2895480" y="1676520"/>
            <a:ext cx="3581640" cy="167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BF02-E1C0-4843-892D-EB4ED77453F7}" type="slidenum">
              <a:t>28</a:t>
            </a:fld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41520" y="609480"/>
            <a:ext cx="677880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FAFSA on the Web and Renewal FAFSA on the Web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2131560"/>
            <a:ext cx="784872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ludes new and revised paper FAFSA ques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w parent e-mail addre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valid parent e-mail address provided -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-mail sent to parent when FAFSA process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f signature(s) are missing, e-mail will include information about how to sig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rectable on the Web or through FSA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ll print, but not correctable on paper S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6192-ECBD-408F-AA36-A14050DF1C14}" type="slidenum">
              <a:t>29</a:t>
            </a:fld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ther Application Processing-Related Session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485640"/>
                <a:tab algn="l" pos="647640"/>
                <a:tab algn="l" pos="809640"/>
                <a:tab algn="l" pos="971640"/>
                <a:tab algn="l" pos="1133640"/>
                <a:tab algn="l" pos="1295280"/>
                <a:tab algn="l" pos="1457280"/>
                <a:tab algn="l" pos="1619280"/>
                <a:tab algn="l" pos="1781280"/>
                <a:tab algn="l" pos="1943280"/>
                <a:tab algn="l" pos="2104920"/>
                <a:tab algn="l" pos="2266920"/>
                <a:tab algn="l" pos="2428920"/>
                <a:tab algn="l" pos="2590920"/>
                <a:tab algn="l" pos="2752560"/>
                <a:tab algn="l" pos="2914560"/>
                <a:tab algn="l" pos="3076560"/>
                <a:tab algn="l" pos="3238560"/>
                <a:tab algn="l" pos="3400560"/>
                <a:tab algn="l" pos="356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4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SIR Datamart (hands 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485640"/>
                <a:tab algn="l" pos="647640"/>
                <a:tab algn="l" pos="809640"/>
                <a:tab algn="l" pos="971640"/>
                <a:tab algn="l" pos="1133640"/>
                <a:tab algn="l" pos="1295280"/>
                <a:tab algn="l" pos="1457280"/>
                <a:tab algn="l" pos="1619280"/>
                <a:tab algn="l" pos="1781280"/>
                <a:tab algn="l" pos="1943280"/>
                <a:tab algn="l" pos="2104920"/>
                <a:tab algn="l" pos="2266920"/>
                <a:tab algn="l" pos="2428920"/>
                <a:tab algn="l" pos="2590920"/>
                <a:tab algn="l" pos="2752560"/>
                <a:tab algn="l" pos="2914560"/>
                <a:tab algn="l" pos="3076560"/>
                <a:tab algn="l" pos="3238560"/>
                <a:tab algn="l" pos="3400560"/>
                <a:tab algn="l" pos="356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5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A Access to CPS Online (hands 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485640"/>
                <a:tab algn="l" pos="647640"/>
                <a:tab algn="l" pos="809640"/>
                <a:tab algn="l" pos="971640"/>
                <a:tab algn="l" pos="1133640"/>
                <a:tab algn="l" pos="1295280"/>
                <a:tab algn="l" pos="1457280"/>
                <a:tab algn="l" pos="1619280"/>
                <a:tab algn="l" pos="1781280"/>
                <a:tab algn="l" pos="1943280"/>
                <a:tab algn="l" pos="2104920"/>
                <a:tab algn="l" pos="2266920"/>
                <a:tab algn="l" pos="2428920"/>
                <a:tab algn="l" pos="2590920"/>
                <a:tab algn="l" pos="2752560"/>
                <a:tab algn="l" pos="2914560"/>
                <a:tab algn="l" pos="3076560"/>
                <a:tab algn="l" pos="3238560"/>
                <a:tab algn="l" pos="3400560"/>
                <a:tab algn="l" pos="356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22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Loan Tools for Direct Loan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485640"/>
                <a:tab algn="l" pos="647640"/>
                <a:tab algn="l" pos="809640"/>
                <a:tab algn="l" pos="971640"/>
                <a:tab algn="l" pos="1133640"/>
                <a:tab algn="l" pos="1295280"/>
                <a:tab algn="l" pos="1457280"/>
                <a:tab algn="l" pos="1619280"/>
                <a:tab algn="l" pos="1781280"/>
                <a:tab algn="l" pos="1943280"/>
                <a:tab algn="l" pos="2104920"/>
                <a:tab algn="l" pos="2266920"/>
                <a:tab algn="l" pos="2428920"/>
                <a:tab algn="l" pos="2590920"/>
                <a:tab algn="l" pos="2752560"/>
                <a:tab algn="l" pos="2914560"/>
                <a:tab algn="l" pos="3076560"/>
                <a:tab algn="l" pos="3238560"/>
                <a:tab algn="l" pos="3400560"/>
                <a:tab algn="l" pos="356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23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xpress/COD Pell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485640"/>
                <a:tab algn="l" pos="647640"/>
                <a:tab algn="l" pos="809640"/>
                <a:tab algn="l" pos="971640"/>
                <a:tab algn="l" pos="1133640"/>
                <a:tab algn="l" pos="1295280"/>
                <a:tab algn="l" pos="1457280"/>
                <a:tab algn="l" pos="1619280"/>
                <a:tab algn="l" pos="1781280"/>
                <a:tab algn="l" pos="1943280"/>
                <a:tab algn="l" pos="2104920"/>
                <a:tab algn="l" pos="2266920"/>
                <a:tab algn="l" pos="2428920"/>
                <a:tab algn="l" pos="2590920"/>
                <a:tab algn="l" pos="2752560"/>
                <a:tab algn="l" pos="2914560"/>
                <a:tab algn="l" pos="3076560"/>
                <a:tab algn="l" pos="3238560"/>
                <a:tab algn="l" pos="3400560"/>
                <a:tab algn="l" pos="356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24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xpress/COD Direct Loan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485640"/>
                <a:tab algn="l" pos="647640"/>
                <a:tab algn="l" pos="809640"/>
                <a:tab algn="l" pos="971640"/>
                <a:tab algn="l" pos="1133640"/>
                <a:tab algn="l" pos="1295280"/>
                <a:tab algn="l" pos="1457280"/>
                <a:tab algn="l" pos="1619280"/>
                <a:tab algn="l" pos="1781280"/>
                <a:tab algn="l" pos="1943280"/>
                <a:tab algn="l" pos="2104920"/>
                <a:tab algn="l" pos="2266920"/>
                <a:tab algn="l" pos="2428920"/>
                <a:tab algn="l" pos="2590920"/>
                <a:tab algn="l" pos="2752560"/>
                <a:tab algn="l" pos="2914560"/>
                <a:tab algn="l" pos="3076560"/>
                <a:tab algn="l" pos="3238560"/>
                <a:tab algn="l" pos="3400560"/>
                <a:tab algn="l" pos="356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25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A Access to CPS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485640"/>
                <a:tab algn="l" pos="647640"/>
                <a:tab algn="l" pos="809640"/>
                <a:tab algn="l" pos="971640"/>
                <a:tab algn="l" pos="1133640"/>
                <a:tab algn="l" pos="1295280"/>
                <a:tab algn="l" pos="1457280"/>
                <a:tab algn="l" pos="1619280"/>
                <a:tab algn="l" pos="1781280"/>
                <a:tab algn="l" pos="1943280"/>
                <a:tab algn="l" pos="2104920"/>
                <a:tab algn="l" pos="2266920"/>
                <a:tab algn="l" pos="2428920"/>
                <a:tab algn="l" pos="2590920"/>
                <a:tab algn="l" pos="2752560"/>
                <a:tab algn="l" pos="2914560"/>
                <a:tab algn="l" pos="3076560"/>
                <a:tab algn="l" pos="3238560"/>
                <a:tab algn="l" pos="3400560"/>
                <a:tab algn="l" pos="356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26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-05 ISIR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485640"/>
                <a:tab algn="l" pos="647640"/>
                <a:tab algn="l" pos="809640"/>
                <a:tab algn="l" pos="971640"/>
                <a:tab algn="l" pos="1133640"/>
                <a:tab algn="l" pos="1295280"/>
                <a:tab algn="l" pos="1457280"/>
                <a:tab algn="l" pos="1619280"/>
                <a:tab algn="l" pos="1781280"/>
                <a:tab algn="l" pos="1943280"/>
                <a:tab algn="l" pos="2104920"/>
                <a:tab algn="l" pos="2266920"/>
                <a:tab algn="l" pos="2428920"/>
                <a:tab algn="l" pos="2590920"/>
                <a:tab algn="l" pos="2752560"/>
                <a:tab algn="l" pos="2914560"/>
                <a:tab algn="l" pos="3076560"/>
                <a:tab algn="l" pos="3238560"/>
                <a:tab algn="l" pos="3400560"/>
                <a:tab algn="l" pos="356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47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FSA IRS Match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85640"/>
                <a:tab algn="l" pos="647640"/>
                <a:tab algn="l" pos="809640"/>
                <a:tab algn="l" pos="971640"/>
                <a:tab algn="l" pos="1133640"/>
                <a:tab algn="l" pos="1295280"/>
                <a:tab algn="l" pos="1457280"/>
                <a:tab algn="l" pos="1619280"/>
                <a:tab algn="l" pos="1781280"/>
                <a:tab algn="l" pos="1943280"/>
                <a:tab algn="l" pos="2104920"/>
                <a:tab algn="l" pos="2266920"/>
                <a:tab algn="l" pos="2428920"/>
                <a:tab algn="l" pos="2590920"/>
                <a:tab algn="l" pos="2752560"/>
                <a:tab algn="l" pos="2914560"/>
                <a:tab algn="l" pos="3076560"/>
                <a:tab algn="l" pos="3238560"/>
                <a:tab algn="l" pos="3400560"/>
                <a:tab algn="l" pos="3562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C585-ABAC-4C84-AD8E-11597B6FB56C}" type="slidenum">
              <a:t>3</a:t>
            </a:fld>
          </a:p>
        </p:txBody>
      </p:sp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00400" y="496800"/>
            <a:ext cx="8596080" cy="14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FAFSA on the Web and </a:t>
            </a:r>
            <a:br>
              <a:rPr sz="3600"/>
            </a:b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Renewal FAFSA on the Web</a:t>
            </a:r>
            <a:br>
              <a:rPr sz="36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Enhanced Edits and Skip Logic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2207880"/>
            <a:ext cx="769608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ent students required to provide parents’ SSN, last name, first name initial, and D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tudent’s parent is single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ly one parent SSN, last name, first initial, and DOB can be provi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 asked if information is for father or m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ing Plans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 required to answer on FOT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rried forward from previous year on RFOT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E32D-5DC2-4144-839C-F35C8FFCA78E}" type="slidenum">
              <a:t>30</a:t>
            </a:fld>
          </a:p>
        </p:txBody>
      </p:sp>
    </p:spTree>
  </p:cSld>
  <p:transition spd="med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62320" y="563400"/>
            <a:ext cx="67831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FAFSA on the Web and </a:t>
            </a:r>
            <a:br>
              <a:rPr sz="3600"/>
            </a:b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Renewal FAFSA on the Web</a:t>
            </a:r>
            <a:br>
              <a:rPr sz="36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Electronic Signatur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040" y="1906560"/>
            <a:ext cx="76215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and parents can electronically sign within Web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validate that SSN used by parent to electronically sign matches SSN reported on the FAF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 with link to rejected SAR information sent to students if not all signatures were prov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83C7-5C77-495F-A7CA-DCA61CD84B73}" type="slidenum">
              <a:t>31</a:t>
            </a:fld>
          </a:p>
        </p:txBody>
      </p:sp>
    </p:spTree>
  </p:cSld>
  <p:transition spd="med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8280" y="609480"/>
            <a:ext cx="677880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School Applications</a:t>
            </a:r>
            <a:br>
              <a:rPr sz="33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AA Access to CPS Onlin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266720" y="2207880"/>
            <a:ext cx="449604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plemented in May 200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nhanced each ye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urrent version allows FAAs to 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iew students’ SAR inform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ter and submit FAFSA and Renewal FAFSA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rrect applicant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16670" r="2173" b="8335"/>
          <a:stretch/>
        </p:blipFill>
        <p:spPr>
          <a:xfrm>
            <a:off x="1143000" y="2438280"/>
            <a:ext cx="3049560" cy="298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7545-644D-4863-B4BD-AF2FE9D76905}" type="slidenum">
              <a:t>32</a:t>
            </a:fld>
          </a:p>
        </p:txBody>
      </p:sp>
    </p:spTree>
  </p:cSld>
  <p:transition spd="med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4560" y="537840"/>
            <a:ext cx="73166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School Applications</a:t>
            </a:r>
            <a:br>
              <a:rPr sz="4000"/>
            </a:b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DExpress and FAA Access to CPS Online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114800" y="2131560"/>
            <a:ext cx="4648320" cy="41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4-05, EDExpress will interface directly with FAA Access to CPS Online through an embedded 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ing on FAFSA Tab in EDExpress will take you to FAA Access Application Ent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 application and correction entry will be done in FAA Acces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27360" y="182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FAAAccess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3504960" cy="254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15B5-E5AA-4837-813B-508A8DEB45BD}" type="slidenum">
              <a:t>33</a:t>
            </a:fld>
          </a:p>
        </p:txBody>
      </p:sp>
    </p:spTree>
  </p:cSld>
  <p:transition spd="med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65200" y="533160"/>
            <a:ext cx="72360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School Applications</a:t>
            </a:r>
            <a:br>
              <a:rPr sz="4000"/>
            </a:b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DExpress and FAA Access to CPS Online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205596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ther Application Processing functionality still available in EDExp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IR Import/ISIR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IR Review ta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-Processed ISI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LDS Print, File Format/External Ex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DE59-6AE4-4201-BE74-EB7A43109ED7}" type="slidenum">
              <a:t>34</a:t>
            </a:fld>
          </a:p>
        </p:txBody>
      </p:sp>
    </p:spTree>
  </p:cSld>
  <p:transition spd="med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360160" y="609480"/>
            <a:ext cx="67834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FAA Access to CPS Online</a:t>
            </a:r>
            <a:br>
              <a:rPr sz="40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ew for 2004-05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360" y="2058840"/>
            <a:ext cx="74674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A Application Entr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d taxes paid calculator a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skip answering income and asset questions for some students who qualify for Automatic Zero EFC and S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ed signature page will include summary of application information entered by F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j0250085(p)" descr="Click To Download"/>
          <p:cNvPicPr/>
          <p:nvPr/>
        </p:nvPicPr>
        <p:blipFill>
          <a:blip r:embed="rId1"/>
          <a:stretch/>
        </p:blipFill>
        <p:spPr>
          <a:xfrm>
            <a:off x="7010280" y="1295280"/>
            <a:ext cx="1293840" cy="12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98CB-21CD-4581-9A22-BAB5636CFFF2}" type="slidenum">
              <a:t>35</a:t>
            </a:fld>
          </a:p>
        </p:txBody>
      </p:sp>
    </p:spTree>
  </p:cSld>
  <p:transition spd="med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76000" y="547560"/>
            <a:ext cx="859644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FAA Access to CPS Online</a:t>
            </a:r>
            <a:br>
              <a:rPr sz="40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ew for 2004-05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2T4 to the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IR Analysis Tool to the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FAA Access to CPS Online to request ISIRs from the ISIR Datam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B960-8833-4C9E-859A-A8F4E1682976}" type="slidenum">
              <a:t>36</a:t>
            </a:fld>
          </a:p>
        </p:txBody>
      </p:sp>
    </p:spTree>
  </p:cSld>
  <p:transition spd="med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17480" y="761760"/>
            <a:ext cx="67784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ISIR Datamart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2055960"/>
            <a:ext cx="723888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IR Datamart will be implemented on Jan. 2,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store 2004-05 ISIR data for retrieval and distribution to authorized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feature in FAA Access to CPS Online allows users to request ISIRs from Datam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pecific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E366-E5BF-4B8B-9B8B-E4942A7FE5A7}" type="slidenum">
              <a:t>37</a:t>
            </a:fld>
          </a:p>
        </p:txBody>
      </p:sp>
    </p:spTree>
  </p:cSld>
  <p:transition spd="med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17480" y="761760"/>
            <a:ext cx="67784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ISIR Datamart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2960" y="1979280"/>
            <a:ext cx="785016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7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ptions for receiving ISIRs -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i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requ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7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gn up through Participation Management Syst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ault is daily receipt (like current syste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 change option at any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rs who select daily receipt can also use Datamart to request ISI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65BD-6223-406F-B75C-053F26DD7A3D}" type="slidenum">
              <a:t>38</a:t>
            </a:fld>
          </a:p>
        </p:txBody>
      </p:sp>
    </p:spTree>
  </p:cSld>
  <p:transition spd="med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60160" y="533160"/>
            <a:ext cx="6783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ISIR Datamart</a:t>
            </a:r>
            <a:br>
              <a:rPr sz="40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Query Options for Retrieving ISIR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2131560"/>
            <a:ext cx="396252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SN/Name 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e range for receipt date or processed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action number: first, last, all, specific, or greater than 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titution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ad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79800" y="2055960"/>
            <a:ext cx="395928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endency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igibility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e of legal residence or state of colle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FC r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ification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teran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ation of these  fiel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73E8-D331-4DAD-9621-A7064FC2EAD9}" type="slidenum">
              <a:t>39</a:t>
            </a:fld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66880" y="425520"/>
            <a:ext cx="4648320" cy="13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Application Volume</a:t>
            </a:r>
            <a:br>
              <a:rPr sz="40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2002-03 and 2003-04</a:t>
            </a:r>
            <a:r>
              <a:rPr b="0" lang="en-US" sz="31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352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  <a:tab algn="l" pos="2367000"/>
                <a:tab algn="l" pos="2479680"/>
                <a:tab algn="l" pos="25923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10,692,66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  <a:tab algn="l" pos="2367000"/>
                <a:tab algn="l" pos="2479680"/>
                <a:tab algn="l" pos="2592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002-03 FAFSAs processed as of November 17, 2002 (week 4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  <a:tab algn="l" pos="2367000"/>
                <a:tab algn="l" pos="2479680"/>
                <a:tab algn="l" pos="25923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11,533,158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  <a:tab algn="l" pos="2367000"/>
                <a:tab algn="l" pos="2479680"/>
                <a:tab algn="l" pos="2592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003-04 FAFSAs processed as of November 16, 2003 (week 4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103640" y="2666880"/>
          <a:ext cx="5040360" cy="26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03640" y="2666880"/>
                    <a:ext cx="5040360" cy="26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3849120" y="5592600"/>
            <a:ext cx="4900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at’s an 7.8% increas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64A6-F634-420B-AE24-7229B687AA88}" type="slidenum">
              <a:t>4</a:t>
            </a:fld>
          </a:p>
        </p:txBody>
      </p:sp>
    </p:spTree>
  </p:cSld>
  <p:transition spd="med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376000" y="501480"/>
            <a:ext cx="8596440" cy="11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ISIR Datamart</a:t>
            </a:r>
            <a:br>
              <a:rPr sz="40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Query Requirement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2055960"/>
            <a:ext cx="792504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PA has authority to run quer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eries can be set up to run on demand or for a futur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ery must be completed before next query can be submit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st query entered is displayed when user returns to FAA Ac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imit on requesting same ISIR multiple ti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mart will be used for FDR, YTD and duplicate  reque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089D-767A-4876-8778-E6DD711009D0}" type="slidenum">
              <a:t>40</a:t>
            </a:fld>
          </a:p>
        </p:txBody>
      </p:sp>
    </p:spTree>
  </p:cSld>
  <p:transition spd="med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65200" y="533160"/>
            <a:ext cx="6778800" cy="11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ISIR Datamart</a:t>
            </a:r>
            <a:br>
              <a:rPr sz="40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Query Result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2160" y="2131560"/>
            <a:ext cx="761832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queries run against Datamart, files of requested ISIRs gene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s loaded to SAIG under separate message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s of requested ISIRs must be retrieved within 14 calendar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18ED-3102-491F-B4A8-5608EF448257}" type="slidenum">
              <a:t>41</a:t>
            </a:fld>
          </a:p>
        </p:txBody>
      </p:sp>
    </p:spTree>
  </p:cSld>
  <p:transition spd="med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6480" y="533160"/>
            <a:ext cx="6783480" cy="11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ISIR Datamart</a:t>
            </a:r>
            <a:br>
              <a:rPr sz="40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“Pushed” ISIR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59960" y="1827360"/>
            <a:ext cx="807876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ISIRs automatically “pushed” regardless of option selected by i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C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R C Cod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-generated transaction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LDS post-scre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 automated secondary confi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j0105204(p)" descr="Click To Download"/>
          <p:cNvPicPr/>
          <p:nvPr/>
        </p:nvPicPr>
        <p:blipFill>
          <a:blip r:embed="rId1"/>
          <a:srcRect l="0" t="20844" r="0" b="21907"/>
          <a:stretch/>
        </p:blipFill>
        <p:spPr>
          <a:xfrm>
            <a:off x="4724280" y="2743200"/>
            <a:ext cx="146376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0CB4-08F8-4CF1-BE64-D53B5B60B136}" type="slidenum">
              <a:t>42</a:t>
            </a:fld>
          </a:p>
        </p:txBody>
      </p:sp>
    </p:spTree>
  </p:cSld>
  <p:transition spd="med"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60160" y="882360"/>
            <a:ext cx="6783480" cy="11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ISIR Datamart</a:t>
            </a:r>
            <a:br>
              <a:rPr sz="4000"/>
            </a:b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8120" y="1828800"/>
            <a:ext cx="685620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See” IS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s must look at all “pushed” IS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 must request ISIRs for all enrolled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Message Clas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 IS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IRs requested through Datama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IRs “pushed” by C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5162-C31A-4C1C-8662-D21F4CC4A669}" type="slidenum">
              <a:t>43</a:t>
            </a:fld>
          </a:p>
        </p:txBody>
      </p:sp>
    </p:spTree>
  </p:cSld>
  <p:transition spd="med"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cc"/>
                </a:solidFill>
                <a:latin typeface="Arial"/>
              </a:rPr>
              <a:t>Processing Application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cc"/>
                </a:solidFill>
                <a:latin typeface="Arial"/>
              </a:rPr>
              <a:t>at the CP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cc"/>
                </a:solidFill>
                <a:latin typeface="Arial"/>
              </a:rPr>
              <a:t>2004-05 Chang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j0213488" descr=""/>
          <p:cNvPicPr/>
          <p:nvPr/>
        </p:nvPicPr>
        <p:blipFill>
          <a:blip r:embed="rId1"/>
          <a:stretch/>
        </p:blipFill>
        <p:spPr>
          <a:xfrm>
            <a:off x="3352680" y="3354480"/>
            <a:ext cx="2360880" cy="101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DA53-ECB4-4668-9325-4C0ED5AD83FF}" type="slidenum">
              <a:t>44</a:t>
            </a:fld>
          </a:p>
        </p:txBody>
      </p:sp>
    </p:spTree>
  </p:cSld>
  <p:transition spd="med"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13160" y="936720"/>
            <a:ext cx="6783120" cy="12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CPS Changes</a:t>
            </a:r>
            <a:br>
              <a:rPr sz="4000"/>
            </a:b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ore duplicate applications accep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igration and Naturalization Service match renamed Department of Homeland Security (D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TR00270_(p)" descr="Click To Download"/>
          <p:cNvPicPr/>
          <p:nvPr/>
        </p:nvPicPr>
        <p:blipFill>
          <a:blip r:embed="rId1"/>
          <a:stretch/>
        </p:blipFill>
        <p:spPr>
          <a:xfrm>
            <a:off x="3657600" y="4419720"/>
            <a:ext cx="1752480" cy="169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2CC1-E24E-47A5-A430-00F2288691B6}" type="slidenum">
              <a:t>45</a:t>
            </a:fld>
          </a:p>
        </p:txBody>
      </p:sp>
    </p:spTree>
  </p:cSld>
  <p:transition spd="med"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376000" y="501480"/>
            <a:ext cx="8596440" cy="11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CPS Changes</a:t>
            </a:r>
            <a:br>
              <a:rPr sz="40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SN Database Match with SS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2012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N match with SSA expanded to include parents of dependent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nts whose parent has SSA Date of Death (Match Flag = 5) will receive a SAR comment instead of being rej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s allowed to change SSN, even if SSA gave clean match flag of ‘4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0927-8B19-459D-B23E-5E0984C3DB25}" type="slidenum">
              <a:t>46</a:t>
            </a:fld>
          </a:p>
        </p:txBody>
      </p:sp>
    </p:spTree>
  </p:cSld>
  <p:transition spd="med"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0160" y="595080"/>
            <a:ext cx="6783480" cy="11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CPS Changes</a:t>
            </a:r>
            <a:br>
              <a:rPr sz="40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ew Reject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69644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  <a:tab algn="l" pos="2633760"/>
                <a:tab algn="l" pos="2759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jects for missing/discrepant parent SSN, last name, first name initial, and D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  <a:tab algn="l" pos="2633760"/>
                <a:tab algn="l" pos="2759040"/>
                <a:tab algn="l" pos="2884320"/>
                <a:tab algn="l" pos="3009960"/>
                <a:tab algn="l" pos="313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ejects 6, 7, S and 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376200"/>
                <a:tab algn="l" pos="501480"/>
                <a:tab algn="l" pos="627120"/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  <a:tab algn="l" pos="2633760"/>
                <a:tab algn="l" pos="2759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rejects for dependent students for excessive Taxes P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  <a:tab algn="l" pos="2633760"/>
                <a:tab algn="l" pos="2759040"/>
                <a:tab algn="l" pos="2884320"/>
                <a:tab algn="l" pos="3009960"/>
                <a:tab algn="l" pos="313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ejects 12 and 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752400"/>
                <a:tab algn="l" pos="878040"/>
                <a:tab algn="l" pos="1003320"/>
                <a:tab algn="l" pos="1128600"/>
                <a:tab algn="l" pos="1254240"/>
                <a:tab algn="l" pos="1379520"/>
                <a:tab algn="l" pos="1504800"/>
                <a:tab algn="l" pos="1630440"/>
                <a:tab algn="l" pos="1755720"/>
                <a:tab algn="l" pos="1881360"/>
                <a:tab algn="l" pos="2006640"/>
                <a:tab algn="l" pos="2131920"/>
                <a:tab algn="l" pos="2257560"/>
                <a:tab algn="l" pos="2382840"/>
                <a:tab algn="l" pos="2508120"/>
                <a:tab algn="l" pos="2633760"/>
                <a:tab algn="l" pos="2759040"/>
                <a:tab algn="l" pos="2884320"/>
                <a:tab algn="l" pos="3009960"/>
                <a:tab algn="l" pos="313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j0183406" descr=""/>
          <p:cNvPicPr/>
          <p:nvPr/>
        </p:nvPicPr>
        <p:blipFill>
          <a:blip r:embed="rId1"/>
          <a:stretch/>
        </p:blipFill>
        <p:spPr>
          <a:xfrm>
            <a:off x="6400800" y="533520"/>
            <a:ext cx="1293840" cy="123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01BC-DA7E-4585-B504-3E19803E1708}" type="slidenum">
              <a:t>47</a:t>
            </a:fld>
          </a:p>
        </p:txBody>
      </p:sp>
    </p:spTree>
  </p:cSld>
  <p:transition spd="med"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CPS Changes</a:t>
            </a:r>
            <a:br>
              <a:rPr sz="40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Multi-Year Applicant Databas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S re-engineered to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form cross-year edits to detect possible inconsistencies across application yea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e warning comments if edit is h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F19E-A87A-49F4-B6D6-4B0DEC692AF3}" type="slidenum">
              <a:t>48</a:t>
            </a:fld>
          </a:p>
        </p:txBody>
      </p:sp>
    </p:spTree>
  </p:cSld>
  <p:transition spd="med"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Application Result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ceiving and Reviewing Applicant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Institutions and Stu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E03865_" descr=""/>
          <p:cNvPicPr/>
          <p:nvPr/>
        </p:nvPicPr>
        <p:blipFill>
          <a:blip r:embed="rId1"/>
          <a:stretch/>
        </p:blipFill>
        <p:spPr>
          <a:xfrm>
            <a:off x="3733920" y="3657600"/>
            <a:ext cx="1360440" cy="144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B0C4-EBF2-4C3D-8A00-D240875622A6}" type="slidenum">
              <a:t>49</a:t>
            </a:fld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0560" y="885960"/>
            <a:ext cx="55623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Electronic Application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2600" y="2317680"/>
          <a:ext cx="9118800" cy="43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0" y="2317680"/>
                    <a:ext cx="9118800" cy="43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0" y="1523880"/>
            <a:ext cx="975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For the first 46 weeks of processing f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2001-02, 2002-03 and 2003-04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BDEE-6B81-4723-9828-1078C2AFE877}" type="slidenum">
              <a:t>5</a:t>
            </a:fld>
          </a:p>
        </p:txBody>
      </p:sp>
    </p:spTree>
  </p:cSld>
  <p:transition spd="med"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52320" y="625320"/>
            <a:ext cx="859644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The Institutional Student </a:t>
            </a:r>
            <a:br>
              <a:rPr sz="3600"/>
            </a:b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nformation Report (ISIR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23880" y="3733920"/>
            <a:ext cx="3810240" cy="27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0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A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SA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7960" y="3731760"/>
            <a:ext cx="3809880" cy="27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   EZ FAF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ew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213372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1981080"/>
            <a:ext cx="769608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IR layout will follow order of paper FAFSA quest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9528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w Data Source/Data Type codes with alpha-numeric valu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9528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F86D-7E04-4A55-8A7B-970214D66FDE}" type="slidenum">
              <a:t>50</a:t>
            </a:fld>
          </a:p>
        </p:txBody>
      </p:sp>
    </p:spTree>
  </p:cSld>
  <p:transition spd="med"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363760" y="487080"/>
            <a:ext cx="716112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The Institutional Student </a:t>
            </a:r>
            <a:br>
              <a:rPr sz="3600"/>
            </a:b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nformation Report (ISIR)</a:t>
            </a:r>
            <a:br>
              <a:rPr sz="36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ew Flag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8120" y="2212920"/>
            <a:ext cx="685620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e whether transaction is a result of address or e-mail address change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y parent SSN match flag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FL00052_" descr=""/>
          <p:cNvPicPr/>
          <p:nvPr/>
        </p:nvPicPr>
        <p:blipFill>
          <a:blip r:embed="rId1"/>
          <a:stretch/>
        </p:blipFill>
        <p:spPr>
          <a:xfrm>
            <a:off x="3733920" y="4800600"/>
            <a:ext cx="1009440" cy="12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95C6-EE1D-4664-91FC-B40C96535471}" type="slidenum">
              <a:t>51</a:t>
            </a:fld>
          </a:p>
        </p:txBody>
      </p:sp>
    </p:spTree>
  </p:cSld>
  <p:transition spd="med"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37920" y="617400"/>
            <a:ext cx="80010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The ISIR</a:t>
            </a:r>
            <a:br>
              <a:rPr sz="30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rogram Integrity and Verificatio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91800" y="2135160"/>
            <a:ext cx="738972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to conduct IRS statistical studies to improve verification selection criteria and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ication Tracking F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ed to 4 characte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er numbers continue to have higher prio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3B1A-65E9-4F19-8998-F19EBA05FED1}" type="slidenum">
              <a:t>52</a:t>
            </a:fld>
          </a:p>
        </p:txBody>
      </p:sp>
    </p:spTree>
  </p:cSld>
  <p:transition spd="med"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441520" y="533160"/>
            <a:ext cx="6778800" cy="11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The ISIR</a:t>
            </a:r>
            <a:br>
              <a:rPr sz="4000"/>
            </a:b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ecord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1800" y="2136600"/>
            <a:ext cx="754236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IRs in XML format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2004-05, ISIRs will not be in XML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2005-06, ISIRs will be in XML and current forma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2006-07, all schools will be required to receive ISIRs in XML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CL, GEN-03-09, on IFAP explains reasons for adjustment to implementation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8AC1-3173-43AA-B8BB-76B3170DB2F9}" type="slidenum">
              <a:t>53</a:t>
            </a:fld>
          </a:p>
        </p:txBody>
      </p:sp>
    </p:spTree>
  </p:cSld>
  <p:transition spd="med"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300400" y="898200"/>
            <a:ext cx="85960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The Student Aid Report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055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The paper S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ted on pink pa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stion order follows paper FAF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 first page, under ‘You (the Student),’ variable text used when student has eligibility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ent e-mail address printed on SAR, but not correc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R tells applicants they must call FSAIC to request a copy of their 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SAR Information on the We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ent e-mail address displayed and can be correc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B6BD-62CA-4A0A-9839-9F81701E9518}" type="slidenum">
              <a:t>54</a:t>
            </a:fld>
          </a:p>
        </p:txBody>
      </p:sp>
    </p:spTree>
  </p:cSld>
  <p:transition spd="med"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914040" y="1752120"/>
            <a:ext cx="7467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aking Corrections to Applicant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tudents and In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j0233858(p)" descr="Click To Download"/>
          <p:cNvPicPr/>
          <p:nvPr/>
        </p:nvPicPr>
        <p:blipFill>
          <a:blip r:embed="rId1"/>
          <a:stretch/>
        </p:blipFill>
        <p:spPr>
          <a:xfrm>
            <a:off x="3733920" y="3200400"/>
            <a:ext cx="1900080" cy="190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5A9E-E931-456C-B31C-87A38E92C725}" type="slidenum">
              <a:t>55</a:t>
            </a:fld>
          </a:p>
        </p:txBody>
      </p:sp>
    </p:spTree>
  </p:cSld>
  <p:transition spd="med">
    <p:zoom dir="ou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36480" y="609120"/>
            <a:ext cx="678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Making Correction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96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can correct data on their own us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 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ions on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students eligible for real-time Web corr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can work with a school to make corrections via FAA Access to CPS On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students eligible for real-time Web corr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can make corrections to certain fields by calling FSAIC at 1-800-4-FED-AI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275C-C5D5-4770-ACB0-BD9834F4A17B}" type="slidenum">
              <a:t>56</a:t>
            </a:fld>
          </a:p>
        </p:txBody>
      </p:sp>
    </p:spTree>
  </p:cSld>
  <p:transition spd="med">
    <p:zoom dir="ou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09320" y="74160"/>
            <a:ext cx="769644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Student Corrections on the Web</a:t>
            </a:r>
            <a:br>
              <a:rPr sz="36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eal-time Correction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7280" y="2058840"/>
            <a:ext cx="78454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tudent is eligible for real-time corrections on the Web, reprocessed results appear immediately on confirmation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cial” EFC displa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link to Student Access on the Web where student can view and print corrected SAR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eparate e-mail 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134B-9049-465A-A50B-C927E41DB4E3}" type="slidenum">
              <a:t>57</a:t>
            </a:fld>
          </a:p>
        </p:txBody>
      </p:sp>
    </p:spTree>
  </p:cSld>
  <p:transition spd="med">
    <p:zoom dir="ou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4560" y="539640"/>
            <a:ext cx="678312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FAA Access to CPS Online</a:t>
            </a:r>
            <a:br>
              <a:rPr sz="40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ew in Student Inquiry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419360" y="2060280"/>
            <a:ext cx="43434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display a list of all transactions for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f institution’s school code not listed on transaction no EFC will appe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f school code not on transaction, school can access with student’s DR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685800" y="2133720"/>
            <a:ext cx="3733920" cy="2906640"/>
            <a:chOff x="685800" y="2133720"/>
            <a:chExt cx="3733920" cy="2906640"/>
          </a:xfrm>
        </p:grpSpPr>
        <p:pic>
          <p:nvPicPr>
            <p:cNvPr id="218" name="" descr=""/>
            <p:cNvPicPr/>
            <p:nvPr/>
          </p:nvPicPr>
          <p:blipFill>
            <a:blip r:embed="rId1"/>
            <a:stretch/>
          </p:blipFill>
          <p:spPr>
            <a:xfrm>
              <a:off x="685800" y="2133720"/>
              <a:ext cx="3733920" cy="29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 txBox="1"/>
            <p:nvPr/>
          </p:nvSpPr>
          <p:spPr>
            <a:xfrm>
              <a:off x="685800" y="2133720"/>
              <a:ext cx="3733920" cy="2906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3333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07C6-19EA-4F67-9750-ECFB1607F6DF}" type="slidenum">
              <a:t>58</a:t>
            </a:fld>
          </a:p>
        </p:txBody>
      </p:sp>
    </p:spTree>
  </p:cSld>
  <p:transition spd="med">
    <p:zoom dir="ou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4560" y="539640"/>
            <a:ext cx="678312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FAA Access to CPS Online</a:t>
            </a:r>
            <a:br>
              <a:rPr sz="40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ew in Student Inquiry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19720" y="2514600"/>
            <a:ext cx="419400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new Verification Work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culates tolera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plays total “net” 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ves option to create FAA Corr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3600" y="1219320"/>
            <a:ext cx="2057400" cy="121896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477120" y="1523880"/>
            <a:ext cx="838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ew!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85800" y="2666880"/>
          <a:ext cx="3733920" cy="29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66880"/>
                    <a:ext cx="3733920" cy="29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ABF0-579A-4547-8D5A-43E3EE347738}" type="slidenum">
              <a:t>59</a:t>
            </a:fld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61960" y="610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Moving to a Paperless Process</a:t>
            </a:r>
            <a:br>
              <a:rPr sz="36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INs and Electronic Signatur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2880"/>
            <a:ext cx="38084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4520" indent="-344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Nov. 1998, more than 29 million individuals have received P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2-03, 4.1 million students and parents electronically signed the FAFSA using 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far in 2003-04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6 million have signed with 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649760" y="2590920"/>
          <a:ext cx="449424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9760" y="2590920"/>
                    <a:ext cx="449424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0988-4481-493D-B449-D7751FA03B74}" type="slidenum">
              <a:t>6</a:t>
            </a:fld>
          </a:p>
        </p:txBody>
      </p:sp>
    </p:spTree>
  </p:cSld>
  <p:transition>
    <p:zoom dir="ou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4560" y="609480"/>
            <a:ext cx="678312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FAA Access to CPS Online</a:t>
            </a:r>
            <a:br>
              <a:rPr sz="33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orrection Enhancement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A Corre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ll include estimated taxes paid calculat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As can correct student’s date of birt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A can correct student’s SSN if SSN match flag not equal to ‘4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ll determine if correction affects student’s eligibility for Auto Zero EFC or S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irmation page will tell FAA if corrected transaction was selected for ver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student provided e-mail address, e-mail will inform students that a school has made corrections on their behal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E3A3-1D2B-44FC-BC8C-EF591CA9A02C}" type="slidenum">
              <a:t>60</a:t>
            </a:fld>
          </a:p>
        </p:txBody>
      </p:sp>
    </p:spTree>
  </p:cSld>
  <p:transition spd="med">
    <p:zoom dir="ou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Other Noteworthy News and Important D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3048120" y="3809880"/>
          <a:ext cx="3200400" cy="217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809880"/>
                    <a:ext cx="3200400" cy="21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CB59-0034-463F-A091-AC8924D296E0}" type="slidenum">
              <a:t>61</a:t>
            </a:fld>
          </a:p>
        </p:txBody>
      </p:sp>
    </p:spTree>
  </p:cSld>
  <p:transition spd="med">
    <p:zoom dir="ou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362320" y="837720"/>
            <a:ext cx="678168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Other Noteworthy New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2120" y="1827360"/>
            <a:ext cx="76960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us of the IRS Income Verification Mat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hools must pay on Primary EFC unless student is ineligible for S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frame Test System available in mid-Novemb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esting of application and correctio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nts must have TG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nts not required to have federal schoo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DA98-5313-42D5-9EFE-55C1A2585D58}" type="slidenum">
              <a:t>62</a:t>
            </a:fld>
          </a:p>
        </p:txBody>
      </p:sp>
    </p:spTree>
  </p:cSld>
  <p:transition spd="med">
    <p:zoom dir="ou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438280" y="6094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Important Dates</a:t>
            </a:r>
            <a:br>
              <a:rPr sz="40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FAP Announcements and Document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1797120"/>
            <a:ext cx="8610480" cy="51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Monotype Sorts" charset="2"/>
              <a:buChar char=""/>
              <a:tabLst>
                <a:tab algn="l" pos="91764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ctober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–"/>
              <a:tabLst>
                <a:tab algn="l" pos="91764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xpress and FAA Access to CPS Online Changes on IF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Monotype Sorts" charset="2"/>
              <a:buChar char=""/>
              <a:tabLst>
                <a:tab algn="l" pos="91764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vember 200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–"/>
              <a:tabLst>
                <a:tab algn="l" pos="91764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Web Application Product Changes on IF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713474"/>
              </a:buClr>
              <a:buSzPct val="70000"/>
              <a:buFont typeface="Arial"/>
              <a:buChar char="–"/>
              <a:tabLst>
                <a:tab algn="l" pos="91764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uide to ISIRs on IF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713474"/>
              </a:buClr>
              <a:buSzPct val="70000"/>
              <a:buFont typeface="Arial"/>
              <a:buChar char="–"/>
              <a:tabLst>
                <a:tab algn="l" pos="91764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o 2004-05 EDE Technical Reference on IF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713474"/>
              </a:buClr>
              <a:buSzPct val="70000"/>
              <a:buFont typeface="Arial"/>
              <a:buChar char="–"/>
              <a:tabLst>
                <a:tab algn="l" pos="91764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eral School Code List mai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764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ecember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–"/>
              <a:tabLst>
                <a:tab algn="l" pos="91764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Processing System Chang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IF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764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57400" y="4343400"/>
            <a:ext cx="63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j0335906" descr=""/>
          <p:cNvPicPr/>
          <p:nvPr/>
        </p:nvPicPr>
        <p:blipFill>
          <a:blip r:embed="rId1"/>
          <a:stretch/>
        </p:blipFill>
        <p:spPr>
          <a:xfrm>
            <a:off x="7467480" y="4876920"/>
            <a:ext cx="1292400" cy="136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FB22-FBEE-4A34-9A67-C3F03F549BD8}" type="slidenum">
              <a:t>63</a:t>
            </a:fld>
          </a:p>
        </p:txBody>
      </p:sp>
    </p:spTree>
  </p:cSld>
  <p:transition>
    <p:zoom dir="ou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Important Dates</a:t>
            </a:r>
            <a:br>
              <a:rPr sz="40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Web Products and </a:t>
            </a:r>
            <a:br>
              <a:rPr sz="28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ystem Start Up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January 1,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FSA on the Web, Renewal FAFSA on the Web, Corrections on the Web available for applicants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A Access to CPS Online available to FA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January 2,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Processing System starts up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bd10136_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333440" cy="129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BA88-A404-49ED-A865-FB515186C748}" type="slidenum">
              <a:t>64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56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Moving to a Paperless Process</a:t>
            </a:r>
            <a:br>
              <a:rPr sz="3600"/>
            </a:b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-mail Messages with Links to PIN and SAR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2058840"/>
            <a:ext cx="73911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003-04, over 7 million students have provided e-mail addresses on their FAF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January 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7 million PIN e-mails 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10 million SAR e-mails 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j0288900(p)" descr="Click To Download"/>
          <p:cNvPicPr/>
          <p:nvPr/>
        </p:nvPicPr>
        <p:blipFill>
          <a:blip r:embed="rId1"/>
          <a:stretch/>
        </p:blipFill>
        <p:spPr>
          <a:xfrm>
            <a:off x="3809880" y="5257800"/>
            <a:ext cx="1068480" cy="106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E9C3-D200-4EF3-99E7-3639110777EC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838080" y="205596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3333cc"/>
                </a:solidFill>
                <a:latin typeface="Arial"/>
              </a:rPr>
              <a:t>Getting Ready for the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3333cc"/>
                </a:solidFill>
                <a:latin typeface="Arial"/>
              </a:rPr>
              <a:t>2004-05 Award Year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j0198838(p)" descr="Click To Download"/>
          <p:cNvPicPr/>
          <p:nvPr/>
        </p:nvPicPr>
        <p:blipFill>
          <a:blip r:embed="rId1"/>
          <a:stretch/>
        </p:blipFill>
        <p:spPr>
          <a:xfrm>
            <a:off x="3657600" y="3962520"/>
            <a:ext cx="190332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3BE2-B8DD-4B5E-A2BD-CDE23F939F70}" type="slidenum">
              <a:t>8</a:t>
            </a:fld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Order Paper FAFSA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57600" y="2207880"/>
            <a:ext cx="510696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4520" indent="-344520">
              <a:spcBef>
                <a:spcPts val="7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October, IFAP announcement posted about placing orders for paper 2004-05 FAFS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nks for continuing to reduce those paper FAFSA orders!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KG1B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2362320" cy="257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95FE-932B-47A2-A396-DAEDD026C58E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3T14:15:08Z</dcterms:created>
  <dc:creator>Paul.Hill.Jr</dc:creator>
  <dc:description/>
  <dc:language>en-US</dc:language>
  <cp:lastModifiedBy>jennifer.do</cp:lastModifiedBy>
  <dcterms:modified xsi:type="dcterms:W3CDTF">2003-12-08T20:01:49Z</dcterms:modified>
  <cp:revision>266</cp:revision>
  <dc:subject/>
  <dc:title>PowerPoint Presentation</dc:title>
</cp:coreProperties>
</file>