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23.gif" ContentType="image/gif"/>
  <Override PartName="/ppt/media/image6.wmf" ContentType="image/x-wmf"/>
  <Override PartName="/ppt/media/image10.wmf" ContentType="image/x-wmf"/>
  <Override PartName="/ppt/media/image22.wmf" ContentType="image/x-wmf"/>
  <Override PartName="/ppt/media/image5.wmf" ContentType="image/x-wmf"/>
  <Override PartName="/ppt/media/image20.wmf" ContentType="image/x-wmf"/>
  <Override PartName="/ppt/media/image3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72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1327-DD12-48C9-BD0B-985DAE76F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179352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90720" y="416016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B33E-E190-4F3C-8E2D-4ECDAC0C3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79352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73400" y="179352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90720" y="416016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73400" y="416016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6D8A-8DCC-4C1E-B454-14DD40616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90720" y="179352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18720" y="179352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246360" y="179352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90720" y="416016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618720" y="416016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246360" y="416016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4C96-40D7-412C-AEB8-A8B8A43D8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F538B-1E19-48F3-A813-4F6410001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90720" y="179352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A8098-D267-4144-8C41-FAA7E5264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79352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EA047-E3FB-47C6-B2DA-C86CE0843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79352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3400" y="179352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A2B73-1712-4965-B094-422A35C67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40BA7-FFCF-4A31-9A7D-1C57132AC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34F28-3A0B-4E95-8700-1FC62FFEE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79352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79352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90720" y="416016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4F9F6-AA14-4C09-B5CE-59A23278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90720" y="179352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FE28-3B06-4AE2-AB89-6959F227D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79352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79352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73400" y="416016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9EA80-57DB-4FAB-9EB8-1D35D0DC0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79352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73400" y="179352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90720" y="416016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BB804-DA41-4ADC-BB32-FBBE758F3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90720" y="179352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90720" y="416016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88240-7E25-4417-ABC4-5E4AE766F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179352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73400" y="179352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90720" y="416016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73400" y="416016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1F8BE-4F4E-441F-A1EE-015FA09D8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179352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18720" y="179352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246360" y="179352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90720" y="416016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18720" y="416016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246360" y="416016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EEF84-3867-49AC-893A-4437289B6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720" y="179352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B106-B12C-48DD-A83C-2707C6D84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179352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3400" y="179352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AEDF-D348-45AD-8F75-F2189465A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A693-32CC-40A7-A70D-1880A3C19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144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8CA2-435E-4549-A25E-B0069C80A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179352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73400" y="179352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720" y="416016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43A5-8B6C-42D5-89D3-1F10F3778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179352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73400" y="179352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73400" y="416016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6869-3E8F-46DC-8574-1FD2880A7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179352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73400" y="179352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90720" y="416016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3784-83B2-406D-9173-1CA5CA049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79352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1406520"/>
            <a:ext cx="8702640" cy="0"/>
          </a:xfrm>
          <a:prstGeom prst="line">
            <a:avLst/>
          </a:prstGeom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1447920"/>
            <a:ext cx="8763120" cy="0"/>
          </a:xfrm>
          <a:prstGeom prst="line">
            <a:avLst/>
          </a:prstGeom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Doefsa1" descr=""/>
          <p:cNvPicPr/>
          <p:nvPr/>
        </p:nvPicPr>
        <p:blipFill>
          <a:blip r:embed="rId2"/>
          <a:srcRect l="0" t="0" r="0" b="25495"/>
          <a:stretch/>
        </p:blipFill>
        <p:spPr>
          <a:xfrm>
            <a:off x="0" y="990720"/>
            <a:ext cx="831960" cy="8380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Doefsa1" descr=""/>
          <p:cNvPicPr/>
          <p:nvPr/>
        </p:nvPicPr>
        <p:blipFill>
          <a:blip r:embed="rId3"/>
          <a:srcRect l="0" t="94944" r="0" b="0"/>
          <a:stretch/>
        </p:blipFill>
        <p:spPr>
          <a:xfrm>
            <a:off x="6324480" y="6324480"/>
            <a:ext cx="2764080" cy="189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248160" y="6553080"/>
            <a:ext cx="2819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11AD4-306A-4DB8-8988-2CC70AC7877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66720" y="639720"/>
            <a:ext cx="8077320" cy="0"/>
          </a:xfrm>
          <a:prstGeom prst="line">
            <a:avLst/>
          </a:prstGeom>
          <a:ln w="442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4800600"/>
            <a:ext cx="990720" cy="0"/>
          </a:xfrm>
          <a:prstGeom prst="line">
            <a:avLst/>
          </a:prstGeom>
          <a:ln w="507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33832" t="0" r="8208" b="0"/>
          <a:stretch/>
        </p:blipFill>
        <p:spPr>
          <a:xfrm>
            <a:off x="0" y="0"/>
            <a:ext cx="1828800" cy="4791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297480" y="533520"/>
            <a:ext cx="2438640" cy="228600"/>
          </a:xfrm>
          <a:prstGeom prst="rect">
            <a:avLst/>
          </a:prstGeom>
          <a:solidFill>
            <a:srgbClr val="cc9900"/>
          </a:solidFill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3429000"/>
            <a:ext cx="7772400" cy="24382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38240" y="3733920"/>
            <a:ext cx="7648560" cy="213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FD320-89AD-458A-BECB-D0E1A0B1A08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99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99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www.ed.gov/fsacoach" TargetMode="External"/><Relationship Id="rId3" Type="http://schemas.openxmlformats.org/officeDocument/2006/relationships/hyperlink" Target="http://www.ed.gov/fsacoach" TargetMode="External"/><Relationship Id="rId4" Type="http://schemas.openxmlformats.org/officeDocument/2006/relationships/hyperlink" Target="http://www.ed.gov/fsacoach" TargetMode="External"/><Relationship Id="rId5" Type="http://schemas.openxmlformats.org/officeDocument/2006/relationships/hyperlink" Target="http://www.ed.gov/fsacoach" TargetMode="External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ed.gov/offices/OSFAP/training/newfaps.html#fundamentals" TargetMode="External"/><Relationship Id="rId2" Type="http://schemas.openxmlformats.org/officeDocument/2006/relationships/hyperlink" Target="http://www.ed.gov/offices/OSFAP/training/newfaps.html#fundamentals" TargetMode="External"/><Relationship Id="rId3" Type="http://schemas.openxmlformats.org/officeDocument/2006/relationships/hyperlink" Target="http://www.ed.gov/offices/OSFAP/training/newfaps.html#fundamentals" TargetMode="External"/><Relationship Id="rId4" Type="http://schemas.openxmlformats.org/officeDocument/2006/relationships/hyperlink" Target="http://www.ed.gov/offices/OSFAP/training/newfaps.html#fundamentals" TargetMode="External"/><Relationship Id="rId5" Type="http://schemas.openxmlformats.org/officeDocument/2006/relationships/hyperlink" Target="http://www.ed.gov/offices/OSFAP/training/newfaps.html#fundamentals" TargetMode="External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ed.gov/offices/OSFAP/training/newfaps.html#fundamentals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hyperlink" Target="http://edeworkshop.ncspearson.com/" TargetMode="External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8108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Arial"/>
              </a:rPr>
              <a:t>What’s Happening in FSA – </a:t>
            </a:r>
            <a:br>
              <a:rPr sz="4000"/>
            </a:br>
            <a:r>
              <a:rPr b="1" lang="en-US" sz="4000" spc="-1" strike="noStrike">
                <a:solidFill>
                  <a:srgbClr val="cc9900"/>
                </a:solidFill>
                <a:latin typeface="Arial"/>
              </a:rPr>
              <a:t>An Upd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742840" y="3885840"/>
            <a:ext cx="609588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aire “Micki” Roem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eral Manager, School Services and Training  Chann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llas, Tex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ch 6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Doefsa1" descr=""/>
          <p:cNvPicPr/>
          <p:nvPr/>
        </p:nvPicPr>
        <p:blipFill>
          <a:blip r:embed="rId1"/>
          <a:stretch/>
        </p:blipFill>
        <p:spPr>
          <a:xfrm>
            <a:off x="1295280" y="3884760"/>
            <a:ext cx="1243080" cy="16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Number of Pell Schools by School Type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ademic Year 2003-200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162840" y="2133720"/>
            <a:ext cx="5828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all Fonts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all Fonts"/>
              </a:rPr>
              <a:t>1,5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all Fonts"/>
              </a:rPr>
              <a:t>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908320" y="4800600"/>
            <a:ext cx="948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all Fonts"/>
              </a:rPr>
              <a:t>Propriet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all Fonts"/>
              </a:rPr>
              <a:t>1,84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all Fonts"/>
              </a:rPr>
              <a:t>3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184480" y="2495520"/>
            <a:ext cx="5050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all Fonts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all Fonts"/>
              </a:rPr>
              <a:t>1,7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all Fonts"/>
              </a:rPr>
              <a:t>3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048120" y="579132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 = 5,152 Sch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82680" y="1846440"/>
            <a:ext cx="8226360" cy="4092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0EBB-760A-44AC-918F-8ACCCDF2307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ll Proprietary Volume by State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ademic Year 2003-0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172200" y="4800600"/>
            <a:ext cx="1208160" cy="8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all Fonts"/>
              </a:rPr>
              <a:t>All Other St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all Fonts"/>
              </a:rPr>
              <a:t>$1.9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all Fonts"/>
              </a:rPr>
              <a:t>91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874840" y="1808280"/>
            <a:ext cx="877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$140.5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35320" y="1811160"/>
            <a:ext cx="787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$19.3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54200" y="1811160"/>
            <a:ext cx="787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$25.6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672280" y="1811160"/>
            <a:ext cx="697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$4.9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293000" y="1811160"/>
            <a:ext cx="697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$2.4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121560" y="5943600"/>
            <a:ext cx="28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 = $2.1 B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5105520" y="2549520"/>
            <a:ext cx="871560" cy="27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759760" y="2624040"/>
            <a:ext cx="3306960" cy="3298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69" y="0"/>
                </a:moveTo>
                <a:arcTo wR="10800" hR="10800" stAng="-5409926" swAng="62861"/>
                <a:lnTo>
                  <a:pt x="10800" y="10800"/>
                </a:lnTo>
                <a:close/>
              </a:path>
              <a:path fill="none" w="21600" h="21600">
                <a:moveTo>
                  <a:pt x="10769" y="0"/>
                </a:moveTo>
                <a:arcTo wR="10800" hR="10800" stAng="-5409926" swAng="62861"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769480" y="2625840"/>
            <a:ext cx="3287520" cy="3295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966" y="1"/>
                </a:moveTo>
                <a:arcTo wR="10800" hR="10800" stAng="-5347065" swAng="239499"/>
                <a:lnTo>
                  <a:pt x="10800" y="10800"/>
                </a:lnTo>
                <a:close/>
              </a:path>
              <a:path fill="none" w="21600" h="21600">
                <a:moveTo>
                  <a:pt x="10966" y="1"/>
                </a:moveTo>
                <a:arcTo wR="10800" hR="10800" stAng="-5347065" swAng="239499"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765880" y="2624760"/>
            <a:ext cx="3294720" cy="3297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718" y="39"/>
                </a:moveTo>
                <a:arcTo wR="10800" hR="10800" stAng="-5107566" swAng="62730"/>
                <a:lnTo>
                  <a:pt x="10800" y="10800"/>
                </a:lnTo>
                <a:close/>
              </a:path>
              <a:path fill="none" w="21600" h="21600">
                <a:moveTo>
                  <a:pt x="11718" y="39"/>
                </a:moveTo>
                <a:arcTo wR="10800" hR="10800" stAng="-5107566" swAng="62730"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765520" y="2625120"/>
            <a:ext cx="3295080" cy="329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914" y="58"/>
                </a:moveTo>
                <a:arcTo wR="10800" hR="10800" stAng="-5044836" swAng="173382"/>
                <a:lnTo>
                  <a:pt x="10800" y="10800"/>
                </a:lnTo>
                <a:close/>
              </a:path>
              <a:path fill="none" w="21600" h="21600">
                <a:moveTo>
                  <a:pt x="11914" y="58"/>
                </a:moveTo>
                <a:arcTo wR="10800" hR="10800" stAng="-5044836" swAng="173382"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763360" y="2625480"/>
            <a:ext cx="3299400" cy="329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454" y="127"/>
                </a:moveTo>
                <a:arcTo wR="10800" hR="10800" stAng="-4871454" swAng="1447736"/>
                <a:lnTo>
                  <a:pt x="10800" y="10800"/>
                </a:lnTo>
                <a:close/>
              </a:path>
              <a:path fill="none" w="21600" h="21600">
                <a:moveTo>
                  <a:pt x="12454" y="127"/>
                </a:moveTo>
                <a:arcTo wR="10800" hR="10800" stAng="-4871454" swAng="1447736"/>
              </a:path>
            </a:pathLst>
          </a:cu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63720" y="2624040"/>
            <a:ext cx="3296880" cy="3296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72" y="1736"/>
                </a:moveTo>
                <a:arcTo wR="10800" hR="10800" stAng="-3423718" swAng="19613792"/>
                <a:lnTo>
                  <a:pt x="10800" y="10800"/>
                </a:lnTo>
                <a:close/>
              </a:path>
              <a:path fill="none" w="21600" h="21600">
                <a:moveTo>
                  <a:pt x="16672" y="1736"/>
                </a:moveTo>
                <a:arcTo wR="10800" hR="10800" stAng="-3423718" swAng="19613792"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951280" y="2556000"/>
            <a:ext cx="0" cy="27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963160" y="2584800"/>
            <a:ext cx="1465200" cy="47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129200" y="2556000"/>
            <a:ext cx="380880" cy="633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4648320" y="2570040"/>
            <a:ext cx="630000" cy="446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3C44-DF4E-465A-AEAB-7FFB795BE35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umber of Pell Proprietary Schools by State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ademic Year 2003-0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237360" y="5105520"/>
            <a:ext cx="1230120" cy="8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all Fonts"/>
              </a:rPr>
              <a:t>All Other St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,57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506920" y="1712880"/>
            <a:ext cx="362160" cy="63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965840" y="1676520"/>
            <a:ext cx="360360" cy="63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422600" y="1676520"/>
            <a:ext cx="362160" cy="63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62440" y="1676520"/>
            <a:ext cx="366840" cy="63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284640" y="1676520"/>
            <a:ext cx="384120" cy="63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048120" y="586584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 = 1,844 Sch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4079880" y="2331720"/>
            <a:ext cx="722160" cy="25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625920" y="2332080"/>
            <a:ext cx="93960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5452920" y="2368080"/>
            <a:ext cx="289080" cy="4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703760" y="2341440"/>
            <a:ext cx="304920" cy="3049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460440" y="2189160"/>
          <a:ext cx="8226360" cy="4092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440" y="2189160"/>
                    <a:ext cx="8226360" cy="40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"/>
          <p:cNvSpPr/>
          <p:nvPr/>
        </p:nvSpPr>
        <p:spPr>
          <a:xfrm>
            <a:off x="5181480" y="2341440"/>
            <a:ext cx="0" cy="347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F45F-088D-4E51-A7C6-A254B2D4608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Loan Volume by Academic Year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219320" y="1905120"/>
            <a:ext cx="761760" cy="304560"/>
          </a:xfrm>
          <a:prstGeom prst="borderCallout1">
            <a:avLst>
              <a:gd name="adj1" fmla="val 18750"/>
              <a:gd name="adj2" fmla="val -8333"/>
              <a:gd name="adj3" fmla="val 581250"/>
              <a:gd name="adj4" fmla="val 11145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$35.9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045200" y="1752480"/>
            <a:ext cx="914400" cy="343080"/>
          </a:xfrm>
          <a:prstGeom prst="borderCallout1">
            <a:avLst>
              <a:gd name="adj1" fmla="val 18750"/>
              <a:gd name="adj2" fmla="val -8333"/>
              <a:gd name="adj3" fmla="val 282870"/>
              <a:gd name="adj4" fmla="val -1597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$55.9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9200" y="6186600"/>
            <a:ext cx="33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Based on gross commit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028880" y="2495520"/>
            <a:ext cx="203040" cy="3176640"/>
          </a:xfrm>
          <a:custGeom>
            <a:avLst/>
            <a:gdLst/>
            <a:ahLst/>
            <a:rect l="l" t="t" r="r" b="b"/>
            <a:pathLst>
              <a:path w="128" h="2001">
                <a:moveTo>
                  <a:pt x="0" y="2001"/>
                </a:moveTo>
                <a:lnTo>
                  <a:pt x="0" y="88"/>
                </a:lnTo>
                <a:lnTo>
                  <a:pt x="128" y="0"/>
                </a:lnTo>
                <a:lnTo>
                  <a:pt x="128" y="1912"/>
                </a:lnTo>
                <a:lnTo>
                  <a:pt x="0" y="200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057320" y="545616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936720" y="4941720"/>
            <a:ext cx="241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957240" y="4465800"/>
            <a:ext cx="241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57240" y="4008600"/>
            <a:ext cx="241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50760" y="3525840"/>
            <a:ext cx="241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971640" y="3017880"/>
            <a:ext cx="241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14400" y="3907440"/>
            <a:ext cx="840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$ Bill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440000" y="5781600"/>
            <a:ext cx="7948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9-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722680" y="5781600"/>
            <a:ext cx="7948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0-0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962520" y="5781600"/>
            <a:ext cx="7948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1-0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26040" y="5781600"/>
            <a:ext cx="7948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2-03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367680" y="5781600"/>
            <a:ext cx="7948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3-04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69840" y="2540160"/>
            <a:ext cx="241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219320" y="2362320"/>
            <a:ext cx="6524640" cy="3267000"/>
            <a:chOff x="1219320" y="2362320"/>
            <a:chExt cx="6524640" cy="3267000"/>
          </a:xfrm>
        </p:grpSpPr>
        <p:sp>
          <p:nvSpPr>
            <p:cNvPr id="252" name=""/>
            <p:cNvSpPr/>
            <p:nvPr/>
          </p:nvSpPr>
          <p:spPr>
            <a:xfrm>
              <a:off x="1266840" y="5267160"/>
              <a:ext cx="6477120" cy="314640"/>
            </a:xfrm>
            <a:custGeom>
              <a:avLst/>
              <a:gdLst/>
              <a:ahLst/>
              <a:rect l="l" t="t" r="r" b="b"/>
              <a:pathLst>
                <a:path w="4080" h="198">
                  <a:moveTo>
                    <a:pt x="0" y="198"/>
                  </a:moveTo>
                  <a:lnTo>
                    <a:pt x="264" y="0"/>
                  </a:lnTo>
                  <a:lnTo>
                    <a:pt x="4080" y="0"/>
                  </a:lnTo>
                  <a:lnTo>
                    <a:pt x="3816" y="198"/>
                  </a:lnTo>
                  <a:lnTo>
                    <a:pt x="0" y="19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266840" y="2362320"/>
              <a:ext cx="419040" cy="3219480"/>
            </a:xfrm>
            <a:custGeom>
              <a:avLst/>
              <a:gdLst/>
              <a:ahLst/>
              <a:rect l="l" t="t" r="r" b="b"/>
              <a:pathLst>
                <a:path w="264" h="2028">
                  <a:moveTo>
                    <a:pt x="0" y="2028"/>
                  </a:moveTo>
                  <a:lnTo>
                    <a:pt x="0" y="198"/>
                  </a:lnTo>
                  <a:lnTo>
                    <a:pt x="264" y="0"/>
                  </a:lnTo>
                  <a:lnTo>
                    <a:pt x="264" y="1830"/>
                  </a:lnTo>
                  <a:lnTo>
                    <a:pt x="0" y="2028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685880" y="2362320"/>
              <a:ext cx="6058080" cy="29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266840" y="5267160"/>
              <a:ext cx="6477120" cy="314640"/>
            </a:xfrm>
            <a:custGeom>
              <a:avLst/>
              <a:gdLst/>
              <a:ahLst/>
              <a:rect l="l" t="t" r="r" b="b"/>
              <a:pathLst>
                <a:path w="680" h="33">
                  <a:moveTo>
                    <a:pt x="0" y="33"/>
                  </a:moveTo>
                  <a:lnTo>
                    <a:pt x="44" y="0"/>
                  </a:lnTo>
                  <a:lnTo>
                    <a:pt x="68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266840" y="4781520"/>
              <a:ext cx="6477120" cy="314280"/>
            </a:xfrm>
            <a:custGeom>
              <a:avLst/>
              <a:gdLst/>
              <a:ahLst/>
              <a:rect l="l" t="t" r="r" b="b"/>
              <a:pathLst>
                <a:path w="680" h="33">
                  <a:moveTo>
                    <a:pt x="0" y="33"/>
                  </a:moveTo>
                  <a:lnTo>
                    <a:pt x="44" y="0"/>
                  </a:lnTo>
                  <a:lnTo>
                    <a:pt x="68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266840" y="4295880"/>
              <a:ext cx="6477120" cy="314280"/>
            </a:xfrm>
            <a:custGeom>
              <a:avLst/>
              <a:gdLst/>
              <a:ahLst/>
              <a:rect l="l" t="t" r="r" b="b"/>
              <a:pathLst>
                <a:path w="680" h="33">
                  <a:moveTo>
                    <a:pt x="0" y="33"/>
                  </a:moveTo>
                  <a:lnTo>
                    <a:pt x="44" y="0"/>
                  </a:lnTo>
                  <a:lnTo>
                    <a:pt x="68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266840" y="3819600"/>
              <a:ext cx="6477120" cy="304560"/>
            </a:xfrm>
            <a:custGeom>
              <a:avLst/>
              <a:gdLst/>
              <a:ahLst/>
              <a:rect l="l" t="t" r="r" b="b"/>
              <a:pathLst>
                <a:path w="680" h="32">
                  <a:moveTo>
                    <a:pt x="0" y="32"/>
                  </a:moveTo>
                  <a:lnTo>
                    <a:pt x="44" y="0"/>
                  </a:lnTo>
                  <a:lnTo>
                    <a:pt x="68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266840" y="3333600"/>
              <a:ext cx="6477120" cy="314640"/>
            </a:xfrm>
            <a:custGeom>
              <a:avLst/>
              <a:gdLst/>
              <a:ahLst/>
              <a:rect l="l" t="t" r="r" b="b"/>
              <a:pathLst>
                <a:path w="680" h="33">
                  <a:moveTo>
                    <a:pt x="0" y="33"/>
                  </a:moveTo>
                  <a:lnTo>
                    <a:pt x="44" y="0"/>
                  </a:lnTo>
                  <a:lnTo>
                    <a:pt x="68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266840" y="2847960"/>
              <a:ext cx="6477120" cy="314280"/>
            </a:xfrm>
            <a:custGeom>
              <a:avLst/>
              <a:gdLst/>
              <a:ahLst/>
              <a:rect l="l" t="t" r="r" b="b"/>
              <a:pathLst>
                <a:path w="680" h="33">
                  <a:moveTo>
                    <a:pt x="0" y="33"/>
                  </a:moveTo>
                  <a:lnTo>
                    <a:pt x="44" y="0"/>
                  </a:lnTo>
                  <a:lnTo>
                    <a:pt x="68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266840" y="2362320"/>
              <a:ext cx="6477120" cy="314280"/>
            </a:xfrm>
            <a:custGeom>
              <a:avLst/>
              <a:gdLst/>
              <a:ahLst/>
              <a:rect l="l" t="t" r="r" b="b"/>
              <a:pathLst>
                <a:path w="680" h="33">
                  <a:moveTo>
                    <a:pt x="0" y="33"/>
                  </a:moveTo>
                  <a:lnTo>
                    <a:pt x="44" y="0"/>
                  </a:lnTo>
                  <a:lnTo>
                    <a:pt x="68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266840" y="5267160"/>
              <a:ext cx="6477120" cy="314640"/>
            </a:xfrm>
            <a:custGeom>
              <a:avLst/>
              <a:gdLst/>
              <a:ahLst/>
              <a:rect l="l" t="t" r="r" b="b"/>
              <a:pathLst>
                <a:path w="4080" h="198">
                  <a:moveTo>
                    <a:pt x="4080" y="0"/>
                  </a:moveTo>
                  <a:lnTo>
                    <a:pt x="3816" y="198"/>
                  </a:lnTo>
                  <a:lnTo>
                    <a:pt x="0" y="198"/>
                  </a:lnTo>
                  <a:lnTo>
                    <a:pt x="264" y="0"/>
                  </a:lnTo>
                  <a:lnTo>
                    <a:pt x="4080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266840" y="2362320"/>
              <a:ext cx="419040" cy="3219480"/>
            </a:xfrm>
            <a:custGeom>
              <a:avLst/>
              <a:gdLst/>
              <a:ahLst/>
              <a:rect l="l" t="t" r="r" b="b"/>
              <a:pathLst>
                <a:path w="264" h="2028">
                  <a:moveTo>
                    <a:pt x="0" y="2028"/>
                  </a:moveTo>
                  <a:lnTo>
                    <a:pt x="0" y="198"/>
                  </a:lnTo>
                  <a:lnTo>
                    <a:pt x="264" y="0"/>
                  </a:lnTo>
                  <a:lnTo>
                    <a:pt x="264" y="1830"/>
                  </a:lnTo>
                  <a:lnTo>
                    <a:pt x="0" y="2028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685880" y="2362320"/>
              <a:ext cx="6058080" cy="29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238480" y="3619440"/>
              <a:ext cx="171360" cy="1866960"/>
            </a:xfrm>
            <a:custGeom>
              <a:avLst/>
              <a:gdLst/>
              <a:ahLst/>
              <a:rect l="l" t="t" r="r" b="b"/>
              <a:pathLst>
                <a:path w="108" h="1176">
                  <a:moveTo>
                    <a:pt x="0" y="1176"/>
                  </a:moveTo>
                  <a:lnTo>
                    <a:pt x="0" y="78"/>
                  </a:lnTo>
                  <a:lnTo>
                    <a:pt x="108" y="0"/>
                  </a:lnTo>
                  <a:lnTo>
                    <a:pt x="108" y="1098"/>
                  </a:lnTo>
                  <a:lnTo>
                    <a:pt x="0" y="1176"/>
                  </a:lnTo>
                  <a:close/>
                </a:path>
              </a:pathLst>
            </a:custGeom>
            <a:solidFill>
              <a:srgbClr val="80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762200" y="3743280"/>
              <a:ext cx="476280" cy="17431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762200" y="3619440"/>
              <a:ext cx="647640" cy="123840"/>
            </a:xfrm>
            <a:custGeom>
              <a:avLst/>
              <a:gdLst/>
              <a:ahLst/>
              <a:rect l="l" t="t" r="r" b="b"/>
              <a:pathLst>
                <a:path w="408" h="78">
                  <a:moveTo>
                    <a:pt x="300" y="78"/>
                  </a:moveTo>
                  <a:lnTo>
                    <a:pt x="408" y="0"/>
                  </a:lnTo>
                  <a:lnTo>
                    <a:pt x="102" y="0"/>
                  </a:lnTo>
                  <a:lnTo>
                    <a:pt x="0" y="78"/>
                  </a:lnTo>
                  <a:lnTo>
                    <a:pt x="300" y="78"/>
                  </a:lnTo>
                  <a:close/>
                </a:path>
              </a:pathLst>
            </a:custGeom>
            <a:solidFill>
              <a:srgbClr val="bf4d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457800" y="3524400"/>
              <a:ext cx="161640" cy="1962000"/>
            </a:xfrm>
            <a:custGeom>
              <a:avLst/>
              <a:gdLst/>
              <a:ahLst/>
              <a:rect l="l" t="t" r="r" b="b"/>
              <a:pathLst>
                <a:path w="102" h="1236">
                  <a:moveTo>
                    <a:pt x="0" y="1236"/>
                  </a:moveTo>
                  <a:lnTo>
                    <a:pt x="0" y="78"/>
                  </a:lnTo>
                  <a:lnTo>
                    <a:pt x="102" y="0"/>
                  </a:lnTo>
                  <a:lnTo>
                    <a:pt x="102" y="1158"/>
                  </a:lnTo>
                  <a:lnTo>
                    <a:pt x="0" y="1236"/>
                  </a:lnTo>
                  <a:close/>
                </a:path>
              </a:pathLst>
            </a:custGeom>
            <a:solidFill>
              <a:srgbClr val="80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71800" y="3648240"/>
              <a:ext cx="486000" cy="18381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71800" y="3524400"/>
              <a:ext cx="647640" cy="123840"/>
            </a:xfrm>
            <a:custGeom>
              <a:avLst/>
              <a:gdLst/>
              <a:ahLst/>
              <a:rect l="l" t="t" r="r" b="b"/>
              <a:pathLst>
                <a:path w="408" h="78">
                  <a:moveTo>
                    <a:pt x="306" y="78"/>
                  </a:moveTo>
                  <a:lnTo>
                    <a:pt x="408" y="0"/>
                  </a:lnTo>
                  <a:lnTo>
                    <a:pt x="102" y="0"/>
                  </a:lnTo>
                  <a:lnTo>
                    <a:pt x="0" y="78"/>
                  </a:lnTo>
                  <a:lnTo>
                    <a:pt x="306" y="78"/>
                  </a:lnTo>
                  <a:close/>
                </a:path>
              </a:pathLst>
            </a:custGeom>
            <a:solidFill>
              <a:srgbClr val="bf4d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667400" y="3333600"/>
              <a:ext cx="162000" cy="2152800"/>
            </a:xfrm>
            <a:custGeom>
              <a:avLst/>
              <a:gdLst/>
              <a:ahLst/>
              <a:rect l="l" t="t" r="r" b="b"/>
              <a:pathLst>
                <a:path w="102" h="1356">
                  <a:moveTo>
                    <a:pt x="0" y="1356"/>
                  </a:moveTo>
                  <a:lnTo>
                    <a:pt x="0" y="78"/>
                  </a:lnTo>
                  <a:lnTo>
                    <a:pt x="102" y="0"/>
                  </a:lnTo>
                  <a:lnTo>
                    <a:pt x="102" y="1278"/>
                  </a:lnTo>
                  <a:lnTo>
                    <a:pt x="0" y="1356"/>
                  </a:lnTo>
                  <a:close/>
                </a:path>
              </a:pathLst>
            </a:custGeom>
            <a:solidFill>
              <a:srgbClr val="80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181760" y="3457440"/>
              <a:ext cx="485640" cy="20289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181760" y="3333600"/>
              <a:ext cx="647640" cy="123840"/>
            </a:xfrm>
            <a:custGeom>
              <a:avLst/>
              <a:gdLst/>
              <a:ahLst/>
              <a:rect l="l" t="t" r="r" b="b"/>
              <a:pathLst>
                <a:path w="408" h="78">
                  <a:moveTo>
                    <a:pt x="306" y="78"/>
                  </a:moveTo>
                  <a:lnTo>
                    <a:pt x="408" y="0"/>
                  </a:lnTo>
                  <a:lnTo>
                    <a:pt x="102" y="0"/>
                  </a:lnTo>
                  <a:lnTo>
                    <a:pt x="0" y="78"/>
                  </a:lnTo>
                  <a:lnTo>
                    <a:pt x="306" y="78"/>
                  </a:lnTo>
                  <a:close/>
                </a:path>
              </a:pathLst>
            </a:custGeom>
            <a:solidFill>
              <a:srgbClr val="bf4d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877000" y="3038400"/>
              <a:ext cx="162000" cy="2448000"/>
            </a:xfrm>
            <a:custGeom>
              <a:avLst/>
              <a:gdLst/>
              <a:ahLst/>
              <a:rect l="l" t="t" r="r" b="b"/>
              <a:pathLst>
                <a:path w="102" h="1542">
                  <a:moveTo>
                    <a:pt x="0" y="1542"/>
                  </a:moveTo>
                  <a:lnTo>
                    <a:pt x="0" y="78"/>
                  </a:lnTo>
                  <a:lnTo>
                    <a:pt x="102" y="0"/>
                  </a:lnTo>
                  <a:lnTo>
                    <a:pt x="102" y="1464"/>
                  </a:lnTo>
                  <a:lnTo>
                    <a:pt x="0" y="1542"/>
                  </a:lnTo>
                  <a:close/>
                </a:path>
              </a:pathLst>
            </a:custGeom>
            <a:solidFill>
              <a:srgbClr val="80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91360" y="3162240"/>
              <a:ext cx="485640" cy="23241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391360" y="3038400"/>
              <a:ext cx="647640" cy="123840"/>
            </a:xfrm>
            <a:custGeom>
              <a:avLst/>
              <a:gdLst/>
              <a:ahLst/>
              <a:rect l="l" t="t" r="r" b="b"/>
              <a:pathLst>
                <a:path w="408" h="78">
                  <a:moveTo>
                    <a:pt x="306" y="78"/>
                  </a:moveTo>
                  <a:lnTo>
                    <a:pt x="408" y="0"/>
                  </a:lnTo>
                  <a:lnTo>
                    <a:pt x="102" y="0"/>
                  </a:lnTo>
                  <a:lnTo>
                    <a:pt x="0" y="78"/>
                  </a:lnTo>
                  <a:lnTo>
                    <a:pt x="306" y="78"/>
                  </a:lnTo>
                  <a:close/>
                </a:path>
              </a:pathLst>
            </a:custGeom>
            <a:solidFill>
              <a:srgbClr val="bf4d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86600" y="2657520"/>
              <a:ext cx="162000" cy="2828880"/>
            </a:xfrm>
            <a:custGeom>
              <a:avLst/>
              <a:gdLst/>
              <a:ahLst/>
              <a:rect l="l" t="t" r="r" b="b"/>
              <a:pathLst>
                <a:path w="102" h="1782">
                  <a:moveTo>
                    <a:pt x="0" y="1782"/>
                  </a:moveTo>
                  <a:lnTo>
                    <a:pt x="0" y="78"/>
                  </a:lnTo>
                  <a:lnTo>
                    <a:pt x="102" y="0"/>
                  </a:lnTo>
                  <a:lnTo>
                    <a:pt x="102" y="1704"/>
                  </a:lnTo>
                  <a:lnTo>
                    <a:pt x="0" y="1782"/>
                  </a:lnTo>
                  <a:close/>
                </a:path>
              </a:pathLst>
            </a:custGeom>
            <a:solidFill>
              <a:srgbClr val="80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600960" y="2781360"/>
              <a:ext cx="485640" cy="27050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600960" y="2657520"/>
              <a:ext cx="647640" cy="123840"/>
            </a:xfrm>
            <a:custGeom>
              <a:avLst/>
              <a:gdLst/>
              <a:ahLst/>
              <a:rect l="l" t="t" r="r" b="b"/>
              <a:pathLst>
                <a:path w="408" h="78">
                  <a:moveTo>
                    <a:pt x="306" y="78"/>
                  </a:moveTo>
                  <a:lnTo>
                    <a:pt x="408" y="0"/>
                  </a:lnTo>
                  <a:lnTo>
                    <a:pt x="108" y="0"/>
                  </a:lnTo>
                  <a:lnTo>
                    <a:pt x="0" y="78"/>
                  </a:lnTo>
                  <a:lnTo>
                    <a:pt x="306" y="78"/>
                  </a:lnTo>
                  <a:close/>
                </a:path>
              </a:pathLst>
            </a:custGeom>
            <a:solidFill>
              <a:srgbClr val="bf4d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1266840" y="2676600"/>
              <a:ext cx="1800" cy="290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1219320" y="5581800"/>
              <a:ext cx="47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1219320" y="5095800"/>
              <a:ext cx="47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1219320" y="4610160"/>
              <a:ext cx="47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1219320" y="4124160"/>
              <a:ext cx="47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1219320" y="3648240"/>
              <a:ext cx="47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1219320" y="3162240"/>
              <a:ext cx="47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1219320" y="2676600"/>
              <a:ext cx="47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266840" y="5581800"/>
              <a:ext cx="6058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266840" y="5581800"/>
              <a:ext cx="180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486160" y="558180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695760" y="5581800"/>
              <a:ext cx="180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905360" y="5581800"/>
              <a:ext cx="180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115320" y="558180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24920" y="558180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3F7D-DEF0-4D68-BC16-67261633F24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an Volume by School Typ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ademic Year 2003-0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419520" y="3352680"/>
            <a:ext cx="6181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all Fonts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all Fonts"/>
              </a:rPr>
              <a:t>$20.4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all Fonts"/>
              </a:rPr>
              <a:t>3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878000" y="5791320"/>
            <a:ext cx="948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all Fonts"/>
              </a:rPr>
              <a:t>Propriet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all Fonts"/>
              </a:rPr>
              <a:t>$9.8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all Fonts"/>
              </a:rPr>
              <a:t>18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030040" y="3657600"/>
            <a:ext cx="6181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all Fonts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all Fonts"/>
              </a:rPr>
              <a:t>$25.8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all Fonts"/>
              </a:rPr>
              <a:t>4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0800" y="2131920"/>
            <a:ext cx="303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 = $55.9 B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01680" y="6029280"/>
            <a:ext cx="33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Based on gross commit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8226720" cy="4092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AEA8-A411-4524-A8F6-2B09B2EE8C5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mber of Student Borrowers by School Type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ademic Year 2003-0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246120" y="5756400"/>
            <a:ext cx="27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 = 6.9 M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315120" y="2971800"/>
            <a:ext cx="5828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all Fonts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all Fonts"/>
              </a:rPr>
              <a:t>2.0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all Fonts"/>
              </a:rPr>
              <a:t>29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060960" y="4952880"/>
            <a:ext cx="948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all Fonts"/>
              </a:rPr>
              <a:t>Propriet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all Fonts"/>
              </a:rPr>
              <a:t>1.4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all Fonts"/>
              </a:rPr>
              <a:t>2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101680" y="3505320"/>
            <a:ext cx="5050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all Fonts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all Fonts"/>
              </a:rPr>
              <a:t>3.5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all Fonts"/>
              </a:rPr>
              <a:t>51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200" y="6186600"/>
            <a:ext cx="333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Based on gross commitment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2832120" y="2365200"/>
            <a:ext cx="3318120" cy="3317760"/>
            <a:chOff x="2832120" y="2365200"/>
            <a:chExt cx="3318120" cy="3317760"/>
          </a:xfrm>
        </p:grpSpPr>
        <p:sp>
          <p:nvSpPr>
            <p:cNvPr id="309" name=""/>
            <p:cNvSpPr/>
            <p:nvPr/>
          </p:nvSpPr>
          <p:spPr>
            <a:xfrm>
              <a:off x="2832480" y="2365200"/>
              <a:ext cx="3317040" cy="3317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69" y="0"/>
                  </a:moveTo>
                  <a:arcTo wR="10800" hR="10800" stAng="-5409869" swAng="624721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69" y="0"/>
                  </a:moveTo>
                  <a:arcTo wR="10800" hR="10800" stAng="-5409869" swAng="6247218"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832120" y="2366280"/>
              <a:ext cx="3317400" cy="3316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281" y="13405"/>
                  </a:moveTo>
                  <a:arcTo wR="10800" hR="10800" stAng="837349" swAng="427021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281" y="13405"/>
                  </a:moveTo>
                  <a:arcTo wR="10800" hR="10800" stAng="837349" swAng="4270217"/>
                </a:path>
              </a:pathLst>
            </a:cu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832120" y="2365200"/>
              <a:ext cx="3318120" cy="3317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718" y="21561"/>
                  </a:moveTo>
                  <a:arcTo wR="10800" hR="10800" stAng="5107566" swAng="110825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1718" y="21561"/>
                  </a:moveTo>
                  <a:arcTo wR="10800" hR="10800" stAng="5107566" swAng="11082565"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9219-878B-4B2C-86FA-F6B6F643E03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Number of DL and FFEL Schools by School Typ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ademic Year 2003-0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315120" y="3330720"/>
            <a:ext cx="5828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all Fonts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all Fonts"/>
              </a:rPr>
              <a:t>1,7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all Fonts"/>
              </a:rPr>
              <a:t>3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984640" y="5076720"/>
            <a:ext cx="948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all Fonts"/>
              </a:rPr>
              <a:t>Propriet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all Fonts"/>
              </a:rPr>
              <a:t>1,58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all Fonts"/>
              </a:rPr>
              <a:t>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50880" y="2568600"/>
            <a:ext cx="5050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all Fonts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all Fonts"/>
              </a:rPr>
              <a:t>1,9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all Fonts"/>
              </a:rPr>
              <a:t>37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009960" y="575640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 = 5,227 Sch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31480" y="579132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Based on g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it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832480" y="2365200"/>
            <a:ext cx="3317040" cy="331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69" y="0"/>
                </a:moveTo>
                <a:arcTo wR="10800" hR="10800" stAng="-5409869" swAng="7200720"/>
                <a:lnTo>
                  <a:pt x="10800" y="10800"/>
                </a:lnTo>
                <a:close/>
              </a:path>
              <a:path fill="none" w="21600" h="21600">
                <a:moveTo>
                  <a:pt x="10769" y="0"/>
                </a:moveTo>
                <a:arcTo wR="10800" hR="10800" stAng="-5409869" swAng="7200720"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833200" y="2365560"/>
            <a:ext cx="3317760" cy="331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167" y="16175"/>
                </a:moveTo>
                <a:arcTo wR="10800" hR="10800" stAng="1790850" swAng="6568067"/>
                <a:lnTo>
                  <a:pt x="10800" y="10800"/>
                </a:lnTo>
                <a:close/>
              </a:path>
              <a:path fill="none" w="21600" h="21600">
                <a:moveTo>
                  <a:pt x="20167" y="16175"/>
                </a:moveTo>
                <a:arcTo wR="10800" hR="10800" stAng="1790850" swAng="6568067"/>
              </a:path>
            </a:pathLst>
          </a:cu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832120" y="2365200"/>
            <a:ext cx="3317400" cy="331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610" y="17840"/>
                </a:moveTo>
                <a:arcTo wR="10800" hR="10800" stAng="8358918" swAng="7831213"/>
                <a:lnTo>
                  <a:pt x="10800" y="10800"/>
                </a:lnTo>
                <a:close/>
              </a:path>
              <a:path fill="none" w="21600" h="21600">
                <a:moveTo>
                  <a:pt x="2610" y="17840"/>
                </a:moveTo>
                <a:arcTo wR="10800" hR="10800" stAng="8358918" swAng="7831213"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70B0-21C7-4451-A92F-3EB2B6CDD84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Proprietary Loan Volume by State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ademic Year 2003-0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121280" y="1752480"/>
            <a:ext cx="515880" cy="8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all Fonts"/>
              </a:rPr>
              <a:t>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all Fonts"/>
              </a:rPr>
              <a:t>$13.1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all Fonts"/>
              </a:rPr>
              <a:t>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456000" y="1752480"/>
            <a:ext cx="582480" cy="8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all Fonts"/>
              </a:rPr>
              <a:t>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all Fonts"/>
              </a:rPr>
              <a:t>$45.9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all Fonts"/>
              </a:rPr>
              <a:t>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353200" y="1752480"/>
            <a:ext cx="666720" cy="8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all Fonts"/>
              </a:rPr>
              <a:t>T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all Fonts"/>
              </a:rPr>
              <a:t>$362.3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all Fonts"/>
              </a:rPr>
              <a:t>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019920" y="5181480"/>
            <a:ext cx="1143000" cy="8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all Fonts"/>
              </a:rPr>
              <a:t>All Other St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all Fonts"/>
              </a:rPr>
              <a:t>$9.3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all Fonts"/>
              </a:rPr>
              <a:t>9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02400" y="2739960"/>
            <a:ext cx="28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 = $9.8 B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873520" y="1752480"/>
            <a:ext cx="523800" cy="8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all Fonts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all Fonts"/>
              </a:rPr>
              <a:t>$3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all Font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mall Fonts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all Fonts"/>
              </a:rPr>
              <a:t>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695840" y="1752480"/>
            <a:ext cx="592200" cy="8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all Fonts"/>
              </a:rPr>
              <a:t>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all Fonts"/>
              </a:rPr>
              <a:t>$52.6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all Fonts"/>
              </a:rPr>
              <a:t>1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95120" y="6029280"/>
            <a:ext cx="33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Based on gross commit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380880" y="2438280"/>
          <a:ext cx="8126640" cy="4043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438280"/>
                    <a:ext cx="8126640" cy="40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2" name=""/>
          <p:cNvSpPr/>
          <p:nvPr/>
        </p:nvSpPr>
        <p:spPr>
          <a:xfrm flipH="1">
            <a:off x="4516200" y="2631960"/>
            <a:ext cx="438120" cy="182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4746240" y="2631960"/>
            <a:ext cx="865080" cy="2192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733920" y="2631960"/>
            <a:ext cx="685800" cy="1875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18D7-37F1-4580-BFE5-A5FD50E1BCB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ber of DL and FFEL Proprietary Schools by State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ademic Year 2003-0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9120" y="5105520"/>
            <a:ext cx="1230480" cy="8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all Fonts"/>
              </a:rPr>
              <a:t>All Other St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,4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9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445000" y="1712880"/>
            <a:ext cx="362160" cy="63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03920" y="1676520"/>
            <a:ext cx="360360" cy="63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361040" y="1676520"/>
            <a:ext cx="361800" cy="63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800520" y="1676520"/>
            <a:ext cx="366840" cy="63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222720" y="1676520"/>
            <a:ext cx="384120" cy="63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048120" y="586584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 = 1,581 Sch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H="1" flipV="1">
            <a:off x="4017960" y="2331720"/>
            <a:ext cx="722160" cy="25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564000" y="2332080"/>
            <a:ext cx="1096920" cy="25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5391000" y="2368080"/>
            <a:ext cx="289080" cy="4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5029200" y="2331720"/>
            <a:ext cx="73080" cy="29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641840" y="2341440"/>
            <a:ext cx="304920" cy="3049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566640" y="2209680"/>
            <a:ext cx="8126640" cy="40435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152280" y="5759280"/>
            <a:ext cx="354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Based on g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it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C7B3-404A-4F0F-BDBD-0083EC45100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ampus-Based Volume by Academic Yea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357280" y="2057400"/>
            <a:ext cx="843120" cy="316080"/>
          </a:xfrm>
          <a:prstGeom prst="borderCallout1">
            <a:avLst>
              <a:gd name="adj1" fmla="val 18750"/>
              <a:gd name="adj2" fmla="val -8333"/>
              <a:gd name="adj3" fmla="val 408541"/>
              <a:gd name="adj4" fmla="val -278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$2.9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086600" y="1893960"/>
            <a:ext cx="939960" cy="315720"/>
          </a:xfrm>
          <a:prstGeom prst="borderCallout1">
            <a:avLst>
              <a:gd name="adj1" fmla="val 18750"/>
              <a:gd name="adj2" fmla="val -8333"/>
              <a:gd name="adj3" fmla="val 264319"/>
              <a:gd name="adj4" fmla="val -810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$3.8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390680" y="2549520"/>
            <a:ext cx="707868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093680" y="55958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918000" y="5216400"/>
            <a:ext cx="30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093680" y="483696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918000" y="4457880"/>
            <a:ext cx="30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093680" y="40784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918000" y="3699000"/>
            <a:ext cx="30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093680" y="331956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918000" y="2938320"/>
            <a:ext cx="30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093680" y="255888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rot="16200000">
            <a:off x="128520" y="3970440"/>
            <a:ext cx="840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$ Bill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592280" y="5835600"/>
            <a:ext cx="7948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9-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819520" y="5835600"/>
            <a:ext cx="7948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0-0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038840" y="5835600"/>
            <a:ext cx="7948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1-0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181840" y="5835600"/>
            <a:ext cx="7948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2-03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400800" y="5835600"/>
            <a:ext cx="7948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3-04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1295280" y="2438280"/>
            <a:ext cx="6524640" cy="3267000"/>
            <a:chOff x="1295280" y="2438280"/>
            <a:chExt cx="6524640" cy="3267000"/>
          </a:xfrm>
        </p:grpSpPr>
        <p:sp>
          <p:nvSpPr>
            <p:cNvPr id="370" name=""/>
            <p:cNvSpPr/>
            <p:nvPr/>
          </p:nvSpPr>
          <p:spPr>
            <a:xfrm>
              <a:off x="1342800" y="5343120"/>
              <a:ext cx="6477120" cy="314640"/>
            </a:xfrm>
            <a:custGeom>
              <a:avLst/>
              <a:gdLst/>
              <a:ahLst/>
              <a:rect l="l" t="t" r="r" b="b"/>
              <a:pathLst>
                <a:path w="4080" h="198">
                  <a:moveTo>
                    <a:pt x="0" y="198"/>
                  </a:moveTo>
                  <a:lnTo>
                    <a:pt x="264" y="0"/>
                  </a:lnTo>
                  <a:lnTo>
                    <a:pt x="4080" y="0"/>
                  </a:lnTo>
                  <a:lnTo>
                    <a:pt x="3816" y="198"/>
                  </a:lnTo>
                  <a:lnTo>
                    <a:pt x="0" y="19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342800" y="2438280"/>
              <a:ext cx="419040" cy="3219480"/>
            </a:xfrm>
            <a:custGeom>
              <a:avLst/>
              <a:gdLst/>
              <a:ahLst/>
              <a:rect l="l" t="t" r="r" b="b"/>
              <a:pathLst>
                <a:path w="264" h="2028">
                  <a:moveTo>
                    <a:pt x="0" y="2028"/>
                  </a:moveTo>
                  <a:lnTo>
                    <a:pt x="0" y="198"/>
                  </a:lnTo>
                  <a:lnTo>
                    <a:pt x="264" y="0"/>
                  </a:lnTo>
                  <a:lnTo>
                    <a:pt x="264" y="1830"/>
                  </a:lnTo>
                  <a:lnTo>
                    <a:pt x="0" y="2028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761840" y="2438280"/>
              <a:ext cx="6058080" cy="29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342800" y="5343120"/>
              <a:ext cx="6477120" cy="314640"/>
            </a:xfrm>
            <a:custGeom>
              <a:avLst/>
              <a:gdLst/>
              <a:ahLst/>
              <a:rect l="l" t="t" r="r" b="b"/>
              <a:pathLst>
                <a:path w="680" h="33">
                  <a:moveTo>
                    <a:pt x="0" y="33"/>
                  </a:moveTo>
                  <a:lnTo>
                    <a:pt x="44" y="0"/>
                  </a:lnTo>
                  <a:lnTo>
                    <a:pt x="68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342800" y="4981320"/>
              <a:ext cx="6477120" cy="314280"/>
            </a:xfrm>
            <a:custGeom>
              <a:avLst/>
              <a:gdLst/>
              <a:ahLst/>
              <a:rect l="l" t="t" r="r" b="b"/>
              <a:pathLst>
                <a:path w="680" h="33">
                  <a:moveTo>
                    <a:pt x="0" y="33"/>
                  </a:moveTo>
                  <a:lnTo>
                    <a:pt x="44" y="0"/>
                  </a:lnTo>
                  <a:lnTo>
                    <a:pt x="68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342800" y="4619520"/>
              <a:ext cx="6477120" cy="314280"/>
            </a:xfrm>
            <a:custGeom>
              <a:avLst/>
              <a:gdLst/>
              <a:ahLst/>
              <a:rect l="l" t="t" r="r" b="b"/>
              <a:pathLst>
                <a:path w="680" h="33">
                  <a:moveTo>
                    <a:pt x="0" y="33"/>
                  </a:moveTo>
                  <a:lnTo>
                    <a:pt x="44" y="0"/>
                  </a:lnTo>
                  <a:lnTo>
                    <a:pt x="68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342800" y="4257360"/>
              <a:ext cx="6477120" cy="314280"/>
            </a:xfrm>
            <a:custGeom>
              <a:avLst/>
              <a:gdLst/>
              <a:ahLst/>
              <a:rect l="l" t="t" r="r" b="b"/>
              <a:pathLst>
                <a:path w="680" h="33">
                  <a:moveTo>
                    <a:pt x="0" y="33"/>
                  </a:moveTo>
                  <a:lnTo>
                    <a:pt x="44" y="0"/>
                  </a:lnTo>
                  <a:lnTo>
                    <a:pt x="68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342800" y="3895560"/>
              <a:ext cx="6477120" cy="304560"/>
            </a:xfrm>
            <a:custGeom>
              <a:avLst/>
              <a:gdLst/>
              <a:ahLst/>
              <a:rect l="l" t="t" r="r" b="b"/>
              <a:pathLst>
                <a:path w="680" h="32">
                  <a:moveTo>
                    <a:pt x="0" y="32"/>
                  </a:moveTo>
                  <a:lnTo>
                    <a:pt x="44" y="0"/>
                  </a:lnTo>
                  <a:lnTo>
                    <a:pt x="68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342800" y="3524040"/>
              <a:ext cx="6477120" cy="314280"/>
            </a:xfrm>
            <a:custGeom>
              <a:avLst/>
              <a:gdLst/>
              <a:ahLst/>
              <a:rect l="l" t="t" r="r" b="b"/>
              <a:pathLst>
                <a:path w="680" h="33">
                  <a:moveTo>
                    <a:pt x="0" y="33"/>
                  </a:moveTo>
                  <a:lnTo>
                    <a:pt x="44" y="0"/>
                  </a:lnTo>
                  <a:lnTo>
                    <a:pt x="68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342800" y="3161880"/>
              <a:ext cx="6477120" cy="314640"/>
            </a:xfrm>
            <a:custGeom>
              <a:avLst/>
              <a:gdLst/>
              <a:ahLst/>
              <a:rect l="l" t="t" r="r" b="b"/>
              <a:pathLst>
                <a:path w="680" h="33">
                  <a:moveTo>
                    <a:pt x="0" y="33"/>
                  </a:moveTo>
                  <a:lnTo>
                    <a:pt x="44" y="0"/>
                  </a:lnTo>
                  <a:lnTo>
                    <a:pt x="68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342800" y="2800080"/>
              <a:ext cx="6477120" cy="314280"/>
            </a:xfrm>
            <a:custGeom>
              <a:avLst/>
              <a:gdLst/>
              <a:ahLst/>
              <a:rect l="l" t="t" r="r" b="b"/>
              <a:pathLst>
                <a:path w="680" h="33">
                  <a:moveTo>
                    <a:pt x="0" y="33"/>
                  </a:moveTo>
                  <a:lnTo>
                    <a:pt x="44" y="0"/>
                  </a:lnTo>
                  <a:lnTo>
                    <a:pt x="68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342800" y="2438280"/>
              <a:ext cx="6477120" cy="314280"/>
            </a:xfrm>
            <a:custGeom>
              <a:avLst/>
              <a:gdLst/>
              <a:ahLst/>
              <a:rect l="l" t="t" r="r" b="b"/>
              <a:pathLst>
                <a:path w="680" h="33">
                  <a:moveTo>
                    <a:pt x="0" y="33"/>
                  </a:moveTo>
                  <a:lnTo>
                    <a:pt x="44" y="0"/>
                  </a:lnTo>
                  <a:lnTo>
                    <a:pt x="68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342800" y="5343120"/>
              <a:ext cx="6477120" cy="314640"/>
            </a:xfrm>
            <a:custGeom>
              <a:avLst/>
              <a:gdLst/>
              <a:ahLst/>
              <a:rect l="l" t="t" r="r" b="b"/>
              <a:pathLst>
                <a:path w="4080" h="198">
                  <a:moveTo>
                    <a:pt x="4080" y="0"/>
                  </a:moveTo>
                  <a:lnTo>
                    <a:pt x="3816" y="198"/>
                  </a:lnTo>
                  <a:lnTo>
                    <a:pt x="0" y="198"/>
                  </a:lnTo>
                  <a:lnTo>
                    <a:pt x="264" y="0"/>
                  </a:lnTo>
                  <a:lnTo>
                    <a:pt x="4080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342800" y="2438280"/>
              <a:ext cx="419040" cy="3219480"/>
            </a:xfrm>
            <a:custGeom>
              <a:avLst/>
              <a:gdLst/>
              <a:ahLst/>
              <a:rect l="l" t="t" r="r" b="b"/>
              <a:pathLst>
                <a:path w="264" h="2028">
                  <a:moveTo>
                    <a:pt x="0" y="2028"/>
                  </a:moveTo>
                  <a:lnTo>
                    <a:pt x="0" y="198"/>
                  </a:lnTo>
                  <a:lnTo>
                    <a:pt x="264" y="0"/>
                  </a:lnTo>
                  <a:lnTo>
                    <a:pt x="264" y="1830"/>
                  </a:lnTo>
                  <a:lnTo>
                    <a:pt x="0" y="2028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761840" y="2438280"/>
              <a:ext cx="6058080" cy="29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314440" y="3333600"/>
              <a:ext cx="171360" cy="2228760"/>
            </a:xfrm>
            <a:custGeom>
              <a:avLst/>
              <a:gdLst/>
              <a:ahLst/>
              <a:rect l="l" t="t" r="r" b="b"/>
              <a:pathLst>
                <a:path w="108" h="1404">
                  <a:moveTo>
                    <a:pt x="0" y="1404"/>
                  </a:moveTo>
                  <a:lnTo>
                    <a:pt x="0" y="78"/>
                  </a:lnTo>
                  <a:lnTo>
                    <a:pt x="108" y="0"/>
                  </a:lnTo>
                  <a:lnTo>
                    <a:pt x="108" y="1326"/>
                  </a:lnTo>
                  <a:lnTo>
                    <a:pt x="0" y="1404"/>
                  </a:lnTo>
                  <a:close/>
                </a:path>
              </a:pathLst>
            </a:custGeom>
            <a:solidFill>
              <a:srgbClr val="80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838160" y="3457440"/>
              <a:ext cx="476280" cy="21049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838160" y="3333600"/>
              <a:ext cx="647640" cy="123840"/>
            </a:xfrm>
            <a:custGeom>
              <a:avLst/>
              <a:gdLst/>
              <a:ahLst/>
              <a:rect l="l" t="t" r="r" b="b"/>
              <a:pathLst>
                <a:path w="408" h="78">
                  <a:moveTo>
                    <a:pt x="300" y="78"/>
                  </a:moveTo>
                  <a:lnTo>
                    <a:pt x="408" y="0"/>
                  </a:lnTo>
                  <a:lnTo>
                    <a:pt x="102" y="0"/>
                  </a:lnTo>
                  <a:lnTo>
                    <a:pt x="0" y="78"/>
                  </a:lnTo>
                  <a:lnTo>
                    <a:pt x="300" y="78"/>
                  </a:lnTo>
                  <a:close/>
                </a:path>
              </a:pathLst>
            </a:custGeom>
            <a:solidFill>
              <a:srgbClr val="bf4d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533400" y="3257280"/>
              <a:ext cx="162000" cy="2305080"/>
            </a:xfrm>
            <a:custGeom>
              <a:avLst/>
              <a:gdLst/>
              <a:ahLst/>
              <a:rect l="l" t="t" r="r" b="b"/>
              <a:pathLst>
                <a:path w="102" h="1452">
                  <a:moveTo>
                    <a:pt x="0" y="1452"/>
                  </a:moveTo>
                  <a:lnTo>
                    <a:pt x="0" y="78"/>
                  </a:lnTo>
                  <a:lnTo>
                    <a:pt x="102" y="0"/>
                  </a:lnTo>
                  <a:lnTo>
                    <a:pt x="102" y="1374"/>
                  </a:lnTo>
                  <a:lnTo>
                    <a:pt x="0" y="1452"/>
                  </a:lnTo>
                  <a:close/>
                </a:path>
              </a:pathLst>
            </a:custGeom>
            <a:solidFill>
              <a:srgbClr val="80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047760" y="3381120"/>
              <a:ext cx="485640" cy="21812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047760" y="3257280"/>
              <a:ext cx="647640" cy="123840"/>
            </a:xfrm>
            <a:custGeom>
              <a:avLst/>
              <a:gdLst/>
              <a:ahLst/>
              <a:rect l="l" t="t" r="r" b="b"/>
              <a:pathLst>
                <a:path w="408" h="78">
                  <a:moveTo>
                    <a:pt x="306" y="78"/>
                  </a:moveTo>
                  <a:lnTo>
                    <a:pt x="408" y="0"/>
                  </a:lnTo>
                  <a:lnTo>
                    <a:pt x="102" y="0"/>
                  </a:lnTo>
                  <a:lnTo>
                    <a:pt x="0" y="78"/>
                  </a:lnTo>
                  <a:lnTo>
                    <a:pt x="306" y="78"/>
                  </a:lnTo>
                  <a:close/>
                </a:path>
              </a:pathLst>
            </a:custGeom>
            <a:solidFill>
              <a:srgbClr val="bf4d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743360" y="3038040"/>
              <a:ext cx="161640" cy="2524320"/>
            </a:xfrm>
            <a:custGeom>
              <a:avLst/>
              <a:gdLst/>
              <a:ahLst/>
              <a:rect l="l" t="t" r="r" b="b"/>
              <a:pathLst>
                <a:path w="102" h="1590">
                  <a:moveTo>
                    <a:pt x="0" y="1590"/>
                  </a:moveTo>
                  <a:lnTo>
                    <a:pt x="0" y="78"/>
                  </a:lnTo>
                  <a:lnTo>
                    <a:pt x="102" y="0"/>
                  </a:lnTo>
                  <a:lnTo>
                    <a:pt x="102" y="1512"/>
                  </a:lnTo>
                  <a:lnTo>
                    <a:pt x="0" y="1590"/>
                  </a:lnTo>
                  <a:close/>
                </a:path>
              </a:pathLst>
            </a:custGeom>
            <a:solidFill>
              <a:srgbClr val="80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257360" y="3161880"/>
              <a:ext cx="486000" cy="24004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257360" y="3038040"/>
              <a:ext cx="647640" cy="123840"/>
            </a:xfrm>
            <a:custGeom>
              <a:avLst/>
              <a:gdLst/>
              <a:ahLst/>
              <a:rect l="l" t="t" r="r" b="b"/>
              <a:pathLst>
                <a:path w="408" h="78">
                  <a:moveTo>
                    <a:pt x="306" y="78"/>
                  </a:moveTo>
                  <a:lnTo>
                    <a:pt x="408" y="0"/>
                  </a:lnTo>
                  <a:lnTo>
                    <a:pt x="102" y="0"/>
                  </a:lnTo>
                  <a:lnTo>
                    <a:pt x="0" y="78"/>
                  </a:lnTo>
                  <a:lnTo>
                    <a:pt x="306" y="78"/>
                  </a:lnTo>
                  <a:close/>
                </a:path>
              </a:pathLst>
            </a:custGeom>
            <a:solidFill>
              <a:srgbClr val="bf4d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952960" y="2819160"/>
              <a:ext cx="162000" cy="2743200"/>
            </a:xfrm>
            <a:custGeom>
              <a:avLst/>
              <a:gdLst/>
              <a:ahLst/>
              <a:rect l="l" t="t" r="r" b="b"/>
              <a:pathLst>
                <a:path w="102" h="1728">
                  <a:moveTo>
                    <a:pt x="0" y="1728"/>
                  </a:moveTo>
                  <a:lnTo>
                    <a:pt x="0" y="84"/>
                  </a:lnTo>
                  <a:lnTo>
                    <a:pt x="102" y="0"/>
                  </a:lnTo>
                  <a:lnTo>
                    <a:pt x="102" y="1650"/>
                  </a:lnTo>
                  <a:lnTo>
                    <a:pt x="0" y="1728"/>
                  </a:lnTo>
                  <a:close/>
                </a:path>
              </a:pathLst>
            </a:custGeom>
            <a:solidFill>
              <a:srgbClr val="80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466960" y="2952360"/>
              <a:ext cx="486000" cy="2610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466960" y="2819160"/>
              <a:ext cx="648000" cy="133200"/>
            </a:xfrm>
            <a:custGeom>
              <a:avLst/>
              <a:gdLst/>
              <a:ahLst/>
              <a:rect l="l" t="t" r="r" b="b"/>
              <a:pathLst>
                <a:path w="408" h="84">
                  <a:moveTo>
                    <a:pt x="306" y="84"/>
                  </a:moveTo>
                  <a:lnTo>
                    <a:pt x="408" y="0"/>
                  </a:lnTo>
                  <a:lnTo>
                    <a:pt x="102" y="0"/>
                  </a:lnTo>
                  <a:lnTo>
                    <a:pt x="0" y="84"/>
                  </a:lnTo>
                  <a:lnTo>
                    <a:pt x="306" y="84"/>
                  </a:lnTo>
                  <a:close/>
                </a:path>
              </a:pathLst>
            </a:custGeom>
            <a:solidFill>
              <a:srgbClr val="bf4d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162560" y="2676240"/>
              <a:ext cx="162000" cy="2886120"/>
            </a:xfrm>
            <a:custGeom>
              <a:avLst/>
              <a:gdLst/>
              <a:ahLst/>
              <a:rect l="l" t="t" r="r" b="b"/>
              <a:pathLst>
                <a:path w="102" h="1818">
                  <a:moveTo>
                    <a:pt x="0" y="1818"/>
                  </a:moveTo>
                  <a:lnTo>
                    <a:pt x="0" y="78"/>
                  </a:lnTo>
                  <a:lnTo>
                    <a:pt x="102" y="0"/>
                  </a:lnTo>
                  <a:lnTo>
                    <a:pt x="102" y="1740"/>
                  </a:lnTo>
                  <a:lnTo>
                    <a:pt x="0" y="1818"/>
                  </a:lnTo>
                  <a:close/>
                </a:path>
              </a:pathLst>
            </a:custGeom>
            <a:solidFill>
              <a:srgbClr val="80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676920" y="2800080"/>
              <a:ext cx="485640" cy="2762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676920" y="2676240"/>
              <a:ext cx="647640" cy="123840"/>
            </a:xfrm>
            <a:custGeom>
              <a:avLst/>
              <a:gdLst/>
              <a:ahLst/>
              <a:rect l="l" t="t" r="r" b="b"/>
              <a:pathLst>
                <a:path w="408" h="78">
                  <a:moveTo>
                    <a:pt x="306" y="78"/>
                  </a:moveTo>
                  <a:lnTo>
                    <a:pt x="408" y="0"/>
                  </a:lnTo>
                  <a:lnTo>
                    <a:pt x="108" y="0"/>
                  </a:lnTo>
                  <a:lnTo>
                    <a:pt x="0" y="78"/>
                  </a:lnTo>
                  <a:lnTo>
                    <a:pt x="306" y="78"/>
                  </a:lnTo>
                  <a:close/>
                </a:path>
              </a:pathLst>
            </a:custGeom>
            <a:solidFill>
              <a:srgbClr val="bf4d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1342800" y="2752560"/>
              <a:ext cx="1440" cy="290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1295280" y="5657760"/>
              <a:ext cx="47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1295280" y="5295600"/>
              <a:ext cx="47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1295280" y="4933800"/>
              <a:ext cx="47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1295280" y="4571640"/>
              <a:ext cx="47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1295280" y="4200120"/>
              <a:ext cx="47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1295280" y="3838320"/>
              <a:ext cx="47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1295280" y="3476520"/>
              <a:ext cx="47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1295280" y="3114360"/>
              <a:ext cx="47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1295280" y="2752560"/>
              <a:ext cx="47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342800" y="5657760"/>
              <a:ext cx="6057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42800" y="565776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562120" y="565776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771720" y="565776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981320" y="565776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190920" y="5657760"/>
              <a:ext cx="180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400520" y="5657760"/>
              <a:ext cx="180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AF5D-CF24-46E4-91AE-832C150C209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Happen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720" y="179352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Arial"/>
              </a:rPr>
              <a:t>Electronic filing of the </a:t>
            </a:r>
            <a:r>
              <a:rPr b="1" i="1" lang="en-US" sz="2800" spc="-1" strike="noStrike">
                <a:solidFill>
                  <a:srgbClr val="cc9900"/>
                </a:solidFill>
                <a:latin typeface="Arial"/>
              </a:rPr>
              <a:t>FAFSA</a:t>
            </a:r>
            <a:r>
              <a:rPr b="1" lang="en-US" sz="2800" spc="-1" strike="noStrike">
                <a:solidFill>
                  <a:srgbClr val="cc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9900"/>
                </a:solidFill>
                <a:latin typeface="Arial"/>
              </a:rPr>
              <a:t>is up 13.7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Arial"/>
                <a:ea typeface="Arial"/>
              </a:rPr>
              <a:t>For the period ending February 19</a:t>
            </a:r>
            <a:r>
              <a:rPr b="1" lang="en-US" sz="2400" spc="-1" strike="noStrike" baseline="30000">
                <a:solidFill>
                  <a:srgbClr val="cc9900"/>
                </a:solidFill>
                <a:latin typeface="Arial"/>
                <a:ea typeface="Arial"/>
              </a:rPr>
              <a:t>th</a:t>
            </a:r>
            <a:r>
              <a:rPr b="1" lang="en-US" sz="2400" spc="-1" strike="noStrike">
                <a:solidFill>
                  <a:srgbClr val="cc9900"/>
                </a:solidFill>
                <a:latin typeface="Arial"/>
                <a:ea typeface="Arial"/>
              </a:rPr>
              <a:t>, 12.9 million students have filed for 04/05 – up 3.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9900"/>
                </a:solidFill>
                <a:latin typeface="Arial"/>
                <a:ea typeface="Arial"/>
              </a:rPr>
              <a:t>My FSA</a:t>
            </a:r>
            <a:r>
              <a:rPr b="0" lang="en-US" sz="2400" spc="-1" strike="noStrike">
                <a:solidFill>
                  <a:srgbClr val="cc9900"/>
                </a:solidFill>
                <a:latin typeface="Arial"/>
                <a:ea typeface="Arial"/>
              </a:rPr>
              <a:t>,</a:t>
            </a:r>
            <a:r>
              <a:rPr b="1" lang="en-US" sz="2400" spc="-1" strike="noStrike">
                <a:solidFill>
                  <a:srgbClr val="cc9900"/>
                </a:solidFill>
                <a:latin typeface="Arial"/>
                <a:ea typeface="Arial"/>
              </a:rPr>
              <a:t> a </a:t>
            </a:r>
            <a:r>
              <a:rPr b="1" i="1" lang="en-US" sz="2400" spc="-1" strike="noStrike">
                <a:solidFill>
                  <a:srgbClr val="cc9900"/>
                </a:solidFill>
                <a:latin typeface="Arial"/>
                <a:ea typeface="Arial"/>
              </a:rPr>
              <a:t>Student Aid on the Web</a:t>
            </a:r>
            <a:r>
              <a:rPr b="1" lang="en-US" sz="2400" spc="-1" strike="noStrike">
                <a:solidFill>
                  <a:srgbClr val="cc9900"/>
                </a:solidFill>
                <a:latin typeface="Arial"/>
                <a:ea typeface="Arial"/>
              </a:rPr>
              <a:t> feature, has record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Arial"/>
                <a:ea typeface="Arial"/>
              </a:rPr>
              <a:t>76,198 cumulative accou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Arial"/>
                <a:ea typeface="Arial"/>
              </a:rPr>
              <a:t>Currently Averaging 270 new accounts per da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Arial"/>
                <a:ea typeface="Arial"/>
              </a:rPr>
              <a:t>Recorded 316,635 visits for the week ending February 26</a:t>
            </a:r>
            <a:r>
              <a:rPr b="1" lang="en-US" sz="2400" spc="-1" strike="noStrike" baseline="30000">
                <a:solidFill>
                  <a:srgbClr val="cc9900"/>
                </a:solidFill>
                <a:latin typeface="Arial"/>
                <a:ea typeface="Arial"/>
              </a:rPr>
              <a:t>th</a:t>
            </a:r>
            <a:r>
              <a:rPr b="1" lang="en-US" sz="2400" spc="-1" strike="noStrike">
                <a:solidFill>
                  <a:srgbClr val="cc99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Arial"/>
                <a:ea typeface="Arial"/>
              </a:rPr>
              <a:t>Week ending February 26</a:t>
            </a:r>
            <a:r>
              <a:rPr b="1" lang="en-US" sz="2400" spc="-1" strike="noStrike" baseline="30000">
                <a:solidFill>
                  <a:srgbClr val="cc9900"/>
                </a:solidFill>
                <a:latin typeface="Arial"/>
                <a:ea typeface="Arial"/>
              </a:rPr>
              <a:t>th</a:t>
            </a:r>
            <a:r>
              <a:rPr b="1" lang="en-US" sz="2400" spc="-1" strike="noStrike">
                <a:solidFill>
                  <a:srgbClr val="cc9900"/>
                </a:solidFill>
                <a:latin typeface="Arial"/>
                <a:ea typeface="Arial"/>
              </a:rPr>
              <a:t>, </a:t>
            </a:r>
            <a:r>
              <a:rPr b="1" i="1" lang="en-US" sz="2800" spc="-1" strike="noStrike">
                <a:solidFill>
                  <a:srgbClr val="cc9900"/>
                </a:solidFill>
                <a:latin typeface="Arial"/>
                <a:ea typeface="Arial"/>
              </a:rPr>
              <a:t>Schools Portal</a:t>
            </a:r>
            <a:r>
              <a:rPr b="1" lang="en-US" sz="2400" spc="-1" strike="noStrike">
                <a:solidFill>
                  <a:srgbClr val="cc9900"/>
                </a:solidFill>
                <a:latin typeface="Arial"/>
                <a:ea typeface="Arial"/>
              </a:rPr>
              <a:t> received</a:t>
            </a:r>
            <a:r>
              <a:rPr b="0" lang="en-US" sz="2400" spc="-1" strike="noStrike">
                <a:solidFill>
                  <a:srgbClr val="cc9900"/>
                </a:solidFill>
                <a:latin typeface="Arial"/>
                <a:ea typeface="Arial"/>
              </a:rPr>
              <a:t> 13,207 visits or about 1 million hi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955B-B5D5-4084-8262-329C1247EE0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ampus-Based Volume by School Typ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ademic Year 2003-0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26080" y="2057400"/>
            <a:ext cx="28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 = $3.8 B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167520" y="2895480"/>
            <a:ext cx="5828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all Fonts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all Fonts"/>
              </a:rPr>
              <a:t>$1.8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all Fonts"/>
              </a:rPr>
              <a:t>4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192200" y="5838840"/>
            <a:ext cx="948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all Fonts"/>
              </a:rPr>
              <a:t>Propriet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all Fonts"/>
              </a:rPr>
              <a:t>$214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all Fonts"/>
              </a:rPr>
              <a:t>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019240" y="3019320"/>
            <a:ext cx="515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all Fonts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all Fonts"/>
              </a:rPr>
              <a:t>$1.8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all Fonts"/>
              </a:rPr>
              <a:t>48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2668680" y="2365200"/>
            <a:ext cx="3318480" cy="3317760"/>
            <a:chOff x="2668680" y="2365200"/>
            <a:chExt cx="3318480" cy="3317760"/>
          </a:xfrm>
        </p:grpSpPr>
        <p:sp>
          <p:nvSpPr>
            <p:cNvPr id="423" name=""/>
            <p:cNvSpPr/>
            <p:nvPr/>
          </p:nvSpPr>
          <p:spPr>
            <a:xfrm>
              <a:off x="2669040" y="2365200"/>
              <a:ext cx="3317040" cy="3317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69" y="0"/>
                  </a:moveTo>
                  <a:arcTo wR="10800" hR="10800" stAng="-5409869" swAng="1003838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69" y="0"/>
                  </a:moveTo>
                  <a:arcTo wR="10800" hR="10800" stAng="-5409869" swAng="10038384"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669040" y="2365560"/>
              <a:ext cx="3318120" cy="331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03" y="21329"/>
                  </a:moveTo>
                  <a:arcTo wR="10800" hR="10800" stAng="4628514" swAng="12611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03" y="21329"/>
                  </a:moveTo>
                  <a:arcTo wR="10800" hR="10800" stAng="4628514" swAng="1261170"/>
                </a:path>
              </a:pathLst>
            </a:cu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668680" y="2365200"/>
              <a:ext cx="3317400" cy="331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267" y="21491"/>
                  </a:moveTo>
                  <a:arcTo wR="10800" hR="10800" stAng="5889684" swAng="10300446"/>
                  <a:lnTo>
                    <a:pt x="10800" y="10800"/>
                  </a:lnTo>
                  <a:close/>
                </a:path>
                <a:path fill="none" w="21600" h="21600">
                  <a:moveTo>
                    <a:pt x="9267" y="21491"/>
                  </a:moveTo>
                  <a:arcTo wR="10800" hR="10800" stAng="5889684" swAng="10300446"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8B84-D46D-4D45-8823-E1E9D9DAB08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Number of Students Receiving Campus-Based Funds by School Type</a:t>
            </a:r>
            <a:br>
              <a:rPr sz="3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ademic Year 2003-0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208920" y="3081240"/>
            <a:ext cx="5828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all Fonts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all Fonts"/>
              </a:rPr>
              <a:t>1.1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all Fonts"/>
              </a:rPr>
              <a:t>37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679720" y="5229360"/>
            <a:ext cx="948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all Fonts"/>
              </a:rPr>
              <a:t>Propriet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all Fonts"/>
              </a:rPr>
              <a:t>329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all Fonts"/>
              </a:rPr>
              <a:t>11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955880" y="3084480"/>
            <a:ext cx="5050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all Fonts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all Fonts"/>
              </a:rPr>
              <a:t>1.5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all Fonts"/>
              </a:rPr>
              <a:t>52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968200" y="5867280"/>
            <a:ext cx="27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 = 2.9 M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2668680" y="2365200"/>
            <a:ext cx="3317760" cy="3318120"/>
            <a:chOff x="2668680" y="2365200"/>
            <a:chExt cx="3317760" cy="3318120"/>
          </a:xfrm>
        </p:grpSpPr>
        <p:sp>
          <p:nvSpPr>
            <p:cNvPr id="432" name=""/>
            <p:cNvSpPr/>
            <p:nvPr/>
          </p:nvSpPr>
          <p:spPr>
            <a:xfrm>
              <a:off x="2669040" y="2365200"/>
              <a:ext cx="3317040" cy="331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69" y="0"/>
                  </a:moveTo>
                  <a:arcTo wR="10800" hR="10800" stAng="-5409869" swAng="80488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69" y="0"/>
                  </a:moveTo>
                  <a:arcTo wR="10800" hR="10800" stAng="-5409869" swAng="8048823"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668680" y="2366640"/>
              <a:ext cx="3317400" cy="3315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571" y="18300"/>
                  </a:moveTo>
                  <a:arcTo wR="10800" hR="10800" stAng="2638954" swAng="24058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8571" y="18300"/>
                  </a:moveTo>
                  <a:arcTo wR="10800" hR="10800" stAng="2638954" swAng="2405882"/>
                </a:path>
              </a:pathLst>
            </a:cu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668680" y="2365200"/>
              <a:ext cx="3317760" cy="3317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914" y="21542"/>
                  </a:moveTo>
                  <a:arcTo wR="10800" hR="10800" stAng="5044836" swAng="11145295"/>
                  <a:lnTo>
                    <a:pt x="10800" y="10800"/>
                  </a:lnTo>
                  <a:close/>
                </a:path>
                <a:path fill="none" w="21600" h="21600">
                  <a:moveTo>
                    <a:pt x="11914" y="21542"/>
                  </a:moveTo>
                  <a:arcTo wR="10800" hR="10800" stAng="5044836" swAng="11145295"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9C45-D10E-4CE8-9B88-B94F132C5C4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Number of Campus-Based Schools by School Type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ademic Year 2003-04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112080" y="2714760"/>
            <a:ext cx="5828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all Fonts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all Fonts"/>
              </a:rPr>
              <a:t>1,4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all Fonts"/>
              </a:rPr>
              <a:t>3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187520" y="5013360"/>
            <a:ext cx="948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all Fonts"/>
              </a:rPr>
              <a:t>Propriet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all Fonts"/>
              </a:rPr>
              <a:t>9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all Fonts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66840" y="2583000"/>
            <a:ext cx="5050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all Fonts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all Fonts"/>
              </a:rPr>
              <a:t>1,5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all Fonts"/>
              </a:rPr>
              <a:t>39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832120" y="5775480"/>
            <a:ext cx="303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tal = 3,891 Scho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2668320" y="2363760"/>
            <a:ext cx="3317760" cy="3317760"/>
            <a:chOff x="2668320" y="2363760"/>
            <a:chExt cx="3317760" cy="3317760"/>
          </a:xfrm>
        </p:grpSpPr>
        <p:sp>
          <p:nvSpPr>
            <p:cNvPr id="441" name=""/>
            <p:cNvSpPr/>
            <p:nvPr/>
          </p:nvSpPr>
          <p:spPr>
            <a:xfrm>
              <a:off x="2669040" y="2363760"/>
              <a:ext cx="3317040" cy="3317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69" y="0"/>
                  </a:moveTo>
                  <a:arcTo wR="10800" hR="10800" stAng="-5409869" swAng="780540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69" y="0"/>
                  </a:moveTo>
                  <a:arcTo wR="10800" hR="10800" stAng="-5409869" swAng="7805403"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668320" y="2363760"/>
              <a:ext cx="3317040" cy="331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082" y="17731"/>
                  </a:moveTo>
                  <a:arcTo wR="10800" hR="10800" stAng="2395534" swAng="5417681"/>
                  <a:lnTo>
                    <a:pt x="10800" y="10800"/>
                  </a:lnTo>
                  <a:close/>
                </a:path>
                <a:path fill="none" w="21600" h="21600">
                  <a:moveTo>
                    <a:pt x="19082" y="17731"/>
                  </a:moveTo>
                  <a:arcTo wR="10800" hR="10800" stAng="2395534" swAng="5417681"/>
                </a:path>
              </a:pathLst>
            </a:cu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668680" y="2363760"/>
              <a:ext cx="3317400" cy="331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826" y="19047"/>
                  </a:moveTo>
                  <a:arcTo wR="10800" hR="10800" stAng="7813215" swAng="8376916"/>
                  <a:lnTo>
                    <a:pt x="10800" y="10800"/>
                  </a:lnTo>
                  <a:close/>
                </a:path>
                <a:path fill="none" w="21600" h="21600">
                  <a:moveTo>
                    <a:pt x="3826" y="19047"/>
                  </a:moveTo>
                  <a:arcTo wR="10800" hR="10800" stAng="7813215" swAng="8376916"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"/>
          <p:cNvSpPr/>
          <p:nvPr/>
        </p:nvSpPr>
        <p:spPr>
          <a:xfrm>
            <a:off x="5724360" y="5153040"/>
            <a:ext cx="948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all Fonts"/>
              </a:rPr>
              <a:t>Propriet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all Fonts"/>
              </a:rPr>
              <a:t>9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all Fonts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CC0B-EEE8-45D7-BB79-A05E69151CC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ampus-Based Proprietary Volume by Stat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ademic Year 2003-0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248520" y="5181480"/>
            <a:ext cx="1218960" cy="8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all Fonts"/>
              </a:rPr>
              <a:t>All Other St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all Fonts"/>
              </a:rPr>
              <a:t>$201.9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all Fonts"/>
              </a:rPr>
              <a:t>9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699160" y="1600200"/>
            <a:ext cx="614160" cy="63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all Fonts"/>
              </a:rPr>
              <a:t>T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all Fonts"/>
              </a:rPr>
              <a:t>$9.0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all Fonts"/>
              </a:rPr>
              <a:t>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056200" y="1600200"/>
            <a:ext cx="588960" cy="63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all Fonts"/>
              </a:rPr>
              <a:t>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all Fonts"/>
              </a:rPr>
              <a:t>$1.4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all Fonts"/>
              </a:rPr>
              <a:t>1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817800" y="1600200"/>
            <a:ext cx="552600" cy="8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all Fonts"/>
              </a:rPr>
              <a:t>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all Fonts"/>
              </a:rPr>
              <a:t>$2.1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all Fonts"/>
              </a:rPr>
              <a:t>1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151080" y="1600200"/>
            <a:ext cx="563760" cy="63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all Fonts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all Fonts"/>
              </a:rPr>
              <a:t>$33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all Fonts"/>
              </a:rPr>
              <a:t>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454640" y="1600200"/>
            <a:ext cx="525240" cy="63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all Fonts"/>
              </a:rPr>
              <a:t>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all Fonts"/>
              </a:rPr>
              <a:t>$27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all Fonts"/>
              </a:rPr>
              <a:t>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4751280" y="224748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294080" y="224784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4935600" y="2263680"/>
            <a:ext cx="1314360" cy="23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056760" y="5943600"/>
            <a:ext cx="29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 = $214 M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6" name=""/>
          <p:cNvGraphicFramePr/>
          <p:nvPr/>
        </p:nvGraphicFramePr>
        <p:xfrm>
          <a:off x="539640" y="2112840"/>
          <a:ext cx="8126640" cy="4043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112840"/>
                    <a:ext cx="8126640" cy="40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F158-12E1-4EFE-BE1C-FB765086E7C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Number of Campus-Based Proprietary Schools by State</a:t>
            </a:r>
            <a:br>
              <a:rPr sz="33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ademic Year 2003-0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095880" y="5029200"/>
            <a:ext cx="1371600" cy="63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all Fonts"/>
              </a:rPr>
              <a:t>All Other St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all Fonts"/>
              </a:rPr>
              <a:t>8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all Fonts"/>
              </a:rPr>
              <a:t>89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713560" y="1676520"/>
            <a:ext cx="461880" cy="63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all Fonts"/>
              </a:rPr>
              <a:t>T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all Fonts"/>
              </a:rPr>
              <a:t>6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all Fonts"/>
              </a:rPr>
              <a:t>7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103720" y="1676520"/>
            <a:ext cx="457200" cy="63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all Fonts"/>
              </a:rPr>
              <a:t>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all Fonts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all Fonts"/>
              </a:rPr>
              <a:t>1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03840" y="1657440"/>
            <a:ext cx="438120" cy="63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all Fonts"/>
              </a:rPr>
              <a:t>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all Fonts"/>
              </a:rPr>
              <a:t>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all Fonts"/>
              </a:rPr>
              <a:t>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274920" y="1657440"/>
            <a:ext cx="480960" cy="63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all Fonts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all Font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all Fonts"/>
              </a:rPr>
              <a:t>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494240" y="1676520"/>
            <a:ext cx="461880" cy="63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all Fonts"/>
              </a:rPr>
              <a:t>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all Font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mall Fonts"/>
              </a:rPr>
              <a:t>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5334120" y="2324160"/>
            <a:ext cx="77760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5006160" y="2345040"/>
            <a:ext cx="425520" cy="18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265640" y="2305080"/>
            <a:ext cx="457200" cy="17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732120" y="2305080"/>
            <a:ext cx="781200" cy="17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116160" y="5867280"/>
            <a:ext cx="303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 = 970 Sch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528480" y="2112840"/>
          <a:ext cx="8126640" cy="4043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2112840"/>
                    <a:ext cx="8126640" cy="40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1F57-68B0-4900-BFFA-C52A72C9B4C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to be Better at What You 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990720" y="179352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Training Opportunities for Sta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up with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bscribe to IF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d COD Daily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99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ff"/>
                </a:solidFill>
                <a:uFillTx/>
                <a:latin typeface="Arial"/>
              </a:rPr>
              <a:t>www.cod.ed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Colleag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2FFC-CBF2-41A8-B42A-2136258AF69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Online Train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990720" y="179352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DExpress Basics Web-bas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AA Assess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Under “Tools for Schools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3333ff"/>
                </a:solidFill>
                <a:uFillTx/>
                <a:latin typeface="Arial"/>
                <a:ea typeface="Times New Roman"/>
              </a:rPr>
              <a:t>www.ifap.ed.gov/IFAPWebApp/index.js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D Computer Based Trai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3333ff"/>
                </a:solidFill>
                <a:uFillTx/>
                <a:latin typeface="Arial"/>
                <a:ea typeface="Times New Roman"/>
              </a:rPr>
              <a:t>www.cod.ed.gov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SA COA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3333ff"/>
                </a:solidFill>
                <a:uFillTx/>
                <a:latin typeface="Arial"/>
                <a:ea typeface="Times New Roman"/>
              </a:rPr>
              <a:t>www.ed.gov/fsacoa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93F6-1C65-4680-A04C-B056C1ACB07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9144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FSA Coach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52280" y="1793880"/>
            <a:ext cx="4267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 IFAP “Tools for School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 TFAP side bar “Training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ree web based orientation to student financial aid conce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 hours of self paced instruction, 9 modules, 36 les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rcRect l="8687" t="15435" r="6590" b="11188"/>
          <a:stretch/>
        </p:blipFill>
        <p:spPr>
          <a:xfrm>
            <a:off x="4267080" y="1828800"/>
            <a:ext cx="4648320" cy="365760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4800600" y="5486400"/>
            <a:ext cx="364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  <a:hlinkClick r:id="rId2"/>
              </a:rPr>
              <a:t>www.ed.</a:t>
            </a: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  <a:hlinkClick r:id="rId3"/>
              </a:rPr>
              <a:t>gov</a:t>
            </a: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  <a:hlinkClick r:id="rId4"/>
              </a:rPr>
              <a:t>/</a:t>
            </a: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  <a:hlinkClick r:id="rId5"/>
              </a:rPr>
              <a:t>fsac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51DB-D21C-4B98-9B23-7698A807310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raining Opportuniti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90720" y="179352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lectronic Applications training: March-April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reer College Day: March 21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pring Conference 2005: March 22-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pring Conference 2006: April 5 -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undamentals of Title IV Administ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o Register, Go to: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600" spc="-1" strike="noStrike" u="sng">
                <a:solidFill>
                  <a:srgbClr val="3333ff"/>
                </a:solidFill>
                <a:uFillTx/>
                <a:latin typeface="Arial"/>
                <a:ea typeface="Times New Roman"/>
                <a:hlinkClick r:id="rId1"/>
              </a:rPr>
              <a:t>http://www.ed.</a:t>
            </a:r>
            <a:r>
              <a:rPr b="0" lang="en-US" sz="2600" spc="-1" strike="noStrike" u="sng">
                <a:solidFill>
                  <a:srgbClr val="3333ff"/>
                </a:solidFill>
                <a:uFillTx/>
                <a:latin typeface="Arial"/>
                <a:ea typeface="Times New Roman"/>
                <a:hlinkClick r:id="rId2"/>
              </a:rPr>
              <a:t>gov</a:t>
            </a:r>
            <a:r>
              <a:rPr b="0" lang="en-US" sz="2600" spc="-1" strike="noStrike" u="sng">
                <a:solidFill>
                  <a:srgbClr val="3333ff"/>
                </a:solidFill>
                <a:uFillTx/>
                <a:latin typeface="Arial"/>
                <a:ea typeface="Times New Roman"/>
                <a:hlinkClick r:id="rId3"/>
              </a:rPr>
              <a:t>/offices/OSFAP/training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3333ff"/>
                </a:solidFill>
                <a:uFillTx/>
                <a:latin typeface="Arial"/>
                <a:ea typeface="Times New Roman"/>
                <a:hlinkClick r:id="rId4"/>
              </a:rPr>
              <a:t>    newfaps</a:t>
            </a:r>
            <a:r>
              <a:rPr b="0" lang="en-US" sz="2600" spc="-1" strike="noStrike" u="sng">
                <a:solidFill>
                  <a:srgbClr val="3333ff"/>
                </a:solidFill>
                <a:uFillTx/>
                <a:latin typeface="Arial"/>
                <a:ea typeface="Times New Roman"/>
                <a:hlinkClick r:id="rId5"/>
              </a:rPr>
              <a:t>.html - fundament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6BF3-98D2-4F85-AEAC-54317C30AA2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raining Opportuniti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990720" y="179388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undamentals of Title IV Admin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 register, go to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 u="sng">
                <a:solidFill>
                  <a:srgbClr val="3333ff"/>
                </a:solidFill>
                <a:uFillTx/>
                <a:latin typeface="Arial"/>
                <a:ea typeface="Times New Roman"/>
                <a:hlinkClick r:id="rId1"/>
              </a:rPr>
              <a:t>www.ed.gov/offices/OSFAP/training/newfaps.html#fundament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2"/>
          <a:srcRect l="749" t="10376" r="5438" b="7250"/>
          <a:stretch/>
        </p:blipFill>
        <p:spPr>
          <a:xfrm>
            <a:off x="2287440" y="2286000"/>
            <a:ext cx="4570560" cy="2819520"/>
          </a:xfrm>
          <a:prstGeom prst="rect">
            <a:avLst/>
          </a:prstGeom>
          <a:ln w="11160">
            <a:solidFill>
              <a:srgbClr val="000000"/>
            </a:solidFill>
            <a:miter/>
          </a:ln>
        </p:spPr>
      </p:pic>
      <p:sp>
        <p:nvSpPr>
          <p:cNvPr id="485" name=""/>
          <p:cNvSpPr/>
          <p:nvPr/>
        </p:nvSpPr>
        <p:spPr>
          <a:xfrm>
            <a:off x="1906560" y="3809880"/>
            <a:ext cx="1371600" cy="381240"/>
          </a:xfrm>
          <a:prstGeom prst="rightArrow">
            <a:avLst>
              <a:gd name="adj1" fmla="val 50000"/>
              <a:gd name="adj2" fmla="val 89943"/>
            </a:avLst>
          </a:prstGeom>
          <a:solidFill>
            <a:srgbClr val="ff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9CF8-A87F-42F3-859C-61C192BE41D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2286000"/>
            <a:ext cx="3733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75000"/>
              <a:buFont typeface="Wingdings" charset="2"/>
              <a:buChar char=""/>
              <a:tabLst>
                <a:tab algn="l" pos="450720"/>
                <a:tab algn="l" pos="563400"/>
                <a:tab algn="l" pos="676440"/>
                <a:tab algn="l" pos="789120"/>
                <a:tab algn="l" pos="901800"/>
                <a:tab algn="l" pos="1014480"/>
                <a:tab algn="l" pos="1127160"/>
                <a:tab algn="l" pos="1239840"/>
                <a:tab algn="l" pos="1352520"/>
                <a:tab algn="l" pos="1465200"/>
                <a:tab algn="l" pos="1577880"/>
                <a:tab algn="l" pos="1690560"/>
                <a:tab algn="l" pos="1803240"/>
                <a:tab algn="l" pos="1916280"/>
                <a:tab algn="l" pos="2028960"/>
                <a:tab algn="l" pos="2141640"/>
                <a:tab algn="l" pos="2254320"/>
                <a:tab algn="l" pos="2367000"/>
                <a:tab algn="l" pos="2479680"/>
                <a:tab algn="l" pos="259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,708,6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0720"/>
                <a:tab algn="l" pos="563400"/>
                <a:tab algn="l" pos="676440"/>
                <a:tab algn="l" pos="789120"/>
                <a:tab algn="l" pos="901800"/>
                <a:tab algn="l" pos="1014480"/>
                <a:tab algn="l" pos="1127160"/>
                <a:tab algn="l" pos="1239840"/>
                <a:tab algn="l" pos="1352520"/>
                <a:tab algn="l" pos="1465200"/>
                <a:tab algn="l" pos="1577880"/>
                <a:tab algn="l" pos="1690560"/>
                <a:tab algn="l" pos="1803240"/>
                <a:tab algn="l" pos="1916280"/>
                <a:tab algn="l" pos="2028960"/>
                <a:tab algn="l" pos="2141640"/>
                <a:tab algn="l" pos="2254320"/>
                <a:tab algn="l" pos="2367000"/>
                <a:tab algn="l" pos="2479680"/>
                <a:tab algn="l" pos="259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4-0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AFSAs processed as of February 22,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75000"/>
              <a:buFont typeface="Wingdings" charset="2"/>
              <a:buChar char=""/>
              <a:tabLst>
                <a:tab algn="l" pos="450720"/>
                <a:tab algn="l" pos="563400"/>
                <a:tab algn="l" pos="676440"/>
                <a:tab algn="l" pos="789120"/>
                <a:tab algn="l" pos="901800"/>
                <a:tab algn="l" pos="1014480"/>
                <a:tab algn="l" pos="1127160"/>
                <a:tab algn="l" pos="1239840"/>
                <a:tab algn="l" pos="1352520"/>
                <a:tab algn="l" pos="1465200"/>
                <a:tab algn="l" pos="1577880"/>
                <a:tab algn="l" pos="1690560"/>
                <a:tab algn="l" pos="1803240"/>
                <a:tab algn="l" pos="1916280"/>
                <a:tab algn="l" pos="2028960"/>
                <a:tab algn="l" pos="2141640"/>
                <a:tab algn="l" pos="2254320"/>
                <a:tab algn="l" pos="2367000"/>
                <a:tab algn="l" pos="2479680"/>
                <a:tab algn="l" pos="259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,690,7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0720"/>
                <a:tab algn="l" pos="563400"/>
                <a:tab algn="l" pos="676440"/>
                <a:tab algn="l" pos="789120"/>
                <a:tab algn="l" pos="901800"/>
                <a:tab algn="l" pos="1014480"/>
                <a:tab algn="l" pos="1127160"/>
                <a:tab algn="l" pos="1239840"/>
                <a:tab algn="l" pos="1352520"/>
                <a:tab algn="l" pos="1465200"/>
                <a:tab algn="l" pos="1577880"/>
                <a:tab algn="l" pos="1690560"/>
                <a:tab algn="l" pos="1803240"/>
                <a:tab algn="l" pos="1916280"/>
                <a:tab algn="l" pos="2028960"/>
                <a:tab algn="l" pos="2141640"/>
                <a:tab algn="l" pos="2254320"/>
                <a:tab algn="l" pos="2367000"/>
                <a:tab algn="l" pos="2479680"/>
                <a:tab algn="l" pos="259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5-0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AFSAs processed as of February 19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800600" y="1905120"/>
          <a:ext cx="4689360" cy="37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905120"/>
                    <a:ext cx="4689360" cy="37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837720" y="228240"/>
            <a:ext cx="80773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pplication Processing Statistics: FAFSAs Processed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400"/>
            </a:br>
            <a:br>
              <a:rPr sz="3400"/>
            </a:b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18360" y="1600200"/>
            <a:ext cx="418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2004-2005 vs 2005-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B7F3-004B-4905-ADBD-0CB799ED9997}" type="slidenum">
              <a:t>3</a:t>
            </a:fld>
          </a:p>
        </p:txBody>
      </p:sp>
    </p:spTree>
  </p:cSld>
  <p:transition spd="med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990720" y="228600"/>
            <a:ext cx="6858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ferenc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80880" y="1905120"/>
            <a:ext cx="2971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ools Portal under “Resources and Training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ign on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iew of upcoming FSA conferences, agendas, hotel and travel information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1"/>
          <a:srcRect l="8883" t="18081" r="2523" b="15523"/>
          <a:stretch/>
        </p:blipFill>
        <p:spPr>
          <a:xfrm>
            <a:off x="3505320" y="1523880"/>
            <a:ext cx="5410080" cy="239724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/>
          <p:nvPr/>
        </p:nvSpPr>
        <p:spPr>
          <a:xfrm>
            <a:off x="2914560" y="23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2"/>
          <a:stretch/>
        </p:blipFill>
        <p:spPr>
          <a:xfrm>
            <a:off x="3505320" y="3962520"/>
            <a:ext cx="4800600" cy="2286000"/>
          </a:xfrm>
          <a:prstGeom prst="rect">
            <a:avLst/>
          </a:prstGeom>
          <a:ln w="0">
            <a:noFill/>
          </a:ln>
        </p:spPr>
      </p:pic>
      <p:sp>
        <p:nvSpPr>
          <p:cNvPr id="491" name=""/>
          <p:cNvSpPr/>
          <p:nvPr/>
        </p:nvSpPr>
        <p:spPr>
          <a:xfrm>
            <a:off x="408132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Reno-Tower-Twilight" descr=""/>
          <p:cNvPicPr/>
          <p:nvPr/>
        </p:nvPicPr>
        <p:blipFill>
          <a:blip r:embed="rId3"/>
          <a:stretch/>
        </p:blipFill>
        <p:spPr>
          <a:xfrm>
            <a:off x="4876920" y="3657600"/>
            <a:ext cx="1523880" cy="685800"/>
          </a:xfrm>
          <a:prstGeom prst="rect">
            <a:avLst/>
          </a:prstGeom>
          <a:ln w="0">
            <a:noFill/>
          </a:ln>
        </p:spPr>
      </p:pic>
      <p:sp>
        <p:nvSpPr>
          <p:cNvPr id="493" name=""/>
          <p:cNvSpPr/>
          <p:nvPr/>
        </p:nvSpPr>
        <p:spPr>
          <a:xfrm>
            <a:off x="3809880" y="6248520"/>
            <a:ext cx="5105520" cy="0"/>
          </a:xfrm>
          <a:prstGeom prst="line">
            <a:avLst/>
          </a:prstGeom>
          <a:ln w="11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572000" y="579132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ff"/>
                </a:solidFill>
                <a:uFillTx/>
                <a:latin typeface="Arial"/>
                <a:hlinkClick r:id="rId4"/>
              </a:rPr>
              <a:t>http://edeworkshop.ncspearso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9144000" y="4800600"/>
            <a:ext cx="0" cy="1371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8839080" y="4190760"/>
            <a:ext cx="0" cy="20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8915400" y="1600200"/>
            <a:ext cx="0" cy="4724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8915400" y="1523880"/>
            <a:ext cx="0" cy="4724640"/>
          </a:xfrm>
          <a:prstGeom prst="line">
            <a:avLst/>
          </a:prstGeom>
          <a:ln w="11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581280" y="3962520"/>
            <a:ext cx="1067040" cy="0"/>
          </a:xfrm>
          <a:prstGeom prst="line">
            <a:avLst/>
          </a:prstGeom>
          <a:ln w="52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581280" y="4114800"/>
            <a:ext cx="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856E-64A3-4424-88E4-E3EFB4B9D04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Future Train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793520"/>
            <a:ext cx="8305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pring 2005: Getting It Right!  Topics identified from audits and Program review fin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all 2005: Fiscal Officer Tr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AC Conferen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an Diego,CA: October 30-November 2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tlanta, GA: November 29-December 2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E0AD-158C-4224-A471-42A6138C70F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D Update – Frequent Concer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4" name=""/>
          <p:cNvGraphicFramePr/>
          <p:nvPr/>
        </p:nvGraphicFramePr>
        <p:xfrm>
          <a:off x="914400" y="1676520"/>
          <a:ext cx="6039000" cy="45291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676520"/>
                    <a:ext cx="6039000" cy="45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3F14-F25E-4AF0-9931-D0438A115B3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D Password Updat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 you need a Password Re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received a temporary password as the system administrator and you failed to change the temporary password within 24 hou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did not access the COD website for 6 consecutive months after your first vis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did not access the COD website for over 3 consecutive months following the last visit and you have been in the website more than one other previous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B322-CB51-4F53-80CE-10804FF3E29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8" name=""/>
          <p:cNvGraphicFramePr/>
          <p:nvPr/>
        </p:nvGraphicFramePr>
        <p:xfrm>
          <a:off x="838080" y="457200"/>
          <a:ext cx="7848720" cy="58672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457200"/>
                    <a:ext cx="78487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528B-5712-4530-8FC5-488B82FAB86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0" name=""/>
          <p:cNvGraphicFramePr/>
          <p:nvPr/>
        </p:nvGraphicFramePr>
        <p:xfrm>
          <a:off x="762120" y="609480"/>
          <a:ext cx="7924680" cy="53341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609480"/>
                    <a:ext cx="792468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6F83-2CF8-40A8-89D7-8259D487EE6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2" name=""/>
          <p:cNvGraphicFramePr/>
          <p:nvPr/>
        </p:nvGraphicFramePr>
        <p:xfrm>
          <a:off x="990720" y="762120"/>
          <a:ext cx="7543800" cy="53337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762120"/>
                    <a:ext cx="7543800" cy="53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A351-5384-4521-A149-0B488BCDA9A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Bulletin to Follo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793520"/>
            <a:ext cx="8305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 will addres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etting the Pass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ssword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activating/Reactivating a U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B5D4-68CC-43E1-BDA3-2E8E6358313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990720" y="186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In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ire M. Roe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il: claire.roemer@ed.g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ne: (202) 377-345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j0178141" descr=""/>
          <p:cNvPicPr/>
          <p:nvPr/>
        </p:nvPicPr>
        <p:blipFill>
          <a:blip r:embed="rId1"/>
          <a:stretch/>
        </p:blipFill>
        <p:spPr>
          <a:xfrm>
            <a:off x="4952880" y="0"/>
            <a:ext cx="1486080" cy="163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117E-8C9C-4D13-AACA-44D09620450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lectronic FAFSA’s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001-02 – 2004-05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762120" y="1706400"/>
          <a:ext cx="7656480" cy="408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706400"/>
                    <a:ext cx="7656480" cy="408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AC8B-FEFE-4C49-83EB-34AA7CE02E6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9250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pplication Processing Statistics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lectronic Volume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351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"/>
              <a:tabLst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364,93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"/>
              <a:tabLst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4-05 FAFSAs filed electronically as of February 22,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"/>
              <a:tabLst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% of all Ap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"/>
              <a:tabLst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551,77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"/>
              <a:tabLst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5-06 FAFSAs filed electronically as of February 19,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"/>
              <a:tabLst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92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ll Ap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8120" y="5486400"/>
            <a:ext cx="609588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at’s a 14% increase in Electronic App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943440" y="1905120"/>
          <a:ext cx="4895640" cy="365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43440" y="1905120"/>
                    <a:ext cx="4895640" cy="36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838080" y="15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2004-2005 vs 2005-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9011-A177-4B0A-9CDC-67D7A6081416}" type="slidenum">
              <a:t>5</a:t>
            </a:fld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Funds Continue to Flo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90720" y="179352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04-05 year through mid-Februar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ll and Direct Loan disbursements reached $10.5 billion and $9.9 billion respective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FEL disbursements reached $23.7 bill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4B7B-F249-4DA7-A357-6591A346667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ll Volume by Academic Yea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306520" y="2209680"/>
            <a:ext cx="914400" cy="343080"/>
          </a:xfrm>
          <a:prstGeom prst="borderCallout1">
            <a:avLst>
              <a:gd name="adj1" fmla="val 18750"/>
              <a:gd name="adj2" fmla="val -8333"/>
              <a:gd name="adj3" fmla="val 533333"/>
              <a:gd name="adj4" fmla="val -354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$7.2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045200" y="1752480"/>
            <a:ext cx="914400" cy="343080"/>
          </a:xfrm>
          <a:prstGeom prst="borderCallout1">
            <a:avLst>
              <a:gd name="adj1" fmla="val 18750"/>
              <a:gd name="adj2" fmla="val -8333"/>
              <a:gd name="adj3" fmla="val 316666"/>
              <a:gd name="adj4" fmla="val -1875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$12.7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66960" y="55688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73080" y="515160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73080" y="472932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73080" y="431316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73080" y="393228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55720" y="3475080"/>
            <a:ext cx="241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55720" y="3073320"/>
            <a:ext cx="241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139680" y="4020120"/>
            <a:ext cx="840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$ Bill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800680"/>
            <a:ext cx="7948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9-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638440" y="5800680"/>
            <a:ext cx="7948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0-0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10240" y="5800680"/>
            <a:ext cx="7948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1-0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986360" y="5800680"/>
            <a:ext cx="7948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2-03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5800680"/>
            <a:ext cx="7948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3-04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143000" y="2476440"/>
            <a:ext cx="6524640" cy="3267000"/>
            <a:chOff x="1143000" y="2476440"/>
            <a:chExt cx="6524640" cy="3267000"/>
          </a:xfrm>
        </p:grpSpPr>
        <p:sp>
          <p:nvSpPr>
            <p:cNvPr id="131" name=""/>
            <p:cNvSpPr/>
            <p:nvPr/>
          </p:nvSpPr>
          <p:spPr>
            <a:xfrm>
              <a:off x="1190520" y="5381640"/>
              <a:ext cx="6477120" cy="314280"/>
            </a:xfrm>
            <a:custGeom>
              <a:avLst/>
              <a:gdLst/>
              <a:ahLst/>
              <a:rect l="l" t="t" r="r" b="b"/>
              <a:pathLst>
                <a:path w="4080" h="198">
                  <a:moveTo>
                    <a:pt x="0" y="198"/>
                  </a:moveTo>
                  <a:lnTo>
                    <a:pt x="264" y="0"/>
                  </a:lnTo>
                  <a:lnTo>
                    <a:pt x="4080" y="0"/>
                  </a:lnTo>
                  <a:lnTo>
                    <a:pt x="3816" y="198"/>
                  </a:lnTo>
                  <a:lnTo>
                    <a:pt x="0" y="19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190520" y="2476440"/>
              <a:ext cx="419400" cy="3219480"/>
            </a:xfrm>
            <a:custGeom>
              <a:avLst/>
              <a:gdLst/>
              <a:ahLst/>
              <a:rect l="l" t="t" r="r" b="b"/>
              <a:pathLst>
                <a:path w="264" h="2028">
                  <a:moveTo>
                    <a:pt x="0" y="2028"/>
                  </a:moveTo>
                  <a:lnTo>
                    <a:pt x="0" y="198"/>
                  </a:lnTo>
                  <a:lnTo>
                    <a:pt x="264" y="0"/>
                  </a:lnTo>
                  <a:lnTo>
                    <a:pt x="264" y="1830"/>
                  </a:lnTo>
                  <a:lnTo>
                    <a:pt x="0" y="2028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609920" y="2476440"/>
              <a:ext cx="6057720" cy="290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190520" y="5381640"/>
              <a:ext cx="6477120" cy="314280"/>
            </a:xfrm>
            <a:custGeom>
              <a:avLst/>
              <a:gdLst/>
              <a:ahLst/>
              <a:rect l="l" t="t" r="r" b="b"/>
              <a:pathLst>
                <a:path w="680" h="33">
                  <a:moveTo>
                    <a:pt x="0" y="33"/>
                  </a:moveTo>
                  <a:lnTo>
                    <a:pt x="44" y="0"/>
                  </a:lnTo>
                  <a:lnTo>
                    <a:pt x="68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190520" y="4971960"/>
              <a:ext cx="6477120" cy="304920"/>
            </a:xfrm>
            <a:custGeom>
              <a:avLst/>
              <a:gdLst/>
              <a:ahLst/>
              <a:rect l="l" t="t" r="r" b="b"/>
              <a:pathLst>
                <a:path w="680" h="32">
                  <a:moveTo>
                    <a:pt x="0" y="32"/>
                  </a:moveTo>
                  <a:lnTo>
                    <a:pt x="44" y="0"/>
                  </a:lnTo>
                  <a:lnTo>
                    <a:pt x="68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190520" y="4552920"/>
              <a:ext cx="6477120" cy="314280"/>
            </a:xfrm>
            <a:custGeom>
              <a:avLst/>
              <a:gdLst/>
              <a:ahLst/>
              <a:rect l="l" t="t" r="r" b="b"/>
              <a:pathLst>
                <a:path w="680" h="33">
                  <a:moveTo>
                    <a:pt x="0" y="33"/>
                  </a:moveTo>
                  <a:lnTo>
                    <a:pt x="44" y="0"/>
                  </a:lnTo>
                  <a:lnTo>
                    <a:pt x="68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190520" y="4133880"/>
              <a:ext cx="6477120" cy="314280"/>
            </a:xfrm>
            <a:custGeom>
              <a:avLst/>
              <a:gdLst/>
              <a:ahLst/>
              <a:rect l="l" t="t" r="r" b="b"/>
              <a:pathLst>
                <a:path w="680" h="33">
                  <a:moveTo>
                    <a:pt x="0" y="33"/>
                  </a:moveTo>
                  <a:lnTo>
                    <a:pt x="44" y="0"/>
                  </a:lnTo>
                  <a:lnTo>
                    <a:pt x="68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190520" y="3724200"/>
              <a:ext cx="6477120" cy="314280"/>
            </a:xfrm>
            <a:custGeom>
              <a:avLst/>
              <a:gdLst/>
              <a:ahLst/>
              <a:rect l="l" t="t" r="r" b="b"/>
              <a:pathLst>
                <a:path w="680" h="33">
                  <a:moveTo>
                    <a:pt x="0" y="33"/>
                  </a:moveTo>
                  <a:lnTo>
                    <a:pt x="44" y="0"/>
                  </a:lnTo>
                  <a:lnTo>
                    <a:pt x="68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190520" y="3305160"/>
              <a:ext cx="6477120" cy="314280"/>
            </a:xfrm>
            <a:custGeom>
              <a:avLst/>
              <a:gdLst/>
              <a:ahLst/>
              <a:rect l="l" t="t" r="r" b="b"/>
              <a:pathLst>
                <a:path w="680" h="33">
                  <a:moveTo>
                    <a:pt x="0" y="33"/>
                  </a:moveTo>
                  <a:lnTo>
                    <a:pt x="44" y="0"/>
                  </a:lnTo>
                  <a:lnTo>
                    <a:pt x="68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190520" y="2895480"/>
              <a:ext cx="6477120" cy="304920"/>
            </a:xfrm>
            <a:custGeom>
              <a:avLst/>
              <a:gdLst/>
              <a:ahLst/>
              <a:rect l="l" t="t" r="r" b="b"/>
              <a:pathLst>
                <a:path w="680" h="32">
                  <a:moveTo>
                    <a:pt x="0" y="32"/>
                  </a:moveTo>
                  <a:lnTo>
                    <a:pt x="44" y="0"/>
                  </a:lnTo>
                  <a:lnTo>
                    <a:pt x="68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190520" y="2476440"/>
              <a:ext cx="6477120" cy="314280"/>
            </a:xfrm>
            <a:custGeom>
              <a:avLst/>
              <a:gdLst/>
              <a:ahLst/>
              <a:rect l="l" t="t" r="r" b="b"/>
              <a:pathLst>
                <a:path w="680" h="33">
                  <a:moveTo>
                    <a:pt x="0" y="33"/>
                  </a:moveTo>
                  <a:lnTo>
                    <a:pt x="44" y="0"/>
                  </a:lnTo>
                  <a:lnTo>
                    <a:pt x="68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190520" y="5381640"/>
              <a:ext cx="6477120" cy="314280"/>
            </a:xfrm>
            <a:custGeom>
              <a:avLst/>
              <a:gdLst/>
              <a:ahLst/>
              <a:rect l="l" t="t" r="r" b="b"/>
              <a:pathLst>
                <a:path w="4080" h="198">
                  <a:moveTo>
                    <a:pt x="4080" y="0"/>
                  </a:moveTo>
                  <a:lnTo>
                    <a:pt x="3816" y="198"/>
                  </a:lnTo>
                  <a:lnTo>
                    <a:pt x="0" y="198"/>
                  </a:lnTo>
                  <a:lnTo>
                    <a:pt x="264" y="0"/>
                  </a:lnTo>
                  <a:lnTo>
                    <a:pt x="4080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90520" y="2476440"/>
              <a:ext cx="419400" cy="3219480"/>
            </a:xfrm>
            <a:custGeom>
              <a:avLst/>
              <a:gdLst/>
              <a:ahLst/>
              <a:rect l="l" t="t" r="r" b="b"/>
              <a:pathLst>
                <a:path w="264" h="2028">
                  <a:moveTo>
                    <a:pt x="0" y="2028"/>
                  </a:moveTo>
                  <a:lnTo>
                    <a:pt x="0" y="198"/>
                  </a:lnTo>
                  <a:lnTo>
                    <a:pt x="264" y="0"/>
                  </a:lnTo>
                  <a:lnTo>
                    <a:pt x="264" y="1830"/>
                  </a:lnTo>
                  <a:lnTo>
                    <a:pt x="0" y="2028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09920" y="2476440"/>
              <a:ext cx="6057720" cy="290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162160" y="3981600"/>
              <a:ext cx="171360" cy="1619280"/>
            </a:xfrm>
            <a:custGeom>
              <a:avLst/>
              <a:gdLst/>
              <a:ahLst/>
              <a:rect l="l" t="t" r="r" b="b"/>
              <a:pathLst>
                <a:path w="108" h="1020">
                  <a:moveTo>
                    <a:pt x="0" y="1020"/>
                  </a:moveTo>
                  <a:lnTo>
                    <a:pt x="0" y="78"/>
                  </a:lnTo>
                  <a:lnTo>
                    <a:pt x="108" y="0"/>
                  </a:lnTo>
                  <a:lnTo>
                    <a:pt x="108" y="942"/>
                  </a:lnTo>
                  <a:lnTo>
                    <a:pt x="0" y="1020"/>
                  </a:lnTo>
                  <a:close/>
                </a:path>
              </a:pathLst>
            </a:custGeom>
            <a:solidFill>
              <a:srgbClr val="80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685880" y="4105440"/>
              <a:ext cx="476280" cy="14954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685880" y="3981600"/>
              <a:ext cx="647640" cy="123840"/>
            </a:xfrm>
            <a:custGeom>
              <a:avLst/>
              <a:gdLst/>
              <a:ahLst/>
              <a:rect l="l" t="t" r="r" b="b"/>
              <a:pathLst>
                <a:path w="408" h="78">
                  <a:moveTo>
                    <a:pt x="300" y="78"/>
                  </a:moveTo>
                  <a:lnTo>
                    <a:pt x="408" y="0"/>
                  </a:lnTo>
                  <a:lnTo>
                    <a:pt x="102" y="0"/>
                  </a:lnTo>
                  <a:lnTo>
                    <a:pt x="0" y="78"/>
                  </a:lnTo>
                  <a:lnTo>
                    <a:pt x="300" y="78"/>
                  </a:lnTo>
                  <a:close/>
                </a:path>
              </a:pathLst>
            </a:custGeom>
            <a:solidFill>
              <a:srgbClr val="bf4d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81480" y="3828960"/>
              <a:ext cx="162000" cy="1771920"/>
            </a:xfrm>
            <a:custGeom>
              <a:avLst/>
              <a:gdLst/>
              <a:ahLst/>
              <a:rect l="l" t="t" r="r" b="b"/>
              <a:pathLst>
                <a:path w="102" h="1116">
                  <a:moveTo>
                    <a:pt x="0" y="1116"/>
                  </a:moveTo>
                  <a:lnTo>
                    <a:pt x="0" y="78"/>
                  </a:lnTo>
                  <a:lnTo>
                    <a:pt x="102" y="0"/>
                  </a:lnTo>
                  <a:lnTo>
                    <a:pt x="102" y="1038"/>
                  </a:lnTo>
                  <a:lnTo>
                    <a:pt x="0" y="1116"/>
                  </a:lnTo>
                  <a:close/>
                </a:path>
              </a:pathLst>
            </a:custGeom>
            <a:solidFill>
              <a:srgbClr val="80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95480" y="3952800"/>
              <a:ext cx="486000" cy="1648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95480" y="3828960"/>
              <a:ext cx="648000" cy="123840"/>
            </a:xfrm>
            <a:custGeom>
              <a:avLst/>
              <a:gdLst/>
              <a:ahLst/>
              <a:rect l="l" t="t" r="r" b="b"/>
              <a:pathLst>
                <a:path w="408" h="78">
                  <a:moveTo>
                    <a:pt x="306" y="78"/>
                  </a:moveTo>
                  <a:lnTo>
                    <a:pt x="408" y="0"/>
                  </a:lnTo>
                  <a:lnTo>
                    <a:pt x="102" y="0"/>
                  </a:lnTo>
                  <a:lnTo>
                    <a:pt x="0" y="78"/>
                  </a:lnTo>
                  <a:lnTo>
                    <a:pt x="306" y="78"/>
                  </a:lnTo>
                  <a:close/>
                </a:path>
              </a:pathLst>
            </a:custGeom>
            <a:solidFill>
              <a:srgbClr val="bf4d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591080" y="3409920"/>
              <a:ext cx="162000" cy="2190960"/>
            </a:xfrm>
            <a:custGeom>
              <a:avLst/>
              <a:gdLst/>
              <a:ahLst/>
              <a:rect l="l" t="t" r="r" b="b"/>
              <a:pathLst>
                <a:path w="102" h="1380">
                  <a:moveTo>
                    <a:pt x="0" y="1380"/>
                  </a:moveTo>
                  <a:lnTo>
                    <a:pt x="0" y="78"/>
                  </a:lnTo>
                  <a:lnTo>
                    <a:pt x="102" y="0"/>
                  </a:lnTo>
                  <a:lnTo>
                    <a:pt x="102" y="1302"/>
                  </a:lnTo>
                  <a:lnTo>
                    <a:pt x="0" y="1380"/>
                  </a:lnTo>
                  <a:close/>
                </a:path>
              </a:pathLst>
            </a:custGeom>
            <a:solidFill>
              <a:srgbClr val="80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105440" y="3533760"/>
              <a:ext cx="485640" cy="20671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105440" y="3409920"/>
              <a:ext cx="647640" cy="123840"/>
            </a:xfrm>
            <a:custGeom>
              <a:avLst/>
              <a:gdLst/>
              <a:ahLst/>
              <a:rect l="l" t="t" r="r" b="b"/>
              <a:pathLst>
                <a:path w="408" h="78">
                  <a:moveTo>
                    <a:pt x="306" y="78"/>
                  </a:moveTo>
                  <a:lnTo>
                    <a:pt x="408" y="0"/>
                  </a:lnTo>
                  <a:lnTo>
                    <a:pt x="102" y="0"/>
                  </a:lnTo>
                  <a:lnTo>
                    <a:pt x="0" y="78"/>
                  </a:lnTo>
                  <a:lnTo>
                    <a:pt x="306" y="78"/>
                  </a:lnTo>
                  <a:close/>
                </a:path>
              </a:pathLst>
            </a:custGeom>
            <a:solidFill>
              <a:srgbClr val="bf4d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00680" y="3057480"/>
              <a:ext cx="162000" cy="2543400"/>
            </a:xfrm>
            <a:custGeom>
              <a:avLst/>
              <a:gdLst/>
              <a:ahLst/>
              <a:rect l="l" t="t" r="r" b="b"/>
              <a:pathLst>
                <a:path w="102" h="1602">
                  <a:moveTo>
                    <a:pt x="0" y="1602"/>
                  </a:moveTo>
                  <a:lnTo>
                    <a:pt x="0" y="78"/>
                  </a:lnTo>
                  <a:lnTo>
                    <a:pt x="102" y="0"/>
                  </a:lnTo>
                  <a:lnTo>
                    <a:pt x="102" y="1524"/>
                  </a:lnTo>
                  <a:lnTo>
                    <a:pt x="0" y="1602"/>
                  </a:lnTo>
                  <a:close/>
                </a:path>
              </a:pathLst>
            </a:custGeom>
            <a:solidFill>
              <a:srgbClr val="80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315040" y="3181320"/>
              <a:ext cx="485640" cy="24195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15040" y="3057480"/>
              <a:ext cx="647640" cy="123840"/>
            </a:xfrm>
            <a:custGeom>
              <a:avLst/>
              <a:gdLst/>
              <a:ahLst/>
              <a:rect l="l" t="t" r="r" b="b"/>
              <a:pathLst>
                <a:path w="408" h="78">
                  <a:moveTo>
                    <a:pt x="306" y="78"/>
                  </a:moveTo>
                  <a:lnTo>
                    <a:pt x="408" y="0"/>
                  </a:lnTo>
                  <a:lnTo>
                    <a:pt x="102" y="0"/>
                  </a:lnTo>
                  <a:lnTo>
                    <a:pt x="0" y="78"/>
                  </a:lnTo>
                  <a:lnTo>
                    <a:pt x="306" y="78"/>
                  </a:lnTo>
                  <a:close/>
                </a:path>
              </a:pathLst>
            </a:custGeom>
            <a:solidFill>
              <a:srgbClr val="bf4d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010280" y="2838600"/>
              <a:ext cx="162000" cy="2762280"/>
            </a:xfrm>
            <a:custGeom>
              <a:avLst/>
              <a:gdLst/>
              <a:ahLst/>
              <a:rect l="l" t="t" r="r" b="b"/>
              <a:pathLst>
                <a:path w="102" h="1740">
                  <a:moveTo>
                    <a:pt x="0" y="1740"/>
                  </a:moveTo>
                  <a:lnTo>
                    <a:pt x="0" y="78"/>
                  </a:lnTo>
                  <a:lnTo>
                    <a:pt x="102" y="0"/>
                  </a:lnTo>
                  <a:lnTo>
                    <a:pt x="102" y="1662"/>
                  </a:lnTo>
                  <a:lnTo>
                    <a:pt x="0" y="1740"/>
                  </a:lnTo>
                  <a:close/>
                </a:path>
              </a:pathLst>
            </a:custGeom>
            <a:solidFill>
              <a:srgbClr val="80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524640" y="2962440"/>
              <a:ext cx="485640" cy="26384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524640" y="2838600"/>
              <a:ext cx="647640" cy="123840"/>
            </a:xfrm>
            <a:custGeom>
              <a:avLst/>
              <a:gdLst/>
              <a:ahLst/>
              <a:rect l="l" t="t" r="r" b="b"/>
              <a:pathLst>
                <a:path w="408" h="78">
                  <a:moveTo>
                    <a:pt x="306" y="78"/>
                  </a:moveTo>
                  <a:lnTo>
                    <a:pt x="408" y="0"/>
                  </a:lnTo>
                  <a:lnTo>
                    <a:pt x="108" y="0"/>
                  </a:lnTo>
                  <a:lnTo>
                    <a:pt x="0" y="78"/>
                  </a:lnTo>
                  <a:lnTo>
                    <a:pt x="306" y="78"/>
                  </a:lnTo>
                  <a:close/>
                </a:path>
              </a:pathLst>
            </a:custGeom>
            <a:solidFill>
              <a:srgbClr val="bf4d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1190520" y="2790720"/>
              <a:ext cx="1800" cy="290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1143000" y="5695920"/>
              <a:ext cx="47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1143000" y="5276880"/>
              <a:ext cx="47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1143000" y="4867200"/>
              <a:ext cx="47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1143000" y="4448160"/>
              <a:ext cx="47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1143000" y="4038480"/>
              <a:ext cx="47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143000" y="3619440"/>
              <a:ext cx="47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1143000" y="3200400"/>
              <a:ext cx="47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1143000" y="2790720"/>
              <a:ext cx="47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90520" y="5695920"/>
              <a:ext cx="6058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90520" y="5695920"/>
              <a:ext cx="180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9840" y="569592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619440" y="5695920"/>
              <a:ext cx="180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829040" y="5695920"/>
              <a:ext cx="180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039000" y="569592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248600" y="569592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858960" y="2637000"/>
            <a:ext cx="241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0A22-0AA6-47C4-8D31-C2DE866946B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ell Volume by School Typ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ademic Year 2003-04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568120" y="1752480"/>
            <a:ext cx="5083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$2.1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7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14480" y="3462480"/>
            <a:ext cx="8067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priet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$2.1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08240" y="3510000"/>
            <a:ext cx="477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$8.5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7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198240" y="5715000"/>
            <a:ext cx="303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 = $12.7 B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382680" y="1846440"/>
          <a:ext cx="8226360" cy="4092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680" y="1846440"/>
                    <a:ext cx="8226360" cy="40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2362-1288-42FD-B347-463110B0D15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Number of Pell Students by School Typ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ademic Year 2003-0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420520" y="1752480"/>
            <a:ext cx="5083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30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320520" y="3581280"/>
            <a:ext cx="8067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priet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31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7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131200" y="3600360"/>
            <a:ext cx="4593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6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8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65200" y="5789520"/>
            <a:ext cx="27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 = 5.4 M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2831760" y="2228760"/>
            <a:ext cx="3318840" cy="3317760"/>
            <a:chOff x="2831760" y="2228760"/>
            <a:chExt cx="3318840" cy="3317760"/>
          </a:xfrm>
        </p:grpSpPr>
        <p:sp>
          <p:nvSpPr>
            <p:cNvPr id="190" name=""/>
            <p:cNvSpPr/>
            <p:nvPr/>
          </p:nvSpPr>
          <p:spPr>
            <a:xfrm>
              <a:off x="2831760" y="2228760"/>
              <a:ext cx="3318840" cy="331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69" y="0"/>
                  </a:moveTo>
                  <a:arcTo wR="10800" hR="10800" stAng="-5409869" swAng="33655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69" y="0"/>
                  </a:moveTo>
                  <a:arcTo wR="10800" hR="10800" stAng="-5409869" swAng="3365560"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32120" y="2230200"/>
              <a:ext cx="3317400" cy="3316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746" y="4749"/>
                  </a:moveTo>
                  <a:arcTo wR="10800" hR="10800" stAng="-2044309" swAng="3721427"/>
                  <a:lnTo>
                    <a:pt x="10800" y="10800"/>
                  </a:lnTo>
                  <a:close/>
                </a:path>
                <a:path fill="none" w="21600" h="21600">
                  <a:moveTo>
                    <a:pt x="19746" y="4749"/>
                  </a:moveTo>
                  <a:arcTo wR="10800" hR="10800" stAng="-2044309" swAng="3721427"/>
                </a:path>
              </a:pathLst>
            </a:cu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832120" y="2228760"/>
              <a:ext cx="3317040" cy="3317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40" y="15862"/>
                  </a:moveTo>
                  <a:arcTo wR="10800" hR="10800" stAng="1677118" swAng="1451301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40" y="15862"/>
                  </a:moveTo>
                  <a:arcTo wR="10800" hR="10800" stAng="1677118" swAng="14513013"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0BB4-9E85-42D7-9114-D57457F0D6A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6T11:27:54Z</dcterms:created>
  <dc:creator>Panda</dc:creator>
  <dc:description/>
  <dc:language>en-US</dc:language>
  <cp:lastModifiedBy>DoED</cp:lastModifiedBy>
  <dcterms:modified xsi:type="dcterms:W3CDTF">2005-03-21T18:29:40Z</dcterms:modified>
  <cp:revision>130</cp:revision>
  <dc:subject/>
  <dc:title>Slide 1</dc:title>
</cp:coreProperties>
</file>