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66B6F-FDF1-4F4E-8698-6850EF1DFE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3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61720"/>
            <a:ext cx="833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4A711-D8DA-40B8-9069-444F46B36D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264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A9851-01F9-4BBD-BA4A-D106A41B5D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9680" y="17521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8480" y="17521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617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9680" y="38617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8480" y="38617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44A18-1856-4072-80AF-32BCA4538E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514240" y="609480"/>
            <a:ext cx="6172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D9F48-EFF6-43F3-940E-D771F22CE9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264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3861720"/>
            <a:ext cx="833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3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0880" y="3861720"/>
            <a:ext cx="833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88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264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9680" y="17521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8480" y="17521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0880" y="38617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9680" y="38617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8480" y="3861720"/>
            <a:ext cx="2684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61021-3672-4D26-A16B-94AB612A4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1C7BD-2F06-4615-9945-F6A781AF85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C44BE-8FFF-42FE-85BC-3F670EF1A9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14240" y="609480"/>
            <a:ext cx="6172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F54A3-80EA-47BA-A3BD-07F13A9058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7322D-169A-4A11-A3A3-E33E205C95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2640" y="38617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4F8E8-C81B-4D47-BF86-9A0A9487A7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2640" y="1752120"/>
            <a:ext cx="4068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61720"/>
            <a:ext cx="833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2B14C-C15C-426F-A1F5-D9E184D728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39320" cy="1455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DF3B-89E8-4DA7-9982-07771B89B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440" y="6188040"/>
            <a:ext cx="9139320" cy="66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be1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be1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lick to edit the title text format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5943600" y="5940360"/>
            <a:ext cx="297180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40" y="6188040"/>
            <a:ext cx="9139320" cy="669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943600" y="5943600"/>
            <a:ext cx="2971800" cy="536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9139320" cy="669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371600" y="1523880"/>
            <a:ext cx="6172200" cy="3302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e111d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e111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e111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e111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Improvements to 2002-2003 Verification Process 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2-2003, selection focuses more on errors affecting grant award am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will -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gnificantly improve error detection and preven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 in some schools seeing change in percentage of their applicants selected for verification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 encourages schools to verify all selected applic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7FDAD-20CE-47B7-9AB8-D9C9E3DBC0ED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Development of Verification Selection Criteria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763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Pro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selection criteria develo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to evaluate and strengthen the verification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rough statistical and empirical analysis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46C34-4129-4FFB-AE8B-6770145A02BD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Development of Verification Selection Criteria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336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of selecting minimum effective number of applicants who have the most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misallocated payments considered (over and under awa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CDE97-7E15-4B69-BB5D-8B60A3B30AA9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Development of Verification Selection Criteria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361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2 years applicant and payment data used i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eria depend on stability across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-related variables used as main predi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calculation of estimated taxes and comparison to reported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7B703-B33A-4964-88D2-69D540056BB9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Development of Verification Selection Criteria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361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Random and Immune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5% of applicants selected random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5% of applicants not selected even if criteria are met (held immune from sel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s control groups to measure effectiveness of targeted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BC556-8430-4372-86EF-BE6E1F0042E6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Development of Verification Selection Criteria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336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nts excluded from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A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who do 100% 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8251B-46DB-477F-AF5A-C8A17C68078C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Development of Verification Selection Criteria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36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 Interaction Detection is current statistical techniqu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tree diagram to define mutually exclusive and collectively exhaustiv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s groups where difference between selected students in group and immune students in group is as large as possible based on correction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B241C-FF85-4F62-888B-382A041FB715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Development of Verification Selection Criteria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36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Approach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s defined using application variables in various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hold size, income, taxes paid, tax discrepancy, marital status, type of tax form, non-taxable income, grade level, application receipt dat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F58D9-7077-433C-9DB7-CF3D4B15744F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Development of Verification Selection Criteria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36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Approach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use current criteria and CPS edits, as well as input from financial aid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e111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groups, Customer Service, e-mails, EAC conferen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7 groups defined for depen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0 groups defined for indepen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B8A39-9FAD-430C-AAF7-14D5DFA68D1A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Development of Verification Selection Criteria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Approach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 comparing dollar error for selected applicants with non-selected applicants used to deriv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3 Targeted Criteria identified for 2002-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eria prioritized to select 30% of applicants with the most potential error, and that error would result in significant change in grant a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DFC0C-F490-4B59-975B-BF4C930CCE28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Session 44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e111d"/>
                </a:solidFill>
                <a:latin typeface="Arial"/>
              </a:rPr>
              <a:t>The Verification Selection Proc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9D547-E573-48A5-9D04-F1F260C15FAE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Development of Verification Selection Criteria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361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Approach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final step, the number of applicants that will meet criteria is projected using most recent applican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ll award amounts are estimated using Pell paymen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F89AC-7B92-4FA3-A59E-79C5855F4273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Improvements for 2002-2003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characteristics identified 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-2001 IRS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y and tax filing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y and marital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ed income r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6C89E-2799-4CAF-A014-4F89404E1FD8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Improvements for 2002-2003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data collected by QA schools to identify misrepor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es paid as percentage of A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ital status and income r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7BFC6-ADEC-4EE7-8281-67BAE5F017B9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30% Verification Limit Option 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PS selects fewer than 30% of school’s applications for federal aid, school must verify all selected applic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PS selects more than 30%, school has options 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y all applicants selected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 verification to 30% of total number of federal aid applicants at the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FF41E-2909-4B13-BD70-EC5E57057992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30% Verification Limit Option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 strongly encourages verification of all selected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choosing to verify more than 30% can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llow verification requirements outlined in the Application and Verification Guide for all selected applicants (see chapter 3), 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llow federal verification requirements for 30% of applicants, but use own procedures for those beyond 3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1D86E-FD49-4998-93C3-FAD707D61C73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ISIR Verification Tracking Flag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36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two-character field on ISIR (positions1560-156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es priority of selection criteria for each selected appl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s are A, B, 01-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164CC-A235-484D-B303-A5CB58767423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ISIR Verification Tracking Flag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36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and B are highest priority, follow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-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number has higher pri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 using this field to prioritize applicants for selection if you are using 30% verification limit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5B3B5-2D64-4C60-B373-0A5B31E9F37B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Conclusion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36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ges ED has made to verification selection process necessary to protect and maintain integrity of the federal student aid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ing accurate data when awarding aid ensures continued public and political support for the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 continues to work toward implementation of a match with the I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E509F-38D1-4466-8730-3A3B4AF24288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28440" y="2438280"/>
            <a:ext cx="6172200" cy="990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e111d"/>
                </a:solidFill>
                <a:latin typeface="Times New Roman"/>
              </a:rPr>
              <a:t>Questions or Comments?</a:t>
            </a:r>
            <a:endParaRPr b="1" i="1" lang="en-US" sz="44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38C88-1366-4CC3-9E38-C34F117D096E}" type="slidenum">
              <a:t>28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23720" y="4572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Agenda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696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verif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 of income verification match with I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 studies to estimate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verification selection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ments for 2002-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30% verification limit op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erification Tracking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AC808-C6A6-4911-818E-A30A8301FC8E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Overview of Verification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36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ality Control studies conducted in the early 1980’s showed significant applicant erro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minimize applicant error, in 1986-87 ED implemented an integrated verification process for Title IV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PS edits developed to select applications with potential err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verification process not perfect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mbersome for students and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49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“catch” all students who have made errors and “catches” some who did no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506F3-85AB-497A-B324-AB5EF24CF6C2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57600" y="609480"/>
            <a:ext cx="5105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IRS Match 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762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sion added to 1998 Higher Education Amendments authorizing ED to confirm with IRS AGI, taxes paid, number of exemptions, and tax filing status reported on FAF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sury Department has determined that Internal Revenue Code (IRC) must be amended befo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S match with ED can be imple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S income match is one of ED’s top pri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 and Treasury working together to draft revised IRC language to forward to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777D2-5032-403F-BE10-3A397B69B1CE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be111d"/>
                </a:solidFill>
                <a:latin typeface="Times New Roman"/>
              </a:rPr>
              <a:t>Studies Conducted to Estimate </a:t>
            </a:r>
            <a:r>
              <a:rPr b="1" i="1" lang="en-US" sz="3400" spc="-1" strike="noStrike">
                <a:solidFill>
                  <a:srgbClr val="be111d"/>
                </a:solidFill>
                <a:latin typeface="Times New Roman"/>
              </a:rPr>
              <a:t>	</a:t>
            </a:r>
            <a:r>
              <a:rPr b="1" i="1" lang="en-US" sz="3400" spc="-1" strike="noStrike">
                <a:solidFill>
                  <a:srgbClr val="be111d"/>
                </a:solidFill>
                <a:latin typeface="Times New Roman"/>
              </a:rPr>
              <a:t>Extent and Impact of Misreporting</a:t>
            </a: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 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1995-96, ED’s Inspector General conducted study comparing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tudent’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AFSA income information to IR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51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G’s study focused primarily on Federal Pell Grant over-aw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51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G’s findings --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49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ensive discrepancies between FAFSA and IRS income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49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gnificant erroneous Federal Pell Grant payments  made as a res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9D3A6-4198-43E6-802D-479A09492134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ED/IRS Statistical Study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36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2001, ED and the IRS conducted joint statistical studies to -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frequency of income misreporting on the FAF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Pell Grant awards that would have been awarded had IRS income been used in need analy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extent of Pell Grant over and under-awar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y compared both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tudents’ and parents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AFSA AGI and taxes paid information to I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13A8B-383B-4BF8-9277-6156AC0A0099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ED/IRS Statistical Study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36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S provided aggregated statistical tables to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similar to IG’s study and show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-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pancies between FAFSA and IRS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e1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neous payments in the Federal Pell Grant Program (over- and under-award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50937-B01D-40AF-A086-52EB36105523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6172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111d"/>
                </a:solidFill>
                <a:latin typeface="Times New Roman"/>
              </a:rPr>
              <a:t>Improvements to 2002-2003 Verification Process</a:t>
            </a:r>
            <a:endParaRPr b="1" i="1" lang="en-US" sz="3600" spc="-1" strike="noStrike">
              <a:solidFill>
                <a:srgbClr val="be111d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protect integrity of the Title IV programs, ED used findings from the IRS study to strengthen verification selection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be111d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 also used data from QA Program to improve selection crite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2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1C6C0-9FDB-48B0-9FAD-96BC11672EFC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2T13:41:11Z</dcterms:created>
  <dc:creator>Bryan Van Note</dc:creator>
  <dc:description/>
  <dc:language>en-US</dc:language>
  <cp:lastModifiedBy>Marilyn LeBlanc</cp:lastModifiedBy>
  <cp:lastPrinted>2002-02-26T23:15:18Z</cp:lastPrinted>
  <dcterms:modified xsi:type="dcterms:W3CDTF">2002-03-04T14:21:13Z</dcterms:modified>
  <cp:revision>55</cp:revision>
  <dc:subject/>
  <dc:title>No Slide Title</dc:title>
</cp:coreProperties>
</file>