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E1E5D-A13D-4B4D-B6D8-6C32D89F9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6752-12EA-4530-890D-AEB9C1EDC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264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E8829-E051-476A-8CF3-29327F2DD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96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4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96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4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A9DEF-AC02-4E77-A8BC-095DF2C8A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514240" y="60948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4F951-8330-47D7-9020-28045A0D6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264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88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264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96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84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8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96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84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028E1-2CC7-4507-8263-B5ED21165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8B8FD-7A42-491F-A678-361BA3CA3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A9D04-20DE-491B-9A23-914C697EF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14240" y="60948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F38F1-5CB1-4D03-94C6-6120C3C9E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F4A1E-F213-42B9-BDAA-3D5AC3323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264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C519A-0435-4DD9-A796-7450BD809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B524C-B4AA-4D7D-8E67-B1AFC0349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39320" cy="1455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7341-32AA-4469-954B-BA9A53046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440" y="6188040"/>
            <a:ext cx="913932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be1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be1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5943600" y="5940360"/>
            <a:ext cx="29718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0" y="6188040"/>
            <a:ext cx="9139320" cy="669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943600" y="5943600"/>
            <a:ext cx="2971800" cy="536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9139320" cy="669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371600" y="1523880"/>
            <a:ext cx="6172200" cy="3302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e111d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e111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e111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e111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Improvements to 2002-2003 Verification Process 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2-2003, selection focuses more on errors affecting grant award am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will -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ificantly improve error detection and prev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 in some schools seeing change in percentage of their applicants selected for verificatio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encourages schools to verify all selected applic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233B4-3E74-4BAE-822C-10D918D5BC04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velopment of Verification Selection Criteri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election criteria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to evaluate and strengthen the verification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ough statistical and empirical analysis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47D3C-771F-4142-8CDF-86C74C8C4BB8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velopment of Verification Selection Criteri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36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of selecting minimum effective number of applicants who have the most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misallocated payments considered (over and under aw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63100-39DB-4005-8C7F-E8CF30C0166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velopment of Verification Selection Criteri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361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2 years applicant and payment data used i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a depend on stability across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-related variables used as main predi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calculation of estimated taxes and comparison to reported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D01B6-2E51-4456-BCE6-43C3358A9C51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velopment of Verification Selection Criteri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361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andom and Immun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% of applicants selected random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% of applicants not selected even if criteria are met (held immune from sel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control groups to measure effectiveness of targeted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3625D-3A20-4DA9-A043-BE87DECBE777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velopment of Verification Selection Criteri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36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s excluded from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A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who do 100%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BF7EE-9295-4ECD-AFA7-7E75D4029C32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velopment of Verification Selection Criteri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36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Interaction Detection is current statistical techniqu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tree diagram to define mutually exclusive and collectively exhaustiv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groups where difference between selected students in group and immune students in group is as large as possible based on correction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D5916-EFFD-4B15-9C52-ECD410400A1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velopment of Verification Selection Criteri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36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Approach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defined using application variables in various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hold size, income, taxes paid, tax discrepancy, marital status, type of tax form, non-taxable income, grade level, application receipt dat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0345A-6C66-4126-A3FD-EF2627E4E1A3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velopment of Verification Selection Criteri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36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Approach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use current criteria and CPS edits, as well as input from financial ai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e11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, Customer Service, e-mails, EAC conferen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7 groups defined for depen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 groups defined for indepen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EE7FA-BF01-4DAB-8D68-A257AFB263E6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velopment of Verification Selection Criteri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Approach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comparing dollar error for selected applicants with non-selected applicants used to deriv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 Targeted Criteria identified for 2002-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a prioritized to select 30% of applicants with the most potential error, and that error would result in significant change in grant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DBB8-2390-49EE-A413-0AEC8DBCD119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Session 44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e111d"/>
                </a:solidFill>
                <a:latin typeface="Arial"/>
              </a:rPr>
              <a:t>The Verification Selection Pro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6E911-38D4-496C-8F91-58410620FCB8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velopment of Verification Selection Criteri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361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Approach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final step, the number of applicants that will meet criteria is projected using most recent applica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l award amounts are estimated using Pell paym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D948-A308-4E72-BDBF-A499AE2D818C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Improvements for 2002-2003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characteristics identified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-2001 IRS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and tax filing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and marit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ed income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C9D2-897B-4C86-83F4-87A57DDDC94D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Improvements for 2002-2003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data collected by QA schools to identify misrepo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es paid as percentage of A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tal status and income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57703-431A-4CE0-A268-57D857F395B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30% Verification Limit Option 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PS selects fewer than 30% of school’s applications for federal aid, school must verify all selected applic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PS selects more than 30%, school has options 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all applicants selected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 verification to 30% of total number of federal aid applicants at th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6BFF8-8D41-4F11-B819-8A736884DB6D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30% Verification Limit Option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strongly encourages verification of all selected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choosing to verify more than 30% can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llow verification requirements outlined in the Application and Verification Guide for all selected applicants (see chapter 3), 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llow federal verification requirements for 30% of applicants, but use own procedures for those beyond 3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637C9-A42F-446D-8951-CD1E44AB8A5C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ISIR Verification Tracking Flag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36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wo-character field on ISIR (positions1560-156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s priority of selection criteria for each selected 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 are A, B, 01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EAF93-54EE-41B3-A1FE-22D61BC44E0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ISIR Verification Tracking Flag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36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nd B are highest priority, follow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number has higher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 using this field to prioritize applicants for selection if you are using 30% verification limit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CD54F-4FB3-48A5-A80D-BCA4EB761547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nclusion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36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s ED has made to verification selection process necessary to protect and maintain integrity of the federal student aid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accurate data when awarding aid ensures continued public and political support for the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 continues to work toward implementation of a match with the I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C2A1E-F0A6-40BF-AB66-746FA0B93C3C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440" y="2438280"/>
            <a:ext cx="61722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e111d"/>
                </a:solidFill>
                <a:latin typeface="Times New Roman"/>
              </a:rPr>
              <a:t>Questions or Comments?</a:t>
            </a:r>
            <a:endParaRPr b="1" i="1" lang="en-US" sz="44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2B91B-AFA3-47FC-A49A-7D122BADB824}" type="slidenum">
              <a:t>28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3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gend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ver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of income verification match with I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studies to estimate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verification selection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ments for 2002-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30% verification limit op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erification Tracking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DE67C-2858-46C0-8D31-9065B97D42B7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Overview of Verification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36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lity Control studies conducted in the early 1980’s showed significant applicant err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minimize applicant error, in 1986-87 ED implemented an integrated verification process for Title IV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PS edits developed to select applications with potential err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verification process not perfec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mbersome for students and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“catch” all students who have made errors and “catches” some who did 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6E3ED-7CFF-4111-8958-037B4F91D897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7600" y="609480"/>
            <a:ext cx="5105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IRS Match 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762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 added to 1998 Higher Education Amendments authorizing ED to confirm with IRS AGI, taxes paid, number of exemptions, and tax filing status reported on FA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sury Department has determined that Internal Revenue Code (IRC) must be amended befo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S match with ED can be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S income match is one of ED’s top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and Treasury working together to draft revised IRC language to forward to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25405-2E5E-41E5-9C31-3457E05FFF8E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be111d"/>
                </a:solidFill>
                <a:latin typeface="Times New Roman"/>
              </a:rPr>
              <a:t>Studies Conducted to Estimate </a:t>
            </a:r>
            <a:r>
              <a:rPr b="1" i="1" lang="en-US" sz="3400" spc="-1" strike="noStrike">
                <a:solidFill>
                  <a:srgbClr val="be111d"/>
                </a:solidFill>
                <a:latin typeface="Times New Roman"/>
              </a:rPr>
              <a:t>	</a:t>
            </a:r>
            <a:r>
              <a:rPr b="1" i="1" lang="en-US" sz="3400" spc="-1" strike="noStrike">
                <a:solidFill>
                  <a:srgbClr val="be111d"/>
                </a:solidFill>
                <a:latin typeface="Times New Roman"/>
              </a:rPr>
              <a:t>Extent and Impact of Misreporting</a:t>
            </a: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1995-96, ED’s Inspector General conducted study comparing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udent’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FSA income information to IR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G’s study focused primarily on Federal Pell Grant over-aw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G’s findings --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4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sive discrepancies between FAFSA and IRS income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4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ificant erroneous Federal Pell Grant payments  made as a res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12AE4-BAA3-4474-85ED-A50F12ADBD9E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ED/IRS Statistical Study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36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2001, ED and the IRS conducted joint statistical studies to -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frequency of income misreporting on the FAF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ell Grant awards that would have been awarded had IRS income been used in need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extent of Pell Grant over and under-awar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y compared bot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udents’ and parents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AFSA AGI and taxes paid information to I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350C1-89C3-4F8B-8D0E-0D3D5FA70550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ED/IRS Statistical Study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S provided aggregated statistical tables to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similar to IG’s study and sh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-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pancies between FAFSA and IRS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neous payments in the Federal Pell Grant Program (over- and under-award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4B244-E73A-4A9D-8981-6571FD827E40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6172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Improvements to 2002-2003 Verification Proces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rotect integrity of the Title IV programs, ED used findings from the IRS study to strengthen verification selection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 also used data from QA Program to improve selection cri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A74FC-DDBF-48AD-90D0-B0FE1C8C3718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13:41:11Z</dcterms:created>
  <dc:creator>Bryan Van Note</dc:creator>
  <dc:description/>
  <dc:language>en-US</dc:language>
  <cp:lastModifiedBy>Marilyn LeBlanc</cp:lastModifiedBy>
  <cp:lastPrinted>2002-02-26T23:15:18Z</cp:lastPrinted>
  <dcterms:modified xsi:type="dcterms:W3CDTF">2002-03-04T14:21:13Z</dcterms:modified>
  <cp:revision>55</cp:revision>
  <dc:subject/>
  <dc:title>No Slide Title</dc:title>
</cp:coreProperties>
</file>