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62F8-2130-489F-AE8A-06D962F8C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401C-C071-479A-A7CC-CAD33ADE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D574-A05F-4B2B-812D-0413CD647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3E5F-CA12-4179-8011-776B8872F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6F0A-9557-449F-B3F6-3581372B2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FF28-1201-424F-871A-2ECB566AC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8827-DE68-4786-9B8A-C069BDFA5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F063-28E5-4B31-A82A-E8F11CB3F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361D-2AE0-4EF0-A16F-201F92ADF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3927-6032-4B32-B3E2-42E2CA579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D7E4-BB9A-4359-9D9E-3E13DD903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AC51-E4BA-40AF-8011-3BA0B2A92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437-9DAB-422D-A247-C94EC699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Particip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-I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r vendors who send Pell Grant and/or Direct Loan records using AY 2002-03 software not modified for C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uding EDEx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4312-C65D-4836-AE21-E5D4BE0AA2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Features and Improvement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D is a process change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o changes t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entr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CO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ecord for origination, disbursement and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CEC1-9642-4A73-AA8C-B98DE7765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COD Features and Improvements</a:t>
            </a:r>
            <a:endParaRPr b="1" i="1" lang="en-US" sz="32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00200"/>
            <a:ext cx="76960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769608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9051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981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1676520"/>
            <a:ext cx="9144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286000"/>
            <a:ext cx="9144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809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n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657600"/>
            <a:ext cx="10670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098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971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048120"/>
            <a:ext cx="1067040" cy="457200"/>
          </a:xfrm>
          <a:prstGeom prst="rect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267080"/>
            <a:ext cx="10670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4956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3581280"/>
            <a:ext cx="914400" cy="533520"/>
          </a:xfrm>
          <a:prstGeom prst="ellipse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505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-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98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952880"/>
            <a:ext cx="7696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05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-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105520"/>
            <a:ext cx="1067040" cy="457200"/>
          </a:xfrm>
          <a:prstGeom prst="rect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029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6200000">
            <a:off x="5063040" y="3466800"/>
            <a:ext cx="167616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5029200"/>
            <a:ext cx="914400" cy="533520"/>
          </a:xfrm>
          <a:prstGeom prst="ellipse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752480"/>
            <a:ext cx="106704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286000"/>
            <a:ext cx="1067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6576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152D-6283-4661-B78D-584F414A7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Timeline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1687680"/>
            <a:ext cx="175248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1371600"/>
            <a:ext cx="8991360" cy="316080"/>
          </a:xfrm>
          <a:prstGeom prst="rect">
            <a:avLst/>
          </a:prstGeom>
          <a:solidFill>
            <a:srgbClr val="a9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1687680"/>
            <a:ext cx="175248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004840"/>
            <a:ext cx="175248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4 – COD Application Test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SFA User Acceptance Tes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InterSystem Tes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COD Application Testing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004840"/>
            <a:ext cx="1828800" cy="38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PRIL 1 – COD RELEAS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004840"/>
            <a:ext cx="182880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Y 13 – COD RELEASE 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20 – Post Rollout Application Test begi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rough Sept. 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2004840"/>
            <a:ext cx="1828800" cy="38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2004840"/>
            <a:ext cx="175248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y 1 – Additional COD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9D3E-383E-4CCD-9CBC-1BFDC0B2B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, edit, process and return origination and disbursement records for Pell, Direct Loan (except PLU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OD Website: </a:t>
            </a: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http://cod.sfa.ed.go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a batch of records, student, award, school or Promissory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details about batches, students, awards, disbursements, schools or Promissory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tudents, awards and disbur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248E-2D21-4D58-AC01-D7F471109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ustomer Service Ce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the same numbers – 1(800) 4PGRANT for Pell Grants and 1(800) 848-0978 for Direct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the Award Year related to your question.  Award Year 2002-03 questions will be handled by the new Customer Service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 year questions will be routed to the existing Pell and Loan Origination Cen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1CD4-EC83-4092-A741-B1627221D9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Repo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Disbursemen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/ Name/ DOB Chang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Student Borrower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Warn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e Loan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D682-75A3-403C-83A0-DC520AFE5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Reports (continue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A - originatio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R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 to Date Record - originatio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 File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an be requested via on-line data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D710-F5C6-4534-8EEC-50FEA43264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1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ay 13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Record Processing (includes credit checks through C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web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2CDB-9B6B-4CA4-8190-A4D078DBC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is a web based application that can be accessed using Microsoft Internet Explorer 4.01 or Netscape Navigator 4.7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RL for COD is </a:t>
            </a:r>
            <a:r>
              <a:rPr b="1" lang="en-US" sz="3200" spc="-1" strike="noStrike" u="sng">
                <a:solidFill>
                  <a:srgbClr val="c2000a"/>
                </a:solidFill>
                <a:uFillTx/>
                <a:latin typeface="Arial"/>
              </a:rPr>
              <a:t>http://cod.sfa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B94D-7991-43D0-9679-4F3C8D1F69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42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mmon Origination and Disbursement (COD)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Loan and Pell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C966-CFE3-4913-BA3F-8CCDFB4796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COD User Setup Letter on IFAP for detailed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Security Administrator for y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your Security Administrator Request Letter on university or corporate letterhead by March 1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EADE-BEDE-435E-B821-074441F21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send my Security Administrator Accoun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O. Box 9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agara Falls, NY  14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B080-F00C-44AF-98E9-8B350C1B09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Security Administrator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, update, and create schoo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 passwords, update and lock ou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school’s address and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, update, and create award and disburs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E2BA-F3AE-4D6E-9EFD-D884D14DD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School Users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view data for people, schools, awards, Promissory Notes and b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(but not update or release) rejected or pending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his/her own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D6CB-67D3-4AC7-B15B-6413C6C339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Options –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cept of Option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allow schools the flexibility to customize how they interface with and use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665F-E7B9-4640-8927-0C72C10C8A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Options Available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issory Note Prin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issory Notes Type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losure Prin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Cost Allow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Activity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Processing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Future Days to Display Disburs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9669-AB83-49B3-99F4-D0039AB458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158920"/>
          <a:ext cx="8763120" cy="3313080"/>
        </p:xfrm>
        <a:graphic>
          <a:graphicData uri="http://schemas.openxmlformats.org/drawingml/2006/table">
            <a:tbl>
              <a:tblPr/>
              <a:tblGrid>
                <a:gridCol w="3849840"/>
                <a:gridCol w="2046240"/>
                <a:gridCol w="28670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 – SAIG Commun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12 – Dec. 19,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ll – Common Record Manual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7– Feb. 28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lll – Appl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4-22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V – Post Rollout Appl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 – Sept 30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0AA1-78AC-4128-B10A-EF768ED43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646280"/>
            <a:ext cx="784836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Record Manual Verification (Phase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submit Common Records through the SAIG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School Test team verifies the Common Record conforms to 1.0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School Test team provides results and receipt when the test is successful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B511-702E-437E-9D5E-A1A92DF319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90720" y="1523880"/>
            <a:ext cx="7696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 Application Testing (Phase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ates Schools, Servicers, and Vendors’ ability to send, receive, and process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detailed test cases and scripts, as well as test ISIR file supplied by C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receive receipts and response fi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-In Participants receive acknowledgements in fixed-length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9F8F-DF95-4AD4-95E2-5FFB9A6FDB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1781280"/>
            <a:ext cx="7924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Rollout Application Testing (Phase 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testing period for COD Application Te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and Phase-In Participants can send, receive, and process batches and records using own test scenarios and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DBA3-ADF1-4255-851D-B45BB565A5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gend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an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– Access to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Te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on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74DD-45AE-4D0C-9C08-78CEC174A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752480"/>
            <a:ext cx="800100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Rollout Application Testing (Phase 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-In Participants will receive acknowledgement files and will need to verify they can process these 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will receive response records and will need to verify they can process these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095C-16BB-438D-89E0-F2AB3185D9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1600200"/>
            <a:ext cx="800100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Testing Resour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Testing Gu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 Web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-up She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3CF2-4DBB-4D59-8F7B-8D780E3A72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ore Information on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pring Conference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11 – COD and Commonline: Dispel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24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 Loan Processing Changes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-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3 – COD Options and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5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ll Grant Processing Changes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-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6 – 2003-2004 COD Full Particip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7 – Common School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BC52-2EA5-4570-AE89-1678B74ED2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ore Information on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sit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ll Grant and Direct Loan Technical Refere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Origination and Disbursement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Technical Refere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st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s and Frequently Ask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A Spring Training S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5 locations, beginning in May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y 2 Focuses on C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B312-A013-4B93-B0A4-268AD7C97B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ervice Call Center (until April 1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800) 433-7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-Fri 9:00AM-5:00PM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 Contacts – Kitty Wooley, James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ty.Wooley@ed.gov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.A.Crown@accentu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eedback and Comment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139D-8755-436E-A2F8-235C5925AF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s aid origination and disbursement processes for Pell Grants and Direct Loans, and provides optional common reporting opportunities for campus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a common process with a system designed to support origination, disbursement,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33E7-2CA6-4AEF-BA38-6BA5ADBBF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places the Recipient Financial Management System (RFMS) and the Direct Loan Origination System (DLOS) with an integrated common system starting in 2002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ccountability and program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968B-E014-4563-ABAC-EB1B312AB5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Benefits to S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program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web-enabled system available at all times (24x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tegrated support for Pell Grants, Direct Loans, and Campus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integrated decision-making an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documentation of interaction wit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4600" y="366840"/>
            <a:ext cx="189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2523-47BC-4D38-98D0-44372870B9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Particip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r vendors in the process of modifying software so that it supports the CO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hat made arrangements to install a vendor’s software upgrade that is modified to support the CO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2839-FB05-4E0A-9CA0-C4865077C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nd single student-centric record for Pell Grant and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process for reporting changes to Pell Grants and Direct Lo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 origination and disbursement changes in one step (via Common Rec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Capabilities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ull Participants Onl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45EC-B40D-4E5B-8878-9DBB74BFE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record format: only send data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porting of data elements (required today) that already exist in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mpus-based reporting to pre-populate portions of the FI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Capabilities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ull Participants Onl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EC48-B98B-477C-A9A1-12F35B0CA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SE Build</cp:lastModifiedBy>
  <cp:lastPrinted>2001-09-28T19:47:11Z</cp:lastPrinted>
  <dcterms:modified xsi:type="dcterms:W3CDTF">2002-02-25T19:08:30Z</dcterms:modified>
  <cp:revision>84</cp:revision>
  <dc:subject/>
  <dc:title>No Slide Title</dc:title>
</cp:coreProperties>
</file>