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5584D-3E89-4929-8C5A-FE89334AB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617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72B73-7A97-494D-8BB3-76A598483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264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4155D-7DFD-4C2B-AA66-FD775EF59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96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4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96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4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E810-2A77-4FFB-8840-70CAB5584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514240" y="609480"/>
            <a:ext cx="6172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BAC54-C4F4-4E80-AFA7-990AFD4CD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264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880" y="38617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264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96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84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8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96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84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B8128-796B-4B17-A5B6-B18FCCD20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2524A-7C24-492A-AC75-69FD158C3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A5AA4-02EE-452B-B7D2-53429E341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14240" y="609480"/>
            <a:ext cx="6172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77D04-C46E-449F-875C-0C15C8C4A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193D2-3D1F-45ED-AD75-649276F07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264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75051-545A-456D-B81F-0E2FD16DA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E191D-91BF-40E4-920E-86910A964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39320" cy="1455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7A05-341A-47DE-86D4-6B02D466B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440" y="6188040"/>
            <a:ext cx="913932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be1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be1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5943600" y="5940360"/>
            <a:ext cx="29718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0" y="6188040"/>
            <a:ext cx="9139320" cy="669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943600" y="5943600"/>
            <a:ext cx="2971800" cy="536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9139320" cy="669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371600" y="1523880"/>
            <a:ext cx="6172200" cy="3302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e111d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e111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e111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e111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Participation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-I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or vendors who send Pell Grant and/or Direct Loan records using AY 2002-03 software not modified for CO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cluding EDEx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04227-2C55-49EC-9250-5C87B2EE4E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Features and Improvements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D is a process change 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no changes to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Centric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CO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Record for origination, disbursement and chan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B9AD7-535F-4BC4-A3CF-A2E8369F2C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e111d"/>
                </a:solidFill>
                <a:latin typeface="Times New Roman"/>
              </a:rPr>
              <a:t>COD Features and Improvements</a:t>
            </a:r>
            <a:endParaRPr b="1" i="1" lang="en-US" sz="32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600200"/>
            <a:ext cx="76960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9051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-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895480"/>
            <a:ext cx="769608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19051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Sch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1981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1676520"/>
            <a:ext cx="914400" cy="533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2286000"/>
            <a:ext cx="9144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38098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 in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3657600"/>
            <a:ext cx="106704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809880"/>
            <a:ext cx="6094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29718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l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3048120"/>
            <a:ext cx="1067040" cy="457200"/>
          </a:xfrm>
          <a:prstGeom prst="rect">
            <a:avLst/>
          </a:prstGeom>
          <a:solidFill>
            <a:srgbClr val="03f1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4267080"/>
            <a:ext cx="10670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4495680"/>
            <a:ext cx="6094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3581280"/>
            <a:ext cx="914400" cy="533520"/>
          </a:xfrm>
          <a:prstGeom prst="ellipse">
            <a:avLst/>
          </a:prstGeom>
          <a:solidFill>
            <a:srgbClr val="03f1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2514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35053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-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3-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3809880"/>
            <a:ext cx="381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4952880"/>
            <a:ext cx="7696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05476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4-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5105520"/>
            <a:ext cx="1067040" cy="457200"/>
          </a:xfrm>
          <a:prstGeom prst="rect">
            <a:avLst/>
          </a:prstGeom>
          <a:solidFill>
            <a:srgbClr val="03f1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53341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502920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ll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rot="16200000">
            <a:off x="5063040" y="3466800"/>
            <a:ext cx="167616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5029200"/>
            <a:ext cx="914400" cy="533520"/>
          </a:xfrm>
          <a:prstGeom prst="ellipse">
            <a:avLst/>
          </a:prstGeom>
          <a:solidFill>
            <a:srgbClr val="03f1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1752480"/>
            <a:ext cx="106704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2286000"/>
            <a:ext cx="10670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365760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26A59-830A-4B35-8C88-2A23C5C0A3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Timeline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1687680"/>
            <a:ext cx="1752480" cy="315720"/>
          </a:xfrm>
          <a:prstGeom prst="rect">
            <a:avLst/>
          </a:prstGeom>
          <a:solidFill>
            <a:srgbClr val="f8f6a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320" y="1371600"/>
            <a:ext cx="8991360" cy="316080"/>
          </a:xfrm>
          <a:prstGeom prst="rect">
            <a:avLst/>
          </a:prstGeom>
          <a:solidFill>
            <a:srgbClr val="a9dd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15200" y="1687680"/>
            <a:ext cx="1752480" cy="315720"/>
          </a:xfrm>
          <a:prstGeom prst="rect">
            <a:avLst/>
          </a:prstGeom>
          <a:solidFill>
            <a:srgbClr val="f8f6a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2004840"/>
            <a:ext cx="1752480" cy="3862440"/>
          </a:xfrm>
          <a:prstGeom prst="rect">
            <a:avLst/>
          </a:prstGeom>
          <a:solidFill>
            <a:srgbClr val="cacd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ch 4 – COD Application Testing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ch 22 – SFA User Acceptance Test 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ch 22 – InterSystem Test 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ch 22 – COD Application Testing 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2004840"/>
            <a:ext cx="1828800" cy="38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PRIL 1 – COD RELEAS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2004840"/>
            <a:ext cx="1828800" cy="3862440"/>
          </a:xfrm>
          <a:prstGeom prst="rect">
            <a:avLst/>
          </a:prstGeom>
          <a:solidFill>
            <a:srgbClr val="cacd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AY 13 – COD RELEASE 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y 20 – Post Rollout Application Test begi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through Sept. 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2004840"/>
            <a:ext cx="1828800" cy="38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15200" y="2004840"/>
            <a:ext cx="1752480" cy="3862440"/>
          </a:xfrm>
          <a:prstGeom prst="rect">
            <a:avLst/>
          </a:prstGeom>
          <a:solidFill>
            <a:srgbClr val="cacd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ly 1 – Additional COD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6400" y="1689120"/>
            <a:ext cx="1828800" cy="315720"/>
          </a:xfrm>
          <a:prstGeom prst="rect">
            <a:avLst/>
          </a:prstGeom>
          <a:solidFill>
            <a:srgbClr val="f8f6a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1689120"/>
            <a:ext cx="1828800" cy="315720"/>
          </a:xfrm>
          <a:prstGeom prst="rect">
            <a:avLst/>
          </a:prstGeom>
          <a:solidFill>
            <a:srgbClr val="f8f6a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1689120"/>
            <a:ext cx="1828800" cy="315720"/>
          </a:xfrm>
          <a:prstGeom prst="rect">
            <a:avLst/>
          </a:prstGeom>
          <a:solidFill>
            <a:srgbClr val="f8f6a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06091-EB38-4D3C-A4A5-BF2601BA06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3520" y="144792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Release 1.0 – </a:t>
            </a:r>
            <a:br>
              <a:rPr sz="3600"/>
            </a:b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April 1, 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100000"/>
              </a:lnSpc>
              <a:spcBef>
                <a:spcPts val="751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ive, edit, process and return origination and disbursement records for Pell, Direct Loan (except PLU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51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COD Website: </a:t>
            </a:r>
            <a:r>
              <a:rPr b="1" lang="en-US" sz="3000" spc="-1" strike="noStrike" u="sng">
                <a:solidFill>
                  <a:srgbClr val="800000"/>
                </a:solidFill>
                <a:uFillTx/>
                <a:latin typeface="Arial"/>
              </a:rPr>
              <a:t>http://cod.sfa.ed.go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for a batch of records, student, award, school or Promissory N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details about batches, students, awards, disbursements, schools or Promissory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students, awards and disburs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B4163-E505-4FF7-A1DE-2122FB36BA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144792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Release 1.0 – </a:t>
            </a:r>
            <a:br>
              <a:rPr sz="3600"/>
            </a:b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April 1, 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Customer Service Cen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l the same numbers – 1(800) 4PGRANT for Pell Grants and 1(800) 848-0978 for Direct Lo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the Award Year related to your question.  Award Year 2002-03 questions will be handled by the new Customer Service Ce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or year questions will be routed to the existing Pell and Loan Origination Cent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76104-BC4C-4BB5-B493-E256516D2E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3520" y="144792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le Repo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ding Disbursement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ed Disbursement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N/ Name/ DOB Change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licate Student Borrower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Day Warning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ctive Loans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1460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Release 1.0 – </a:t>
            </a:r>
            <a:br>
              <a:rPr sz="3600"/>
            </a:b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April 1, 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BFB37-CE51-4730-9A81-A7A7318365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3520" y="144792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le Reports (continued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OA - originatio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R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 to Date Record - originatio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ciliation File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Can be requested via on-line data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Release 1.0 – </a:t>
            </a:r>
            <a:br>
              <a:rPr sz="3600"/>
            </a:b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April 1, 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F6913-642F-426B-A3E5-AFA391F910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3520" y="144792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Release 1.1 – </a:t>
            </a:r>
            <a:br>
              <a:rPr sz="3600"/>
            </a:b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May 13, 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19051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S Record Processing (includes credit checks through C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web funct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COD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8DC94-763D-400E-8122-E6240E5A83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Access to COD – </a:t>
            </a:r>
            <a:br>
              <a:rPr sz="3600"/>
            </a:b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How do I Obtain Access?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is a web based application that can be accessed using Microsoft Internet Explorer 4.01 or Netscape Navigator 4.7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RL for COD is </a:t>
            </a:r>
            <a:r>
              <a:rPr b="1" lang="en-US" sz="3200" spc="-1" strike="noStrike" u="sng">
                <a:solidFill>
                  <a:srgbClr val="c2000a"/>
                </a:solidFill>
                <a:uFillTx/>
                <a:latin typeface="Arial"/>
              </a:rPr>
              <a:t>http://cod.sfa.ed.go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DB2FB-E75F-4EDF-BAF6-8F557CAFB5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Session 42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ommon Origination and Disbursement (COD):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rect Loan and Pell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4A40D-BCF6-443C-BA34-865B662390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 to the COD User Setup Letter on IFAP for detailed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 Security Administrator for your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your Security Administrator Request Letter on university or corporate letterhead by March 11,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Access to COD – </a:t>
            </a:r>
            <a:br>
              <a:rPr sz="3600"/>
            </a:b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How do I Obtain Access?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0B169-D5FE-4A5F-B1E1-C5DF77FCAC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I send my Security Administrator Account Infor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Department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School Relations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O. Box 9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agara Falls, NY  143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Access to COD – </a:t>
            </a:r>
            <a:br>
              <a:rPr sz="3600"/>
            </a:b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How do I Obtain Access?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61AF3-7A76-43CF-91EA-4F93516B93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the Security Administrator D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, update, and create schoo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t passwords, update and lock out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the school’s address and contac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, update, and create award and disbursemen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Access to COD – </a:t>
            </a:r>
            <a:br>
              <a:rPr sz="3600"/>
            </a:b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How do I Obtain Access?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BDDB0-BEAE-4729-BAEF-2E201BD1BC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School Users D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for and view data for people, schools, awards, Promissory Notes and b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(but not update or release) rejected or pending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his/her own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Access to COD – </a:t>
            </a:r>
            <a:br>
              <a:rPr sz="3600"/>
            </a:b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How do I Obtain Access?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0D785-A194-4BE7-9917-B05CE2D2EA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Options –</a:t>
            </a:r>
            <a:br>
              <a:rPr sz="3600"/>
            </a:b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ncept of Options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83055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allow schools the flexibility to customize how they interface with and use C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ECB8A-6D14-41CA-8086-19E665D0C8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Options Available 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issory Note Print O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issory Notes Type O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losure Print O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ministrative Cost Allow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Activity Respon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rror Processing O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Future Days to Display Disburs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9C247-F409-405E-9077-1359EB57BA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School Testing Phases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2158920"/>
          <a:ext cx="8763120" cy="3313080"/>
        </p:xfrm>
        <a:graphic>
          <a:graphicData uri="http://schemas.openxmlformats.org/drawingml/2006/table">
            <a:tbl>
              <a:tblPr/>
              <a:tblGrid>
                <a:gridCol w="3849840"/>
                <a:gridCol w="2046240"/>
                <a:gridCol w="2867040"/>
              </a:tblGrid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ing Ph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I – SAIG Communication T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. 12 – Dec. 19, 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Participant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-In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ll – Common Record Manual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. 7– Feb. 28, 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lll – Application T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4-22, 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Participant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-In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IV – Post Rollout Application T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20 – Sept 30, 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Participant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-In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EBCB5-D66E-41E8-9FB7-3BF1DE004A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School Testing Phases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1646280"/>
            <a:ext cx="784836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7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Record Manual Verification (Phase 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584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nts submit Common Records through the SAIG Interf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584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D School Test team verifies the Common Record conforms to 1.0e Sche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5840" indent="-457200">
              <a:lnSpc>
                <a:spcPct val="100000"/>
              </a:lnSpc>
              <a:spcBef>
                <a:spcPts val="1749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D School Test team provides results and receipt when the test is successful</a:t>
            </a: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9BDCC-1F7F-40DA-A88D-418B2BA2A3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990720" y="1523880"/>
            <a:ext cx="769608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7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 Application Testing (Phase I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idates Schools, Servicers, and Vendors’ ability to send, receive, and process reco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detailed test cases and scripts, as well as test ISIR file supplied by C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ll Participants receive receipts and response fil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ase-In Participants receive acknowledgements in fixed-length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School Testing Phases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C2C1E-4780-45D5-B033-AD32789AED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90720" y="1781280"/>
            <a:ext cx="79246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7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 Rollout Application Testing (Phase I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584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itional testing period for COD Application Tes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584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ll Participants and Phase-In Participants can send, receive, and process batches and records using own test scenarios and scrip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584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58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School Testing Phases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8F6C2-2A65-4314-A6F1-1A652A6625B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Agenda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C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 and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– Access to C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School Testing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Information on C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15955-F3AE-4A02-899E-DB609F6835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90720" y="1752480"/>
            <a:ext cx="8001000" cy="38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 Rollout Application Testing (Phase I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240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ase-In Participants will receive acknowledgement files and will need to verify they can process these fi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240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ll Participants will receive response records and will need to verify they can process these reco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2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School Testing Phases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01E5E-119A-441B-92D9-A0779E51A50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09480" y="1600200"/>
            <a:ext cx="800100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 Testing Resour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240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D Technical Refer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240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Gu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240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ool Testing Gu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240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ll Participant Websi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240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2400" indent="-457200">
              <a:lnSpc>
                <a:spcPct val="100000"/>
              </a:lnSpc>
              <a:spcBef>
                <a:spcPts val="1624"/>
              </a:spcBef>
              <a:buClr>
                <a:srgbClr val="c2000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n-up Shee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2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School Testing Phases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E3E0C-018E-42DE-8508-483081EBD2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More Information on COD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pring Conference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ssion 11 – COD and Commonline: Dispel th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y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ssion 24 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 Loan Processing Changes fo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2-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ssion 33 – COD Options and Ac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ssion 35 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ll Grant Processing Changes fo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2-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ssion 36 – 2003-2004 COD Full Particip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i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ssion 37 – Common School 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483C7-C482-42DE-ABE2-EFBE745F32B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More Information on COD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lvl="1" marL="572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c2000a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AP Website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ww.IFAP.ed.go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ll Grant and Direct Loan Technical Referen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Origination and Disbursement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D Technical Referen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601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Participant Implement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601"/>
              </a:spcBef>
              <a:buClr>
                <a:srgbClr val="c2000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 Testing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dates and Frequently Asked 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c2000a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FA Spring Training Se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5 locations, beginning in May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649"/>
              </a:spcBef>
              <a:buClr>
                <a:srgbClr val="c200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y 2 Focuses on C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07CCC-1512-4FA7-B372-BFD4269F4BF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52440"/>
                <a:tab algn="l" pos="528480"/>
                <a:tab algn="l" pos="704880"/>
                <a:tab algn="l" pos="880920"/>
                <a:tab algn="l" pos="1057320"/>
                <a:tab algn="l" pos="1233360"/>
                <a:tab algn="l" pos="1409760"/>
                <a:tab algn="l" pos="1585800"/>
                <a:tab algn="l" pos="1762200"/>
                <a:tab algn="l" pos="1938240"/>
                <a:tab algn="l" pos="2114640"/>
                <a:tab algn="l" pos="2290680"/>
                <a:tab algn="l" pos="2467080"/>
                <a:tab algn="l" pos="2643120"/>
                <a:tab algn="l" pos="2819520"/>
                <a:tab algn="l" pos="2995560"/>
                <a:tab algn="l" pos="3171960"/>
                <a:tab algn="l" pos="3348000"/>
                <a:tab algn="l" pos="3524400"/>
                <a:tab algn="l" pos="3700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er Service Call Center (until April 1, 20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352440"/>
                <a:tab algn="l" pos="528480"/>
                <a:tab algn="l" pos="704880"/>
                <a:tab algn="l" pos="880920"/>
                <a:tab algn="l" pos="1057320"/>
                <a:tab algn="l" pos="1233360"/>
                <a:tab algn="l" pos="1409760"/>
                <a:tab algn="l" pos="1585800"/>
                <a:tab algn="l" pos="1762200"/>
                <a:tab algn="l" pos="1938240"/>
                <a:tab algn="l" pos="2114640"/>
                <a:tab algn="l" pos="2290680"/>
                <a:tab algn="l" pos="2467080"/>
                <a:tab algn="l" pos="2643120"/>
                <a:tab algn="l" pos="2819520"/>
                <a:tab algn="l" pos="2995560"/>
                <a:tab algn="l" pos="3171960"/>
                <a:tab algn="l" pos="3348000"/>
                <a:tab algn="l" pos="3524400"/>
                <a:tab algn="l" pos="3700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800) 433-73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352440"/>
                <a:tab algn="l" pos="528480"/>
                <a:tab algn="l" pos="704880"/>
                <a:tab algn="l" pos="880920"/>
                <a:tab algn="l" pos="1057320"/>
                <a:tab algn="l" pos="1233360"/>
                <a:tab algn="l" pos="1409760"/>
                <a:tab algn="l" pos="1585800"/>
                <a:tab algn="l" pos="1762200"/>
                <a:tab algn="l" pos="1938240"/>
                <a:tab algn="l" pos="2114640"/>
                <a:tab algn="l" pos="2290680"/>
                <a:tab algn="l" pos="2467080"/>
                <a:tab algn="l" pos="2643120"/>
                <a:tab algn="l" pos="2819520"/>
                <a:tab algn="l" pos="2995560"/>
                <a:tab algn="l" pos="3171960"/>
                <a:tab algn="l" pos="3348000"/>
                <a:tab algn="l" pos="3524400"/>
                <a:tab algn="l" pos="3700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-Fri 9:00AM-5:00PM 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352440"/>
                <a:tab algn="l" pos="528480"/>
                <a:tab algn="l" pos="704880"/>
                <a:tab algn="l" pos="880920"/>
                <a:tab algn="l" pos="1057320"/>
                <a:tab algn="l" pos="1233360"/>
                <a:tab algn="l" pos="1409760"/>
                <a:tab algn="l" pos="1585800"/>
                <a:tab algn="l" pos="1762200"/>
                <a:tab algn="l" pos="1938240"/>
                <a:tab algn="l" pos="2114640"/>
                <a:tab algn="l" pos="2290680"/>
                <a:tab algn="l" pos="2467080"/>
                <a:tab algn="l" pos="2643120"/>
                <a:tab algn="l" pos="2819520"/>
                <a:tab algn="l" pos="2995560"/>
                <a:tab algn="l" pos="3171960"/>
                <a:tab algn="l" pos="3348000"/>
                <a:tab algn="l" pos="3524400"/>
                <a:tab algn="l" pos="3700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52440"/>
                <a:tab algn="l" pos="528480"/>
                <a:tab algn="l" pos="704880"/>
                <a:tab algn="l" pos="880920"/>
                <a:tab algn="l" pos="1057320"/>
                <a:tab algn="l" pos="1233360"/>
                <a:tab algn="l" pos="1409760"/>
                <a:tab algn="l" pos="1585800"/>
                <a:tab algn="l" pos="1762200"/>
                <a:tab algn="l" pos="1938240"/>
                <a:tab algn="l" pos="2114640"/>
                <a:tab algn="l" pos="2290680"/>
                <a:tab algn="l" pos="2467080"/>
                <a:tab algn="l" pos="2643120"/>
                <a:tab algn="l" pos="2819520"/>
                <a:tab algn="l" pos="2995560"/>
                <a:tab algn="l" pos="3171960"/>
                <a:tab algn="l" pos="3348000"/>
                <a:tab algn="l" pos="3524400"/>
                <a:tab algn="l" pos="3700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 Contacts – Kitty Wooley, James Cr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352440"/>
                <a:tab algn="l" pos="528480"/>
                <a:tab algn="l" pos="704880"/>
                <a:tab algn="l" pos="880920"/>
                <a:tab algn="l" pos="1057320"/>
                <a:tab algn="l" pos="1233360"/>
                <a:tab algn="l" pos="1409760"/>
                <a:tab algn="l" pos="1585800"/>
                <a:tab algn="l" pos="1762200"/>
                <a:tab algn="l" pos="1938240"/>
                <a:tab algn="l" pos="2114640"/>
                <a:tab algn="l" pos="2290680"/>
                <a:tab algn="l" pos="2467080"/>
                <a:tab algn="l" pos="2643120"/>
                <a:tab algn="l" pos="2819520"/>
                <a:tab algn="l" pos="2995560"/>
                <a:tab algn="l" pos="3171960"/>
                <a:tab algn="l" pos="3348000"/>
                <a:tab algn="l" pos="3524400"/>
                <a:tab algn="l" pos="3700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tty.Wooley@ed.gov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352440"/>
                <a:tab algn="l" pos="528480"/>
                <a:tab algn="l" pos="704880"/>
                <a:tab algn="l" pos="880920"/>
                <a:tab algn="l" pos="1057320"/>
                <a:tab algn="l" pos="1233360"/>
                <a:tab algn="l" pos="1409760"/>
                <a:tab algn="l" pos="1585800"/>
                <a:tab algn="l" pos="1762200"/>
                <a:tab algn="l" pos="1938240"/>
                <a:tab algn="l" pos="2114640"/>
                <a:tab algn="l" pos="2290680"/>
                <a:tab algn="l" pos="2467080"/>
                <a:tab algn="l" pos="2643120"/>
                <a:tab algn="l" pos="2819520"/>
                <a:tab algn="l" pos="2995560"/>
                <a:tab algn="l" pos="3171960"/>
                <a:tab algn="l" pos="3348000"/>
                <a:tab algn="l" pos="3524400"/>
                <a:tab algn="l" pos="3700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.A.Crown@accentur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352440"/>
                <a:tab algn="l" pos="528480"/>
                <a:tab algn="l" pos="704880"/>
                <a:tab algn="l" pos="880920"/>
                <a:tab algn="l" pos="1057320"/>
                <a:tab algn="l" pos="1233360"/>
                <a:tab algn="l" pos="1409760"/>
                <a:tab algn="l" pos="1585800"/>
                <a:tab algn="l" pos="1762200"/>
                <a:tab algn="l" pos="1938240"/>
                <a:tab algn="l" pos="2114640"/>
                <a:tab algn="l" pos="2290680"/>
                <a:tab algn="l" pos="2467080"/>
                <a:tab algn="l" pos="2643120"/>
                <a:tab algn="l" pos="2819520"/>
                <a:tab algn="l" pos="2995560"/>
                <a:tab algn="l" pos="3171960"/>
                <a:tab algn="l" pos="3348000"/>
                <a:tab algn="l" pos="3524400"/>
                <a:tab algn="l" pos="37004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Feedback and Comments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1871B-0835-4061-9A99-94B3E5B685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Overview of COD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s aid origination and disbursement processes for Pell Grants and Direct Loans, and provides optional common reporting opportunities for campus-based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a common process with a system designed to support origination, disbursement,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777CC-1A35-483A-BB6B-C9A6A10093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Overview of COD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replaces the Recipient Financial Management System (RFMS) and the Direct Loan Origination System (DLOS) with an integrated common system starting in 2002-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accountability and program integ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EF0FF-60FF-4E4A-8DA2-64491D8866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Overview of COD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36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Benefits to S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2000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s program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2000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y web-enabled system available at all times (24x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2000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integrated support for Pell Grants, Direct Loans, and Campus-Base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2000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integrated decision-making and custome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2000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s documentation of interaction with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84600" y="366840"/>
            <a:ext cx="1892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615C4-6BCC-4067-B59C-9695E4A473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Participation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or vendors in the process of modifying software so that it supports the COD Common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that made arrangements to install a vendor’s software upgrade that is modified to support the COD Common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90A78-C308-4D45-A0AA-2111BA2339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16761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c2000a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nd single student-centric record for Pell Grant and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2000a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ame process for reporting changes to Pell Grants and Direct Lo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2000a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solve origination and disbursement changes in one step (via Common Rec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Capabilities – </a:t>
            </a:r>
            <a:br>
              <a:rPr sz="3600"/>
            </a:b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Full Participants Only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FA827-E157-492F-A3C5-FB61A12179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17521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lexible record format: only send data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2000a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reporting of data elements (required today) that already exist in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2000a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ption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mpus-based reporting to pre-populate portions of the FIS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D Capabilities – </a:t>
            </a:r>
            <a:br>
              <a:rPr sz="3600"/>
            </a:b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Full Participants Only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A6966-4CF6-4100-B2D5-1B23B28049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13:41:11Z</dcterms:created>
  <dc:creator>Bryan Van Note</dc:creator>
  <dc:description/>
  <dc:language>en-US</dc:language>
  <cp:lastModifiedBy>SE Build</cp:lastModifiedBy>
  <cp:lastPrinted>2001-09-28T19:47:11Z</cp:lastPrinted>
  <dcterms:modified xsi:type="dcterms:W3CDTF">2002-02-25T19:08:30Z</dcterms:modified>
  <cp:revision>84</cp:revision>
  <dc:subject/>
  <dc:title>No Slide Title</dc:title>
</cp:coreProperties>
</file>