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4593-AC7E-4536-A29F-0D65993B9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0FC6-CCDF-4D92-ABFE-2AB123A77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6F48-B3E1-4BF5-A4B5-E0CA2060F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CC75-2CF0-400D-A622-2292F0F34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2ABF-BA99-480B-BABB-4FB701119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688B-AED4-46A2-A7DD-FD0A1243D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84EE-7E3F-4B82-BBCE-BFE325F9D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F372-DF9B-4357-9268-D49B5E7D1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5B8E-D7A6-4D14-8193-5FBEF4715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D57C-1070-4120-BFDF-B71946069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4205-8DC7-46B3-B4F7-4E73E652B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136E-FCF4-4531-BE9F-41086AAE7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14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54CD-3F74-40A0-BB54-511B12477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be1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943600" y="5940360"/>
            <a:ext cx="29718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5943600"/>
            <a:ext cx="297180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371600" y="1523880"/>
            <a:ext cx="6172200" cy="3302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11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e111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111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440" y="6858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chools Can Help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the Service Center in finding and counseling severely delinquent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he student and counsel them on their rights, benefits,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he student and transfer to Servicer or have a three way conference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be111d"/>
                </a:solidFill>
                <a:latin typeface="Arial"/>
              </a:rPr>
              <a:t>Talking to the student borrower makes all th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CD66-565A-44E3-9E57-7E352A88B2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440" y="7617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The Tool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Web Site gives you the flexibility to identify the student borrower population you want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Services is your point of contact to provide assistance to the borrowers’ needs call 1-888-877-765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BCCF-6ABC-446F-B958-1B0D0F480D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With the Web Site you can see as little or as much as you wan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111" name="DELQ-0002" descr=""/>
          <p:cNvPicPr/>
          <p:nvPr/>
        </p:nvPicPr>
        <p:blipFill>
          <a:blip r:embed="rId1"/>
          <a:stretch/>
        </p:blipFill>
        <p:spPr>
          <a:xfrm>
            <a:off x="396720" y="2057400"/>
            <a:ext cx="5623200" cy="3733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259092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 Site offers you summary and detail information about delinquent borr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3FCF-DE83-47CF-B8C6-032D7538DD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520" y="6858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ummary Inform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114" name="DELQ-0004" descr=""/>
          <p:cNvPicPr/>
          <p:nvPr/>
        </p:nvPicPr>
        <p:blipFill>
          <a:blip r:embed="rId1"/>
          <a:stretch/>
        </p:blipFill>
        <p:spPr>
          <a:xfrm>
            <a:off x="345960" y="1447920"/>
            <a:ext cx="6207120" cy="4495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162920" y="26668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see the delinquency status of your student borrow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CDD4-613E-4DF8-B19F-F29F75A476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7617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tail Inform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117" name="DELQ-0006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678168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86600" y="2286000"/>
            <a:ext cx="167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elect to see detail of all borrowers in the 271-360 days delinquent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AA22-9F0F-4CD3-8FFE-1CB39C9739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6858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hort Year Delinquency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120" name="DELQ-0007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6143760" cy="4343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781680" y="236232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elect to see severely delinquent borrowers for a selected cohor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B952-BE3C-40BB-94C0-75D39A187C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6520" y="7617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hort Year Delinquency Detail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123" name="DELQ-0008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613404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0" y="3003480"/>
            <a:ext cx="23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work as little or as much as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867D-F322-4EBC-BAF7-38E5F07A7F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8380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chool Services offers assistance option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rovide you with scripts on how we counsel your student borr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assist you while on a call with a delinquent borrower 1-888-877-765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ensure the student is given assistance after you contac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5026-ED2F-44FB-8C07-42F15F6DA6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Why Does This Work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106560" y="1447560"/>
            <a:ext cx="833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1074240" indent="-214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be111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easy to s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need to assist with late s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spcAft>
                <a:spcPts val="601"/>
              </a:spcAft>
              <a:buClr>
                <a:srgbClr val="be111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don’t need to wade through every delinquen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spcAft>
                <a:spcPts val="601"/>
              </a:spcAft>
              <a:buClr>
                <a:srgbClr val="be111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tools to identify the accounts you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help col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spcAft>
                <a:spcPts val="601"/>
              </a:spcAft>
              <a:buClr>
                <a:srgbClr val="be111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effort, maximum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spcAft>
                <a:spcPts val="601"/>
              </a:spcAft>
              <a:buClr>
                <a:srgbClr val="be111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Center is available to ass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888-877-765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spcAft>
                <a:spcPts val="601"/>
              </a:spcAft>
              <a:buClr>
                <a:srgbClr val="be111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inancial or contractual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B8F3-633A-42C3-ABBD-5DE0723372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be111d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be111d"/>
                </a:solidFill>
                <a:latin typeface="Times New Roman"/>
              </a:rPr>
              <a:t>Contact information:</a:t>
            </a:r>
            <a:br>
              <a:rPr sz="3600"/>
            </a:b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3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Piers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FA School Rela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phone: 404-562-6269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John.Pierson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 Lebor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Loan Re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phone: 202-377-32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.Leborys@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ABC2-DF3C-4C59-BF11-348381C167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71440" y="8380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e111d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be111d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be111d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be111d"/>
                </a:solidFill>
                <a:latin typeface="Times New Roman"/>
              </a:rPr>
              <a:t>Session 15</a:t>
            </a:r>
            <a:endParaRPr b="1" i="1" lang="en-US" sz="40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rect Lo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vicing Site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3893-D8B2-4AA1-9B9E-77E07BDEF4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Who is willing to start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E7E9-1D7C-4ECF-97B4-753A139D57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9144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e111d"/>
                </a:solidFill>
                <a:latin typeface="Times New Roman"/>
              </a:rPr>
              <a:t>Goal</a:t>
            </a:r>
            <a:endParaRPr b="1" i="1" lang="en-US" sz="40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roduce The Direct  Lo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te Stage Delinquency Assistance Initia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be111d"/>
                </a:solidFill>
                <a:latin typeface="Times New Roman"/>
              </a:rPr>
              <a:t>It’s New!      It Work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BA7A-F798-4F01-BA7B-B64D4AEF6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0920" y="6858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gend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nquency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er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chools Can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ols Can Make it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4F83-87E8-4111-AB8D-5ABC13728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8380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irect Loan Statistic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of January 2002 we h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,651,143 Direct Loans disbursements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7 million “active”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ve portfolio valued at $72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 million payments collected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valued at $15.9 billion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1,091 borrowers actively using 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A289-DEFE-423E-88C0-848C88E3C7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7617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fault Rate Tren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1955880"/>
          <a:ext cx="8336160" cy="36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55880"/>
                    <a:ext cx="833616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1961-D95A-4FCD-A06C-D967371EBE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7617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Borrower Delinquency Patter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46280" y="1752480"/>
          <a:ext cx="76039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752480"/>
                    <a:ext cx="76039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56E1-2A15-42D7-BC46-8F79D83726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7760" y="6858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Makeup of Cohort Rate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79320" y="1752480"/>
          <a:ext cx="773748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752480"/>
                    <a:ext cx="77374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C30C-8973-4CDF-AC85-387838A92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faulter Characteristic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2% do not get the advantage of “aging through” their full 6 month grace as the result of late enrollment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% have withdrawn from school and did not complete their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 have bad telephon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have not been successfully contacted by telephone during the 12 months of collectio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5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6231-E7D2-44B3-806B-446AACAC6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Benjamin A. LeBorys</cp:lastModifiedBy>
  <cp:lastPrinted>2002-02-26T20:00:30Z</cp:lastPrinted>
  <dcterms:modified xsi:type="dcterms:W3CDTF">2002-03-11T21:18:01Z</dcterms:modified>
  <cp:revision>116</cp:revision>
  <dc:subject/>
  <dc:title>No Slide Title</dc:title>
</cp:coreProperties>
</file>