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67DBB-6177-4050-9716-D6A11D4B2E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CDF11-DE4B-4308-A247-78A795397B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1BA83-6BAD-492E-BC65-ECE3CFAC1D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F06CE-534A-4651-80B0-008AF69FF4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4EFF0-951D-4669-931C-297C699B54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49678-806E-4959-8E55-F190FCAC6C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1932F-2DF7-4914-80D4-200890B893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E579F-054F-4575-A51B-6085204C7B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290B5-A6D7-41EF-9E09-7E798A868C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B2E95-94B9-4BA4-8404-15A700D831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0B5BF-B943-4154-A64A-B08D0432AE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C00A2-FB28-4906-9E6D-C4B5544E07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23c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6708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1CF7-96FC-4571-BD06-179D047D4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7620120" cy="5335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rcRect l="0" t="31673" r="0" b="54484"/>
          <a:stretch/>
        </p:blipFill>
        <p:spPr>
          <a:xfrm>
            <a:off x="0" y="6553080"/>
            <a:ext cx="7696080" cy="3049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359080" cy="1600200"/>
          </a:xfrm>
          <a:prstGeom prst="rect">
            <a:avLst/>
          </a:prstGeom>
          <a:ln w="0">
            <a:noFill/>
          </a:ln>
        </p:spPr>
      </p:pic>
      <p:pic>
        <p:nvPicPr>
          <p:cNvPr id="7" name="0" descr="The U.S. Department of Education"/>
          <p:cNvPicPr/>
          <p:nvPr/>
        </p:nvPicPr>
        <p:blipFill>
          <a:blip r:embed="rId5"/>
          <a:stretch/>
        </p:blipFill>
        <p:spPr>
          <a:xfrm>
            <a:off x="5257800" y="5943600"/>
            <a:ext cx="369576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39080" cy="76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rcRect l="5679" t="32004" r="0" b="61183"/>
          <a:stretch/>
        </p:blipFill>
        <p:spPr>
          <a:xfrm>
            <a:off x="0" y="6400800"/>
            <a:ext cx="678168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676520" y="1219320"/>
            <a:ext cx="5584680" cy="3789360"/>
          </a:xfrm>
          <a:prstGeom prst="rect">
            <a:avLst/>
          </a:prstGeom>
          <a:ln w="0">
            <a:noFill/>
          </a:ln>
        </p:spPr>
      </p:pic>
      <p:pic>
        <p:nvPicPr>
          <p:cNvPr id="47" name="0" descr="The U.S. Department of Education"/>
          <p:cNvPicPr/>
          <p:nvPr/>
        </p:nvPicPr>
        <p:blipFill>
          <a:blip r:embed="rId5"/>
          <a:stretch/>
        </p:blipFill>
        <p:spPr>
          <a:xfrm>
            <a:off x="5181480" y="5791320"/>
            <a:ext cx="3695760" cy="533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23c8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nsldsccc@raytheon.com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fap.ed.gov/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nslds.ed.gov/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nslds.ed.gov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ifap.ed.gov/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mailto:Nsldsccc@raytheon.com" TargetMode="External"/><Relationship Id="rId2" Type="http://schemas.openxmlformats.org/officeDocument/2006/relationships/hyperlink" Target="http://www.nsldsfap.ed.gov/" TargetMode="External"/><Relationship Id="rId3" Type="http://schemas.openxmlformats.org/officeDocument/2006/relationships/hyperlink" Target="http://www.nslds.ed.gov/" TargetMode="External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How It Works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10f6b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reports conflict to the CCC to resear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10f6b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must be prepared to provide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10f6b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CC works to resolve issues with the data 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10f6b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parties are notified when correction is m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F46AC-E09A-4276-95AD-801601DB7B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Defining a Conflict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repancies that affect aid elig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rect identifiers in NS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of bir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Security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rect stat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rect am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plicated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7A210-E840-4B35-A0D1-7C513EF459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8120" y="45684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What is NOT a Conflict?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year Pell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rect middle or last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rect information in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n status that has recently 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n status that does not affect elig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as CA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gregate determination for Consoli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2C460-0E4A-48D8-80A0-DDF7A4644E2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51460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Example of Duplicated Record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8A124-1A2F-4D42-A9E1-351219DC6F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-762120"/>
            <a:ext cx="9144000" cy="7702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2EBE6-12D6-4FFA-882E-C4884EAA6A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5120" y="281916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Example of Name History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0A809-E97E-4EF1-B7F1-62228D2F8F1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-500040"/>
            <a:ext cx="9144000" cy="7358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886EC-FC72-4698-8FC4-F10FFD68EA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136440"/>
            <a:ext cx="9144000" cy="658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1D4DD-E6DB-430B-B9E4-FF5AB2C661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How Does a Conflict Occur?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rect FAF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ud or identity th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ected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n assigned incor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3A575-346F-42CD-B008-3CD41894AC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90920" y="30456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Reporting a Conflict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 1-800-999-8219 and select option #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 </a:t>
            </a:r>
            <a:r>
              <a:rPr b="0" lang="en-US" sz="2800" spc="-1" strike="noStrike" u="sng">
                <a:solidFill>
                  <a:srgbClr val="009900"/>
                </a:solidFill>
                <a:uFillTx/>
                <a:latin typeface="Arial"/>
                <a:hlinkClick r:id="rId1"/>
              </a:rPr>
              <a:t>nsldsccc@raytheo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Financial Aid professionals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F1DF7-1CB3-44A6-844A-3B3467279C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ession 10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2819520"/>
            <a:ext cx="838188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90d5d"/>
                </a:solidFill>
                <a:latin typeface="Comic Sans MS"/>
              </a:rPr>
              <a:t>NSLDS Data Conflict Resolution and You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0331F-510E-42E5-8826-C019D67D04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onsolidation Loan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ing Aggreg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r Colleague Letter Gen 96-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 u="sng">
                <a:solidFill>
                  <a:srgbClr val="009900"/>
                </a:solidFill>
                <a:uFillTx/>
                <a:latin typeface="Arial"/>
                <a:hlinkClick r:id="rId1"/>
              </a:rPr>
              <a:t>www.ifap.ed.gov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under archived pub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 #52-#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FEL Consolidations are comb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L Consolidations are separ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8CD27-DB71-4C7F-8EA4-E268B19733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Students 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go to </a:t>
            </a:r>
            <a:r>
              <a:rPr b="0" lang="en-US" sz="3200" spc="-1" strike="noStrike" u="sng">
                <a:solidFill>
                  <a:srgbClr val="009900"/>
                </a:solidFill>
                <a:uFillTx/>
                <a:latin typeface="Arial"/>
                <a:hlinkClick r:id="rId1"/>
              </a:rPr>
              <a:t>www.nslds.ed.gov</a:t>
            </a:r>
            <a:r>
              <a:rPr b="0" lang="en-US" sz="3200" spc="-1" strike="noStrike">
                <a:solidFill>
                  <a:srgbClr val="1c700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have valid P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er conflicts will prevent vie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726E3-DA04-4443-91A8-8B0C16296FD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When Students Contact CCC Directly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ill 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red to their current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current school is available they are referred to </a:t>
            </a:r>
            <a:r>
              <a:rPr b="0" lang="en-US" sz="2800" spc="-1" strike="noStrike" u="sng">
                <a:solidFill>
                  <a:srgbClr val="009900"/>
                </a:solidFill>
                <a:uFillTx/>
                <a:latin typeface="Arial"/>
                <a:hlinkClick r:id="rId1"/>
              </a:rPr>
              <a:t>www.nslds.ed.gov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or Federal Student Aid Information Center for current loan h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loan holder is closed they are referred to Ombudsman Office as a last res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35580-E64A-4C8C-9DF9-1CA429DBEE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Documentation Requirements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ication of correct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x or email doco to NSL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x: 903-453-60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:</a:t>
            </a:r>
            <a:r>
              <a:rPr b="0" lang="en-US" sz="3200" spc="-1" strike="noStrike">
                <a:solidFill>
                  <a:srgbClr val="1c7002"/>
                </a:solidFill>
                <a:latin typeface="Arial"/>
              </a:rPr>
              <a:t> nsldsccc@raytheo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23c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SLDS tracking number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D51D8-F7C1-470A-9B31-C1721F08333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8120" y="38052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Acceptable Documentation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9250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rect Social Security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cial Security 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urrent driver’s licen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-2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ayroll check or check stu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urrent U.S. Military 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tate 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AC5B7-7E34-4A59-A775-AA180DCBB6B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Acceptable Documentation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60120" y="1905120"/>
            <a:ext cx="7497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rect date of bi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410f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irth certif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410f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urrent driver’s lice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410f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as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410f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urrent Military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410f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ate 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410f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ien registration car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m I-551 or I-15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32157-32BC-4C64-BB1C-27C657ADB9C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Acceptable Documentation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07840" y="213372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2" marL="1097280" indent="-219240"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security 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river’s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th certif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.S certificate of naturaliz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t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riage certific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orce dec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16765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orrect first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43030-1ED2-4771-BC45-4C6DBF3B37F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Acceptable Documentation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rect first nam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-2 Fo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U.S. Military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S. Military discharge pap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S. Certificate of Citizensh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ien Registration Car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option paper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6C0AD-3AD9-42CE-BBBC-12737F4D7E6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Exception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07840" y="175248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Loan Name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provide court decree proving name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ification of Natur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have “AKA” prior to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785A0-E9C6-4502-AD4F-10B9B46B28E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Acceptable Documentation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rect status or am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ter from loan/overpayment h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d in full promissory n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23c8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celled checks and/or money order receipts are not accep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FA0FF-608C-4B3E-897A-6557DBC62CC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What is NSLDS? </a:t>
            </a:r>
            <a:br>
              <a:rPr sz="4000"/>
            </a:b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National Student Loan Data System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database of federal loans &amp; grants awarded under Title IV of the Higher Ed Act of 1965, as ame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an loading data in 19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online access granted in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access started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C9CD6-39E2-4507-AE84-2FC2A52892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Resolution Takes Time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iting on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ot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d data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log of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ent on data provider’s submittal schedules and 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911C6-6EAB-49C3-B473-19894A85F3A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Awarding Students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r Colleague Letter GEN 96-1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 </a:t>
            </a:r>
            <a:r>
              <a:rPr b="0" lang="en-US" sz="2800" spc="-1" strike="noStrike" u="sng">
                <a:solidFill>
                  <a:srgbClr val="009900"/>
                </a:solidFill>
                <a:uFillTx/>
                <a:latin typeface="Arial"/>
                <a:hlinkClick r:id="rId1"/>
              </a:rPr>
              <a:t>www.ifap.ed.go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der archived pub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 #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 #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C27AE-F5E5-49BA-9D93-949BC2F1AF4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Resolution Time Reduced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updating for guaranty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lates for guaranty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payment online updating for D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provider of last res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137F2-7BDB-4DC7-97CF-7B0CEC8735C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Reduction in ISIR Code #138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ode sent if no relevant data in NS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ode sent if CPS sends NSLDS 0’s for Date of bi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ing in a 47% reduction in #138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0-01 147,872 codes 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1-02    78,419  codes 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59768-FD2D-40D9-A612-609FAF44090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322800" y="0"/>
            <a:ext cx="5821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Progres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04920" y="960480"/>
          <a:ext cx="8458200" cy="4983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60480"/>
                    <a:ext cx="8458200" cy="49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C1583-5C90-486D-B0E9-2D97112E960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19520" y="-36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Feedback 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07840" y="1295280"/>
            <a:ext cx="8335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1347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would like to take this opportunity to acknowledge the outstanding service I received recently from the Customer Care Contract to resolve an issue effecting title IV eligibility.   I began working on this issue in July and there was not any resolve to the problem until the CCC department became involved on 9/13/02.  Today (9/18), I was able to verify the issue had been resolved and NSLDS properly updated to reflect correct status of borrower's loans. I will definitely call upon CCC in the future to research and resolve issues updating NSLDS loan status which I am unsuccessful in resolving. Thank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y Ammons ECPI College of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968AD-ADAC-43CD-AC85-26FAFC03655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8120" y="-36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Feedback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600200" y="1281240"/>
          <a:ext cx="6553080" cy="47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281240"/>
                    <a:ext cx="6553080" cy="47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5BEC6-C0D1-46B8-9BAE-408A301F3EE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Contact Information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800-999-8219 Option #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x: 903-453-60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00"/>
                </a:solidFill>
                <a:uFillTx/>
                <a:latin typeface="Arial"/>
                <a:hlinkClick r:id="rId1"/>
              </a:rPr>
              <a:t>Nsldsccc@raytheo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00"/>
                </a:solidFill>
                <a:uFillTx/>
                <a:latin typeface="Arial"/>
                <a:hlinkClick r:id="rId2"/>
              </a:rPr>
              <a:t>www.nsldsfap.ed.gov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for professio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00"/>
                </a:solidFill>
                <a:uFillTx/>
                <a:latin typeface="Arial"/>
                <a:hlinkClick r:id="rId3"/>
              </a:rPr>
              <a:t>www.nslds.ed.gov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for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22FC6-EF6C-499C-812D-BE00BAF1F2A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81080" y="29714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Discussion and Question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31580-97D2-4C33-ABEA-6A942A30DAA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NSLDS Goals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 burden, costs, and errors in aid administr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ize abuse within aid progra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 database of highly reliable, accessibl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and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coordination and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0BC6C-0DC7-42BE-A948-70D61D6C85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NSLDS Content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,480,530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6,216,785 Loans (FFEL, Direct, Perki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5,120,711 Pell Grants (1993-curr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4,687 School Bran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,259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1,258 Len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 Guaranty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student" descr=""/>
          <p:cNvPicPr/>
          <p:nvPr/>
        </p:nvPicPr>
        <p:blipFill>
          <a:blip r:embed="rId1"/>
          <a:stretch/>
        </p:blipFill>
        <p:spPr>
          <a:xfrm>
            <a:off x="6705720" y="3809880"/>
            <a:ext cx="19098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475C2-DC81-45A6-B448-DC8C67CE4A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0" y="209520"/>
          <a:ext cx="9372600" cy="66484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9520"/>
                    <a:ext cx="937260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2590920" y="4572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10f6b"/>
                </a:solidFill>
                <a:latin typeface="Arial"/>
              </a:rPr>
              <a:t>NSLDS Data Provi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0009C-91D8-4825-ACA7-E95FE1B7D1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Timing of Data Feeds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91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i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S Demograph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exible Sched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ranty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51520" y="1828800"/>
            <a:ext cx="4092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ek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th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kins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77740-2057-46CE-B2DC-E689AA5A81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NSLDS Users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ges, universities, and trade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and borr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ranty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 part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Federal Government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25BEF-0815-430F-87B5-EAE2A9F1CF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23720" y="53316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Customer Care Center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2133360"/>
            <a:ext cx="80773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blished in November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390d5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 dog team recomme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390d5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burden for FA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390d5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location for resolving data confli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390d5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ible for negotiating with data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390d5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ome cases, allowing NSLDS to become the data provider of last res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AB2E3-10CA-4BAE-95CC-3A47FAC7EC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18:53:46Z</dcterms:created>
  <dc:creator>Jeanne Henderson</dc:creator>
  <dc:description/>
  <dc:language>en-US</dc:language>
  <cp:lastModifiedBy>Dept. of Education</cp:lastModifiedBy>
  <cp:lastPrinted>2002-09-20T18:59:28Z</cp:lastPrinted>
  <dcterms:modified xsi:type="dcterms:W3CDTF">2002-12-12T15:26:53Z</dcterms:modified>
  <cp:revision>5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09312546</vt:r8>
  </property>
  <property fmtid="{D5CDD505-2E9C-101B-9397-08002B2CF9AE}" pid="3" name="_AuthorEmail">
    <vt:lpwstr>WideGa@ncs.com</vt:lpwstr>
  </property>
  <property fmtid="{D5CDD505-2E9C-101B-9397-08002B2CF9AE}" pid="4" name="_AuthorEmailDisplayName">
    <vt:lpwstr>Widel, Gary</vt:lpwstr>
  </property>
  <property fmtid="{D5CDD505-2E9C-101B-9397-08002B2CF9AE}" pid="5" name="_EmailSubject">
    <vt:lpwstr>2002 Presentation and Instructions</vt:lpwstr>
  </property>
  <property fmtid="{D5CDD505-2E9C-101B-9397-08002B2CF9AE}" pid="6" name="_PreviousAdHocReviewCycleID">
    <vt:r8>2074826488</vt:r8>
  </property>
</Properties>
</file>