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46C1-F2B8-4FD8-9290-F61DEF9D6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4DD7-014D-450D-9F1F-682A4D771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0058-4499-4F38-931F-5DB0A3EB4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25E2-9C20-4E19-AB79-ED16C3756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5845-E0A8-4B68-81DA-431FF252F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D254-6593-4E4B-B6C9-43D6B6CD0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6D4F-347A-4B9D-AC04-66E6EEA02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ED28-1C2F-4C01-A424-8C61FD3D6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47B7-32C8-4FAD-B101-90ADF9489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AE8F-AAC6-4CEC-BF2A-CD4DB3F89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3BFE-71A7-412A-ACD7-16B8CBCAA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8AEA-A074-4BD4-9F44-6373CD8A1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B63D-9D97-4A4F-B3E1-BAD870742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nsldsccc@raytheon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fap.ed.gov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slds.ed.gov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nslds.ed.gov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ifap.ed.gov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Nsldsccc@raytheon.com" TargetMode="External"/><Relationship Id="rId2" Type="http://schemas.openxmlformats.org/officeDocument/2006/relationships/hyperlink" Target="http://www.nsldsfap.ed.gov/" TargetMode="External"/><Relationship Id="rId3" Type="http://schemas.openxmlformats.org/officeDocument/2006/relationships/hyperlink" Target="http://www.nslds.ed.gov/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How It Work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0f6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reports conflict to the CCC to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10f6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ust be prepared to provid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10f6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C works to resolve issues with the data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10f6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rties are notified when correction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68B2-8D7E-4AF6-8E66-945D462DA5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Defining a Conflict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pancies that affect aid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identifiers in N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of bi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stat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d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C57C-9C82-4A41-9BB6-94C0C939E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at is NOT a Conflict?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year Pel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middle or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information i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status that has recently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status that does not affect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CA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determination for Consoli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876C-56CF-471C-915E-3D50B546A5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ample of Duplicated Recor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E403F-DD88-4279-A9C9-0D9EB35346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70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EC44-97AA-4A86-BF98-EE3601FA60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5120" y="28191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xample of Name History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156D-4E67-4A2B-ABB0-28705CBA40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50004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EAD7-8200-4FB8-A073-6EE32AB237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A377-75C6-4312-8353-2B4E16FC92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How Does a Conflict Occur?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d or 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ed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assigned in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8D5A-20F9-4253-AFFB-F84D017A49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porting a Conflict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1-800-999-8219 and select op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nsldsccc@raythe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Financial Aid profession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482A-2ECC-4AD1-B158-44C66D0147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0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90d5d"/>
                </a:solidFill>
                <a:latin typeface="Comic Sans MS"/>
              </a:rPr>
              <a:t>NSLDS Data Conflict Resolution and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A1E3-AA9E-497B-8575-90A180E547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solidation Loa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Aggr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Colleague Letter Gen 96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www.ifap.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under archived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#52-#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 Consolidations are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Consolidations are sepa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9145-3EDC-4142-ADBD-E7FA9B2A20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tudents 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go to </a:t>
            </a: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www.nslds.ed.gov</a:t>
            </a:r>
            <a:r>
              <a:rPr b="0" lang="en-US" sz="3200" spc="-1" strike="noStrike">
                <a:solidFill>
                  <a:srgbClr val="1c70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valid 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 conflicts will prevent 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21B0-91DE-4FA7-9012-F068A17044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en Students Contact CCC Directly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ed to their current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urrent school is available they are referred to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www.nslds.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or Federal Student Aid Information Center for current loan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oan holder is closed they are referred to Ombudsman Office as a last re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679D-1E85-4D6E-A08B-B069228B6F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Documentation Requiremen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correct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 or email doco to NS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903-453-60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3200" spc="-1" strike="noStrike">
                <a:solidFill>
                  <a:srgbClr val="1c7002"/>
                </a:solidFill>
                <a:latin typeface="Arial"/>
              </a:rPr>
              <a:t> nsldsccc@raythe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LDS tracking number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4661-279E-4D87-8DA5-91C5A72CB7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812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9250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rect Social Security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Security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driver’s lice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-2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yroll check or check s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U.S. Military 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5E16-1444-4EBA-8639-9EBB82E7C7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0120" y="1905120"/>
            <a:ext cx="749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date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driver’s lic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Military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en registration c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m I-551 or I-1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22A0-D42D-44F8-856E-EEDA6AE146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7840" y="21337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river’s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 certif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 certificate of natura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certific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 dec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676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rrect first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305D-6323-4488-8798-387DA65217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irst na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-2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U.S. Military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Military discharge pap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Certificate of Citize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en Registration C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ion paper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4DCE-D57B-44B7-A242-17208873AE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cep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784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Nam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rovide court decree proving nam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ion of Natu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have “AKA” prior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EED3-8559-4CF1-B92D-9F24CFE5F0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status or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from loan/overpayment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in full promissory 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23c8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led checks and/or money order receipts are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961A-7A5C-4EAB-BEE6-A95ED1B7E8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NSLDS? </a:t>
            </a:r>
            <a:br>
              <a:rPr sz="40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ational Student Loan Data System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database of federal loans &amp; grants awarded under Title IV of the Higher Ed Act of 1965, as a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loading data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online access granted in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access started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7526-77CA-49AF-999B-8836408CA1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solution Takes Tim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on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data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log of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on data provider’s submittal schedules and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60EE-6C06-4D9E-8A8F-390EB4ED24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ing Studen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Colleague Letter GEN 96-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der archived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#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#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509F-C465-4BE1-97C9-3EF2E912A6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solution Time Reduced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updating for guarant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s for guarant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payment online updating for D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vider of last r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6F15-3F23-4003-A0F6-2414C541B0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duction in ISIR Code #138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de sent if no relevant data in N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de sent if CPS sends NSLDS 0’s for Date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in a 47% reduction in #138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-01 147,872 code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-02    78,419  code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65D5-58DE-47BE-B97D-330F08639A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22800" y="0"/>
            <a:ext cx="5821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ogr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960480"/>
          <a:ext cx="8458200" cy="49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60480"/>
                    <a:ext cx="845820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B373-FBD6-4CAB-86C4-5D538AC1F3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eedback 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7840" y="1295280"/>
            <a:ext cx="833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ould like to take this opportunity to acknowledge the outstanding service I received recently from the Customer Care Contract to resolve an issue effecting title IV eligibility.   I began working on this issue in July and there was not any resolve to the problem until the CCC department became involved on 9/13/02.  Today (9/18), I was able to verify the issue had been resolved and NSLDS properly updated to reflect correct status of borrower's loans. I will definitely call upon CCC in the future to research and resolve issues updating NSLDS loan status which I am unsuccessful in resolving. Than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y Ammons ECPI Colleg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3542-6241-4EB4-A286-372C6E6CBA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eedback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00200" y="1281240"/>
          <a:ext cx="6553080" cy="47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81240"/>
                    <a:ext cx="65530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20B8-DCE3-4F60-90AD-6A12815901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ntact Inform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00-999-8219 Option #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903-453-60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Nsldsccc@raythe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  <a:hlinkClick r:id="rId2"/>
              </a:rPr>
              <a:t>www.nsldsfap.ed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for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  <a:hlinkClick r:id="rId3"/>
              </a:rPr>
              <a:t>www.nslds.ed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31C2-6630-43F6-843F-495CB479E5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29714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cussion and Ques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9FB9-7C2E-4F1F-B1C4-3D5DF43D3B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SLDS Goal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burden, costs, and errors in aid admin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abuse within aid pr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database of highly reliable, accessi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n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coordination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FAA8-E577-426F-A0C8-6C8725A7BF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SLDS Content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,480,53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,216,785 Loans (FFEL, Direct, Perk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,120,711 Pell Grants (1993-curr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,687 School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,259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,258 L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Guarant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tudent" descr=""/>
          <p:cNvPicPr/>
          <p:nvPr/>
        </p:nvPicPr>
        <p:blipFill>
          <a:blip r:embed="rId1"/>
          <a:stretch/>
        </p:blipFill>
        <p:spPr>
          <a:xfrm>
            <a:off x="6705720" y="3809880"/>
            <a:ext cx="1909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9A47-E36F-49CD-81D0-CDDB1E03D0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209520"/>
          <a:ext cx="9372600" cy="6648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520"/>
                    <a:ext cx="937260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590920" y="457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10f6b"/>
                </a:solidFill>
                <a:latin typeface="Arial"/>
              </a:rPr>
              <a:t>NSLDS Data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474D-9A0B-4E5F-A09C-A08BFC259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iming of Data Fee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S Dem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 Sched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y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5152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ek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h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kins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26EF-088B-4124-AD3C-1826949938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SLDS Us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s, universities, and trad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nd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y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ederal Governmen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BFC0-EF90-46AC-A774-81B0AFD36F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ustomer Care Center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in November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 dog team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burden for F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location for resolving data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negotiating with data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cases, allowing NSLDS to become the data provider of last re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CE6E-637D-4592-B349-5DAA96AA8D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26:53Z</dcterms:modified>
  <cp:revision>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