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7A3F-DC91-4948-A9C7-327664B23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B55A-1F49-4E39-B604-412A48A0E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9EF2-EFD3-42A3-A709-C778E8C1F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B482-261F-44B3-BF01-D75920EDD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FE8-FCF8-4360-94F1-B85C4833D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C75A-8C2C-4209-9998-23A356794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9D95-37BC-4161-84D0-899B396D4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AE1-D3A3-484B-8321-3D0816208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D171-490B-4C34-8E5F-01983E96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9271-2FDB-46D4-9707-5573DC496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38E2-1A64-4C06-B697-93AF46ED6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C801-9BBD-412D-BA23-F9FF5FA08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A77-341E-42BD-8DA3-454C3476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5438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ied Tuition Programs – Section 5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x-fre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-paid plans developed by educa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panded eligible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creased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atible with HOPE/Lifetime Learning t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re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GTRRA </a:t>
            </a: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2DB2-B714-400B-A183-C218A3E3B6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inancial aid can be included in the calculation of the EFC.  However, whether it is taxed or not does not affect whether it is treated as a resource or E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award is considered employment according to federal or state laws or regulations, it must be treated as employment for purposes of determining eligibility for Title IV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228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General Ru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C43C-8AF2-47C8-80C2-BD80E0A21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2057400"/>
            <a:ext cx="9067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x Credit Beneficiaries Are “Held Harmles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ederal Need Analysis Excludes Amount(s)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lculation of “Total Incom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on 2002-2003 FAFSA “Worksheet 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(s) Not Included as “Untaxed Income and Benefi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cludes as a Resource/Estimated Financial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948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l Lif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8276-488D-4887-ADCD-971A367E0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676520"/>
            <a:ext cx="8839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k:  Income or Other Financial Assistanc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ed-based emplo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on need-based emplo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An educational benefit that is contingent up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enrollment (except non need-based employm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Fellowships and assistant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cholarships with work/service 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l Life </a:t>
            </a:r>
            <a:r>
              <a:rPr b="0" i="1" lang="en-US" sz="2800" spc="-1" strike="noStrike">
                <a:solidFill>
                  <a:srgbClr val="713474"/>
                </a:solidFill>
                <a:latin typeface="Arial"/>
              </a:rPr>
              <a:t>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0A26-4306-4D49-AA99-3E9C823B5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ward (or portion of award) that is treated as employme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ased upon nee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nsidered a resource or EFA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eated as income just like any other employment earnings of the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hat income should be included in the AGI on the student’s next financial aid application for inclusion in the calculation of the EF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arification: </a:t>
            </a:r>
            <a:br>
              <a:rPr sz="4000"/>
            </a:b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Fellowships &amp; Assistantships </a:t>
            </a:r>
            <a:br>
              <a:rPr sz="2800"/>
            </a:br>
            <a:r>
              <a:rPr b="1" i="1" lang="en-US" sz="2400" spc="-1" strike="noStrike">
                <a:solidFill>
                  <a:srgbClr val="713474"/>
                </a:solidFill>
                <a:latin typeface="Arial"/>
              </a:rPr>
              <a:t>(as well as all other awards)</a:t>
            </a:r>
            <a:endParaRPr b="1" i="1" lang="en-US" sz="2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0332-7160-42D3-AFAD-82AE5E272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ward (or portion of award) that is treated as employme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upon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d a resource or EFA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included in AGI, then list on Worksheet C as exclusion to income for calculation of the EF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arification</a:t>
            </a: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 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26B1-6B3D-43AC-BD62-6ED428EE7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ward (or portion of award) that is not employment (regardless of whether it was based on ne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d a resource or EFA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f included in AGI, then list on Worksheet C as exclusion to income for calculation of the EF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arification</a:t>
            </a: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 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0B16-5123-46E5-BC6E-A0678ECA5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02-2003 FAFSA Worksheet 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 clear regarding fellowship and assistantship amounts that were non need-based employment. Those should not be included on the worksheet as exclusion to inc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mounts that were correctly not treated as resources and EFA in the prior year need to remain as income that will be part of the 2002-2003 EFC calculation. As such, they should not be included in Worksheet C as exclusions from inc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 may elect to review line items #46 and #80 (ISIR fields #51 and #85) to ensure correct information is reported. Specifically, exclusions in those items may mistakenly include earnings not treated as resources and EFA in the prior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5560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pecial Not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4E0D-EA93-443D-99FE-588A0B5FC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143000"/>
            <a:ext cx="830592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www.house.gov/rules/1836_sum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and Tax Relief Reconciliation Act of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Times New Roman"/>
              </a:rPr>
              <a:t>www.irs.gov/forms_pubs/pub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Publication 52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holarships and Fellow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Publication 59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ividual Retirement Arrangements (IRA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Publication 97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Tax Benefits for Highe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EB25-B459-43D3-A26A-99C83B803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905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Dan.Madzelan@ed.g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Anthony.Jones@ed.gov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8120" y="6854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377A-1B69-4D20-B9D1-33493C8B3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# 6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19520"/>
            <a:ext cx="891540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Unexplained Side of Resources: Fellowships, Assistantships, 529 Plans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1D6E-0606-4920-A0BC-1BAA2FDEA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160020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tory Defin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Gross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axed income and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inancial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ings fro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Revenu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8420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ver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DED2-5B72-49BF-B923-3F13149AB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ied Schola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ons for Series EE US Savings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tion for Education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Exclusion for Employer-provided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Loan Forg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ied State Tuition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fore TRA 1997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DEB4-05EF-4FDE-A742-940C13662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E Scholars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$1,500 Refundable Tax Cr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nrolled at Least Half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First Two Years of Col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Remain Drug-f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Maintain a “B” 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x De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First $5,000 of Expenses ($10,000 in 200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ny Postsecondary Edu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852a5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olicy Develop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B737-9391-46D2-BA10-FBFC78EAE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371600" y="1981080"/>
          <a:ext cx="6553080" cy="34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530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olicy Development </a:t>
            </a:r>
            <a:r>
              <a:rPr b="0" i="1" lang="en-US" sz="2800" spc="-1" strike="noStrike">
                <a:solidFill>
                  <a:srgbClr val="713474"/>
                </a:solidFill>
                <a:latin typeface="Arial"/>
              </a:rPr>
              <a:t>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B647-D2E2-4C74-BB2D-9D28C620DC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2388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E Tax Cred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$1,500 Tax Credit for Educational Expenses (100% of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First $1,000, 50% of Second $1,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time Learning Tax Cred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20% of the First $5,000 ($10,000 in 200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deral Pell Gra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ncrease Maximum award by $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xpand Eligibility for Independent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F Need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olicy Development </a:t>
            </a:r>
            <a:r>
              <a:rPr b="0" i="1" lang="en-US" sz="2800" spc="-1" strike="noStrike">
                <a:solidFill>
                  <a:srgbClr val="713474"/>
                </a:solidFill>
                <a:latin typeface="Arial"/>
              </a:rPr>
              <a:t>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6A3F-3BA9-459F-B5CC-F52F59DBB0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52388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duction for Educational Expen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“Above the l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come lim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nual maximum – $3,000/$4,000/$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 Loan Interest De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liminates 60-month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igher income phase-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y interest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ployer-Provided Educational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raduate/professional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ex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conomic Growth &amp; Tax Relief Reconciliation Act of 2001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750E-28E1-48B3-9305-6EC5BD1E1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riage Penalty Reli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wer marginal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rned Income Tax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/Lifetime Learning Tax Cred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ordinate with other tax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erdell Education Savings Accou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merly Education I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$2,000 annual contribution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tributions from employers/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K-12 educational exp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income phase-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ordinate other savings plans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0368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GTRRA </a:t>
            </a:r>
            <a:r>
              <a:rPr b="1" i="1" lang="en-US" sz="2800" spc="-1" strike="noStrike">
                <a:solidFill>
                  <a:srgbClr val="713474"/>
                </a:solidFill>
                <a:latin typeface="Arial"/>
              </a:rPr>
              <a:t>(cont’d)</a:t>
            </a: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68AD-F341-4C3B-AB6F-6C8E00878B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19:06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