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4.gif" ContentType="image/gi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2.jpeg" ContentType="image/jpeg"/>
  <Override PartName="/ppt/media/image18.png" ContentType="image/png"/>
  <Override PartName="/ppt/media/image6.gif" ContentType="image/gif"/>
  <Override PartName="/ppt/media/image29.gif" ContentType="image/gif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14.wmf" ContentType="image/x-wmf"/>
  <Override PartName="/ppt/media/image32.png" ContentType="image/png"/>
  <Override PartName="/ppt/media/image37.png" ContentType="image/png"/>
  <Override PartName="/ppt/media/image7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11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13.png" ContentType="image/png"/>
  <Override PartName="/ppt/media/image41.wmf" ContentType="image/x-wmf"/>
  <Override PartName="/ppt/media/image38.png" ContentType="image/png"/>
  <Override PartName="/ppt/media/image8.png" ContentType="image/png"/>
  <Override PartName="/ppt/media/image33.png" ContentType="image/png"/>
  <Override PartName="/ppt/media/image40.gif" ContentType="image/gif"/>
  <Override PartName="/ppt/media/image3.png" ContentType="image/png"/>
  <Override PartName="/ppt/media/image26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BD1D5-F1D8-4166-8C42-7EFD816A0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4187-ADEB-4B1E-BDB6-342411FAA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EC98-3948-4A25-AA97-2B327D8BE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C132-F80E-469D-A6B7-5C1C250DF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7735-68AF-4CE0-8EDA-237CE9635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8F6F-02CA-4A0A-93E4-11623D2CD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0E63-3004-432B-B457-D69C8F90D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1CF8A-8E7C-42B9-9255-2E14409D5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064C4-4417-46F3-9AA7-BB5B71047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BD25-156F-49B6-AE81-A8ADC21BF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E344E-3C45-4F35-B668-598529827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276A-00A3-438A-8EC5-19B1F5D3D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8CDC-643A-4078-9A21-FCBB060BE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mailto:cpswan@ncs.com" TargetMode="External"/><Relationship Id="rId2" Type="http://schemas.openxmlformats.org/officeDocument/2006/relationships/hyperlink" Target="mailto:cpswan@ncs.com" TargetMode="External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chool Applications</a:t>
            </a:r>
            <a:br>
              <a:rPr sz="4000"/>
            </a:br>
            <a:r>
              <a:rPr b="1" i="1" lang="en-US" sz="2600" spc="-1" strike="noStrike">
                <a:solidFill>
                  <a:srgbClr val="713474"/>
                </a:solidFill>
                <a:latin typeface="Arial"/>
              </a:rPr>
              <a:t>FAA Access to CPS Online</a:t>
            </a:r>
            <a:endParaRPr b="1" i="1" lang="en-US" sz="26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1905120"/>
          <a:ext cx="541008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541008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5000" y="19047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 collects and enters FAFSA information for applicant and transmits signatur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s student’s     e-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474A-BD71-47E7-9619-92E14A312E00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6068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 Outpu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18121" t="22378" r="14002" b="11636"/>
          <a:stretch/>
        </p:blipFill>
        <p:spPr>
          <a:xfrm>
            <a:off x="914400" y="1371600"/>
            <a:ext cx="746748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5A529-FF45-42B4-B2DA-BC36873564E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IN Mailer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ed to permanen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s applicant what their PI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ings applicants can do with their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ED Web sites where PIN can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13160" y="1371600"/>
          <a:ext cx="4830840" cy="434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371600"/>
                    <a:ext cx="4830840" cy="43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5DED-B5F7-456E-B51A-8D253924BCA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-mail With Link to PIN on the Web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ed to address on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applicants how to access their PIN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link or paste copy of link into address bar of their brow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733920" y="1981080"/>
          <a:ext cx="5410080" cy="34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981080"/>
                    <a:ext cx="54100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31455-9862-404D-A98B-9A4130E06F2E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IN on the Web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280" y="1859040"/>
          <a:ext cx="5334120" cy="37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59040"/>
                    <a:ext cx="5334120" cy="37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akes applicant to the PIN access page on pin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curity, applicant must enter perso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ecurit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wo letters of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Bi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67031-C4CE-41B3-9F11-0EFEA25156A8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IN on the Web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“authenticated,” students can see their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ime acces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memorize, write down, or print copy of PIN Web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licants lose or forget PIN, they can re-request it from www.pin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038480" y="1828800"/>
          <a:ext cx="498312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828800"/>
                    <a:ext cx="498312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D1014-89CE-4406-9ADF-51657FBC5FC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713474"/>
                </a:solidFill>
                <a:latin typeface="Arial"/>
              </a:rPr>
              <a:t>Paper Student Aid Report (SAR)</a:t>
            </a:r>
            <a:endParaRPr b="1" i="1" lang="en-US" sz="3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ed to permanen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SAR is 4 pages, front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3-04 SAR will be 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N moved on first page so applicants do not confuse with E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ar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105520" y="1219320"/>
          <a:ext cx="36766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219320"/>
                    <a:ext cx="36766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0C86-8CBF-415F-B5A0-84F941F40141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12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AR Acknowledgeme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80880" y="1676520"/>
          <a:ext cx="3665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366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90760" y="182880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ed to permanen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 Acknowledgement is 1 page, front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breviated version of 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correc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N 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2E938-8E73-4167-B681-FFB7C230E44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8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713474"/>
                </a:solidFill>
                <a:latin typeface="Arial"/>
              </a:rPr>
              <a:t>E-mail With Link to SAR Information on the Web</a:t>
            </a:r>
            <a:endParaRPr b="1" i="1" lang="en-US" sz="39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100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ed to address on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applicants how to access their SAR Information  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link or paste copy of link into address bar of their brow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280" y="1828800"/>
          <a:ext cx="5334120" cy="39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53341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925B-D38F-48FB-B988-D23441CE7A46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AR Information on the Web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353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akes applicant to the Student Access on the Web entry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curity, applicant must enter perso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ecurit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wo letters of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Bi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ccess unlimite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627360" y="1905120"/>
          <a:ext cx="521172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7360" y="1905120"/>
                    <a:ext cx="521172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CC8B-CCB8-4C31-9480-2BF1659D67B0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5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19520"/>
            <a:ext cx="83818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Student and School Application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825F6-7B4A-4C66-B67F-89B7DCB49D2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tudent Access on the Web</a:t>
            </a:r>
            <a:br>
              <a:rPr sz="3600"/>
            </a:br>
            <a:r>
              <a:rPr b="1" i="1" lang="en-US" sz="2400" spc="-1" strike="noStrike">
                <a:solidFill>
                  <a:srgbClr val="713474"/>
                </a:solidFill>
                <a:latin typeface="Arial"/>
              </a:rPr>
              <a:t>SAR Information</a:t>
            </a:r>
            <a:endParaRPr b="1" i="1" lang="en-US" sz="24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981080"/>
          <a:ext cx="510552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51055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5152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Student Access applicant can view all SAR information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application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application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d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ial” Expected Family Contribution (EF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348F-B01C-4D8A-9E57-A15D995CCB25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 Access</a:t>
            </a:r>
            <a:br>
              <a:rPr sz="4000"/>
            </a:br>
            <a:r>
              <a:rPr b="1" i="1" lang="en-US" sz="2800" spc="-1" strike="noStrike">
                <a:solidFill>
                  <a:srgbClr val="713474"/>
                </a:solidFill>
                <a:latin typeface="Arial"/>
              </a:rPr>
              <a:t>You the Student</a:t>
            </a:r>
            <a:endParaRPr b="1" i="1" lang="en-US" sz="28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You the Student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graphic information about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leas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tudent Access, can go directly to Corrections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343400" y="1940040"/>
          <a:ext cx="480060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940040"/>
                    <a:ext cx="48006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B791-5228-42DE-87CD-F24F58EE958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 Access</a:t>
            </a:r>
            <a:br>
              <a:rPr sz="4000"/>
            </a:br>
            <a:r>
              <a:rPr b="1" i="1" lang="en-US" sz="2800" spc="-1" strike="noStrike">
                <a:solidFill>
                  <a:srgbClr val="713474"/>
                </a:solidFill>
                <a:latin typeface="Arial"/>
              </a:rPr>
              <a:t>NSLDS History Information</a:t>
            </a:r>
            <a:endParaRPr b="1" i="1" lang="en-US" sz="28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280" y="1828800"/>
          <a:ext cx="5181840" cy="39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518184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4120" y="2133360"/>
            <a:ext cx="3985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LD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Aid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kins Loan A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ed/Discharged Loan Detai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Pell Gra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5F1A-7B43-4A04-BD93-C3EA03399A4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 Access</a:t>
            </a:r>
            <a:br>
              <a:rPr sz="4000"/>
            </a:br>
            <a:r>
              <a:rPr b="1" i="1" lang="en-US" sz="2800" spc="-1" strike="noStrike">
                <a:solidFill>
                  <a:srgbClr val="713474"/>
                </a:solidFill>
                <a:latin typeface="Arial"/>
              </a:rPr>
              <a:t>SAR Comments</a:t>
            </a:r>
            <a:endParaRPr b="1" i="1" lang="en-US" sz="28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AR comments can be viewed from Studen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ppropriate, SAR comment contains link to Corrections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267080" y="1447920"/>
          <a:ext cx="4876920" cy="44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447920"/>
                    <a:ext cx="4876920" cy="44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87354-B322-4E09-A1F8-8EAD5FDED1E5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 Access</a:t>
            </a:r>
            <a:br>
              <a:rPr sz="4000"/>
            </a:br>
            <a:r>
              <a:rPr b="1" i="1" lang="en-US" sz="2800" spc="-1" strike="noStrike">
                <a:solidFill>
                  <a:srgbClr val="713474"/>
                </a:solidFill>
                <a:latin typeface="Arial"/>
              </a:rPr>
              <a:t>Printing SAR Data</a:t>
            </a:r>
            <a:endParaRPr b="1" i="1" lang="en-US" sz="28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689120"/>
          <a:ext cx="533412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89120"/>
                    <a:ext cx="533412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57800" y="167652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ersions of the pri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(Hypertext Markup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 (Portable Document Form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information on both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7E7F-CA60-4D8A-B0B8-2EBD4DD6969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 Access</a:t>
            </a:r>
            <a:br>
              <a:rPr sz="4000"/>
            </a:br>
            <a:r>
              <a:rPr b="1" i="1" lang="en-US" sz="2800" spc="-1" strike="noStrike">
                <a:solidFill>
                  <a:srgbClr val="713474"/>
                </a:solidFill>
                <a:latin typeface="Arial"/>
              </a:rPr>
              <a:t>Printing SAR Data</a:t>
            </a:r>
            <a:endParaRPr b="1" i="1" lang="en-US" sz="28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ver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answers for each of the Six FAFSA Ste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s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id Histor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effecting elig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you must do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nformation you need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114800" y="1447920"/>
          <a:ext cx="4906800" cy="43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47920"/>
                    <a:ext cx="490680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4C75-F30F-4FA8-91F8-8D79B984AF4B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94200" y="1519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tudent Access</a:t>
            </a:r>
            <a:br>
              <a:rPr sz="3600"/>
            </a:br>
            <a:r>
              <a:rPr b="1" i="1" lang="en-US" sz="2400" spc="-1" strike="noStrike">
                <a:solidFill>
                  <a:srgbClr val="713474"/>
                </a:solidFill>
                <a:latin typeface="Arial"/>
              </a:rPr>
              <a:t>Printing SAR Data</a:t>
            </a:r>
            <a:endParaRPr b="1" i="1" lang="en-US" sz="24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523880"/>
          <a:ext cx="525780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525780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55720" y="1295280"/>
            <a:ext cx="36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answers in  numerical order like paper FAFSA and 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id Histor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effecting elig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you must do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nformation you need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3EBFA-DD88-4D95-B03C-51628037BEB2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 Acces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4120" y="182880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s with PINs can also get to Student Access on the Web from FAFSA on the Web Home Page to see their SAR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800360"/>
          <a:ext cx="5257800" cy="41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00360"/>
                    <a:ext cx="5257800" cy="41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C22C7-A020-425D-A0D8-30FA9C10902C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-mail Statistics</a:t>
            </a:r>
            <a:br>
              <a:rPr sz="3500"/>
            </a:b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4.5 million students have provided   e-mail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Jan. 1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713474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7 million PIN e-mails 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713474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3 million SAR e-mails 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ddition of new field to 2003-04 paper FAFSA, number of PIN and SAR e-mails will increase dramatic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EA8A-5C23-4522-9B68-0C13252EFF25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14600" y="15192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rrections on the Web</a:t>
            </a:r>
            <a:br>
              <a:rPr sz="4000"/>
            </a:br>
            <a:r>
              <a:rPr b="1" i="1" lang="en-US" sz="2800" spc="-1" strike="noStrike">
                <a:solidFill>
                  <a:srgbClr val="713474"/>
                </a:solidFill>
                <a:latin typeface="Arial"/>
              </a:rPr>
              <a:t>Real-time Corrections</a:t>
            </a:r>
            <a:endParaRPr b="1" i="1" lang="en-US" sz="28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3-04, some students eligible for real-time Corrections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“real-time” corre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transmits correction via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S instantaneously checks to see if database matches, other than NSLDS, are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non-NSLDS match required, CPS immediate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s system 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s official E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s results to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IR sent to school the nex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LDS postscreening conducted in no more than one week and, if necessary, results transmitted to school and appl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j0283269" descr=""/>
          <p:cNvPicPr/>
          <p:nvPr/>
        </p:nvPicPr>
        <p:blipFill>
          <a:blip r:embed="rId1"/>
          <a:stretch/>
        </p:blipFill>
        <p:spPr>
          <a:xfrm>
            <a:off x="7238880" y="777960"/>
            <a:ext cx="990720" cy="84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9D98-056D-487B-BB75-CD042817AF28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We Will Cover Toda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556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ypes of Applications Students and Schools Can Use to Apply for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Out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s and S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Corrections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Corrections Using FAA Access to CPS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j0283870" descr=""/>
          <p:cNvPicPr/>
          <p:nvPr/>
        </p:nvPicPr>
        <p:blipFill>
          <a:blip r:embed="rId1"/>
          <a:stretch/>
        </p:blipFill>
        <p:spPr>
          <a:xfrm>
            <a:off x="6477120" y="2651040"/>
            <a:ext cx="1904760" cy="17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C4A2-DBF4-4325-A3C3-72FF332E1EA0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713474"/>
                </a:solidFill>
                <a:latin typeface="Arial"/>
              </a:rPr>
              <a:t>Real-time Corrections on the Web</a:t>
            </a:r>
            <a:endParaRPr b="1" i="1" lang="en-US" sz="38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280120" y="1752480"/>
            <a:ext cx="355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presented with screen that says “Correction has been process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official EFC, not estimated E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828800"/>
          <a:ext cx="502920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502920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450E-56CC-4870-B18B-97750D56091A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36640" y="190080"/>
            <a:ext cx="6507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orrections on the Web </a:t>
            </a:r>
            <a:br>
              <a:rPr sz="3600"/>
            </a:br>
            <a:r>
              <a:rPr b="1" i="1" lang="en-US" sz="2800" spc="-1" strike="noStrike">
                <a:solidFill>
                  <a:srgbClr val="713474"/>
                </a:solidFill>
                <a:latin typeface="Arial"/>
              </a:rPr>
              <a:t>Real-time Correction Not Possible</a:t>
            </a:r>
            <a:endParaRPr b="1" i="1" lang="en-US" sz="28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715000" y="1828800"/>
            <a:ext cx="323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presented with screen that says “Correction has been submitted for process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EFC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processing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5638680" cy="42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2CBE-E60C-4A7A-8E15-903B88D15049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23720" y="304920"/>
            <a:ext cx="5821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Will 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chools See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3055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oesn’t matter what type of form the student used or whether they provided an e-mail address or not…the schools always gets the same kind of output… the IS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AF055-66A0-415E-AD67-DA25BCF261F0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Can Schools See ISIR Data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391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Express (or school’s mainframe or Servicer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Web via FAA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b output is as official as an IS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6D18-8412-4403-A481-7CC0C9DF0310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A Access to CPS Onlin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access for F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is available for FAAs with a PIN and who are added by the DPA (Destination Point Administra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780000" y="1981080"/>
          <a:ext cx="5364000" cy="34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981080"/>
                    <a:ext cx="5364000" cy="34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60589-2234-43AD-A913-79F797BB5876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A Access to CPS Onlin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1647720"/>
          <a:ext cx="4952880" cy="41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47720"/>
                    <a:ext cx="495288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Inqui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 Hold File Requ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W for 03-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/Correction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 a Save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6BE5-5656-4A8A-A788-B2E29546EA88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 Inquir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hools need to access student rec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udents Social Security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st two (2) letters of the student’s last 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008600" y="2057400"/>
          <a:ext cx="5135400" cy="30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8600" y="2057400"/>
                    <a:ext cx="5135400" cy="30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D2459-70E4-4E21-900C-EFD567CE4B5F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 Inquir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which transaction to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last years processed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5364360" cy="405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9FC3-CDF5-414E-88CE-876ED30FEEE4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 Inquir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4640" y="2285640"/>
            <a:ext cx="3429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Student Access exc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RN l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n FAA information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1887480"/>
            <a:ext cx="5791320" cy="390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CF7E7-0EC6-4BA8-89ED-F4A55E26D1E1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23720" y="228600"/>
            <a:ext cx="5821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Use the DRN to Access a Student’s Recor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chool Code is not on student’s recor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RN to access rec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schoo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real time cor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hool Code will automatically populate in Step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886200" y="1857240"/>
          <a:ext cx="5257800" cy="35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857240"/>
                    <a:ext cx="525780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C615-2680-4293-81C3-F1F15C707280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713474"/>
                </a:solidFill>
                <a:latin typeface="Arial"/>
              </a:rPr>
              <a:t>Other Application Processing- Related Sessions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ssion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FSA on the Web – We Aim to P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ssion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AA Access to CPS Online – Designed for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ssion 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 FSA PIN – The Key to Accessing Data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j0295307" descr=""/>
          <p:cNvPicPr/>
          <p:nvPr/>
        </p:nvPicPr>
        <p:blipFill>
          <a:blip r:embed="rId1"/>
          <a:stretch/>
        </p:blipFill>
        <p:spPr>
          <a:xfrm>
            <a:off x="3200400" y="4572000"/>
            <a:ext cx="2057400" cy="17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D2D36-7C61-4FB3-9DD1-87A047847F68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A Corrections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280" y="1676520"/>
          <a:ext cx="4876920" cy="40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487692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2520" y="1219320"/>
            <a:ext cx="3886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corrections through FAA Access to CP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receive the record in the ISIR record batch the next day with same information as the real-time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3B65-6018-495E-A53D-F2072548EBDB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A COTW – Real-time Confirm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914480" y="1828800"/>
            <a:ext cx="57261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AC41-89B6-4256-9543-E238CD4C0146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A COTW – Non-real-time Confirm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04840" y="1828800"/>
            <a:ext cx="5545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AA09-8E6B-4DD2-9D0C-5E066421C7C5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2044800"/>
            <a:ext cx="7239240" cy="33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"/>
              </a:rPr>
              <a:t>We appreciate your feedback! Send your questions and suggestions t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1" lang="en-US" sz="3600" spc="-1" strike="noStrike">
                <a:solidFill>
                  <a:srgbClr val="852a5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52a5d"/>
                </a:solidFill>
                <a:latin typeface="Arial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cpswan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@ncs.com</a:t>
            </a:r>
            <a:r>
              <a:rPr b="1" lang="en-US" sz="3600" spc="-1" strike="noStrike">
                <a:solidFill>
                  <a:srgbClr val="852a5d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afsaweb@ncs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ne: 1-800-330-594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j0288896" descr=""/>
          <p:cNvPicPr/>
          <p:nvPr/>
        </p:nvPicPr>
        <p:blipFill>
          <a:blip r:embed="rId3"/>
          <a:stretch/>
        </p:blipFill>
        <p:spPr>
          <a:xfrm>
            <a:off x="4038480" y="533520"/>
            <a:ext cx="1589040" cy="123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3E5FC-7138-4060-8C14-CB2A93E102EB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00200" y="1447920"/>
            <a:ext cx="6781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Arial"/>
              </a:rPr>
              <a:t>Questions or Comments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232" name="j0281234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1805040" cy="30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040C0-7BB1-4910-AF09-74D8D484B4C2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62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713474"/>
                </a:solidFill>
                <a:latin typeface="Arial"/>
              </a:rPr>
              <a:t>Factors That Determine Type of Output Student Will Receive</a:t>
            </a:r>
            <a:endParaRPr b="1" i="1" lang="en-US" sz="35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e of FAFSA submit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il address provided or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required signatures received or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nt successfully matched with the Social Security Administration or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 previously received PIN from ED or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j0283745" descr=""/>
          <p:cNvPicPr/>
          <p:nvPr/>
        </p:nvPicPr>
        <p:blipFill>
          <a:blip r:embed="rId1"/>
          <a:stretch/>
        </p:blipFill>
        <p:spPr>
          <a:xfrm>
            <a:off x="2666880" y="4968720"/>
            <a:ext cx="1752840" cy="141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D3242-8A92-4144-BE0D-9DB847BC0083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ypes of Financial Aid Applica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-centered applications – Forms students use to apply for federal student a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per FAFSA and Renewal FAF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FSA on the Web (FOTW) and Renewal FOT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-centered applications – Forms schools use to apply for aid on student’s be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x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 Access to CPS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BD9E-3B4D-4E4C-A018-C11C7D42C8C3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45684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 Applications</a:t>
            </a:r>
            <a:br>
              <a:rPr sz="4000"/>
            </a:br>
            <a:r>
              <a:rPr b="1" i="1" lang="en-US" sz="2600" spc="-1" strike="noStrike">
                <a:solidFill>
                  <a:srgbClr val="713474"/>
                </a:solidFill>
                <a:latin typeface="Arial"/>
              </a:rPr>
              <a:t>The Paper FAFSA and Renewal FAFSA</a:t>
            </a:r>
            <a:endParaRPr b="1" i="1" lang="en-US" sz="2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3962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s and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 mails to students in late 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nts complete, sign, and mail to FAFSA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in 2003-04, students can provide      e-mail address on paper FAF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876920" y="1523880"/>
          <a:ext cx="35082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523880"/>
                    <a:ext cx="35082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rcRect l="22311" t="26416" r="21309" b="20670"/>
          <a:stretch/>
        </p:blipFill>
        <p:spPr>
          <a:xfrm>
            <a:off x="5029200" y="3657600"/>
            <a:ext cx="3276720" cy="230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02E6-271B-4730-B55A-7F87658051BC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 Applications</a:t>
            </a:r>
            <a:br>
              <a:rPr sz="4000"/>
            </a:br>
            <a:r>
              <a:rPr b="1" i="1" lang="en-US" sz="2600" spc="-1" strike="noStrike">
                <a:solidFill>
                  <a:srgbClr val="713474"/>
                </a:solidFill>
                <a:latin typeface="Arial"/>
              </a:rPr>
              <a:t>FAFSA on the Web (FOTW) and Renewal FOTW</a:t>
            </a:r>
            <a:endParaRPr b="1" i="1" lang="en-US" sz="26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752480"/>
          <a:ext cx="5257800" cy="41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525780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14560" y="1676520"/>
            <a:ext cx="3529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at www.fafsa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and parents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ally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, sign, and mail signatur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 rejected 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has option to provide e-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B755-703A-4AD4-A74E-65DD99678C6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chool Applications</a:t>
            </a:r>
            <a:br>
              <a:rPr sz="4000"/>
            </a:br>
            <a:r>
              <a:rPr b="1" i="1" lang="en-US" sz="2600" spc="-1" strike="noStrike">
                <a:solidFill>
                  <a:srgbClr val="713474"/>
                </a:solidFill>
                <a:latin typeface="Arial"/>
              </a:rPr>
              <a:t>EDExpress</a:t>
            </a:r>
            <a:endParaRPr b="1" i="1" lang="en-US" sz="2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8080" indent="-5292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draws down software from ED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 collects and enters FAFSA information from applicant and transmits signature records with applica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s student’s   e-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1828800"/>
          <a:ext cx="5486400" cy="39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828800"/>
                    <a:ext cx="54864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54B1-4531-455D-9C28-E081756BD5D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5:17:38Z</dcterms:modified>
  <cp:revision>1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97118785</vt:r8>
  </property>
  <property fmtid="{D5CDD505-2E9C-101B-9397-08002B2CF9AE}" pid="3" name="_AuthorEmail">
    <vt:lpwstr>Paul_Steinhauer@ncs.com</vt:lpwstr>
  </property>
  <property fmtid="{D5CDD505-2E9C-101B-9397-08002B2CF9AE}" pid="4" name="_AuthorEmailDisplayName">
    <vt:lpwstr>Steinhauer, Paul</vt:lpwstr>
  </property>
  <property fmtid="{D5CDD505-2E9C-101B-9397-08002B2CF9AE}" pid="5" name="_EmailSubject">
    <vt:lpwstr>EAC Sessions - Calling all creators</vt:lpwstr>
  </property>
  <property fmtid="{D5CDD505-2E9C-101B-9397-08002B2CF9AE}" pid="6" name="_PreviousAdHocReviewCycleID">
    <vt:r8>-1909312546</vt:r8>
  </property>
</Properties>
</file>