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285B-FA40-489C-BCDF-CEC4F0116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E635-DA18-4226-93EC-C56A56455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461A-0F47-4F32-951F-394283B4A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607D-C84E-44D9-BA10-17BDFC81F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8A75-3094-401F-9359-C7D1167B3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2D84-8C63-4596-815E-F7EC9F196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B361-DE8A-4F6E-8058-8F6A3E3CF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20E4-47A0-4281-B4E6-1AB131740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B3DA-9282-4BD0-9D56-C202A96C9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5845-F611-41FF-9415-0D79E30A3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C9AE-5E1C-434E-AC06-2A715B61B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A932-87BB-4863-9D9E-2AD76C47D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1941-D281-4BBC-A0FC-657F54612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o Receives a PIN Automatically? (cont’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qualify for a Renewal FAFSA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SSN Match Flag = 4 (SSN, Name and DOB m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fifth year and graduat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d a FAFSA or correction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valid 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a school that requests PINs be mailed instead of paper renew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DD3E-E50A-4134-8F55-E1B5C0969CDA}" type="slidenum">
              <a:t>10</a:t>
            </a:fld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y have a PIN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electronic sign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online renewals and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Student Access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Direct Loan’s Origination, Servicing and Consolidation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E7FE3-83DF-41CB-A4C4-84A4C43D2BF3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y have a PIN? (continue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36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NSLDS’s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e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Authentication Network (ST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 service for Direct Loan and FFEL borrowers who want to electronically sign promissory notes using their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FAA Access to CPS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326E-31E0-4F73-9EB8-402A6D54F726}" type="slidenum">
              <a:t>12</a:t>
            </a:fld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 Web Site Func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9B0B2-1A16-4A72-B603-D2410AFBAB4B}" type="slidenum">
              <a:t>13</a:t>
            </a:fld>
          </a:p>
        </p:txBody>
      </p:sp>
    </p:spTree>
  </p:cSld>
  <p:transition>
    <p:cover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 Home Pa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 Request a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terne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other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313160" y="1905120"/>
            <a:ext cx="4830840" cy="32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FDF8-9A22-471E-9A3B-E3FFA10040B3}" type="slidenum">
              <a:t>14</a:t>
            </a:fld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ctions of the PIN Sit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PI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e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PI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5211720" cy="31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ECC6-049E-4444-953E-A4F048A9AB8E}" type="slidenum">
              <a:t>15</a:t>
            </a:fld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pply for a PI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 To apply for a PIN if no PIN exists o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arents will need to apply rather tha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ay choose to supply a “Pass-phr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76800" y="1371600"/>
            <a:ext cx="38275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3902-C8E7-421C-9F06-94E0D6B7900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pply Featur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36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N, Name, DOB and Mailing address are requ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 address is optional bu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-phrase is op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–12 characters, not case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gnature pag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49DC-00FD-4ADE-A400-08404D3E34EE}" type="slidenum">
              <a:t>17</a:t>
            </a:fld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pply Resul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IN already exists, user will be asked if he/she wishes to update his/her delive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PIN exists, the data is sent to match with 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atch is successful, the PIN is generated for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atch is not successful, a reject e-mail or letter i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5200-67A4-46AD-81E3-3D87B40CCF97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 Walkthrough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is point, we will demonstrate the process of applying for a 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43434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FD5E-C2E9-4A00-A87C-B7E0CFBEF1D8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4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438280"/>
            <a:ext cx="838188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The FSA PIN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The Key to Acces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Your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A8F4-24EE-4A2E-9983-A9A572668C15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quest a PIN to be S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2360" y="1752480"/>
            <a:ext cx="41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request an existing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-mail address is present, e-mail delivery is the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e-mail address is present or Postal Service is chosen, PIN will be m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match is found, directed to PIN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67080" y="2346480"/>
            <a:ext cx="4800600" cy="28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55A1-2858-4049-A83C-2551A99F953F}" type="slidenum">
              <a:t>20</a:t>
            </a:fld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hange PI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3733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change a PIN to a self-selected PIN or have the system generate a PIN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f the PIN may be comprom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2301840"/>
            <a:ext cx="490680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3782-A289-4508-814E-2B83337D1D08}" type="slidenum">
              <a:t>21</a:t>
            </a:fld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hange PIN Inform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2000" y="2590920"/>
            <a:ext cx="43959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na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 mailing addres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419720" y="2050920"/>
            <a:ext cx="4525920" cy="33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CE73-132F-49DF-B950-C8FF6430A95B}" type="slidenum">
              <a:t>22</a:t>
            </a:fld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heck PIN Statu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verify PIN addresses and last day the PIN was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can not make changes to the P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ust use the PIN web site to mak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43400" y="1967040"/>
            <a:ext cx="48006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B51D-8881-43A1-94AA-C7376F71AAB6}" type="slidenum">
              <a:t>23</a:t>
            </a:fld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isable PI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3657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disable a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option if a user thinks the PIN is comprom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upply mother’s maide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67080" y="1992240"/>
            <a:ext cx="4678560" cy="33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360D-6119-46B8-97A7-973FE6A21AE7}" type="slidenum">
              <a:t>24</a:t>
            </a:fld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-enable PI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3581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reactivate a disabled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upply mother’s maide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’s maiden name must be the same name used to di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191120" y="2025720"/>
            <a:ext cx="4824360" cy="303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D94D-10D9-4E61-81E3-273CC71B8012}" type="slidenum">
              <a:t>25</a:t>
            </a:fld>
          </a:p>
        </p:txBody>
      </p:sp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ectronic Delive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2A93-8A3E-4A29-AB1A-18537EC22CCA}" type="slidenum">
              <a:t>26</a:t>
            </a:fld>
          </a:p>
        </p:txBody>
      </p:sp>
    </p:spTree>
  </p:cSld>
  <p:transition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ectronic Delive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on January 1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f an e-mail address i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or a quicker turnaround than the paper m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around time is approximately 1–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135400" y="1828800"/>
            <a:ext cx="35258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5B966-9578-4992-B490-2A7D91CECE0C}" type="slidenum">
              <a:t>27</a:t>
            </a:fld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f I do not have an e-mail address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4091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 addresses are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N mailer can still be sent via the U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around time is approximately 7–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42160" y="1828800"/>
            <a:ext cx="1912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3705-97C1-430A-8312-312FE2DCA809}" type="slidenum">
              <a:t>28</a:t>
            </a:fld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 have an e-mail addres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091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al e-mail is sent instead of the paper m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N is not in the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trieval URL is included along with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53160" y="2249640"/>
            <a:ext cx="4092480" cy="327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3CA01-C838-4C8A-A59A-CE4AA5425EBD}" type="slidenum">
              <a:t>29</a:t>
            </a:fld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439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176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Pres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is session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53160" y="2627280"/>
            <a:ext cx="4092480" cy="25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86D4-C97E-4DFE-A562-3F8356A81C2A}" type="slidenum">
              <a:t>3</a:t>
            </a:fld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-mail Notific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44680" y="1828800"/>
          <a:ext cx="66643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1828800"/>
                    <a:ext cx="6664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8632-7D4A-4271-9714-9AE0333E3BEB}" type="slidenum">
              <a:t>30</a:t>
            </a:fld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it work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7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trieval URL will always require the user’s stable data (SSN, date of birth, first two letters of the last 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trieval URL will either have a “Pass key” included or will require the user to enter a “Pass-phra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required data is submitted, the PIN is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53160" y="2811600"/>
            <a:ext cx="4092480" cy="21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5E18-5018-46F7-B99D-37165E2140C0}" type="slidenum">
              <a:t>31</a:t>
            </a:fld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ccessing the PIN with a Pass-phrase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option is only available to individuals who use “Apply for PIN” and enter a “Pass-phras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will link to the PIN web site URL provided in the e-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secure PIN key will be included in the URL in the e-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will supply stable data and the Pass-phr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IN will be supplied on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2B11-41BB-4FBA-8167-A4551CF1D965}" type="slidenum">
              <a:t>32</a:t>
            </a:fld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trieval With A Pass- Phras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k takes the student to the PIN access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Pers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ecurit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wo letters of their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bi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-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8600" y="1963800"/>
            <a:ext cx="4876920" cy="38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4626E-A747-4003-B221-509755CC5CA3}" type="slidenum">
              <a:t>33</a:t>
            </a:fld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retrieves their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ime only access, must write down/Print the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udent loses/forgets, they can use the Request A PIN To Be Sent option to get their PI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114800" y="2192400"/>
            <a:ext cx="4876920" cy="29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6297-1D1D-478B-B9E9-6E03173CF0E1}" type="slidenum">
              <a:t>34</a:t>
            </a:fld>
          </a:p>
        </p:txBody>
      </p:sp>
    </p:spTree>
  </p:cSld>
  <p:transition>
    <p:pull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ccessing the PIN without a Pass-phrase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ption is only available to individuals who use “Apply for PIN” and DO NOT enter a “Pass-phr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will link to the PIN web site URL provided in the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ure PIN key will be included in the URL in the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will supply just stab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N will be supplied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4C4C-57EC-437F-B496-82D0061F712B}" type="slidenum">
              <a:t>35</a:t>
            </a:fld>
          </a:p>
        </p:txBody>
      </p:sp>
    </p:spTree>
  </p:cSld>
  <p:transition>
    <p:pull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ditional Securit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88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N is only retained on the database – it is never included in the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ttempts (3) can be made for delivery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N will be available for retrieval online for 14 days after e-mail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retrieved online within 14 days, the PIN is printed and m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pplies to PIN requests entered on the PIN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D9B1-943E-4751-B146-AA3F58B1A6B1}" type="slidenum">
              <a:t>36</a:t>
            </a:fld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’s New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336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help page that can be linked to from the PIN notification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resolutions to several possibl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o PIN Already Active page for users that have already accessed their ePIN and try to make a subsequent retrie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AA1B0-3EA3-4133-9FAE-F7898011BB33}" type="slidenum">
              <a:t>37</a:t>
            </a:fld>
          </a:p>
        </p:txBody>
      </p:sp>
    </p:spTree>
  </p:cSld>
  <p:transition>
    <p:pull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id we do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1-800-4-FED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fafsaweb@ncs.co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SATech Lists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fsatech@inet.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-up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d.gov/offices/OSFAP/sfatech/listserv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759B-97E5-45F1-A183-CF1894904DED}" type="slidenum">
              <a:t>38</a:t>
            </a:fld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3124080"/>
            <a:ext cx="83818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13474"/>
                </a:solidFill>
                <a:latin typeface="Arial"/>
              </a:rPr>
              <a:t>Questions and Comments</a:t>
            </a:r>
            <a:r>
              <a:rPr b="0" lang="en-US" sz="2400" spc="-1" strike="noStrike">
                <a:solidFill>
                  <a:srgbClr val="71347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E908-214E-487B-B751-11B67D4DF15E}" type="slidenum">
              <a:t>39</a:t>
            </a:fld>
          </a:p>
        </p:txBody>
      </p:sp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Agend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33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N and It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 Web Sit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nd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8411-BE34-4DE0-8288-527099238BFA}" type="slidenum">
              <a:t>4</a:t>
            </a:fld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819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PIN and Its Us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5E9C-F4C7-440A-BB3D-B4C052F5A475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o Is Eligible For a PIN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– Students, Parents, and F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correct information on the Social Security Administration’s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mailin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65840" y="1828800"/>
            <a:ext cx="20667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50C14-3C65-4CAF-AEFC-1324F7AB43A6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7200"/>
            <a:ext cx="582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 Mailer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what the PIN holder can do with the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Web sites where PIN holder can use the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313160" y="1371600"/>
          <a:ext cx="4830840" cy="43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371600"/>
                    <a:ext cx="483084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3820-960D-4789-A662-28519AA676A4}" type="slidenum">
              <a:t>7</a:t>
            </a:fld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o Receives a PIN Automatically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se initial application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d Record Type = Initial Application or Correctio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N Match Flag = 4 (SSN, Name and DOB m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two of City, Mailing State, and Zip Code are non-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= Applicant or Applicant and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ignature Flag does not equal 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4056-BC7A-4477-880A-AE0404D2F892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o Receives a PIN Automatically? (cont’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se corrections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d Record Type = Correction or Duplicat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 Flag is blank (weren’t previously sent a P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Application Flag is 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Data Source/Type Code is not Corrections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N Match Flag = 4 (SSN, Name and DOB m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two of City, Mailing State, and Zip Code are non-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= Applicant or Applicant and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BB0D-978B-4F81-83FD-DAB2309F8415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3:41:11Z</dcterms:created>
  <dc:creator>Bryan Van Note</dc:creator>
  <dc:description/>
  <dc:language>en-US</dc:language>
  <cp:lastModifiedBy>Dept. of Education</cp:lastModifiedBy>
  <cp:lastPrinted>2001-10-24T17:49:25Z</cp:lastPrinted>
  <dcterms:modified xsi:type="dcterms:W3CDTF">2002-12-12T15:14:06Z</dcterms:modified>
  <cp:revision>59</cp:revision>
  <dc:subject/>
  <dc:title>No Slide Title</dc:title>
</cp:coreProperties>
</file>