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6431-C8A0-4984-9B0E-81085BC76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D45B-C926-47DA-92B7-2CAEE2BFA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1B43-232D-4E15-BF66-2169A0D1C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A767-B216-48C2-A0C3-6F251C031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DD9A-0A42-4DB3-BE46-16A2470CA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D26A-E16A-43EE-8389-CD06FA45B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18EA-EE43-4207-AA13-A3A9B34B2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72C0-A64E-434F-8787-415C480F7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52E1-A9C3-4762-9A94-D015E236B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2F34-ED64-4569-A858-E3B8E900A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D09C-CAAB-4499-9FD9-F432BA6C2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2E3A-C8A0-43AD-9894-C7A0A5E6A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4EB0-D387-44F7-BD4C-3657E28C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Receives a PIN Automatically? (cont’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qualify for a Renewal FAFSA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SSN Match Flag = 4 (SSN, Name and DOB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fifth year and graduat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a FAFSA or correction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valid 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a school that requests PINs be mailed instead of paper renew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6B14-D161-4129-8840-06D9DC9DA38E}" type="slidenum">
              <a:t>10</a:t>
            </a:fld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y have a PIN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electronic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online renewals and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Student Access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Direct Loan’s Origination, Servicing and Consolidation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80DF-D963-4652-8FC8-A80DB413AB88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y have a PIN? (continue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3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NSLDS’s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e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Authentication Network (ST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service for Direct Loan and FFEL borrowers who want to electronically sign promissory notes using their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FAA Access to CP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DFE04-2BB9-44FC-B6B5-24EE3FFC58BC}" type="slidenum">
              <a:t>12</a:t>
            </a:fld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Web Site Func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F723-F19B-4FBA-9BC0-2A100C16D0D7}" type="slidenum">
              <a:t>13</a:t>
            </a:fld>
          </a:p>
        </p:txBody>
      </p:sp>
    </p:spTree>
  </p:cSld>
  <p:transition>
    <p:cover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Home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 Request a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other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313160" y="1905120"/>
            <a:ext cx="4830840" cy="32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357E0-06BE-490A-8233-D54CE70CAF6B}" type="slidenum">
              <a:t>14</a:t>
            </a:fld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nctions of the PIN Sit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PI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e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PI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5211720" cy="31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18D1-A5DE-4B57-A1BC-EE3F51BDF2C5}" type="slidenum">
              <a:t>15</a:t>
            </a:fld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y for a 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 To apply for a PIN if no PIN exists o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rents will need to apply rather tha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choose to supply a “Pass-phr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76800" y="1371600"/>
            <a:ext cx="38275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76D2-248E-4C1C-B4E2-3F90A6EFEE7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y Featur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36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, Name, DOB and Mailing address are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address is optional bu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-phrase is op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–12 characters, not cas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gnature pag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1891-9FFA-48ED-A559-1E0EC11E04A6}" type="slidenum">
              <a:t>17</a:t>
            </a:fld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y Resul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IN already exists, user will be asked if he/she wishes to update his/her delive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PIN exists, the data is sent to match with 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atch is successful, the PIN is generated for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atch is not successful, a reject e-mail or letter i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0863-B946-4C2C-A6E2-1AD9776D6CF4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Walkthroug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is point, we will demonstrate the process of applying for a 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43434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DB29-DE1B-47C0-950F-B62F4B14CC08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4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438280"/>
            <a:ext cx="83818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The FSA PIN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The Key to Acces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Your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16BF-0D7B-48C9-8121-D22AC2A56BE8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quest a PIN to be S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2360" y="1752480"/>
            <a:ext cx="41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request an existing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-mail address is present, e-mail delivery is the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e-mail address is present or Postal Service is chosen, PIN will be m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match is found, directed to PIN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67080" y="2346480"/>
            <a:ext cx="4800600" cy="28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5FC2-8889-4CB0-A33E-477D73462D4D}" type="slidenum">
              <a:t>20</a:t>
            </a:fld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ange 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3733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change a PIN to a self-selected PIN or have the system generate a PIN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f the PIN may be comprom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2301840"/>
            <a:ext cx="490680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D3E4-294A-4A98-AAFB-E0F06547BF54}" type="slidenum">
              <a:t>21</a:t>
            </a:fld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ange PIN Info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2000" y="2590920"/>
            <a:ext cx="43959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n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 mailing addres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19720" y="2050920"/>
            <a:ext cx="4525920" cy="33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8FE6-F02F-412E-ADD7-98B6872FEFDB}" type="slidenum">
              <a:t>22</a:t>
            </a:fld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eck PIN Statu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verify PIN addresses and last day the PIN was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can not make changes to the P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ust use the PIN web site to mak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3400" y="1967040"/>
            <a:ext cx="4800600" cy="33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A1C5-1A4F-40C4-B0A0-501D59F3B44B}" type="slidenum">
              <a:t>23</a:t>
            </a:fld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sable 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3657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disable a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option if a user thinks the PIN is comprom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upply mother’s maid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7080" y="1992240"/>
            <a:ext cx="4678560" cy="33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DBF5-5FBB-4B51-89E3-1277B0C16845}" type="slidenum">
              <a:t>24</a:t>
            </a:fld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-enable 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3581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reactivate a disabled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upply mother’s maid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’s maiden name must be the same name used to di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91120" y="2025720"/>
            <a:ext cx="4824360" cy="30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6131-C8B2-4C76-A433-B593DD9345F1}" type="slidenum">
              <a:t>25</a:t>
            </a:fld>
          </a:p>
        </p:txBody>
      </p:sp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ectronic Delive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F95F-38C3-4838-92B5-1FD58DC4191F}" type="slidenum">
              <a:t>26</a:t>
            </a:fld>
          </a:p>
        </p:txBody>
      </p:sp>
    </p:spTree>
  </p:cSld>
  <p:transition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ectronic Delive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on January 1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f an e-mail address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or a quicker turnaround than the paper m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around time is approximately 1–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135400" y="1828800"/>
            <a:ext cx="35258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F165-10E8-443C-9BE8-143C2576DDFC}" type="slidenum">
              <a:t>27</a:t>
            </a:fld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f I do not have an e-mail address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4091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addresses are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mailer can still be sent via the U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around time is approximately 7–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2160" y="1828800"/>
            <a:ext cx="1912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F15C-2716-45CA-B7BB-77D2B330865D}" type="slidenum">
              <a:t>28</a:t>
            </a:fld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 have an e-mail addr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091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al e-mail is sent instead of the paper m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is not in the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trieval URL is included along with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53160" y="2249640"/>
            <a:ext cx="4092480" cy="327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2D83-E301-4E37-A525-B0530A6B1315}" type="slidenum">
              <a:t>29</a:t>
            </a:fld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439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176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Pres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is session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53160" y="2627280"/>
            <a:ext cx="409248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753C-E822-4CB6-9565-424E816C27CF}" type="slidenum">
              <a:t>3</a:t>
            </a:fld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-mail Notific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44680" y="1828800"/>
          <a:ext cx="66643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828800"/>
                    <a:ext cx="6664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E35C-1790-4CF1-95B2-6A1F38D441B5}" type="slidenum">
              <a:t>30</a:t>
            </a:fld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it work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7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rieval URL will always require the user’s stable data (SSN, date of birth, first two letters of the last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rieval URL will either have a “Pass key” included or will require the user to enter a “Pass-phra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required data is submitted, the PIN is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53160" y="2811600"/>
            <a:ext cx="4092480" cy="21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F119-F2C8-4AD2-8A65-73F5F373BD33}" type="slidenum">
              <a:t>31</a:t>
            </a:fld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ccessing the PIN with a Pass-phrase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option is only available to individuals who use “Apply for PIN” and enter a “Pass-phras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will link to the PIN web site URL provided in the e-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ecure PIN key will be included in the URL in the e-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will supply stable data and the Pass-ph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IN will be supplied on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626B-7142-4384-9458-1AA80BDBE036}" type="slidenum">
              <a:t>32</a:t>
            </a:fld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trieval With A Pass- Phras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k takes the student to the PIN acces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Pers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ecurit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wo letters of their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-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1963800"/>
            <a:ext cx="4876920" cy="38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6139-3AC2-4AC6-AAC8-A6245E8B19C1}" type="slidenum">
              <a:t>33</a:t>
            </a:fld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retrieves thei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ime only access, must write down/Print the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udent loses/forgets, they can use the Request A PIN To Be Sent option to get their PI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14800" y="2192400"/>
            <a:ext cx="4876920" cy="29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665B-1049-40AE-B4BB-33A7E090CD15}" type="slidenum">
              <a:t>34</a:t>
            </a:fld>
          </a:p>
        </p:txBody>
      </p:sp>
    </p:spTree>
  </p:cSld>
  <p:transition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ccessing the PIN without a Pass-phrase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ption is only available to individuals who use “Apply for PIN” and DO NOT enter a “Pass-phr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will link to the PIN web site URL provided in the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ure PIN key will be included in the URL in the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will supply just stab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will be supplied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9D60-0721-427B-A27F-8BECD4CE8D8A}" type="slidenum">
              <a:t>35</a:t>
            </a:fld>
          </a:p>
        </p:txBody>
      </p:sp>
    </p:spTree>
  </p:cSld>
  <p:transition>
    <p:pull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ditional Securit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88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is only retained on the database – it is never included in the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ttempts (3) can be made for delivery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N will be available for retrieval online for 14 days after e-mail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retrieved online within 14 days, the PIN is printed and m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pplies to PIN requests entered on the PIN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D2D9-6D63-41E3-B0DD-A044CEDC3811}" type="slidenum">
              <a:t>36</a:t>
            </a:fld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’s New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33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help page that can be linked to from the PIN notification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solutions to several possibl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PIN Already Active page for users that have already accessed their ePIN and try to make a subsequent retrie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F302-483E-48BF-98DE-343AE45A51F4}" type="slidenum">
              <a:t>37</a:t>
            </a:fld>
          </a:p>
        </p:txBody>
      </p:sp>
    </p:spTree>
  </p:cSld>
  <p:transition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id we do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1-800-4-FED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fafsaweb@ncs.co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SATech Lists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fsatech@inet.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-up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.gov/offices/OSFAP/sfatech/listserv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7118-CF5B-403F-8160-5010647FE3BF}" type="slidenum">
              <a:t>38</a:t>
            </a:fld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3124080"/>
            <a:ext cx="8381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3474"/>
                </a:solidFill>
                <a:latin typeface="Arial"/>
              </a:rPr>
              <a:t>Questions and Comments</a:t>
            </a:r>
            <a:r>
              <a:rPr b="0" lang="en-US" sz="2400" spc="-1" strike="noStrike">
                <a:solidFill>
                  <a:srgbClr val="71347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0D38-370E-41B9-AB85-469E617C657E}" type="slidenum">
              <a:t>39</a:t>
            </a:fld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Agend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335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N and It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 Web Sit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6937-A437-4921-974F-F09B35EC7C6F}" type="slidenum">
              <a:t>4</a:t>
            </a:fld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PIN and Its Us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D5C5-43EF-461D-B8FD-79F7B9E55929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Is Eligible For a PIN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– Students, Parents, and F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correct information on the Social Security Administration’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mail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5840" y="1828800"/>
            <a:ext cx="20667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DC29-4098-4259-9260-8C637EE74B49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582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Mailer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what the PIN holder can do with th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Web sites where PIN holder can use th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313160" y="1371600"/>
          <a:ext cx="4830840" cy="43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371600"/>
                    <a:ext cx="483084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CC3B-4959-41F6-BFCC-52BA1179056E}" type="slidenum">
              <a:t>7</a:t>
            </a:fld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Receives a PIN Automatically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se initial application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d Record Type = Initial Application or Correctio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N Match Flag = 4 (SSN, Name and DOB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two of City, Mailing State, and Zip Code are non-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= Applicant or Applicant and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ignature Flag does not equal 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12E2-B000-460F-9A49-02439A507E9C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Receives a PIN Automatically? (cont’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se corrections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d Record Type = Correction or Duplicat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 Flag is blank (weren’t previously sent a P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Application Flag is 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Data Source/Type Code is not Corrections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N Match Flag = 4 (SSN, Name and DOB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two of City, Mailing State, and Zip Code are non-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= Applicant or Applicant and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C641-A210-43C6-BF1F-79B18E6DBDF4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Dept. of Education</cp:lastModifiedBy>
  <cp:lastPrinted>2001-10-24T17:49:25Z</cp:lastPrinted>
  <dcterms:modified xsi:type="dcterms:W3CDTF">2002-12-12T15:14:06Z</dcterms:modified>
  <cp:revision>59</cp:revision>
  <dc:subject/>
  <dc:title>No Slide Title</dc:title>
</cp:coreProperties>
</file>