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9AD2-31C6-49F5-B0DB-C91AE04C3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FA12-31EC-4EFF-936A-955FD94AB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C163-5621-4E2E-869C-3E7F95A6B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1578-073E-405D-B1FA-0C4784550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79C3-C688-4B34-BA3B-69E868269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391B-E1E2-4D33-888F-A60166D31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A89D-93CB-44A5-A0E6-0AF38BE08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E7FF-845A-479A-8AA4-9A9041EE3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911C-4764-44E9-8CF9-A23525766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33FC-4152-4F5B-8AF7-96C784BD8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CCEE-D199-48E0-84DC-ACA9E28E0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4170-CE4B-4620-ABEF-39CC9CFAA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470E-38A3-4444-B7ED-7353655A4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2: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illing Out A FAFS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E38F-064C-4E19-B5BD-CD3329E7EB7A}" type="slidenum">
              <a:t>10</a:t>
            </a:fld>
          </a:p>
        </p:txBody>
      </p:sp>
    </p:spTree>
  </p:cSld>
  <p:transition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Login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for Later” changed to “S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 bar removed from Login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37080" y="1295280"/>
            <a:ext cx="424188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DA4C-12BE-4041-A5B8-CEE40DEC7248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introductory paragraphs ex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FOTW navigation button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“Save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to Pre-Application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1080" y="1523880"/>
            <a:ext cx="43815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7CF7-0A6E-4A5C-BB3D-D49E86BF4993}" type="slidenum">
              <a:t>12</a:t>
            </a:fld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ication Updat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reo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ordering clearly explained prior to start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numbers removed due to reor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FAFSA question numbers included after each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A4FB-F19A-4FC0-962E-AF11F2CCC748}" type="slidenum">
              <a:t>13</a:t>
            </a:fld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pplication Updates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-2 form box numbers added to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’ Marital Status Dat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ext differentiates between ‘student’ and ‘parent’, where appli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 to “Save” after each Step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10C9-B858-42E6-9C56-234931CEC0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-populated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pre-populated based on applicant’s answers to other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born before 01/01/80?’ pre-populated based on response to ‘Date of Birth’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Married?’ pre-populated based on response to ‘Marital Status’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38F3-F2AC-404B-B4B4-45279690E495}" type="slidenum">
              <a:t>15</a:t>
            </a:fld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Existing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523880"/>
          <a:ext cx="8336160" cy="4413240"/>
        </p:xfrm>
        <a:graphic>
          <a:graphicData uri="http://schemas.openxmlformats.org/drawingml/2006/table">
            <a:tbl>
              <a:tblPr/>
              <a:tblGrid>
                <a:gridCol w="3276720"/>
                <a:gridCol w="505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 Log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Analysis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:Q17-Q21: Enrollment Stat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6: Completed a tax for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Will not file”, then ski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7: Student’s Income tax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8: Did student have to file a 1040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9: Student’s AG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0: Student’s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1: Student’s number of exe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for Independent students to skip parental ques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No, don’t answer parental questions”, then skip Q59-Q8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1: Completed a tax for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Will not file”, then skip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2: Parents’ Income tax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3: Did parents’ have to file a 1040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4: Parents’ A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5: Parents’ income t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76: Parents’ number of exe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307D-59FA-4700-9322-5471322AB618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Skip Logic in 2003-200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133720"/>
          <a:ext cx="8229600" cy="297144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 log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3: U.S. Citizen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 Q14: Alien Registration 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5: Student’s Marital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Single, divorced, or widowed” or “Separated”, then skip Q42: Spouse Inco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5: Resident before 1/1/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Yes”, then skip Q26: Date of legal resid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7: Are you mal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“No”, then skip Q28: Register for selective servic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E599-678D-429D-AE7E-973985F246A5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Auto-Zero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enhanced skip-logic based on auto-zero eligibility and student’s state of legal res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udent meets these criteria and chooses NOT to “Return to Full FAFSA”, following questions skipp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income taxes and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Worksheet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nd parent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A907-B9E9-4E63-95EB-16BE9D7656DE}" type="slidenum">
              <a:t>18</a:t>
            </a:fld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Auto-Zero Skip Logic (continue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62360" y="1828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displayed when applicant meets auto-zero eligibility and state of legal residence is a state that does not require a full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8080-EEFE-4F46-8A19-2952CA794929}" type="slidenum">
              <a:t>19</a:t>
            </a:fld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2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FAFSA on the Web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3474"/>
                </a:solidFill>
                <a:latin typeface="Arial"/>
              </a:rPr>
              <a:t>We Aim to Pl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25AB-D9F0-400E-A839-7E1EB563A21E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tates Eligible for Auto-zero/SNT Skip Logic 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335800" cy="3913200"/>
        </p:xfrm>
        <a:graphic>
          <a:graphicData uri="http://schemas.openxmlformats.org/drawingml/2006/table">
            <a:tbl>
              <a:tblPr/>
              <a:tblGrid>
                <a:gridCol w="2778120"/>
                <a:gridCol w="2779560"/>
                <a:gridCol w="2778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b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w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Hampsh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Sam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s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Mariana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z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tuck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i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c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de Isl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of Colum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hall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Caroli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ted States of Micr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ess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ssipp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gin Isla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a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our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21D7-CCE5-4DAC-ADB5-64B0F273C348}" type="slidenum">
              <a:t>20</a:t>
            </a:fld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Simplified Needs Test (SNT) Skip Logic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eligible for auto-zero but meets SNT eligibility and state of legal residence is a state that does not require a full FAFSA, can still choose to skip asse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s to skip asset questions displayed separatel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830840" cy="38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609B-4DF8-4D19-B6F0-D0D9A6429706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por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 (available throughout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ed to match application question order within FO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Information (available at the end of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splayed in the same order as the paper FAFSA and 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38CE-AF8C-43D0-9C9D-71207A81B7B9}" type="slidenum">
              <a:t>22</a:t>
            </a:fld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ignatur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36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code added to improve accuracy and reduce processing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SSN and Name ID contained within ba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7624800" cy="20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C07D-CB09-4BFE-BB3C-226BD6BB9947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firmation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d confirmation of submi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’s Fir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62520" y="1839960"/>
            <a:ext cx="4983120" cy="34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E137-24A4-42E5-893B-DA806562E31E}" type="slidenum">
              <a:t>24</a:t>
            </a:fld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Walkthroug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28600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we will demonstrate the application entry and submission process of FAFSA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7242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1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1" y="20200"/>
                </a:lnTo>
                <a:lnTo>
                  <a:pt x="41781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1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1" h="21600">
                <a:moveTo>
                  <a:pt x="14584" y="3794"/>
                </a:moveTo>
                <a:lnTo>
                  <a:pt x="28597" y="10800"/>
                </a:lnTo>
                <a:lnTo>
                  <a:pt x="145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C0D9-FD92-4337-83E3-D1A9534C2CB6}" type="slidenum">
              <a:t>25</a:t>
            </a:fld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newal FAFS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1911240"/>
            <a:ext cx="4724640" cy="37292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51520" y="213372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’s and Parents’ financial data is also pre-populated for student’s that were Auto-Zero EFC eligible in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0754-D298-425C-9CC4-2F674B7C3BA8}" type="slidenum">
              <a:t>26</a:t>
            </a:fld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3: FAFSA Follow-u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8210-F3BA-40E4-A379-E386B5672B24}" type="slidenum">
              <a:t>27</a:t>
            </a:fld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heck Stat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Check Result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pplication Received but not yet being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Application Could Not Be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Being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the Hold File (waiting for signatures), provides option to print signatur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ed -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if rej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provi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orrections, 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gn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ges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gn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1805040"/>
            <a:ext cx="4602240" cy="37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A074-1E30-4453-9DC4-12C890E4CE37}" type="slidenum">
              <a:t>28</a:t>
            </a:fld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Make Correct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Auto-Zero/SNT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orrection is made that causes a student to no longer be Auto-Zero/SNT eligible the student will need to provide addi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C will immediately be calculated for corrections when only the NSLDS match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C will display without ‘Estimated’ label if record is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B1EE-DEAB-488B-9EB3-FB992B4DA936}" type="slidenum">
              <a:t>29</a:t>
            </a:fld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is session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ared towards F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53160" y="2627280"/>
            <a:ext cx="409248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2C5C-6CCD-40F9-8E7C-B4C4CE28E68C}" type="slidenum">
              <a:t>3</a:t>
            </a:fld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al-Time Process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81120" y="1904760"/>
            <a:ext cx="4092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on Page states “The Correction(s) have also been process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the official EFC not an Estimated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1676520"/>
          <a:ext cx="502920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502920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9FCE-579E-4D7B-BEC0-68EEF974C915}" type="slidenum">
              <a:t>30</a:t>
            </a:fld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udent Access/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isplays full SAR comment codes and text for records that received SAR 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rrections” button included in more locations in the comment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 and HTML printouts include the same fields as the paper 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to NSLDS web site for up to date loa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B58E-AA39-4744-BA33-D198359B2FDA}" type="slidenum">
              <a:t>31</a:t>
            </a:fld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1752480"/>
          <a:ext cx="518184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518184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ersions of the pri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(Hypertext Markup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(Portable Document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information on both ver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BE99-40EF-42A4-BCC0-9BCC55001DE0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 – HTML Vers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the entered answers for each of the 6 Steps of the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about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your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114800" y="1447920"/>
          <a:ext cx="490680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90680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8B2D-59BE-494B-876F-440D166D33EF}" type="slidenum">
              <a:t>33</a:t>
            </a:fld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AR on the Web –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DF Vers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81120" y="16765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the entered answers in numerical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id Histo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about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effecting your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must do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nformation you need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963800"/>
            <a:ext cx="5257800" cy="38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D7FE-F079-41F5-B218-929443A8EB61}" type="slidenum">
              <a:t>34</a:t>
            </a:fld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Other Enhancemen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1BDB-9835-4431-91ED-1B2A64870AC0}" type="slidenum">
              <a:t>35</a:t>
            </a:fld>
          </a:p>
        </p:txBody>
      </p:sp>
    </p:spTree>
  </p:cSld>
  <p:transition>
    <p:pull dir="l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elp Search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arch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Available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62520" y="2030400"/>
            <a:ext cx="51814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DCE5-6F72-4907-A9D3-D05564FE235B}" type="slidenum">
              <a:t>36</a:t>
            </a:fld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arch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548240" cy="39304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2520" y="2437920"/>
            <a:ext cx="406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results incl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opics/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cure front-end index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006A-5101-4134-940E-AF1F8127ED4D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Additional information and Resour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-2004 Implement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25/2002 – Demo Site, Home Page, Application (for Beta Te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13474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/2003 : All other 2003-2004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51400" y="1919160"/>
            <a:ext cx="1295640" cy="393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0FD2-3675-49E8-8058-1D5F2A5AED3A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dditional information and Resources: The Demo Sit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For FAA’s to learn the new site before it’s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13474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fs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in the 2003-04 CPS Test System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download.ed.gov/CPSTestSys0304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4040" y="1828800"/>
            <a:ext cx="38703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98B0-F0BD-4709-8B30-85ECC9DC7F65}" type="slidenum">
              <a:t>39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Agend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New in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2003-2004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rmation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: What Would You Like to See in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A3D6-21AB-4882-9F48-CD2AAB3AEE2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id we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1-800-4-FE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fafsaweb@ncs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-up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75D5-D2A6-44EC-9B09-8A43215310E6}" type="slidenum">
              <a:t>40</a:t>
            </a:fld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666880"/>
            <a:ext cx="83818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Com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Like to See in the Fu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DA07-59D8-47A3-827B-B733243B502F}" type="slidenum">
              <a:t>41</a:t>
            </a:fld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819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’s New in 2003-2004!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DDB1-7E5A-42D6-AB8C-CC1B262F1DD0}" type="slidenum">
              <a:t>5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on the Web Home Page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IN graphic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FSA logo on Home Page and throughout application to be consistent with all FSA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‘news’ section added; can be updat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267080" y="1808280"/>
            <a:ext cx="4724640" cy="3730680"/>
            <a:chOff x="4267080" y="1808280"/>
            <a:chExt cx="4724640" cy="3730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267080" y="1808280"/>
              <a:ext cx="4724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267080" y="1808280"/>
              <a:ext cx="4724640" cy="373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823c86"/>
                </a:buClr>
                <a:buSzPct val="7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B948-54A1-45F9-B996-A3722DA9DFE3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FAFSA on the Web  Home Page (cont’d)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968480"/>
            <a:ext cx="4800600" cy="379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5152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a FAFSA” option made more prom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rrections” option moved from Step 2 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deadlines icon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DE9B-15FC-4E33-899D-A3B9819608A0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ep 1: 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Before Beginning Your Applic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214E-3836-4560-A2E2-0BD5E9A64B96}" type="slidenum">
              <a:t>8</a:t>
            </a:fld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e-Application Workshee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to follow the order of questions presented within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FAFSA questions will be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the paper FAFSA as preparation for completing FAFSA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s a printable .PDF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3341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 -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DC18-49D1-454E-9600-75942E0DC66F}" type="slidenum">
              <a:t>9</a:t>
            </a:fld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Dept. of Education</cp:lastModifiedBy>
  <cp:lastPrinted>2001-10-23T16:19:41Z</cp:lastPrinted>
  <dcterms:modified xsi:type="dcterms:W3CDTF">2002-12-12T15:10:23Z</dcterms:modified>
  <cp:revision>129</cp:revision>
  <dc:subject/>
  <dc:title>No Slide Title</dc:title>
</cp:coreProperties>
</file>