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B939C-904A-4DE5-B664-DB43FBCEC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09E5-4E24-4179-B793-46106536D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E02DB-AE9B-4AFD-ACC8-80C08BFF2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EF9FD-B686-4E25-AD3C-967A3EF06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A7EDA-AE99-4361-86F9-D7C9EB0F0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94FE7-B970-48CF-9406-67DCD0017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57C8-6DBF-4898-87DB-021BA1264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3F1E1-9304-4ED5-805F-7F3ED981E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A2A21-CBE6-416F-86A7-F12698230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91BE5-16E6-4B7B-9059-75592CA61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ED361-B0D7-4BF1-ABA8-98FB146BE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B2115-01B5-4861-A258-A7C50E1C3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7967-447C-4C8F-A751-66793F5D9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2819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ep 2: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illing Out A FAFSA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D5F7-96FD-4277-9390-8E6B40CD4D90}" type="slidenum">
              <a:t>10</a:t>
            </a:fld>
          </a:p>
        </p:txBody>
      </p:sp>
    </p:spTree>
  </p:cSld>
  <p:transition>
    <p:cover dir="l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080" y="457200"/>
            <a:ext cx="5181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Login Pag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3581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for Later” changed to “Sa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igation bar removed from Login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37080" y="1295280"/>
            <a:ext cx="424188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62733-958E-4F18-9ABE-6F6B2717A176}" type="slidenum">
              <a:t>11</a:t>
            </a:fld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Introduc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53160" y="182880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introductory paragraphs expl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FOTW navigation buttons and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“Save”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to Pre-Application 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1080" y="1523880"/>
            <a:ext cx="4381560" cy="47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D7672-02A5-4D47-B6B2-5609F700C0AF}" type="slidenum">
              <a:t>12</a:t>
            </a:fld>
          </a:p>
        </p:txBody>
      </p:sp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pplication Updat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reor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ordering clearly explained prior to start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numbers removed due to reorde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FAFSA question numbers included after each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A9774-0AEA-45EF-8485-3630AE78BC9A}" type="slidenum">
              <a:t>13</a:t>
            </a:fld>
          </a:p>
        </p:txBody>
      </p:sp>
    </p:spTree>
  </p:cSld>
  <p:transition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pplication Updates (continued)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-2 form box numbers added to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’ Marital Status Date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text differentiates between ‘student’ and ‘parent’, where appli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 to “Save” after each Step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E306A-7C0F-4B8F-88E4-8E04C67C392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re-populated Fiel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s pre-populated based on applicant’s answers to other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you born before 01/01/80?’ pre-populated based on response to ‘Date of Birth’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you Married?’ pre-populated based on response to ‘Marital Status’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FA5ED-573A-4483-8455-6764F97D9793}" type="slidenum">
              <a:t>15</a:t>
            </a:fld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xisting Skip Logic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80880" y="1523880"/>
          <a:ext cx="8336160" cy="4413240"/>
        </p:xfrm>
        <a:graphic>
          <a:graphicData uri="http://schemas.openxmlformats.org/drawingml/2006/table">
            <a:tbl>
              <a:tblPr/>
              <a:tblGrid>
                <a:gridCol w="3276720"/>
                <a:gridCol w="5059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p Log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ly Analysis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“Yes”, then skip:Q17-Q21: Enrollment Stat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6: Completed a tax for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“Will not file”, then skip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7: Student’s Income tax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8: Did student have to file a 1040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9: Student’s AG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0: Student’s income t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1: Student’s number of exem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for Independent students to skip parental quest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“No, don’t answer parental questions”, then skip Q59-Q8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71: Completed a tax for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“Will not file”, then skip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72: Parents’ Income tax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73: Did parents’ have to file a 1040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74: Parents’ AG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75: Parents’ income t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76: Parents’ number of exem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902D-13E2-4304-B5E4-935923F9F15C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dditional Skip Logic in 2003-2004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2133720"/>
          <a:ext cx="8229600" cy="2971440"/>
        </p:xfrm>
        <a:graphic>
          <a:graphicData uri="http://schemas.openxmlformats.org/drawingml/2006/table">
            <a:tbl>
              <a:tblPr/>
              <a:tblGrid>
                <a:gridCol w="2590560"/>
                <a:gridCol w="5639040"/>
              </a:tblGrid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p log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3: U.S. Citizen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“Yes”, then skip Q14: Alien Registration Numb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5: Student’s Marital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“Single, divorced, or widowed” or “Separated”, then skip Q42: Spouse Incom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5: Resident before 1/1/7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“Yes”, then skip Q26: Date of legal residen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7: Are you male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“No”, then skip Q28: Register for selective service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1EA74-89F9-4F8C-9E50-83601C0BD7A5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New Auto-Zero Skip Logic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enhanced skip-logic based on auto-zero eligibility and student’s state of legal res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tudent meets these criteria and chooses NOT to “Return to Full FAFSA”, following questions skipp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and parent income taxes and exe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and parent Worksheets A, B,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and parent ass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D8B21-4673-4E54-867D-94137AD0065A}" type="slidenum">
              <a:t>18</a:t>
            </a:fld>
          </a:p>
        </p:txBody>
      </p: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New Auto-Zero Skip Logic (continued)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562360" y="1828800"/>
            <a:ext cx="338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displayed when applicant meets auto-zero eligibility and state of legal residence is a state that does not require a full FA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5029200" cy="495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E03A2-A0EF-4F32-A71E-71DB4B9A0891}" type="slidenum">
              <a:t>19</a:t>
            </a:fld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2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81952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13474"/>
                </a:solidFill>
                <a:latin typeface="Arial"/>
              </a:rPr>
              <a:t>FAFSA on the Web 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13474"/>
                </a:solidFill>
                <a:latin typeface="Arial"/>
              </a:rPr>
              <a:t>We Aim to Pl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B5EDB-0033-4B98-B6F3-1D0542DD91DE}" type="slidenum">
              <a:t>2</a:t>
            </a:fld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tates Eligible for Auto-zero/SNT Skip Logic 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335800" cy="3913200"/>
        </p:xfrm>
        <a:graphic>
          <a:graphicData uri="http://schemas.openxmlformats.org/drawingml/2006/table">
            <a:tbl>
              <a:tblPr/>
              <a:tblGrid>
                <a:gridCol w="2778120"/>
                <a:gridCol w="2779560"/>
                <a:gridCol w="277812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bam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ign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xic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w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Hampshi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 Samo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s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Mariana Isla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z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tuck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a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uisia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rto Ric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c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ode Islan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of Columb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shall Isla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Caroli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ted States of Microne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achuset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ness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ssipp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gin Isla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ah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our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75AA6-B4B7-46A7-A670-71F200ADF918}" type="slidenum">
              <a:t>20</a:t>
            </a:fld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New Simplified Needs Test (SNT) Skip Logic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eligible for auto-zero but meets SNT eligibility and state of legal residence is a state that does not require a full FAFSA, can still choose to skip asse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pts to skip asset questions displayed separately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4830840" cy="386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364A6-BE33-4236-9D72-96AA93442944}" type="slidenum">
              <a:t>21</a:t>
            </a:fld>
          </a:p>
        </p:txBody>
      </p:sp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por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Report (available throughout the ap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signed to match application question order within FO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Information (available at the end of the ap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displayed in the same order as the paper FAFSA and 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6B026-82EB-48C4-AE8E-2BDB5FC5D989}" type="slidenum">
              <a:t>22</a:t>
            </a:fld>
          </a:p>
        </p:txBody>
      </p:sp>
    </p:spTree>
  </p:cSld>
  <p:transition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ignature Pag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36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code added to improve accuracy and reduce processing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’s SSN and Name ID contained within bar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66680" y="3809880"/>
            <a:ext cx="7624800" cy="20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1EA40-959A-4428-A40C-18EA97EB2930}" type="slidenum">
              <a:t>23</a:t>
            </a:fld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nfirmation Pag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zed confirmation of submit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’s Firs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62520" y="1839960"/>
            <a:ext cx="4983120" cy="34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926BF-1E01-4A51-B2E1-E010C8A20CD2}" type="slidenum">
              <a:t>24</a:t>
            </a:fld>
          </a:p>
        </p:txBody>
      </p:sp>
    </p:spTree>
  </p:cSld>
  <p:transition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AFSA Walkthrough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2286000"/>
            <a:ext cx="624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is point, we will demonstrate the application entry and submission process of FAFSA on the We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4724280"/>
            <a:ext cx="1676520" cy="838440"/>
          </a:xfrm>
          <a:custGeom>
            <a:avLst/>
            <a:gdLst>
              <a:gd name="textAreaLeft" fmla="*/ 54360 w 1676520"/>
              <a:gd name="textAreaRight" fmla="*/ 1622160 w 16765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3181" h="21600">
                <a:moveTo>
                  <a:pt x="0" y="0"/>
                </a:moveTo>
                <a:lnTo>
                  <a:pt x="43181" y="0"/>
                </a:lnTo>
                <a:lnTo>
                  <a:pt x="43181" y="21600"/>
                </a:lnTo>
                <a:lnTo>
                  <a:pt x="0" y="21600"/>
                </a:lnTo>
                <a:close/>
              </a:path>
              <a:path fill="lightenLess" w="43181" h="21600">
                <a:moveTo>
                  <a:pt x="0" y="0"/>
                </a:moveTo>
                <a:lnTo>
                  <a:pt x="43181" y="0"/>
                </a:lnTo>
                <a:lnTo>
                  <a:pt x="41781" y="1400"/>
                </a:lnTo>
                <a:lnTo>
                  <a:pt x="1400" y="1400"/>
                </a:lnTo>
                <a:close/>
              </a:path>
              <a:path fill="darken" w="43181" h="21600">
                <a:moveTo>
                  <a:pt x="43181" y="0"/>
                </a:moveTo>
                <a:lnTo>
                  <a:pt x="43181" y="21600"/>
                </a:lnTo>
                <a:lnTo>
                  <a:pt x="41781" y="20200"/>
                </a:lnTo>
                <a:lnTo>
                  <a:pt x="41781" y="1400"/>
                </a:lnTo>
                <a:close/>
              </a:path>
              <a:path fill="darkenLess" w="43181" h="21600">
                <a:moveTo>
                  <a:pt x="43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1" y="20200"/>
                </a:lnTo>
                <a:close/>
              </a:path>
              <a:path fill="lighten" w="43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1" h="21600">
                <a:moveTo>
                  <a:pt x="14584" y="3794"/>
                </a:moveTo>
                <a:lnTo>
                  <a:pt x="28597" y="10800"/>
                </a:lnTo>
                <a:lnTo>
                  <a:pt x="145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FA226-122C-435F-A778-2105F0E25908}" type="slidenum">
              <a:t>25</a:t>
            </a:fld>
          </a:p>
        </p:txBody>
      </p:sp>
    </p:spTree>
  </p:cSld>
  <p:transition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newal FAFSA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280" y="1911240"/>
            <a:ext cx="4724640" cy="37292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51520" y="213372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’s and Parents’ financial data is also pre-populated for student’s that were Auto-Zero EFC eligible in 2002-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D7248-F34C-4D4E-AB3F-2872DF533528}" type="slidenum">
              <a:t>26</a:t>
            </a:fld>
          </a:p>
        </p:txBody>
      </p:sp>
    </p:spTree>
  </p:cSld>
  <p:transition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560" y="27428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ep 3: FAFSA Follow-up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3B540-3472-4EC3-93BB-90CD30A8E11A}" type="slidenum">
              <a:t>27</a:t>
            </a:fld>
          </a:p>
        </p:txBody>
      </p:sp>
    </p:spTree>
  </p:cSld>
  <p:transition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heck Statu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Check Results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Not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er Application Received but not yet being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er Application Could Not Be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Being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n the Hold File (waiting for signatures), provides option to print signature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cessed -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if rej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provi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Corrections, 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gnat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ages 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lectron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gn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343400" y="1805040"/>
            <a:ext cx="4602240" cy="374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25846-79CF-40DD-A3ED-E75CE92408CC}" type="slidenum">
              <a:t>28</a:t>
            </a:fld>
          </a:p>
        </p:txBody>
      </p:sp>
    </p:spTree>
  </p:cSld>
  <p:transition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ake Correct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to Auto-Zero/SNT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correction is made that causes a student to no longer be Auto-Zero/SNT eligible the student will need to provide addition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FC will immediately be calculated for corrections when only the NSLDS match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C will display without ‘Estimated’ label if record is pro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00006-F06F-4FD1-ADC0-68CA9496AABE}" type="slidenum">
              <a:t>29</a:t>
            </a:fld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Pres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this session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ared towards F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Introduc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53160" y="2627280"/>
            <a:ext cx="4092480" cy="25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5DD9E-2A62-4607-B508-1553B05D752B}" type="slidenum">
              <a:t>3</a:t>
            </a:fld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al-Time Processing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181120" y="1904760"/>
            <a:ext cx="4092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ation Page states “The Correction(s) have also been process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s the official EFC not an Estimated E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280" y="1676520"/>
          <a:ext cx="5029200" cy="40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502920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90251-D976-4C48-8DCE-2DF4AFB824BC}" type="slidenum">
              <a:t>30</a:t>
            </a:fld>
          </a:p>
        </p:txBody>
      </p:sp>
    </p:spTree>
  </p:cSld>
  <p:transition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udent Access/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AR on the Web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displays full SAR comment codes and text for records that received SAR Acknowled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rrections” button included in more locations in the comment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F and HTML printouts include the same fields as the paper 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ral to NSLDS web site for up to date loa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D9B91-67A2-483C-94D8-DB2FAFA4DDF8}" type="slidenum">
              <a:t>31</a:t>
            </a:fld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AR on the Web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280" y="1752480"/>
          <a:ext cx="5181840" cy="39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518184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37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ersions of the pri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(Hypertext Markup Langu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 (Portable Document Form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information on both ver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FA17-A7DB-4E6A-ABB5-6C80B83C6AC5}" type="slidenum">
              <a:t>32</a:t>
            </a:fld>
          </a:p>
        </p:txBody>
      </p:sp>
    </p:spTree>
  </p:cSld>
  <p:transition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AR on the Web – HTML Vers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s the entered answers for each of the 6 Steps of the FAF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Categ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id Histor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s about you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effecting your elig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you must do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nformation you need to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114800" y="1447920"/>
          <a:ext cx="4906800" cy="43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447920"/>
                    <a:ext cx="4906800" cy="43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01DE2-E306-42EA-A5C6-31A0F0DAD9BF}" type="slidenum">
              <a:t>33</a:t>
            </a:fld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AR on the Web –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DF Vers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181120" y="16765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s the entered answers in numerical or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Categ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id Histor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s about you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effecting your elig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you must do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nformation you need to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963800"/>
            <a:ext cx="5257800" cy="38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B9AAC-F079-47B2-8D46-7FFE5A915007}" type="slidenum">
              <a:t>34</a:t>
            </a:fld>
          </a:p>
        </p:txBody>
      </p:sp>
    </p:spTree>
  </p:cSld>
  <p:transition>
    <p:pull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819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Other Enhancemen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58AB4-659E-4A24-B419-81178A106441}" type="slidenum">
              <a:t>35</a:t>
            </a:fld>
          </a:p>
        </p:txBody>
      </p:sp>
    </p:spTree>
  </p:cSld>
  <p:transition>
    <p:pull dir="l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elp Search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Search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Available 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62520" y="2030400"/>
            <a:ext cx="51814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DABA8-216E-464D-9658-EE572CABD72A}" type="slidenum">
              <a:t>36</a:t>
            </a:fld>
          </a:p>
        </p:txBody>
      </p:sp>
    </p:spTree>
  </p:cSld>
  <p:transition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arch Resul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548240" cy="39304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2520" y="2437920"/>
            <a:ext cx="406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results inclu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topics/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ecure front-end index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F854F-44A0-4877-8B3E-F09E943FA8F0}" type="slidenum">
              <a:t>37</a:t>
            </a:fld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dditional information and Resourc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4876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3-2004 Implementati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/25/2002 – Demo Site, Home Page, Application (for Beta Tes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1/2003 : All other 2003-2004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251400" y="1919160"/>
            <a:ext cx="1295640" cy="393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9C5CC-201D-48E8-886F-5754F7C60392}" type="slidenum">
              <a:t>38</a:t>
            </a:fld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dditional information and Resources: The Demo Site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For FAA’s to learn the new site before it’s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fsademo.test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Na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wo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fsa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ed in the 2003-04 CPS Test System User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adownload.ed.gov/CPSTestSys0304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64040" y="1828800"/>
            <a:ext cx="387036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23A8E-2939-488F-A06F-BAE43914EA40}" type="slidenum">
              <a:t>39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Agenda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3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New in 2003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 2003-2004 FAFSA on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Information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and Comments: What Would You Like to See in the Fu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11540-B8D2-4366-950B-C186F7610652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w did we do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1-800-4-FED-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: fafsaweb@ncs.com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SATech Listse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fsatech@inet.ed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-up inform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d.gov/offices/OSFAP/sfatech/listserv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0D760-48E7-43C2-B4AE-245074BC725E}" type="slidenum">
              <a:t>40</a:t>
            </a:fld>
          </a:p>
        </p:txBody>
      </p:sp>
    </p:spTree>
  </p:cSld>
  <p:transition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2666880"/>
            <a:ext cx="838188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and Commen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ould You Like to See in the Fu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92845-3A48-4991-A0AC-380BB15458A1}" type="slidenum">
              <a:t>41</a:t>
            </a:fld>
          </a:p>
        </p:txBody>
      </p:sp>
    </p:spTree>
  </p:cSld>
  <p:transition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819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’s New in 2003-2004!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E4416-1B81-4891-9935-E4359A867749}" type="slidenum">
              <a:t>5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AFSA on the Web Home Pag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IN graphic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FSA logo on Home Page and throughout application to be consistent with all FSA web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‘news’ section added; can be updated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267080" y="1808280"/>
            <a:ext cx="4724640" cy="3730680"/>
            <a:chOff x="4267080" y="1808280"/>
            <a:chExt cx="4724640" cy="373068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267080" y="1808280"/>
              <a:ext cx="4724640" cy="37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 txBox="1"/>
            <p:nvPr/>
          </p:nvSpPr>
          <p:spPr>
            <a:xfrm>
              <a:off x="4267080" y="1808280"/>
              <a:ext cx="4724640" cy="3730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823c86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7654-5936-4737-8ABB-93A72E9D51B9}" type="slidenum">
              <a:t>6</a:t>
            </a:fld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AFSA on the Web  Home Page (cont’d)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1968480"/>
            <a:ext cx="4800600" cy="3790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51520" y="182880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a FAFSA” option made more prom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rrections” option moved from Step 2 to Ste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deadlines icon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50A1F-91A5-48F9-8F16-BEF2E8218F11}" type="slidenum">
              <a:t>7</a:t>
            </a:fld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2819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ep 1: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Before Beginning Your Applic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4890D-D83D-461F-B5E4-ED25225E8DA2}" type="slidenum">
              <a:t>8</a:t>
            </a:fld>
          </a:p>
        </p:txBody>
      </p:sp>
    </p:spTree>
  </p:cSld>
  <p:transition>
    <p:cover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re-Application Workshee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signed to follow the order of questions presented within FAFSA on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FAFSA questions will be refere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s the paper FAFSA as preparation for completing FAFSA on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as a printable .PDF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533412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E4CA4-F111-4CAA-890F-917BD2DB42C3}" type="slidenum">
              <a:t>9</a:t>
            </a:fld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13:41:11Z</dcterms:created>
  <dc:creator>Bryan Van Note</dc:creator>
  <dc:description/>
  <dc:language>en-US</dc:language>
  <cp:lastModifiedBy>Dept. of Education</cp:lastModifiedBy>
  <cp:lastPrinted>2001-10-23T16:19:41Z</cp:lastPrinted>
  <dcterms:modified xsi:type="dcterms:W3CDTF">2002-12-12T15:10:23Z</dcterms:modified>
  <cp:revision>129</cp:revision>
  <dc:subject/>
  <dc:title>No Slide Title</dc:title>
</cp:coreProperties>
</file>