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5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3.png" ContentType="image/png"/>
  <Override PartName="/ppt/media/image26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FD5D-FA45-4F74-A1B0-76C42430A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FDE7-4822-4808-91CC-9141F7D4C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7C01-9C8A-4C9F-8EE5-32F87A0A2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6DBC-4C9D-470A-AD74-E9DC60F86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310D-2675-48C4-B5A7-02E5A51FD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93FC-BCAB-47E8-924D-5E31CB263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D9CC-09D5-439C-8F2D-9E0115C36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6FAC-4057-47F1-853D-8AC3B0D60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9425-264C-4E3A-AB8A-38A2CC5C0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6FE1-1130-4ADB-8A41-C8C7CD088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73BA-6733-4898-8DEA-D0C257927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BAB5-756A-4836-A6CF-72BCE9E78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4439-152B-40A4-8AA2-E0CA0F94D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4.gi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1980 Higher Education Ac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.S. Department of Education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OG renamed Pell with $10 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Need Analysis form and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um Room and Board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d the Independent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year cap eliminated for 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DSL Interest Rate increased to 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L rate 7% to 9%  for first time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4B5E-1E80-43E3-83F5-3C5394A949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81 OMNIBUS Budget Reconciliation Ac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htened Pell Grants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GSL need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SL Origination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d $10 ACA for G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 formula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BC4B-DF01-4E72-A9E9-8BC65A90AB5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5240" y="380880"/>
            <a:ext cx="8459280" cy="6019920"/>
            <a:chOff x="75240" y="380880"/>
            <a:chExt cx="8459280" cy="6019920"/>
          </a:xfrm>
        </p:grpSpPr>
        <p:sp>
          <p:nvSpPr>
            <p:cNvPr id="251" name=""/>
            <p:cNvSpPr/>
            <p:nvPr/>
          </p:nvSpPr>
          <p:spPr>
            <a:xfrm>
              <a:off x="224640" y="609480"/>
              <a:ext cx="4251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82 Solomon Amend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o Defense Authorization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elective Service Reg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quired for Title IV Eligi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240" y="4038480"/>
              <a:ext cx="4342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85 Gramm-Rudman-Holl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ultiple GSL disburs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hecks sent to sch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itle IV aid denied to defaul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141511" descr=""/>
            <p:cNvPicPr/>
            <p:nvPr/>
          </p:nvPicPr>
          <p:blipFill>
            <a:blip r:embed="rId5"/>
            <a:stretch/>
          </p:blipFill>
          <p:spPr>
            <a:xfrm>
              <a:off x="5029200" y="380880"/>
              <a:ext cx="3505320" cy="26352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</p:pic>
        <p:pic>
          <p:nvPicPr>
            <p:cNvPr id="254" name="rubiks-cube" descr=""/>
            <p:cNvPicPr/>
            <p:nvPr/>
          </p:nvPicPr>
          <p:blipFill>
            <a:blip r:embed="rId6"/>
            <a:stretch/>
          </p:blipFill>
          <p:spPr>
            <a:xfrm>
              <a:off x="5713560" y="3733920"/>
              <a:ext cx="2516040" cy="2666880"/>
            </a:xfrm>
            <a:prstGeom prst="rect">
              <a:avLst/>
            </a:prstGeom>
            <a:ln w="0">
              <a:noFill/>
            </a:ln>
            <a:effectLst>
              <a:outerShdw dist="117181" dir="2961631" blurRad="0" rotWithShape="0">
                <a:srgbClr val="5490a8"/>
              </a:outerShdw>
            </a:effectLst>
          </p:spPr>
        </p:pic>
      </p:grpSp>
      <p:sp>
        <p:nvSpPr>
          <p:cNvPr id="255" name=""/>
          <p:cNvSpPr/>
          <p:nvPr/>
        </p:nvSpPr>
        <p:spPr>
          <a:xfrm>
            <a:off x="7453440" y="7272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B310-40F2-4B55-8EC8-CE00FD75237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86 Higher Education Act</a:t>
            </a:r>
            <a:br>
              <a:rPr sz="4000"/>
            </a:b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87 Technical Amend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essional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ified Need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ication limited to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d Independent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ional Judgment for F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E875-B3D4-4D6B-A787-DA8BB4FA2FC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259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120" y="609480"/>
            <a:ext cx="8925840" cy="5931000"/>
            <a:chOff x="78120" y="609480"/>
            <a:chExt cx="8925840" cy="5931000"/>
          </a:xfrm>
        </p:grpSpPr>
        <p:sp>
          <p:nvSpPr>
            <p:cNvPr id="281" name=""/>
            <p:cNvSpPr/>
            <p:nvPr/>
          </p:nvSpPr>
          <p:spPr>
            <a:xfrm>
              <a:off x="228960" y="609480"/>
              <a:ext cx="4129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88 Drug Free 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nd Communities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chools must have program 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revent drug and Alcoh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20" y="4038480"/>
              <a:ext cx="3966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88 Crime Awarene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nd Campus Security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quires collecting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porting on Campus Cr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91760" y="3886200"/>
              <a:ext cx="40122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89 Defaults equals 17.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90 Rates were 22.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fault Rates restricted b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90 Omnibus Reconcil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3600" y="685800"/>
              <a:ext cx="3908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88 Tax Reform Techn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mend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reates Educational Sav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F816-CE2C-4F80-A2BB-C4273B4D977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92 Higher Education Ac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s up to full cost of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efinition of the Independent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es CM for all Titl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s negotiated rule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ord limits ra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est rates are c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ed 5% Community Service for C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es refu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C6B6-F42B-4571-A6DD-BBBC5218560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288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1640" y="609480"/>
            <a:ext cx="8629560" cy="5565240"/>
            <a:chOff x="71640" y="609480"/>
            <a:chExt cx="8629560" cy="5565240"/>
          </a:xfrm>
        </p:grpSpPr>
        <p:sp>
          <p:nvSpPr>
            <p:cNvPr id="310" name=""/>
            <p:cNvSpPr/>
            <p:nvPr/>
          </p:nvSpPr>
          <p:spPr>
            <a:xfrm>
              <a:off x="230760" y="609480"/>
              <a:ext cx="4245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93 Student Loan Reform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duced margins on FFE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ull implementation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irect Lo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640" y="4038480"/>
              <a:ext cx="4377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94 Violent Crime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nd Law Enforcement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liminated Pell for incarcer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2840" y="3886200"/>
              <a:ext cx="3570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97 Taxpayer Relief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reates Hope Scholar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fetime 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x cred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52880" y="685800"/>
              <a:ext cx="3748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95 Improving America’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Schools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tudent Right to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irect Loans renam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C768-98A9-4827-AB1A-82759A8F389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13474"/>
                </a:solidFill>
                <a:latin typeface="Arial"/>
              </a:rPr>
              <a:t>1998 Higher Education Ac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T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IG becomes LEAP/SL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% Community Service for Work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ABF4-FB3C-4029-B970-732D9A52069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Chief Operating Officer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9720" y="294012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rri Sh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29606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92BF-6477-4444-8FA1-8A62884B36B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819520"/>
            <a:ext cx="838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Welcome and Opening R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4040" y="4419720"/>
            <a:ext cx="40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474"/>
                </a:solidFill>
                <a:latin typeface="Times New Roman"/>
              </a:rPr>
              <a:t>Kay J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3474"/>
                </a:solidFill>
                <a:latin typeface="Times New Roman"/>
              </a:rPr>
              <a:t>General Manager for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7CBD-EE04-43DB-A2D4-75A927FD7B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j0172642" descr=""/>
          <p:cNvPicPr/>
          <p:nvPr/>
        </p:nvPicPr>
        <p:blipFill>
          <a:blip r:embed="rId1"/>
          <a:stretch/>
        </p:blipFill>
        <p:spPr>
          <a:xfrm>
            <a:off x="2465280" y="990720"/>
            <a:ext cx="424044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31520" y="371520"/>
            <a:ext cx="30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lancing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4800" y="3733920"/>
            <a:ext cx="18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7680" y="35812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ight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6400" y="525780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ight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j0252645" descr=""/>
          <p:cNvPicPr/>
          <p:nvPr/>
        </p:nvPicPr>
        <p:blipFill>
          <a:blip r:embed="rId2"/>
          <a:stretch/>
        </p:blipFill>
        <p:spPr>
          <a:xfrm>
            <a:off x="3770280" y="3429000"/>
            <a:ext cx="1602000" cy="176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5EAD-094F-4901-95FB-65D2A66DD9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Student Aid Lifecycl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447920"/>
            <a:ext cx="0" cy="510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5120" y="144792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Ai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 Process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31560" y="14479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ent Elig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7400" y="393048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bursement and 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7680" y="393048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ayment of Title IV Lo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8126" t="10420" r="26564" b="9376"/>
          <a:stretch/>
        </p:blipFill>
        <p:spPr>
          <a:xfrm>
            <a:off x="533520" y="2133720"/>
            <a:ext cx="9763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</p:pic>
      <p:graphicFrame>
        <p:nvGraphicFramePr>
          <p:cNvPr id="103" name=""/>
          <p:cNvGraphicFramePr/>
          <p:nvPr/>
        </p:nvGraphicFramePr>
        <p:xfrm>
          <a:off x="1752480" y="2201760"/>
          <a:ext cx="1447920" cy="122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01760"/>
                    <a:ext cx="1447920" cy="1227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5490a8"/>
                    </a:outerShdw>
                  </a:effectLst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4"/>
          <a:srcRect l="73439" t="9376" r="3127" b="13540"/>
          <a:stretch/>
        </p:blipFill>
        <p:spPr>
          <a:xfrm>
            <a:off x="3375000" y="2209680"/>
            <a:ext cx="511200" cy="129564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5490a8"/>
            </a:outerShdw>
          </a:effectLst>
        </p:spPr>
      </p:pic>
      <p:pic>
        <p:nvPicPr>
          <p:cNvPr id="106" name="j0283537" descr=""/>
          <p:cNvPicPr/>
          <p:nvPr/>
        </p:nvPicPr>
        <p:blipFill>
          <a:blip r:embed="rId5"/>
          <a:stretch/>
        </p:blipFill>
        <p:spPr>
          <a:xfrm>
            <a:off x="6172200" y="1981080"/>
            <a:ext cx="1219320" cy="1181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848720" y="1676520"/>
            <a:ext cx="446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F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95880" y="2514600"/>
            <a:ext cx="565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38880" y="2627280"/>
            <a:ext cx="163836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Verif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24280" y="1898640"/>
            <a:ext cx="12956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ackag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91320" y="2895480"/>
            <a:ext cx="114300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verrid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j0172642" descr=""/>
          <p:cNvPicPr/>
          <p:nvPr/>
        </p:nvPicPr>
        <p:blipFill>
          <a:blip r:embed="rId6"/>
          <a:stretch/>
        </p:blipFill>
        <p:spPr>
          <a:xfrm>
            <a:off x="1600200" y="4572000"/>
            <a:ext cx="1703520" cy="1714680"/>
          </a:xfrm>
          <a:prstGeom prst="rect">
            <a:avLst/>
          </a:prstGeom>
          <a:ln w="0">
            <a:noFill/>
          </a:ln>
        </p:spPr>
      </p:pic>
      <p:pic>
        <p:nvPicPr>
          <p:cNvPr id="113" name="j0150533" descr=""/>
          <p:cNvPicPr/>
          <p:nvPr/>
        </p:nvPicPr>
        <p:blipFill>
          <a:blip r:embed="rId7"/>
          <a:stretch/>
        </p:blipFill>
        <p:spPr>
          <a:xfrm>
            <a:off x="6095880" y="43434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E9E9-AB8D-400D-8180-A58353173A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authoriz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Regulatory and Reauthoriz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ly Stroup, Assistant Secretary for Postsecondary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ff Andrade, Deputy Assistant 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ff Baker, Director, Polic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BDCE-9B1A-4EB4-8DB5-FAA8D1FF99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17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sputnik2" descr=""/>
            <p:cNvPicPr/>
            <p:nvPr/>
          </p:nvPicPr>
          <p:blipFill>
            <a:blip r:embed="rId5"/>
            <a:stretch/>
          </p:blipFill>
          <p:spPr>
            <a:xfrm>
              <a:off x="5029200" y="228600"/>
              <a:ext cx="3429000" cy="294336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5490a8"/>
              </a:outerShdw>
            </a:effectLst>
          </p:spPr>
        </p:pic>
        <p:sp>
          <p:nvSpPr>
            <p:cNvPr id="137" name=""/>
            <p:cNvSpPr/>
            <p:nvPr/>
          </p:nvSpPr>
          <p:spPr>
            <a:xfrm>
              <a:off x="381960" y="1371600"/>
              <a:ext cx="3806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ational Defense Edu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ational Defense Stu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oan 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mlk" descr=""/>
            <p:cNvPicPr/>
            <p:nvPr/>
          </p:nvPicPr>
          <p:blipFill>
            <a:blip r:embed="rId6"/>
            <a:stretch/>
          </p:blipFill>
          <p:spPr>
            <a:xfrm>
              <a:off x="5334120" y="3733920"/>
              <a:ext cx="28954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ldphone2" descr=""/>
            <p:cNvPicPr/>
            <p:nvPr/>
          </p:nvPicPr>
          <p:blipFill>
            <a:blip r:embed="rId7"/>
            <a:stretch/>
          </p:blipFill>
          <p:spPr>
            <a:xfrm>
              <a:off x="838080" y="3936960"/>
              <a:ext cx="3175200" cy="2387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5490a8"/>
              </a:outerShdw>
            </a:effectLst>
          </p:spPr>
        </p:pic>
        <p:sp>
          <p:nvSpPr>
            <p:cNvPr id="140" name=""/>
            <p:cNvSpPr/>
            <p:nvPr/>
          </p:nvSpPr>
          <p:spPr>
            <a:xfrm>
              <a:off x="4192560" y="3276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5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9240" y="345960"/>
              <a:ext cx="299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958 National Defe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ducation 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0F39-A5E0-442B-86DF-EEA7EA838015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98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3944520" y="-36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948840" y="2998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0" y="-72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27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3944520" y="342864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948840" y="6427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0" y="342828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2998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8516520" y="-36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8520840" y="2998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-72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6427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8516520" y="342864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8520840" y="642780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572000" y="3428280"/>
            <a:ext cx="622440" cy="430200"/>
          </a:xfrm>
          <a:prstGeom prst="rtTriangle">
            <a:avLst/>
          </a:prstGeom>
          <a:solidFill>
            <a:srgbClr val="f0f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960" y="32148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58/1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106600" y="3886200"/>
            <a:ext cx="3366000" cy="2745720"/>
            <a:chOff x="5106600" y="3886200"/>
            <a:chExt cx="3366000" cy="2745720"/>
          </a:xfrm>
        </p:grpSpPr>
        <p:pic>
          <p:nvPicPr>
            <p:cNvPr id="164" name="Vietnamchopper" descr=""/>
            <p:cNvPicPr/>
            <p:nvPr/>
          </p:nvPicPr>
          <p:blipFill>
            <a:blip r:embed="rId5"/>
            <a:stretch/>
          </p:blipFill>
          <p:spPr>
            <a:xfrm>
              <a:off x="5257800" y="3886200"/>
              <a:ext cx="3124080" cy="2160360"/>
            </a:xfrm>
            <a:prstGeom prst="rect">
              <a:avLst/>
            </a:prstGeom>
            <a:ln w="0">
              <a:noFill/>
            </a:ln>
            <a:effectLst>
              <a:outerShdw dist="117181" dir="2438368" blurRad="0" rotWithShape="0">
                <a:srgbClr val="5490a8"/>
              </a:outerShdw>
            </a:effectLst>
          </p:spPr>
        </p:pic>
        <p:sp>
          <p:nvSpPr>
            <p:cNvPr id="165" name=""/>
            <p:cNvSpPr/>
            <p:nvPr/>
          </p:nvSpPr>
          <p:spPr>
            <a:xfrm>
              <a:off x="5106600" y="6172200"/>
              <a:ext cx="33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ietnam War Contin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28600" y="3886200"/>
            <a:ext cx="3809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964 Economic Opportunity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WS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ucational Opportunity G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ablished Guaranteed Student Loa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beatles" descr=""/>
          <p:cNvPicPr/>
          <p:nvPr/>
        </p:nvPicPr>
        <p:blipFill>
          <a:blip r:embed="rId6"/>
          <a:stretch/>
        </p:blipFill>
        <p:spPr>
          <a:xfrm>
            <a:off x="1066680" y="237960"/>
            <a:ext cx="2281320" cy="288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</p:pic>
      <p:sp>
        <p:nvSpPr>
          <p:cNvPr id="168" name=""/>
          <p:cNvSpPr/>
          <p:nvPr/>
        </p:nvSpPr>
        <p:spPr>
          <a:xfrm>
            <a:off x="4952880" y="45720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968 Higher Education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SL at 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imum loan of $1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D71B-6445-432F-8D82-813B9762BA9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94960" y="3733920"/>
            <a:ext cx="2550600" cy="2743200"/>
            <a:chOff x="5394960" y="3733920"/>
            <a:chExt cx="2550600" cy="2743200"/>
          </a:xfrm>
        </p:grpSpPr>
        <p:pic>
          <p:nvPicPr>
            <p:cNvPr id="191" name="redsilo" descr=""/>
            <p:cNvPicPr/>
            <p:nvPr/>
          </p:nvPicPr>
          <p:blipFill>
            <a:blip r:embed="rId5"/>
            <a:stretch/>
          </p:blipFill>
          <p:spPr>
            <a:xfrm>
              <a:off x="5943600" y="3733920"/>
              <a:ext cx="20019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394960" y="5527800"/>
              <a:ext cx="116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ei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uits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839160" y="431496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 1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um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DEs auth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gas" descr=""/>
          <p:cNvPicPr/>
          <p:nvPr/>
        </p:nvPicPr>
        <p:blipFill>
          <a:blip r:embed="rId6"/>
          <a:stretch/>
        </p:blipFill>
        <p:spPr>
          <a:xfrm>
            <a:off x="609480" y="465120"/>
            <a:ext cx="3505320" cy="250668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5490a8"/>
            </a:outerShdw>
          </a:effectLst>
        </p:spPr>
      </p:pic>
      <p:sp>
        <p:nvSpPr>
          <p:cNvPr id="195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7280" y="380880"/>
            <a:ext cx="372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72 Higher Educati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d BE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lie Mae was Ch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OG got a “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BA07-B2A8-4DBF-8AE3-E1129AA4EE9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0800000">
              <a:off x="3944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948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0800000">
              <a:off x="3944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948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0800000">
              <a:off x="8516520" y="-36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8520840" y="2998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72000" y="-72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00000">
              <a:off x="8516520" y="342864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520840" y="642780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72000" y="3428280"/>
              <a:ext cx="622440" cy="430200"/>
            </a:xfrm>
            <a:prstGeom prst="rtTriangle">
              <a:avLst/>
            </a:prstGeom>
            <a:solidFill>
              <a:srgbClr val="f0f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78720" y="228600"/>
            <a:ext cx="7358760" cy="5850360"/>
            <a:chOff x="378720" y="228600"/>
            <a:chExt cx="7358760" cy="5850360"/>
          </a:xfrm>
        </p:grpSpPr>
        <p:pic>
          <p:nvPicPr>
            <p:cNvPr id="219" name="charliesangels10" descr=""/>
            <p:cNvPicPr/>
            <p:nvPr/>
          </p:nvPicPr>
          <p:blipFill>
            <a:blip r:embed="rId5"/>
            <a:stretch/>
          </p:blipFill>
          <p:spPr>
            <a:xfrm>
              <a:off x="5638680" y="228600"/>
              <a:ext cx="20988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78720" y="4003560"/>
              <a:ext cx="37576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1978 MIS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come limits remo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beralized BEOG formu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3490141" descr=""/>
            <p:cNvPicPr/>
            <p:nvPr/>
          </p:nvPicPr>
          <p:blipFill>
            <a:blip r:embed="rId6"/>
            <a:stretch/>
          </p:blipFill>
          <p:spPr>
            <a:xfrm>
              <a:off x="1066680" y="380880"/>
              <a:ext cx="2514600" cy="2514600"/>
            </a:xfrm>
            <a:prstGeom prst="rect">
              <a:avLst/>
            </a:prstGeom>
            <a:ln w="0">
              <a:noFill/>
            </a:ln>
            <a:effectLst>
              <a:outerShdw dist="172675" dir="2160588" blurRad="0" rotWithShape="0">
                <a:srgbClr val="5490a8"/>
              </a:outerShdw>
            </a:effectLst>
          </p:spPr>
        </p:pic>
      </p:grpSp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5486400" y="3809880"/>
            <a:ext cx="29718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</p:pic>
      <p:sp>
        <p:nvSpPr>
          <p:cNvPr id="223" name=""/>
          <p:cNvSpPr/>
          <p:nvPr/>
        </p:nvSpPr>
        <p:spPr>
          <a:xfrm>
            <a:off x="4116600" y="3200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1683-2AB3-46DA-A49D-6F2AA73D8FD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45:15Z</dcterms:modified>
  <cp:revision>6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