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3.png" ContentType="image/png"/>
  <Override PartName="/ppt/media/image2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37D6-27F0-4A73-827A-B8C00CB3C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DA57-24C9-4956-98BA-B95AD0ABB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CE24-EBAC-4513-9838-262BDE9BC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280C-DE10-46EA-BF62-C7FD277CD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EEE4-0939-4E60-99F9-5F7623334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0D5C-2FEC-4C1C-85EF-E23A3F546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E088-61BA-4F59-96BA-C941208F7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9931-774C-466A-A685-6E3006B5F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F5A7-29B4-4A5C-B8CE-2BDABF585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63EC-07BA-43E0-A4D2-F645E7313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D0D4-7593-4ED3-BF93-574575F59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7C63-74C9-418B-811E-5DB6968BF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CAC2-511C-471F-B360-71D4E5A6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4.gi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1980 Higher Educ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S. Department of Educatio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OG renamed Pell with $10 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Need Analysis form and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Room and Board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the Independen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year cap eliminated for 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SL Interest Rate increased to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L rate 7% to 9%  for first time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4F04-C442-4A1D-9711-D5C2A35FD5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81 OMNIBUS Budget Reconcili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ned Pell Grant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GSL need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SL Origination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d $10 ACA for G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formula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879B-C9D2-4631-AAE2-A1C280CD54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240" y="380880"/>
            <a:ext cx="8459280" cy="6019920"/>
            <a:chOff x="75240" y="380880"/>
            <a:chExt cx="8459280" cy="6019920"/>
          </a:xfrm>
        </p:grpSpPr>
        <p:sp>
          <p:nvSpPr>
            <p:cNvPr id="251" name=""/>
            <p:cNvSpPr/>
            <p:nvPr/>
          </p:nvSpPr>
          <p:spPr>
            <a:xfrm>
              <a:off x="224640" y="609480"/>
              <a:ext cx="4251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2 Solomon Amend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o Defense Authorization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elective Service Reg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quired for Title IV Elig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240" y="4038480"/>
              <a:ext cx="4342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5 Gramm-Rudman-Holl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ple GSL disburs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hecks sent to sch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itle IV aid denied to defaul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141511" descr=""/>
            <p:cNvPicPr/>
            <p:nvPr/>
          </p:nvPicPr>
          <p:blipFill>
            <a:blip r:embed="rId5"/>
            <a:stretch/>
          </p:blipFill>
          <p:spPr>
            <a:xfrm>
              <a:off x="5029200" y="380880"/>
              <a:ext cx="3505320" cy="2635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</p:pic>
        <p:pic>
          <p:nvPicPr>
            <p:cNvPr id="254" name="rubiks-cube" descr=""/>
            <p:cNvPicPr/>
            <p:nvPr/>
          </p:nvPicPr>
          <p:blipFill>
            <a:blip r:embed="rId6"/>
            <a:stretch/>
          </p:blipFill>
          <p:spPr>
            <a:xfrm>
              <a:off x="5713560" y="3733920"/>
              <a:ext cx="2516040" cy="2666880"/>
            </a:xfrm>
            <a:prstGeom prst="rect">
              <a:avLst/>
            </a:prstGeom>
            <a:ln w="0">
              <a:noFill/>
            </a:ln>
            <a:effectLst>
              <a:outerShdw dist="117181" dir="2961631" blurRad="0" rotWithShape="0">
                <a:srgbClr val="5490a8"/>
              </a:outerShdw>
            </a:effectLst>
          </p:spPr>
        </p:pic>
      </p:grpSp>
      <p:sp>
        <p:nvSpPr>
          <p:cNvPr id="255" name=""/>
          <p:cNvSpPr/>
          <p:nvPr/>
        </p:nvSpPr>
        <p:spPr>
          <a:xfrm>
            <a:off x="7453440" y="727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B0EB-6A46-409F-B2AA-438E3B8183A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86 Higher Education Act</a:t>
            </a:r>
            <a:br>
              <a:rPr sz="4000"/>
            </a:b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87 Technical Amend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essional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fied Need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ication limited to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d Independent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ional Judgment for F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E571-37B4-4BE6-A4ED-CF3B50D22B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120" y="609480"/>
            <a:ext cx="8925840" cy="5931000"/>
            <a:chOff x="78120" y="609480"/>
            <a:chExt cx="8925840" cy="5931000"/>
          </a:xfrm>
        </p:grpSpPr>
        <p:sp>
          <p:nvSpPr>
            <p:cNvPr id="281" name=""/>
            <p:cNvSpPr/>
            <p:nvPr/>
          </p:nvSpPr>
          <p:spPr>
            <a:xfrm>
              <a:off x="228960" y="609480"/>
              <a:ext cx="412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88 Drug Fre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nd Communities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chools must have program 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event drug and Alcoh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20" y="4038480"/>
              <a:ext cx="3966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88 Crime Awaren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nd Campus Security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quires collect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porting on Campus Cr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1760" y="3886200"/>
              <a:ext cx="4012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9 Defaults equals 17.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90 Rates were 22.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fault Rates restricted b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90 Omnibus Reconcil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3600" y="685800"/>
              <a:ext cx="3908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88 Tax Reform Techn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mend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reates Educational Sav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ACF6-F0D1-4057-99BC-09C0B73997F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92 Higher Educ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 up to full cost of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efinition of the Independen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es CM for all Titl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negotiated rul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ord limits 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est rates are c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ed 5% Community Service for C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es refu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C268-0C3F-4815-9874-FE20356047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88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1640" y="609480"/>
            <a:ext cx="8629560" cy="5565240"/>
            <a:chOff x="71640" y="609480"/>
            <a:chExt cx="8629560" cy="5565240"/>
          </a:xfrm>
        </p:grpSpPr>
        <p:sp>
          <p:nvSpPr>
            <p:cNvPr id="310" name=""/>
            <p:cNvSpPr/>
            <p:nvPr/>
          </p:nvSpPr>
          <p:spPr>
            <a:xfrm>
              <a:off x="230760" y="609480"/>
              <a:ext cx="4245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3 Student Loan Reform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duced margins on FFE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ull implementa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rect Lo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40" y="4038480"/>
              <a:ext cx="4377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4 Violent Crime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nd Law Enforcement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liminated Pell for incarcer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2840" y="3886200"/>
              <a:ext cx="3570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7 Taxpayer Relief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reates Hope Schola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fetime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x cred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52880" y="685800"/>
              <a:ext cx="3748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5 Improving America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chools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tudent Right to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rect Loans renam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1AB8-EA05-4DDB-8E61-6C92AB54307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98 Higher Educ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T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IG becomes LEAP/SL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% Community Service for Work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88D5-B912-4212-BECF-229F1EB613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Chief Operating Offic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9720" y="294012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ri Sh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29606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F8EA-B7B2-4AA1-896C-9B8A8EBC16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elcome and Opening R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4040" y="441972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imes New Roman"/>
              </a:rPr>
              <a:t>Kay J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imes New Roman"/>
              </a:rPr>
              <a:t>General Manager for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F545-976E-45DC-AF3D-F031D69AF0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j0172642" descr=""/>
          <p:cNvPicPr/>
          <p:nvPr/>
        </p:nvPicPr>
        <p:blipFill>
          <a:blip r:embed="rId1"/>
          <a:stretch/>
        </p:blipFill>
        <p:spPr>
          <a:xfrm>
            <a:off x="2465280" y="990720"/>
            <a:ext cx="424044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31520" y="3715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lancing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800" y="373392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7680" y="35812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ight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6400" y="525780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igh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j0252645" descr=""/>
          <p:cNvPicPr/>
          <p:nvPr/>
        </p:nvPicPr>
        <p:blipFill>
          <a:blip r:embed="rId2"/>
          <a:stretch/>
        </p:blipFill>
        <p:spPr>
          <a:xfrm>
            <a:off x="3770280" y="3429000"/>
            <a:ext cx="160200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AA1A-0C1F-4084-93DF-B5EC1B3B6C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Student Aid Lifecycl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5120" y="14479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Ai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Process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31560" y="14479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7400" y="39304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bursement and 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7680" y="393048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ayment of Title IV Lo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8126" t="10420" r="26564" b="9376"/>
          <a:stretch/>
        </p:blipFill>
        <p:spPr>
          <a:xfrm>
            <a:off x="533520" y="2133720"/>
            <a:ext cx="9763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</p:pic>
      <p:graphicFrame>
        <p:nvGraphicFramePr>
          <p:cNvPr id="103" name=""/>
          <p:cNvGraphicFramePr/>
          <p:nvPr/>
        </p:nvGraphicFramePr>
        <p:xfrm>
          <a:off x="1752480" y="2201760"/>
          <a:ext cx="1447920" cy="12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01760"/>
                    <a:ext cx="1447920" cy="1227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5490a8"/>
                    </a:outerShdw>
                  </a:effectLst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4"/>
          <a:srcRect l="73439" t="9376" r="3127" b="13540"/>
          <a:stretch/>
        </p:blipFill>
        <p:spPr>
          <a:xfrm>
            <a:off x="3375000" y="2209680"/>
            <a:ext cx="511200" cy="129564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5490a8"/>
            </a:outerShdw>
          </a:effectLst>
        </p:spPr>
      </p:pic>
      <p:pic>
        <p:nvPicPr>
          <p:cNvPr id="106" name="j0283537" descr=""/>
          <p:cNvPicPr/>
          <p:nvPr/>
        </p:nvPicPr>
        <p:blipFill>
          <a:blip r:embed="rId5"/>
          <a:stretch/>
        </p:blipFill>
        <p:spPr>
          <a:xfrm>
            <a:off x="6172200" y="1981080"/>
            <a:ext cx="1219320" cy="1181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848720" y="1676520"/>
            <a:ext cx="446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F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95880" y="2514600"/>
            <a:ext cx="565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38880" y="2627280"/>
            <a:ext cx="16383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r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24280" y="1898640"/>
            <a:ext cx="12956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ackag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1320" y="2895480"/>
            <a:ext cx="114300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verrid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j0172642" descr=""/>
          <p:cNvPicPr/>
          <p:nvPr/>
        </p:nvPicPr>
        <p:blipFill>
          <a:blip r:embed="rId6"/>
          <a:stretch/>
        </p:blipFill>
        <p:spPr>
          <a:xfrm>
            <a:off x="1600200" y="4572000"/>
            <a:ext cx="1703520" cy="1714680"/>
          </a:xfrm>
          <a:prstGeom prst="rect">
            <a:avLst/>
          </a:prstGeom>
          <a:ln w="0">
            <a:noFill/>
          </a:ln>
        </p:spPr>
      </p:pic>
      <p:pic>
        <p:nvPicPr>
          <p:cNvPr id="113" name="j0150533" descr=""/>
          <p:cNvPicPr/>
          <p:nvPr/>
        </p:nvPicPr>
        <p:blipFill>
          <a:blip r:embed="rId7"/>
          <a:stretch/>
        </p:blipFill>
        <p:spPr>
          <a:xfrm>
            <a:off x="6095880" y="43434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80C6-1BFB-41FB-86AE-9CB00789DD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authoriz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Regulatory and Reauthoriz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 Stroup, Assistant Secretary for Postseconda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ff Andrade, Deputy Assistant 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ff Baker, Director, Polic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98E0-8866-4D9B-BED6-7EBCBC8FA0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17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sputnik2" descr=""/>
            <p:cNvPicPr/>
            <p:nvPr/>
          </p:nvPicPr>
          <p:blipFill>
            <a:blip r:embed="rId5"/>
            <a:stretch/>
          </p:blipFill>
          <p:spPr>
            <a:xfrm>
              <a:off x="5029200" y="228600"/>
              <a:ext cx="3429000" cy="294336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5490a8"/>
              </a:outerShdw>
            </a:effectLst>
          </p:spPr>
        </p:pic>
        <p:sp>
          <p:nvSpPr>
            <p:cNvPr id="137" name=""/>
            <p:cNvSpPr/>
            <p:nvPr/>
          </p:nvSpPr>
          <p:spPr>
            <a:xfrm>
              <a:off x="381960" y="1371600"/>
              <a:ext cx="3806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ational Defense Edu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ational Defense 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oan 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mlk" descr=""/>
            <p:cNvPicPr/>
            <p:nvPr/>
          </p:nvPicPr>
          <p:blipFill>
            <a:blip r:embed="rId6"/>
            <a:stretch/>
          </p:blipFill>
          <p:spPr>
            <a:xfrm>
              <a:off x="5334120" y="3733920"/>
              <a:ext cx="28954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ldphone2" descr=""/>
            <p:cNvPicPr/>
            <p:nvPr/>
          </p:nvPicPr>
          <p:blipFill>
            <a:blip r:embed="rId7"/>
            <a:stretch/>
          </p:blipFill>
          <p:spPr>
            <a:xfrm>
              <a:off x="838080" y="3936960"/>
              <a:ext cx="3175200" cy="2387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</p:pic>
        <p:sp>
          <p:nvSpPr>
            <p:cNvPr id="140" name=""/>
            <p:cNvSpPr/>
            <p:nvPr/>
          </p:nvSpPr>
          <p:spPr>
            <a:xfrm>
              <a:off x="4192560" y="3276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9240" y="345960"/>
              <a:ext cx="299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958 National Def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ducation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ACF2-E37A-43E2-91FA-0A0FE840C9C3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944520" y="-36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94884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0" y="-72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3944520" y="342864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94884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0" y="342828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8516520" y="-36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852084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-72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8516520" y="342864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852084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572000" y="342828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960" y="3214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58/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106600" y="3886200"/>
            <a:ext cx="3366000" cy="2745720"/>
            <a:chOff x="5106600" y="3886200"/>
            <a:chExt cx="3366000" cy="2745720"/>
          </a:xfrm>
        </p:grpSpPr>
        <p:pic>
          <p:nvPicPr>
            <p:cNvPr id="164" name="Vietnamchopper" descr=""/>
            <p:cNvPicPr/>
            <p:nvPr/>
          </p:nvPicPr>
          <p:blipFill>
            <a:blip r:embed="rId5"/>
            <a:stretch/>
          </p:blipFill>
          <p:spPr>
            <a:xfrm>
              <a:off x="5257800" y="3886200"/>
              <a:ext cx="3124080" cy="2160360"/>
            </a:xfrm>
            <a:prstGeom prst="rect">
              <a:avLst/>
            </a:prstGeom>
            <a:ln w="0">
              <a:noFill/>
            </a:ln>
            <a:effectLst>
              <a:outerShdw dist="117181" dir="2438368" blurRad="0" rotWithShape="0">
                <a:srgbClr val="5490a8"/>
              </a:outerShdw>
            </a:effectLst>
          </p:spPr>
        </p:pic>
        <p:sp>
          <p:nvSpPr>
            <p:cNvPr id="165" name=""/>
            <p:cNvSpPr/>
            <p:nvPr/>
          </p:nvSpPr>
          <p:spPr>
            <a:xfrm>
              <a:off x="5106600" y="6172200"/>
              <a:ext cx="33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ietnam War Contin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8600" y="3886200"/>
            <a:ext cx="380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64 Economic Opportunity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W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ucational Opportunity 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ablished Guaranteed Student Loa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beatles" descr=""/>
          <p:cNvPicPr/>
          <p:nvPr/>
        </p:nvPicPr>
        <p:blipFill>
          <a:blip r:embed="rId6"/>
          <a:stretch/>
        </p:blipFill>
        <p:spPr>
          <a:xfrm>
            <a:off x="1066680" y="237960"/>
            <a:ext cx="2281320" cy="28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</p:pic>
      <p:sp>
        <p:nvSpPr>
          <p:cNvPr id="168" name=""/>
          <p:cNvSpPr/>
          <p:nvPr/>
        </p:nvSpPr>
        <p:spPr>
          <a:xfrm>
            <a:off x="4952880" y="45720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68 Higher Education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SL at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imum loan of $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7038-0FE4-4FA2-B719-759CD3239E4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94960" y="3733920"/>
            <a:ext cx="2550600" cy="2743200"/>
            <a:chOff x="5394960" y="3733920"/>
            <a:chExt cx="2550600" cy="2743200"/>
          </a:xfrm>
        </p:grpSpPr>
        <p:pic>
          <p:nvPicPr>
            <p:cNvPr id="191" name="redsilo" descr=""/>
            <p:cNvPicPr/>
            <p:nvPr/>
          </p:nvPicPr>
          <p:blipFill>
            <a:blip r:embed="rId5"/>
            <a:stretch/>
          </p:blipFill>
          <p:spPr>
            <a:xfrm>
              <a:off x="5943600" y="3733920"/>
              <a:ext cx="20019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394960" y="5527800"/>
              <a:ext cx="11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ei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uits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839160" y="431496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 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m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DEs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gas" descr=""/>
          <p:cNvPicPr/>
          <p:nvPr/>
        </p:nvPicPr>
        <p:blipFill>
          <a:blip r:embed="rId6"/>
          <a:stretch/>
        </p:blipFill>
        <p:spPr>
          <a:xfrm>
            <a:off x="609480" y="465120"/>
            <a:ext cx="3505320" cy="25066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5490a8"/>
            </a:outerShdw>
          </a:effectLst>
        </p:spPr>
      </p:pic>
      <p:sp>
        <p:nvSpPr>
          <p:cNvPr id="195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7280" y="380880"/>
            <a:ext cx="372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72 Higher Educati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BE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lie Mae was Ch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OG got a “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4980-18FB-4FDB-9BA0-BB5DBB1F4AF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8720" y="228600"/>
            <a:ext cx="7358760" cy="5850360"/>
            <a:chOff x="378720" y="228600"/>
            <a:chExt cx="7358760" cy="5850360"/>
          </a:xfrm>
        </p:grpSpPr>
        <p:pic>
          <p:nvPicPr>
            <p:cNvPr id="219" name="charliesangels10" descr=""/>
            <p:cNvPicPr/>
            <p:nvPr/>
          </p:nvPicPr>
          <p:blipFill>
            <a:blip r:embed="rId5"/>
            <a:stretch/>
          </p:blipFill>
          <p:spPr>
            <a:xfrm>
              <a:off x="5638680" y="228600"/>
              <a:ext cx="20988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78720" y="4003560"/>
              <a:ext cx="37576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78 MIS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come limits remo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beralized BEOG form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3490141" descr=""/>
            <p:cNvPicPr/>
            <p:nvPr/>
          </p:nvPicPr>
          <p:blipFill>
            <a:blip r:embed="rId6"/>
            <a:stretch/>
          </p:blipFill>
          <p:spPr>
            <a:xfrm>
              <a:off x="1066680" y="380880"/>
              <a:ext cx="2514600" cy="2514600"/>
            </a:xfrm>
            <a:prstGeom prst="rect">
              <a:avLst/>
            </a:prstGeom>
            <a:ln w="0">
              <a:noFill/>
            </a:ln>
            <a:effectLst>
              <a:outerShdw dist="172675" dir="2160588" blurRad="0" rotWithShape="0">
                <a:srgbClr val="5490a8"/>
              </a:outerShdw>
            </a:effectLst>
          </p:spPr>
        </p:pic>
      </p:grp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486400" y="3809880"/>
            <a:ext cx="29718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EC5B-B8C3-4A15-A3BF-E0CE7076717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45:15Z</dcterms:modified>
  <cp:revision>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