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4332E-2A07-40FE-9F64-F2C0075EB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6C29B-FE57-4330-BB92-ED2C20E4B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3DDEF-C49F-4CB0-BC03-278804B80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7B5AB-97AE-416D-8CB5-9BC006EEC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A0FBE-F3E9-41B5-A6D8-4C4A106C2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B0F1F-C74F-47E5-9452-B30275982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664AD-31B8-4200-B72C-6BB4BAC33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8827C-8B04-4D0F-AE78-303B37B5E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C4721-BAF9-4B73-BF5F-58BB7C5C9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82494-A2C0-4B95-B237-7B86B0AFD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A93F8-FFD1-4650-B09B-9509E5700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D3DCF-4F89-4F8D-A24E-91D08E54A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4681-83FF-474E-A498-87BBAB67F7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graphicFrame>
        <p:nvGraphicFramePr>
          <p:cNvPr id="42" name=""/>
          <p:cNvGraphicFramePr/>
          <p:nvPr/>
        </p:nvGraphicFramePr>
        <p:xfrm>
          <a:off x="3886200" y="762120"/>
          <a:ext cx="1066680" cy="1066680"/>
        </p:xfrm>
        <a:graphic>
          <a:graphicData uri="http://schemas.openxmlformats.org/presentationml/2006/ole">
            <p:oleObj r:id="rId2" spid="">
              <p:embed/>
              <p:pic>
                <p:nvPicPr>
                  <p:cNvPr id="43" name="" descr=""/>
                  <p:cNvPicPr/>
                  <p:nvPr/>
                </p:nvPicPr>
                <p:blipFill>
                  <a:blip r:embed="rId3"/>
                  <a:stretch/>
                </p:blipFill>
                <p:spPr>
                  <a:xfrm>
                    <a:off x="3886200" y="762120"/>
                    <a:ext cx="1066680" cy="1066680"/>
                  </a:xfrm>
                  <a:prstGeom prst="rect">
                    <a:avLst/>
                  </a:prstGeom>
                  <a:ln w="0">
                    <a:noFill/>
                  </a:ln>
                </p:spPr>
              </p:pic>
            </p:oleObj>
          </a:graphicData>
        </a:graphic>
      </p:graphicFrame>
      <p:sp>
        <p:nvSpPr>
          <p:cNvPr id="44" name=""/>
          <p:cNvSpPr/>
          <p:nvPr/>
        </p:nvSpPr>
        <p:spPr>
          <a:xfrm>
            <a:off x="3809880" y="150804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5" name=""/>
          <p:cNvSpPr/>
          <p:nvPr/>
        </p:nvSpPr>
        <p:spPr>
          <a:xfrm>
            <a:off x="457200" y="2193840"/>
            <a:ext cx="2590920" cy="4155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Vry Institute, Decatur, GA</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bin Winston, Assistant Director of Financial Aid</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Focused Attack”</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s. Winston and her staff took a personal interest in informing students about the advantages of online filing. Staff created detailed reminder sheets for students that provide helpful application filing tips and important school-specific information.     To promote online filing as broadly as possible, reminder sheets were sent to students’ homes and e-mail addresses, and were posted all around campus.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n five students attended general sessions where staff demonstrated how to use FAFSA on the Web.  In addition, to get the entire campus involved in the campaign, faculty were encouraged to remind students to read their e-mails for information about applying for financial aid using FAFSA on the Web.  Renewal applicants with PINs were encouraged to reapply for aid using Renewal FAFSA on the Web.</a:t>
            </a:r>
            <a:endParaRPr b="0" lang="en-US" sz="1000" spc="-1" strike="noStrike">
              <a:solidFill>
                <a:srgbClr val="000000"/>
              </a:solidFill>
              <a:latin typeface="Times New Roman"/>
            </a:endParaRPr>
          </a:p>
        </p:txBody>
      </p:sp>
      <p:sp>
        <p:nvSpPr>
          <p:cNvPr id="46" name=""/>
          <p:cNvSpPr/>
          <p:nvPr/>
        </p:nvSpPr>
        <p:spPr>
          <a:xfrm>
            <a:off x="5943600" y="2209680"/>
            <a:ext cx="2590920" cy="430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w York University, NY</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ynn Higinbotham, Assistant Director of Financial aid</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Paperless Offic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s. Higinbotham and her staff have made a concerted effort to promote and encourage a paperless financial aid application process at NYU -- both internally </a:t>
            </a:r>
            <a:r>
              <a:rPr b="0" i="1" lang="en-US" sz="1000" spc="-1" strike="noStrike">
                <a:solidFill>
                  <a:srgbClr val="000000"/>
                </a:solidFill>
                <a:latin typeface="Arial"/>
              </a:rPr>
              <a:t>and </a:t>
            </a:r>
            <a:r>
              <a:rPr b="0" lang="en-US" sz="1000" spc="-1" strike="noStrike">
                <a:solidFill>
                  <a:srgbClr val="000000"/>
                </a:solidFill>
                <a:latin typeface="Arial"/>
              </a:rPr>
              <a:t>to their students.  FAFSA on the Web fits perfectly with this effort. When students request a paper FAFSA, the office’s customer service representative asks if they are hesitant to use FAFSA on the Web.  If so, the representative takes the time to show students the benefits and ease of online filing.  To further encourage the paperless process, financial aid reminder notices are sent electronically to students’ e-mail accounts.  In addition, the NYU financial aid web site recommends using FAFSA on the Web and contains a link to www.fafsa.ed.gov.  Ms. Higinbotham attributes NYU’s impressive online filing statistics to the emphasis her staff places on electronic application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
          <p:cNvSpPr/>
          <p:nvPr/>
        </p:nvSpPr>
        <p:spPr>
          <a:xfrm>
            <a:off x="3200400" y="2193840"/>
            <a:ext cx="2666880" cy="430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lege of Staten Island, NY</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erman Whipkey, Director of Financial Aid</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Going Fishing”</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shermen use different hooks to catch fish, and Mr. Whipkey and his staff have used an assortment of “hooks” to broadcast the message that online filing benefits students. FAFSA on the Web posters are displayed all around the campus and staff work diligently to ensure that brochures get into the hands of every student.  Eye-catching signs are posted at all campus entrances and on the doors of prominent campus buildings.  The bookstore hands out FAFSA on the Web bookmarks and “table tents” are placed on cafeteria tables for students to see.  At every twist and turn, students hear the same message over and over: </a:t>
            </a:r>
            <a:r>
              <a:rPr b="1" lang="en-US" sz="1000" spc="-1" strike="noStrike">
                <a:solidFill>
                  <a:srgbClr val="000000"/>
                </a:solidFill>
                <a:latin typeface="Arial"/>
              </a:rPr>
              <a:t>FAFSA on the Web is fast, accurate and easy, so apply today</a:t>
            </a:r>
            <a:r>
              <a:rPr b="0" lang="en-US" sz="1000" spc="-1" strike="noStrike">
                <a:solidFill>
                  <a:srgbClr val="000000"/>
                </a:solidFill>
                <a:latin typeface="Arial"/>
              </a:rPr>
              <a:t>.  All promotional materials are designed to look professional. According to Mr. Whipkey, “Professional looking things get a different reaction.  It makes a differenc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 name=""/>
          <p:cNvSpPr/>
          <p:nvPr/>
        </p:nvSpPr>
        <p:spPr>
          <a:xfrm>
            <a:off x="3200400" y="2209680"/>
            <a:ext cx="2666880" cy="4114800"/>
          </a:xfrm>
          <a:prstGeom prst="rect">
            <a:avLst/>
          </a:prstGeom>
          <a:noFill/>
          <a:ln w="1908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txBox="1"/>
          <p:nvPr/>
        </p:nvSpPr>
        <p:spPr>
          <a:xfrm>
            <a:off x="2971800" y="609480"/>
            <a:ext cx="2857680" cy="362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Are your students using</a:t>
            </a:r>
            <a:endParaRPr b="0" lang="en-US" sz="2000" spc="1" strike="noStrike">
              <a:ln w="9360">
                <a:solidFill>
                  <a:srgbClr val="000000"/>
                </a:solidFill>
                <a:miter/>
              </a:ln>
              <a:solidFill>
                <a:srgbClr val="000000"/>
              </a:solidFill>
              <a:latin typeface="Comic Sans MS"/>
              <a:ea typeface="Comic Sans MS"/>
            </a:endParaRPr>
          </a:p>
        </p:txBody>
      </p:sp>
      <p:sp>
        <p:nvSpPr>
          <p:cNvPr id="50" name=""/>
          <p:cNvSpPr/>
          <p:nvPr/>
        </p:nvSpPr>
        <p:spPr>
          <a:xfrm>
            <a:off x="533520" y="609480"/>
            <a:ext cx="2286000" cy="118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inancial Aid Administrators among schools with the highest FAFSA on the Web filing rates share their ideas and suggestions for increasing online filing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1" name=""/>
          <p:cNvSpPr/>
          <p:nvPr/>
        </p:nvSpPr>
        <p:spPr>
          <a:xfrm>
            <a:off x="5943600" y="595440"/>
            <a:ext cx="3124080" cy="17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Why Should You Encourage Applicants to Use FAFSA on the Web?</a:t>
            </a:r>
            <a:r>
              <a:rPr b="1" i="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689"/>
              </a:spcBef>
              <a:buClr>
                <a:srgbClr val="000000"/>
              </a:buClr>
              <a:buFont typeface="Arial"/>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r>
              <a:rPr b="0" i="1" lang="en-US" sz="1100" spc="-1" strike="noStrike">
                <a:solidFill>
                  <a:srgbClr val="000000"/>
                </a:solidFill>
                <a:latin typeface="Arial"/>
              </a:rPr>
              <a:t>Easier to use </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r>
              <a:rPr b="0" i="1" lang="en-US" sz="1100" spc="-1" strike="noStrike">
                <a:solidFill>
                  <a:srgbClr val="000000"/>
                </a:solidFill>
                <a:latin typeface="Arial"/>
              </a:rPr>
              <a:t>Proven to decrease errors and rejects </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r>
              <a:rPr b="0" i="1" lang="en-US" sz="1100" spc="-1" strike="noStrike">
                <a:solidFill>
                  <a:srgbClr val="000000"/>
                </a:solidFill>
                <a:latin typeface="Arial"/>
              </a:rPr>
              <a:t>Processing results received sooner </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r>
              <a:rPr b="0" i="1" lang="en-US" sz="1100" spc="-1" strike="noStrike">
                <a:solidFill>
                  <a:srgbClr val="000000"/>
                </a:solidFill>
                <a:latin typeface="Arial"/>
              </a:rPr>
              <a:t>Schools can package aid earlier </a:t>
            </a:r>
            <a:endParaRPr b="0" lang="en-US" sz="1100" spc="-1" strike="noStrike">
              <a:solidFill>
                <a:srgbClr val="000000"/>
              </a:solidFill>
              <a:latin typeface="Times New Roman"/>
            </a:endParaRPr>
          </a:p>
          <a:p>
            <a:pPr>
              <a:lnSpc>
                <a:spcPct val="100000"/>
              </a:lnSpc>
              <a:spcBef>
                <a:spcPts val="689"/>
              </a:spcBef>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2" name=""/>
          <p:cNvSpPr/>
          <p:nvPr/>
        </p:nvSpPr>
        <p:spPr>
          <a:xfrm>
            <a:off x="457200" y="2209680"/>
            <a:ext cx="2666880" cy="4114800"/>
          </a:xfrm>
          <a:prstGeom prst="rect">
            <a:avLst/>
          </a:prstGeom>
          <a:noFill/>
          <a:ln w="1908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943600" y="2209680"/>
            <a:ext cx="2666880" cy="4114800"/>
          </a:xfrm>
          <a:prstGeom prst="rect">
            <a:avLst/>
          </a:prstGeom>
          <a:noFill/>
          <a:ln w="1908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80880" y="1905120"/>
            <a:ext cx="6400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What are Your Colleagues Doing to Promote FAFSA on the We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2T17:32:10Z</dcterms:created>
  <dc:creator>Jennifer Leib</dc:creator>
  <dc:description/>
  <dc:language>en-US</dc:language>
  <cp:lastModifiedBy>Padma Parekh</cp:lastModifiedBy>
  <cp:lastPrinted>2001-04-16T17:09:45Z</cp:lastPrinted>
  <dcterms:modified xsi:type="dcterms:W3CDTF">2001-05-02T14:47:34Z</dcterms:modified>
  <cp:revision>37</cp:revision>
  <dc:subject/>
  <dc:title>No Slide Title</dc:title>
</cp:coreProperties>
</file>