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BBB6-6096-49AA-8873-56658915B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DBE6-E1EA-463E-812D-2D71E1E33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7FF5-4938-4727-B92C-B1EC7EBFD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AF0F-86C0-402F-B161-24086A493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CF92-D088-46A9-9827-7C024DC1C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AE3C5-A3E8-4EFE-9D3F-0B556C165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15EE-3546-466A-8686-4BDA7AA7F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83A9-14AB-42C5-98A1-CFAD6F255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F48E-8B5C-4142-B58E-8E10E067F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4444-75F6-4F95-AFE4-3BDA2358A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657B-649B-41E5-BF9B-BF30606DA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3686-6A10-4E0B-B28C-2C5CD215B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145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2452-405E-4C59-987B-C9C761B2E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be1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5943600" y="5940360"/>
            <a:ext cx="29718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5943600"/>
            <a:ext cx="2971800" cy="53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371600" y="1523880"/>
            <a:ext cx="6172200" cy="3302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11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e111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111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FSA “To Do”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371600"/>
            <a:ext cx="8763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 Subsid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subsidy payment arrangements for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a cheaper encryption sol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ote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ormat that is best suited for schools’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…??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M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FSA P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A593-AB0E-4A5C-99DB-2C9128EADF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Next Steps For Perkins…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52480"/>
            <a:ext cx="8336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re you ready fo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lectronic Signatur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6F10-678B-4707-A020-13377A19EB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ntact Informa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4952880"/>
            <a:ext cx="8229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D.SFA.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556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FSA’s Electronic Identification website 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20760" y="2104920"/>
            <a:ext cx="31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l Satt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Student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2) 377-35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neil.sattler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7387-EFAC-4DD0-98DE-9787F45503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ession 38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lectronic Signatures in the Perkins Loan Progra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EA800-D56F-46F2-8268-3BE530A106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Overview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year, the Perkins program h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$1.1B in loans iss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ederal contribution of around $160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695,000 students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loans outstanding of over $7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260 schools particip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verage loan was $1,6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C4C2-58F7-4D2E-AC92-EE6431B049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609480"/>
            <a:ext cx="228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tatu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has been committed to promoting the use of electronic signatures in the student ai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were issued in 4/01; revised in 7/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worked with the community to create a truste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authentication service based on the FSA P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gnatures are currently available for all Title IV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gnatures are in use for Direct Loans and FFELP promissory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w is the time for Perk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7E07-4E65-4E3F-B78B-BBCA02FE4A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What Has FSA Done for Perkin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s with 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AO and NA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s with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 State, University of Minnesota, University of Illinois, and Iow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s with truste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y authentication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S and 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33E6-3637-48FF-8650-CE09EB52DD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996%20perkins%20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176868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Perkins Note Evolu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523880"/>
            <a:ext cx="609480" cy="4343400"/>
          </a:xfrm>
          <a:custGeom>
            <a:avLst/>
            <a:gdLst>
              <a:gd name="textAreaLeft" fmla="*/ 0 w 609480"/>
              <a:gd name="textAreaRight" fmla="*/ 219960 w 60948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1523880"/>
            <a:ext cx="533520" cy="4343400"/>
          </a:xfrm>
          <a:custGeom>
            <a:avLst/>
            <a:gdLst>
              <a:gd name="textAreaLeft" fmla="*/ 0 w 533520"/>
              <a:gd name="textAreaRight" fmla="*/ 192600 w 5335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257800"/>
            <a:ext cx="213372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vious Perkins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257800"/>
            <a:ext cx="220968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urrent Perkins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5257800"/>
            <a:ext cx="228600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ssible Perkins eN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996%20perkins%20open" descr=""/>
          <p:cNvPicPr/>
          <p:nvPr/>
        </p:nvPicPr>
        <p:blipFill>
          <a:blip r:embed="rId2"/>
          <a:stretch/>
        </p:blipFill>
        <p:spPr>
          <a:xfrm>
            <a:off x="741240" y="2666880"/>
            <a:ext cx="17733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2000%20perkins%20draft" descr=""/>
          <p:cNvPicPr/>
          <p:nvPr/>
        </p:nvPicPr>
        <p:blipFill>
          <a:blip r:embed="rId3"/>
          <a:stretch/>
        </p:blipFill>
        <p:spPr>
          <a:xfrm>
            <a:off x="3124080" y="2068560"/>
            <a:ext cx="1782720" cy="22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2000%20perkins%20open" descr=""/>
          <p:cNvPicPr/>
          <p:nvPr/>
        </p:nvPicPr>
        <p:blipFill>
          <a:blip r:embed="rId4"/>
          <a:stretch/>
        </p:blipFill>
        <p:spPr>
          <a:xfrm>
            <a:off x="3730680" y="2649600"/>
            <a:ext cx="1763640" cy="227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04" name=""/>
          <p:cNvGraphicFramePr/>
          <p:nvPr/>
        </p:nvGraphicFramePr>
        <p:xfrm>
          <a:off x="6172200" y="2438280"/>
          <a:ext cx="2743200" cy="25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438280"/>
                    <a:ext cx="274320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4486-09A5-40AD-BFE3-177837438C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560" y="6094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chool Wish List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58112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subsidizes STAN authentication costs for Perkins schoo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helps schools to create downloadable eNote (HTML; JAVA; XML; Cold 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enables MPN for Perkins no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revises Standards to allow for school based PIN for Perk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use of FSA PIN for Federal aid (Title 7) and non-Federal aid (state gra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99EE-F6AC-45A2-95E1-1494B24D46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124080" y="1371600"/>
            <a:ext cx="2971800" cy="1784520"/>
            <a:chOff x="3124080" y="1371600"/>
            <a:chExt cx="2971800" cy="1784520"/>
          </a:xfrm>
        </p:grpSpPr>
        <p:sp>
          <p:nvSpPr>
            <p:cNvPr id="109" name=""/>
            <p:cNvSpPr/>
            <p:nvPr/>
          </p:nvSpPr>
          <p:spPr>
            <a:xfrm>
              <a:off x="3657600" y="2089440"/>
              <a:ext cx="1066680" cy="10666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84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d 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47960" y="2165400"/>
              <a:ext cx="1067040" cy="990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560" y="17528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137160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-Note in Various Forma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" y="1447920"/>
            <a:ext cx="2209680" cy="1708200"/>
            <a:chOff x="685800" y="1447920"/>
            <a:chExt cx="2209680" cy="1708200"/>
          </a:xfrm>
        </p:grpSpPr>
        <p:sp>
          <p:nvSpPr>
            <p:cNvPr id="115" name=""/>
            <p:cNvSpPr/>
            <p:nvPr/>
          </p:nvSpPr>
          <p:spPr>
            <a:xfrm>
              <a:off x="685800" y="144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bsidized ST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7560" y="2089440"/>
              <a:ext cx="1066320" cy="10666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772400" y="27734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3505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25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562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69800">
            <a:off x="1294920" y="4114800"/>
            <a:ext cx="381240" cy="167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114800"/>
            <a:ext cx="1371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5562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52578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5562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114800"/>
            <a:ext cx="1371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55627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25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5486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5257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54864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638680"/>
            <a:ext cx="2667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5438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entificatio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4191120"/>
            <a:ext cx="10666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4191120"/>
            <a:ext cx="10666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56386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486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95280"/>
            <a:ext cx="19051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295280"/>
            <a:ext cx="29718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3352680"/>
            <a:ext cx="30456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19520" y="3352680"/>
            <a:ext cx="457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808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What Does All of this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4572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Signatur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F860-9B87-409D-80ED-4DA7D7D77E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chools “To Do”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752480"/>
            <a:ext cx="8336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enterprise-wide team (technical, legal, and business) to determine how electronic signatures might fit into the school’s curr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tandards and determine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chart current pap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chart how an e-process might look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 cost/benefi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identification and authentication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encryption to be able to utilize 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8EDC-ADB8-42B0-BB65-8741018A8D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8:47:06Z</dcterms:created>
  <dc:creator>ENMSVEC</dc:creator>
  <dc:description/>
  <dc:language>en-US</dc:language>
  <cp:lastModifiedBy>epccammon</cp:lastModifiedBy>
  <cp:lastPrinted>2001-09-28T19:47:11Z</cp:lastPrinted>
  <dcterms:modified xsi:type="dcterms:W3CDTF">2002-03-14T16:45:25Z</dcterms:modified>
  <cp:revision>27</cp:revision>
  <dc:subject/>
  <dc:title>PowerPoint Presentation</dc:title>
</cp:coreProperties>
</file>