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BEDD-12E2-4EC3-8F2A-9B37B14AB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58D3-8A35-4B52-8B0A-BC7C28754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0D86-17A1-40B4-9522-CBAA8165F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D069-64C6-4CB5-B59D-C5120D2B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28E3-BD60-4FF9-8999-2313C719A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08E4-F219-4ED1-AF62-EC7C8082C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8DD6-E751-4F66-90BC-39D00033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BD58-A34F-4B1A-98E5-C7B11B051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7B66-B26B-4D45-B9F2-F9776672A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937C-75DC-48EB-A459-AD409D732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69E4-1954-4EC5-906E-C01EFCB10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1C51-61EA-473C-A28C-B72DDE75F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909-2D4D-4D7C-9121-1B33C3B4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SA “To Do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371600"/>
            <a:ext cx="8763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 Subsi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subsidy payment arrangements for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a cheaper encryption sol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ote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ormat that is best suited for school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…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M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FSA P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090E-FC44-4BA3-9870-3F54E7AFA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Next Steps For Perkins…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52480"/>
            <a:ext cx="8336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re you ready fo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lectronic Signature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A3D7-2EE0-4123-B48D-B853A664E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tact Inform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952880"/>
            <a:ext cx="8229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D.SFA.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56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FSA’s Electronic Identification website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20760" y="2104920"/>
            <a:ext cx="31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l Sat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2) 377-35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490a8"/>
                </a:solidFill>
                <a:latin typeface="Arial"/>
              </a:rPr>
              <a:t>neil.sattler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4887-1F4E-4E7F-A288-7044B8ECB4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38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lectronic Signatures in the Perkins Loan Progra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1DC5-AEC8-4078-A75A-B96A7A02F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year, the Perkins program h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$1.1B in loans is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deral contribution of around $160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695,000 student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loans outstanding of over $7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260 schools 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verage loan was $1,6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6B92-7A8E-4E3A-85D4-3D5B9685D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6094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tatu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has been committed to promoting the use of electronic signatures in the student a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were issued in 4/01; revised in 7/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worked with the community to create a truste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authentication service based on the FSA 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gnatures are currently available for all Title IV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gnatures are in use for Direct Loans and FFELP promissory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w is the time for Perk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0084-D61B-4BD3-8B3B-2BB2D48DA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hat Has FSA Done for Perkin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AO and NA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State, University of Minnesota, University of Illinois, and 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s with truste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y authenticati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S and 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7B6E-8D0A-4D21-A7C8-2B8560813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996%20perkins%20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176868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Perkins Note Evolu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523880"/>
            <a:ext cx="609480" cy="4343400"/>
          </a:xfrm>
          <a:custGeom>
            <a:avLst/>
            <a:gdLst>
              <a:gd name="textAreaLeft" fmla="*/ 0 w 609480"/>
              <a:gd name="textAreaRight" fmla="*/ 219960 w 6094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1523880"/>
            <a:ext cx="533520" cy="4343400"/>
          </a:xfrm>
          <a:custGeom>
            <a:avLst/>
            <a:gdLst>
              <a:gd name="textAreaLeft" fmla="*/ 0 w 533520"/>
              <a:gd name="textAreaRight" fmla="*/ 192600 w 5335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257800"/>
            <a:ext cx="213372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vious Perkins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257800"/>
            <a:ext cx="220968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rrent Perkins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5257800"/>
            <a:ext cx="2286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ssible Perkins eN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1996%20perkins%20open" descr=""/>
          <p:cNvPicPr/>
          <p:nvPr/>
        </p:nvPicPr>
        <p:blipFill>
          <a:blip r:embed="rId2"/>
          <a:stretch/>
        </p:blipFill>
        <p:spPr>
          <a:xfrm>
            <a:off x="741240" y="2666880"/>
            <a:ext cx="177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2000%20perkins%20draft" descr=""/>
          <p:cNvPicPr/>
          <p:nvPr/>
        </p:nvPicPr>
        <p:blipFill>
          <a:blip r:embed="rId3"/>
          <a:stretch/>
        </p:blipFill>
        <p:spPr>
          <a:xfrm>
            <a:off x="3124080" y="2068560"/>
            <a:ext cx="1782720" cy="22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2000%20perkins%20open" descr=""/>
          <p:cNvPicPr/>
          <p:nvPr/>
        </p:nvPicPr>
        <p:blipFill>
          <a:blip r:embed="rId4"/>
          <a:stretch/>
        </p:blipFill>
        <p:spPr>
          <a:xfrm>
            <a:off x="3730680" y="2649600"/>
            <a:ext cx="176364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04" name=""/>
          <p:cNvGraphicFramePr/>
          <p:nvPr/>
        </p:nvGraphicFramePr>
        <p:xfrm>
          <a:off x="6172200" y="2438280"/>
          <a:ext cx="274320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438280"/>
                    <a:ext cx="274320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B536-A8A0-459E-B758-5FDC13A6FE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 Wish Lis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58112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subsidizes STAN authentication costs for Perkins scho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helps schools to create downloadable eNote (HTML; JAVA; XML; Cold 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enables MPN for Perkins no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revises Standards to allow for school based PIN for Perk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use of FSA PIN for Federal aid (Title 7) and non-Federal aid (state gra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e111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D9C3-D499-4AC9-AE71-83176613D8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124080" y="1371600"/>
            <a:ext cx="2971800" cy="1784520"/>
            <a:chOff x="3124080" y="1371600"/>
            <a:chExt cx="2971800" cy="1784520"/>
          </a:xfrm>
        </p:grpSpPr>
        <p:sp>
          <p:nvSpPr>
            <p:cNvPr id="109" name=""/>
            <p:cNvSpPr/>
            <p:nvPr/>
          </p:nvSpPr>
          <p:spPr>
            <a:xfrm>
              <a:off x="3657600" y="2089440"/>
              <a:ext cx="1066680" cy="1066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84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d 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65400"/>
              <a:ext cx="106704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560" y="17528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137160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-Note in Various Form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" y="1447920"/>
            <a:ext cx="2209680" cy="1708200"/>
            <a:chOff x="685800" y="1447920"/>
            <a:chExt cx="2209680" cy="1708200"/>
          </a:xfrm>
        </p:grpSpPr>
        <p:sp>
          <p:nvSpPr>
            <p:cNvPr id="115" name=""/>
            <p:cNvSpPr/>
            <p:nvPr/>
          </p:nvSpPr>
          <p:spPr>
            <a:xfrm>
              <a:off x="685800" y="144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bsidized ST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7560" y="2089440"/>
              <a:ext cx="1066320" cy="10666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772400" y="27734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25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562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69800">
            <a:off x="1294920" y="4114800"/>
            <a:ext cx="381240" cy="167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1480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5562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578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11480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562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25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5486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257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4864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638680"/>
            <a:ext cx="2667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5438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entificatio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4191120"/>
            <a:ext cx="10666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191120"/>
            <a:ext cx="1066680" cy="1066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6386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486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191120"/>
            <a:ext cx="106704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4191120"/>
            <a:ext cx="1066680" cy="1066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295280"/>
            <a:ext cx="29718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352680"/>
            <a:ext cx="30456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19520" y="3352680"/>
            <a:ext cx="457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808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hat Does All of this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Signatur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BA5F-D365-49B6-B683-39917A2D8D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s “To Do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752480"/>
            <a:ext cx="8336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enterprise-wide team (technical, legal, and business) to determine how electronic signatures might fit into the school’s curr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ndards and determine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 current pap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 how an e-process might look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cost/benefi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identification and authentication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e111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encryption to be able to utilize 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33B2-0E9B-4050-9A92-98E325B7A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8:47:06Z</dcterms:created>
  <dc:creator>ENMSVEC</dc:creator>
  <dc:description/>
  <dc:language>en-US</dc:language>
  <cp:lastModifiedBy>epccammon</cp:lastModifiedBy>
  <cp:lastPrinted>2001-09-28T19:47:11Z</cp:lastPrinted>
  <dcterms:modified xsi:type="dcterms:W3CDTF">2002-03-14T16:45:25Z</dcterms:modified>
  <cp:revision>27</cp:revision>
  <dc:subject/>
  <dc:title>PowerPoint Presentation</dc:title>
</cp:coreProperties>
</file>